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6BDF-E6A6-4506-A45A-79E742CE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A435-8025-445C-8CEE-987A1AF6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9845-8141-4113-B8D8-987497D3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6323-DFC5-4F7E-B1DE-94D2D5D6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E3F8-5BF5-4258-AD7A-2793AE71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0413-0358-499B-B47E-8A3CA562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4E71-FBDE-40E9-9702-4F7BEAD9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401-D761-4E8E-9C6F-035217EF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8F05-89CB-48EE-AE0A-CE200662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8B10-F4F7-4B34-A724-2800C7FA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FB30-1858-460D-B6DA-ECEE75E0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35B2-9758-4564-A752-66C79D58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E3AC-0B9F-46A1-AC38-9DF381F9C2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1295280" y="2057400"/>
            <a:ext cx="647712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рганизация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амостоятельной работы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учающихся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профильных класса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1066680" y="339480"/>
            <a:ext cx="777240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пень развития ученика измеряется и оценивается  его способностью самостоятельно приобретать  новые знания и использовать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чебной и практической деятельност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деятельности школьников, направленной на формирование не только предметных знаний и умений, но и на развитие самостоятельности и творческой активности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2286000" y="2057400"/>
            <a:ext cx="4724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лавный принцип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228600" y="1699200"/>
            <a:ext cx="89154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такая познавательная   учебная  деятельность, когда последовательность мышления ученика, его умственные и практические операции и  действия зависят и определяются самим учени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380880" y="374760"/>
            <a:ext cx="8859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дактические  треб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ая работа должна носить целенаправленный 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ая работа должна быть действительно самостоятельной и побуждать ученика при ее выполнении работать напряжен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ервых порах у учащихся нужно сформировать простейшие навыки самостоятельной раб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амостоятельной работы в большинстве случаев нужно предлагать такие задания, выполнение которых не допускает действия по готовым рецептам и шабло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рганизации самостоятельной работы необходимо учитывать, что для овладения знаниями, умениям и навыками различным учащимися требуется разное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я, предлагаемые для самостоятельной работы, должны вызывать интерес учащих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работы учащихся необходимо планомерно и систематически включать в учеб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организации самостоятельной работы необходимо осуществлять разумное сочетание и изложения материала учителем с самостоятельной работой учащихся по приобретению знаний, умений и навы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полнении учащимися самостоятельных работ любого вида руководящая роль должна принадлежать учител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609480" y="687960"/>
            <a:ext cx="74628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ктическая работа:  Живопись Возро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ль работы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анализировать произведения живописи эпохи Возрож­дения, выявить характерные черты и различия Итальянского и Северно­го Возро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сточники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люстрации,  цветные  вклейки учеб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просы и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Используя текст учебника, отберите иллюстрации, отражающие искусство раннего Возрождения. Проанализируйте их и сделайте вывод о наметившихся изменениях в искусстве по сравнению с эпохой Средневе­ковь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роанализируйте репродукции картин Высокого Возрождения по плану: 1) автор, название, место создания; 2) сюжет; 3) особенности изображения, по которым можно отнести данную картину к эпохе Воз­рождения. Результаты работы оформите в виде табл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Обобщите по­лученные сведения по следующим направлениям: наиболее распростра­нённые сюжеты; особенности живопис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Сгруппируйте репродукции по принадлежности к Итальянскому и Северному Возрождению. Сделайте выводы об их различ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делайте вывод о проделанной раб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228600" y="297972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219320" y="986400"/>
            <a:ext cx="7162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стоятельная   работа обладает большим потенциалом для развития различных умений школьников 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v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ормирует умения работать с книгой (учебником, историческим текстом, справочниками, таблицами и.др.), работу по плану, алгоритму, предписанию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  вырабатываются   навыки классификации и  систематизация учебного материал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   навыки самоконтроля и самоанали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228600" y="297972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762120" y="1144080"/>
            <a:ext cx="7691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самостоятельной работы, руководство ею – это ответственная и сложная работа каждого учителя. Воспитание активности и самостоятельности необходимо рассматривать как составную часть воспитания учащихся. Эта задача выступает перед каждым учителем в числе задач первостепенной ва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228600" y="297972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6"/>
          <p:cNvSpPr txBox="1"/>
          <p:nvPr/>
        </p:nvSpPr>
        <p:spPr>
          <a:xfrm>
            <a:off x="1905120" y="1523880"/>
            <a:ext cx="4457520" cy="25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Picture 7" descr="iCAPM1BWL"/>
          <p:cNvPicPr/>
          <p:nvPr/>
        </p:nvPicPr>
        <p:blipFill>
          <a:blip r:embed="rId2"/>
          <a:stretch/>
        </p:blipFill>
        <p:spPr>
          <a:xfrm>
            <a:off x="4114800" y="3962520"/>
            <a:ext cx="327672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3-28T12:51:3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