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748-D5FF-4E0D-B695-8E29E7AD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381-22E1-4623-96F3-09519F3E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1FF-DC9C-4A6B-86DA-0EA0CEEE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6E7-E3ED-4F22-9F44-81403D12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674-1CB8-41C2-8875-54985A7D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116-EC16-403A-B6FC-4070E2D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FCB-FD05-450F-B277-3C19E0F9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DC1-D82E-41EB-9CDE-D17734DC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C88-475B-4F4D-844A-B5F0F71A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5A4-E1DC-44D2-AD26-B8C6E23F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7AB-FA73-48FF-9DFB-D0F79C3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162-11D7-4BC2-85D5-79CFD26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5C88-66D7-43D9-9511-666FD4E84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295280" y="2057400"/>
            <a:ext cx="64771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рганизац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стоятельной работ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учающихс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профильных класса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066680" y="339480"/>
            <a:ext cx="77724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развития ученика измеряется и оценивается  его способностью самостоятельно приобретать  новые знания и использовать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ой и практическ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деятельности школьников, направленной на формирование не только предметных знаний и умений, но и на развитие самостоятельности и творческой актив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286000" y="2057400"/>
            <a:ext cx="4724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лавный принцип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1699200"/>
            <a:ext cx="89154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такая познавательная   учебная  деятельность, когда последовательность мышления ученика, его умственные и практические операции и  действия зависят и определяются самим уче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380880" y="374760"/>
            <a:ext cx="8859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дактические 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 должна носить целенаправленный 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 должна быть действительно самостоятельной и побуждать ученика при ее выполнении работать напряж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х порах у учащихся нужно сформировать простейшие навыки самостоятельн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амостоятельной работы в большинстве случаев нужно предлагать такие задания, выполнение которых не допускает действия по готовым рецептам и шабл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рганизации самостоятельной работы необходимо учитывать, что для овладения знаниями, умениям и навыками различным учащимися требуется разно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, предлагаемые для самостоятельной работы, должны вызывать интерес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работы учащихся необходимо планомерно и систематически включать в учеб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рганизации самостоятельной работы необходимо осуществлять разумное сочетание и изложения материала учителем с самостоятельной работой учащихся по приобретению знаний, умений и навы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полнении учащимися самостоятельных работ любого вида руководящая роль должна принадлежать учите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09480" y="687960"/>
            <a:ext cx="7462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ктическая работа:  Живопись Возр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работы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овать произведения живописи эпохи Возрож­дения, выявить характерные черты и различия Итальянского и Северно­го Возро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точники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,  цветные  вклейки учеб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Используя текст учебника, отберите иллюстрации, отражающие искусство раннего Возрождения. Проанализируйте их и сделайте вывод о наметившихся изменениях в искусстве по сравнению с эпохой Средневе­ков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оанализируйте репродукции картин Высокого Возрождения по плану: 1) автор, название, место создания; 2) сюжет; 3) особенности изображения, по которым можно отнести данную картину к эпохе Воз­рождения. Результаты работы оформите в виде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бобщите по­лученные сведения по следующим направлениям: наиболее распростра­нённые сюжеты; особенности живопи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группируйте репродукции по принадлежности к Итальянскому и Северному Возрождению. Сделайте выводы об их различ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йте вывод о проделанн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228600" y="297972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219320" y="986400"/>
            <a:ext cx="716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ая   работа обладает большим потенциалом для развития различных умений школьников 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 умения работать с книгой (учебником, историческим текстом, справочниками, таблицами и.др.), работу по плану, алгоритму, предписанию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  вырабатываются   навыки классификации и  систематизация учебного материал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   навыки самоконтроля и самоанали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28600" y="297972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62120" y="1144080"/>
            <a:ext cx="7691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самостоятельной работы, руководство ею – это ответственная и сложная работа каждого учителя. Воспитание активности и самостоятельности необходимо рассматривать как составную часть воспитания учащихся. Эта задача выступает перед каждым учителем в числе задач первостепенной ва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228600" y="297972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1905120" y="1523880"/>
            <a:ext cx="4457520" cy="25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7" descr="iCAPM1BWL"/>
          <p:cNvPicPr/>
          <p:nvPr/>
        </p:nvPicPr>
        <p:blipFill>
          <a:blip r:embed="rId2"/>
          <a:stretch/>
        </p:blipFill>
        <p:spPr>
          <a:xfrm>
            <a:off x="4114800" y="3962520"/>
            <a:ext cx="32767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28T12:51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