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43D-9EDB-457B-AC0E-21C34589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B60-048E-4E60-85EF-BBCB33CD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30E-C5AB-470F-AE82-7E208D31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8B1-6FAE-4B97-BF4C-D6ABC004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F43E-2FE0-43BF-9A5E-6EDAB564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E97-5CD3-4D41-894A-50C5019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A250-0D52-4E69-BE07-91A8AFC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7719-564F-45BD-B903-3A6CCF4F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99C1-0C93-48D3-B060-3D8698DE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4158-8B6D-4E0B-B9DD-C0726503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DDC4-58EF-4DD8-9A7A-D365601C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4FE-AB47-4838-A621-2BCDAFA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E361-B29F-4C4E-B49D-733F0BA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77BE-5ECD-4B22-93CB-10735A6B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BA00-E0AC-440E-B733-6C8BD2C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F250-ECD8-4507-B6C6-45A5B29F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1510-FDFE-4DF4-9C5C-7ABF2320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FAA-4E7E-4D74-8762-CEAB28DF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075-90ED-460F-982E-E849E571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C57-15C1-41AD-A6E7-DE7BA67A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D12-0BBC-435D-BAE6-526EF446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B75-6E6F-4931-BA7C-924C689C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043-427E-446C-977D-6226E795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B45-A555-495B-A30F-C3F668A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FD63-1CB4-465B-A79E-869492AD47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9E50-C298-4611-9753-36CB8E68549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ill in the g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7" descr="is[1] (3)"/>
          <p:cNvPicPr/>
          <p:nvPr/>
        </p:nvPicPr>
        <p:blipFill>
          <a:blip r:embed="rId1"/>
          <a:stretch/>
        </p:blipFill>
        <p:spPr>
          <a:xfrm>
            <a:off x="0" y="0"/>
            <a:ext cx="9396360" cy="7053120"/>
          </a:xfrm>
          <a:prstGeom prst="rect">
            <a:avLst/>
          </a:prstGeom>
          <a:ln w="0">
            <a:noFill/>
          </a:ln>
        </p:spPr>
      </p:pic>
      <p:pic>
        <p:nvPicPr>
          <p:cNvPr id="100" name="New Stories (Highway Blues).wma" descr=""/>
          <p:cNvPicPr/>
          <p:nvPr/>
        </p:nvPicPr>
        <p:blipFill>
          <a:blip r:embed="rId2"/>
          <a:stretch/>
        </p:blipFill>
        <p:spPr>
          <a:xfrm>
            <a:off x="214200" y="6551640"/>
            <a:ext cx="304920" cy="306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6160" y="1071360"/>
            <a:ext cx="4680000" cy="551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E…r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a sat…llite                             an …strona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M…lky W…y                   the Sp…ce                                  a plan…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M…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Un…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an atm…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The Sol…r S…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b6aa"/>
                </a:solidFill>
                <a:latin typeface="Arial"/>
              </a:rPr>
              <a:t>a g…la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57120" y="142920"/>
            <a:ext cx="857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ill in the missing lett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371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is[3]"/>
          <p:cNvPicPr/>
          <p:nvPr/>
        </p:nvPicPr>
        <p:blipFill>
          <a:blip r:embed="rId1"/>
          <a:stretch/>
        </p:blipFill>
        <p:spPr>
          <a:xfrm>
            <a:off x="-612720" y="189000"/>
            <a:ext cx="9756720" cy="732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868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.a planet 2. a galaxy 3. the solar system 4.spaceship 5.space 6.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) … is all space and everything that exits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b) … is a huge group of stars and pla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) … is a space far above the Earth where there is no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) … is a rocket or other vehicle that can travel in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e) … is a large, round object that goes around a st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f) … is a sun together with the planets going roun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642960" y="549360"/>
            <a:ext cx="800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ch     the     Words    and     Descrip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ut in an article a/an/the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9" descr="UR4XOVCAZKCU03CAWW26C3CA9289KHCAJZLHQ3CAP72KYGCAVZQWBWCA9UVLLFCAFS3R30CAOGXP8NCA0KIJLYCARDX0N4CA0O6AZ3CA0YYYZLCAZ2EHABCA4WAMQPCAZQFYSJCAV4PDUKCA5HU3KGCATVG1KM"/>
          <p:cNvPicPr/>
          <p:nvPr/>
        </p:nvPicPr>
        <p:blipFill>
          <a:blip r:embed="rId1"/>
          <a:stretch/>
        </p:blipFill>
        <p:spPr>
          <a:xfrm>
            <a:off x="468360" y="831960"/>
            <a:ext cx="8639280" cy="6026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692280"/>
            <a:ext cx="8064360" cy="63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space there is … galax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galaxy there is …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ear … sun there is …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n ... Planet there is … oc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ear … ocean there is … conti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n … continent there is …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country there is … 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city there is …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park there is …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n … house there is …bed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I n …bedroom there is … b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nd in … bed there is 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2632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ke up new words and phras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Spac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lane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a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lue, far, largest, football, TV, travel, five, man, station, suit, to discover, dark, huge, small, to save, endangered, to reach, to consist of, to go round, all, to name, to travel thr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3840" y="1285920"/>
            <a:ext cx="63169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biggest planet in the solar syst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Jupiter, b. Mars, c. Ven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smallest planet in the solar syste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Pluto, b. Neptune, c. Uran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lanet is nearer to the Su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the Earth, b. Mars, c. Ven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small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the Sun  b. Jupi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fastest pl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Mercury, b. Mars, c. Satur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is the nearest planet to the Su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img023"/>
          <p:cNvPicPr/>
          <p:nvPr/>
        </p:nvPicPr>
        <p:blipFill>
          <a:blip r:embed="rId1"/>
          <a:stretch/>
        </p:blipFill>
        <p:spPr>
          <a:xfrm>
            <a:off x="4929120" y="3683160"/>
            <a:ext cx="3944880" cy="3174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857160" y="428760"/>
            <a:ext cx="64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72fe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s[11]"/>
          <p:cNvPicPr/>
          <p:nvPr/>
        </p:nvPicPr>
        <p:blipFill>
          <a:blip r:embed="rId1"/>
          <a:stretch/>
        </p:blipFill>
        <p:spPr>
          <a:xfrm>
            <a:off x="571680" y="785880"/>
            <a:ext cx="7929360" cy="5946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0" y="1429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Why is space exploration is importa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 people think that space exploration is not important. Why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8" descr="j0215086"/>
          <p:cNvPicPr/>
          <p:nvPr/>
        </p:nvPicPr>
        <p:blipFill>
          <a:blip r:embed="rId1"/>
          <a:stretch/>
        </p:blipFill>
        <p:spPr>
          <a:xfrm>
            <a:off x="611280" y="1916280"/>
            <a:ext cx="2448000" cy="280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s (2)"/>
          <p:cNvPicPr/>
          <p:nvPr/>
        </p:nvPicPr>
        <p:blipFill>
          <a:blip r:embed="rId2"/>
          <a:stretch/>
        </p:blipFill>
        <p:spPr>
          <a:xfrm>
            <a:off x="3924360" y="1989000"/>
            <a:ext cx="4608360" cy="374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s[4]"/>
          <p:cNvPicPr/>
          <p:nvPr/>
        </p:nvPicPr>
        <p:blipFill>
          <a:blip r:embed="rId3"/>
          <a:stretch/>
        </p:blipFill>
        <p:spPr>
          <a:xfrm>
            <a:off x="2340000" y="378936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8b8ff"/>
                </a:solidFill>
                <a:latin typeface="Arial"/>
              </a:rPr>
              <a:t>The World is beautiful !!!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4" descr="is[7]"/>
          <p:cNvPicPr/>
          <p:nvPr/>
        </p:nvPicPr>
        <p:blipFill>
          <a:blip r:embed="rId1"/>
          <a:stretch/>
        </p:blipFill>
        <p:spPr>
          <a:xfrm>
            <a:off x="785880" y="1177920"/>
            <a:ext cx="7572240" cy="5680080"/>
          </a:xfrm>
          <a:prstGeom prst="rect">
            <a:avLst/>
          </a:prstGeom>
          <a:ln w="0">
            <a:noFill/>
          </a:ln>
        </p:spPr>
      </p:pic>
      <p:pic>
        <p:nvPicPr>
          <p:cNvPr id="123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7574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30:26Z</dcterms:created>
  <dc:creator>Customer</dc:creator>
  <dc:description/>
  <dc:language>en-US</dc:language>
  <cp:lastModifiedBy>Учитель</cp:lastModifiedBy>
  <dcterms:modified xsi:type="dcterms:W3CDTF">2013-03-28T10:29:16Z</dcterms:modified>
  <cp:revision>21</cp:revision>
  <dc:subject/>
  <dc:title>Слайд 1</dc:title>
</cp:coreProperties>
</file>