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EFB-701D-4A75-B524-CB5E07D0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0B5-6308-47D2-8802-8A82EC26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575-1924-4B88-8BCC-E5EB31D3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0C6-7B88-47A7-B41E-46C17221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318A-3A54-4207-803F-43DAAA70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6734-432F-4366-AF89-19DDA7A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1AC-EE2C-40B8-91E2-2C125923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2E80-7D82-4854-AF2D-0D9078F7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72D-F72A-4392-AFD3-2A535A8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C882-E336-4EA1-B389-6537B35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485E-46CD-4C21-AB21-8326A24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ADA-26DA-494A-89B9-B6D3428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4C5-0330-47B4-95BD-F138037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F789-4E9D-4091-8AFB-F1D78D4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ED01-3618-421E-A659-518F049C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D197-9965-4A9A-A968-56BDA20F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ED8D-0EE5-44E4-BED9-F6E3D262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68F-0E96-4D76-844D-D41D725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9DC-E629-41D2-9791-F25535A5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218-9019-4046-B54A-22EE1E4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7ED-183B-4CCB-A130-7B22DC9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CB1-1558-43EA-A42A-9CFCA6D0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2C1-A360-4A06-A606-5E57382F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21E-5A88-4BEC-BE68-51A0149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6417-8260-4A14-8851-685D81ABD1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754-AECA-4611-AA31-C68AB997AE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ill in the g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7" descr="is[1] (3)"/>
          <p:cNvPicPr/>
          <p:nvPr/>
        </p:nvPicPr>
        <p:blipFill>
          <a:blip r:embed="rId1"/>
          <a:stretch/>
        </p:blipFill>
        <p:spPr>
          <a:xfrm>
            <a:off x="0" y="0"/>
            <a:ext cx="9396360" cy="7053120"/>
          </a:xfrm>
          <a:prstGeom prst="rect">
            <a:avLst/>
          </a:prstGeom>
          <a:ln w="0">
            <a:noFill/>
          </a:ln>
        </p:spPr>
      </p:pic>
      <p:pic>
        <p:nvPicPr>
          <p:cNvPr id="100" name="New Stories (Highway Blues).wma" descr=""/>
          <p:cNvPicPr/>
          <p:nvPr/>
        </p:nvPicPr>
        <p:blipFill>
          <a:blip r:embed="rId2"/>
          <a:stretch/>
        </p:blipFill>
        <p:spPr>
          <a:xfrm>
            <a:off x="214200" y="6551640"/>
            <a:ext cx="304920" cy="306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6160" y="1071360"/>
            <a:ext cx="4680000" cy="551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E…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 sat…llite                             an …strona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M…lky W…y                   the Sp…ce                                  a plan…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M…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Un…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n atm…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Sol…r S…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 g…la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7120" y="14292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ll in the missing let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371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is[3]"/>
          <p:cNvPicPr/>
          <p:nvPr/>
        </p:nvPicPr>
        <p:blipFill>
          <a:blip r:embed="rId1"/>
          <a:stretch/>
        </p:blipFill>
        <p:spPr>
          <a:xfrm>
            <a:off x="-612720" y="189000"/>
            <a:ext cx="9756720" cy="732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68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.a planet 2. a galaxy 3. the solar system 4.spaceship 5.space 6.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) … is all space and everything that exits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b) … is a huge group of stars and pla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) … is a space far above the Earth where there is no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) … is a rocket or other vehicle that can travel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e) … is a large, round object that goes around a st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) … is a sun together with the planets going roun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642960" y="549360"/>
            <a:ext cx="800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ch     the     Words    and     Descrip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ut in an article a/an/the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9" descr="UR4XOVCAZKCU03CAWW26C3CA9289KHCAJZLHQ3CAP72KYGCAVZQWBWCA9UVLLFCAFS3R30CAOGXP8NCA0KIJLYCARDX0N4CA0O6AZ3CA0YYYZLCAZ2EHABCA4WAMQPCAZQFYSJCAV4PDUKCA5HU3KGCATVG1KM"/>
          <p:cNvPicPr/>
          <p:nvPr/>
        </p:nvPicPr>
        <p:blipFill>
          <a:blip r:embed="rId1"/>
          <a:stretch/>
        </p:blipFill>
        <p:spPr>
          <a:xfrm>
            <a:off x="468360" y="831960"/>
            <a:ext cx="8639280" cy="6026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8064360" cy="63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space there is … galax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galaxy there is …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ear … sun there is …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n ... Planet there is … oc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ear … ocean there is … conti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n … continent there is …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country there is … 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city there is …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park there is …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house there is …bed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 n …bedroom there is … b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nd in … bed there i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2632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ke up new words and phras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Spac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lane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a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lue, far, largest, football, TV, travel, five, man, station, suit, to discover, dark, huge, small, to save, endangered, to reach, to consist of, to go round, all, to name, to travel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3840" y="1285920"/>
            <a:ext cx="63169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biggest planet in the solar syst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Jupiter, b. Mars, c. Ve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smallest planet in the solar syst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Pluto, b. Neptune, c. Ura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lanet is nearer to the Su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the Earth, b. Mars, c. Ve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small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the Sun  b. Jupi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fastest pl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Mercury, b. Mars, c. Satur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nearest planet to the Su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img023"/>
          <p:cNvPicPr/>
          <p:nvPr/>
        </p:nvPicPr>
        <p:blipFill>
          <a:blip r:embed="rId1"/>
          <a:stretch/>
        </p:blipFill>
        <p:spPr>
          <a:xfrm>
            <a:off x="4929120" y="3683160"/>
            <a:ext cx="3944880" cy="3174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857160" y="428760"/>
            <a:ext cx="64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72fe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s[11]"/>
          <p:cNvPicPr/>
          <p:nvPr/>
        </p:nvPicPr>
        <p:blipFill>
          <a:blip r:embed="rId1"/>
          <a:stretch/>
        </p:blipFill>
        <p:spPr>
          <a:xfrm>
            <a:off x="571680" y="785880"/>
            <a:ext cx="7929360" cy="5946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0" y="142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Why is space exploration is importa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 people think that space exploration is not important. Why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8" descr="j0215086"/>
          <p:cNvPicPr/>
          <p:nvPr/>
        </p:nvPicPr>
        <p:blipFill>
          <a:blip r:embed="rId1"/>
          <a:stretch/>
        </p:blipFill>
        <p:spPr>
          <a:xfrm>
            <a:off x="611280" y="1916280"/>
            <a:ext cx="2448000" cy="280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s (2)"/>
          <p:cNvPicPr/>
          <p:nvPr/>
        </p:nvPicPr>
        <p:blipFill>
          <a:blip r:embed="rId2"/>
          <a:stretch/>
        </p:blipFill>
        <p:spPr>
          <a:xfrm>
            <a:off x="3924360" y="1989000"/>
            <a:ext cx="4608360" cy="374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s[4]"/>
          <p:cNvPicPr/>
          <p:nvPr/>
        </p:nvPicPr>
        <p:blipFill>
          <a:blip r:embed="rId3"/>
          <a:stretch/>
        </p:blipFill>
        <p:spPr>
          <a:xfrm>
            <a:off x="2340000" y="378936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8b8ff"/>
                </a:solidFill>
                <a:latin typeface="Arial"/>
              </a:rPr>
              <a:t>The World is beautiful !!!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4" descr="is[7]"/>
          <p:cNvPicPr/>
          <p:nvPr/>
        </p:nvPicPr>
        <p:blipFill>
          <a:blip r:embed="rId1"/>
          <a:stretch/>
        </p:blipFill>
        <p:spPr>
          <a:xfrm>
            <a:off x="785880" y="1177920"/>
            <a:ext cx="7572240" cy="5680080"/>
          </a:xfrm>
          <a:prstGeom prst="rect">
            <a:avLst/>
          </a:prstGeom>
          <a:ln w="0">
            <a:noFill/>
          </a:ln>
        </p:spPr>
      </p:pic>
      <p:pic>
        <p:nvPicPr>
          <p:cNvPr id="12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574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30:26Z</dcterms:created>
  <dc:creator>Customer</dc:creator>
  <dc:description/>
  <dc:language>en-US</dc:language>
  <cp:lastModifiedBy>Учитель</cp:lastModifiedBy>
  <dcterms:modified xsi:type="dcterms:W3CDTF">2013-03-28T10:29:16Z</dcterms:modified>
  <cp:revision>21</cp:revision>
  <dc:subject/>
  <dc:title>Слайд 1</dc:title>
</cp:coreProperties>
</file>