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4D0-3956-4047-8A01-8C2A6EB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4C8-1464-4471-80BA-423611BA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1CA-FDB1-4C60-AC70-44709A74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2B7-52F8-4DAF-8BF3-BBDDE66B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A83-28FF-4E75-9AF9-631F1F9F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C73B-9EB4-4142-B967-902092C9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C65-818E-43EB-AFB1-0B018DFB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E413-14F2-4709-9E50-DF164C57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679C-5D40-434D-9C3E-8E75B41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B2E0-9207-43B1-89C4-74A6C4E6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647E-FE12-4C08-A81A-71BC8F7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03D-3DA4-4738-8537-308BBB9E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3409-2041-41C6-8F0E-9226E54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9C1B-2160-4995-A63A-88DBB538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5F1-ED38-417A-AD32-5A01602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AE53-31BF-44B1-9EC8-93B177B7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869-FF33-41F2-B8FE-AA4FCA73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35CD-26D5-4380-A685-CACE17D1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204-368F-4483-ABFB-2F471D47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B40-FF5E-4DE3-9F56-81C60460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A3E-C305-47D9-AE86-F0BBF421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180-BB39-44F8-9EEE-DD5A087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B9F-2DD9-4A54-AB11-1128B19A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31A-10BC-4281-A13D-2C5501D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7E9C-11D7-4C6D-9DEA-DBC58DAAAC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08F6-7FDA-4009-8E62-48B66C4965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Прямоугольник 5"/>
          <p:cNvGrpSpPr/>
          <p:nvPr/>
        </p:nvGrpSpPr>
        <p:grpSpPr>
          <a:xfrm>
            <a:off x="133200" y="2852640"/>
            <a:ext cx="8877600" cy="2689200"/>
            <a:chOff x="133200" y="2852640"/>
            <a:chExt cx="8877600" cy="2689200"/>
          </a:xfrm>
        </p:grpSpPr>
        <p:pic>
          <p:nvPicPr>
            <p:cNvPr id="153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33200" y="2852640"/>
              <a:ext cx="887760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42920" y="2857680"/>
              <a:ext cx="885816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Презентация к родительскому собранию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в 7б классе по теме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</a:rPr>
                <a:t>«Стили семейного воспитания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Bookman Old Style"/>
                </a:rPr>
                <a:t>январь, 2013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Классный руководитель: Леонтьева А.П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Bookman Old Style"/>
                </a:rPr>
                <a:t>МБОУ СОШ №10 г. Павло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1571760" y="2571840"/>
            <a:ext cx="635796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ГИПЕРОП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ГИПООП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ЕЖОВЫЕ РУКАВИЦ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«ПО ТИПУ ПОВЫШЕННОЙ МОРАЛЬНОЙ ОТВЕТСТВЕН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1571760" y="2571840"/>
            <a:ext cx="585792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«ВОСПИТАНИЕ В КУЛЬТЕ БОЛЕ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Управляющая кнопка: справка 4"/>
          <p:cNvSpPr/>
          <p:nvPr/>
        </p:nvSpPr>
        <p:spPr>
          <a:xfrm>
            <a:off x="2428920" y="1000080"/>
            <a:ext cx="3714840" cy="4643640"/>
          </a:xfrm>
          <a:custGeom>
            <a:avLst/>
            <a:gdLst>
              <a:gd name="textAreaLeft" fmla="*/ 240480 w 3714840"/>
              <a:gd name="textAreaRight" fmla="*/ 3474360 w 3714840"/>
              <a:gd name="textAreaTop" fmla="*/ 240480 h 4643640"/>
              <a:gd name="textAreaBottom" fmla="*/ 4403160 h 46436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0" name="Rectangle 5"/>
          <p:cNvGrpSpPr/>
          <p:nvPr/>
        </p:nvGrpSpPr>
        <p:grpSpPr>
          <a:xfrm>
            <a:off x="1639800" y="853920"/>
            <a:ext cx="6875640" cy="2071800"/>
            <a:chOff x="1639800" y="853920"/>
            <a:chExt cx="6875640" cy="2071800"/>
          </a:xfrm>
        </p:grpSpPr>
        <p:pic>
          <p:nvPicPr>
            <p:cNvPr id="251" name="Rectangle 5" descr=""/>
            <p:cNvPicPr/>
            <p:nvPr/>
          </p:nvPicPr>
          <p:blipFill>
            <a:blip r:embed="rId2"/>
            <a:stretch/>
          </p:blipFill>
          <p:spPr>
            <a:xfrm>
              <a:off x="1639800" y="853920"/>
              <a:ext cx="687564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818720" y="866160"/>
              <a:ext cx="651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родителей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они пытаютс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изменяя себя!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Прямоугольник 9" descr=""/>
          <p:cNvPicPr/>
          <p:nvPr/>
        </p:nvPicPr>
        <p:blipFill>
          <a:blip r:embed="rId3"/>
          <a:stretch/>
        </p:blipFill>
        <p:spPr>
          <a:xfrm>
            <a:off x="4084560" y="3432240"/>
            <a:ext cx="4437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6" name="Rectangle 5"/>
          <p:cNvGrpSpPr/>
          <p:nvPr/>
        </p:nvGrpSpPr>
        <p:grpSpPr>
          <a:xfrm>
            <a:off x="1133640" y="1706400"/>
            <a:ext cx="6956280" cy="3432240"/>
            <a:chOff x="1133640" y="1706400"/>
            <a:chExt cx="6956280" cy="3432240"/>
          </a:xfrm>
        </p:grpSpPr>
        <p:pic>
          <p:nvPicPr>
            <p:cNvPr id="257" name="Rectangle 5" descr=""/>
            <p:cNvPicPr/>
            <p:nvPr/>
          </p:nvPicPr>
          <p:blipFill>
            <a:blip r:embed="rId2"/>
            <a:stretch/>
          </p:blipFill>
          <p:spPr>
            <a:xfrm>
              <a:off x="1133640" y="1706400"/>
              <a:ext cx="695628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1143000" y="2141280"/>
              <a:ext cx="6939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Правовые основы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ания дете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6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ка постоянно критикуют, он учится…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6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ок живет во вражде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Прямоугольник 5"/>
          <p:cNvGrpSpPr/>
          <p:nvPr/>
        </p:nvGrpSpPr>
        <p:grpSpPr>
          <a:xfrm>
            <a:off x="1852560" y="993600"/>
            <a:ext cx="6797880" cy="2687760"/>
            <a:chOff x="1852560" y="993600"/>
            <a:chExt cx="6797880" cy="2687760"/>
          </a:xfrm>
        </p:grpSpPr>
        <p:pic>
          <p:nvPicPr>
            <p:cNvPr id="158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852560" y="993600"/>
              <a:ext cx="679788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857240" y="1000080"/>
              <a:ext cx="6786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Bookman Old Style"/>
                </a:rPr>
                <a:t>«Любя своих детей, учите их любить вас, не научите – будете плакать на старости лет - вот, по-моему, одна из самых мудрых истин материнства и отцовства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Прямоугольник 6" descr=""/>
          <p:cNvPicPr/>
          <p:nvPr/>
        </p:nvPicPr>
        <p:blipFill>
          <a:blip r:embed="rId3"/>
          <a:stretch/>
        </p:blipFill>
        <p:spPr>
          <a:xfrm>
            <a:off x="3187800" y="4286160"/>
            <a:ext cx="58770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7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упреках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7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терпим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8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хвалят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8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честн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9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растет в безопасност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6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29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поддерживают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Rectangle 5"/>
          <p:cNvGrpSpPr/>
          <p:nvPr/>
        </p:nvGrpSpPr>
        <p:grpSpPr>
          <a:xfrm>
            <a:off x="-6480" y="1706400"/>
            <a:ext cx="9017280" cy="1768680"/>
            <a:chOff x="-6480" y="1706400"/>
            <a:chExt cx="9017280" cy="1768680"/>
          </a:xfrm>
        </p:grpSpPr>
        <p:pic>
          <p:nvPicPr>
            <p:cNvPr id="302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1721520"/>
              <a:ext cx="900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ка высмеивают, он учится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6" name="Rectangle 5"/>
          <p:cNvGrpSpPr/>
          <p:nvPr/>
        </p:nvGrpSpPr>
        <p:grpSpPr>
          <a:xfrm>
            <a:off x="-6480" y="1706400"/>
            <a:ext cx="9017280" cy="2597400"/>
            <a:chOff x="-6480" y="1706400"/>
            <a:chExt cx="9017280" cy="2597400"/>
          </a:xfrm>
        </p:grpSpPr>
        <p:pic>
          <p:nvPicPr>
            <p:cNvPr id="307" name="Rectangle 5" descr=""/>
            <p:cNvPicPr/>
            <p:nvPr/>
          </p:nvPicPr>
          <p:blipFill>
            <a:blip r:embed="rId2"/>
            <a:stretch/>
          </p:blipFill>
          <p:spPr>
            <a:xfrm>
              <a:off x="-6480" y="1706400"/>
              <a:ext cx="9017280" cy="25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1726200"/>
              <a:ext cx="9001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Если ребенок живет в понимании и дружелюбии, он учится…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6"/>
          <p:cNvSpPr/>
          <p:nvPr/>
        </p:nvSpPr>
        <p:spPr>
          <a:xfrm>
            <a:off x="4000680" y="2071800"/>
            <a:ext cx="914400" cy="9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1928880" y="428760"/>
            <a:ext cx="492912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3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457200"/>
            <a:ext cx="8332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4000680" y="2071800"/>
            <a:ext cx="914400" cy="9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1928880" y="428760"/>
            <a:ext cx="492912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Прямоугольник 8" descr=""/>
          <p:cNvPicPr/>
          <p:nvPr/>
        </p:nvPicPr>
        <p:blipFill>
          <a:blip r:embed="rId3"/>
          <a:stretch/>
        </p:blipFill>
        <p:spPr>
          <a:xfrm>
            <a:off x="450720" y="457200"/>
            <a:ext cx="83329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6129360" cy="2214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3" descr=""/>
          <p:cNvPicPr/>
          <p:nvPr/>
        </p:nvPicPr>
        <p:blipFill>
          <a:blip r:embed="rId3"/>
          <a:srcRect l="71158" t="9628" r="24989" b="83829"/>
          <a:stretch/>
        </p:blipFill>
        <p:spPr>
          <a:xfrm>
            <a:off x="6643800" y="4714920"/>
            <a:ext cx="2214360" cy="1928880"/>
          </a:xfrm>
          <a:prstGeom prst="rect">
            <a:avLst/>
          </a:prstGeom>
          <a:ln w="0">
            <a:noFill/>
          </a:ln>
        </p:spPr>
      </p:pic>
      <p:sp>
        <p:nvSpPr>
          <p:cNvPr id="170" name="Овальная выноска 17"/>
          <p:cNvSpPr/>
          <p:nvPr/>
        </p:nvSpPr>
        <p:spPr>
          <a:xfrm>
            <a:off x="1214280" y="228600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медли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ьная выноска 9"/>
          <p:cNvSpPr/>
          <p:nvPr/>
        </p:nvSpPr>
        <p:spPr>
          <a:xfrm>
            <a:off x="5715000" y="128592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благор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ьная выноска 8"/>
          <p:cNvSpPr/>
          <p:nvPr/>
        </p:nvSpPr>
        <p:spPr>
          <a:xfrm>
            <a:off x="1928880" y="3143160"/>
            <a:ext cx="1643040" cy="10414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щед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ьная выноска 10"/>
          <p:cNvSpPr/>
          <p:nvPr/>
        </p:nvSpPr>
        <p:spPr>
          <a:xfrm>
            <a:off x="1071720" y="3071880"/>
            <a:ext cx="1571400" cy="11840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и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ьная выноска 11"/>
          <p:cNvSpPr/>
          <p:nvPr/>
        </p:nvSpPr>
        <p:spPr>
          <a:xfrm>
            <a:off x="714240" y="1428840"/>
            <a:ext cx="1571760" cy="11840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искрен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ьная выноска 6"/>
          <p:cNvSpPr/>
          <p:nvPr/>
        </p:nvSpPr>
        <p:spPr>
          <a:xfrm>
            <a:off x="1428840" y="214308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ум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ьная выноска 7"/>
          <p:cNvSpPr/>
          <p:nvPr/>
        </p:nvSpPr>
        <p:spPr>
          <a:xfrm>
            <a:off x="3929040" y="2643120"/>
            <a:ext cx="1643040" cy="13273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хит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ьная выноска 19"/>
          <p:cNvSpPr/>
          <p:nvPr/>
        </p:nvSpPr>
        <p:spPr>
          <a:xfrm>
            <a:off x="2428920" y="121428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ид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ьная выноска 21"/>
          <p:cNvSpPr/>
          <p:nvPr/>
        </p:nvSpPr>
        <p:spPr>
          <a:xfrm>
            <a:off x="1428840" y="1143000"/>
            <a:ext cx="17859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лопам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ьная выноска 16"/>
          <p:cNvSpPr/>
          <p:nvPr/>
        </p:nvSpPr>
        <p:spPr>
          <a:xfrm>
            <a:off x="3571920" y="1143000"/>
            <a:ext cx="164304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упрям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ьная выноска 14"/>
          <p:cNvSpPr/>
          <p:nvPr/>
        </p:nvSpPr>
        <p:spPr>
          <a:xfrm>
            <a:off x="4143240" y="1785960"/>
            <a:ext cx="185760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трудо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б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ьная выноска 20"/>
          <p:cNvSpPr/>
          <p:nvPr/>
        </p:nvSpPr>
        <p:spPr>
          <a:xfrm>
            <a:off x="5214960" y="2214720"/>
            <a:ext cx="178596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вист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л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ьная выноска 15"/>
          <p:cNvSpPr/>
          <p:nvPr/>
        </p:nvSpPr>
        <p:spPr>
          <a:xfrm>
            <a:off x="4500720" y="1500120"/>
            <a:ext cx="157140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амолюб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ьная выноска 18"/>
          <p:cNvSpPr/>
          <p:nvPr/>
        </p:nvSpPr>
        <p:spPr>
          <a:xfrm>
            <a:off x="5500800" y="2214720"/>
            <a:ext cx="157140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злоб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ьная выноска 5"/>
          <p:cNvSpPr/>
          <p:nvPr/>
        </p:nvSpPr>
        <p:spPr>
          <a:xfrm>
            <a:off x="3500280" y="2071800"/>
            <a:ext cx="1785960" cy="11127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справедл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ьная выноска 4"/>
          <p:cNvSpPr/>
          <p:nvPr/>
        </p:nvSpPr>
        <p:spPr>
          <a:xfrm>
            <a:off x="2286000" y="1643040"/>
            <a:ext cx="164304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ботл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ьная выноска 22"/>
          <p:cNvSpPr/>
          <p:nvPr/>
        </p:nvSpPr>
        <p:spPr>
          <a:xfrm>
            <a:off x="3500280" y="2928960"/>
            <a:ext cx="164340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вспыльчи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ьная выноска 23"/>
          <p:cNvSpPr/>
          <p:nvPr/>
        </p:nvSpPr>
        <p:spPr>
          <a:xfrm>
            <a:off x="2714760" y="2714760"/>
            <a:ext cx="1643040" cy="132696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здоро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ьная выноска 3"/>
          <p:cNvSpPr/>
          <p:nvPr/>
        </p:nvSpPr>
        <p:spPr>
          <a:xfrm>
            <a:off x="0" y="2143080"/>
            <a:ext cx="1571760" cy="11844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добр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ьная выноска 24"/>
          <p:cNvSpPr/>
          <p:nvPr/>
        </p:nvSpPr>
        <p:spPr>
          <a:xfrm>
            <a:off x="5786280" y="2500200"/>
            <a:ext cx="157176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подл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ьная выноска 25"/>
          <p:cNvSpPr/>
          <p:nvPr/>
        </p:nvSpPr>
        <p:spPr>
          <a:xfrm>
            <a:off x="4643280" y="2143080"/>
            <a:ext cx="1643400" cy="125568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кова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12600" y="1646280"/>
            <a:ext cx="8686800" cy="23288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Схема 3" descr=""/>
          <p:cNvPicPr/>
          <p:nvPr/>
        </p:nvPicPr>
        <p:blipFill>
          <a:blip r:embed="rId2"/>
          <a:stretch/>
        </p:blipFill>
        <p:spPr>
          <a:xfrm>
            <a:off x="628560" y="1127160"/>
            <a:ext cx="7850160" cy="5029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Admin\Рабочий стол\фоны для презентаций\Анимация\81.GIF"/>
          <p:cNvPicPr/>
          <p:nvPr/>
        </p:nvPicPr>
        <p:blipFill>
          <a:blip r:embed="rId3"/>
          <a:stretch/>
        </p:blipFill>
        <p:spPr>
          <a:xfrm>
            <a:off x="1147680" y="1285920"/>
            <a:ext cx="666720" cy="500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C:\Documents and Settings\Admin\Рабочий стол\фоны для презентаций\Анимация\82.GIF"/>
          <p:cNvPicPr/>
          <p:nvPr/>
        </p:nvPicPr>
        <p:blipFill>
          <a:blip r:embed="rId4"/>
          <a:stretch/>
        </p:blipFill>
        <p:spPr>
          <a:xfrm>
            <a:off x="1143000" y="2143080"/>
            <a:ext cx="714240" cy="50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Admin\Рабочий стол\фоны для презентаций\Анимация\83.GIF"/>
          <p:cNvPicPr/>
          <p:nvPr/>
        </p:nvPicPr>
        <p:blipFill>
          <a:blip r:embed="rId5"/>
          <a:stretch/>
        </p:blipFill>
        <p:spPr>
          <a:xfrm>
            <a:off x="1143000" y="2928960"/>
            <a:ext cx="666720" cy="57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Admin\Рабочий стол\фоны для презентаций\Анимация\84.GIF"/>
          <p:cNvPicPr/>
          <p:nvPr/>
        </p:nvPicPr>
        <p:blipFill>
          <a:blip r:embed="rId6"/>
          <a:stretch/>
        </p:blipFill>
        <p:spPr>
          <a:xfrm>
            <a:off x="1193760" y="3786120"/>
            <a:ext cx="663480" cy="571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Documents and Settings\Admin\Рабочий стол\фоны для презентаций\Анимация\85.GIF"/>
          <p:cNvPicPr/>
          <p:nvPr/>
        </p:nvPicPr>
        <p:blipFill>
          <a:blip r:embed="rId7"/>
          <a:stretch/>
        </p:blipFill>
        <p:spPr>
          <a:xfrm>
            <a:off x="1143000" y="4643280"/>
            <a:ext cx="727200" cy="571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Admin\Рабочий стол\фоны для презентаций\Анимация\86.GIF"/>
          <p:cNvPicPr/>
          <p:nvPr/>
        </p:nvPicPr>
        <p:blipFill>
          <a:blip r:embed="rId8"/>
          <a:stretch/>
        </p:blipFill>
        <p:spPr>
          <a:xfrm>
            <a:off x="1147680" y="5500800"/>
            <a:ext cx="666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Схема 7" descr=""/>
          <p:cNvPicPr/>
          <p:nvPr/>
        </p:nvPicPr>
        <p:blipFill>
          <a:blip r:embed="rId2"/>
          <a:stretch/>
        </p:blipFill>
        <p:spPr>
          <a:xfrm>
            <a:off x="274680" y="628560"/>
            <a:ext cx="8667720" cy="553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Admin\Рабочий стол\фоны для презентаций\Анимация\81.GIF"/>
          <p:cNvPicPr/>
          <p:nvPr/>
        </p:nvPicPr>
        <p:blipFill>
          <a:blip r:embed="rId3"/>
          <a:stretch/>
        </p:blipFill>
        <p:spPr>
          <a:xfrm>
            <a:off x="928800" y="785880"/>
            <a:ext cx="785880" cy="55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Admin\Рабочий стол\фоны для презентаций\Анимация\82.GIF"/>
          <p:cNvPicPr/>
          <p:nvPr/>
        </p:nvPicPr>
        <p:blipFill>
          <a:blip r:embed="rId4"/>
          <a:stretch/>
        </p:blipFill>
        <p:spPr>
          <a:xfrm>
            <a:off x="857160" y="1714680"/>
            <a:ext cx="857520" cy="571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Documents and Settings\Admin\Рабочий стол\фоны для презентаций\Анимация\83.GIF"/>
          <p:cNvPicPr/>
          <p:nvPr/>
        </p:nvPicPr>
        <p:blipFill>
          <a:blip r:embed="rId5"/>
          <a:stretch/>
        </p:blipFill>
        <p:spPr>
          <a:xfrm>
            <a:off x="857160" y="2643120"/>
            <a:ext cx="78588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Admin\Рабочий стол\фоны для презентаций\Анимация\84.GIF"/>
          <p:cNvPicPr/>
          <p:nvPr/>
        </p:nvPicPr>
        <p:blipFill>
          <a:blip r:embed="rId6"/>
          <a:stretch/>
        </p:blipFill>
        <p:spPr>
          <a:xfrm>
            <a:off x="857160" y="3571920"/>
            <a:ext cx="866880" cy="571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Admin\Рабочий стол\фоны для презентаций\Анимация\85.GIF"/>
          <p:cNvPicPr/>
          <p:nvPr/>
        </p:nvPicPr>
        <p:blipFill>
          <a:blip r:embed="rId7"/>
          <a:stretch/>
        </p:blipFill>
        <p:spPr>
          <a:xfrm>
            <a:off x="928800" y="4500720"/>
            <a:ext cx="785880" cy="554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:\Documents and Settings\Admin\Рабочий стол\фоны для презентаций\Анимация\86.GIF"/>
          <p:cNvPicPr/>
          <p:nvPr/>
        </p:nvPicPr>
        <p:blipFill>
          <a:blip r:embed="rId8"/>
          <a:stretch/>
        </p:blipFill>
        <p:spPr>
          <a:xfrm>
            <a:off x="857160" y="5429160"/>
            <a:ext cx="87480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357200" y="642960"/>
            <a:ext cx="7072560" cy="1057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СТИЛИ ВОС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4"/>
          <p:cNvSpPr/>
          <p:nvPr/>
        </p:nvSpPr>
        <p:spPr>
          <a:xfrm>
            <a:off x="214200" y="1857240"/>
            <a:ext cx="357192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авторит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2643120" y="5072040"/>
            <a:ext cx="350064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опека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6"/>
          <p:cNvSpPr/>
          <p:nvPr/>
        </p:nvSpPr>
        <p:spPr>
          <a:xfrm>
            <a:off x="571680" y="3429000"/>
            <a:ext cx="378612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пустит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7"/>
          <p:cNvSpPr/>
          <p:nvPr/>
        </p:nvSpPr>
        <p:spPr>
          <a:xfrm>
            <a:off x="4643280" y="3429000"/>
            <a:ext cx="364356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хао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5143680" y="1857240"/>
            <a:ext cx="3857400" cy="120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демокр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Скругленный прямоугольник 3"/>
          <p:cNvSpPr/>
          <p:nvPr/>
        </p:nvSpPr>
        <p:spPr>
          <a:xfrm>
            <a:off x="1428840" y="571680"/>
            <a:ext cx="707220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Типы воспитания, негативно влияющие на психику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2000160" y="2571840"/>
            <a:ext cx="52866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«КУМИР СЕМЬ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7:10:31Z</dcterms:created>
  <dc:creator>Admin</dc:creator>
  <dc:description/>
  <dc:language>en-US</dc:language>
  <cp:lastModifiedBy>teacher_inf</cp:lastModifiedBy>
  <dcterms:modified xsi:type="dcterms:W3CDTF">2013-03-28T11:59:54Z</dcterms:modified>
  <cp:revision>35</cp:revision>
  <dc:subject/>
  <dc:title>Слайд 1</dc:title>
</cp:coreProperties>
</file>