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F8C-09C2-40C6-818D-D637C11F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DAE-EDD4-40AC-ACF7-F8995CA6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5D4-C368-4957-A9C4-6ACCEA3B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4E0-3007-4308-8CBA-A8804A5B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4F80-A390-4BD3-9D74-23D653F1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26FC-D631-4953-939F-AB474708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105F-1A04-4225-A74D-AED247F3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529B-E899-4934-A618-27E5D6B6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88D5-273D-48D8-8A20-95629EC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948B-0B61-48B7-ACFA-9706E81F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42E0-1C03-4CC2-9D80-D22BC29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1A5-3BD2-463B-BC19-84AAA0EF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02EA-0FD7-426E-AD24-2A9B448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FCAB-0CE2-4283-96E8-4611A64A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90E-AF42-4F3F-812D-8A89D727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1130-B2DD-4E07-8318-C29A6870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16D6-B9FD-4258-87F2-F87386AC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BE2-BB33-4880-AD9D-538FA66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DB7-6F73-4C22-B7A7-9C1E9A4B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EC4-591B-4ADC-B59C-F9E68A26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3ED-334F-415F-B30D-B4C6C1FF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50E-6EBF-4CA2-95DC-43AC85A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FAD-BD0F-40DC-A6AD-52E7572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BAC-7802-4FA9-AD82-00EF49B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C044-F220-428A-9AC3-CD99322B487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CBEC-C00B-4113-AB76-31397001F11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Прямоугольник 5"/>
          <p:cNvGrpSpPr/>
          <p:nvPr/>
        </p:nvGrpSpPr>
        <p:grpSpPr>
          <a:xfrm>
            <a:off x="133200" y="2852640"/>
            <a:ext cx="8877600" cy="2689200"/>
            <a:chOff x="133200" y="2852640"/>
            <a:chExt cx="8877600" cy="2689200"/>
          </a:xfrm>
        </p:grpSpPr>
        <p:pic>
          <p:nvPicPr>
            <p:cNvPr id="153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33200" y="2852640"/>
              <a:ext cx="887760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42920" y="2857680"/>
              <a:ext cx="885816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Презентация к родительскому собранию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в 7б классе по теме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</a:rPr>
                <a:t>«Стили семейного воспитания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Bookman Old Style"/>
                </a:rPr>
                <a:t>январь, 2013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Классный руководитель: Леонтьева А.П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Bookman Old Style"/>
                </a:rPr>
                <a:t>МБОУ СОШ №10 г. Пав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1571760" y="2571840"/>
            <a:ext cx="635796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ГИПЕРОП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ГИПООП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ЕЖОВЫЕ РУКАВИЦ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«ПО ТИПУ ПОВЫШЕННОЙ МОРАЛЬНОЙ ОТВЕТСТВЕН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«ВОСПИТАНИЕ В КУЛЬТЕ БОЛЕ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Управляющая кнопка: справка 4"/>
          <p:cNvSpPr/>
          <p:nvPr/>
        </p:nvSpPr>
        <p:spPr>
          <a:xfrm>
            <a:off x="2428920" y="1000080"/>
            <a:ext cx="3714840" cy="4643640"/>
          </a:xfrm>
          <a:custGeom>
            <a:avLst/>
            <a:gdLst>
              <a:gd name="textAreaLeft" fmla="*/ 240480 w 3714840"/>
              <a:gd name="textAreaRight" fmla="*/ 3474360 w 3714840"/>
              <a:gd name="textAreaTop" fmla="*/ 240480 h 4643640"/>
              <a:gd name="textAreaBottom" fmla="*/ 4403160 h 4643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0" name="Rectangle 5"/>
          <p:cNvGrpSpPr/>
          <p:nvPr/>
        </p:nvGrpSpPr>
        <p:grpSpPr>
          <a:xfrm>
            <a:off x="1639800" y="853920"/>
            <a:ext cx="6875640" cy="2071800"/>
            <a:chOff x="1639800" y="853920"/>
            <a:chExt cx="6875640" cy="2071800"/>
          </a:xfrm>
        </p:grpSpPr>
        <p:pic>
          <p:nvPicPr>
            <p:cNvPr id="251" name="Rectangle 5" descr=""/>
            <p:cNvPicPr/>
            <p:nvPr/>
          </p:nvPicPr>
          <p:blipFill>
            <a:blip r:embed="rId2"/>
            <a:stretch/>
          </p:blipFill>
          <p:spPr>
            <a:xfrm>
              <a:off x="1639800" y="853920"/>
              <a:ext cx="68756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818720" y="866160"/>
              <a:ext cx="651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«Главная ошибка родителе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 том, что они пытаютс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ывать детей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не изменяя себя!»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Прямоугольник 9" descr=""/>
          <p:cNvPicPr/>
          <p:nvPr/>
        </p:nvPicPr>
        <p:blipFill>
          <a:blip r:embed="rId3"/>
          <a:stretch/>
        </p:blipFill>
        <p:spPr>
          <a:xfrm>
            <a:off x="4084560" y="3432240"/>
            <a:ext cx="4437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Rectangle 5"/>
          <p:cNvGrpSpPr/>
          <p:nvPr/>
        </p:nvGrpSpPr>
        <p:grpSpPr>
          <a:xfrm>
            <a:off x="1133640" y="1706400"/>
            <a:ext cx="6956280" cy="3432240"/>
            <a:chOff x="1133640" y="1706400"/>
            <a:chExt cx="6956280" cy="3432240"/>
          </a:xfrm>
        </p:grpSpPr>
        <p:pic>
          <p:nvPicPr>
            <p:cNvPr id="257" name="Rectangle 5" descr=""/>
            <p:cNvPicPr/>
            <p:nvPr/>
          </p:nvPicPr>
          <p:blipFill>
            <a:blip r:embed="rId2"/>
            <a:stretch/>
          </p:blipFill>
          <p:spPr>
            <a:xfrm>
              <a:off x="1133640" y="1706400"/>
              <a:ext cx="695628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143000" y="2141280"/>
              <a:ext cx="6939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Правовые основы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ания дете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6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</a:rPr>
                <a:t>Если ребенка постоянно критикуют, он учится…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6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</a:rPr>
                <a:t>Если ребенок живет во вражде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Прямоугольник 5"/>
          <p:cNvGrpSpPr/>
          <p:nvPr/>
        </p:nvGrpSpPr>
        <p:grpSpPr>
          <a:xfrm>
            <a:off x="1852560" y="993600"/>
            <a:ext cx="6797880" cy="2687760"/>
            <a:chOff x="1852560" y="993600"/>
            <a:chExt cx="6797880" cy="2687760"/>
          </a:xfrm>
        </p:grpSpPr>
        <p:pic>
          <p:nvPicPr>
            <p:cNvPr id="15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852560" y="993600"/>
              <a:ext cx="67978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857240" y="1000080"/>
              <a:ext cx="6786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«Любя своих детей, учите их любить вас, не научите – будете плакать на старости лет - вот, по-моему, одна из самых мудрых истин материнства и отцовства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Прямоугольник 6" descr=""/>
          <p:cNvPicPr/>
          <p:nvPr/>
        </p:nvPicPr>
        <p:blipFill>
          <a:blip r:embed="rId3"/>
          <a:stretch/>
        </p:blipFill>
        <p:spPr>
          <a:xfrm>
            <a:off x="3187800" y="4286160"/>
            <a:ext cx="58770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7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упреках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7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терпимост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ка хвалят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8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честност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9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безопасност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9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ка поддерживают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30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ка высмеивают, он учится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6" name="Rectangle 5"/>
          <p:cNvGrpSpPr/>
          <p:nvPr/>
        </p:nvGrpSpPr>
        <p:grpSpPr>
          <a:xfrm>
            <a:off x="-6480" y="1706400"/>
            <a:ext cx="9017280" cy="2597400"/>
            <a:chOff x="-6480" y="1706400"/>
            <a:chExt cx="9017280" cy="2597400"/>
          </a:xfrm>
        </p:grpSpPr>
        <p:pic>
          <p:nvPicPr>
            <p:cNvPr id="30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1726200"/>
              <a:ext cx="9001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живет в понимании и дружелюби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6"/>
          <p:cNvSpPr/>
          <p:nvPr/>
        </p:nvSpPr>
        <p:spPr>
          <a:xfrm>
            <a:off x="4000680" y="2071800"/>
            <a:ext cx="914400" cy="9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1928880" y="428760"/>
            <a:ext cx="492912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457200"/>
            <a:ext cx="8332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4000680" y="2071800"/>
            <a:ext cx="914400" cy="9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1928880" y="428760"/>
            <a:ext cx="492912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457200"/>
            <a:ext cx="8332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6129360" cy="22147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"/>
          <p:cNvPicPr/>
          <p:nvPr/>
        </p:nvPicPr>
        <p:blipFill>
          <a:blip r:embed="rId3"/>
          <a:srcRect l="71158" t="9628" r="24989" b="83829"/>
          <a:stretch/>
        </p:blipFill>
        <p:spPr>
          <a:xfrm>
            <a:off x="6643800" y="4714920"/>
            <a:ext cx="2214360" cy="19288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ьная выноска 17"/>
          <p:cNvSpPr/>
          <p:nvPr/>
        </p:nvSpPr>
        <p:spPr>
          <a:xfrm>
            <a:off x="1214280" y="2286000"/>
            <a:ext cx="15717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медли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ьная выноска 9"/>
          <p:cNvSpPr/>
          <p:nvPr/>
        </p:nvSpPr>
        <p:spPr>
          <a:xfrm>
            <a:off x="5715000" y="1285920"/>
            <a:ext cx="15717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благор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ьная выноска 8"/>
          <p:cNvSpPr/>
          <p:nvPr/>
        </p:nvSpPr>
        <p:spPr>
          <a:xfrm>
            <a:off x="1928880" y="3143160"/>
            <a:ext cx="1643040" cy="10414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щедр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ьная выноска 10"/>
          <p:cNvSpPr/>
          <p:nvPr/>
        </p:nvSpPr>
        <p:spPr>
          <a:xfrm>
            <a:off x="1071720" y="3071880"/>
            <a:ext cx="1571400" cy="11840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си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ьная выноска 11"/>
          <p:cNvSpPr/>
          <p:nvPr/>
        </p:nvSpPr>
        <p:spPr>
          <a:xfrm>
            <a:off x="714240" y="1428840"/>
            <a:ext cx="1571760" cy="11840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искрен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ьная выноска 6"/>
          <p:cNvSpPr/>
          <p:nvPr/>
        </p:nvSpPr>
        <p:spPr>
          <a:xfrm>
            <a:off x="1428840" y="2143080"/>
            <a:ext cx="17859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ум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ьная выноска 7"/>
          <p:cNvSpPr/>
          <p:nvPr/>
        </p:nvSpPr>
        <p:spPr>
          <a:xfrm>
            <a:off x="3929040" y="2643120"/>
            <a:ext cx="1643040" cy="13273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хитр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ьная выноска 19"/>
          <p:cNvSpPr/>
          <p:nvPr/>
        </p:nvSpPr>
        <p:spPr>
          <a:xfrm>
            <a:off x="2428920" y="1214280"/>
            <a:ext cx="17859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обид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ьная выноска 21"/>
          <p:cNvSpPr/>
          <p:nvPr/>
        </p:nvSpPr>
        <p:spPr>
          <a:xfrm>
            <a:off x="1428840" y="1143000"/>
            <a:ext cx="17859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лопам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ьная выноска 16"/>
          <p:cNvSpPr/>
          <p:nvPr/>
        </p:nvSpPr>
        <p:spPr>
          <a:xfrm>
            <a:off x="3571920" y="1143000"/>
            <a:ext cx="164304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упрям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ьная выноска 14"/>
          <p:cNvSpPr/>
          <p:nvPr/>
        </p:nvSpPr>
        <p:spPr>
          <a:xfrm>
            <a:off x="4143240" y="1785960"/>
            <a:ext cx="185760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трудо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б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ьная выноска 20"/>
          <p:cNvSpPr/>
          <p:nvPr/>
        </p:nvSpPr>
        <p:spPr>
          <a:xfrm>
            <a:off x="5214960" y="2214720"/>
            <a:ext cx="178596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вис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л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ьная выноска 15"/>
          <p:cNvSpPr/>
          <p:nvPr/>
        </p:nvSpPr>
        <p:spPr>
          <a:xfrm>
            <a:off x="4500720" y="1500120"/>
            <a:ext cx="157140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самолюб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ьная выноска 18"/>
          <p:cNvSpPr/>
          <p:nvPr/>
        </p:nvSpPr>
        <p:spPr>
          <a:xfrm>
            <a:off x="5500800" y="2214720"/>
            <a:ext cx="1571400" cy="12556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злоб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ьная выноска 5"/>
          <p:cNvSpPr/>
          <p:nvPr/>
        </p:nvSpPr>
        <p:spPr>
          <a:xfrm>
            <a:off x="3500280" y="2071800"/>
            <a:ext cx="1785960" cy="11127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справедл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ьная выноска 4"/>
          <p:cNvSpPr/>
          <p:nvPr/>
        </p:nvSpPr>
        <p:spPr>
          <a:xfrm>
            <a:off x="2286000" y="1643040"/>
            <a:ext cx="164304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ботл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ьная выноска 22"/>
          <p:cNvSpPr/>
          <p:nvPr/>
        </p:nvSpPr>
        <p:spPr>
          <a:xfrm>
            <a:off x="3500280" y="2928960"/>
            <a:ext cx="164340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вспыльч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ьная выноска 23"/>
          <p:cNvSpPr/>
          <p:nvPr/>
        </p:nvSpPr>
        <p:spPr>
          <a:xfrm>
            <a:off x="2714760" y="2714760"/>
            <a:ext cx="164304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здоро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ьная выноска 3"/>
          <p:cNvSpPr/>
          <p:nvPr/>
        </p:nvSpPr>
        <p:spPr>
          <a:xfrm>
            <a:off x="0" y="2143080"/>
            <a:ext cx="15717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добр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ьная выноска 24"/>
          <p:cNvSpPr/>
          <p:nvPr/>
        </p:nvSpPr>
        <p:spPr>
          <a:xfrm>
            <a:off x="5786280" y="2500200"/>
            <a:ext cx="1571760" cy="12556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подл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ьная выноска 25"/>
          <p:cNvSpPr/>
          <p:nvPr/>
        </p:nvSpPr>
        <p:spPr>
          <a:xfrm>
            <a:off x="4643280" y="2143080"/>
            <a:ext cx="1643400" cy="12556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кова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12600" y="1646280"/>
            <a:ext cx="8686800" cy="23288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H:\тн\05192010165550.jpg"/>
          <p:cNvPicPr/>
          <p:nvPr/>
        </p:nvPicPr>
        <p:blipFill>
          <a:blip r:embed="rId3"/>
          <a:stretch/>
        </p:blipFill>
        <p:spPr>
          <a:xfrm>
            <a:off x="2500200" y="4143240"/>
            <a:ext cx="35719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Схема 3" descr=""/>
          <p:cNvPicPr/>
          <p:nvPr/>
        </p:nvPicPr>
        <p:blipFill>
          <a:blip r:embed="rId2"/>
          <a:stretch/>
        </p:blipFill>
        <p:spPr>
          <a:xfrm>
            <a:off x="628560" y="1127160"/>
            <a:ext cx="7850160" cy="502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Admin\Рабочий стол\фоны для презентаций\Анимация\81.GIF"/>
          <p:cNvPicPr/>
          <p:nvPr/>
        </p:nvPicPr>
        <p:blipFill>
          <a:blip r:embed="rId3"/>
          <a:stretch/>
        </p:blipFill>
        <p:spPr>
          <a:xfrm>
            <a:off x="1147680" y="1285920"/>
            <a:ext cx="666720" cy="50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Admin\Рабочий стол\фоны для презентаций\Анимация\82.GIF"/>
          <p:cNvPicPr/>
          <p:nvPr/>
        </p:nvPicPr>
        <p:blipFill>
          <a:blip r:embed="rId4"/>
          <a:stretch/>
        </p:blipFill>
        <p:spPr>
          <a:xfrm>
            <a:off x="1143000" y="2143080"/>
            <a:ext cx="714240" cy="50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Admin\Рабочий стол\фоны для презентаций\Анимация\83.GIF"/>
          <p:cNvPicPr/>
          <p:nvPr/>
        </p:nvPicPr>
        <p:blipFill>
          <a:blip r:embed="rId5"/>
          <a:stretch/>
        </p:blipFill>
        <p:spPr>
          <a:xfrm>
            <a:off x="1143000" y="2928960"/>
            <a:ext cx="666720" cy="57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Admin\Рабочий стол\фоны для презентаций\Анимация\84.GIF"/>
          <p:cNvPicPr/>
          <p:nvPr/>
        </p:nvPicPr>
        <p:blipFill>
          <a:blip r:embed="rId6"/>
          <a:stretch/>
        </p:blipFill>
        <p:spPr>
          <a:xfrm>
            <a:off x="1193760" y="3786120"/>
            <a:ext cx="663480" cy="571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Documents and Settings\Admin\Рабочий стол\фоны для презентаций\Анимация\85.GIF"/>
          <p:cNvPicPr/>
          <p:nvPr/>
        </p:nvPicPr>
        <p:blipFill>
          <a:blip r:embed="rId7"/>
          <a:stretch/>
        </p:blipFill>
        <p:spPr>
          <a:xfrm>
            <a:off x="1143000" y="4643280"/>
            <a:ext cx="727200" cy="571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Admin\Рабочий стол\фоны для презентаций\Анимация\86.GIF"/>
          <p:cNvPicPr/>
          <p:nvPr/>
        </p:nvPicPr>
        <p:blipFill>
          <a:blip r:embed="rId8"/>
          <a:stretch/>
        </p:blipFill>
        <p:spPr>
          <a:xfrm>
            <a:off x="1147680" y="5500800"/>
            <a:ext cx="6667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Схема 7" descr=""/>
          <p:cNvPicPr/>
          <p:nvPr/>
        </p:nvPicPr>
        <p:blipFill>
          <a:blip r:embed="rId2"/>
          <a:stretch/>
        </p:blipFill>
        <p:spPr>
          <a:xfrm>
            <a:off x="274680" y="628560"/>
            <a:ext cx="8667720" cy="553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Admin\Рабочий стол\фоны для презентаций\Анимация\81.GIF"/>
          <p:cNvPicPr/>
          <p:nvPr/>
        </p:nvPicPr>
        <p:blipFill>
          <a:blip r:embed="rId3"/>
          <a:stretch/>
        </p:blipFill>
        <p:spPr>
          <a:xfrm>
            <a:off x="928800" y="785880"/>
            <a:ext cx="785880" cy="555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Admin\Рабочий стол\фоны для презентаций\Анимация\82.GIF"/>
          <p:cNvPicPr/>
          <p:nvPr/>
        </p:nvPicPr>
        <p:blipFill>
          <a:blip r:embed="rId4"/>
          <a:stretch/>
        </p:blipFill>
        <p:spPr>
          <a:xfrm>
            <a:off x="857160" y="1714680"/>
            <a:ext cx="857520" cy="571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Documents and Settings\Admin\Рабочий стол\фоны для презентаций\Анимация\83.GIF"/>
          <p:cNvPicPr/>
          <p:nvPr/>
        </p:nvPicPr>
        <p:blipFill>
          <a:blip r:embed="rId5"/>
          <a:stretch/>
        </p:blipFill>
        <p:spPr>
          <a:xfrm>
            <a:off x="857160" y="2643120"/>
            <a:ext cx="78588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Admin\Рабочий стол\фоны для презентаций\Анимация\84.GIF"/>
          <p:cNvPicPr/>
          <p:nvPr/>
        </p:nvPicPr>
        <p:blipFill>
          <a:blip r:embed="rId6"/>
          <a:stretch/>
        </p:blipFill>
        <p:spPr>
          <a:xfrm>
            <a:off x="857160" y="3571920"/>
            <a:ext cx="866880" cy="571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Admin\Рабочий стол\фоны для презентаций\Анимация\85.GIF"/>
          <p:cNvPicPr/>
          <p:nvPr/>
        </p:nvPicPr>
        <p:blipFill>
          <a:blip r:embed="rId7"/>
          <a:stretch/>
        </p:blipFill>
        <p:spPr>
          <a:xfrm>
            <a:off x="928800" y="4500720"/>
            <a:ext cx="785880" cy="554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:\Documents and Settings\Admin\Рабочий стол\фоны для презентаций\Анимация\86.GIF"/>
          <p:cNvPicPr/>
          <p:nvPr/>
        </p:nvPicPr>
        <p:blipFill>
          <a:blip r:embed="rId8"/>
          <a:stretch/>
        </p:blipFill>
        <p:spPr>
          <a:xfrm>
            <a:off x="857160" y="5429160"/>
            <a:ext cx="87480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357200" y="642960"/>
            <a:ext cx="7072560" cy="1057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СТИЛИ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4"/>
          <p:cNvSpPr/>
          <p:nvPr/>
        </p:nvSpPr>
        <p:spPr>
          <a:xfrm>
            <a:off x="214200" y="1857240"/>
            <a:ext cx="357192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авторит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5"/>
          <p:cNvSpPr/>
          <p:nvPr/>
        </p:nvSpPr>
        <p:spPr>
          <a:xfrm>
            <a:off x="2643120" y="5072040"/>
            <a:ext cx="350064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опека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6"/>
          <p:cNvSpPr/>
          <p:nvPr/>
        </p:nvSpPr>
        <p:spPr>
          <a:xfrm>
            <a:off x="571680" y="3429000"/>
            <a:ext cx="378612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пустит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7"/>
          <p:cNvSpPr/>
          <p:nvPr/>
        </p:nvSpPr>
        <p:spPr>
          <a:xfrm>
            <a:off x="4643280" y="3429000"/>
            <a:ext cx="364356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хао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5143680" y="1857240"/>
            <a:ext cx="385740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демокр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4"/>
          <p:cNvSpPr/>
          <p:nvPr/>
        </p:nvSpPr>
        <p:spPr>
          <a:xfrm>
            <a:off x="2000160" y="2571840"/>
            <a:ext cx="52866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КУМИР СЕМЬ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10:31Z</dcterms:created>
  <dc:creator>Admin</dc:creator>
  <dc:description/>
  <dc:language>en-US</dc:language>
  <cp:lastModifiedBy>teacher_inf</cp:lastModifiedBy>
  <dcterms:modified xsi:type="dcterms:W3CDTF">2013-03-28T11:59:54Z</dcterms:modified>
  <cp:revision>35</cp:revision>
  <dc:subject/>
  <dc:title>Слайд 1</dc:title>
</cp:coreProperties>
</file>