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061D-E162-449E-990A-2CF2B278DF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1303-D096-4CC6-A5C9-DD17618A01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072-BDCF-47E1-A63B-6EF9BFBF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0782-59A5-47D6-8DAF-8E3DDCE8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F025-1825-4850-867D-6EA7B5E9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4A2E-DE74-4908-BFCE-3E9AD967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34EE-2591-4CD5-A425-E5D49047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1C2A-DEB8-424C-9384-93E59B11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C85-647D-4D40-B2EE-0F041819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C6B1-41EE-4586-9019-95C5789B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6E7E-F81E-4B51-86AB-B09AAEA2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2DA7-CE49-4783-9B9B-36CC23EA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6C5A-B76E-4025-8C18-0C10C150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E0EB-A1F3-4596-8865-BA8729D6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7471-CA02-4B98-9682-33E3B5A73C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20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5077080" cy="6021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5508720" y="260280"/>
            <a:ext cx="3519360" cy="417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5435640" y="4508640"/>
            <a:ext cx="3529080" cy="1971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5706000" y="658980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Задание из части В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Расположите последовательно органы пищеварительного тра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гло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тонкий кише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толстый кише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ротовая по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) пище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) желудо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 из части С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1.Почему в каждом отделе пищеварительной системы «работают» свои определенные фермент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атализа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тализаторы – это вещества, которые  изменяют скорость химической реакции или вызывают её, но сами не входят в состав продуктов реакции. Ферменты – это биологические катализато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ерменты - биологически активные белковые вещества, которые катализируют химические реа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ждый фермент расщепляет питательные вещества только определенной группы /белки, жиры, углеводы/ и не расщепляет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ерменты действуют только в определённой  химической среде: щелочной или  кисл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иболее активно действуют ферменты пр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тела, а при 70-100° С разруш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хема рефлекторной ду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img4"/>
          <p:cNvPicPr/>
          <p:nvPr/>
        </p:nvPicPr>
        <p:blipFill>
          <a:blip r:embed="rId2"/>
          <a:stretch/>
        </p:blipFill>
        <p:spPr>
          <a:xfrm>
            <a:off x="428760" y="2143080"/>
            <a:ext cx="82152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 глот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571680" y="2071800"/>
            <a:ext cx="7643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сокращаются мышцы мягкого нёба, закрывая вход в носовую по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сокращаются мышцы гортани, закрывая вход в не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сокращаются мышцы ротовой полости и глотки, проталкивая пищевой комок в пище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 открывается вход в желуд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Где начинается  расщепление углевод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в желуд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в ротовой пол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в тонком кишеч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 в толстом кишеч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Чт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 относитс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 органическим веществ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бел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ж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углево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Из аминокислот состоя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жи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угле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б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нуклеиновые кисл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Продуктами распада жиров являю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глюко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глицерин и жирные кисл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нуклеоти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аминокисл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7:29:24Z</dcterms:created>
  <dc:creator>*</dc:creator>
  <dc:description/>
  <dc:language>en-US</dc:language>
  <cp:lastModifiedBy>Admin</cp:lastModifiedBy>
  <dcterms:modified xsi:type="dcterms:W3CDTF">2011-02-24T15:16:10Z</dcterms:modified>
  <cp:revision>47</cp:revision>
  <dc:subject/>
  <dc:title>Слайд 1</dc:title>
</cp:coreProperties>
</file>