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80D-11E5-44B2-A57D-704B5A9EC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131A-DEA3-4810-B15A-EB204CE93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ED8-5E4B-4DFF-82A8-56343278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029-586D-45D6-A499-B049E686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6EB-AC86-4637-8D34-287516BC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1A9-1EC1-43FB-AB1E-A2B3175E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9AC-C4F0-455C-83F5-5C292F52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020-6766-4215-893D-7422887E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0DD-0C4D-4736-A8B0-C7631C94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7AC-B9E5-4AA7-8CD6-E3947857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DF4-6FD1-47FF-BF15-6BBAA55A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B54-B45E-43A7-AE71-8BC97387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D24-963C-4A75-8797-DD729A53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970-5FBB-4D60-BBF0-AA6E7D1B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5BB3-84E5-4C8F-AAC7-1D523A707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20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077080" cy="6021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519360" cy="41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3529080" cy="197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5706000" y="6589800"/>
            <a:ext cx="27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дание из части В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Расположите последовательно органы пищеварительного тра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гл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тонкий 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толстый 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ротовая по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) пище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) желудо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из части 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1.Почему в каждом отделе пищеварительной системы «работают» свои определенные фермен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тализ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тализаторы – это вещества, которые  изменяют скорость химической реакции или вызывают её, но сами не входят в состав продуктов реакции. Ферменты – это биологические катализат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- биологически активные белковые вещества, которые катализируют химические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ждый фермент расщепляет питательные вещества только определенной группы /белки, жиры, углеводы/ и не расщепляет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рменты действуют только в определённой  химической среде: щелочной или  кис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иболее активно действуют ферменты пр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тела, а при 70-100° С разруш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рефлекторной д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img4"/>
          <p:cNvPicPr/>
          <p:nvPr/>
        </p:nvPicPr>
        <p:blipFill>
          <a:blip r:embed="rId2"/>
          <a:stretch/>
        </p:blipFill>
        <p:spPr>
          <a:xfrm>
            <a:off x="428760" y="2143080"/>
            <a:ext cx="82152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 глот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571680" y="2071800"/>
            <a:ext cx="7643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сокращаются мышцы мягкого нёба, закрывая вход в носовую по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сокращаются мышцы гортани, закрывая вход в не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сокращаются мышцы ротовой полости и глотки, проталкивая пищевой комок в пище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открывается вход в желу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Где начинается  расщепление углевод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в желуд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в ротовой по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в тонком кишеч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в толстом кишеч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Ч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относи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 органическим вещест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бел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угле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Из аминокислот состо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жи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угле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нуклеиновые 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Продуктами распада жиров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глюко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глицерин и жирные 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нуклеоти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амино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7:29:24Z</dcterms:created>
  <dc:creator>*</dc:creator>
  <dc:description/>
  <dc:language>en-US</dc:language>
  <cp:lastModifiedBy>Admin</cp:lastModifiedBy>
  <dcterms:modified xsi:type="dcterms:W3CDTF">2011-02-24T15:16:10Z</dcterms:modified>
  <cp:revision>47</cp:revision>
  <dc:subject/>
  <dc:title>Слайд 1</dc:title>
</cp:coreProperties>
</file>