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E8AE-18C2-4ACC-A335-0F28128BF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C2C5-1257-4F70-BCC1-AD18021B0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65E9-AABC-4D77-A6C2-2E3A33B5A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129920"/>
            <a:ext cx="2649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6378-B725-41A0-95A5-1D8630AF60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540A-90BE-474D-A8D7-BB52220610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8FEA-5DFB-40C6-A277-4B83546C1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BE80-ECC4-457B-8F5D-AE761B404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F24E-EEC9-4805-8B2E-07CA7AB2B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920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4008-D35C-424A-87B5-F16B4865D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8616-8AD1-4CCD-AC62-833DBF615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12992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6102-9189-4F72-B865-25271277B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9920"/>
            <a:ext cx="8228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A231-D32B-4C21-BE8A-EAB6816C4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165BE6-7DF0-4947-910E-69F5444C9F4E}" type="slidenum">
              <a:rPr b="0" lang="ru-R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Свинь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Породы свине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2a04"/>
                </a:solidFill>
                <a:latin typeface="Arial Black"/>
              </a:rPr>
              <a:t>Разработала учитель технологии : Малюкова А.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320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19836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Мясо – сальные породы :</a:t>
            </a:r>
            <a:br>
              <a:rPr sz="4800"/>
            </a:b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Крупная латвийская бела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457200" y="249228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028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457200" y="29052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Мясо-сальные породы:</a:t>
            </a:r>
            <a:br>
              <a:rPr sz="4800"/>
            </a:b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Украинская степна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17680" y="1989000"/>
            <a:ext cx="8157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Сальные породы :</a:t>
            </a:r>
            <a:br>
              <a:rPr sz="4000"/>
            </a:b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Миргород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36560" y="1844640"/>
            <a:ext cx="772308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Свиньи других пород :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Вьетнамс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648320" y="1981080"/>
            <a:ext cx="37400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48320" y="4114800"/>
            <a:ext cx="3740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31720" y="1884240"/>
            <a:ext cx="7856640" cy="456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5284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a2a04"/>
                </a:solidFill>
                <a:latin typeface="Arial Black"/>
              </a:rPr>
              <a:t>Свиньи других пород :</a:t>
            </a:r>
            <a:br>
              <a:rPr sz="3600"/>
            </a:br>
            <a:r>
              <a:rPr b="0" lang="ru-RU" sz="3600" spc="-1" strike="noStrike">
                <a:solidFill>
                  <a:srgbClr val="ea2a04"/>
                </a:solidFill>
                <a:latin typeface="Arial Black"/>
              </a:rPr>
              <a:t>Шерстистая мандалиц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900000" y="2060640"/>
            <a:ext cx="7488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900000" y="1681200"/>
            <a:ext cx="7488360" cy="45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Опишите внешний вид свинь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3"/>
          <p:cNvGrpSpPr/>
          <p:nvPr/>
        </p:nvGrpSpPr>
        <p:grpSpPr>
          <a:xfrm>
            <a:off x="755640" y="1916280"/>
            <a:ext cx="7270920" cy="4390920"/>
            <a:chOff x="755640" y="1916280"/>
            <a:chExt cx="7270920" cy="4390920"/>
          </a:xfrm>
        </p:grpSpPr>
        <p:pic>
          <p:nvPicPr>
            <p:cNvPr id="88" name="Picture 4" descr=""/>
            <p:cNvPicPr/>
            <p:nvPr/>
          </p:nvPicPr>
          <p:blipFill>
            <a:blip r:embed="rId2"/>
            <a:stretch/>
          </p:blipFill>
          <p:spPr>
            <a:xfrm>
              <a:off x="755640" y="1916280"/>
              <a:ext cx="7270920" cy="43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5"/>
            <p:cNvSpPr/>
            <p:nvPr/>
          </p:nvSpPr>
          <p:spPr>
            <a:xfrm>
              <a:off x="755640" y="1916280"/>
              <a:ext cx="727092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30360" y="44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Вопросы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68360" y="1268280"/>
            <a:ext cx="856764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Для чего разводят свиней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К какому виду относятся свиньи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Как свиньи делятся по полу и  возрасту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Какие особенности свиней вам известны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На какие три группы делятся породы свин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Какие породы относятся к каждой из групп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Что такое масть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.Какая порода свиней является наиболее распространённой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75564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ea2a04"/>
                </a:solidFill>
                <a:latin typeface="Arial Black"/>
              </a:rPr>
              <a:t>Свиньи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13320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5" descr="C:\Users\User\Desktop\x_f36640f7.jpg"/>
          <p:cNvPicPr/>
          <p:nvPr/>
        </p:nvPicPr>
        <p:blipFill>
          <a:blip r:embed="rId1"/>
          <a:stretch/>
        </p:blipFill>
        <p:spPr>
          <a:xfrm>
            <a:off x="736560" y="1916280"/>
            <a:ext cx="76708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Внешний вид свинь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770040" y="1552680"/>
            <a:ext cx="718668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- голова 2- уши 3- шея 4- спина 5- задний окоро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- скакательный сустав 7- брюхо 8- грудь  9- копы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201080" cy="415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0" y="23760"/>
            <a:ext cx="885672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Производственные группы</a:t>
            </a:r>
            <a:br>
              <a:rPr sz="4000"/>
            </a:br>
            <a:r>
              <a:rPr b="0" lang="ru-RU" sz="3600" spc="-1" strike="noStrike">
                <a:solidFill>
                  <a:srgbClr val="ea2a04"/>
                </a:solidFill>
                <a:latin typeface="Arial Black"/>
              </a:rPr>
              <a:t>Свиней разделяют по полу и возрасту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324000" y="2133720"/>
            <a:ext cx="849600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)ХРЯК   и    СВИНОМА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)Поросят до 2-х месяцев называют : ПОРОСЯТАМИ- СОСУН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) Поросят с 2-х месяцев называют : ПОРОСЯТАМИ –ОТЪЁМЫШ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) Поросят ОТ 4-х месяцев называют : ПОДСВИН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Поросят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2" descr="C:\Users\User\Desktop\cutelittlepiggies1.jpg_thumb.jpg"/>
          <p:cNvPicPr/>
          <p:nvPr/>
        </p:nvPicPr>
        <p:blipFill>
          <a:blip r:embed="rId1"/>
          <a:stretch/>
        </p:blipFill>
        <p:spPr>
          <a:xfrm>
            <a:off x="1187280" y="1700280"/>
            <a:ext cx="65534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0"/>
            <a:ext cx="82296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Породы свин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879560" y="1125360"/>
            <a:ext cx="53848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879560" y="1125360"/>
            <a:ext cx="538488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3320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60360" y="177840"/>
            <a:ext cx="8280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a2a04"/>
                </a:solidFill>
                <a:latin typeface="Arial Black"/>
              </a:rPr>
              <a:t>Направления продуктивности пород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360" y="2143080"/>
            <a:ext cx="61563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Мясные пород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28600" y="300672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Мясо – сальные пород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898800"/>
            <a:ext cx="66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Сальные породы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457200" y="19836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Мясные породы : Уржумска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66560" y="1989000"/>
            <a:ext cx="820908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19836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Мясные породы : Эстонска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11120" y="1989000"/>
            <a:ext cx="833760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4:11:07Z</dcterms:created>
  <dc:creator>Марина</dc:creator>
  <dc:description/>
  <dc:language>en-US</dc:language>
  <cp:lastModifiedBy>User</cp:lastModifiedBy>
  <dcterms:modified xsi:type="dcterms:W3CDTF">2013-03-28T15:17:45Z</dcterms:modified>
  <cp:revision>30</cp:revision>
  <dc:subject/>
  <dc:title>ДОМАШНИЕ ПТИЦЫ</dc:title>
</cp:coreProperties>
</file>