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AB66-DD94-4382-BA54-89D620120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CDCC-ABB4-4209-A192-1A6E83B22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AC0D-D15B-49D0-8C2C-085BEFA92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AD1B-9DA7-485D-B1CA-010CABE09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E823-1D84-4D91-8BC8-E8DAD14A6B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0F5-F2F8-4A52-9B67-6488D1221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6052-DAC9-4A67-9590-6B462CB47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C6F0-FCD5-4FD0-8EB8-26A67BF58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153A-0084-41E5-B27A-335E61E53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7004-0E38-40BD-9CF7-1D574DEB8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7BB6-4CFB-427D-A513-CF8B5D52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CC05-CBB9-4FE8-B015-A0C7BEED5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03B6D6-765B-431D-AD26-9659D372A246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Свинь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Породы свин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2a04"/>
                </a:solidFill>
                <a:latin typeface="Arial Black"/>
              </a:rPr>
              <a:t>Разработала учитель технологии : Малюкова А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19836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 – сальные породы :</a:t>
            </a:r>
            <a:br>
              <a:rPr sz="4800"/>
            </a:b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рупная латвийская бел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249228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028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905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-сальные породы:</a:t>
            </a:r>
            <a:br>
              <a:rPr sz="4800"/>
            </a:b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Украинская степ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17680" y="1989000"/>
            <a:ext cx="8157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Сальные породы :</a:t>
            </a:r>
            <a:br>
              <a:rPr sz="4000"/>
            </a:b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Миргород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36560" y="1844640"/>
            <a:ext cx="772308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Свиньи других пород :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ьетнам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648320" y="1981080"/>
            <a:ext cx="3740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4114800"/>
            <a:ext cx="3740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31720" y="1884240"/>
            <a:ext cx="7856640" cy="456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284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Свиньи других пород :</a:t>
            </a:r>
            <a:br>
              <a:rPr sz="3600"/>
            </a:b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Шерстистая мандали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00000" y="2060640"/>
            <a:ext cx="748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900000" y="1681200"/>
            <a:ext cx="7488360" cy="45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ишите внешний вид свинь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755640" y="1916280"/>
            <a:ext cx="7270920" cy="4390920"/>
            <a:chOff x="755640" y="1916280"/>
            <a:chExt cx="7270920" cy="4390920"/>
          </a:xfrm>
        </p:grpSpPr>
        <p:pic>
          <p:nvPicPr>
            <p:cNvPr id="88" name="Picture 4" descr=""/>
            <p:cNvPicPr/>
            <p:nvPr/>
          </p:nvPicPr>
          <p:blipFill>
            <a:blip r:embed="rId2"/>
            <a:stretch/>
          </p:blipFill>
          <p:spPr>
            <a:xfrm>
              <a:off x="755640" y="1916280"/>
              <a:ext cx="7270920" cy="43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"/>
            <p:cNvSpPr/>
            <p:nvPr/>
          </p:nvSpPr>
          <p:spPr>
            <a:xfrm>
              <a:off x="755640" y="1916280"/>
              <a:ext cx="727092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30360" y="44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Вопросы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1268280"/>
            <a:ext cx="856764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Для чего разводят свиней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К какому виду относятся свиньи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ак свиньи делятся по полу и  возрасту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Какие особенности свиней вам известны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На какие три группы делятся породы свин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Какие породы относятся к каждой из групп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Что такое масть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Какая порода свиней является наиболее распространённой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75564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ea2a04"/>
                </a:solidFill>
                <a:latin typeface="Arial Black"/>
              </a:rPr>
              <a:t>Свиньи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:\Users\User\Desktop\x_f36640f7.jpg"/>
          <p:cNvPicPr/>
          <p:nvPr/>
        </p:nvPicPr>
        <p:blipFill>
          <a:blip r:embed="rId1"/>
          <a:stretch/>
        </p:blipFill>
        <p:spPr>
          <a:xfrm>
            <a:off x="736560" y="1916280"/>
            <a:ext cx="76708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Внешний вид свинь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770040" y="1552680"/>
            <a:ext cx="718668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- голова 2- уши 3- шея 4- спина 5- задний окоро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- скакательный сустав 7- брюхо 8- грудь  9- копы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201080" cy="41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0" y="23760"/>
            <a:ext cx="8856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Производственные группы</a:t>
            </a:r>
            <a:br>
              <a:rPr sz="4000"/>
            </a:b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Свиней разделяют по полу и возрасту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2133720"/>
            <a:ext cx="84960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)ХРЯК   и    СВИНОМА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)Поросят до 2-х месяцев называют : ПОРОСЯТАМИ- СОСУ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) Поросят с 2-х месяцев называют : ПОРОСЯТАМИ –ОТЪЁМЫШ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) Поросят ОТ 4-х месяцев называют : ПОДСВИН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Поросят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2" descr="C:\Users\User\Desktop\cutelittlepiggies1.jpg_thumb.jpg"/>
          <p:cNvPicPr/>
          <p:nvPr/>
        </p:nvPicPr>
        <p:blipFill>
          <a:blip r:embed="rId1"/>
          <a:stretch/>
        </p:blipFill>
        <p:spPr>
          <a:xfrm>
            <a:off x="1187280" y="1700280"/>
            <a:ext cx="655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0"/>
            <a:ext cx="8229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Породы свин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879560" y="1125360"/>
            <a:ext cx="5384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879560" y="1125360"/>
            <a:ext cx="538488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60360" y="177840"/>
            <a:ext cx="828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Направления продуктивности пород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360" y="2143080"/>
            <a:ext cx="6156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8600" y="300672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 – саль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89880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Саль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98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Мясные породы : Уржумск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6560" y="1989000"/>
            <a:ext cx="820908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98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Мясные породы : Эстонск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11120" y="1989000"/>
            <a:ext cx="83376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4:11:07Z</dcterms:created>
  <dc:creator>Марина</dc:creator>
  <dc:description/>
  <dc:language>en-US</dc:language>
  <cp:lastModifiedBy>User</cp:lastModifiedBy>
  <dcterms:modified xsi:type="dcterms:W3CDTF">2013-03-28T15:17:45Z</dcterms:modified>
  <cp:revision>30</cp:revision>
  <dc:subject/>
  <dc:title>ДОМАШНИЕ ПТИЦЫ</dc:title>
</cp:coreProperties>
</file>