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gif" ContentType="image/gif"/>
  <Override PartName="/ppt/media/chimes.wav" ContentType="audio/x-wav"/>
  <Override PartName="/ppt/media/image8.png" ContentType="image/png"/>
  <Override PartName="/ppt/media/image5.jpeg" ContentType="image/jpeg"/>
  <Override PartName="/ppt/media/image6.gif" ContentType="image/gif"/>
  <Override PartName="/ppt/media/image11.gif" ContentType="image/gif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0837-FC12-473E-9B43-846A8FE4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C9FA-884A-459B-9EE9-587ADB52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B8A7-599F-4EEB-9C4E-FB76998F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310-5347-410F-B422-F990586C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8806-B5C2-49AA-9405-DCD55EF6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B7B-FCA8-432A-9068-91B85CF8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7946-620B-40C0-A880-B2AB5603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76C-F880-42B5-99B8-F42BF186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1730-FB4F-4681-86B7-C2A2A768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9882-E530-4DDE-A1D4-A8FF2276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C74-0D3B-4E67-8FBD-139BEB57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111-C4BE-4F9C-8A60-CA37F05C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B2E1-5039-4D77-95D7-9EFEE17A7C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31.xml"/><Relationship Id="rId8" Type="http://schemas.openxmlformats.org/officeDocument/2006/relationships/slide" Target="slide31.xml"/><Relationship Id="rId9" Type="http://schemas.openxmlformats.org/officeDocument/2006/relationships/slide" Target="slide24.xml"/><Relationship Id="rId10" Type="http://schemas.openxmlformats.org/officeDocument/2006/relationships/slide" Target="slide24.xml"/><Relationship Id="rId11" Type="http://schemas.openxmlformats.org/officeDocument/2006/relationships/slide" Target="slide28.xml"/><Relationship Id="rId12" Type="http://schemas.openxmlformats.org/officeDocument/2006/relationships/slide" Target="slide28.xml"/><Relationship Id="rId13" Type="http://schemas.openxmlformats.org/officeDocument/2006/relationships/slide" Target="slide30.xml"/><Relationship Id="rId14" Type="http://schemas.openxmlformats.org/officeDocument/2006/relationships/slide" Target="slide30.xml"/><Relationship Id="rId15" Type="http://schemas.openxmlformats.org/officeDocument/2006/relationships/slide" Target="slide23.xml"/><Relationship Id="rId16" Type="http://schemas.openxmlformats.org/officeDocument/2006/relationships/slide" Target="slide23.xml"/><Relationship Id="rId17" Type="http://schemas.openxmlformats.org/officeDocument/2006/relationships/slide" Target="slide27.xml"/><Relationship Id="rId18" Type="http://schemas.openxmlformats.org/officeDocument/2006/relationships/slide" Target="slide27.xml"/><Relationship Id="rId19" Type="http://schemas.openxmlformats.org/officeDocument/2006/relationships/slide" Target="slide32.xml"/><Relationship Id="rId20" Type="http://schemas.openxmlformats.org/officeDocument/2006/relationships/slide" Target="slide17.xml"/><Relationship Id="rId21" Type="http://schemas.openxmlformats.org/officeDocument/2006/relationships/slide" Target="slide18.xml"/><Relationship Id="rId22" Type="http://schemas.openxmlformats.org/officeDocument/2006/relationships/slide" Target="slide19.xml"/><Relationship Id="rId23" Type="http://schemas.openxmlformats.org/officeDocument/2006/relationships/slide" Target="slide20.xml"/><Relationship Id="rId2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0.xml"/><Relationship Id="rId4" Type="http://schemas.openxmlformats.org/officeDocument/2006/relationships/slide" Target="slide40.xml"/><Relationship Id="rId5" Type="http://schemas.openxmlformats.org/officeDocument/2006/relationships/slide" Target="slide37.xml"/><Relationship Id="rId6" Type="http://schemas.openxmlformats.org/officeDocument/2006/relationships/slide" Target="slide37.xml"/><Relationship Id="rId7" Type="http://schemas.openxmlformats.org/officeDocument/2006/relationships/slide" Target="slide46.xml"/><Relationship Id="rId8" Type="http://schemas.openxmlformats.org/officeDocument/2006/relationships/slide" Target="slide46.xml"/><Relationship Id="rId9" Type="http://schemas.openxmlformats.org/officeDocument/2006/relationships/slide" Target="slide42.xml"/><Relationship Id="rId10" Type="http://schemas.openxmlformats.org/officeDocument/2006/relationships/slide" Target="slide42.xml"/><Relationship Id="rId11" Type="http://schemas.openxmlformats.org/officeDocument/2006/relationships/slide" Target="slide39.xml"/><Relationship Id="rId12" Type="http://schemas.openxmlformats.org/officeDocument/2006/relationships/slide" Target="slide39.xml"/><Relationship Id="rId13" Type="http://schemas.openxmlformats.org/officeDocument/2006/relationships/slide" Target="slide44.xml"/><Relationship Id="rId14" Type="http://schemas.openxmlformats.org/officeDocument/2006/relationships/slide" Target="slide44.xml"/><Relationship Id="rId15" Type="http://schemas.openxmlformats.org/officeDocument/2006/relationships/slide" Target="slide41.xml"/><Relationship Id="rId16" Type="http://schemas.openxmlformats.org/officeDocument/2006/relationships/slide" Target="slide41.xml"/><Relationship Id="rId17" Type="http://schemas.openxmlformats.org/officeDocument/2006/relationships/slide" Target="slide38.xml"/><Relationship Id="rId18" Type="http://schemas.openxmlformats.org/officeDocument/2006/relationships/slide" Target="slide38.xml"/><Relationship Id="rId19" Type="http://schemas.openxmlformats.org/officeDocument/2006/relationships/slide" Target="slide47.xml"/><Relationship Id="rId20" Type="http://schemas.openxmlformats.org/officeDocument/2006/relationships/slide" Target="slide32.xml"/><Relationship Id="rId21" Type="http://schemas.openxmlformats.org/officeDocument/2006/relationships/slide" Target="slide33.xml"/><Relationship Id="rId22" Type="http://schemas.openxmlformats.org/officeDocument/2006/relationships/slide" Target="slide34.xml"/><Relationship Id="rId23" Type="http://schemas.openxmlformats.org/officeDocument/2006/relationships/slide" Target="slide35.xml"/><Relationship Id="rId2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6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" Target="slide56.xml"/><Relationship Id="rId3" Type="http://schemas.openxmlformats.org/officeDocument/2006/relationships/slide" Target="slide53.xml"/><Relationship Id="rId4" Type="http://schemas.openxmlformats.org/officeDocument/2006/relationships/slide" Target="slide53.xml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slide" Target="slide58.xml"/><Relationship Id="rId8" Type="http://schemas.openxmlformats.org/officeDocument/2006/relationships/slide" Target="slide58.xml"/><Relationship Id="rId9" Type="http://schemas.openxmlformats.org/officeDocument/2006/relationships/slide" Target="slide55.xml"/><Relationship Id="rId10" Type="http://schemas.openxmlformats.org/officeDocument/2006/relationships/slide" Target="slide55.xml"/><Relationship Id="rId11" Type="http://schemas.openxmlformats.org/officeDocument/2006/relationships/slide" Target="slide51.xml"/><Relationship Id="rId1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9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" Target="slide8.xml"/><Relationship Id="rId18" Type="http://schemas.openxmlformats.org/officeDocument/2006/relationships/slide" Target="slide8.xml"/><Relationship Id="rId19" Type="http://schemas.openxmlformats.org/officeDocument/2006/relationships/slide" Target="slide17.xml"/><Relationship Id="rId20" Type="http://schemas.openxmlformats.org/officeDocument/2006/relationships/slide" Target="slide2.xml"/><Relationship Id="rId21" Type="http://schemas.openxmlformats.org/officeDocument/2006/relationships/slide" Target="slide3.xml"/><Relationship Id="rId22" Type="http://schemas.openxmlformats.org/officeDocument/2006/relationships/slide" Target="slide4.xml"/><Relationship Id="rId23" Type="http://schemas.openxmlformats.org/officeDocument/2006/relationships/slide" Target="slide5.xml"/><Relationship Id="rId2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8"/>
          <p:cNvSpPr/>
          <p:nvPr/>
        </p:nvSpPr>
        <p:spPr>
          <a:xfrm>
            <a:off x="1547640" y="260280"/>
            <a:ext cx="583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НИЦИПАЛЬНОЕ  БЮДЖЕТНОЕ  ОБЩЕОБРАЗОВАТЕЛЬНОЕ  УЧ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НЯЯ  ОБЩЕОБРАЗОВАТЕЛЬНАЯ  ШКОЛА №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 Апатиты, Мурман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116000" y="350028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(Внеклассное мероприятие по математике в 10 класс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324000" y="1341360"/>
            <a:ext cx="84582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99"/>
                </a:solidFill>
                <a:latin typeface="Arial"/>
              </a:rPr>
              <a:t>Викторина</a:t>
            </a:r>
            <a:br>
              <a:rPr sz="4000"/>
            </a:br>
            <a:r>
              <a:rPr b="1" lang="ru-RU" sz="7200" spc="-1" strike="noStrike">
                <a:solidFill>
                  <a:srgbClr val="99ff99"/>
                </a:solidFill>
                <a:latin typeface="Arial"/>
              </a:rPr>
              <a:t>«Своя  игр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932360" y="494172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: Гринева Л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995640" y="6093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468360" y="1484280"/>
            <a:ext cx="806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ЗА_ _ _ _ _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процесс заострения предме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14"/>
          <p:cNvSpPr txBox="1"/>
          <p:nvPr/>
        </p:nvSpPr>
        <p:spPr>
          <a:xfrm>
            <a:off x="5435640" y="544500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точк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468360" y="2205000"/>
            <a:ext cx="806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Ы_ _ _ _ _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конструктивный элемент одежд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468360" y="2924280"/>
            <a:ext cx="806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ФОР_ _ _ _ _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часть ок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468360" y="3645000"/>
            <a:ext cx="806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ЛАС_ _ _ _ _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пт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1"/>
          <p:cNvSpPr/>
          <p:nvPr/>
        </p:nvSpPr>
        <p:spPr>
          <a:xfrm>
            <a:off x="468360" y="4365720"/>
            <a:ext cx="806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ИС_ _ _ _ _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инструмент художн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2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8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900000" y="1989000"/>
            <a:ext cx="73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Многогранник из Египта – э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14"/>
          <p:cNvSpPr txBox="1"/>
          <p:nvPr/>
        </p:nvSpPr>
        <p:spPr>
          <a:xfrm>
            <a:off x="3132000" y="479736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ирамид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9" descr="arxit6.jpg"/>
          <p:cNvPicPr/>
          <p:nvPr/>
        </p:nvPicPr>
        <p:blipFill>
          <a:blip r:embed="rId3"/>
          <a:stretch/>
        </p:blipFill>
        <p:spPr>
          <a:xfrm>
            <a:off x="6084720" y="4724280"/>
            <a:ext cx="1828800" cy="125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14"/>
          <p:cNvSpPr txBox="1"/>
          <p:nvPr/>
        </p:nvSpPr>
        <p:spPr>
          <a:xfrm>
            <a:off x="5796000" y="4941720"/>
            <a:ext cx="165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омб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02" name="Rectangle 25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900000" y="1989000"/>
            <a:ext cx="7417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Назовите геометрическую фигуру  на петлицах высших офицеров Красной Армии в беспогонную эпох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5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гадай слово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684360" y="1773360"/>
            <a:ext cx="2089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Тверд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2700360" y="1773360"/>
            <a:ext cx="2160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жидк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4716360" y="1773360"/>
            <a:ext cx="338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газообразн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826920" y="2565360"/>
            <a:ext cx="194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гол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2411280" y="2565360"/>
            <a:ext cx="2519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мертв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4427640" y="2565360"/>
            <a:ext cx="3960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геометрическое…</a:t>
            </a:r>
            <a:r>
              <a:rPr b="0" lang="ru-RU" sz="3200" spc="-1" strike="noStrike">
                <a:solidFill>
                  <a:srgbClr val="ebe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5076720" y="3933720"/>
            <a:ext cx="2665440" cy="8636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те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3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гадай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684360" y="1773360"/>
            <a:ext cx="2592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Служеб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3419640" y="1773360"/>
            <a:ext cx="216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глав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5364000" y="1781280"/>
            <a:ext cx="338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важ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755640" y="2565360"/>
            <a:ext cx="2376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основ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0"/>
          <p:cNvSpPr/>
          <p:nvPr/>
        </p:nvSpPr>
        <p:spPr>
          <a:xfrm>
            <a:off x="3419640" y="2565360"/>
            <a:ext cx="360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монотон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55640" y="3357720"/>
            <a:ext cx="3960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возрастающ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3995640" y="3357720"/>
            <a:ext cx="3097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убывающ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826920" y="4076640"/>
            <a:ext cx="396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периодичес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4356000" y="4052880"/>
            <a:ext cx="396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600"/>
                </a:solidFill>
                <a:latin typeface="Arial"/>
              </a:rPr>
              <a:t>линейна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25"/>
          <p:cNvSpPr/>
          <p:nvPr/>
        </p:nvSpPr>
        <p:spPr>
          <a:xfrm>
            <a:off x="5364000" y="5013360"/>
            <a:ext cx="2665440" cy="8636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функ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4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7"/>
          <p:cNvGrpSpPr/>
          <p:nvPr/>
        </p:nvGrpSpPr>
        <p:grpSpPr>
          <a:xfrm>
            <a:off x="1187280" y="2491920"/>
            <a:ext cx="6048720" cy="2663640"/>
            <a:chOff x="1187280" y="2491920"/>
            <a:chExt cx="6048720" cy="2663640"/>
          </a:xfrm>
        </p:grpSpPr>
        <p:sp>
          <p:nvSpPr>
            <p:cNvPr id="253" name="AutoShape 16"/>
            <p:cNvSpPr/>
            <p:nvPr/>
          </p:nvSpPr>
          <p:spPr>
            <a:xfrm rot="10800000">
              <a:off x="1908000" y="2491560"/>
              <a:ext cx="4608720" cy="2663640"/>
            </a:xfrm>
            <a:prstGeom prst="wedgeEllipseCallout">
              <a:avLst>
                <a:gd name="adj1" fmla="val 4185"/>
                <a:gd name="adj2" fmla="val 6340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a50021"/>
                </a:gs>
                <a:gs pos="100000">
                  <a:srgbClr val="ff66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5"/>
            <p:cNvSpPr/>
            <p:nvPr/>
          </p:nvSpPr>
          <p:spPr>
            <a:xfrm>
              <a:off x="1187280" y="3211200"/>
              <a:ext cx="60487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Times New Roman"/>
                </a:rPr>
                <a:t>Вам попался кот в мешк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Times New Roman"/>
                </a:rPr>
                <a:t>Кому отдадите  вопрос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AutoShape 18">
            <a:hlinkClick r:id="" action="ppaction://hlinkshowjump?jump=nextslide"/>
          </p:cNvPr>
          <p:cNvSpPr/>
          <p:nvPr/>
        </p:nvSpPr>
        <p:spPr>
          <a:xfrm>
            <a:off x="8459640" y="6270480"/>
            <a:ext cx="540000" cy="40500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гадай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ов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611280" y="2205000"/>
            <a:ext cx="80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 заканчивается известная пословица: «Ясно, как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15"/>
          <p:cNvSpPr txBox="1"/>
          <p:nvPr/>
        </p:nvSpPr>
        <p:spPr>
          <a:xfrm>
            <a:off x="4500720" y="4076640"/>
            <a:ext cx="3097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дважды  дв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826920" y="1484280"/>
            <a:ext cx="73915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 называется популярная в 1930-е годы акробатическая фигура, составленная спортсменами, стоящими друг на друг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линд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рами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н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1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2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384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385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826920" y="1484280"/>
            <a:ext cx="739152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напоминает геометрическое тело, называющееся тор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бл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гал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нде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бат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1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4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41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41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826920" y="1484280"/>
            <a:ext cx="7921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ой геометрический термин произошёл от греческого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измерение вокруг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мет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ё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поверх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0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1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443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4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9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826920" y="1484280"/>
            <a:ext cx="73915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 называется знаменитая картина Пабло Пикасс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вочка на трапеци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«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а на шаре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вочка на куб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animClr clrSpc="rgb">
                                      <p:cBhvr>
                                        <p:cTn id="2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set>
                                      <p:cBhvr>
                                        <p:cTn id="2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826920" y="1484280"/>
            <a:ext cx="79218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называется отрезок прямой, соединяющий две какие-либо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чки окружности?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и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кущ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Rectangle 7"/>
          <p:cNvSpPr/>
          <p:nvPr/>
        </p:nvSpPr>
        <p:spPr>
          <a:xfrm>
            <a:off x="1042920" y="16200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8"/>
          <p:cNvSpPr/>
          <p:nvPr/>
        </p:nvSpPr>
        <p:spPr>
          <a:xfrm>
            <a:off x="179280" y="83664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468360" y="3573360"/>
            <a:ext cx="4019400" cy="100800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452520" y="1700280"/>
            <a:ext cx="403200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455760" y="2637000"/>
            <a:ext cx="403200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6">
            <a:hlinkClick r:id="rId1" action="ppaction://hlinksldjump"/>
          </p:cNvPr>
          <p:cNvSpPr/>
          <p:nvPr/>
        </p:nvSpPr>
        <p:spPr>
          <a:xfrm>
            <a:off x="4500720" y="3573360"/>
            <a:ext cx="1428480" cy="100800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7">
            <a:hlinkClick r:id="rId3" action="ppaction://hlinksldjump"/>
          </p:cNvPr>
          <p:cNvSpPr/>
          <p:nvPr/>
        </p:nvSpPr>
        <p:spPr>
          <a:xfrm>
            <a:off x="4484520" y="1700280"/>
            <a:ext cx="142884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4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8">
            <a:hlinkClick r:id="rId5" action="ppaction://hlinksldjump"/>
          </p:cNvPr>
          <p:cNvSpPr/>
          <p:nvPr/>
        </p:nvSpPr>
        <p:spPr>
          <a:xfrm>
            <a:off x="4487760" y="2637000"/>
            <a:ext cx="142884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6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1">
            <a:hlinkClick r:id="rId7" action="ppaction://hlinksldjump"/>
          </p:cNvPr>
          <p:cNvSpPr/>
          <p:nvPr/>
        </p:nvSpPr>
        <p:spPr>
          <a:xfrm>
            <a:off x="7380360" y="3573360"/>
            <a:ext cx="1299960" cy="100800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8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2">
            <a:hlinkClick r:id="rId9" action="ppaction://hlinksldjump"/>
          </p:cNvPr>
          <p:cNvSpPr/>
          <p:nvPr/>
        </p:nvSpPr>
        <p:spPr>
          <a:xfrm>
            <a:off x="7364520" y="1700280"/>
            <a:ext cx="13143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0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3">
            <a:hlinkClick r:id="rId11" action="ppaction://hlinksldjump"/>
          </p:cNvPr>
          <p:cNvSpPr/>
          <p:nvPr/>
        </p:nvSpPr>
        <p:spPr>
          <a:xfrm>
            <a:off x="7378560" y="2637000"/>
            <a:ext cx="130176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2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6">
            <a:hlinkClick r:id="rId13" action="ppaction://hlinksldjump"/>
          </p:cNvPr>
          <p:cNvSpPr/>
          <p:nvPr/>
        </p:nvSpPr>
        <p:spPr>
          <a:xfrm>
            <a:off x="5940360" y="3573360"/>
            <a:ext cx="1416240" cy="100800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4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7">
            <a:hlinkClick r:id="rId15" action="ppaction://hlinksldjump"/>
          </p:cNvPr>
          <p:cNvSpPr/>
          <p:nvPr/>
        </p:nvSpPr>
        <p:spPr>
          <a:xfrm>
            <a:off x="5924520" y="1700280"/>
            <a:ext cx="142884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6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8">
            <a:hlinkClick r:id="rId17" action="ppaction://hlinksldjump"/>
          </p:cNvPr>
          <p:cNvSpPr/>
          <p:nvPr/>
        </p:nvSpPr>
        <p:spPr>
          <a:xfrm>
            <a:off x="5940360" y="2637000"/>
            <a:ext cx="142884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527040" y="2852640"/>
            <a:ext cx="3816360" cy="459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0"/>
          <p:cNvSpPr/>
          <p:nvPr/>
        </p:nvSpPr>
        <p:spPr>
          <a:xfrm>
            <a:off x="523800" y="1844640"/>
            <a:ext cx="3816360" cy="459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р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3"/>
          <p:cNvSpPr/>
          <p:nvPr/>
        </p:nvSpPr>
        <p:spPr>
          <a:xfrm>
            <a:off x="611280" y="3652920"/>
            <a:ext cx="3744720" cy="764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тематические омони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4">
            <a:hlinkClick r:id="rId19" action="ppaction://hlinksldjump"/>
          </p:cNvPr>
          <p:cNvSpPr/>
          <p:nvPr/>
        </p:nvSpPr>
        <p:spPr>
          <a:xfrm rot="10800000">
            <a:off x="8566200" y="6270120"/>
            <a:ext cx="395280" cy="40500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5000"/>
              <a:gd name="textAreaBottom" fmla="*/ 379440 h 405000"/>
            </a:gdLst>
            <a:ahLst/>
            <a:rect l="textAreaLeft" t="textAreaTop" r="textAreaRight" b="textAreaBottom"/>
            <a:pathLst>
              <a:path w="21600" h="22131">
                <a:moveTo>
                  <a:pt x="0" y="0"/>
                </a:moveTo>
                <a:lnTo>
                  <a:pt x="21600" y="0"/>
                </a:lnTo>
                <a:lnTo>
                  <a:pt x="21600" y="22131"/>
                </a:lnTo>
                <a:lnTo>
                  <a:pt x="0" y="22131"/>
                </a:lnTo>
                <a:close/>
              </a:path>
              <a:path fill="lightenLess" w="21600" h="221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31">
                <a:moveTo>
                  <a:pt x="21600" y="0"/>
                </a:moveTo>
                <a:lnTo>
                  <a:pt x="21600" y="22131"/>
                </a:lnTo>
                <a:lnTo>
                  <a:pt x="20200" y="20731"/>
                </a:lnTo>
                <a:lnTo>
                  <a:pt x="20200" y="1400"/>
                </a:lnTo>
                <a:close/>
              </a:path>
              <a:path fill="darkenLess" w="21600" h="22131">
                <a:moveTo>
                  <a:pt x="21600" y="22131"/>
                </a:moveTo>
                <a:lnTo>
                  <a:pt x="0" y="22131"/>
                </a:lnTo>
                <a:lnTo>
                  <a:pt x="1400" y="20731"/>
                </a:lnTo>
                <a:lnTo>
                  <a:pt x="20200" y="20731"/>
                </a:lnTo>
                <a:close/>
              </a:path>
              <a:path fill="lighten" w="21600" h="22131">
                <a:moveTo>
                  <a:pt x="0" y="221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31"/>
                </a:lnTo>
                <a:close/>
              </a:path>
              <a:path fill="darken" w="21600" h="22131">
                <a:moveTo>
                  <a:pt x="3794" y="7758"/>
                </a:moveTo>
                <a:lnTo>
                  <a:pt x="7301" y="7758"/>
                </a:lnTo>
                <a:lnTo>
                  <a:pt x="7301" y="13093"/>
                </a:lnTo>
                <a:cubicBezTo>
                  <a:pt x="7301" y="14016"/>
                  <a:pt x="8102" y="14747"/>
                  <a:pt x="9138" y="14747"/>
                </a:cubicBezTo>
                <a:lnTo>
                  <a:pt x="10800" y="14747"/>
                </a:lnTo>
                <a:cubicBezTo>
                  <a:pt x="11836" y="14747"/>
                  <a:pt x="12636" y="14016"/>
                  <a:pt x="12636" y="13093"/>
                </a:cubicBezTo>
                <a:lnTo>
                  <a:pt x="12636" y="7758"/>
                </a:lnTo>
                <a:lnTo>
                  <a:pt x="10800" y="7758"/>
                </a:lnTo>
                <a:lnTo>
                  <a:pt x="14308" y="4250"/>
                </a:lnTo>
                <a:lnTo>
                  <a:pt x="17981" y="7758"/>
                </a:lnTo>
                <a:lnTo>
                  <a:pt x="16144" y="7758"/>
                </a:lnTo>
                <a:lnTo>
                  <a:pt x="16144" y="13093"/>
                </a:lnTo>
                <a:cubicBezTo>
                  <a:pt x="16144" y="15861"/>
                  <a:pt x="13568" y="18420"/>
                  <a:pt x="10800" y="18420"/>
                </a:cubicBezTo>
                <a:lnTo>
                  <a:pt x="9138" y="18420"/>
                </a:lnTo>
                <a:cubicBezTo>
                  <a:pt x="6370" y="18420"/>
                  <a:pt x="3794" y="15861"/>
                  <a:pt x="3794" y="13093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5">
            <a:hlinkClick r:id="rId20" action="ppaction://hlinksldjump"/>
          </p:cNvPr>
          <p:cNvSpPr/>
          <p:nvPr/>
        </p:nvSpPr>
        <p:spPr>
          <a:xfrm>
            <a:off x="179280" y="189000"/>
            <a:ext cx="2890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6">
            <a:hlinkClick r:id="rId21" action="ppaction://hlinksldjump"/>
          </p:cNvPr>
          <p:cNvSpPr/>
          <p:nvPr/>
        </p:nvSpPr>
        <p:spPr>
          <a:xfrm>
            <a:off x="468360" y="189000"/>
            <a:ext cx="2872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7">
            <a:hlinkClick r:id="rId22" action="ppaction://hlinksldjump"/>
          </p:cNvPr>
          <p:cNvSpPr/>
          <p:nvPr/>
        </p:nvSpPr>
        <p:spPr>
          <a:xfrm>
            <a:off x="755640" y="189000"/>
            <a:ext cx="2872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8">
            <a:hlinkClick r:id="rId23" action="ppaction://hlinksldjump"/>
          </p:cNvPr>
          <p:cNvSpPr/>
          <p:nvPr/>
        </p:nvSpPr>
        <p:spPr>
          <a:xfrm>
            <a:off x="1042920" y="189000"/>
            <a:ext cx="2872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3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2"/>
          <p:cNvSpPr/>
          <p:nvPr/>
        </p:nvSpPr>
        <p:spPr>
          <a:xfrm>
            <a:off x="468360" y="1484280"/>
            <a:ext cx="80643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ль в треугольнике угол пря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Я называюсь его сторо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укву последнюю мне поменят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уду, как ветер, вас по морю м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14"/>
          <p:cNvSpPr txBox="1"/>
          <p:nvPr/>
        </p:nvSpPr>
        <p:spPr>
          <a:xfrm>
            <a:off x="3203640" y="5013360"/>
            <a:ext cx="381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атет - катер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8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WordArt 9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1403280" y="1844640"/>
            <a:ext cx="460872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 глухим шипящи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ругл, как мяч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 звонки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ак огонь, горя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WordArt 13"/>
          <p:cNvSpPr txBox="1"/>
          <p:nvPr/>
        </p:nvSpPr>
        <p:spPr>
          <a:xfrm>
            <a:off x="3492360" y="4941720"/>
            <a:ext cx="288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Шар - жар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60" name="Rectangle 14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3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8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WordArt 9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0" name="Text Box 10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611280" y="2060640"/>
            <a:ext cx="80643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итаем мы направо смел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еометрическое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очтем же справа мы налево -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видим разновидность др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WordArt 13"/>
          <p:cNvSpPr txBox="1"/>
          <p:nvPr/>
        </p:nvSpPr>
        <p:spPr>
          <a:xfrm>
            <a:off x="4932360" y="5157720"/>
            <a:ext cx="23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уб - бук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73" name="Rectangle 14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6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?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12"/>
          <p:cNvGrpSpPr/>
          <p:nvPr/>
        </p:nvGrpSpPr>
        <p:grpSpPr>
          <a:xfrm>
            <a:off x="1187280" y="2491920"/>
            <a:ext cx="6048720" cy="2663640"/>
            <a:chOff x="1187280" y="2491920"/>
            <a:chExt cx="6048720" cy="2663640"/>
          </a:xfrm>
        </p:grpSpPr>
        <p:sp>
          <p:nvSpPr>
            <p:cNvPr id="386" name="AutoShape 13"/>
            <p:cNvSpPr/>
            <p:nvPr/>
          </p:nvSpPr>
          <p:spPr>
            <a:xfrm rot="10800000">
              <a:off x="1908000" y="2491560"/>
              <a:ext cx="4608720" cy="2663640"/>
            </a:xfrm>
            <a:prstGeom prst="wedgeEllipseCallout">
              <a:avLst>
                <a:gd name="adj1" fmla="val 4185"/>
                <a:gd name="adj2" fmla="val 6340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a50021"/>
                </a:gs>
                <a:gs pos="100000">
                  <a:srgbClr val="ff66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4"/>
            <p:cNvSpPr/>
            <p:nvPr/>
          </p:nvSpPr>
          <p:spPr>
            <a:xfrm>
              <a:off x="1187280" y="3211200"/>
              <a:ext cx="60487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Times New Roman"/>
                </a:rPr>
                <a:t>Вам попался кот в мешк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Times New Roman"/>
                </a:rPr>
                <a:t>Кому отдадите  вопрос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AutoShape 15">
            <a:hlinkClick r:id="" action="ppaction://hlinkshowjump?jump=nextslide"/>
          </p:cNvPr>
          <p:cNvSpPr/>
          <p:nvPr/>
        </p:nvSpPr>
        <p:spPr>
          <a:xfrm>
            <a:off x="8459640" y="6270480"/>
            <a:ext cx="540000" cy="40500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9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WordArt 14"/>
          <p:cNvSpPr txBox="1"/>
          <p:nvPr/>
        </p:nvSpPr>
        <p:spPr>
          <a:xfrm>
            <a:off x="3348000" y="4941720"/>
            <a:ext cx="489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крещивающихся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их прямых на плоскости не существует, а в пространстве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ни ес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8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3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?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611280" y="2205000"/>
            <a:ext cx="8064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колько музыкантов в квинте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4" descr="arg-5-25-trans-y"/>
          <p:cNvPicPr/>
          <p:nvPr/>
        </p:nvPicPr>
        <p:blipFill>
          <a:blip r:embed="rId2"/>
          <a:stretch/>
        </p:blipFill>
        <p:spPr>
          <a:xfrm>
            <a:off x="4859280" y="3573360"/>
            <a:ext cx="1679760" cy="208764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5">
            <a:hlinkClick r:id="rId3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16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?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611280" y="2205000"/>
            <a:ext cx="8064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 сколько градусов могут поворачивать голову сов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WordArt 14"/>
          <p:cNvSpPr txBox="1"/>
          <p:nvPr/>
        </p:nvSpPr>
        <p:spPr>
          <a:xfrm>
            <a:off x="6156360" y="4365720"/>
            <a:ext cx="14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270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27" name="WordArt 21"/>
          <p:cNvSpPr txBox="1"/>
          <p:nvPr/>
        </p:nvSpPr>
        <p:spPr>
          <a:xfrm>
            <a:off x="7667640" y="4292640"/>
            <a:ext cx="217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0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28" name="AutoShape 22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ие  ом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826920" y="2133720"/>
            <a:ext cx="756144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 только художник, но и линия, дающая наглядное представление о характере изменения функции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WordArt 17"/>
          <p:cNvSpPr txBox="1"/>
          <p:nvPr/>
        </p:nvSpPr>
        <p:spPr>
          <a:xfrm>
            <a:off x="5003640" y="4508640"/>
            <a:ext cx="2519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рафик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41" name="AutoShape 18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8"/>
          <p:cNvSpPr/>
          <p:nvPr/>
        </p:nvSpPr>
        <p:spPr>
          <a:xfrm>
            <a:off x="179280" y="79200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900000" y="1268280"/>
            <a:ext cx="73915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ой формы глазное яблоко 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ообразн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бическ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ическ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ирамидаль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4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3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468360" y="1700280"/>
            <a:ext cx="80643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 только звание, ранг, чин, но и цифровое или буквенное выражение, показывающее, сколько раз число (или величина) умножается само на себя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WordArt 14"/>
          <p:cNvSpPr txBox="1"/>
          <p:nvPr/>
        </p:nvSpPr>
        <p:spPr>
          <a:xfrm>
            <a:off x="5508720" y="4797360"/>
            <a:ext cx="2448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тепень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53" name="Rectangle 16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ие  ом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7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0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6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3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1403280" y="2133720"/>
            <a:ext cx="655344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е только углубление, пазуха, длинный замкнутый канал в анатомии, но и тригонометри-ческая функция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WordArt 14"/>
          <p:cNvSpPr txBox="1"/>
          <p:nvPr/>
        </p:nvSpPr>
        <p:spPr>
          <a:xfrm>
            <a:off x="5940360" y="4724280"/>
            <a:ext cx="1584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инус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66" name="Rectangle 16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ие  ом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7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9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9"/>
          <p:cNvSpPr/>
          <p:nvPr/>
        </p:nvSpPr>
        <p:spPr>
          <a:xfrm>
            <a:off x="395280" y="2060640"/>
            <a:ext cx="8497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ую форму имеет наша Галакт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ообразну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ральну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липтическ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0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1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9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,-52)"/>
                                      </p:to>
                                    </p:set>
                                    <p:set>
                                      <p:cBhvr>
                                        <p:cTn id="630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,-52)"/>
                                      </p:to>
                                    </p:set>
                                    <p:set>
                                      <p:cBhvr>
                                        <p:cTn id="631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9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611280" y="1916280"/>
            <a:ext cx="784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звание какого геометрического тела произошло от греческих слов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валик»,  «каток»?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лин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0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2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654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655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9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9"/>
          <p:cNvSpPr/>
          <p:nvPr/>
        </p:nvSpPr>
        <p:spPr>
          <a:xfrm>
            <a:off x="611280" y="1916280"/>
            <a:ext cx="78483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называют точку пересечения медиан треугольни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ои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урио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ифу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ав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0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2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683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684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9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Rectangle 7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611280" y="1916280"/>
            <a:ext cx="78483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называется наименьшее количество, наименьшая велич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юш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ютель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у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ксим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1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1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8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Rectangle 7"/>
          <p:cNvSpPr/>
          <p:nvPr/>
        </p:nvSpPr>
        <p:spPr>
          <a:xfrm>
            <a:off x="1042920" y="16200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8"/>
          <p:cNvSpPr/>
          <p:nvPr/>
        </p:nvSpPr>
        <p:spPr>
          <a:xfrm>
            <a:off x="179280" y="83664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0"/>
          <p:cNvSpPr/>
          <p:nvPr/>
        </p:nvSpPr>
        <p:spPr>
          <a:xfrm>
            <a:off x="455760" y="3747960"/>
            <a:ext cx="403200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1"/>
          <p:cNvSpPr/>
          <p:nvPr/>
        </p:nvSpPr>
        <p:spPr>
          <a:xfrm>
            <a:off x="455760" y="2811600"/>
            <a:ext cx="403200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2"/>
          <p:cNvSpPr/>
          <p:nvPr/>
        </p:nvSpPr>
        <p:spPr>
          <a:xfrm>
            <a:off x="455760" y="1947960"/>
            <a:ext cx="403200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4">
            <a:hlinkClick r:id="rId1" action="ppaction://hlinksldjump"/>
          </p:cNvPr>
          <p:cNvSpPr/>
          <p:nvPr/>
        </p:nvSpPr>
        <p:spPr>
          <a:xfrm>
            <a:off x="4500720" y="3747960"/>
            <a:ext cx="142848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5">
            <a:hlinkClick r:id="rId3" action="ppaction://hlinksldjump"/>
          </p:cNvPr>
          <p:cNvSpPr/>
          <p:nvPr/>
        </p:nvSpPr>
        <p:spPr>
          <a:xfrm>
            <a:off x="4487760" y="2811600"/>
            <a:ext cx="142884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4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6">
            <a:hlinkClick r:id="rId5" action="ppaction://hlinksldjump"/>
          </p:cNvPr>
          <p:cNvSpPr/>
          <p:nvPr/>
        </p:nvSpPr>
        <p:spPr>
          <a:xfrm>
            <a:off x="4487760" y="1947960"/>
            <a:ext cx="142884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6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8">
            <a:hlinkClick r:id="rId7" action="ppaction://hlinksldjump"/>
          </p:cNvPr>
          <p:cNvSpPr/>
          <p:nvPr/>
        </p:nvSpPr>
        <p:spPr>
          <a:xfrm>
            <a:off x="7378560" y="3747960"/>
            <a:ext cx="13017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8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9">
            <a:hlinkClick r:id="rId9" action="ppaction://hlinksldjump"/>
          </p:cNvPr>
          <p:cNvSpPr/>
          <p:nvPr/>
        </p:nvSpPr>
        <p:spPr>
          <a:xfrm>
            <a:off x="7367760" y="2811600"/>
            <a:ext cx="131436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0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20">
            <a:hlinkClick r:id="rId11" action="ppaction://hlinksldjump"/>
          </p:cNvPr>
          <p:cNvSpPr/>
          <p:nvPr/>
        </p:nvSpPr>
        <p:spPr>
          <a:xfrm>
            <a:off x="7378560" y="1947960"/>
            <a:ext cx="130176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2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2">
            <a:hlinkClick r:id="rId13" action="ppaction://hlinksldjump"/>
          </p:cNvPr>
          <p:cNvSpPr/>
          <p:nvPr/>
        </p:nvSpPr>
        <p:spPr>
          <a:xfrm>
            <a:off x="5927760" y="3747960"/>
            <a:ext cx="142884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4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3">
            <a:hlinkClick r:id="rId15" action="ppaction://hlinksldjump"/>
          </p:cNvPr>
          <p:cNvSpPr/>
          <p:nvPr/>
        </p:nvSpPr>
        <p:spPr>
          <a:xfrm>
            <a:off x="5927760" y="2811600"/>
            <a:ext cx="142884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6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4">
            <a:hlinkClick r:id="rId17" action="ppaction://hlinksldjump"/>
          </p:cNvPr>
          <p:cNvSpPr/>
          <p:nvPr/>
        </p:nvSpPr>
        <p:spPr>
          <a:xfrm>
            <a:off x="5940360" y="1947960"/>
            <a:ext cx="142884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5"/>
          <p:cNvSpPr/>
          <p:nvPr/>
        </p:nvSpPr>
        <p:spPr>
          <a:xfrm>
            <a:off x="527040" y="2163600"/>
            <a:ext cx="3816360" cy="459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6"/>
          <p:cNvSpPr/>
          <p:nvPr/>
        </p:nvSpPr>
        <p:spPr>
          <a:xfrm>
            <a:off x="527040" y="2955960"/>
            <a:ext cx="3816360" cy="459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еянный мате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8"/>
          <p:cNvSpPr/>
          <p:nvPr/>
        </p:nvSpPr>
        <p:spPr>
          <a:xfrm>
            <a:off x="598320" y="3963960"/>
            <a:ext cx="3745080" cy="4291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ездесущая математ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29">
            <a:hlinkClick r:id="rId19" action="ppaction://hlinksldjump"/>
          </p:cNvPr>
          <p:cNvSpPr/>
          <p:nvPr/>
        </p:nvSpPr>
        <p:spPr>
          <a:xfrm rot="10800000">
            <a:off x="8566200" y="6270120"/>
            <a:ext cx="395280" cy="40500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5000"/>
              <a:gd name="textAreaBottom" fmla="*/ 379440 h 405000"/>
            </a:gdLst>
            <a:ahLst/>
            <a:rect l="textAreaLeft" t="textAreaTop" r="textAreaRight" b="textAreaBottom"/>
            <a:pathLst>
              <a:path w="21600" h="22131">
                <a:moveTo>
                  <a:pt x="0" y="0"/>
                </a:moveTo>
                <a:lnTo>
                  <a:pt x="21600" y="0"/>
                </a:lnTo>
                <a:lnTo>
                  <a:pt x="21600" y="22131"/>
                </a:lnTo>
                <a:lnTo>
                  <a:pt x="0" y="22131"/>
                </a:lnTo>
                <a:close/>
              </a:path>
              <a:path fill="lightenLess" w="21600" h="221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31">
                <a:moveTo>
                  <a:pt x="21600" y="0"/>
                </a:moveTo>
                <a:lnTo>
                  <a:pt x="21600" y="22131"/>
                </a:lnTo>
                <a:lnTo>
                  <a:pt x="20200" y="20731"/>
                </a:lnTo>
                <a:lnTo>
                  <a:pt x="20200" y="1400"/>
                </a:lnTo>
                <a:close/>
              </a:path>
              <a:path fill="darkenLess" w="21600" h="22131">
                <a:moveTo>
                  <a:pt x="21600" y="22131"/>
                </a:moveTo>
                <a:lnTo>
                  <a:pt x="0" y="22131"/>
                </a:lnTo>
                <a:lnTo>
                  <a:pt x="1400" y="20731"/>
                </a:lnTo>
                <a:lnTo>
                  <a:pt x="20200" y="20731"/>
                </a:lnTo>
                <a:close/>
              </a:path>
              <a:path fill="lighten" w="21600" h="22131">
                <a:moveTo>
                  <a:pt x="0" y="221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31"/>
                </a:lnTo>
                <a:close/>
              </a:path>
              <a:path fill="darken" w="21600" h="22131">
                <a:moveTo>
                  <a:pt x="3794" y="7758"/>
                </a:moveTo>
                <a:lnTo>
                  <a:pt x="7301" y="7758"/>
                </a:lnTo>
                <a:lnTo>
                  <a:pt x="7301" y="13093"/>
                </a:lnTo>
                <a:cubicBezTo>
                  <a:pt x="7301" y="14016"/>
                  <a:pt x="8102" y="14747"/>
                  <a:pt x="9138" y="14747"/>
                </a:cubicBezTo>
                <a:lnTo>
                  <a:pt x="10800" y="14747"/>
                </a:lnTo>
                <a:cubicBezTo>
                  <a:pt x="11836" y="14747"/>
                  <a:pt x="12636" y="14016"/>
                  <a:pt x="12636" y="13093"/>
                </a:cubicBezTo>
                <a:lnTo>
                  <a:pt x="12636" y="7758"/>
                </a:lnTo>
                <a:lnTo>
                  <a:pt x="10800" y="7758"/>
                </a:lnTo>
                <a:lnTo>
                  <a:pt x="14308" y="4250"/>
                </a:lnTo>
                <a:lnTo>
                  <a:pt x="17981" y="7758"/>
                </a:lnTo>
                <a:lnTo>
                  <a:pt x="16144" y="7758"/>
                </a:lnTo>
                <a:lnTo>
                  <a:pt x="16144" y="13093"/>
                </a:lnTo>
                <a:cubicBezTo>
                  <a:pt x="16144" y="15861"/>
                  <a:pt x="13568" y="18420"/>
                  <a:pt x="10800" y="18420"/>
                </a:cubicBezTo>
                <a:lnTo>
                  <a:pt x="9138" y="18420"/>
                </a:lnTo>
                <a:cubicBezTo>
                  <a:pt x="6370" y="18420"/>
                  <a:pt x="3794" y="15861"/>
                  <a:pt x="3794" y="13093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0">
            <a:hlinkClick r:id="rId20" action="ppaction://hlinksldjump"/>
          </p:cNvPr>
          <p:cNvSpPr/>
          <p:nvPr/>
        </p:nvSpPr>
        <p:spPr>
          <a:xfrm>
            <a:off x="179280" y="189000"/>
            <a:ext cx="2890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1">
            <a:hlinkClick r:id="rId21" action="ppaction://hlinksldjump"/>
          </p:cNvPr>
          <p:cNvSpPr/>
          <p:nvPr/>
        </p:nvSpPr>
        <p:spPr>
          <a:xfrm>
            <a:off x="468360" y="189000"/>
            <a:ext cx="2872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2">
            <a:hlinkClick r:id="rId22" action="ppaction://hlinksldjump"/>
          </p:cNvPr>
          <p:cNvSpPr/>
          <p:nvPr/>
        </p:nvSpPr>
        <p:spPr>
          <a:xfrm>
            <a:off x="755640" y="189000"/>
            <a:ext cx="2872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3">
            <a:hlinkClick r:id="rId23" action="ppaction://hlinksldjump"/>
          </p:cNvPr>
          <p:cNvSpPr/>
          <p:nvPr/>
        </p:nvSpPr>
        <p:spPr>
          <a:xfrm>
            <a:off x="1042920" y="189000"/>
            <a:ext cx="2872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5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1258920" y="189000"/>
            <a:ext cx="5905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бусы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WordArt 14"/>
          <p:cNvSpPr txBox="1"/>
          <p:nvPr/>
        </p:nvSpPr>
        <p:spPr>
          <a:xfrm>
            <a:off x="3851280" y="5373720"/>
            <a:ext cx="158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Угол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46" name="Picture 15" descr="rebus_3"/>
          <p:cNvPicPr/>
          <p:nvPr/>
        </p:nvPicPr>
        <p:blipFill>
          <a:blip r:embed="rId3"/>
          <a:stretch/>
        </p:blipFill>
        <p:spPr>
          <a:xfrm>
            <a:off x="395280" y="1628640"/>
            <a:ext cx="82090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8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WordArt 14"/>
          <p:cNvSpPr txBox="1"/>
          <p:nvPr/>
        </p:nvSpPr>
        <p:spPr>
          <a:xfrm>
            <a:off x="2987640" y="522936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Диаметр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57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6"/>
          <p:cNvSpPr/>
          <p:nvPr/>
        </p:nvSpPr>
        <p:spPr>
          <a:xfrm>
            <a:off x="1979640" y="189000"/>
            <a:ext cx="5040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бусы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17" descr="rebus_32"/>
          <p:cNvPicPr/>
          <p:nvPr/>
        </p:nvPicPr>
        <p:blipFill>
          <a:blip r:embed="rId3"/>
          <a:stretch/>
        </p:blipFill>
        <p:spPr>
          <a:xfrm>
            <a:off x="611280" y="1557360"/>
            <a:ext cx="79581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6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7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бусы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8" descr="rebus_8"/>
          <p:cNvPicPr/>
          <p:nvPr/>
        </p:nvPicPr>
        <p:blipFill>
          <a:blip r:embed="rId3"/>
          <a:stretch/>
        </p:blipFill>
        <p:spPr>
          <a:xfrm>
            <a:off x="395280" y="1700280"/>
            <a:ext cx="8424720" cy="2973240"/>
          </a:xfrm>
          <a:prstGeom prst="rect">
            <a:avLst/>
          </a:prstGeom>
          <a:ln w="0">
            <a:noFill/>
          </a:ln>
        </p:spPr>
      </p:pic>
      <p:sp>
        <p:nvSpPr>
          <p:cNvPr id="572" name="WordArt 19"/>
          <p:cNvSpPr txBox="1"/>
          <p:nvPr/>
        </p:nvSpPr>
        <p:spPr>
          <a:xfrm>
            <a:off x="2916360" y="5229360"/>
            <a:ext cx="403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Лобачевский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468360" y="1413000"/>
            <a:ext cx="79912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ова сумма  числа вершин и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бер куб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1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4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8"/>
          <p:cNvSpPr/>
          <p:nvPr/>
        </p:nvSpPr>
        <p:spPr>
          <a:xfrm>
            <a:off x="1116000" y="189000"/>
            <a:ext cx="6048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еянный математик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2"/>
          <p:cNvSpPr/>
          <p:nvPr/>
        </p:nvSpPr>
        <p:spPr>
          <a:xfrm>
            <a:off x="611280" y="2205000"/>
            <a:ext cx="80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Хотел написать главное занятие врачей, а получился разрез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WordArt 14"/>
          <p:cNvSpPr txBox="1"/>
          <p:nvPr/>
        </p:nvSpPr>
        <p:spPr>
          <a:xfrm>
            <a:off x="2987640" y="4941720"/>
            <a:ext cx="4608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Лечение - сечение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85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0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2"/>
          <p:cNvSpPr/>
          <p:nvPr/>
        </p:nvSpPr>
        <p:spPr>
          <a:xfrm>
            <a:off x="395280" y="1916280"/>
            <a:ext cx="8352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Хотел написать  название зимнего христианского праздника,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 получилось равенство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WordArt 14"/>
          <p:cNvSpPr txBox="1"/>
          <p:nvPr/>
        </p:nvSpPr>
        <p:spPr>
          <a:xfrm>
            <a:off x="2195640" y="5013360"/>
            <a:ext cx="59054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ождество - тождество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97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6"/>
          <p:cNvSpPr/>
          <p:nvPr/>
        </p:nvSpPr>
        <p:spPr>
          <a:xfrm>
            <a:off x="1116000" y="189000"/>
            <a:ext cx="6048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еянный математик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0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7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539640" y="2349360"/>
            <a:ext cx="80647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Хотел написать название вознаграждения в коммерции, а получилось геометрическое тело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WordArt 14"/>
          <p:cNvSpPr txBox="1"/>
          <p:nvPr/>
        </p:nvSpPr>
        <p:spPr>
          <a:xfrm>
            <a:off x="3132000" y="5013360"/>
            <a:ext cx="302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Бонус - конус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10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6"/>
          <p:cNvSpPr/>
          <p:nvPr/>
        </p:nvSpPr>
        <p:spPr>
          <a:xfrm>
            <a:off x="1332000" y="260280"/>
            <a:ext cx="6048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еянный математик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0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3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1187280" y="189000"/>
            <a:ext cx="59770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здесущая математика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1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д каким предприятием можно увидеть вывеску с надписью «сто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WordArt 14"/>
          <p:cNvSpPr txBox="1"/>
          <p:nvPr/>
        </p:nvSpPr>
        <p:spPr>
          <a:xfrm>
            <a:off x="2556000" y="4581360"/>
            <a:ext cx="525600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танция  технического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обслуживания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24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0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6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3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2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12"/>
          <p:cNvGrpSpPr/>
          <p:nvPr/>
        </p:nvGrpSpPr>
        <p:grpSpPr>
          <a:xfrm>
            <a:off x="1187280" y="2491920"/>
            <a:ext cx="6048720" cy="2663640"/>
            <a:chOff x="1187280" y="2491920"/>
            <a:chExt cx="6048720" cy="2663640"/>
          </a:xfrm>
        </p:grpSpPr>
        <p:sp>
          <p:nvSpPr>
            <p:cNvPr id="635" name="AutoShape 13"/>
            <p:cNvSpPr/>
            <p:nvPr/>
          </p:nvSpPr>
          <p:spPr>
            <a:xfrm rot="10800000">
              <a:off x="1908000" y="2491560"/>
              <a:ext cx="4608720" cy="2663640"/>
            </a:xfrm>
            <a:prstGeom prst="wedgeEllipseCallout">
              <a:avLst>
                <a:gd name="adj1" fmla="val 4185"/>
                <a:gd name="adj2" fmla="val 6340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a50021"/>
                </a:gs>
                <a:gs pos="100000">
                  <a:srgbClr val="ff66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14"/>
            <p:cNvSpPr/>
            <p:nvPr/>
          </p:nvSpPr>
          <p:spPr>
            <a:xfrm>
              <a:off x="1187280" y="3211200"/>
              <a:ext cx="60487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Times New Roman"/>
                </a:rPr>
                <a:t>Вам попался кот в мешк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Times New Roman"/>
                </a:rPr>
                <a:t>Кому отдадите  вопрос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AutoShape 15">
            <a:hlinkClick r:id="" action="ppaction://hlinkshowjump?jump=nextslide"/>
          </p:cNvPr>
          <p:cNvSpPr/>
          <p:nvPr/>
        </p:nvSpPr>
        <p:spPr>
          <a:xfrm>
            <a:off x="8459640" y="6270480"/>
            <a:ext cx="540000" cy="40500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6"/>
          <p:cNvSpPr/>
          <p:nvPr/>
        </p:nvSpPr>
        <p:spPr>
          <a:xfrm>
            <a:off x="1187280" y="189000"/>
            <a:ext cx="59770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здесущая математика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4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есное  сложение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евческий коллектив +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+ Положительный ответ =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= Отрезок в окружности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WordArt 14"/>
          <p:cNvSpPr txBox="1"/>
          <p:nvPr/>
        </p:nvSpPr>
        <p:spPr>
          <a:xfrm>
            <a:off x="3132000" y="4797360"/>
            <a:ext cx="43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Хор + Да  = Хорд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51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0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3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0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3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2"/>
          <p:cNvSpPr/>
          <p:nvPr/>
        </p:nvSpPr>
        <p:spPr>
          <a:xfrm>
            <a:off x="324000" y="2060640"/>
            <a:ext cx="8497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акими единицами массы можно расплачиваться за покупки?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5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6"/>
          <p:cNvSpPr/>
          <p:nvPr/>
        </p:nvSpPr>
        <p:spPr>
          <a:xfrm>
            <a:off x="1187280" y="189000"/>
            <a:ext cx="59770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здесущая математика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WordArt 17"/>
          <p:cNvSpPr txBox="1"/>
          <p:nvPr/>
        </p:nvSpPr>
        <p:spPr>
          <a:xfrm>
            <a:off x="3059280" y="465300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унтами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66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5"/>
          <p:cNvSpPr/>
          <p:nvPr/>
        </p:nvSpPr>
        <p:spPr>
          <a:xfrm>
            <a:off x="1187280" y="26028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Расшифровка»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6"/>
          <p:cNvSpPr/>
          <p:nvPr/>
        </p:nvSpPr>
        <p:spPr>
          <a:xfrm>
            <a:off x="528120" y="2038320"/>
            <a:ext cx="81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Л;      ТУ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,14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ЦА;    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0:2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А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32">
            <a:hlinkClick r:id="" action="ppaction://hlinkshowjump?jump=nextslide"/>
          </p:cNvPr>
          <p:cNvSpPr/>
          <p:nvPr/>
        </p:nvSpPr>
        <p:spPr>
          <a:xfrm>
            <a:off x="8459640" y="6270480"/>
            <a:ext cx="540000" cy="40500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WordArt 33"/>
          <p:cNvSpPr txBox="1"/>
          <p:nvPr/>
        </p:nvSpPr>
        <p:spPr>
          <a:xfrm>
            <a:off x="395280" y="3500280"/>
            <a:ext cx="201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о два л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75" name="WordArt 34"/>
          <p:cNvSpPr txBox="1"/>
          <p:nvPr/>
        </p:nvSpPr>
        <p:spPr>
          <a:xfrm>
            <a:off x="3419640" y="3573360"/>
            <a:ext cx="230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ту пи ц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76" name="WordArt 35"/>
          <p:cNvSpPr txBox="1"/>
          <p:nvPr/>
        </p:nvSpPr>
        <p:spPr>
          <a:xfrm>
            <a:off x="6659640" y="3500280"/>
            <a:ext cx="1800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орок 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8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Rectangle 7"/>
          <p:cNvSpPr/>
          <p:nvPr/>
        </p:nvSpPr>
        <p:spPr>
          <a:xfrm>
            <a:off x="1042920" y="16200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8"/>
          <p:cNvSpPr/>
          <p:nvPr/>
        </p:nvSpPr>
        <p:spPr>
          <a:xfrm>
            <a:off x="179280" y="83664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10"/>
          <p:cNvSpPr/>
          <p:nvPr/>
        </p:nvSpPr>
        <p:spPr>
          <a:xfrm>
            <a:off x="395280" y="3789360"/>
            <a:ext cx="40323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1"/>
          <p:cNvSpPr/>
          <p:nvPr/>
        </p:nvSpPr>
        <p:spPr>
          <a:xfrm>
            <a:off x="395280" y="2852640"/>
            <a:ext cx="40323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12"/>
          <p:cNvSpPr/>
          <p:nvPr/>
        </p:nvSpPr>
        <p:spPr>
          <a:xfrm>
            <a:off x="395280" y="1989000"/>
            <a:ext cx="40323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14">
            <a:hlinkClick r:id="rId1" action="ppaction://hlinksldjump"/>
          </p:cNvPr>
          <p:cNvSpPr/>
          <p:nvPr/>
        </p:nvSpPr>
        <p:spPr>
          <a:xfrm>
            <a:off x="4440240" y="3789360"/>
            <a:ext cx="142884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15">
            <a:hlinkClick r:id="rId3" action="ppaction://hlinksldjump"/>
          </p:cNvPr>
          <p:cNvSpPr/>
          <p:nvPr/>
        </p:nvSpPr>
        <p:spPr>
          <a:xfrm>
            <a:off x="4427640" y="2852640"/>
            <a:ext cx="142848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4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6">
            <a:hlinkClick r:id="rId5" action="ppaction://hlinksldjump"/>
          </p:cNvPr>
          <p:cNvSpPr/>
          <p:nvPr/>
        </p:nvSpPr>
        <p:spPr>
          <a:xfrm>
            <a:off x="4427640" y="1989000"/>
            <a:ext cx="142848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6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8">
            <a:hlinkClick r:id="rId7" action="ppaction://hlinksldjump"/>
          </p:cNvPr>
          <p:cNvSpPr/>
          <p:nvPr/>
        </p:nvSpPr>
        <p:spPr>
          <a:xfrm>
            <a:off x="7318440" y="3789360"/>
            <a:ext cx="13017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8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9">
            <a:hlinkClick r:id="rId9" action="ppaction://hlinksldjump"/>
          </p:cNvPr>
          <p:cNvSpPr/>
          <p:nvPr/>
        </p:nvSpPr>
        <p:spPr>
          <a:xfrm>
            <a:off x="7307280" y="2852640"/>
            <a:ext cx="13143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0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20"/>
          <p:cNvSpPr/>
          <p:nvPr/>
        </p:nvSpPr>
        <p:spPr>
          <a:xfrm>
            <a:off x="7318440" y="1989000"/>
            <a:ext cx="13017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1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22"/>
          <p:cNvSpPr/>
          <p:nvPr/>
        </p:nvSpPr>
        <p:spPr>
          <a:xfrm>
            <a:off x="5867280" y="3789360"/>
            <a:ext cx="142884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23"/>
          <p:cNvSpPr/>
          <p:nvPr/>
        </p:nvSpPr>
        <p:spPr>
          <a:xfrm>
            <a:off x="5867280" y="2852640"/>
            <a:ext cx="142884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24"/>
          <p:cNvSpPr/>
          <p:nvPr/>
        </p:nvSpPr>
        <p:spPr>
          <a:xfrm>
            <a:off x="5880240" y="1989000"/>
            <a:ext cx="142848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5"/>
          <p:cNvSpPr/>
          <p:nvPr/>
        </p:nvSpPr>
        <p:spPr>
          <a:xfrm>
            <a:off x="466560" y="2205000"/>
            <a:ext cx="3816360" cy="459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есное 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6"/>
          <p:cNvSpPr/>
          <p:nvPr/>
        </p:nvSpPr>
        <p:spPr>
          <a:xfrm>
            <a:off x="466560" y="2997360"/>
            <a:ext cx="3816360" cy="459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а в ли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8"/>
          <p:cNvSpPr/>
          <p:nvPr/>
        </p:nvSpPr>
        <p:spPr>
          <a:xfrm>
            <a:off x="552600" y="4003560"/>
            <a:ext cx="3744720" cy="459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им словом - фр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29"/>
          <p:cNvSpPr/>
          <p:nvPr/>
        </p:nvSpPr>
        <p:spPr>
          <a:xfrm rot="10800000">
            <a:off x="8566200" y="6270120"/>
            <a:ext cx="395280" cy="40500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5000"/>
              <a:gd name="textAreaBottom" fmla="*/ 379440 h 405000"/>
            </a:gdLst>
            <a:ahLst/>
            <a:rect l="textAreaLeft" t="textAreaTop" r="textAreaRight" b="textAreaBottom"/>
            <a:pathLst>
              <a:path w="21600" h="22131">
                <a:moveTo>
                  <a:pt x="0" y="0"/>
                </a:moveTo>
                <a:lnTo>
                  <a:pt x="21600" y="0"/>
                </a:lnTo>
                <a:lnTo>
                  <a:pt x="21600" y="22131"/>
                </a:lnTo>
                <a:lnTo>
                  <a:pt x="0" y="22131"/>
                </a:lnTo>
                <a:close/>
              </a:path>
              <a:path fill="lightenLess" w="21600" h="221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31">
                <a:moveTo>
                  <a:pt x="21600" y="0"/>
                </a:moveTo>
                <a:lnTo>
                  <a:pt x="21600" y="22131"/>
                </a:lnTo>
                <a:lnTo>
                  <a:pt x="20200" y="20731"/>
                </a:lnTo>
                <a:lnTo>
                  <a:pt x="20200" y="1400"/>
                </a:lnTo>
                <a:close/>
              </a:path>
              <a:path fill="darkenLess" w="21600" h="22131">
                <a:moveTo>
                  <a:pt x="21600" y="22131"/>
                </a:moveTo>
                <a:lnTo>
                  <a:pt x="0" y="22131"/>
                </a:lnTo>
                <a:lnTo>
                  <a:pt x="1400" y="20731"/>
                </a:lnTo>
                <a:lnTo>
                  <a:pt x="20200" y="20731"/>
                </a:lnTo>
                <a:close/>
              </a:path>
              <a:path fill="lighten" w="21600" h="22131">
                <a:moveTo>
                  <a:pt x="0" y="221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31"/>
                </a:lnTo>
                <a:close/>
              </a:path>
              <a:path fill="darken" w="21600" h="22131">
                <a:moveTo>
                  <a:pt x="3794" y="7758"/>
                </a:moveTo>
                <a:lnTo>
                  <a:pt x="7301" y="7758"/>
                </a:lnTo>
                <a:lnTo>
                  <a:pt x="7301" y="13093"/>
                </a:lnTo>
                <a:cubicBezTo>
                  <a:pt x="7301" y="14016"/>
                  <a:pt x="8102" y="14747"/>
                  <a:pt x="9138" y="14747"/>
                </a:cubicBezTo>
                <a:lnTo>
                  <a:pt x="10800" y="14747"/>
                </a:lnTo>
                <a:cubicBezTo>
                  <a:pt x="11836" y="14747"/>
                  <a:pt x="12636" y="14016"/>
                  <a:pt x="12636" y="13093"/>
                </a:cubicBezTo>
                <a:lnTo>
                  <a:pt x="12636" y="7758"/>
                </a:lnTo>
                <a:lnTo>
                  <a:pt x="10800" y="7758"/>
                </a:lnTo>
                <a:lnTo>
                  <a:pt x="14308" y="4250"/>
                </a:lnTo>
                <a:lnTo>
                  <a:pt x="17981" y="7758"/>
                </a:lnTo>
                <a:lnTo>
                  <a:pt x="16144" y="7758"/>
                </a:lnTo>
                <a:lnTo>
                  <a:pt x="16144" y="13093"/>
                </a:lnTo>
                <a:cubicBezTo>
                  <a:pt x="16144" y="15861"/>
                  <a:pt x="13568" y="18420"/>
                  <a:pt x="10800" y="18420"/>
                </a:cubicBezTo>
                <a:lnTo>
                  <a:pt x="9138" y="18420"/>
                </a:lnTo>
                <a:cubicBezTo>
                  <a:pt x="6370" y="18420"/>
                  <a:pt x="3794" y="15861"/>
                  <a:pt x="3794" y="13093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0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8"/>
          <p:cNvSpPr/>
          <p:nvPr/>
        </p:nvSpPr>
        <p:spPr>
          <a:xfrm>
            <a:off x="971640" y="189000"/>
            <a:ext cx="61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есное сложение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9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2"/>
          <p:cNvSpPr/>
          <p:nvPr/>
        </p:nvSpPr>
        <p:spPr>
          <a:xfrm>
            <a:off x="611280" y="2205000"/>
            <a:ext cx="80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ота + Множество деревьев =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= Древнегреческий математик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WordArt 14"/>
          <p:cNvSpPr txBox="1"/>
          <p:nvPr/>
        </p:nvSpPr>
        <p:spPr>
          <a:xfrm>
            <a:off x="2771640" y="4941720"/>
            <a:ext cx="388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а - Лес = Фалес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0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Line 8"/>
          <p:cNvSpPr/>
          <p:nvPr/>
        </p:nvSpPr>
        <p:spPr>
          <a:xfrm>
            <a:off x="179280" y="80316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395280" y="1773360"/>
            <a:ext cx="84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ой из четырёхуголь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 является параллелограмм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ямоуголь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пе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1">
            <a:hlinkClick r:id="rId1" action="ppaction://hlinksldjump"/>
          </p:cNvPr>
          <p:cNvSpPr/>
          <p:nvPr/>
        </p:nvSpPr>
        <p:spPr>
          <a:xfrm>
            <a:off x="179280" y="189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10800" y="5352"/>
                </a:moveTo>
                <a:lnTo>
                  <a:pt x="13376" y="7964"/>
                </a:ln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lnTo>
                  <a:pt x="17763" y="12315"/>
                </a:lnTo>
                <a:lnTo>
                  <a:pt x="16109" y="12315"/>
                </a:lnTo>
                <a:lnTo>
                  <a:pt x="16109" y="19505"/>
                </a:lnTo>
                <a:lnTo>
                  <a:pt x="5491" y="19505"/>
                </a:lnTo>
                <a:lnTo>
                  <a:pt x="5491" y="12315"/>
                </a:lnTo>
                <a:lnTo>
                  <a:pt x="3837" y="12315"/>
                </a:lnTo>
                <a:close/>
              </a:path>
              <a:path fill="darkenLess" w="21600" h="24631">
                <a:moveTo>
                  <a:pt x="13376" y="7964"/>
                </a:moveTo>
                <a:lnTo>
                  <a:pt x="13376" y="6223"/>
                </a:lnTo>
                <a:lnTo>
                  <a:pt x="15152" y="6223"/>
                </a:lnTo>
                <a:lnTo>
                  <a:pt x="15152" y="9739"/>
                </a:lnTo>
                <a:close/>
              </a:path>
              <a:path fill="darkenLess" w="21600" h="24631">
                <a:moveTo>
                  <a:pt x="9877" y="15814"/>
                </a:moveTo>
                <a:lnTo>
                  <a:pt x="11723" y="15814"/>
                </a:lnTo>
                <a:lnTo>
                  <a:pt x="11723" y="19505"/>
                </a:lnTo>
                <a:lnTo>
                  <a:pt x="16109" y="19505"/>
                </a:lnTo>
                <a:lnTo>
                  <a:pt x="16109" y="12315"/>
                </a:lnTo>
                <a:lnTo>
                  <a:pt x="5491" y="12315"/>
                </a:lnTo>
                <a:lnTo>
                  <a:pt x="5491" y="19505"/>
                </a:lnTo>
                <a:lnTo>
                  <a:pt x="9877" y="19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2">
            <a:hlinkClick r:id="" action="ppaction://hlinkshowjump?jump=nextslide"/>
          </p:cNvPr>
          <p:cNvSpPr/>
          <p:nvPr/>
        </p:nvSpPr>
        <p:spPr>
          <a:xfrm>
            <a:off x="8354880" y="6270480"/>
            <a:ext cx="611280" cy="40500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2592" h="21600">
                <a:moveTo>
                  <a:pt x="0" y="0"/>
                </a:moveTo>
                <a:lnTo>
                  <a:pt x="32592" y="0"/>
                </a:lnTo>
                <a:lnTo>
                  <a:pt x="32592" y="21600"/>
                </a:lnTo>
                <a:lnTo>
                  <a:pt x="0" y="21600"/>
                </a:lnTo>
                <a:close/>
              </a:path>
              <a:path fill="lightenLess" w="32592" h="21600">
                <a:moveTo>
                  <a:pt x="0" y="0"/>
                </a:moveTo>
                <a:lnTo>
                  <a:pt x="32592" y="0"/>
                </a:lnTo>
                <a:lnTo>
                  <a:pt x="31192" y="1400"/>
                </a:lnTo>
                <a:lnTo>
                  <a:pt x="1400" y="1400"/>
                </a:lnTo>
                <a:close/>
              </a:path>
              <a:path fill="darken" w="32592" h="21600">
                <a:moveTo>
                  <a:pt x="32592" y="0"/>
                </a:moveTo>
                <a:lnTo>
                  <a:pt x="32592" y="21600"/>
                </a:lnTo>
                <a:lnTo>
                  <a:pt x="31192" y="20200"/>
                </a:lnTo>
                <a:lnTo>
                  <a:pt x="31192" y="1400"/>
                </a:lnTo>
                <a:close/>
              </a:path>
              <a:path fill="darkenLess" w="32592" h="21600">
                <a:moveTo>
                  <a:pt x="32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2" y="20200"/>
                </a:lnTo>
                <a:close/>
              </a:path>
              <a:path fill="lighten" w="32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2" h="21600">
                <a:moveTo>
                  <a:pt x="9289" y="3794"/>
                </a:moveTo>
                <a:lnTo>
                  <a:pt x="23302" y="10800"/>
                </a:lnTo>
                <a:lnTo>
                  <a:pt x="92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1042920" y="11736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отборочный 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14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1" name="Text Box 11"/>
          <p:cNvSpPr/>
          <p:nvPr/>
        </p:nvSpPr>
        <p:spPr>
          <a:xfrm>
            <a:off x="7020000" y="54936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539640" y="1916280"/>
            <a:ext cx="80647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толетие + Математический бублик = = Отрезок определенной длины и направлени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WordArt 14"/>
          <p:cNvSpPr txBox="1"/>
          <p:nvPr/>
        </p:nvSpPr>
        <p:spPr>
          <a:xfrm>
            <a:off x="2340000" y="4724280"/>
            <a:ext cx="4753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Век + Тор = Вектор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725" name="Rectangle 16"/>
          <p:cNvSpPr/>
          <p:nvPr/>
        </p:nvSpPr>
        <p:spPr>
          <a:xfrm>
            <a:off x="971640" y="189000"/>
            <a:ext cx="61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есное сложение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0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2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4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Group 12"/>
          <p:cNvGrpSpPr/>
          <p:nvPr/>
        </p:nvGrpSpPr>
        <p:grpSpPr>
          <a:xfrm>
            <a:off x="1187280" y="2491920"/>
            <a:ext cx="6048720" cy="2663640"/>
            <a:chOff x="1187280" y="2491920"/>
            <a:chExt cx="6048720" cy="2663640"/>
          </a:xfrm>
        </p:grpSpPr>
        <p:sp>
          <p:nvSpPr>
            <p:cNvPr id="736" name="AutoShape 13"/>
            <p:cNvSpPr/>
            <p:nvPr/>
          </p:nvSpPr>
          <p:spPr>
            <a:xfrm rot="10800000">
              <a:off x="1908000" y="2491560"/>
              <a:ext cx="4608720" cy="2663640"/>
            </a:xfrm>
            <a:prstGeom prst="wedgeEllipseCallout">
              <a:avLst>
                <a:gd name="adj1" fmla="val 4185"/>
                <a:gd name="adj2" fmla="val 6340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a50021"/>
                </a:gs>
                <a:gs pos="100000">
                  <a:srgbClr val="ff66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14"/>
            <p:cNvSpPr/>
            <p:nvPr/>
          </p:nvSpPr>
          <p:spPr>
            <a:xfrm>
              <a:off x="1187280" y="3211200"/>
              <a:ext cx="60487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Times New Roman"/>
                </a:rPr>
                <a:t>Вам попался кот в мешке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ff00"/>
                  </a:solidFill>
                  <a:latin typeface="Times New Roman"/>
                </a:rPr>
                <a:t>Кому отдадите  вопрос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AutoShape 15">
            <a:hlinkClick r:id="" action="ppaction://hlinkshowjump?jump=nextslide"/>
          </p:cNvPr>
          <p:cNvSpPr/>
          <p:nvPr/>
        </p:nvSpPr>
        <p:spPr>
          <a:xfrm>
            <a:off x="8459640" y="6270480"/>
            <a:ext cx="540000" cy="405000"/>
          </a:xfrm>
          <a:custGeom>
            <a:avLst/>
            <a:gdLst>
              <a:gd name="textAreaLeft" fmla="*/ 25920 w 540000"/>
              <a:gd name="textAreaRight" fmla="*/ 514080 w 540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6"/>
          <p:cNvSpPr/>
          <p:nvPr/>
        </p:nvSpPr>
        <p:spPr>
          <a:xfrm>
            <a:off x="971640" y="189000"/>
            <a:ext cx="61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есное сложение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0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4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ая ана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9" name="Text Box 11"/>
          <p:cNvSpPr/>
          <p:nvPr/>
        </p:nvSpPr>
        <p:spPr>
          <a:xfrm>
            <a:off x="7020000" y="54936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2"/>
          <p:cNvSpPr/>
          <p:nvPr/>
        </p:nvSpPr>
        <p:spPr>
          <a:xfrm>
            <a:off x="539640" y="1916280"/>
            <a:ext cx="806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Т +  САН + ГЕН    </a:t>
            </a:r>
            <a:r>
              <a:rPr b="1" lang="ru-RU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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тригонометрическая функция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WordArt 14"/>
          <p:cNvSpPr txBox="1"/>
          <p:nvPr/>
        </p:nvSpPr>
        <p:spPr>
          <a:xfrm>
            <a:off x="3276720" y="4365720"/>
            <a:ext cx="29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отангенс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0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54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8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ка в л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2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2"/>
          <p:cNvSpPr/>
          <p:nvPr/>
        </p:nvSpPr>
        <p:spPr>
          <a:xfrm>
            <a:off x="611280" y="1844640"/>
            <a:ext cx="82087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 какой науке Цицерон сказал: «Греки изучали её, чтобы познать мир, а римляне – чтобы измерять земельные участки»?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WordArt 14"/>
          <p:cNvSpPr txBox="1"/>
          <p:nvPr/>
        </p:nvSpPr>
        <p:spPr>
          <a:xfrm>
            <a:off x="3348000" y="5084640"/>
            <a:ext cx="324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О геометрии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0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4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2"/>
          <p:cNvSpPr/>
          <p:nvPr/>
        </p:nvSpPr>
        <p:spPr>
          <a:xfrm>
            <a:off x="611280" y="1844640"/>
            <a:ext cx="8064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му принадлежат эти строки: «Математику уже затем учить надо, что она ум в порядок приводит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WordArt 14"/>
          <p:cNvSpPr txBox="1"/>
          <p:nvPr/>
        </p:nvSpPr>
        <p:spPr>
          <a:xfrm>
            <a:off x="2268360" y="4941720"/>
            <a:ext cx="43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. В. Ломоносову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778" name="Rectangle 15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ка в л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0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80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7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2"/>
          <p:cNvSpPr/>
          <p:nvPr/>
        </p:nvSpPr>
        <p:spPr>
          <a:xfrm>
            <a:off x="611280" y="2205000"/>
            <a:ext cx="8064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то  в 15 книгах под общим  названием «Начала»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двел итог 300-летнему развитию греческой  математики?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WordArt 14"/>
          <p:cNvSpPr txBox="1"/>
          <p:nvPr/>
        </p:nvSpPr>
        <p:spPr>
          <a:xfrm>
            <a:off x="3564000" y="5300640"/>
            <a:ext cx="216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Евклид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791" name="Rectangle 15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ка в л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0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93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8"/>
          <p:cNvSpPr/>
          <p:nvPr/>
        </p:nvSpPr>
        <p:spPr>
          <a:xfrm>
            <a:off x="1187280" y="189000"/>
            <a:ext cx="59770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им словом - фразу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1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Третья степень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ервой буквы алфавита» - 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государство в Америке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WordArt 14"/>
          <p:cNvSpPr txBox="1"/>
          <p:nvPr/>
        </p:nvSpPr>
        <p:spPr>
          <a:xfrm>
            <a:off x="2340000" y="5013360"/>
            <a:ext cx="53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уб - а     Куба  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05" name="Rectangle 15"/>
          <p:cNvSpPr/>
          <p:nvPr/>
        </p:nvSpPr>
        <p:spPr>
          <a:xfrm>
            <a:off x="5067000" y="4949280"/>
            <a:ext cx="5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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0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0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14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Гектар, на котором ничего не выросло» -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аркотик из индийской конопли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WordArt 14"/>
          <p:cNvSpPr txBox="1"/>
          <p:nvPr/>
        </p:nvSpPr>
        <p:spPr>
          <a:xfrm>
            <a:off x="1763640" y="5229360"/>
            <a:ext cx="5904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а - шиш       Гашиш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18" name="Rectangle 17"/>
          <p:cNvSpPr/>
          <p:nvPr/>
        </p:nvSpPr>
        <p:spPr>
          <a:xfrm>
            <a:off x="1187280" y="189000"/>
            <a:ext cx="59770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им словом - фразу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8"/>
          <p:cNvSpPr/>
          <p:nvPr/>
        </p:nvSpPr>
        <p:spPr>
          <a:xfrm>
            <a:off x="4851000" y="5228640"/>
            <a:ext cx="5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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0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1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8" name="Text Box 11"/>
          <p:cNvSpPr/>
          <p:nvPr/>
        </p:nvSpPr>
        <p:spPr>
          <a:xfrm>
            <a:off x="7093080" y="5493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фи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2"/>
          <p:cNvSpPr/>
          <p:nvPr/>
        </p:nvSpPr>
        <p:spPr>
          <a:xfrm>
            <a:off x="611280" y="2205000"/>
            <a:ext cx="8064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Танцевальное движение единицы объема» -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нструментарий живописца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13"/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WordArt 14"/>
          <p:cNvSpPr txBox="1"/>
          <p:nvPr/>
        </p:nvSpPr>
        <p:spPr>
          <a:xfrm>
            <a:off x="1763640" y="5084640"/>
            <a:ext cx="597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а - литра      Палитр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32" name="Rectangle 17"/>
          <p:cNvSpPr/>
          <p:nvPr/>
        </p:nvSpPr>
        <p:spPr>
          <a:xfrm>
            <a:off x="1187280" y="189000"/>
            <a:ext cx="59770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им словом - фразу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18"/>
          <p:cNvSpPr/>
          <p:nvPr/>
        </p:nvSpPr>
        <p:spPr>
          <a:xfrm>
            <a:off x="4777920" y="5012640"/>
            <a:ext cx="5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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5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WordArt 14"/>
          <p:cNvSpPr txBox="1"/>
          <p:nvPr/>
        </p:nvSpPr>
        <p:spPr>
          <a:xfrm>
            <a:off x="1332000" y="476280"/>
            <a:ext cx="6840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бед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0" name="Picture 16" descr="stars"/>
          <p:cNvPicPr/>
          <p:nvPr/>
        </p:nvPicPr>
        <p:blipFill>
          <a:blip r:embed="rId1"/>
          <a:stretch/>
        </p:blipFill>
        <p:spPr>
          <a:xfrm>
            <a:off x="3276720" y="2925720"/>
            <a:ext cx="2458800" cy="22766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17" descr="b1"/>
          <p:cNvPicPr/>
          <p:nvPr/>
        </p:nvPicPr>
        <p:blipFill>
          <a:blip r:embed="rId2"/>
          <a:stretch/>
        </p:blipFill>
        <p:spPr>
          <a:xfrm rot="1256400">
            <a:off x="5508360" y="3068640"/>
            <a:ext cx="1771560" cy="251928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18" descr="b1"/>
          <p:cNvPicPr/>
          <p:nvPr/>
        </p:nvPicPr>
        <p:blipFill>
          <a:blip r:embed="rId3"/>
          <a:stretch/>
        </p:blipFill>
        <p:spPr>
          <a:xfrm rot="20162400">
            <a:off x="1979640" y="3298680"/>
            <a:ext cx="17715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2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7"/>
          <p:cNvSpPr/>
          <p:nvPr/>
        </p:nvSpPr>
        <p:spPr>
          <a:xfrm>
            <a:off x="1042920" y="16200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>
            <a:off x="179280" y="83664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5"/>
          <p:cNvSpPr/>
          <p:nvPr/>
        </p:nvSpPr>
        <p:spPr>
          <a:xfrm>
            <a:off x="468360" y="3716280"/>
            <a:ext cx="40323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8"/>
          <p:cNvSpPr/>
          <p:nvPr/>
        </p:nvSpPr>
        <p:spPr>
          <a:xfrm>
            <a:off x="468360" y="2779560"/>
            <a:ext cx="40323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9"/>
          <p:cNvSpPr/>
          <p:nvPr/>
        </p:nvSpPr>
        <p:spPr>
          <a:xfrm>
            <a:off x="468360" y="1916280"/>
            <a:ext cx="4032360" cy="86508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0">
            <a:hlinkClick r:id="rId1" action="ppaction://hlinksldjump"/>
          </p:cNvPr>
          <p:cNvSpPr/>
          <p:nvPr/>
        </p:nvSpPr>
        <p:spPr>
          <a:xfrm>
            <a:off x="4513320" y="3716280"/>
            <a:ext cx="142884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3">
            <a:hlinkClick r:id="rId3" action="ppaction://hlinksldjump"/>
          </p:cNvPr>
          <p:cNvSpPr/>
          <p:nvPr/>
        </p:nvSpPr>
        <p:spPr>
          <a:xfrm>
            <a:off x="4500720" y="2779560"/>
            <a:ext cx="142848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4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4">
            <a:hlinkClick r:id="rId5" action="ppaction://hlinksldjump"/>
          </p:cNvPr>
          <p:cNvSpPr/>
          <p:nvPr/>
        </p:nvSpPr>
        <p:spPr>
          <a:xfrm>
            <a:off x="4500720" y="1916280"/>
            <a:ext cx="142848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6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5">
            <a:hlinkClick r:id="rId7" action="ppaction://hlinksldjump"/>
          </p:cNvPr>
          <p:cNvSpPr/>
          <p:nvPr/>
        </p:nvSpPr>
        <p:spPr>
          <a:xfrm>
            <a:off x="7391520" y="3716280"/>
            <a:ext cx="13017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8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8">
            <a:hlinkClick r:id="rId9" action="ppaction://hlinksldjump"/>
          </p:cNvPr>
          <p:cNvSpPr/>
          <p:nvPr/>
        </p:nvSpPr>
        <p:spPr>
          <a:xfrm>
            <a:off x="7380360" y="2779560"/>
            <a:ext cx="131436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0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9">
            <a:hlinkClick r:id="rId11" action="ppaction://hlinksldjump"/>
          </p:cNvPr>
          <p:cNvSpPr/>
          <p:nvPr/>
        </p:nvSpPr>
        <p:spPr>
          <a:xfrm>
            <a:off x="7391520" y="1916280"/>
            <a:ext cx="130176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2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0">
            <a:hlinkClick r:id="rId13" action="ppaction://hlinksldjump"/>
          </p:cNvPr>
          <p:cNvSpPr/>
          <p:nvPr/>
        </p:nvSpPr>
        <p:spPr>
          <a:xfrm>
            <a:off x="5940360" y="3716280"/>
            <a:ext cx="142884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4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3">
            <a:hlinkClick r:id="rId15" action="ppaction://hlinksldjump"/>
          </p:cNvPr>
          <p:cNvSpPr/>
          <p:nvPr/>
        </p:nvSpPr>
        <p:spPr>
          <a:xfrm>
            <a:off x="5940360" y="2779560"/>
            <a:ext cx="1428840" cy="93672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6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4">
            <a:hlinkClick r:id="rId17" action="ppaction://hlinksldjump"/>
          </p:cNvPr>
          <p:cNvSpPr/>
          <p:nvPr/>
        </p:nvSpPr>
        <p:spPr>
          <a:xfrm>
            <a:off x="5952960" y="1916280"/>
            <a:ext cx="1428840" cy="936360"/>
          </a:xfrm>
          <a:prstGeom prst="bevel">
            <a:avLst>
              <a:gd name="adj" fmla="val 12500"/>
            </a:avLst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Garamond"/>
                <a:hlinkClick r:id="rId1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5"/>
          <p:cNvSpPr/>
          <p:nvPr/>
        </p:nvSpPr>
        <p:spPr>
          <a:xfrm>
            <a:off x="539640" y="1916280"/>
            <a:ext cx="3816360" cy="703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гадки с математическим укло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6"/>
          <p:cNvSpPr/>
          <p:nvPr/>
        </p:nvSpPr>
        <p:spPr>
          <a:xfrm>
            <a:off x="539640" y="2924280"/>
            <a:ext cx="3816360" cy="459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8"/>
          <p:cNvSpPr/>
          <p:nvPr/>
        </p:nvSpPr>
        <p:spPr>
          <a:xfrm>
            <a:off x="611280" y="3860640"/>
            <a:ext cx="3744720" cy="459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гадай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1">
            <a:hlinkClick r:id="rId19" action="ppaction://hlinksldjump"/>
          </p:cNvPr>
          <p:cNvSpPr/>
          <p:nvPr/>
        </p:nvSpPr>
        <p:spPr>
          <a:xfrm rot="10800000">
            <a:off x="8566200" y="6270120"/>
            <a:ext cx="395280" cy="40500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5000"/>
              <a:gd name="textAreaBottom" fmla="*/ 379440 h 405000"/>
            </a:gdLst>
            <a:ahLst/>
            <a:rect l="textAreaLeft" t="textAreaTop" r="textAreaRight" b="textAreaBottom"/>
            <a:pathLst>
              <a:path w="21600" h="22131">
                <a:moveTo>
                  <a:pt x="0" y="0"/>
                </a:moveTo>
                <a:lnTo>
                  <a:pt x="21600" y="0"/>
                </a:lnTo>
                <a:lnTo>
                  <a:pt x="21600" y="22131"/>
                </a:lnTo>
                <a:lnTo>
                  <a:pt x="0" y="22131"/>
                </a:lnTo>
                <a:close/>
              </a:path>
              <a:path fill="lightenLess" w="21600" h="221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31">
                <a:moveTo>
                  <a:pt x="21600" y="0"/>
                </a:moveTo>
                <a:lnTo>
                  <a:pt x="21600" y="22131"/>
                </a:lnTo>
                <a:lnTo>
                  <a:pt x="20200" y="20731"/>
                </a:lnTo>
                <a:lnTo>
                  <a:pt x="20200" y="1400"/>
                </a:lnTo>
                <a:close/>
              </a:path>
              <a:path fill="darkenLess" w="21600" h="22131">
                <a:moveTo>
                  <a:pt x="21600" y="22131"/>
                </a:moveTo>
                <a:lnTo>
                  <a:pt x="0" y="22131"/>
                </a:lnTo>
                <a:lnTo>
                  <a:pt x="1400" y="20731"/>
                </a:lnTo>
                <a:lnTo>
                  <a:pt x="20200" y="20731"/>
                </a:lnTo>
                <a:close/>
              </a:path>
              <a:path fill="lighten" w="21600" h="22131">
                <a:moveTo>
                  <a:pt x="0" y="221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31"/>
                </a:lnTo>
                <a:close/>
              </a:path>
              <a:path fill="darken" w="21600" h="22131">
                <a:moveTo>
                  <a:pt x="3794" y="7758"/>
                </a:moveTo>
                <a:lnTo>
                  <a:pt x="7301" y="7758"/>
                </a:lnTo>
                <a:lnTo>
                  <a:pt x="7301" y="13093"/>
                </a:lnTo>
                <a:cubicBezTo>
                  <a:pt x="7301" y="14016"/>
                  <a:pt x="8102" y="14747"/>
                  <a:pt x="9138" y="14747"/>
                </a:cubicBezTo>
                <a:lnTo>
                  <a:pt x="10800" y="14747"/>
                </a:lnTo>
                <a:cubicBezTo>
                  <a:pt x="11836" y="14747"/>
                  <a:pt x="12636" y="14016"/>
                  <a:pt x="12636" y="13093"/>
                </a:cubicBezTo>
                <a:lnTo>
                  <a:pt x="12636" y="7758"/>
                </a:lnTo>
                <a:lnTo>
                  <a:pt x="10800" y="7758"/>
                </a:lnTo>
                <a:lnTo>
                  <a:pt x="14308" y="4250"/>
                </a:lnTo>
                <a:lnTo>
                  <a:pt x="17981" y="7758"/>
                </a:lnTo>
                <a:lnTo>
                  <a:pt x="16144" y="7758"/>
                </a:lnTo>
                <a:lnTo>
                  <a:pt x="16144" y="13093"/>
                </a:lnTo>
                <a:cubicBezTo>
                  <a:pt x="16144" y="15861"/>
                  <a:pt x="13568" y="18420"/>
                  <a:pt x="10800" y="18420"/>
                </a:cubicBezTo>
                <a:lnTo>
                  <a:pt x="9138" y="18420"/>
                </a:lnTo>
                <a:cubicBezTo>
                  <a:pt x="6370" y="18420"/>
                  <a:pt x="3794" y="15861"/>
                  <a:pt x="3794" y="13093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2">
            <a:hlinkClick r:id="rId20" action="ppaction://hlinksldjump"/>
          </p:cNvPr>
          <p:cNvSpPr/>
          <p:nvPr/>
        </p:nvSpPr>
        <p:spPr>
          <a:xfrm>
            <a:off x="179280" y="189000"/>
            <a:ext cx="2890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3">
            <a:hlinkClick r:id="rId21" action="ppaction://hlinksldjump"/>
          </p:cNvPr>
          <p:cNvSpPr/>
          <p:nvPr/>
        </p:nvSpPr>
        <p:spPr>
          <a:xfrm>
            <a:off x="468360" y="189000"/>
            <a:ext cx="2872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4">
            <a:hlinkClick r:id="rId22" action="ppaction://hlinksldjump"/>
          </p:cNvPr>
          <p:cNvSpPr/>
          <p:nvPr/>
        </p:nvSpPr>
        <p:spPr>
          <a:xfrm>
            <a:off x="755640" y="189000"/>
            <a:ext cx="2872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5">
            <a:hlinkClick r:id="rId23" action="ppaction://hlinksldjump"/>
          </p:cNvPr>
          <p:cNvSpPr/>
          <p:nvPr/>
        </p:nvSpPr>
        <p:spPr>
          <a:xfrm>
            <a:off x="1042920" y="189000"/>
            <a:ext cx="287280" cy="368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4"/>
          <p:cNvSpPr/>
          <p:nvPr/>
        </p:nvSpPr>
        <p:spPr>
          <a:xfrm>
            <a:off x="250920" y="1700280"/>
            <a:ext cx="867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геева И.Д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нимательные материалы по информатике и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математике. Методическое пособие.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.: ТЦ Сфера, 2005. – 240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ческая разработка «Ребусы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авченко Е.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урманская обл.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Полярные Зори, МОУ гимназия № 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g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Картинки  http://www.gifpark.s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8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и с математическим уклоном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4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1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1619280" y="1916280"/>
            <a:ext cx="5904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еми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цветный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полук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з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семи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широких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д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17"/>
          <p:cNvSpPr txBox="1"/>
          <p:nvPr/>
        </p:nvSpPr>
        <p:spPr>
          <a:xfrm>
            <a:off x="2484360" y="4869000"/>
            <a:ext cx="180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адуг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0" name="AutoShape 18">
            <a:hlinkClick r:id="rId2" action="ppaction://hlinksldjump"/>
          </p:cNvPr>
          <p:cNvSpPr/>
          <p:nvPr/>
        </p:nvSpPr>
        <p:spPr>
          <a:xfrm>
            <a:off x="179280" y="616572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10839" y="3837"/>
                </a:moveTo>
                <a:lnTo>
                  <a:pt x="13415" y="6448"/>
                </a:ln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lnTo>
                  <a:pt x="17802" y="10800"/>
                </a:lnTo>
                <a:lnTo>
                  <a:pt x="16148" y="10800"/>
                </a:lnTo>
                <a:lnTo>
                  <a:pt x="16148" y="17989"/>
                </a:lnTo>
                <a:lnTo>
                  <a:pt x="5529" y="17989"/>
                </a:lnTo>
                <a:lnTo>
                  <a:pt x="5529" y="10800"/>
                </a:lnTo>
                <a:lnTo>
                  <a:pt x="3876" y="10800"/>
                </a:lnTo>
                <a:close/>
              </a:path>
              <a:path fill="darkenLess" w="21677" h="21600">
                <a:moveTo>
                  <a:pt x="13415" y="6448"/>
                </a:moveTo>
                <a:lnTo>
                  <a:pt x="13415" y="4707"/>
                </a:lnTo>
                <a:lnTo>
                  <a:pt x="15190" y="4707"/>
                </a:lnTo>
                <a:lnTo>
                  <a:pt x="15190" y="8224"/>
                </a:lnTo>
                <a:close/>
              </a:path>
              <a:path fill="darkenLess" w="21677" h="21600">
                <a:moveTo>
                  <a:pt x="9916" y="14299"/>
                </a:moveTo>
                <a:lnTo>
                  <a:pt x="11761" y="14299"/>
                </a:lnTo>
                <a:lnTo>
                  <a:pt x="11761" y="17989"/>
                </a:lnTo>
                <a:lnTo>
                  <a:pt x="16148" y="17989"/>
                </a:lnTo>
                <a:lnTo>
                  <a:pt x="16148" y="10800"/>
                </a:lnTo>
                <a:lnTo>
                  <a:pt x="5529" y="10800"/>
                </a:lnTo>
                <a:lnTo>
                  <a:pt x="5529" y="17989"/>
                </a:lnTo>
                <a:lnTo>
                  <a:pt x="991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r1"/>
          <p:cNvPicPr/>
          <p:nvPr/>
        </p:nvPicPr>
        <p:blipFill>
          <a:blip r:embed="rId3"/>
          <a:stretch/>
        </p:blipFill>
        <p:spPr>
          <a:xfrm>
            <a:off x="4716360" y="4005360"/>
            <a:ext cx="28083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3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2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611280" y="1557360"/>
            <a:ext cx="554508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Шевелились у цв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с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четыре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лепес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Я сорвать его хотел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н вспорхнул и улет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4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2484360" y="5013360"/>
            <a:ext cx="266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Бабочка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44" name="Rectangle 19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и с математическим уклоном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3" descr="B_Fly20"/>
          <p:cNvPicPr/>
          <p:nvPr/>
        </p:nvPicPr>
        <p:blipFill>
          <a:blip r:embed="rId3"/>
          <a:stretch/>
        </p:blipFill>
        <p:spPr>
          <a:xfrm>
            <a:off x="5651640" y="4292640"/>
            <a:ext cx="21589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7" name="Rectangle 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5"/>
            <p:cNvSpPr/>
            <p:nvPr/>
          </p:nvSpPr>
          <p:spPr>
            <a:xfrm rot="5400000">
              <a:off x="4478760" y="-429804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 rot="5400000">
              <a:off x="4478760" y="2369160"/>
              <a:ext cx="189000" cy="878508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Line 7"/>
          <p:cNvSpPr/>
          <p:nvPr/>
        </p:nvSpPr>
        <p:spPr>
          <a:xfrm>
            <a:off x="179280" y="963720"/>
            <a:ext cx="8785440" cy="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8172360" y="177840"/>
            <a:ext cx="792360" cy="747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10"/>
          <p:cNvSpPr txBox="1"/>
          <p:nvPr/>
        </p:nvSpPr>
        <p:spPr>
          <a:xfrm>
            <a:off x="8296200" y="415800"/>
            <a:ext cx="5050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875b0d">
                      <a:alpha val="50000"/>
                    </a:srgbClr>
                  </a:outerShdw>
                </a:effectLst>
                <a:latin typeface="Arial"/>
              </a:rPr>
              <a:t>300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600" dir="0" blurRad="0" rotWithShape="0">
                  <a:srgbClr val="875b0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7308720" y="5493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e0e3"/>
                </a:solidFill>
                <a:latin typeface="Arial"/>
              </a:rPr>
              <a:t>1 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611280" y="2205000"/>
            <a:ext cx="806436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ва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тоят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, два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лежат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, пятый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ходит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Шестой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одит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, седьмой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есенк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ет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3">
            <a:hlinkClick r:id="rId2" action="ppaction://hlinksldjump"/>
          </p:cNvPr>
          <p:cNvSpPr/>
          <p:nvPr/>
        </p:nvSpPr>
        <p:spPr>
          <a:xfrm>
            <a:off x="179280" y="6165720"/>
            <a:ext cx="506520" cy="503280"/>
          </a:xfrm>
          <a:custGeom>
            <a:avLst/>
            <a:gdLst>
              <a:gd name="textAreaLeft" fmla="*/ 32400 w 506520"/>
              <a:gd name="textAreaRight" fmla="*/ 474120 w 506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739" h="21600">
                <a:moveTo>
                  <a:pt x="0" y="0"/>
                </a:moveTo>
                <a:lnTo>
                  <a:pt x="21739" y="0"/>
                </a:lnTo>
                <a:lnTo>
                  <a:pt x="21739" y="21600"/>
                </a:lnTo>
                <a:lnTo>
                  <a:pt x="0" y="21600"/>
                </a:lnTo>
                <a:close/>
              </a:path>
              <a:path fill="lightenLess" w="21739" h="21600">
                <a:moveTo>
                  <a:pt x="0" y="0"/>
                </a:moveTo>
                <a:lnTo>
                  <a:pt x="21739" y="0"/>
                </a:lnTo>
                <a:lnTo>
                  <a:pt x="20339" y="1400"/>
                </a:lnTo>
                <a:lnTo>
                  <a:pt x="1400" y="1400"/>
                </a:lnTo>
                <a:close/>
              </a:path>
              <a:path fill="darken" w="21739" h="21600">
                <a:moveTo>
                  <a:pt x="21739" y="0"/>
                </a:moveTo>
                <a:lnTo>
                  <a:pt x="21739" y="21600"/>
                </a:lnTo>
                <a:lnTo>
                  <a:pt x="20339" y="20200"/>
                </a:lnTo>
                <a:lnTo>
                  <a:pt x="20339" y="1400"/>
                </a:lnTo>
                <a:close/>
              </a:path>
              <a:path fill="darkenLess" w="21739" h="21600">
                <a:moveTo>
                  <a:pt x="21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9" y="20200"/>
                </a:lnTo>
                <a:close/>
              </a:path>
              <a:path fill="lighten" w="21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9" h="21600">
                <a:moveTo>
                  <a:pt x="10869" y="3837"/>
                </a:moveTo>
                <a:lnTo>
                  <a:pt x="13446" y="6448"/>
                </a:ln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lnTo>
                  <a:pt x="17832" y="10800"/>
                </a:lnTo>
                <a:lnTo>
                  <a:pt x="16179" y="10800"/>
                </a:lnTo>
                <a:lnTo>
                  <a:pt x="16179" y="17989"/>
                </a:lnTo>
                <a:lnTo>
                  <a:pt x="5560" y="17989"/>
                </a:lnTo>
                <a:lnTo>
                  <a:pt x="5560" y="10800"/>
                </a:lnTo>
                <a:lnTo>
                  <a:pt x="3907" y="10800"/>
                </a:lnTo>
                <a:close/>
              </a:path>
              <a:path fill="darkenLess" w="21739" h="21600">
                <a:moveTo>
                  <a:pt x="13446" y="6448"/>
                </a:moveTo>
                <a:lnTo>
                  <a:pt x="13446" y="4707"/>
                </a:lnTo>
                <a:lnTo>
                  <a:pt x="15221" y="4707"/>
                </a:lnTo>
                <a:lnTo>
                  <a:pt x="15221" y="8224"/>
                </a:lnTo>
                <a:close/>
              </a:path>
              <a:path fill="darkenLess" w="21739" h="21600">
                <a:moveTo>
                  <a:pt x="9947" y="14299"/>
                </a:moveTo>
                <a:lnTo>
                  <a:pt x="11792" y="14299"/>
                </a:lnTo>
                <a:lnTo>
                  <a:pt x="11792" y="17989"/>
                </a:lnTo>
                <a:lnTo>
                  <a:pt x="16179" y="17989"/>
                </a:lnTo>
                <a:lnTo>
                  <a:pt x="16179" y="10800"/>
                </a:lnTo>
                <a:lnTo>
                  <a:pt x="5560" y="10800"/>
                </a:lnTo>
                <a:lnTo>
                  <a:pt x="5560" y="17989"/>
                </a:lnTo>
                <a:lnTo>
                  <a:pt x="994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14"/>
          <p:cNvSpPr txBox="1"/>
          <p:nvPr/>
        </p:nvSpPr>
        <p:spPr>
          <a:xfrm>
            <a:off x="3348000" y="5013360"/>
            <a:ext cx="180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Дверь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58" name="Rectangle 30"/>
          <p:cNvSpPr/>
          <p:nvPr/>
        </p:nvSpPr>
        <p:spPr>
          <a:xfrm>
            <a:off x="539640" y="189000"/>
            <a:ext cx="66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гадки с математическим уклоном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1" descr="d7"/>
          <p:cNvPicPr/>
          <p:nvPr/>
        </p:nvPicPr>
        <p:blipFill>
          <a:blip r:embed="rId3"/>
          <a:stretch/>
        </p:blipFill>
        <p:spPr>
          <a:xfrm>
            <a:off x="5796000" y="4365720"/>
            <a:ext cx="9716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1:02:27Z</dcterms:created>
  <dc:creator>Customer</dc:creator>
  <dc:description/>
  <dc:language>en-US</dc:language>
  <cp:lastModifiedBy>Учитель</cp:lastModifiedBy>
  <dcterms:modified xsi:type="dcterms:W3CDTF">2014-02-25T06:51:19Z</dcterms:modified>
  <cp:revision>73</cp:revision>
  <dc:subject/>
  <dc:title>Слайд 1</dc:title>
</cp:coreProperties>
</file>