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gif" ContentType="image/gif"/>
  <Override PartName="/ppt/media/image3.gif" ContentType="image/gif"/>
  <Override PartName="/ppt/media/image7.png" ContentType="image/png"/>
  <Override PartName="/ppt/media/image4.gif" ContentType="image/gif"/>
  <Override PartName="/ppt/media/chimes.wav" ContentType="audio/x-wav"/>
  <Override PartName="/ppt/media/image8.png" ContentType="image/png"/>
  <Override PartName="/ppt/media/image5.jpeg" ContentType="image/jpeg"/>
  <Override PartName="/ppt/media/image6.gif" ContentType="image/gif"/>
  <Override PartName="/ppt/media/image11.gif" ContentType="image/gif"/>
  <Override PartName="/ppt/media/image9.png" ContentType="image/png"/>
  <Override PartName="/ppt/media/image10.gif" ContentType="image/gif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65192-B4E2-460C-9656-F09CB6DE2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DF759-BDC9-4173-A141-B7B6F2067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B7E00-455B-40A1-8CBF-D4C69E4E5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F1DB5-0C94-4B48-9577-D422B0C40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E4CDC-CE8D-43D0-891A-406C3A710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516F7-7760-417C-8F95-F02B2FC97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AEBFE-B874-4E69-A9D4-BB108E506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223AB-8E65-4DE4-A5E5-3074F0878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FB886-BB0F-448C-BB39-7DE4E5ED4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B8A7B-0D41-495C-976D-3FD3777BC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9F292-FFD9-49E7-8F0F-6F0F3F9E4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D6205-22FF-499F-8299-552CDB316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5181D-3149-490B-B024-73AA12886CC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6.xm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6.xm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6.xm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6.xml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6.xml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6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" Target="slide29.xml"/><Relationship Id="rId3" Type="http://schemas.openxmlformats.org/officeDocument/2006/relationships/slide" Target="slide22.xml"/><Relationship Id="rId4" Type="http://schemas.openxmlformats.org/officeDocument/2006/relationships/slide" Target="slide22.xml"/><Relationship Id="rId5" Type="http://schemas.openxmlformats.org/officeDocument/2006/relationships/slide" Target="slide25.xml"/><Relationship Id="rId6" Type="http://schemas.openxmlformats.org/officeDocument/2006/relationships/slide" Target="slide25.xml"/><Relationship Id="rId7" Type="http://schemas.openxmlformats.org/officeDocument/2006/relationships/slide" Target="slide31.xml"/><Relationship Id="rId8" Type="http://schemas.openxmlformats.org/officeDocument/2006/relationships/slide" Target="slide31.xml"/><Relationship Id="rId9" Type="http://schemas.openxmlformats.org/officeDocument/2006/relationships/slide" Target="slide24.xml"/><Relationship Id="rId10" Type="http://schemas.openxmlformats.org/officeDocument/2006/relationships/slide" Target="slide24.xml"/><Relationship Id="rId11" Type="http://schemas.openxmlformats.org/officeDocument/2006/relationships/slide" Target="slide28.xml"/><Relationship Id="rId12" Type="http://schemas.openxmlformats.org/officeDocument/2006/relationships/slide" Target="slide28.xml"/><Relationship Id="rId13" Type="http://schemas.openxmlformats.org/officeDocument/2006/relationships/slide" Target="slide30.xml"/><Relationship Id="rId14" Type="http://schemas.openxmlformats.org/officeDocument/2006/relationships/slide" Target="slide30.xml"/><Relationship Id="rId15" Type="http://schemas.openxmlformats.org/officeDocument/2006/relationships/slide" Target="slide23.xml"/><Relationship Id="rId16" Type="http://schemas.openxmlformats.org/officeDocument/2006/relationships/slide" Target="slide23.xml"/><Relationship Id="rId17" Type="http://schemas.openxmlformats.org/officeDocument/2006/relationships/slide" Target="slide27.xml"/><Relationship Id="rId18" Type="http://schemas.openxmlformats.org/officeDocument/2006/relationships/slide" Target="slide27.xml"/><Relationship Id="rId19" Type="http://schemas.openxmlformats.org/officeDocument/2006/relationships/slide" Target="slide32.xml"/><Relationship Id="rId20" Type="http://schemas.openxmlformats.org/officeDocument/2006/relationships/slide" Target="slide17.xml"/><Relationship Id="rId21" Type="http://schemas.openxmlformats.org/officeDocument/2006/relationships/slide" Target="slide18.xml"/><Relationship Id="rId22" Type="http://schemas.openxmlformats.org/officeDocument/2006/relationships/slide" Target="slide19.xml"/><Relationship Id="rId23" Type="http://schemas.openxmlformats.org/officeDocument/2006/relationships/slide" Target="slide20.xml"/><Relationship Id="rId2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1.xml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1.xml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1.xml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1.xml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gif"/><Relationship Id="rId3" Type="http://schemas.openxmlformats.org/officeDocument/2006/relationships/slide" Target="slide21.xml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1.xml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1.xm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1.xml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1.xml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36.xml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36.xml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36.xml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slide36.xml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43.xml"/><Relationship Id="rId2" Type="http://schemas.openxmlformats.org/officeDocument/2006/relationships/slide" Target="slide43.xml"/><Relationship Id="rId3" Type="http://schemas.openxmlformats.org/officeDocument/2006/relationships/slide" Target="slide40.xml"/><Relationship Id="rId4" Type="http://schemas.openxmlformats.org/officeDocument/2006/relationships/slide" Target="slide40.xml"/><Relationship Id="rId5" Type="http://schemas.openxmlformats.org/officeDocument/2006/relationships/slide" Target="slide37.xml"/><Relationship Id="rId6" Type="http://schemas.openxmlformats.org/officeDocument/2006/relationships/slide" Target="slide37.xml"/><Relationship Id="rId7" Type="http://schemas.openxmlformats.org/officeDocument/2006/relationships/slide" Target="slide46.xml"/><Relationship Id="rId8" Type="http://schemas.openxmlformats.org/officeDocument/2006/relationships/slide" Target="slide46.xml"/><Relationship Id="rId9" Type="http://schemas.openxmlformats.org/officeDocument/2006/relationships/slide" Target="slide42.xml"/><Relationship Id="rId10" Type="http://schemas.openxmlformats.org/officeDocument/2006/relationships/slide" Target="slide42.xml"/><Relationship Id="rId11" Type="http://schemas.openxmlformats.org/officeDocument/2006/relationships/slide" Target="slide39.xml"/><Relationship Id="rId12" Type="http://schemas.openxmlformats.org/officeDocument/2006/relationships/slide" Target="slide39.xml"/><Relationship Id="rId13" Type="http://schemas.openxmlformats.org/officeDocument/2006/relationships/slide" Target="slide44.xml"/><Relationship Id="rId14" Type="http://schemas.openxmlformats.org/officeDocument/2006/relationships/slide" Target="slide44.xml"/><Relationship Id="rId15" Type="http://schemas.openxmlformats.org/officeDocument/2006/relationships/slide" Target="slide41.xml"/><Relationship Id="rId16" Type="http://schemas.openxmlformats.org/officeDocument/2006/relationships/slide" Target="slide41.xml"/><Relationship Id="rId17" Type="http://schemas.openxmlformats.org/officeDocument/2006/relationships/slide" Target="slide38.xml"/><Relationship Id="rId18" Type="http://schemas.openxmlformats.org/officeDocument/2006/relationships/slide" Target="slide38.xml"/><Relationship Id="rId19" Type="http://schemas.openxmlformats.org/officeDocument/2006/relationships/slide" Target="slide47.xml"/><Relationship Id="rId20" Type="http://schemas.openxmlformats.org/officeDocument/2006/relationships/slide" Target="slide32.xml"/><Relationship Id="rId21" Type="http://schemas.openxmlformats.org/officeDocument/2006/relationships/slide" Target="slide33.xml"/><Relationship Id="rId22" Type="http://schemas.openxmlformats.org/officeDocument/2006/relationships/slide" Target="slide34.xml"/><Relationship Id="rId23" Type="http://schemas.openxmlformats.org/officeDocument/2006/relationships/slide" Target="slide35.xml"/><Relationship Id="rId2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36.xml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36.xml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36.xml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36.xml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36.xml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36.xml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36.xml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36.xml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36.xml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" Target="slide56.xml"/><Relationship Id="rId2" Type="http://schemas.openxmlformats.org/officeDocument/2006/relationships/slide" Target="slide56.xml"/><Relationship Id="rId3" Type="http://schemas.openxmlformats.org/officeDocument/2006/relationships/slide" Target="slide53.xml"/><Relationship Id="rId4" Type="http://schemas.openxmlformats.org/officeDocument/2006/relationships/slide" Target="slide53.xml"/><Relationship Id="rId5" Type="http://schemas.openxmlformats.org/officeDocument/2006/relationships/slide" Target="slide49.xml"/><Relationship Id="rId6" Type="http://schemas.openxmlformats.org/officeDocument/2006/relationships/slide" Target="slide49.xml"/><Relationship Id="rId7" Type="http://schemas.openxmlformats.org/officeDocument/2006/relationships/slide" Target="slide58.xml"/><Relationship Id="rId8" Type="http://schemas.openxmlformats.org/officeDocument/2006/relationships/slide" Target="slide58.xml"/><Relationship Id="rId9" Type="http://schemas.openxmlformats.org/officeDocument/2006/relationships/slide" Target="slide55.xml"/><Relationship Id="rId10" Type="http://schemas.openxmlformats.org/officeDocument/2006/relationships/slide" Target="slide55.xml"/><Relationship Id="rId11" Type="http://schemas.openxmlformats.org/officeDocument/2006/relationships/slide" Target="slide51.xml"/><Relationship Id="rId1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gif"/><Relationship Id="rId3" Type="http://schemas.openxmlformats.org/officeDocument/2006/relationships/image" Target="../media/image11.gi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" Target="slide13.xml"/><Relationship Id="rId3" Type="http://schemas.openxmlformats.org/officeDocument/2006/relationships/slide" Target="slide10.xml"/><Relationship Id="rId4" Type="http://schemas.openxmlformats.org/officeDocument/2006/relationships/slide" Target="slide10.xml"/><Relationship Id="rId5" Type="http://schemas.openxmlformats.org/officeDocument/2006/relationships/slide" Target="slide7.xml"/><Relationship Id="rId6" Type="http://schemas.openxmlformats.org/officeDocument/2006/relationships/slide" Target="slide7.xml"/><Relationship Id="rId7" Type="http://schemas.openxmlformats.org/officeDocument/2006/relationships/slide" Target="slide15.xml"/><Relationship Id="rId8" Type="http://schemas.openxmlformats.org/officeDocument/2006/relationships/slide" Target="slide15.xml"/><Relationship Id="rId9" Type="http://schemas.openxmlformats.org/officeDocument/2006/relationships/slide" Target="slide12.xml"/><Relationship Id="rId10" Type="http://schemas.openxmlformats.org/officeDocument/2006/relationships/slide" Target="slide12.xml"/><Relationship Id="rId11" Type="http://schemas.openxmlformats.org/officeDocument/2006/relationships/slide" Target="slide9.xml"/><Relationship Id="rId12" Type="http://schemas.openxmlformats.org/officeDocument/2006/relationships/slide" Target="slide9.xml"/><Relationship Id="rId13" Type="http://schemas.openxmlformats.org/officeDocument/2006/relationships/slide" Target="slide14.xml"/><Relationship Id="rId14" Type="http://schemas.openxmlformats.org/officeDocument/2006/relationships/slide" Target="slide14.xml"/><Relationship Id="rId15" Type="http://schemas.openxmlformats.org/officeDocument/2006/relationships/slide" Target="slide11.xml"/><Relationship Id="rId16" Type="http://schemas.openxmlformats.org/officeDocument/2006/relationships/slide" Target="slide11.xml"/><Relationship Id="rId17" Type="http://schemas.openxmlformats.org/officeDocument/2006/relationships/slide" Target="slide8.xml"/><Relationship Id="rId18" Type="http://schemas.openxmlformats.org/officeDocument/2006/relationships/slide" Target="slide8.xml"/><Relationship Id="rId19" Type="http://schemas.openxmlformats.org/officeDocument/2006/relationships/slide" Target="slide17.xml"/><Relationship Id="rId20" Type="http://schemas.openxmlformats.org/officeDocument/2006/relationships/slide" Target="slide2.xml"/><Relationship Id="rId21" Type="http://schemas.openxmlformats.org/officeDocument/2006/relationships/slide" Target="slide3.xml"/><Relationship Id="rId22" Type="http://schemas.openxmlformats.org/officeDocument/2006/relationships/slide" Target="slide4.xml"/><Relationship Id="rId23" Type="http://schemas.openxmlformats.org/officeDocument/2006/relationships/slide" Target="slide5.xml"/><Relationship Id="rId24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6.xml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6.xml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6.xml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2" name="Rectangle 3"/>
            <p:cNvSpPr/>
            <p:nvPr/>
          </p:nvSpPr>
          <p:spPr>
            <a:xfrm>
              <a:off x="0" y="0"/>
              <a:ext cx="179280" cy="685800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Rectangle 4"/>
            <p:cNvSpPr/>
            <p:nvPr/>
          </p:nvSpPr>
          <p:spPr>
            <a:xfrm>
              <a:off x="8964720" y="0"/>
              <a:ext cx="179280" cy="685800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Rectangle 5"/>
            <p:cNvSpPr/>
            <p:nvPr/>
          </p:nvSpPr>
          <p:spPr>
            <a:xfrm rot="5400000">
              <a:off x="4478760" y="-4298040"/>
              <a:ext cx="189000" cy="878508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Rectangle 6"/>
            <p:cNvSpPr/>
            <p:nvPr/>
          </p:nvSpPr>
          <p:spPr>
            <a:xfrm rot="5400000">
              <a:off x="4478760" y="2369160"/>
              <a:ext cx="189000" cy="878508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Rectangle 8"/>
          <p:cNvSpPr/>
          <p:nvPr/>
        </p:nvSpPr>
        <p:spPr>
          <a:xfrm>
            <a:off x="1547640" y="260280"/>
            <a:ext cx="5834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УНИЦИПАЛЬНОЕ  БЮДЖЕТНОЕ  ОБЩЕОБРАЗОВАТЕЛЬНОЕ  УЧРЕЖД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РЕДНЯЯ  ОБЩЕОБРАЗОВАТЕЛЬНАЯ  ШКОЛА №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Г. Апатиты, Мурманской обла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0"/>
          <p:cNvSpPr/>
          <p:nvPr/>
        </p:nvSpPr>
        <p:spPr>
          <a:xfrm>
            <a:off x="1116000" y="3500280"/>
            <a:ext cx="734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ff99"/>
                </a:solidFill>
                <a:latin typeface="Arial"/>
              </a:rPr>
              <a:t>(Внеклассное мероприятие по математике в 10 класс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1"/>
          <p:cNvSpPr/>
          <p:nvPr/>
        </p:nvSpPr>
        <p:spPr>
          <a:xfrm>
            <a:off x="324000" y="1341360"/>
            <a:ext cx="8458200" cy="23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ff99"/>
                </a:solidFill>
                <a:latin typeface="Arial"/>
              </a:rPr>
              <a:t>Викторина</a:t>
            </a:r>
            <a:br>
              <a:rPr sz="4000"/>
            </a:br>
            <a:r>
              <a:rPr b="1" lang="ru-RU" sz="7200" spc="-1" strike="noStrike">
                <a:solidFill>
                  <a:srgbClr val="99ff99"/>
                </a:solidFill>
                <a:latin typeface="Arial"/>
              </a:rPr>
              <a:t>«Своя  игра»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4932360" y="4941720"/>
            <a:ext cx="374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читель: Гринева Л.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995640" y="6093000"/>
            <a:ext cx="11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012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61" name="Rectangle 3"/>
            <p:cNvSpPr/>
            <p:nvPr/>
          </p:nvSpPr>
          <p:spPr>
            <a:xfrm>
              <a:off x="0" y="0"/>
              <a:ext cx="179280" cy="685800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Rectangle 4"/>
            <p:cNvSpPr/>
            <p:nvPr/>
          </p:nvSpPr>
          <p:spPr>
            <a:xfrm>
              <a:off x="8964720" y="0"/>
              <a:ext cx="179280" cy="685800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Rectangle 5"/>
            <p:cNvSpPr/>
            <p:nvPr/>
          </p:nvSpPr>
          <p:spPr>
            <a:xfrm rot="5400000">
              <a:off x="4478760" y="-4298040"/>
              <a:ext cx="189000" cy="878508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Rectangle 6"/>
            <p:cNvSpPr/>
            <p:nvPr/>
          </p:nvSpPr>
          <p:spPr>
            <a:xfrm rot="5400000">
              <a:off x="4478760" y="2369160"/>
              <a:ext cx="189000" cy="878508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Line 7"/>
          <p:cNvSpPr/>
          <p:nvPr/>
        </p:nvSpPr>
        <p:spPr>
          <a:xfrm>
            <a:off x="179280" y="963720"/>
            <a:ext cx="8785440" cy="0"/>
          </a:xfrm>
          <a:prstGeom prst="line">
            <a:avLst/>
          </a:prstGeom>
          <a:ln w="7632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9"/>
          <p:cNvSpPr/>
          <p:nvPr/>
        </p:nvSpPr>
        <p:spPr>
          <a:xfrm>
            <a:off x="8172360" y="177840"/>
            <a:ext cx="792360" cy="747720"/>
          </a:xfrm>
          <a:prstGeom prst="bevel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WordArt 10"/>
          <p:cNvSpPr txBox="1"/>
          <p:nvPr/>
        </p:nvSpPr>
        <p:spPr>
          <a:xfrm>
            <a:off x="8296200" y="415800"/>
            <a:ext cx="505080" cy="2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2600" dir="0" blurRad="0" rotWithShape="0">
                    <a:srgbClr val="875b0d">
                      <a:alpha val="50000"/>
                    </a:srgbClr>
                  </a:outerShdw>
                </a:effectLst>
                <a:latin typeface="Arial"/>
              </a:rPr>
              <a:t>100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2600" dir="0" blurRad="0" rotWithShape="0">
                  <a:srgbClr val="875b0d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68" name="Text Box 11"/>
          <p:cNvSpPr/>
          <p:nvPr/>
        </p:nvSpPr>
        <p:spPr>
          <a:xfrm>
            <a:off x="7308720" y="549360"/>
            <a:ext cx="9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bbe0e3"/>
                </a:solidFill>
                <a:latin typeface="Arial"/>
              </a:rPr>
              <a:t>1 ту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12"/>
          <p:cNvSpPr/>
          <p:nvPr/>
        </p:nvSpPr>
        <p:spPr>
          <a:xfrm>
            <a:off x="468360" y="1484280"/>
            <a:ext cx="806436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ЗА_ _ _ _ _ </a:t>
            </a: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(процесс заострения предмет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13">
            <a:hlinkClick r:id="rId2" action="ppaction://hlinksldjump"/>
          </p:cNvPr>
          <p:cNvSpPr/>
          <p:nvPr/>
        </p:nvSpPr>
        <p:spPr>
          <a:xfrm>
            <a:off x="179280" y="6165720"/>
            <a:ext cx="506520" cy="503280"/>
          </a:xfrm>
          <a:custGeom>
            <a:avLst/>
            <a:gdLst>
              <a:gd name="textAreaLeft" fmla="*/ 32400 w 506520"/>
              <a:gd name="textAreaRight" fmla="*/ 474120 w 5065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1739" h="21600">
                <a:moveTo>
                  <a:pt x="0" y="0"/>
                </a:moveTo>
                <a:lnTo>
                  <a:pt x="21739" y="0"/>
                </a:lnTo>
                <a:lnTo>
                  <a:pt x="21739" y="21600"/>
                </a:lnTo>
                <a:lnTo>
                  <a:pt x="0" y="21600"/>
                </a:lnTo>
                <a:close/>
              </a:path>
              <a:path fill="lightenLess" w="21739" h="21600">
                <a:moveTo>
                  <a:pt x="0" y="0"/>
                </a:moveTo>
                <a:lnTo>
                  <a:pt x="21739" y="0"/>
                </a:lnTo>
                <a:lnTo>
                  <a:pt x="20339" y="1400"/>
                </a:lnTo>
                <a:lnTo>
                  <a:pt x="1400" y="1400"/>
                </a:lnTo>
                <a:close/>
              </a:path>
              <a:path fill="darken" w="21739" h="21600">
                <a:moveTo>
                  <a:pt x="21739" y="0"/>
                </a:moveTo>
                <a:lnTo>
                  <a:pt x="21739" y="21600"/>
                </a:lnTo>
                <a:lnTo>
                  <a:pt x="20339" y="20200"/>
                </a:lnTo>
                <a:lnTo>
                  <a:pt x="20339" y="1400"/>
                </a:lnTo>
                <a:close/>
              </a:path>
              <a:path fill="darkenLess" w="21739" h="21600">
                <a:moveTo>
                  <a:pt x="217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39" y="20200"/>
                </a:lnTo>
                <a:close/>
              </a:path>
              <a:path fill="lighten" w="217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739" h="21600">
                <a:moveTo>
                  <a:pt x="10869" y="3837"/>
                </a:moveTo>
                <a:lnTo>
                  <a:pt x="13446" y="6448"/>
                </a:lnTo>
                <a:lnTo>
                  <a:pt x="13446" y="4707"/>
                </a:lnTo>
                <a:lnTo>
                  <a:pt x="15221" y="4707"/>
                </a:lnTo>
                <a:lnTo>
                  <a:pt x="15221" y="8224"/>
                </a:lnTo>
                <a:lnTo>
                  <a:pt x="17832" y="10800"/>
                </a:lnTo>
                <a:lnTo>
                  <a:pt x="16179" y="10800"/>
                </a:lnTo>
                <a:lnTo>
                  <a:pt x="16179" y="17989"/>
                </a:lnTo>
                <a:lnTo>
                  <a:pt x="5560" y="17989"/>
                </a:lnTo>
                <a:lnTo>
                  <a:pt x="5560" y="10800"/>
                </a:lnTo>
                <a:lnTo>
                  <a:pt x="3907" y="10800"/>
                </a:lnTo>
                <a:close/>
              </a:path>
              <a:path fill="darkenLess" w="21739" h="21600">
                <a:moveTo>
                  <a:pt x="13446" y="6448"/>
                </a:moveTo>
                <a:lnTo>
                  <a:pt x="13446" y="4707"/>
                </a:lnTo>
                <a:lnTo>
                  <a:pt x="15221" y="4707"/>
                </a:lnTo>
                <a:lnTo>
                  <a:pt x="15221" y="8224"/>
                </a:lnTo>
                <a:close/>
              </a:path>
              <a:path fill="darkenLess" w="21739" h="21600">
                <a:moveTo>
                  <a:pt x="9947" y="14299"/>
                </a:moveTo>
                <a:lnTo>
                  <a:pt x="11792" y="14299"/>
                </a:lnTo>
                <a:lnTo>
                  <a:pt x="11792" y="17989"/>
                </a:lnTo>
                <a:lnTo>
                  <a:pt x="16179" y="17989"/>
                </a:lnTo>
                <a:lnTo>
                  <a:pt x="16179" y="10800"/>
                </a:lnTo>
                <a:lnTo>
                  <a:pt x="5560" y="10800"/>
                </a:lnTo>
                <a:lnTo>
                  <a:pt x="5560" y="17989"/>
                </a:lnTo>
                <a:lnTo>
                  <a:pt x="994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WordArt 14"/>
          <p:cNvSpPr txBox="1"/>
          <p:nvPr/>
        </p:nvSpPr>
        <p:spPr>
          <a:xfrm>
            <a:off x="5435640" y="5445000"/>
            <a:ext cx="216072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точка</a:t>
            </a:r>
            <a:endParaRPr b="1" i="1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ffff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172" name="Text Box 28"/>
          <p:cNvSpPr/>
          <p:nvPr/>
        </p:nvSpPr>
        <p:spPr>
          <a:xfrm>
            <a:off x="468360" y="2205000"/>
            <a:ext cx="806436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ВЫ_ _ _ _ _ </a:t>
            </a: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(конструктивный элемент одежды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468360" y="2924280"/>
            <a:ext cx="806436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ФОР_ _ _ _ _ </a:t>
            </a: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(часть окн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30"/>
          <p:cNvSpPr/>
          <p:nvPr/>
        </p:nvSpPr>
        <p:spPr>
          <a:xfrm>
            <a:off x="468360" y="3645000"/>
            <a:ext cx="806436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ЛАС_ _ _ _ _ </a:t>
            </a: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(птиц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31"/>
          <p:cNvSpPr/>
          <p:nvPr/>
        </p:nvSpPr>
        <p:spPr>
          <a:xfrm>
            <a:off x="468360" y="4365720"/>
            <a:ext cx="806436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КИС_ _ _ _ _ </a:t>
            </a: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(инструмент художник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32"/>
          <p:cNvSpPr/>
          <p:nvPr/>
        </p:nvSpPr>
        <p:spPr>
          <a:xfrm>
            <a:off x="539640" y="189000"/>
            <a:ext cx="662472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еометр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0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9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0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7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78" name="Rectangle 3"/>
            <p:cNvSpPr/>
            <p:nvPr/>
          </p:nvSpPr>
          <p:spPr>
            <a:xfrm>
              <a:off x="0" y="0"/>
              <a:ext cx="179280" cy="685800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Rectangle 4"/>
            <p:cNvSpPr/>
            <p:nvPr/>
          </p:nvSpPr>
          <p:spPr>
            <a:xfrm>
              <a:off x="8964720" y="0"/>
              <a:ext cx="179280" cy="685800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Rectangle 5"/>
            <p:cNvSpPr/>
            <p:nvPr/>
          </p:nvSpPr>
          <p:spPr>
            <a:xfrm rot="5400000">
              <a:off x="4478760" y="-4298040"/>
              <a:ext cx="189000" cy="878508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Rectangle 6"/>
            <p:cNvSpPr/>
            <p:nvPr/>
          </p:nvSpPr>
          <p:spPr>
            <a:xfrm rot="5400000">
              <a:off x="4478760" y="2369160"/>
              <a:ext cx="189000" cy="878508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" name="Line 7"/>
          <p:cNvSpPr/>
          <p:nvPr/>
        </p:nvSpPr>
        <p:spPr>
          <a:xfrm>
            <a:off x="179280" y="963720"/>
            <a:ext cx="8785440" cy="0"/>
          </a:xfrm>
          <a:prstGeom prst="line">
            <a:avLst/>
          </a:prstGeom>
          <a:ln w="7632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9"/>
          <p:cNvSpPr/>
          <p:nvPr/>
        </p:nvSpPr>
        <p:spPr>
          <a:xfrm>
            <a:off x="8172360" y="177840"/>
            <a:ext cx="792360" cy="747720"/>
          </a:xfrm>
          <a:prstGeom prst="bevel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WordArt 10"/>
          <p:cNvSpPr txBox="1"/>
          <p:nvPr/>
        </p:nvSpPr>
        <p:spPr>
          <a:xfrm>
            <a:off x="8296200" y="415800"/>
            <a:ext cx="505080" cy="2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2600" dir="0" blurRad="0" rotWithShape="0">
                    <a:srgbClr val="875b0d">
                      <a:alpha val="50000"/>
                    </a:srgbClr>
                  </a:outerShdw>
                </a:effectLst>
                <a:latin typeface="Arial"/>
              </a:rPr>
              <a:t>200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2600" dir="0" blurRad="0" rotWithShape="0">
                  <a:srgbClr val="875b0d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85" name="Text Box 11"/>
          <p:cNvSpPr/>
          <p:nvPr/>
        </p:nvSpPr>
        <p:spPr>
          <a:xfrm>
            <a:off x="7308720" y="549360"/>
            <a:ext cx="9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bbe0e3"/>
                </a:solidFill>
                <a:latin typeface="Arial"/>
              </a:rPr>
              <a:t>1 ту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12"/>
          <p:cNvSpPr/>
          <p:nvPr/>
        </p:nvSpPr>
        <p:spPr>
          <a:xfrm>
            <a:off x="900000" y="1989000"/>
            <a:ext cx="734400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Многогранник из Египта – это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13">
            <a:hlinkClick r:id="rId2" action="ppaction://hlinksldjump"/>
          </p:cNvPr>
          <p:cNvSpPr/>
          <p:nvPr/>
        </p:nvSpPr>
        <p:spPr>
          <a:xfrm>
            <a:off x="179280" y="6165720"/>
            <a:ext cx="506520" cy="503280"/>
          </a:xfrm>
          <a:custGeom>
            <a:avLst/>
            <a:gdLst>
              <a:gd name="textAreaLeft" fmla="*/ 32400 w 506520"/>
              <a:gd name="textAreaRight" fmla="*/ 474120 w 5065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1739" h="21600">
                <a:moveTo>
                  <a:pt x="0" y="0"/>
                </a:moveTo>
                <a:lnTo>
                  <a:pt x="21739" y="0"/>
                </a:lnTo>
                <a:lnTo>
                  <a:pt x="21739" y="21600"/>
                </a:lnTo>
                <a:lnTo>
                  <a:pt x="0" y="21600"/>
                </a:lnTo>
                <a:close/>
              </a:path>
              <a:path fill="lightenLess" w="21739" h="21600">
                <a:moveTo>
                  <a:pt x="0" y="0"/>
                </a:moveTo>
                <a:lnTo>
                  <a:pt x="21739" y="0"/>
                </a:lnTo>
                <a:lnTo>
                  <a:pt x="20339" y="1400"/>
                </a:lnTo>
                <a:lnTo>
                  <a:pt x="1400" y="1400"/>
                </a:lnTo>
                <a:close/>
              </a:path>
              <a:path fill="darken" w="21739" h="21600">
                <a:moveTo>
                  <a:pt x="21739" y="0"/>
                </a:moveTo>
                <a:lnTo>
                  <a:pt x="21739" y="21600"/>
                </a:lnTo>
                <a:lnTo>
                  <a:pt x="20339" y="20200"/>
                </a:lnTo>
                <a:lnTo>
                  <a:pt x="20339" y="1400"/>
                </a:lnTo>
                <a:close/>
              </a:path>
              <a:path fill="darkenLess" w="21739" h="21600">
                <a:moveTo>
                  <a:pt x="217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39" y="20200"/>
                </a:lnTo>
                <a:close/>
              </a:path>
              <a:path fill="lighten" w="217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739" h="21600">
                <a:moveTo>
                  <a:pt x="10869" y="3837"/>
                </a:moveTo>
                <a:lnTo>
                  <a:pt x="13446" y="6448"/>
                </a:lnTo>
                <a:lnTo>
                  <a:pt x="13446" y="4707"/>
                </a:lnTo>
                <a:lnTo>
                  <a:pt x="15221" y="4707"/>
                </a:lnTo>
                <a:lnTo>
                  <a:pt x="15221" y="8224"/>
                </a:lnTo>
                <a:lnTo>
                  <a:pt x="17832" y="10800"/>
                </a:lnTo>
                <a:lnTo>
                  <a:pt x="16179" y="10800"/>
                </a:lnTo>
                <a:lnTo>
                  <a:pt x="16179" y="17989"/>
                </a:lnTo>
                <a:lnTo>
                  <a:pt x="5560" y="17989"/>
                </a:lnTo>
                <a:lnTo>
                  <a:pt x="5560" y="10800"/>
                </a:lnTo>
                <a:lnTo>
                  <a:pt x="3907" y="10800"/>
                </a:lnTo>
                <a:close/>
              </a:path>
              <a:path fill="darkenLess" w="21739" h="21600">
                <a:moveTo>
                  <a:pt x="13446" y="6448"/>
                </a:moveTo>
                <a:lnTo>
                  <a:pt x="13446" y="4707"/>
                </a:lnTo>
                <a:lnTo>
                  <a:pt x="15221" y="4707"/>
                </a:lnTo>
                <a:lnTo>
                  <a:pt x="15221" y="8224"/>
                </a:lnTo>
                <a:close/>
              </a:path>
              <a:path fill="darkenLess" w="21739" h="21600">
                <a:moveTo>
                  <a:pt x="9947" y="14299"/>
                </a:moveTo>
                <a:lnTo>
                  <a:pt x="11792" y="14299"/>
                </a:lnTo>
                <a:lnTo>
                  <a:pt x="11792" y="17989"/>
                </a:lnTo>
                <a:lnTo>
                  <a:pt x="16179" y="17989"/>
                </a:lnTo>
                <a:lnTo>
                  <a:pt x="16179" y="10800"/>
                </a:lnTo>
                <a:lnTo>
                  <a:pt x="5560" y="10800"/>
                </a:lnTo>
                <a:lnTo>
                  <a:pt x="5560" y="17989"/>
                </a:lnTo>
                <a:lnTo>
                  <a:pt x="994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WordArt 14"/>
          <p:cNvSpPr txBox="1"/>
          <p:nvPr/>
        </p:nvSpPr>
        <p:spPr>
          <a:xfrm>
            <a:off x="3132000" y="4797360"/>
            <a:ext cx="259236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пирамида</a:t>
            </a:r>
            <a:endParaRPr b="1" i="1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ffff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189" name="Rectangle 19"/>
          <p:cNvSpPr/>
          <p:nvPr/>
        </p:nvSpPr>
        <p:spPr>
          <a:xfrm>
            <a:off x="539640" y="189000"/>
            <a:ext cx="662472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еометр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Рисунок 9" descr="arxit6.jpg"/>
          <p:cNvPicPr/>
          <p:nvPr/>
        </p:nvPicPr>
        <p:blipFill>
          <a:blip r:embed="rId3"/>
          <a:stretch/>
        </p:blipFill>
        <p:spPr>
          <a:xfrm>
            <a:off x="6084720" y="4724280"/>
            <a:ext cx="1828800" cy="12528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0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92" name="Rectangle 3"/>
            <p:cNvSpPr/>
            <p:nvPr/>
          </p:nvSpPr>
          <p:spPr>
            <a:xfrm>
              <a:off x="0" y="0"/>
              <a:ext cx="179280" cy="685800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Rectangle 4"/>
            <p:cNvSpPr/>
            <p:nvPr/>
          </p:nvSpPr>
          <p:spPr>
            <a:xfrm>
              <a:off x="8964720" y="0"/>
              <a:ext cx="179280" cy="685800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Rectangle 5"/>
            <p:cNvSpPr/>
            <p:nvPr/>
          </p:nvSpPr>
          <p:spPr>
            <a:xfrm rot="5400000">
              <a:off x="4478760" y="-4298040"/>
              <a:ext cx="189000" cy="878508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Rectangle 6"/>
            <p:cNvSpPr/>
            <p:nvPr/>
          </p:nvSpPr>
          <p:spPr>
            <a:xfrm rot="5400000">
              <a:off x="4478760" y="2369160"/>
              <a:ext cx="189000" cy="878508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6" name="Line 7"/>
          <p:cNvSpPr/>
          <p:nvPr/>
        </p:nvSpPr>
        <p:spPr>
          <a:xfrm>
            <a:off x="179280" y="963720"/>
            <a:ext cx="8785440" cy="0"/>
          </a:xfrm>
          <a:prstGeom prst="line">
            <a:avLst/>
          </a:prstGeom>
          <a:ln w="7632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utoShape 9"/>
          <p:cNvSpPr/>
          <p:nvPr/>
        </p:nvSpPr>
        <p:spPr>
          <a:xfrm>
            <a:off x="8172360" y="177840"/>
            <a:ext cx="792360" cy="747720"/>
          </a:xfrm>
          <a:prstGeom prst="bevel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WordArt 10"/>
          <p:cNvSpPr txBox="1"/>
          <p:nvPr/>
        </p:nvSpPr>
        <p:spPr>
          <a:xfrm>
            <a:off x="8296200" y="415800"/>
            <a:ext cx="505080" cy="2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2600" dir="0" blurRad="0" rotWithShape="0">
                    <a:srgbClr val="875b0d">
                      <a:alpha val="50000"/>
                    </a:srgbClr>
                  </a:outerShdw>
                </a:effectLst>
                <a:latin typeface="Arial"/>
              </a:rPr>
              <a:t>300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2600" dir="0" blurRad="0" rotWithShape="0">
                  <a:srgbClr val="875b0d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99" name="Text Box 11"/>
          <p:cNvSpPr/>
          <p:nvPr/>
        </p:nvSpPr>
        <p:spPr>
          <a:xfrm>
            <a:off x="7308720" y="549360"/>
            <a:ext cx="9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bbe0e3"/>
                </a:solidFill>
                <a:latin typeface="Arial"/>
              </a:rPr>
              <a:t>1 ту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AutoShape 13">
            <a:hlinkClick r:id="rId2" action="ppaction://hlinksldjump"/>
          </p:cNvPr>
          <p:cNvSpPr/>
          <p:nvPr/>
        </p:nvSpPr>
        <p:spPr>
          <a:xfrm>
            <a:off x="179280" y="6165720"/>
            <a:ext cx="506520" cy="503280"/>
          </a:xfrm>
          <a:custGeom>
            <a:avLst/>
            <a:gdLst>
              <a:gd name="textAreaLeft" fmla="*/ 32400 w 506520"/>
              <a:gd name="textAreaRight" fmla="*/ 474120 w 5065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1739" h="21600">
                <a:moveTo>
                  <a:pt x="0" y="0"/>
                </a:moveTo>
                <a:lnTo>
                  <a:pt x="21739" y="0"/>
                </a:lnTo>
                <a:lnTo>
                  <a:pt x="21739" y="21600"/>
                </a:lnTo>
                <a:lnTo>
                  <a:pt x="0" y="21600"/>
                </a:lnTo>
                <a:close/>
              </a:path>
              <a:path fill="lightenLess" w="21739" h="21600">
                <a:moveTo>
                  <a:pt x="0" y="0"/>
                </a:moveTo>
                <a:lnTo>
                  <a:pt x="21739" y="0"/>
                </a:lnTo>
                <a:lnTo>
                  <a:pt x="20339" y="1400"/>
                </a:lnTo>
                <a:lnTo>
                  <a:pt x="1400" y="1400"/>
                </a:lnTo>
                <a:close/>
              </a:path>
              <a:path fill="darken" w="21739" h="21600">
                <a:moveTo>
                  <a:pt x="21739" y="0"/>
                </a:moveTo>
                <a:lnTo>
                  <a:pt x="21739" y="21600"/>
                </a:lnTo>
                <a:lnTo>
                  <a:pt x="20339" y="20200"/>
                </a:lnTo>
                <a:lnTo>
                  <a:pt x="20339" y="1400"/>
                </a:lnTo>
                <a:close/>
              </a:path>
              <a:path fill="darkenLess" w="21739" h="21600">
                <a:moveTo>
                  <a:pt x="217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39" y="20200"/>
                </a:lnTo>
                <a:close/>
              </a:path>
              <a:path fill="lighten" w="217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739" h="21600">
                <a:moveTo>
                  <a:pt x="10869" y="3837"/>
                </a:moveTo>
                <a:lnTo>
                  <a:pt x="13446" y="6448"/>
                </a:lnTo>
                <a:lnTo>
                  <a:pt x="13446" y="4707"/>
                </a:lnTo>
                <a:lnTo>
                  <a:pt x="15221" y="4707"/>
                </a:lnTo>
                <a:lnTo>
                  <a:pt x="15221" y="8224"/>
                </a:lnTo>
                <a:lnTo>
                  <a:pt x="17832" y="10800"/>
                </a:lnTo>
                <a:lnTo>
                  <a:pt x="16179" y="10800"/>
                </a:lnTo>
                <a:lnTo>
                  <a:pt x="16179" y="17989"/>
                </a:lnTo>
                <a:lnTo>
                  <a:pt x="5560" y="17989"/>
                </a:lnTo>
                <a:lnTo>
                  <a:pt x="5560" y="10800"/>
                </a:lnTo>
                <a:lnTo>
                  <a:pt x="3907" y="10800"/>
                </a:lnTo>
                <a:close/>
              </a:path>
              <a:path fill="darkenLess" w="21739" h="21600">
                <a:moveTo>
                  <a:pt x="13446" y="6448"/>
                </a:moveTo>
                <a:lnTo>
                  <a:pt x="13446" y="4707"/>
                </a:lnTo>
                <a:lnTo>
                  <a:pt x="15221" y="4707"/>
                </a:lnTo>
                <a:lnTo>
                  <a:pt x="15221" y="8224"/>
                </a:lnTo>
                <a:close/>
              </a:path>
              <a:path fill="darkenLess" w="21739" h="21600">
                <a:moveTo>
                  <a:pt x="9947" y="14299"/>
                </a:moveTo>
                <a:lnTo>
                  <a:pt x="11792" y="14299"/>
                </a:lnTo>
                <a:lnTo>
                  <a:pt x="11792" y="17989"/>
                </a:lnTo>
                <a:lnTo>
                  <a:pt x="16179" y="17989"/>
                </a:lnTo>
                <a:lnTo>
                  <a:pt x="16179" y="10800"/>
                </a:lnTo>
                <a:lnTo>
                  <a:pt x="5560" y="10800"/>
                </a:lnTo>
                <a:lnTo>
                  <a:pt x="5560" y="17989"/>
                </a:lnTo>
                <a:lnTo>
                  <a:pt x="994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WordArt 14"/>
          <p:cNvSpPr txBox="1"/>
          <p:nvPr/>
        </p:nvSpPr>
        <p:spPr>
          <a:xfrm>
            <a:off x="5796000" y="4941720"/>
            <a:ext cx="165564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Ромб</a:t>
            </a:r>
            <a:endParaRPr b="1" i="1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ffff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202" name="Rectangle 25"/>
          <p:cNvSpPr/>
          <p:nvPr/>
        </p:nvSpPr>
        <p:spPr>
          <a:xfrm>
            <a:off x="539640" y="189000"/>
            <a:ext cx="662472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еометр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27"/>
          <p:cNvSpPr/>
          <p:nvPr/>
        </p:nvSpPr>
        <p:spPr>
          <a:xfrm>
            <a:off x="900000" y="1989000"/>
            <a:ext cx="741708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Назовите геометрическую фигуру  на петлицах высших офицеров Красной Армии в беспогонную эпоху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0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05" name="Rectangle 3"/>
            <p:cNvSpPr/>
            <p:nvPr/>
          </p:nvSpPr>
          <p:spPr>
            <a:xfrm>
              <a:off x="0" y="0"/>
              <a:ext cx="179280" cy="685800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Rectangle 4"/>
            <p:cNvSpPr/>
            <p:nvPr/>
          </p:nvSpPr>
          <p:spPr>
            <a:xfrm>
              <a:off x="8964720" y="0"/>
              <a:ext cx="179280" cy="685800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Rectangle 5"/>
            <p:cNvSpPr/>
            <p:nvPr/>
          </p:nvSpPr>
          <p:spPr>
            <a:xfrm rot="5400000">
              <a:off x="4478760" y="-4298040"/>
              <a:ext cx="189000" cy="878508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Rectangle 6"/>
            <p:cNvSpPr/>
            <p:nvPr/>
          </p:nvSpPr>
          <p:spPr>
            <a:xfrm rot="5400000">
              <a:off x="4478760" y="2369160"/>
              <a:ext cx="189000" cy="878508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" name="Line 7"/>
          <p:cNvSpPr/>
          <p:nvPr/>
        </p:nvSpPr>
        <p:spPr>
          <a:xfrm>
            <a:off x="179280" y="963720"/>
            <a:ext cx="8785440" cy="0"/>
          </a:xfrm>
          <a:prstGeom prst="line">
            <a:avLst/>
          </a:prstGeom>
          <a:ln w="7632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8"/>
          <p:cNvSpPr/>
          <p:nvPr/>
        </p:nvSpPr>
        <p:spPr>
          <a:xfrm>
            <a:off x="539640" y="189000"/>
            <a:ext cx="662472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тгадай слово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AutoShape 9"/>
          <p:cNvSpPr/>
          <p:nvPr/>
        </p:nvSpPr>
        <p:spPr>
          <a:xfrm>
            <a:off x="8172360" y="177840"/>
            <a:ext cx="792360" cy="747720"/>
          </a:xfrm>
          <a:prstGeom prst="bevel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WordArt 10"/>
          <p:cNvSpPr txBox="1"/>
          <p:nvPr/>
        </p:nvSpPr>
        <p:spPr>
          <a:xfrm>
            <a:off x="8296200" y="415800"/>
            <a:ext cx="505080" cy="2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2600" dir="0" blurRad="0" rotWithShape="0">
                    <a:srgbClr val="875b0d">
                      <a:alpha val="50000"/>
                    </a:srgbClr>
                  </a:outerShdw>
                </a:effectLst>
                <a:latin typeface="Arial"/>
              </a:rPr>
              <a:t>100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2600" dir="0" blurRad="0" rotWithShape="0">
                  <a:srgbClr val="875b0d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13" name="Text Box 11"/>
          <p:cNvSpPr/>
          <p:nvPr/>
        </p:nvSpPr>
        <p:spPr>
          <a:xfrm>
            <a:off x="7308720" y="549360"/>
            <a:ext cx="9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bbe0e3"/>
                </a:solidFill>
                <a:latin typeface="Arial"/>
              </a:rPr>
              <a:t>1 ту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12"/>
          <p:cNvSpPr/>
          <p:nvPr/>
        </p:nvSpPr>
        <p:spPr>
          <a:xfrm>
            <a:off x="684360" y="1773360"/>
            <a:ext cx="20890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be600"/>
                </a:solidFill>
                <a:latin typeface="Arial"/>
              </a:rPr>
              <a:t>Твердое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13">
            <a:hlinkClick r:id="rId2" action="ppaction://hlinksldjump"/>
          </p:cNvPr>
          <p:cNvSpPr/>
          <p:nvPr/>
        </p:nvSpPr>
        <p:spPr>
          <a:xfrm>
            <a:off x="179280" y="6165720"/>
            <a:ext cx="506520" cy="503280"/>
          </a:xfrm>
          <a:custGeom>
            <a:avLst/>
            <a:gdLst>
              <a:gd name="textAreaLeft" fmla="*/ 32400 w 506520"/>
              <a:gd name="textAreaRight" fmla="*/ 474120 w 5065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1739" h="21600">
                <a:moveTo>
                  <a:pt x="0" y="0"/>
                </a:moveTo>
                <a:lnTo>
                  <a:pt x="21739" y="0"/>
                </a:lnTo>
                <a:lnTo>
                  <a:pt x="21739" y="21600"/>
                </a:lnTo>
                <a:lnTo>
                  <a:pt x="0" y="21600"/>
                </a:lnTo>
                <a:close/>
              </a:path>
              <a:path fill="lightenLess" w="21739" h="21600">
                <a:moveTo>
                  <a:pt x="0" y="0"/>
                </a:moveTo>
                <a:lnTo>
                  <a:pt x="21739" y="0"/>
                </a:lnTo>
                <a:lnTo>
                  <a:pt x="20339" y="1400"/>
                </a:lnTo>
                <a:lnTo>
                  <a:pt x="1400" y="1400"/>
                </a:lnTo>
                <a:close/>
              </a:path>
              <a:path fill="darken" w="21739" h="21600">
                <a:moveTo>
                  <a:pt x="21739" y="0"/>
                </a:moveTo>
                <a:lnTo>
                  <a:pt x="21739" y="21600"/>
                </a:lnTo>
                <a:lnTo>
                  <a:pt x="20339" y="20200"/>
                </a:lnTo>
                <a:lnTo>
                  <a:pt x="20339" y="1400"/>
                </a:lnTo>
                <a:close/>
              </a:path>
              <a:path fill="darkenLess" w="21739" h="21600">
                <a:moveTo>
                  <a:pt x="217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39" y="20200"/>
                </a:lnTo>
                <a:close/>
              </a:path>
              <a:path fill="lighten" w="217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739" h="21600">
                <a:moveTo>
                  <a:pt x="10869" y="3837"/>
                </a:moveTo>
                <a:lnTo>
                  <a:pt x="13446" y="6448"/>
                </a:lnTo>
                <a:lnTo>
                  <a:pt x="13446" y="4707"/>
                </a:lnTo>
                <a:lnTo>
                  <a:pt x="15221" y="4707"/>
                </a:lnTo>
                <a:lnTo>
                  <a:pt x="15221" y="8224"/>
                </a:lnTo>
                <a:lnTo>
                  <a:pt x="17832" y="10800"/>
                </a:lnTo>
                <a:lnTo>
                  <a:pt x="16179" y="10800"/>
                </a:lnTo>
                <a:lnTo>
                  <a:pt x="16179" y="17989"/>
                </a:lnTo>
                <a:lnTo>
                  <a:pt x="5560" y="17989"/>
                </a:lnTo>
                <a:lnTo>
                  <a:pt x="5560" y="10800"/>
                </a:lnTo>
                <a:lnTo>
                  <a:pt x="3907" y="10800"/>
                </a:lnTo>
                <a:close/>
              </a:path>
              <a:path fill="darkenLess" w="21739" h="21600">
                <a:moveTo>
                  <a:pt x="13446" y="6448"/>
                </a:moveTo>
                <a:lnTo>
                  <a:pt x="13446" y="4707"/>
                </a:lnTo>
                <a:lnTo>
                  <a:pt x="15221" y="4707"/>
                </a:lnTo>
                <a:lnTo>
                  <a:pt x="15221" y="8224"/>
                </a:lnTo>
                <a:close/>
              </a:path>
              <a:path fill="darkenLess" w="21739" h="21600">
                <a:moveTo>
                  <a:pt x="9947" y="14299"/>
                </a:moveTo>
                <a:lnTo>
                  <a:pt x="11792" y="14299"/>
                </a:lnTo>
                <a:lnTo>
                  <a:pt x="11792" y="17989"/>
                </a:lnTo>
                <a:lnTo>
                  <a:pt x="16179" y="17989"/>
                </a:lnTo>
                <a:lnTo>
                  <a:pt x="16179" y="10800"/>
                </a:lnTo>
                <a:lnTo>
                  <a:pt x="5560" y="10800"/>
                </a:lnTo>
                <a:lnTo>
                  <a:pt x="5560" y="17989"/>
                </a:lnTo>
                <a:lnTo>
                  <a:pt x="994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15"/>
          <p:cNvSpPr/>
          <p:nvPr/>
        </p:nvSpPr>
        <p:spPr>
          <a:xfrm>
            <a:off x="2700360" y="1773360"/>
            <a:ext cx="216072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be600"/>
                </a:solidFill>
                <a:latin typeface="Arial"/>
              </a:rPr>
              <a:t>жидкое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16"/>
          <p:cNvSpPr/>
          <p:nvPr/>
        </p:nvSpPr>
        <p:spPr>
          <a:xfrm>
            <a:off x="4716360" y="1773360"/>
            <a:ext cx="338472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be600"/>
                </a:solidFill>
                <a:latin typeface="Arial"/>
              </a:rPr>
              <a:t>газообразное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17"/>
          <p:cNvSpPr/>
          <p:nvPr/>
        </p:nvSpPr>
        <p:spPr>
          <a:xfrm>
            <a:off x="826920" y="2565360"/>
            <a:ext cx="194472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be600"/>
                </a:solidFill>
                <a:latin typeface="Arial"/>
              </a:rPr>
              <a:t>голое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18"/>
          <p:cNvSpPr/>
          <p:nvPr/>
        </p:nvSpPr>
        <p:spPr>
          <a:xfrm>
            <a:off x="2411280" y="2565360"/>
            <a:ext cx="251964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be600"/>
                </a:solidFill>
                <a:latin typeface="Arial"/>
              </a:rPr>
              <a:t>мертвое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19"/>
          <p:cNvSpPr/>
          <p:nvPr/>
        </p:nvSpPr>
        <p:spPr>
          <a:xfrm>
            <a:off x="4427640" y="2565360"/>
            <a:ext cx="396072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be600"/>
                </a:solidFill>
                <a:latin typeface="Arial"/>
              </a:rPr>
              <a:t>геометрическое…</a:t>
            </a:r>
            <a:r>
              <a:rPr b="0" lang="ru-RU" sz="3200" spc="-1" strike="noStrike">
                <a:solidFill>
                  <a:srgbClr val="ebe6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AutoShape 20"/>
          <p:cNvSpPr/>
          <p:nvPr/>
        </p:nvSpPr>
        <p:spPr>
          <a:xfrm>
            <a:off x="5076720" y="3933720"/>
            <a:ext cx="2665440" cy="863640"/>
          </a:xfrm>
          <a:prstGeom prst="roundRect">
            <a:avLst>
              <a:gd name="adj" fmla="val 16667"/>
            </a:avLst>
          </a:prstGeom>
          <a:solidFill>
            <a:srgbClr val="009999"/>
          </a:solidFill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ff00"/>
                </a:solidFill>
                <a:latin typeface="Times New Roman"/>
              </a:rPr>
              <a:t>тел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10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10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10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" dur="10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10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10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8" restart="whenNotActive" nodeType="interactiveSeq" fill="hold">
                <p:stCondLst>
                  <p:cond evt="onClick">
                    <p:tgtEl>
                      <p:spTgt spid="221"/>
                    </p:tgtEl>
                  </p:cond>
                </p:stCondLst>
                <p:childTnLst>
                  <p:par>
                    <p:cTn id="279" nodeType="clickEffect" fill="hold">
                      <p:stCondLst>
                        <p:cond evt="onClick">
                          <p:tgtEl>
                            <p:spTgt spid="221"/>
                          </p:tgtEl>
                        </p:cond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2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23" name="Rectangle 3"/>
            <p:cNvSpPr/>
            <p:nvPr/>
          </p:nvSpPr>
          <p:spPr>
            <a:xfrm>
              <a:off x="0" y="0"/>
              <a:ext cx="179280" cy="685800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Rectangle 4"/>
            <p:cNvSpPr/>
            <p:nvPr/>
          </p:nvSpPr>
          <p:spPr>
            <a:xfrm>
              <a:off x="8964720" y="0"/>
              <a:ext cx="179280" cy="685800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Rectangle 5"/>
            <p:cNvSpPr/>
            <p:nvPr/>
          </p:nvSpPr>
          <p:spPr>
            <a:xfrm rot="5400000">
              <a:off x="4478760" y="-4298040"/>
              <a:ext cx="189000" cy="878508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Rectangle 6"/>
            <p:cNvSpPr/>
            <p:nvPr/>
          </p:nvSpPr>
          <p:spPr>
            <a:xfrm rot="5400000">
              <a:off x="4478760" y="2369160"/>
              <a:ext cx="189000" cy="878508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7" name="Line 7"/>
          <p:cNvSpPr/>
          <p:nvPr/>
        </p:nvSpPr>
        <p:spPr>
          <a:xfrm>
            <a:off x="179280" y="963720"/>
            <a:ext cx="8785440" cy="0"/>
          </a:xfrm>
          <a:prstGeom prst="line">
            <a:avLst/>
          </a:prstGeom>
          <a:ln w="7632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8"/>
          <p:cNvSpPr/>
          <p:nvPr/>
        </p:nvSpPr>
        <p:spPr>
          <a:xfrm>
            <a:off x="539640" y="189000"/>
            <a:ext cx="662472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тгадай сло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AutoShape 9"/>
          <p:cNvSpPr/>
          <p:nvPr/>
        </p:nvSpPr>
        <p:spPr>
          <a:xfrm>
            <a:off x="8172360" y="177840"/>
            <a:ext cx="792360" cy="747720"/>
          </a:xfrm>
          <a:prstGeom prst="bevel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WordArt 10"/>
          <p:cNvSpPr txBox="1"/>
          <p:nvPr/>
        </p:nvSpPr>
        <p:spPr>
          <a:xfrm>
            <a:off x="8296200" y="415800"/>
            <a:ext cx="505080" cy="2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2600" dir="0" blurRad="0" rotWithShape="0">
                    <a:srgbClr val="875b0d">
                      <a:alpha val="50000"/>
                    </a:srgbClr>
                  </a:outerShdw>
                </a:effectLst>
                <a:latin typeface="Arial"/>
              </a:rPr>
              <a:t>200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2600" dir="0" blurRad="0" rotWithShape="0">
                  <a:srgbClr val="875b0d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31" name="Text Box 11"/>
          <p:cNvSpPr/>
          <p:nvPr/>
        </p:nvSpPr>
        <p:spPr>
          <a:xfrm>
            <a:off x="7308720" y="549360"/>
            <a:ext cx="9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bbe0e3"/>
                </a:solidFill>
                <a:latin typeface="Arial"/>
              </a:rPr>
              <a:t>1 ту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13">
            <a:hlinkClick r:id="rId2" action="ppaction://hlinksldjump"/>
          </p:cNvPr>
          <p:cNvSpPr/>
          <p:nvPr/>
        </p:nvSpPr>
        <p:spPr>
          <a:xfrm>
            <a:off x="179280" y="6165720"/>
            <a:ext cx="506520" cy="503280"/>
          </a:xfrm>
          <a:custGeom>
            <a:avLst/>
            <a:gdLst>
              <a:gd name="textAreaLeft" fmla="*/ 32400 w 506520"/>
              <a:gd name="textAreaRight" fmla="*/ 474120 w 5065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1739" h="21600">
                <a:moveTo>
                  <a:pt x="0" y="0"/>
                </a:moveTo>
                <a:lnTo>
                  <a:pt x="21739" y="0"/>
                </a:lnTo>
                <a:lnTo>
                  <a:pt x="21739" y="21600"/>
                </a:lnTo>
                <a:lnTo>
                  <a:pt x="0" y="21600"/>
                </a:lnTo>
                <a:close/>
              </a:path>
              <a:path fill="lightenLess" w="21739" h="21600">
                <a:moveTo>
                  <a:pt x="0" y="0"/>
                </a:moveTo>
                <a:lnTo>
                  <a:pt x="21739" y="0"/>
                </a:lnTo>
                <a:lnTo>
                  <a:pt x="20339" y="1400"/>
                </a:lnTo>
                <a:lnTo>
                  <a:pt x="1400" y="1400"/>
                </a:lnTo>
                <a:close/>
              </a:path>
              <a:path fill="darken" w="21739" h="21600">
                <a:moveTo>
                  <a:pt x="21739" y="0"/>
                </a:moveTo>
                <a:lnTo>
                  <a:pt x="21739" y="21600"/>
                </a:lnTo>
                <a:lnTo>
                  <a:pt x="20339" y="20200"/>
                </a:lnTo>
                <a:lnTo>
                  <a:pt x="20339" y="1400"/>
                </a:lnTo>
                <a:close/>
              </a:path>
              <a:path fill="darkenLess" w="21739" h="21600">
                <a:moveTo>
                  <a:pt x="217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39" y="20200"/>
                </a:lnTo>
                <a:close/>
              </a:path>
              <a:path fill="lighten" w="217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739" h="21600">
                <a:moveTo>
                  <a:pt x="10869" y="3837"/>
                </a:moveTo>
                <a:lnTo>
                  <a:pt x="13446" y="6448"/>
                </a:lnTo>
                <a:lnTo>
                  <a:pt x="13446" y="4707"/>
                </a:lnTo>
                <a:lnTo>
                  <a:pt x="15221" y="4707"/>
                </a:lnTo>
                <a:lnTo>
                  <a:pt x="15221" y="8224"/>
                </a:lnTo>
                <a:lnTo>
                  <a:pt x="17832" y="10800"/>
                </a:lnTo>
                <a:lnTo>
                  <a:pt x="16179" y="10800"/>
                </a:lnTo>
                <a:lnTo>
                  <a:pt x="16179" y="17989"/>
                </a:lnTo>
                <a:lnTo>
                  <a:pt x="5560" y="17989"/>
                </a:lnTo>
                <a:lnTo>
                  <a:pt x="5560" y="10800"/>
                </a:lnTo>
                <a:lnTo>
                  <a:pt x="3907" y="10800"/>
                </a:lnTo>
                <a:close/>
              </a:path>
              <a:path fill="darkenLess" w="21739" h="21600">
                <a:moveTo>
                  <a:pt x="13446" y="6448"/>
                </a:moveTo>
                <a:lnTo>
                  <a:pt x="13446" y="4707"/>
                </a:lnTo>
                <a:lnTo>
                  <a:pt x="15221" y="4707"/>
                </a:lnTo>
                <a:lnTo>
                  <a:pt x="15221" y="8224"/>
                </a:lnTo>
                <a:close/>
              </a:path>
              <a:path fill="darkenLess" w="21739" h="21600">
                <a:moveTo>
                  <a:pt x="9947" y="14299"/>
                </a:moveTo>
                <a:lnTo>
                  <a:pt x="11792" y="14299"/>
                </a:lnTo>
                <a:lnTo>
                  <a:pt x="11792" y="17989"/>
                </a:lnTo>
                <a:lnTo>
                  <a:pt x="16179" y="17989"/>
                </a:lnTo>
                <a:lnTo>
                  <a:pt x="16179" y="10800"/>
                </a:lnTo>
                <a:lnTo>
                  <a:pt x="5560" y="10800"/>
                </a:lnTo>
                <a:lnTo>
                  <a:pt x="5560" y="17989"/>
                </a:lnTo>
                <a:lnTo>
                  <a:pt x="994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16"/>
          <p:cNvSpPr/>
          <p:nvPr/>
        </p:nvSpPr>
        <p:spPr>
          <a:xfrm>
            <a:off x="684360" y="1773360"/>
            <a:ext cx="259236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be600"/>
                </a:solidFill>
                <a:latin typeface="Arial"/>
              </a:rPr>
              <a:t>Служебная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17"/>
          <p:cNvSpPr/>
          <p:nvPr/>
        </p:nvSpPr>
        <p:spPr>
          <a:xfrm>
            <a:off x="3419640" y="1773360"/>
            <a:ext cx="216036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be600"/>
                </a:solidFill>
                <a:latin typeface="Arial"/>
              </a:rPr>
              <a:t>главная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18"/>
          <p:cNvSpPr/>
          <p:nvPr/>
        </p:nvSpPr>
        <p:spPr>
          <a:xfrm>
            <a:off x="5364000" y="1781280"/>
            <a:ext cx="338472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be600"/>
                </a:solidFill>
                <a:latin typeface="Arial"/>
              </a:rPr>
              <a:t>важная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19"/>
          <p:cNvSpPr/>
          <p:nvPr/>
        </p:nvSpPr>
        <p:spPr>
          <a:xfrm>
            <a:off x="755640" y="2565360"/>
            <a:ext cx="237636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be600"/>
                </a:solidFill>
                <a:latin typeface="Arial"/>
              </a:rPr>
              <a:t>основная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20"/>
          <p:cNvSpPr/>
          <p:nvPr/>
        </p:nvSpPr>
        <p:spPr>
          <a:xfrm>
            <a:off x="3419640" y="2565360"/>
            <a:ext cx="360036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be600"/>
                </a:solidFill>
                <a:latin typeface="Arial"/>
              </a:rPr>
              <a:t>монотонная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21"/>
          <p:cNvSpPr/>
          <p:nvPr/>
        </p:nvSpPr>
        <p:spPr>
          <a:xfrm>
            <a:off x="755640" y="3357720"/>
            <a:ext cx="396072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be600"/>
                </a:solidFill>
                <a:latin typeface="Arial"/>
              </a:rPr>
              <a:t>возрастающа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22"/>
          <p:cNvSpPr/>
          <p:nvPr/>
        </p:nvSpPr>
        <p:spPr>
          <a:xfrm>
            <a:off x="3995640" y="3357720"/>
            <a:ext cx="309744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be600"/>
                </a:solidFill>
                <a:latin typeface="Arial"/>
              </a:rPr>
              <a:t>убывающа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23"/>
          <p:cNvSpPr/>
          <p:nvPr/>
        </p:nvSpPr>
        <p:spPr>
          <a:xfrm>
            <a:off x="826920" y="4076640"/>
            <a:ext cx="39610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be600"/>
                </a:solidFill>
                <a:latin typeface="Arial"/>
              </a:rPr>
              <a:t>периодическа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24"/>
          <p:cNvSpPr/>
          <p:nvPr/>
        </p:nvSpPr>
        <p:spPr>
          <a:xfrm>
            <a:off x="4356000" y="4052880"/>
            <a:ext cx="39610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be600"/>
                </a:solidFill>
                <a:latin typeface="Arial"/>
              </a:rPr>
              <a:t>линейная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AutoShape 25"/>
          <p:cNvSpPr/>
          <p:nvPr/>
        </p:nvSpPr>
        <p:spPr>
          <a:xfrm>
            <a:off x="5364000" y="5013360"/>
            <a:ext cx="2665440" cy="863640"/>
          </a:xfrm>
          <a:prstGeom prst="roundRect">
            <a:avLst>
              <a:gd name="adj" fmla="val 16667"/>
            </a:avLst>
          </a:prstGeom>
          <a:solidFill>
            <a:srgbClr val="009999"/>
          </a:solidFill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ff00"/>
                </a:solidFill>
                <a:latin typeface="Times New Roman"/>
              </a:rPr>
              <a:t>функц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10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4" dur="10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10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10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10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4" dur="10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10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10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10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0" restart="whenNotActive" nodeType="interactiveSeq" fill="hold">
                <p:stCondLst>
                  <p:cond evt="onClick">
                    <p:tgtEl>
                      <p:spTgt spid="242"/>
                    </p:tgtEl>
                  </p:cond>
                </p:stCondLst>
                <p:childTnLst>
                  <p:par>
                    <p:cTn id="331" nodeType="clickEffect" fill="hold">
                      <p:stCondLst>
                        <p:cond evt="onClick">
                          <p:tgtEl>
                            <p:spTgt spid="242"/>
                          </p:tgtEl>
                        </p:cond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3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44" name="Rectangle 3"/>
            <p:cNvSpPr/>
            <p:nvPr/>
          </p:nvSpPr>
          <p:spPr>
            <a:xfrm>
              <a:off x="0" y="0"/>
              <a:ext cx="179280" cy="685800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Rectangle 4"/>
            <p:cNvSpPr/>
            <p:nvPr/>
          </p:nvSpPr>
          <p:spPr>
            <a:xfrm>
              <a:off x="8964720" y="0"/>
              <a:ext cx="179280" cy="685800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Rectangle 5"/>
            <p:cNvSpPr/>
            <p:nvPr/>
          </p:nvSpPr>
          <p:spPr>
            <a:xfrm rot="5400000">
              <a:off x="4478760" y="-4298040"/>
              <a:ext cx="189000" cy="878508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Rectangle 6"/>
            <p:cNvSpPr/>
            <p:nvPr/>
          </p:nvSpPr>
          <p:spPr>
            <a:xfrm rot="5400000">
              <a:off x="4478760" y="2369160"/>
              <a:ext cx="189000" cy="878508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8" name="Line 7"/>
          <p:cNvSpPr/>
          <p:nvPr/>
        </p:nvSpPr>
        <p:spPr>
          <a:xfrm>
            <a:off x="179280" y="963720"/>
            <a:ext cx="8785440" cy="0"/>
          </a:xfrm>
          <a:prstGeom prst="line">
            <a:avLst/>
          </a:prstGeom>
          <a:ln w="7632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AutoShape 9"/>
          <p:cNvSpPr/>
          <p:nvPr/>
        </p:nvSpPr>
        <p:spPr>
          <a:xfrm>
            <a:off x="8172360" y="177840"/>
            <a:ext cx="792360" cy="747720"/>
          </a:xfrm>
          <a:prstGeom prst="bevel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WordArt 10"/>
          <p:cNvSpPr txBox="1"/>
          <p:nvPr/>
        </p:nvSpPr>
        <p:spPr>
          <a:xfrm>
            <a:off x="8296200" y="415800"/>
            <a:ext cx="505080" cy="2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2600" dir="0" blurRad="0" rotWithShape="0">
                    <a:srgbClr val="875b0d">
                      <a:alpha val="50000"/>
                    </a:srgbClr>
                  </a:outerShdw>
                </a:effectLst>
                <a:latin typeface="Arial"/>
              </a:rPr>
              <a:t>300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2600" dir="0" blurRad="0" rotWithShape="0">
                  <a:srgbClr val="875b0d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51" name="Text Box 11"/>
          <p:cNvSpPr/>
          <p:nvPr/>
        </p:nvSpPr>
        <p:spPr>
          <a:xfrm>
            <a:off x="7308720" y="549360"/>
            <a:ext cx="9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bbe0e3"/>
                </a:solidFill>
                <a:latin typeface="Arial"/>
              </a:rPr>
              <a:t>1 ту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Group 17"/>
          <p:cNvGrpSpPr/>
          <p:nvPr/>
        </p:nvGrpSpPr>
        <p:grpSpPr>
          <a:xfrm>
            <a:off x="1187280" y="2491920"/>
            <a:ext cx="6048720" cy="2663640"/>
            <a:chOff x="1187280" y="2491920"/>
            <a:chExt cx="6048720" cy="2663640"/>
          </a:xfrm>
        </p:grpSpPr>
        <p:sp>
          <p:nvSpPr>
            <p:cNvPr id="253" name="AutoShape 16"/>
            <p:cNvSpPr/>
            <p:nvPr/>
          </p:nvSpPr>
          <p:spPr>
            <a:xfrm rot="10800000">
              <a:off x="1908000" y="2491560"/>
              <a:ext cx="4608720" cy="2663640"/>
            </a:xfrm>
            <a:prstGeom prst="wedgeEllipseCallout">
              <a:avLst>
                <a:gd name="adj1" fmla="val 4185"/>
                <a:gd name="adj2" fmla="val 63407"/>
              </a:avLst>
            </a:prstGeom>
            <a:gradFill rotWithShape="0">
              <a:gsLst>
                <a:gs pos="0">
                  <a:srgbClr val="ff6600"/>
                </a:gs>
                <a:gs pos="50000">
                  <a:srgbClr val="a50021"/>
                </a:gs>
                <a:gs pos="100000">
                  <a:srgbClr val="ff6600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Text Box 15"/>
            <p:cNvSpPr/>
            <p:nvPr/>
          </p:nvSpPr>
          <p:spPr>
            <a:xfrm>
              <a:off x="1187280" y="3211200"/>
              <a:ext cx="6048720" cy="103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ffff00"/>
                  </a:solidFill>
                  <a:latin typeface="Times New Roman"/>
                </a:rPr>
                <a:t>Вам попался кот в мешке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ffff00"/>
                  </a:solidFill>
                  <a:latin typeface="Times New Roman"/>
                </a:rPr>
                <a:t>Кому отдадите  вопрос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5" name="AutoShape 18">
            <a:hlinkClick r:id="" action="ppaction://hlinkshowjump?jump=nextslide"/>
          </p:cNvPr>
          <p:cNvSpPr/>
          <p:nvPr/>
        </p:nvSpPr>
        <p:spPr>
          <a:xfrm>
            <a:off x="8459640" y="6270480"/>
            <a:ext cx="540000" cy="405000"/>
          </a:xfrm>
          <a:custGeom>
            <a:avLst/>
            <a:gdLst>
              <a:gd name="textAreaLeft" fmla="*/ 25920 w 540000"/>
              <a:gd name="textAreaRight" fmla="*/ 514080 w 54000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28794" h="21600">
                <a:moveTo>
                  <a:pt x="0" y="0"/>
                </a:moveTo>
                <a:lnTo>
                  <a:pt x="28794" y="0"/>
                </a:lnTo>
                <a:lnTo>
                  <a:pt x="28794" y="21600"/>
                </a:lnTo>
                <a:lnTo>
                  <a:pt x="0" y="21600"/>
                </a:lnTo>
                <a:close/>
              </a:path>
              <a:path fill="lightenLess" w="28794" h="21600">
                <a:moveTo>
                  <a:pt x="0" y="0"/>
                </a:moveTo>
                <a:lnTo>
                  <a:pt x="28794" y="0"/>
                </a:lnTo>
                <a:lnTo>
                  <a:pt x="27394" y="1400"/>
                </a:lnTo>
                <a:lnTo>
                  <a:pt x="1400" y="1400"/>
                </a:lnTo>
                <a:close/>
              </a:path>
              <a:path fill="darken" w="28794" h="21600">
                <a:moveTo>
                  <a:pt x="28794" y="0"/>
                </a:moveTo>
                <a:lnTo>
                  <a:pt x="28794" y="21600"/>
                </a:lnTo>
                <a:lnTo>
                  <a:pt x="27394" y="20200"/>
                </a:lnTo>
                <a:lnTo>
                  <a:pt x="27394" y="1400"/>
                </a:lnTo>
                <a:close/>
              </a:path>
              <a:path fill="darkenLess" w="28794" h="21600">
                <a:moveTo>
                  <a:pt x="287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4" y="20200"/>
                </a:lnTo>
                <a:close/>
              </a:path>
              <a:path fill="lighten" w="287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94" h="21600">
                <a:moveTo>
                  <a:pt x="7390" y="3794"/>
                </a:moveTo>
                <a:lnTo>
                  <a:pt x="21403" y="10800"/>
                </a:lnTo>
                <a:lnTo>
                  <a:pt x="739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19"/>
          <p:cNvSpPr/>
          <p:nvPr/>
        </p:nvSpPr>
        <p:spPr>
          <a:xfrm>
            <a:off x="539640" y="189000"/>
            <a:ext cx="662472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тгадай сло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nodeType="clickEffect" fill="hold">
                      <p:stCondLst>
                        <p:cond delay="0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58" name="Rectangle 3"/>
            <p:cNvSpPr/>
            <p:nvPr/>
          </p:nvSpPr>
          <p:spPr>
            <a:xfrm>
              <a:off x="0" y="0"/>
              <a:ext cx="179280" cy="685800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Rectangle 4"/>
            <p:cNvSpPr/>
            <p:nvPr/>
          </p:nvSpPr>
          <p:spPr>
            <a:xfrm>
              <a:off x="8964720" y="0"/>
              <a:ext cx="179280" cy="685800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Rectangle 5"/>
            <p:cNvSpPr/>
            <p:nvPr/>
          </p:nvSpPr>
          <p:spPr>
            <a:xfrm rot="5400000">
              <a:off x="4478760" y="-4298040"/>
              <a:ext cx="189000" cy="878508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Rectangle 6"/>
            <p:cNvSpPr/>
            <p:nvPr/>
          </p:nvSpPr>
          <p:spPr>
            <a:xfrm rot="5400000">
              <a:off x="4478760" y="2369160"/>
              <a:ext cx="189000" cy="878508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2" name="Line 7"/>
          <p:cNvSpPr/>
          <p:nvPr/>
        </p:nvSpPr>
        <p:spPr>
          <a:xfrm>
            <a:off x="179280" y="963720"/>
            <a:ext cx="8785440" cy="0"/>
          </a:xfrm>
          <a:prstGeom prst="line">
            <a:avLst/>
          </a:prstGeom>
          <a:ln w="7632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8"/>
          <p:cNvSpPr/>
          <p:nvPr/>
        </p:nvSpPr>
        <p:spPr>
          <a:xfrm>
            <a:off x="539640" y="189000"/>
            <a:ext cx="662472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словиц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AutoShape 9"/>
          <p:cNvSpPr/>
          <p:nvPr/>
        </p:nvSpPr>
        <p:spPr>
          <a:xfrm>
            <a:off x="8172360" y="177840"/>
            <a:ext cx="792360" cy="747720"/>
          </a:xfrm>
          <a:prstGeom prst="bevel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WordArt 10"/>
          <p:cNvSpPr txBox="1"/>
          <p:nvPr/>
        </p:nvSpPr>
        <p:spPr>
          <a:xfrm>
            <a:off x="8296200" y="415800"/>
            <a:ext cx="505080" cy="2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2600" dir="0" blurRad="0" rotWithShape="0">
                    <a:srgbClr val="875b0d">
                      <a:alpha val="50000"/>
                    </a:srgbClr>
                  </a:outerShdw>
                </a:effectLst>
                <a:latin typeface="Arial"/>
              </a:rPr>
              <a:t>100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2600" dir="0" blurRad="0" rotWithShape="0">
                  <a:srgbClr val="875b0d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66" name="Text Box 11"/>
          <p:cNvSpPr/>
          <p:nvPr/>
        </p:nvSpPr>
        <p:spPr>
          <a:xfrm>
            <a:off x="7308720" y="549360"/>
            <a:ext cx="9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bbe0e3"/>
                </a:solidFill>
                <a:latin typeface="Arial"/>
              </a:rPr>
              <a:t>1 ту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12"/>
          <p:cNvSpPr/>
          <p:nvPr/>
        </p:nvSpPr>
        <p:spPr>
          <a:xfrm>
            <a:off x="611280" y="2205000"/>
            <a:ext cx="806436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Как заканчивается известная пословица: «Ясно, как…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AutoShape 13">
            <a:hlinkClick r:id="rId2" action="ppaction://hlinksldjump"/>
          </p:cNvPr>
          <p:cNvSpPr/>
          <p:nvPr/>
        </p:nvSpPr>
        <p:spPr>
          <a:xfrm>
            <a:off x="179280" y="6165720"/>
            <a:ext cx="506520" cy="503280"/>
          </a:xfrm>
          <a:custGeom>
            <a:avLst/>
            <a:gdLst>
              <a:gd name="textAreaLeft" fmla="*/ 32400 w 506520"/>
              <a:gd name="textAreaRight" fmla="*/ 474120 w 5065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1739" h="21600">
                <a:moveTo>
                  <a:pt x="0" y="0"/>
                </a:moveTo>
                <a:lnTo>
                  <a:pt x="21739" y="0"/>
                </a:lnTo>
                <a:lnTo>
                  <a:pt x="21739" y="21600"/>
                </a:lnTo>
                <a:lnTo>
                  <a:pt x="0" y="21600"/>
                </a:lnTo>
                <a:close/>
              </a:path>
              <a:path fill="lightenLess" w="21739" h="21600">
                <a:moveTo>
                  <a:pt x="0" y="0"/>
                </a:moveTo>
                <a:lnTo>
                  <a:pt x="21739" y="0"/>
                </a:lnTo>
                <a:lnTo>
                  <a:pt x="20339" y="1400"/>
                </a:lnTo>
                <a:lnTo>
                  <a:pt x="1400" y="1400"/>
                </a:lnTo>
                <a:close/>
              </a:path>
              <a:path fill="darken" w="21739" h="21600">
                <a:moveTo>
                  <a:pt x="21739" y="0"/>
                </a:moveTo>
                <a:lnTo>
                  <a:pt x="21739" y="21600"/>
                </a:lnTo>
                <a:lnTo>
                  <a:pt x="20339" y="20200"/>
                </a:lnTo>
                <a:lnTo>
                  <a:pt x="20339" y="1400"/>
                </a:lnTo>
                <a:close/>
              </a:path>
              <a:path fill="darkenLess" w="21739" h="21600">
                <a:moveTo>
                  <a:pt x="217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39" y="20200"/>
                </a:lnTo>
                <a:close/>
              </a:path>
              <a:path fill="lighten" w="217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739" h="21600">
                <a:moveTo>
                  <a:pt x="10869" y="3837"/>
                </a:moveTo>
                <a:lnTo>
                  <a:pt x="13446" y="6448"/>
                </a:lnTo>
                <a:lnTo>
                  <a:pt x="13446" y="4707"/>
                </a:lnTo>
                <a:lnTo>
                  <a:pt x="15221" y="4707"/>
                </a:lnTo>
                <a:lnTo>
                  <a:pt x="15221" y="8224"/>
                </a:lnTo>
                <a:lnTo>
                  <a:pt x="17832" y="10800"/>
                </a:lnTo>
                <a:lnTo>
                  <a:pt x="16179" y="10800"/>
                </a:lnTo>
                <a:lnTo>
                  <a:pt x="16179" y="17989"/>
                </a:lnTo>
                <a:lnTo>
                  <a:pt x="5560" y="17989"/>
                </a:lnTo>
                <a:lnTo>
                  <a:pt x="5560" y="10800"/>
                </a:lnTo>
                <a:lnTo>
                  <a:pt x="3907" y="10800"/>
                </a:lnTo>
                <a:close/>
              </a:path>
              <a:path fill="darkenLess" w="21739" h="21600">
                <a:moveTo>
                  <a:pt x="13446" y="6448"/>
                </a:moveTo>
                <a:lnTo>
                  <a:pt x="13446" y="4707"/>
                </a:lnTo>
                <a:lnTo>
                  <a:pt x="15221" y="4707"/>
                </a:lnTo>
                <a:lnTo>
                  <a:pt x="15221" y="8224"/>
                </a:lnTo>
                <a:close/>
              </a:path>
              <a:path fill="darkenLess" w="21739" h="21600">
                <a:moveTo>
                  <a:pt x="9947" y="14299"/>
                </a:moveTo>
                <a:lnTo>
                  <a:pt x="11792" y="14299"/>
                </a:lnTo>
                <a:lnTo>
                  <a:pt x="11792" y="17989"/>
                </a:lnTo>
                <a:lnTo>
                  <a:pt x="16179" y="17989"/>
                </a:lnTo>
                <a:lnTo>
                  <a:pt x="16179" y="10800"/>
                </a:lnTo>
                <a:lnTo>
                  <a:pt x="5560" y="10800"/>
                </a:lnTo>
                <a:lnTo>
                  <a:pt x="5560" y="17989"/>
                </a:lnTo>
                <a:lnTo>
                  <a:pt x="994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WordArt 15"/>
          <p:cNvSpPr txBox="1"/>
          <p:nvPr/>
        </p:nvSpPr>
        <p:spPr>
          <a:xfrm>
            <a:off x="4500720" y="4076640"/>
            <a:ext cx="309708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дважды  два</a:t>
            </a:r>
            <a:endParaRPr b="1" i="1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ffff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nodeType="clickEffect" fill="hold">
                      <p:stCondLst>
                        <p:cond delay="0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71" name="Rectangle 3"/>
            <p:cNvSpPr/>
            <p:nvPr/>
          </p:nvSpPr>
          <p:spPr>
            <a:xfrm>
              <a:off x="0" y="0"/>
              <a:ext cx="179280" cy="685800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Rectangle 4"/>
            <p:cNvSpPr/>
            <p:nvPr/>
          </p:nvSpPr>
          <p:spPr>
            <a:xfrm>
              <a:off x="8964720" y="0"/>
              <a:ext cx="179280" cy="685800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Rectangle 5"/>
            <p:cNvSpPr/>
            <p:nvPr/>
          </p:nvSpPr>
          <p:spPr>
            <a:xfrm rot="5400000">
              <a:off x="4478760" y="-4298040"/>
              <a:ext cx="189000" cy="878508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Rectangle 6"/>
            <p:cNvSpPr/>
            <p:nvPr/>
          </p:nvSpPr>
          <p:spPr>
            <a:xfrm rot="5400000">
              <a:off x="4478760" y="2369160"/>
              <a:ext cx="189000" cy="878508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Rectangle 7"/>
          <p:cNvSpPr/>
          <p:nvPr/>
        </p:nvSpPr>
        <p:spPr>
          <a:xfrm>
            <a:off x="1042920" y="117360"/>
            <a:ext cx="77770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Своя игра</a:t>
            </a: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                   </a:t>
            </a: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II</a:t>
            </a: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 отборочный ту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8"/>
          <p:cNvSpPr/>
          <p:nvPr/>
        </p:nvSpPr>
        <p:spPr>
          <a:xfrm>
            <a:off x="179280" y="803160"/>
            <a:ext cx="8785440" cy="0"/>
          </a:xfrm>
          <a:prstGeom prst="line">
            <a:avLst/>
          </a:prstGeom>
          <a:ln w="7632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9"/>
          <p:cNvSpPr/>
          <p:nvPr/>
        </p:nvSpPr>
        <p:spPr>
          <a:xfrm>
            <a:off x="826920" y="1484280"/>
            <a:ext cx="7391520" cy="42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Как называется популярная в 1930-е годы акробатическая фигура, составленная спортсменами, стоящими друг на друг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)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илиндр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)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зм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)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ирамид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кону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AutoShape 11">
            <a:hlinkClick r:id="" action="ppaction://hlinkshowjump?jump=nextslide"/>
          </p:cNvPr>
          <p:cNvSpPr/>
          <p:nvPr/>
        </p:nvSpPr>
        <p:spPr>
          <a:xfrm>
            <a:off x="8354880" y="6270480"/>
            <a:ext cx="611280" cy="405000"/>
          </a:xfrm>
          <a:custGeom>
            <a:avLst/>
            <a:gdLst>
              <a:gd name="textAreaLeft" fmla="*/ 25920 w 611280"/>
              <a:gd name="textAreaRight" fmla="*/ 585360 w 61128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32592" h="21600">
                <a:moveTo>
                  <a:pt x="0" y="0"/>
                </a:moveTo>
                <a:lnTo>
                  <a:pt x="32592" y="0"/>
                </a:lnTo>
                <a:lnTo>
                  <a:pt x="32592" y="21600"/>
                </a:lnTo>
                <a:lnTo>
                  <a:pt x="0" y="21600"/>
                </a:lnTo>
                <a:close/>
              </a:path>
              <a:path fill="lightenLess" w="32592" h="21600">
                <a:moveTo>
                  <a:pt x="0" y="0"/>
                </a:moveTo>
                <a:lnTo>
                  <a:pt x="32592" y="0"/>
                </a:lnTo>
                <a:lnTo>
                  <a:pt x="31192" y="1400"/>
                </a:lnTo>
                <a:lnTo>
                  <a:pt x="1400" y="1400"/>
                </a:lnTo>
                <a:close/>
              </a:path>
              <a:path fill="darken" w="32592" h="21600">
                <a:moveTo>
                  <a:pt x="32592" y="0"/>
                </a:moveTo>
                <a:lnTo>
                  <a:pt x="32592" y="21600"/>
                </a:lnTo>
                <a:lnTo>
                  <a:pt x="31192" y="20200"/>
                </a:lnTo>
                <a:lnTo>
                  <a:pt x="31192" y="1400"/>
                </a:lnTo>
                <a:close/>
              </a:path>
              <a:path fill="darkenLess" w="32592" h="21600">
                <a:moveTo>
                  <a:pt x="325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92" y="20200"/>
                </a:lnTo>
                <a:close/>
              </a:path>
              <a:path fill="lighten" w="325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92" h="21600">
                <a:moveTo>
                  <a:pt x="9289" y="3794"/>
                </a:moveTo>
                <a:lnTo>
                  <a:pt x="23302" y="10800"/>
                </a:lnTo>
                <a:lnTo>
                  <a:pt x="9289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AutoShape 12">
            <a:hlinkClick r:id="rId1" action="ppaction://hlinksldjump"/>
          </p:cNvPr>
          <p:cNvSpPr/>
          <p:nvPr/>
        </p:nvSpPr>
        <p:spPr>
          <a:xfrm>
            <a:off x="179280" y="189000"/>
            <a:ext cx="505080" cy="576000"/>
          </a:xfrm>
          <a:custGeom>
            <a:avLst/>
            <a:gdLst>
              <a:gd name="textAreaLeft" fmla="*/ 32760 w 505080"/>
              <a:gd name="textAreaRight" fmla="*/ 472680 w 505080"/>
              <a:gd name="textAreaTop" fmla="*/ 32400 h 576000"/>
              <a:gd name="textAreaBottom" fmla="*/ 543600 h 576000"/>
            </a:gdLst>
            <a:ahLst/>
            <a:rect l="textAreaLeft" t="textAreaTop" r="textAreaRight" b="textAreaBottom"/>
            <a:pathLst>
              <a:path w="21600" h="24631">
                <a:moveTo>
                  <a:pt x="0" y="0"/>
                </a:moveTo>
                <a:lnTo>
                  <a:pt x="21600" y="0"/>
                </a:lnTo>
                <a:lnTo>
                  <a:pt x="21600" y="24631"/>
                </a:lnTo>
                <a:lnTo>
                  <a:pt x="0" y="24631"/>
                </a:lnTo>
                <a:close/>
              </a:path>
              <a:path fill="lightenLess" w="21600" h="246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31">
                <a:moveTo>
                  <a:pt x="21600" y="0"/>
                </a:moveTo>
                <a:lnTo>
                  <a:pt x="21600" y="24631"/>
                </a:lnTo>
                <a:lnTo>
                  <a:pt x="20200" y="23231"/>
                </a:lnTo>
                <a:lnTo>
                  <a:pt x="20200" y="1400"/>
                </a:lnTo>
                <a:close/>
              </a:path>
              <a:path fill="darkenLess" w="21600" h="24631">
                <a:moveTo>
                  <a:pt x="21600" y="24631"/>
                </a:moveTo>
                <a:lnTo>
                  <a:pt x="0" y="24631"/>
                </a:lnTo>
                <a:lnTo>
                  <a:pt x="1400" y="23231"/>
                </a:lnTo>
                <a:lnTo>
                  <a:pt x="20200" y="23231"/>
                </a:lnTo>
                <a:close/>
              </a:path>
              <a:path fill="lighten" w="21600" h="24631">
                <a:moveTo>
                  <a:pt x="0" y="246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31"/>
                </a:lnTo>
                <a:close/>
              </a:path>
              <a:path fill="darken" w="21600" h="24631">
                <a:moveTo>
                  <a:pt x="10800" y="5352"/>
                </a:moveTo>
                <a:lnTo>
                  <a:pt x="13376" y="7964"/>
                </a:lnTo>
                <a:lnTo>
                  <a:pt x="13376" y="6223"/>
                </a:lnTo>
                <a:lnTo>
                  <a:pt x="15152" y="6223"/>
                </a:lnTo>
                <a:lnTo>
                  <a:pt x="15152" y="9739"/>
                </a:lnTo>
                <a:lnTo>
                  <a:pt x="17763" y="12315"/>
                </a:lnTo>
                <a:lnTo>
                  <a:pt x="16109" y="12315"/>
                </a:lnTo>
                <a:lnTo>
                  <a:pt x="16109" y="19505"/>
                </a:lnTo>
                <a:lnTo>
                  <a:pt x="5491" y="19505"/>
                </a:lnTo>
                <a:lnTo>
                  <a:pt x="5491" y="12315"/>
                </a:lnTo>
                <a:lnTo>
                  <a:pt x="3837" y="12315"/>
                </a:lnTo>
                <a:close/>
              </a:path>
              <a:path fill="darkenLess" w="21600" h="24631">
                <a:moveTo>
                  <a:pt x="13376" y="7964"/>
                </a:moveTo>
                <a:lnTo>
                  <a:pt x="13376" y="6223"/>
                </a:lnTo>
                <a:lnTo>
                  <a:pt x="15152" y="6223"/>
                </a:lnTo>
                <a:lnTo>
                  <a:pt x="15152" y="9739"/>
                </a:lnTo>
                <a:close/>
              </a:path>
              <a:path fill="darkenLess" w="21600" h="24631">
                <a:moveTo>
                  <a:pt x="9877" y="15814"/>
                </a:moveTo>
                <a:lnTo>
                  <a:pt x="11723" y="15814"/>
                </a:lnTo>
                <a:lnTo>
                  <a:pt x="11723" y="19505"/>
                </a:lnTo>
                <a:lnTo>
                  <a:pt x="16109" y="19505"/>
                </a:lnTo>
                <a:lnTo>
                  <a:pt x="16109" y="12315"/>
                </a:lnTo>
                <a:lnTo>
                  <a:pt x="5491" y="12315"/>
                </a:lnTo>
                <a:lnTo>
                  <a:pt x="5491" y="19505"/>
                </a:lnTo>
                <a:lnTo>
                  <a:pt x="9877" y="19505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2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2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2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2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3" dur="500" fill="hold"/>
                                        <p:tgtEl>
                                          <p:spTgt spid="2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ffcc"/>
                                      </p:to>
                                    </p:animClr>
                                    <p:animClr clrSpc="rgb">
                                      <p:cBhvr>
                                        <p:cTn id="384" dur="500" fill="hold"/>
                                        <p:tgtEl>
                                          <p:spTgt spid="2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ffcc"/>
                                      </p:to>
                                    </p:animClr>
                                    <p:set>
                                      <p:cBhvr>
                                        <p:cTn id="385" dur="500" fill="hold"/>
                                        <p:tgtEl>
                                          <p:spTgt spid="2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81" name="Rectangle 3"/>
            <p:cNvSpPr/>
            <p:nvPr/>
          </p:nvSpPr>
          <p:spPr>
            <a:xfrm>
              <a:off x="0" y="0"/>
              <a:ext cx="179280" cy="685800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Rectangle 4"/>
            <p:cNvSpPr/>
            <p:nvPr/>
          </p:nvSpPr>
          <p:spPr>
            <a:xfrm>
              <a:off x="8964720" y="0"/>
              <a:ext cx="179280" cy="685800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Rectangle 5"/>
            <p:cNvSpPr/>
            <p:nvPr/>
          </p:nvSpPr>
          <p:spPr>
            <a:xfrm rot="5400000">
              <a:off x="4478760" y="-4298040"/>
              <a:ext cx="189000" cy="878508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Rectangle 6"/>
            <p:cNvSpPr/>
            <p:nvPr/>
          </p:nvSpPr>
          <p:spPr>
            <a:xfrm rot="5400000">
              <a:off x="4478760" y="2369160"/>
              <a:ext cx="189000" cy="878508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5" name="Rectangle 7"/>
          <p:cNvSpPr/>
          <p:nvPr/>
        </p:nvSpPr>
        <p:spPr>
          <a:xfrm>
            <a:off x="1042920" y="117360"/>
            <a:ext cx="77770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Своя игра</a:t>
            </a: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                   </a:t>
            </a: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II</a:t>
            </a: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 отборочный ту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Line 8"/>
          <p:cNvSpPr/>
          <p:nvPr/>
        </p:nvSpPr>
        <p:spPr>
          <a:xfrm>
            <a:off x="179280" y="803160"/>
            <a:ext cx="8785440" cy="0"/>
          </a:xfrm>
          <a:prstGeom prst="line">
            <a:avLst/>
          </a:prstGeom>
          <a:ln w="7632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9"/>
          <p:cNvSpPr/>
          <p:nvPr/>
        </p:nvSpPr>
        <p:spPr>
          <a:xfrm>
            <a:off x="826920" y="1484280"/>
            <a:ext cx="7391520" cy="411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Что напоминает геометрическое тело, называющееся торо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)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ублик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)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огалик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)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рендел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бато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AutoShape 11">
            <a:hlinkClick r:id="" action="ppaction://hlinkshowjump?jump=nextslide"/>
          </p:cNvPr>
          <p:cNvSpPr/>
          <p:nvPr/>
        </p:nvSpPr>
        <p:spPr>
          <a:xfrm>
            <a:off x="8354880" y="6270480"/>
            <a:ext cx="611280" cy="405000"/>
          </a:xfrm>
          <a:custGeom>
            <a:avLst/>
            <a:gdLst>
              <a:gd name="textAreaLeft" fmla="*/ 25920 w 611280"/>
              <a:gd name="textAreaRight" fmla="*/ 585360 w 61128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32592" h="21600">
                <a:moveTo>
                  <a:pt x="0" y="0"/>
                </a:moveTo>
                <a:lnTo>
                  <a:pt x="32592" y="0"/>
                </a:lnTo>
                <a:lnTo>
                  <a:pt x="32592" y="21600"/>
                </a:lnTo>
                <a:lnTo>
                  <a:pt x="0" y="21600"/>
                </a:lnTo>
                <a:close/>
              </a:path>
              <a:path fill="lightenLess" w="32592" h="21600">
                <a:moveTo>
                  <a:pt x="0" y="0"/>
                </a:moveTo>
                <a:lnTo>
                  <a:pt x="32592" y="0"/>
                </a:lnTo>
                <a:lnTo>
                  <a:pt x="31192" y="1400"/>
                </a:lnTo>
                <a:lnTo>
                  <a:pt x="1400" y="1400"/>
                </a:lnTo>
                <a:close/>
              </a:path>
              <a:path fill="darken" w="32592" h="21600">
                <a:moveTo>
                  <a:pt x="32592" y="0"/>
                </a:moveTo>
                <a:lnTo>
                  <a:pt x="32592" y="21600"/>
                </a:lnTo>
                <a:lnTo>
                  <a:pt x="31192" y="20200"/>
                </a:lnTo>
                <a:lnTo>
                  <a:pt x="31192" y="1400"/>
                </a:lnTo>
                <a:close/>
              </a:path>
              <a:path fill="darkenLess" w="32592" h="21600">
                <a:moveTo>
                  <a:pt x="325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92" y="20200"/>
                </a:lnTo>
                <a:close/>
              </a:path>
              <a:path fill="lighten" w="325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92" h="21600">
                <a:moveTo>
                  <a:pt x="9289" y="3794"/>
                </a:moveTo>
                <a:lnTo>
                  <a:pt x="23302" y="10800"/>
                </a:lnTo>
                <a:lnTo>
                  <a:pt x="9289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AutoShape 14">
            <a:hlinkClick r:id="rId1" action="ppaction://hlinksldjump"/>
          </p:cNvPr>
          <p:cNvSpPr/>
          <p:nvPr/>
        </p:nvSpPr>
        <p:spPr>
          <a:xfrm>
            <a:off x="179280" y="189000"/>
            <a:ext cx="505080" cy="576000"/>
          </a:xfrm>
          <a:custGeom>
            <a:avLst/>
            <a:gdLst>
              <a:gd name="textAreaLeft" fmla="*/ 32760 w 505080"/>
              <a:gd name="textAreaRight" fmla="*/ 472680 w 505080"/>
              <a:gd name="textAreaTop" fmla="*/ 32400 h 576000"/>
              <a:gd name="textAreaBottom" fmla="*/ 543600 h 576000"/>
            </a:gdLst>
            <a:ahLst/>
            <a:rect l="textAreaLeft" t="textAreaTop" r="textAreaRight" b="textAreaBottom"/>
            <a:pathLst>
              <a:path w="21600" h="24631">
                <a:moveTo>
                  <a:pt x="0" y="0"/>
                </a:moveTo>
                <a:lnTo>
                  <a:pt x="21600" y="0"/>
                </a:lnTo>
                <a:lnTo>
                  <a:pt x="21600" y="24631"/>
                </a:lnTo>
                <a:lnTo>
                  <a:pt x="0" y="24631"/>
                </a:lnTo>
                <a:close/>
              </a:path>
              <a:path fill="lightenLess" w="21600" h="246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31">
                <a:moveTo>
                  <a:pt x="21600" y="0"/>
                </a:moveTo>
                <a:lnTo>
                  <a:pt x="21600" y="24631"/>
                </a:lnTo>
                <a:lnTo>
                  <a:pt x="20200" y="23231"/>
                </a:lnTo>
                <a:lnTo>
                  <a:pt x="20200" y="1400"/>
                </a:lnTo>
                <a:close/>
              </a:path>
              <a:path fill="darkenLess" w="21600" h="24631">
                <a:moveTo>
                  <a:pt x="21600" y="24631"/>
                </a:moveTo>
                <a:lnTo>
                  <a:pt x="0" y="24631"/>
                </a:lnTo>
                <a:lnTo>
                  <a:pt x="1400" y="23231"/>
                </a:lnTo>
                <a:lnTo>
                  <a:pt x="20200" y="23231"/>
                </a:lnTo>
                <a:close/>
              </a:path>
              <a:path fill="lighten" w="21600" h="24631">
                <a:moveTo>
                  <a:pt x="0" y="246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31"/>
                </a:lnTo>
                <a:close/>
              </a:path>
              <a:path fill="darken" w="21600" h="24631">
                <a:moveTo>
                  <a:pt x="10800" y="5352"/>
                </a:moveTo>
                <a:lnTo>
                  <a:pt x="13376" y="7964"/>
                </a:lnTo>
                <a:lnTo>
                  <a:pt x="13376" y="6223"/>
                </a:lnTo>
                <a:lnTo>
                  <a:pt x="15152" y="6223"/>
                </a:lnTo>
                <a:lnTo>
                  <a:pt x="15152" y="9739"/>
                </a:lnTo>
                <a:lnTo>
                  <a:pt x="17763" y="12315"/>
                </a:lnTo>
                <a:lnTo>
                  <a:pt x="16109" y="12315"/>
                </a:lnTo>
                <a:lnTo>
                  <a:pt x="16109" y="19505"/>
                </a:lnTo>
                <a:lnTo>
                  <a:pt x="5491" y="19505"/>
                </a:lnTo>
                <a:lnTo>
                  <a:pt x="5491" y="12315"/>
                </a:lnTo>
                <a:lnTo>
                  <a:pt x="3837" y="12315"/>
                </a:lnTo>
                <a:close/>
              </a:path>
              <a:path fill="darkenLess" w="21600" h="24631">
                <a:moveTo>
                  <a:pt x="13376" y="7964"/>
                </a:moveTo>
                <a:lnTo>
                  <a:pt x="13376" y="6223"/>
                </a:lnTo>
                <a:lnTo>
                  <a:pt x="15152" y="6223"/>
                </a:lnTo>
                <a:lnTo>
                  <a:pt x="15152" y="9739"/>
                </a:lnTo>
                <a:close/>
              </a:path>
              <a:path fill="darkenLess" w="21600" h="24631">
                <a:moveTo>
                  <a:pt x="9877" y="15814"/>
                </a:moveTo>
                <a:lnTo>
                  <a:pt x="11723" y="15814"/>
                </a:lnTo>
                <a:lnTo>
                  <a:pt x="11723" y="19505"/>
                </a:lnTo>
                <a:lnTo>
                  <a:pt x="16109" y="19505"/>
                </a:lnTo>
                <a:lnTo>
                  <a:pt x="16109" y="12315"/>
                </a:lnTo>
                <a:lnTo>
                  <a:pt x="5491" y="12315"/>
                </a:lnTo>
                <a:lnTo>
                  <a:pt x="5491" y="19505"/>
                </a:lnTo>
                <a:lnTo>
                  <a:pt x="9877" y="19505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2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2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0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2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2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2" dur="500" fill="hold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ffcc"/>
                                      </p:to>
                                    </p:animClr>
                                    <p:animClr clrSpc="rgb">
                                      <p:cBhvr>
                                        <p:cTn id="413" dur="500" fill="hold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ffcc"/>
                                      </p:to>
                                    </p:animClr>
                                    <p:set>
                                      <p:cBhvr>
                                        <p:cTn id="414" dur="500" fill="hold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91" name="Rectangle 3"/>
            <p:cNvSpPr/>
            <p:nvPr/>
          </p:nvSpPr>
          <p:spPr>
            <a:xfrm>
              <a:off x="0" y="0"/>
              <a:ext cx="179280" cy="685800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Rectangle 4"/>
            <p:cNvSpPr/>
            <p:nvPr/>
          </p:nvSpPr>
          <p:spPr>
            <a:xfrm>
              <a:off x="8964720" y="0"/>
              <a:ext cx="179280" cy="685800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Rectangle 5"/>
            <p:cNvSpPr/>
            <p:nvPr/>
          </p:nvSpPr>
          <p:spPr>
            <a:xfrm rot="5400000">
              <a:off x="4478760" y="-4298040"/>
              <a:ext cx="189000" cy="878508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Rectangle 6"/>
            <p:cNvSpPr/>
            <p:nvPr/>
          </p:nvSpPr>
          <p:spPr>
            <a:xfrm rot="5400000">
              <a:off x="4478760" y="2369160"/>
              <a:ext cx="189000" cy="878508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5" name="Rectangle 7"/>
          <p:cNvSpPr/>
          <p:nvPr/>
        </p:nvSpPr>
        <p:spPr>
          <a:xfrm>
            <a:off x="1042920" y="117360"/>
            <a:ext cx="77770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Своя игра</a:t>
            </a: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                   </a:t>
            </a: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II</a:t>
            </a: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 отборочный ту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Line 8"/>
          <p:cNvSpPr/>
          <p:nvPr/>
        </p:nvSpPr>
        <p:spPr>
          <a:xfrm>
            <a:off x="179280" y="803160"/>
            <a:ext cx="8785440" cy="0"/>
          </a:xfrm>
          <a:prstGeom prst="line">
            <a:avLst/>
          </a:prstGeom>
          <a:ln w="7632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9"/>
          <p:cNvSpPr/>
          <p:nvPr/>
        </p:nvSpPr>
        <p:spPr>
          <a:xfrm>
            <a:off x="826920" y="1484280"/>
            <a:ext cx="7921800" cy="44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Какой геометрический термин произошёл от греческого </a:t>
            </a: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«измерение вокруг»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)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иметр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)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лощад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)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ъё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 поверхн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AutoShape 10">
            <a:hlinkClick r:id="rId1" action="ppaction://hlinksldjump"/>
          </p:cNvPr>
          <p:cNvSpPr/>
          <p:nvPr/>
        </p:nvSpPr>
        <p:spPr>
          <a:xfrm>
            <a:off x="179280" y="189000"/>
            <a:ext cx="505080" cy="576000"/>
          </a:xfrm>
          <a:custGeom>
            <a:avLst/>
            <a:gdLst>
              <a:gd name="textAreaLeft" fmla="*/ 32760 w 505080"/>
              <a:gd name="textAreaRight" fmla="*/ 472680 w 505080"/>
              <a:gd name="textAreaTop" fmla="*/ 32400 h 576000"/>
              <a:gd name="textAreaBottom" fmla="*/ 543600 h 576000"/>
            </a:gdLst>
            <a:ahLst/>
            <a:rect l="textAreaLeft" t="textAreaTop" r="textAreaRight" b="textAreaBottom"/>
            <a:pathLst>
              <a:path w="21600" h="24631">
                <a:moveTo>
                  <a:pt x="0" y="0"/>
                </a:moveTo>
                <a:lnTo>
                  <a:pt x="21600" y="0"/>
                </a:lnTo>
                <a:lnTo>
                  <a:pt x="21600" y="24631"/>
                </a:lnTo>
                <a:lnTo>
                  <a:pt x="0" y="24631"/>
                </a:lnTo>
                <a:close/>
              </a:path>
              <a:path fill="lightenLess" w="21600" h="246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31">
                <a:moveTo>
                  <a:pt x="21600" y="0"/>
                </a:moveTo>
                <a:lnTo>
                  <a:pt x="21600" y="24631"/>
                </a:lnTo>
                <a:lnTo>
                  <a:pt x="20200" y="23231"/>
                </a:lnTo>
                <a:lnTo>
                  <a:pt x="20200" y="1400"/>
                </a:lnTo>
                <a:close/>
              </a:path>
              <a:path fill="darkenLess" w="21600" h="24631">
                <a:moveTo>
                  <a:pt x="21600" y="24631"/>
                </a:moveTo>
                <a:lnTo>
                  <a:pt x="0" y="24631"/>
                </a:lnTo>
                <a:lnTo>
                  <a:pt x="1400" y="23231"/>
                </a:lnTo>
                <a:lnTo>
                  <a:pt x="20200" y="23231"/>
                </a:lnTo>
                <a:close/>
              </a:path>
              <a:path fill="lighten" w="21600" h="24631">
                <a:moveTo>
                  <a:pt x="0" y="246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31"/>
                </a:lnTo>
                <a:close/>
              </a:path>
              <a:path fill="darken" w="21600" h="24631">
                <a:moveTo>
                  <a:pt x="10800" y="5352"/>
                </a:moveTo>
                <a:lnTo>
                  <a:pt x="13376" y="7964"/>
                </a:lnTo>
                <a:lnTo>
                  <a:pt x="13376" y="6223"/>
                </a:lnTo>
                <a:lnTo>
                  <a:pt x="15152" y="6223"/>
                </a:lnTo>
                <a:lnTo>
                  <a:pt x="15152" y="9739"/>
                </a:lnTo>
                <a:lnTo>
                  <a:pt x="17763" y="12315"/>
                </a:lnTo>
                <a:lnTo>
                  <a:pt x="16109" y="12315"/>
                </a:lnTo>
                <a:lnTo>
                  <a:pt x="16109" y="19505"/>
                </a:lnTo>
                <a:lnTo>
                  <a:pt x="5491" y="19505"/>
                </a:lnTo>
                <a:lnTo>
                  <a:pt x="5491" y="12315"/>
                </a:lnTo>
                <a:lnTo>
                  <a:pt x="3837" y="12315"/>
                </a:lnTo>
                <a:close/>
              </a:path>
              <a:path fill="darkenLess" w="21600" h="24631">
                <a:moveTo>
                  <a:pt x="13376" y="7964"/>
                </a:moveTo>
                <a:lnTo>
                  <a:pt x="13376" y="6223"/>
                </a:lnTo>
                <a:lnTo>
                  <a:pt x="15152" y="6223"/>
                </a:lnTo>
                <a:lnTo>
                  <a:pt x="15152" y="9739"/>
                </a:lnTo>
                <a:close/>
              </a:path>
              <a:path fill="darkenLess" w="21600" h="24631">
                <a:moveTo>
                  <a:pt x="9877" y="15814"/>
                </a:moveTo>
                <a:lnTo>
                  <a:pt x="11723" y="15814"/>
                </a:lnTo>
                <a:lnTo>
                  <a:pt x="11723" y="19505"/>
                </a:lnTo>
                <a:lnTo>
                  <a:pt x="16109" y="19505"/>
                </a:lnTo>
                <a:lnTo>
                  <a:pt x="16109" y="12315"/>
                </a:lnTo>
                <a:lnTo>
                  <a:pt x="5491" y="12315"/>
                </a:lnTo>
                <a:lnTo>
                  <a:pt x="5491" y="19505"/>
                </a:lnTo>
                <a:lnTo>
                  <a:pt x="9877" y="19505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AutoShape 11">
            <a:hlinkClick r:id="" action="ppaction://hlinkshowjump?jump=nextslide"/>
          </p:cNvPr>
          <p:cNvSpPr/>
          <p:nvPr/>
        </p:nvSpPr>
        <p:spPr>
          <a:xfrm>
            <a:off x="8354880" y="6270480"/>
            <a:ext cx="611280" cy="405000"/>
          </a:xfrm>
          <a:custGeom>
            <a:avLst/>
            <a:gdLst>
              <a:gd name="textAreaLeft" fmla="*/ 25920 w 611280"/>
              <a:gd name="textAreaRight" fmla="*/ 585360 w 61128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32592" h="21600">
                <a:moveTo>
                  <a:pt x="0" y="0"/>
                </a:moveTo>
                <a:lnTo>
                  <a:pt x="32592" y="0"/>
                </a:lnTo>
                <a:lnTo>
                  <a:pt x="32592" y="21600"/>
                </a:lnTo>
                <a:lnTo>
                  <a:pt x="0" y="21600"/>
                </a:lnTo>
                <a:close/>
              </a:path>
              <a:path fill="lightenLess" w="32592" h="21600">
                <a:moveTo>
                  <a:pt x="0" y="0"/>
                </a:moveTo>
                <a:lnTo>
                  <a:pt x="32592" y="0"/>
                </a:lnTo>
                <a:lnTo>
                  <a:pt x="31192" y="1400"/>
                </a:lnTo>
                <a:lnTo>
                  <a:pt x="1400" y="1400"/>
                </a:lnTo>
                <a:close/>
              </a:path>
              <a:path fill="darken" w="32592" h="21600">
                <a:moveTo>
                  <a:pt x="32592" y="0"/>
                </a:moveTo>
                <a:lnTo>
                  <a:pt x="32592" y="21600"/>
                </a:lnTo>
                <a:lnTo>
                  <a:pt x="31192" y="20200"/>
                </a:lnTo>
                <a:lnTo>
                  <a:pt x="31192" y="1400"/>
                </a:lnTo>
                <a:close/>
              </a:path>
              <a:path fill="darkenLess" w="32592" h="21600">
                <a:moveTo>
                  <a:pt x="325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92" y="20200"/>
                </a:lnTo>
                <a:close/>
              </a:path>
              <a:path fill="lighten" w="325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92" h="21600">
                <a:moveTo>
                  <a:pt x="9289" y="3794"/>
                </a:moveTo>
                <a:lnTo>
                  <a:pt x="23302" y="10800"/>
                </a:lnTo>
                <a:lnTo>
                  <a:pt x="9289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2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2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2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2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2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2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1" dur="500" fill="hold"/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ffcc"/>
                                      </p:to>
                                    </p:animClr>
                                    <p:animClr clrSpc="rgb">
                                      <p:cBhvr>
                                        <p:cTn id="442" dur="500" fill="hold"/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ffcc"/>
                                      </p:to>
                                    </p:animClr>
                                    <p:set>
                                      <p:cBhvr>
                                        <p:cTn id="443" dur="500" fill="hold"/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8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4"/>
            <p:cNvSpPr/>
            <p:nvPr/>
          </p:nvSpPr>
          <p:spPr>
            <a:xfrm>
              <a:off x="0" y="0"/>
              <a:ext cx="179280" cy="685800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5"/>
            <p:cNvSpPr/>
            <p:nvPr/>
          </p:nvSpPr>
          <p:spPr>
            <a:xfrm>
              <a:off x="8964720" y="0"/>
              <a:ext cx="179280" cy="685800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6"/>
            <p:cNvSpPr/>
            <p:nvPr/>
          </p:nvSpPr>
          <p:spPr>
            <a:xfrm rot="5400000">
              <a:off x="4478760" y="-4298040"/>
              <a:ext cx="189000" cy="878508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7"/>
            <p:cNvSpPr/>
            <p:nvPr/>
          </p:nvSpPr>
          <p:spPr>
            <a:xfrm rot="5400000">
              <a:off x="4478760" y="2369160"/>
              <a:ext cx="189000" cy="878508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Rectangle 9"/>
          <p:cNvSpPr/>
          <p:nvPr/>
        </p:nvSpPr>
        <p:spPr>
          <a:xfrm>
            <a:off x="1042920" y="117360"/>
            <a:ext cx="77770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Своя игра</a:t>
            </a: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                   </a:t>
            </a: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I </a:t>
            </a: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 отборочный ту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11"/>
          <p:cNvSpPr/>
          <p:nvPr/>
        </p:nvSpPr>
        <p:spPr>
          <a:xfrm>
            <a:off x="179280" y="803160"/>
            <a:ext cx="8785440" cy="0"/>
          </a:xfrm>
          <a:prstGeom prst="line">
            <a:avLst/>
          </a:prstGeom>
          <a:ln w="7632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2"/>
          <p:cNvSpPr/>
          <p:nvPr/>
        </p:nvSpPr>
        <p:spPr>
          <a:xfrm>
            <a:off x="826920" y="1484280"/>
            <a:ext cx="7391520" cy="30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Как называется знаменитая картина Пабло Пикасс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)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Девочка на трапеции»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) «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вочка на шаре»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)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Девочка на кубе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14">
            <a:hlinkClick r:id="" action="ppaction://hlinkshowjump?jump=nextslide"/>
          </p:cNvPr>
          <p:cNvSpPr/>
          <p:nvPr/>
        </p:nvSpPr>
        <p:spPr>
          <a:xfrm>
            <a:off x="8354880" y="6270480"/>
            <a:ext cx="611280" cy="405000"/>
          </a:xfrm>
          <a:custGeom>
            <a:avLst/>
            <a:gdLst>
              <a:gd name="textAreaLeft" fmla="*/ 25920 w 611280"/>
              <a:gd name="textAreaRight" fmla="*/ 585360 w 61128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32592" h="21600">
                <a:moveTo>
                  <a:pt x="0" y="0"/>
                </a:moveTo>
                <a:lnTo>
                  <a:pt x="32592" y="0"/>
                </a:lnTo>
                <a:lnTo>
                  <a:pt x="32592" y="21600"/>
                </a:lnTo>
                <a:lnTo>
                  <a:pt x="0" y="21600"/>
                </a:lnTo>
                <a:close/>
              </a:path>
              <a:path fill="lightenLess" w="32592" h="21600">
                <a:moveTo>
                  <a:pt x="0" y="0"/>
                </a:moveTo>
                <a:lnTo>
                  <a:pt x="32592" y="0"/>
                </a:lnTo>
                <a:lnTo>
                  <a:pt x="31192" y="1400"/>
                </a:lnTo>
                <a:lnTo>
                  <a:pt x="1400" y="1400"/>
                </a:lnTo>
                <a:close/>
              </a:path>
              <a:path fill="darken" w="32592" h="21600">
                <a:moveTo>
                  <a:pt x="32592" y="0"/>
                </a:moveTo>
                <a:lnTo>
                  <a:pt x="32592" y="21600"/>
                </a:lnTo>
                <a:lnTo>
                  <a:pt x="31192" y="20200"/>
                </a:lnTo>
                <a:lnTo>
                  <a:pt x="31192" y="1400"/>
                </a:lnTo>
                <a:close/>
              </a:path>
              <a:path fill="darkenLess" w="32592" h="21600">
                <a:moveTo>
                  <a:pt x="325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92" y="20200"/>
                </a:lnTo>
                <a:close/>
              </a:path>
              <a:path fill="lighten" w="325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92" h="21600">
                <a:moveTo>
                  <a:pt x="9289" y="3794"/>
                </a:moveTo>
                <a:lnTo>
                  <a:pt x="23302" y="10800"/>
                </a:lnTo>
                <a:lnTo>
                  <a:pt x="9289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15">
            <a:hlinkClick r:id="rId1" action="ppaction://hlinksldjump"/>
          </p:cNvPr>
          <p:cNvSpPr/>
          <p:nvPr/>
        </p:nvSpPr>
        <p:spPr>
          <a:xfrm>
            <a:off x="179280" y="189000"/>
            <a:ext cx="505080" cy="576000"/>
          </a:xfrm>
          <a:custGeom>
            <a:avLst/>
            <a:gdLst>
              <a:gd name="textAreaLeft" fmla="*/ 32760 w 505080"/>
              <a:gd name="textAreaRight" fmla="*/ 472680 w 505080"/>
              <a:gd name="textAreaTop" fmla="*/ 32400 h 576000"/>
              <a:gd name="textAreaBottom" fmla="*/ 543600 h 576000"/>
            </a:gdLst>
            <a:ahLst/>
            <a:rect l="textAreaLeft" t="textAreaTop" r="textAreaRight" b="textAreaBottom"/>
            <a:pathLst>
              <a:path w="21600" h="24631">
                <a:moveTo>
                  <a:pt x="0" y="0"/>
                </a:moveTo>
                <a:lnTo>
                  <a:pt x="21600" y="0"/>
                </a:lnTo>
                <a:lnTo>
                  <a:pt x="21600" y="24631"/>
                </a:lnTo>
                <a:lnTo>
                  <a:pt x="0" y="24631"/>
                </a:lnTo>
                <a:close/>
              </a:path>
              <a:path fill="lightenLess" w="21600" h="246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31">
                <a:moveTo>
                  <a:pt x="21600" y="0"/>
                </a:moveTo>
                <a:lnTo>
                  <a:pt x="21600" y="24631"/>
                </a:lnTo>
                <a:lnTo>
                  <a:pt x="20200" y="23231"/>
                </a:lnTo>
                <a:lnTo>
                  <a:pt x="20200" y="1400"/>
                </a:lnTo>
                <a:close/>
              </a:path>
              <a:path fill="darkenLess" w="21600" h="24631">
                <a:moveTo>
                  <a:pt x="21600" y="24631"/>
                </a:moveTo>
                <a:lnTo>
                  <a:pt x="0" y="24631"/>
                </a:lnTo>
                <a:lnTo>
                  <a:pt x="1400" y="23231"/>
                </a:lnTo>
                <a:lnTo>
                  <a:pt x="20200" y="23231"/>
                </a:lnTo>
                <a:close/>
              </a:path>
              <a:path fill="lighten" w="21600" h="24631">
                <a:moveTo>
                  <a:pt x="0" y="246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31"/>
                </a:lnTo>
                <a:close/>
              </a:path>
              <a:path fill="darken" w="21600" h="24631">
                <a:moveTo>
                  <a:pt x="10800" y="5352"/>
                </a:moveTo>
                <a:lnTo>
                  <a:pt x="13376" y="7964"/>
                </a:lnTo>
                <a:lnTo>
                  <a:pt x="13376" y="6223"/>
                </a:lnTo>
                <a:lnTo>
                  <a:pt x="15152" y="6223"/>
                </a:lnTo>
                <a:lnTo>
                  <a:pt x="15152" y="9739"/>
                </a:lnTo>
                <a:lnTo>
                  <a:pt x="17763" y="12315"/>
                </a:lnTo>
                <a:lnTo>
                  <a:pt x="16109" y="12315"/>
                </a:lnTo>
                <a:lnTo>
                  <a:pt x="16109" y="19505"/>
                </a:lnTo>
                <a:lnTo>
                  <a:pt x="5491" y="19505"/>
                </a:lnTo>
                <a:lnTo>
                  <a:pt x="5491" y="12315"/>
                </a:lnTo>
                <a:lnTo>
                  <a:pt x="3837" y="12315"/>
                </a:lnTo>
                <a:close/>
              </a:path>
              <a:path fill="darkenLess" w="21600" h="24631">
                <a:moveTo>
                  <a:pt x="13376" y="7964"/>
                </a:moveTo>
                <a:lnTo>
                  <a:pt x="13376" y="6223"/>
                </a:lnTo>
                <a:lnTo>
                  <a:pt x="15152" y="6223"/>
                </a:lnTo>
                <a:lnTo>
                  <a:pt x="15152" y="9739"/>
                </a:lnTo>
                <a:close/>
              </a:path>
              <a:path fill="darkenLess" w="21600" h="24631">
                <a:moveTo>
                  <a:pt x="9877" y="15814"/>
                </a:moveTo>
                <a:lnTo>
                  <a:pt x="11723" y="15814"/>
                </a:lnTo>
                <a:lnTo>
                  <a:pt x="11723" y="19505"/>
                </a:lnTo>
                <a:lnTo>
                  <a:pt x="16109" y="19505"/>
                </a:lnTo>
                <a:lnTo>
                  <a:pt x="16109" y="12315"/>
                </a:lnTo>
                <a:lnTo>
                  <a:pt x="5491" y="12315"/>
                </a:lnTo>
                <a:lnTo>
                  <a:pt x="5491" y="19505"/>
                </a:lnTo>
                <a:lnTo>
                  <a:pt x="9877" y="19505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" dur="10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9ffcc"/>
                                      </p:to>
                                    </p:animClr>
                                    <p:animClr clrSpc="rgb">
                                      <p:cBhvr>
                                        <p:cTn id="23" dur="10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ffcc"/>
                                      </p:to>
                                    </p:animClr>
                                    <p:set>
                                      <p:cBhvr>
                                        <p:cTn id="24" dur="10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301" name="Rectangle 3"/>
            <p:cNvSpPr/>
            <p:nvPr/>
          </p:nvSpPr>
          <p:spPr>
            <a:xfrm>
              <a:off x="0" y="0"/>
              <a:ext cx="179280" cy="685800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Rectangle 4"/>
            <p:cNvSpPr/>
            <p:nvPr/>
          </p:nvSpPr>
          <p:spPr>
            <a:xfrm>
              <a:off x="8964720" y="0"/>
              <a:ext cx="179280" cy="685800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Rectangle 5"/>
            <p:cNvSpPr/>
            <p:nvPr/>
          </p:nvSpPr>
          <p:spPr>
            <a:xfrm rot="5400000">
              <a:off x="4478760" y="-4298040"/>
              <a:ext cx="189000" cy="878508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Rectangle 6"/>
            <p:cNvSpPr/>
            <p:nvPr/>
          </p:nvSpPr>
          <p:spPr>
            <a:xfrm rot="5400000">
              <a:off x="4478760" y="2369160"/>
              <a:ext cx="189000" cy="878508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5" name="Rectangle 7"/>
          <p:cNvSpPr/>
          <p:nvPr/>
        </p:nvSpPr>
        <p:spPr>
          <a:xfrm>
            <a:off x="1042920" y="117360"/>
            <a:ext cx="77770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Своя игра</a:t>
            </a: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                   </a:t>
            </a: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II</a:t>
            </a: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 отборочный ту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Line 8"/>
          <p:cNvSpPr/>
          <p:nvPr/>
        </p:nvSpPr>
        <p:spPr>
          <a:xfrm>
            <a:off x="179280" y="803160"/>
            <a:ext cx="8785440" cy="0"/>
          </a:xfrm>
          <a:prstGeom prst="line">
            <a:avLst/>
          </a:prstGeom>
          <a:ln w="7632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9"/>
          <p:cNvSpPr/>
          <p:nvPr/>
        </p:nvSpPr>
        <p:spPr>
          <a:xfrm>
            <a:off x="826920" y="1484280"/>
            <a:ext cx="7921800" cy="38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Как называется отрезок прямой, соединяющий две какие-либо </a:t>
            </a: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точки окружности?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)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диус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)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екуща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)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ор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AutoShape 10">
            <a:hlinkClick r:id="rId1" action="ppaction://hlinksldjump"/>
          </p:cNvPr>
          <p:cNvSpPr/>
          <p:nvPr/>
        </p:nvSpPr>
        <p:spPr>
          <a:xfrm>
            <a:off x="179280" y="189000"/>
            <a:ext cx="505080" cy="576000"/>
          </a:xfrm>
          <a:custGeom>
            <a:avLst/>
            <a:gdLst>
              <a:gd name="textAreaLeft" fmla="*/ 32760 w 505080"/>
              <a:gd name="textAreaRight" fmla="*/ 472680 w 505080"/>
              <a:gd name="textAreaTop" fmla="*/ 32400 h 576000"/>
              <a:gd name="textAreaBottom" fmla="*/ 543600 h 576000"/>
            </a:gdLst>
            <a:ahLst/>
            <a:rect l="textAreaLeft" t="textAreaTop" r="textAreaRight" b="textAreaBottom"/>
            <a:pathLst>
              <a:path w="21600" h="24631">
                <a:moveTo>
                  <a:pt x="0" y="0"/>
                </a:moveTo>
                <a:lnTo>
                  <a:pt x="21600" y="0"/>
                </a:lnTo>
                <a:lnTo>
                  <a:pt x="21600" y="24631"/>
                </a:lnTo>
                <a:lnTo>
                  <a:pt x="0" y="24631"/>
                </a:lnTo>
                <a:close/>
              </a:path>
              <a:path fill="lightenLess" w="21600" h="246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31">
                <a:moveTo>
                  <a:pt x="21600" y="0"/>
                </a:moveTo>
                <a:lnTo>
                  <a:pt x="21600" y="24631"/>
                </a:lnTo>
                <a:lnTo>
                  <a:pt x="20200" y="23231"/>
                </a:lnTo>
                <a:lnTo>
                  <a:pt x="20200" y="1400"/>
                </a:lnTo>
                <a:close/>
              </a:path>
              <a:path fill="darkenLess" w="21600" h="24631">
                <a:moveTo>
                  <a:pt x="21600" y="24631"/>
                </a:moveTo>
                <a:lnTo>
                  <a:pt x="0" y="24631"/>
                </a:lnTo>
                <a:lnTo>
                  <a:pt x="1400" y="23231"/>
                </a:lnTo>
                <a:lnTo>
                  <a:pt x="20200" y="23231"/>
                </a:lnTo>
                <a:close/>
              </a:path>
              <a:path fill="lighten" w="21600" h="24631">
                <a:moveTo>
                  <a:pt x="0" y="246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31"/>
                </a:lnTo>
                <a:close/>
              </a:path>
              <a:path fill="darken" w="21600" h="24631">
                <a:moveTo>
                  <a:pt x="10800" y="5352"/>
                </a:moveTo>
                <a:lnTo>
                  <a:pt x="13376" y="7964"/>
                </a:lnTo>
                <a:lnTo>
                  <a:pt x="13376" y="6223"/>
                </a:lnTo>
                <a:lnTo>
                  <a:pt x="15152" y="6223"/>
                </a:lnTo>
                <a:lnTo>
                  <a:pt x="15152" y="9739"/>
                </a:lnTo>
                <a:lnTo>
                  <a:pt x="17763" y="12315"/>
                </a:lnTo>
                <a:lnTo>
                  <a:pt x="16109" y="12315"/>
                </a:lnTo>
                <a:lnTo>
                  <a:pt x="16109" y="19505"/>
                </a:lnTo>
                <a:lnTo>
                  <a:pt x="5491" y="19505"/>
                </a:lnTo>
                <a:lnTo>
                  <a:pt x="5491" y="12315"/>
                </a:lnTo>
                <a:lnTo>
                  <a:pt x="3837" y="12315"/>
                </a:lnTo>
                <a:close/>
              </a:path>
              <a:path fill="darkenLess" w="21600" h="24631">
                <a:moveTo>
                  <a:pt x="13376" y="7964"/>
                </a:moveTo>
                <a:lnTo>
                  <a:pt x="13376" y="6223"/>
                </a:lnTo>
                <a:lnTo>
                  <a:pt x="15152" y="6223"/>
                </a:lnTo>
                <a:lnTo>
                  <a:pt x="15152" y="9739"/>
                </a:lnTo>
                <a:close/>
              </a:path>
              <a:path fill="darkenLess" w="21600" h="24631">
                <a:moveTo>
                  <a:pt x="9877" y="15814"/>
                </a:moveTo>
                <a:lnTo>
                  <a:pt x="11723" y="15814"/>
                </a:lnTo>
                <a:lnTo>
                  <a:pt x="11723" y="19505"/>
                </a:lnTo>
                <a:lnTo>
                  <a:pt x="16109" y="19505"/>
                </a:lnTo>
                <a:lnTo>
                  <a:pt x="16109" y="12315"/>
                </a:lnTo>
                <a:lnTo>
                  <a:pt x="5491" y="12315"/>
                </a:lnTo>
                <a:lnTo>
                  <a:pt x="5491" y="19505"/>
                </a:lnTo>
                <a:lnTo>
                  <a:pt x="9877" y="19505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3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3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5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3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3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500" fill="hold"/>
                                        <p:tgtEl>
                                          <p:spTgt spid="3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ffcc"/>
                                      </p:to>
                                    </p:animClr>
                                    <p:animClr clrSpc="rgb">
                                      <p:cBhvr>
                                        <p:cTn id="466" dur="500" fill="hold"/>
                                        <p:tgtEl>
                                          <p:spTgt spid="3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ffcc"/>
                                      </p:to>
                                    </p:animClr>
                                    <p:set>
                                      <p:cBhvr>
                                        <p:cTn id="467" dur="500" fill="hold"/>
                                        <p:tgtEl>
                                          <p:spTgt spid="3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9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310" name="Rectangle 3"/>
            <p:cNvSpPr/>
            <p:nvPr/>
          </p:nvSpPr>
          <p:spPr>
            <a:xfrm>
              <a:off x="0" y="0"/>
              <a:ext cx="179280" cy="685800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Rectangle 4"/>
            <p:cNvSpPr/>
            <p:nvPr/>
          </p:nvSpPr>
          <p:spPr>
            <a:xfrm>
              <a:off x="8964720" y="0"/>
              <a:ext cx="179280" cy="685800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Rectangle 5"/>
            <p:cNvSpPr/>
            <p:nvPr/>
          </p:nvSpPr>
          <p:spPr>
            <a:xfrm rot="5400000">
              <a:off x="4478760" y="-4298040"/>
              <a:ext cx="189000" cy="878508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Rectangle 6"/>
            <p:cNvSpPr/>
            <p:nvPr/>
          </p:nvSpPr>
          <p:spPr>
            <a:xfrm rot="5400000">
              <a:off x="4478760" y="2369160"/>
              <a:ext cx="189000" cy="878508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4" name="Rectangle 7"/>
          <p:cNvSpPr/>
          <p:nvPr/>
        </p:nvSpPr>
        <p:spPr>
          <a:xfrm>
            <a:off x="1042920" y="162000"/>
            <a:ext cx="77770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Своя игра</a:t>
            </a: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                   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II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ту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Line 8"/>
          <p:cNvSpPr/>
          <p:nvPr/>
        </p:nvSpPr>
        <p:spPr>
          <a:xfrm>
            <a:off x="179280" y="836640"/>
            <a:ext cx="8785440" cy="0"/>
          </a:xfrm>
          <a:prstGeom prst="line">
            <a:avLst/>
          </a:prstGeom>
          <a:ln w="7632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AutoShape 11"/>
          <p:cNvSpPr/>
          <p:nvPr/>
        </p:nvSpPr>
        <p:spPr>
          <a:xfrm>
            <a:off x="468360" y="3573360"/>
            <a:ext cx="4019400" cy="1008000"/>
          </a:xfrm>
          <a:prstGeom prst="bevel">
            <a:avLst>
              <a:gd name="adj" fmla="val 12500"/>
            </a:avLst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AutoShape 12"/>
          <p:cNvSpPr/>
          <p:nvPr/>
        </p:nvSpPr>
        <p:spPr>
          <a:xfrm>
            <a:off x="452520" y="1700280"/>
            <a:ext cx="4032000" cy="936720"/>
          </a:xfrm>
          <a:prstGeom prst="bevel">
            <a:avLst>
              <a:gd name="adj" fmla="val 12500"/>
            </a:avLst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AutoShape 13"/>
          <p:cNvSpPr/>
          <p:nvPr/>
        </p:nvSpPr>
        <p:spPr>
          <a:xfrm>
            <a:off x="455760" y="2637000"/>
            <a:ext cx="4032000" cy="936360"/>
          </a:xfrm>
          <a:prstGeom prst="bevel">
            <a:avLst>
              <a:gd name="adj" fmla="val 12500"/>
            </a:avLst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AutoShape 16">
            <a:hlinkClick r:id="rId1" action="ppaction://hlinksldjump"/>
          </p:cNvPr>
          <p:cNvSpPr/>
          <p:nvPr/>
        </p:nvSpPr>
        <p:spPr>
          <a:xfrm>
            <a:off x="4500720" y="3573360"/>
            <a:ext cx="1428480" cy="1008000"/>
          </a:xfrm>
          <a:prstGeom prst="bevel">
            <a:avLst>
              <a:gd name="adj" fmla="val 12500"/>
            </a:avLst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9999"/>
                </a:solidFill>
                <a:uFillTx/>
                <a:latin typeface="Garamond"/>
                <a:hlinkClick r:id="rId2" action="ppaction://hlinksldjump"/>
              </a:rPr>
              <a:t>1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AutoShape 17">
            <a:hlinkClick r:id="rId3" action="ppaction://hlinksldjump"/>
          </p:cNvPr>
          <p:cNvSpPr/>
          <p:nvPr/>
        </p:nvSpPr>
        <p:spPr>
          <a:xfrm>
            <a:off x="4484520" y="1700280"/>
            <a:ext cx="1428840" cy="936720"/>
          </a:xfrm>
          <a:prstGeom prst="bevel">
            <a:avLst>
              <a:gd name="adj" fmla="val 12500"/>
            </a:avLst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9999"/>
                </a:solidFill>
                <a:uFillTx/>
                <a:latin typeface="Garamond"/>
                <a:hlinkClick r:id="rId4" action="ppaction://hlinksldjump"/>
              </a:rPr>
              <a:t>1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AutoShape 18">
            <a:hlinkClick r:id="rId5" action="ppaction://hlinksldjump"/>
          </p:cNvPr>
          <p:cNvSpPr/>
          <p:nvPr/>
        </p:nvSpPr>
        <p:spPr>
          <a:xfrm>
            <a:off x="4487760" y="2637000"/>
            <a:ext cx="1428840" cy="936360"/>
          </a:xfrm>
          <a:prstGeom prst="bevel">
            <a:avLst>
              <a:gd name="adj" fmla="val 12500"/>
            </a:avLst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9999"/>
                </a:solidFill>
                <a:uFillTx/>
                <a:latin typeface="Garamond"/>
                <a:hlinkClick r:id="rId6" action="ppaction://hlinksldjump"/>
              </a:rPr>
              <a:t>1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AutoShape 21">
            <a:hlinkClick r:id="rId7" action="ppaction://hlinksldjump"/>
          </p:cNvPr>
          <p:cNvSpPr/>
          <p:nvPr/>
        </p:nvSpPr>
        <p:spPr>
          <a:xfrm>
            <a:off x="7380360" y="3573360"/>
            <a:ext cx="1299960" cy="1008000"/>
          </a:xfrm>
          <a:prstGeom prst="bevel">
            <a:avLst>
              <a:gd name="adj" fmla="val 12500"/>
            </a:avLst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9999"/>
                </a:solidFill>
                <a:uFillTx/>
                <a:latin typeface="Garamond"/>
                <a:hlinkClick r:id="rId8" action="ppaction://hlinksldjump"/>
              </a:rPr>
              <a:t>3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AutoShape 22">
            <a:hlinkClick r:id="rId9" action="ppaction://hlinksldjump"/>
          </p:cNvPr>
          <p:cNvSpPr/>
          <p:nvPr/>
        </p:nvSpPr>
        <p:spPr>
          <a:xfrm>
            <a:off x="7364520" y="1700280"/>
            <a:ext cx="1314360" cy="936720"/>
          </a:xfrm>
          <a:prstGeom prst="bevel">
            <a:avLst>
              <a:gd name="adj" fmla="val 12500"/>
            </a:avLst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9999"/>
                </a:solidFill>
                <a:uFillTx/>
                <a:latin typeface="Garamond"/>
                <a:hlinkClick r:id="rId10" action="ppaction://hlinksldjump"/>
              </a:rPr>
              <a:t>3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AutoShape 23">
            <a:hlinkClick r:id="rId11" action="ppaction://hlinksldjump"/>
          </p:cNvPr>
          <p:cNvSpPr/>
          <p:nvPr/>
        </p:nvSpPr>
        <p:spPr>
          <a:xfrm>
            <a:off x="7378560" y="2637000"/>
            <a:ext cx="1301760" cy="936360"/>
          </a:xfrm>
          <a:prstGeom prst="bevel">
            <a:avLst>
              <a:gd name="adj" fmla="val 12500"/>
            </a:avLst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9999"/>
                </a:solidFill>
                <a:uFillTx/>
                <a:latin typeface="Garamond"/>
                <a:hlinkClick r:id="rId12" action="ppaction://hlinksldjump"/>
              </a:rPr>
              <a:t>3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AutoShape 26">
            <a:hlinkClick r:id="rId13" action="ppaction://hlinksldjump"/>
          </p:cNvPr>
          <p:cNvSpPr/>
          <p:nvPr/>
        </p:nvSpPr>
        <p:spPr>
          <a:xfrm>
            <a:off x="5940360" y="3573360"/>
            <a:ext cx="1416240" cy="1008000"/>
          </a:xfrm>
          <a:prstGeom prst="bevel">
            <a:avLst>
              <a:gd name="adj" fmla="val 12500"/>
            </a:avLst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9999"/>
                </a:solidFill>
                <a:uFillTx/>
                <a:latin typeface="Garamond"/>
                <a:hlinkClick r:id="rId14" action="ppaction://hlinksldjump"/>
              </a:rPr>
              <a:t>2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AutoShape 27">
            <a:hlinkClick r:id="rId15" action="ppaction://hlinksldjump"/>
          </p:cNvPr>
          <p:cNvSpPr/>
          <p:nvPr/>
        </p:nvSpPr>
        <p:spPr>
          <a:xfrm>
            <a:off x="5924520" y="1700280"/>
            <a:ext cx="1428840" cy="936720"/>
          </a:xfrm>
          <a:prstGeom prst="bevel">
            <a:avLst>
              <a:gd name="adj" fmla="val 12500"/>
            </a:avLst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9999"/>
                </a:solidFill>
                <a:uFillTx/>
                <a:latin typeface="Garamond"/>
                <a:hlinkClick r:id="rId16" action="ppaction://hlinksldjump"/>
              </a:rPr>
              <a:t>2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AutoShape 28">
            <a:hlinkClick r:id="rId17" action="ppaction://hlinksldjump"/>
          </p:cNvPr>
          <p:cNvSpPr/>
          <p:nvPr/>
        </p:nvSpPr>
        <p:spPr>
          <a:xfrm>
            <a:off x="5940360" y="2637000"/>
            <a:ext cx="1428840" cy="936360"/>
          </a:xfrm>
          <a:prstGeom prst="bevel">
            <a:avLst>
              <a:gd name="adj" fmla="val 12500"/>
            </a:avLst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9999"/>
                </a:solidFill>
                <a:uFillTx/>
                <a:latin typeface="Garamond"/>
                <a:hlinkClick r:id="rId18" action="ppaction://hlinksldjump"/>
              </a:rPr>
              <a:t>2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29"/>
          <p:cNvSpPr/>
          <p:nvPr/>
        </p:nvSpPr>
        <p:spPr>
          <a:xfrm>
            <a:off x="527040" y="2852640"/>
            <a:ext cx="3816360" cy="45972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колько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30"/>
          <p:cNvSpPr/>
          <p:nvPr/>
        </p:nvSpPr>
        <p:spPr>
          <a:xfrm>
            <a:off x="523800" y="1844640"/>
            <a:ext cx="3816360" cy="45972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Шара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33"/>
          <p:cNvSpPr/>
          <p:nvPr/>
        </p:nvSpPr>
        <p:spPr>
          <a:xfrm>
            <a:off x="611280" y="3652920"/>
            <a:ext cx="3744720" cy="76428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Математические омоним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AutoShape 34">
            <a:hlinkClick r:id="rId19" action="ppaction://hlinksldjump"/>
          </p:cNvPr>
          <p:cNvSpPr/>
          <p:nvPr/>
        </p:nvSpPr>
        <p:spPr>
          <a:xfrm rot="10800000">
            <a:off x="8566200" y="6270120"/>
            <a:ext cx="395280" cy="405000"/>
          </a:xfrm>
          <a:custGeom>
            <a:avLst/>
            <a:gdLst>
              <a:gd name="textAreaLeft" fmla="*/ 25560 w 395280"/>
              <a:gd name="textAreaRight" fmla="*/ 369720 w 395280"/>
              <a:gd name="textAreaTop" fmla="*/ 25560 h 405000"/>
              <a:gd name="textAreaBottom" fmla="*/ 379440 h 405000"/>
            </a:gdLst>
            <a:ahLst/>
            <a:rect l="textAreaLeft" t="textAreaTop" r="textAreaRight" b="textAreaBottom"/>
            <a:pathLst>
              <a:path w="21600" h="22131">
                <a:moveTo>
                  <a:pt x="0" y="0"/>
                </a:moveTo>
                <a:lnTo>
                  <a:pt x="21600" y="0"/>
                </a:lnTo>
                <a:lnTo>
                  <a:pt x="21600" y="22131"/>
                </a:lnTo>
                <a:lnTo>
                  <a:pt x="0" y="22131"/>
                </a:lnTo>
                <a:close/>
              </a:path>
              <a:path fill="lightenLess" w="21600" h="221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131">
                <a:moveTo>
                  <a:pt x="21600" y="0"/>
                </a:moveTo>
                <a:lnTo>
                  <a:pt x="21600" y="22131"/>
                </a:lnTo>
                <a:lnTo>
                  <a:pt x="20200" y="20731"/>
                </a:lnTo>
                <a:lnTo>
                  <a:pt x="20200" y="1400"/>
                </a:lnTo>
                <a:close/>
              </a:path>
              <a:path fill="darkenLess" w="21600" h="22131">
                <a:moveTo>
                  <a:pt x="21600" y="22131"/>
                </a:moveTo>
                <a:lnTo>
                  <a:pt x="0" y="22131"/>
                </a:lnTo>
                <a:lnTo>
                  <a:pt x="1400" y="20731"/>
                </a:lnTo>
                <a:lnTo>
                  <a:pt x="20200" y="20731"/>
                </a:lnTo>
                <a:close/>
              </a:path>
              <a:path fill="lighten" w="21600" h="22131">
                <a:moveTo>
                  <a:pt x="0" y="221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0731"/>
                </a:lnTo>
                <a:close/>
              </a:path>
              <a:path fill="darken" w="21600" h="22131">
                <a:moveTo>
                  <a:pt x="3794" y="7758"/>
                </a:moveTo>
                <a:lnTo>
                  <a:pt x="7301" y="7758"/>
                </a:lnTo>
                <a:lnTo>
                  <a:pt x="7301" y="13093"/>
                </a:lnTo>
                <a:cubicBezTo>
                  <a:pt x="7301" y="14016"/>
                  <a:pt x="8102" y="14747"/>
                  <a:pt x="9138" y="14747"/>
                </a:cubicBezTo>
                <a:lnTo>
                  <a:pt x="10800" y="14747"/>
                </a:lnTo>
                <a:cubicBezTo>
                  <a:pt x="11836" y="14747"/>
                  <a:pt x="12636" y="14016"/>
                  <a:pt x="12636" y="13093"/>
                </a:cubicBezTo>
                <a:lnTo>
                  <a:pt x="12636" y="7758"/>
                </a:lnTo>
                <a:lnTo>
                  <a:pt x="10800" y="7758"/>
                </a:lnTo>
                <a:lnTo>
                  <a:pt x="14308" y="4250"/>
                </a:lnTo>
                <a:lnTo>
                  <a:pt x="17981" y="7758"/>
                </a:lnTo>
                <a:lnTo>
                  <a:pt x="16144" y="7758"/>
                </a:lnTo>
                <a:lnTo>
                  <a:pt x="16144" y="13093"/>
                </a:lnTo>
                <a:cubicBezTo>
                  <a:pt x="16144" y="15861"/>
                  <a:pt x="13568" y="18420"/>
                  <a:pt x="10800" y="18420"/>
                </a:cubicBezTo>
                <a:lnTo>
                  <a:pt x="9138" y="18420"/>
                </a:lnTo>
                <a:cubicBezTo>
                  <a:pt x="6370" y="18420"/>
                  <a:pt x="3794" y="15861"/>
                  <a:pt x="3794" y="13093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35">
            <a:hlinkClick r:id="rId20" action="ppaction://hlinksldjump"/>
          </p:cNvPr>
          <p:cNvSpPr/>
          <p:nvPr/>
        </p:nvSpPr>
        <p:spPr>
          <a:xfrm>
            <a:off x="179280" y="189000"/>
            <a:ext cx="289080" cy="368280"/>
          </a:xfrm>
          <a:prstGeom prst="rect">
            <a:avLst/>
          </a:prstGeom>
          <a:gradFill rotWithShape="0">
            <a:gsLst>
              <a:gs pos="0">
                <a:srgbClr val="576869"/>
              </a:gs>
              <a:gs pos="50000">
                <a:srgbClr val="bbe0e3"/>
              </a:gs>
              <a:gs pos="100000">
                <a:srgbClr val="576869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36">
            <a:hlinkClick r:id="rId21" action="ppaction://hlinksldjump"/>
          </p:cNvPr>
          <p:cNvSpPr/>
          <p:nvPr/>
        </p:nvSpPr>
        <p:spPr>
          <a:xfrm>
            <a:off x="468360" y="189000"/>
            <a:ext cx="287280" cy="368280"/>
          </a:xfrm>
          <a:prstGeom prst="rect">
            <a:avLst/>
          </a:prstGeom>
          <a:gradFill rotWithShape="0">
            <a:gsLst>
              <a:gs pos="0">
                <a:srgbClr val="576869"/>
              </a:gs>
              <a:gs pos="50000">
                <a:srgbClr val="bbe0e3"/>
              </a:gs>
              <a:gs pos="100000">
                <a:srgbClr val="576869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37">
            <a:hlinkClick r:id="rId22" action="ppaction://hlinksldjump"/>
          </p:cNvPr>
          <p:cNvSpPr/>
          <p:nvPr/>
        </p:nvSpPr>
        <p:spPr>
          <a:xfrm>
            <a:off x="755640" y="189000"/>
            <a:ext cx="287280" cy="368280"/>
          </a:xfrm>
          <a:prstGeom prst="rect">
            <a:avLst/>
          </a:prstGeom>
          <a:gradFill rotWithShape="0">
            <a:gsLst>
              <a:gs pos="0">
                <a:srgbClr val="576869"/>
              </a:gs>
              <a:gs pos="50000">
                <a:srgbClr val="bbe0e3"/>
              </a:gs>
              <a:gs pos="100000">
                <a:srgbClr val="576869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38">
            <a:hlinkClick r:id="rId23" action="ppaction://hlinksldjump"/>
          </p:cNvPr>
          <p:cNvSpPr/>
          <p:nvPr/>
        </p:nvSpPr>
        <p:spPr>
          <a:xfrm>
            <a:off x="1042920" y="189000"/>
            <a:ext cx="287280" cy="368280"/>
          </a:xfrm>
          <a:prstGeom prst="rect">
            <a:avLst/>
          </a:prstGeom>
          <a:gradFill rotWithShape="0">
            <a:gsLst>
              <a:gs pos="0">
                <a:srgbClr val="576869"/>
              </a:gs>
              <a:gs pos="50000">
                <a:srgbClr val="bbe0e3"/>
              </a:gs>
              <a:gs pos="100000">
                <a:srgbClr val="576869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6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337" name="Rectangle 3"/>
            <p:cNvSpPr/>
            <p:nvPr/>
          </p:nvSpPr>
          <p:spPr>
            <a:xfrm>
              <a:off x="0" y="0"/>
              <a:ext cx="179280" cy="685800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Rectangle 4"/>
            <p:cNvSpPr/>
            <p:nvPr/>
          </p:nvSpPr>
          <p:spPr>
            <a:xfrm>
              <a:off x="8964720" y="0"/>
              <a:ext cx="179280" cy="685800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Rectangle 5"/>
            <p:cNvSpPr/>
            <p:nvPr/>
          </p:nvSpPr>
          <p:spPr>
            <a:xfrm rot="5400000">
              <a:off x="4478760" y="-4298040"/>
              <a:ext cx="189000" cy="878508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Rectangle 6"/>
            <p:cNvSpPr/>
            <p:nvPr/>
          </p:nvSpPr>
          <p:spPr>
            <a:xfrm rot="5400000">
              <a:off x="4478760" y="2369160"/>
              <a:ext cx="189000" cy="878508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1" name="Line 7"/>
          <p:cNvSpPr/>
          <p:nvPr/>
        </p:nvSpPr>
        <p:spPr>
          <a:xfrm>
            <a:off x="179280" y="963720"/>
            <a:ext cx="8785440" cy="0"/>
          </a:xfrm>
          <a:prstGeom prst="line">
            <a:avLst/>
          </a:prstGeom>
          <a:ln w="7632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8"/>
          <p:cNvSpPr/>
          <p:nvPr/>
        </p:nvSpPr>
        <p:spPr>
          <a:xfrm>
            <a:off x="539640" y="189000"/>
            <a:ext cx="662472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Шара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AutoShape 9"/>
          <p:cNvSpPr/>
          <p:nvPr/>
        </p:nvSpPr>
        <p:spPr>
          <a:xfrm>
            <a:off x="8172360" y="177840"/>
            <a:ext cx="792360" cy="747720"/>
          </a:xfrm>
          <a:prstGeom prst="bevel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WordArt 10"/>
          <p:cNvSpPr txBox="1"/>
          <p:nvPr/>
        </p:nvSpPr>
        <p:spPr>
          <a:xfrm>
            <a:off x="8296200" y="415800"/>
            <a:ext cx="505080" cy="2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2600" dir="0" blurRad="0" rotWithShape="0">
                    <a:srgbClr val="875b0d">
                      <a:alpha val="50000"/>
                    </a:srgbClr>
                  </a:outerShdw>
                </a:effectLst>
                <a:latin typeface="Arial"/>
              </a:rPr>
              <a:t>100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2600" dir="0" blurRad="0" rotWithShape="0">
                  <a:srgbClr val="875b0d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45" name="Text Box 11"/>
          <p:cNvSpPr/>
          <p:nvPr/>
        </p:nvSpPr>
        <p:spPr>
          <a:xfrm>
            <a:off x="7308720" y="549360"/>
            <a:ext cx="9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bbe0e3"/>
                </a:solidFill>
                <a:latin typeface="Arial"/>
              </a:rPr>
              <a:t>1 ту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12"/>
          <p:cNvSpPr/>
          <p:nvPr/>
        </p:nvSpPr>
        <p:spPr>
          <a:xfrm>
            <a:off x="468360" y="1484280"/>
            <a:ext cx="8064360" cy="261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Коль в треугольнике угол прям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Я называюсь его сторон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Букву последнюю мне поменять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Буду, как ветер, вас по морю мч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AutoShape 13">
            <a:hlinkClick r:id="rId2" action="ppaction://hlinksldjump"/>
          </p:cNvPr>
          <p:cNvSpPr/>
          <p:nvPr/>
        </p:nvSpPr>
        <p:spPr>
          <a:xfrm>
            <a:off x="179280" y="6165720"/>
            <a:ext cx="506520" cy="503280"/>
          </a:xfrm>
          <a:custGeom>
            <a:avLst/>
            <a:gdLst>
              <a:gd name="textAreaLeft" fmla="*/ 32400 w 506520"/>
              <a:gd name="textAreaRight" fmla="*/ 474120 w 5065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1739" h="21600">
                <a:moveTo>
                  <a:pt x="0" y="0"/>
                </a:moveTo>
                <a:lnTo>
                  <a:pt x="21739" y="0"/>
                </a:lnTo>
                <a:lnTo>
                  <a:pt x="21739" y="21600"/>
                </a:lnTo>
                <a:lnTo>
                  <a:pt x="0" y="21600"/>
                </a:lnTo>
                <a:close/>
              </a:path>
              <a:path fill="lightenLess" w="21739" h="21600">
                <a:moveTo>
                  <a:pt x="0" y="0"/>
                </a:moveTo>
                <a:lnTo>
                  <a:pt x="21739" y="0"/>
                </a:lnTo>
                <a:lnTo>
                  <a:pt x="20339" y="1400"/>
                </a:lnTo>
                <a:lnTo>
                  <a:pt x="1400" y="1400"/>
                </a:lnTo>
                <a:close/>
              </a:path>
              <a:path fill="darken" w="21739" h="21600">
                <a:moveTo>
                  <a:pt x="21739" y="0"/>
                </a:moveTo>
                <a:lnTo>
                  <a:pt x="21739" y="21600"/>
                </a:lnTo>
                <a:lnTo>
                  <a:pt x="20339" y="20200"/>
                </a:lnTo>
                <a:lnTo>
                  <a:pt x="20339" y="1400"/>
                </a:lnTo>
                <a:close/>
              </a:path>
              <a:path fill="darkenLess" w="21739" h="21600">
                <a:moveTo>
                  <a:pt x="217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39" y="20200"/>
                </a:lnTo>
                <a:close/>
              </a:path>
              <a:path fill="lighten" w="217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739" h="21600">
                <a:moveTo>
                  <a:pt x="10869" y="3837"/>
                </a:moveTo>
                <a:lnTo>
                  <a:pt x="13446" y="6448"/>
                </a:lnTo>
                <a:lnTo>
                  <a:pt x="13446" y="4707"/>
                </a:lnTo>
                <a:lnTo>
                  <a:pt x="15221" y="4707"/>
                </a:lnTo>
                <a:lnTo>
                  <a:pt x="15221" y="8224"/>
                </a:lnTo>
                <a:lnTo>
                  <a:pt x="17832" y="10800"/>
                </a:lnTo>
                <a:lnTo>
                  <a:pt x="16179" y="10800"/>
                </a:lnTo>
                <a:lnTo>
                  <a:pt x="16179" y="17989"/>
                </a:lnTo>
                <a:lnTo>
                  <a:pt x="5560" y="17989"/>
                </a:lnTo>
                <a:lnTo>
                  <a:pt x="5560" y="10800"/>
                </a:lnTo>
                <a:lnTo>
                  <a:pt x="3907" y="10800"/>
                </a:lnTo>
                <a:close/>
              </a:path>
              <a:path fill="darkenLess" w="21739" h="21600">
                <a:moveTo>
                  <a:pt x="13446" y="6448"/>
                </a:moveTo>
                <a:lnTo>
                  <a:pt x="13446" y="4707"/>
                </a:lnTo>
                <a:lnTo>
                  <a:pt x="15221" y="4707"/>
                </a:lnTo>
                <a:lnTo>
                  <a:pt x="15221" y="8224"/>
                </a:lnTo>
                <a:close/>
              </a:path>
              <a:path fill="darkenLess" w="21739" h="21600">
                <a:moveTo>
                  <a:pt x="9947" y="14299"/>
                </a:moveTo>
                <a:lnTo>
                  <a:pt x="11792" y="14299"/>
                </a:lnTo>
                <a:lnTo>
                  <a:pt x="11792" y="17989"/>
                </a:lnTo>
                <a:lnTo>
                  <a:pt x="16179" y="17989"/>
                </a:lnTo>
                <a:lnTo>
                  <a:pt x="16179" y="10800"/>
                </a:lnTo>
                <a:lnTo>
                  <a:pt x="5560" y="10800"/>
                </a:lnTo>
                <a:lnTo>
                  <a:pt x="5560" y="17989"/>
                </a:lnTo>
                <a:lnTo>
                  <a:pt x="994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WordArt 14"/>
          <p:cNvSpPr txBox="1"/>
          <p:nvPr/>
        </p:nvSpPr>
        <p:spPr>
          <a:xfrm>
            <a:off x="3203640" y="5013360"/>
            <a:ext cx="381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Катет - катер</a:t>
            </a:r>
            <a:endParaRPr b="1" i="1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ffff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nodeType="clickEffect" fill="hold">
                      <p:stCondLst>
                        <p:cond delay="0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2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9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350" name="Rectangle 3"/>
            <p:cNvSpPr/>
            <p:nvPr/>
          </p:nvSpPr>
          <p:spPr>
            <a:xfrm>
              <a:off x="0" y="0"/>
              <a:ext cx="179280" cy="685800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Rectangle 4"/>
            <p:cNvSpPr/>
            <p:nvPr/>
          </p:nvSpPr>
          <p:spPr>
            <a:xfrm>
              <a:off x="8964720" y="0"/>
              <a:ext cx="179280" cy="685800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Rectangle 5"/>
            <p:cNvSpPr/>
            <p:nvPr/>
          </p:nvSpPr>
          <p:spPr>
            <a:xfrm rot="5400000">
              <a:off x="4478760" y="-4298040"/>
              <a:ext cx="189000" cy="878508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Rectangle 6"/>
            <p:cNvSpPr/>
            <p:nvPr/>
          </p:nvSpPr>
          <p:spPr>
            <a:xfrm rot="5400000">
              <a:off x="4478760" y="2369160"/>
              <a:ext cx="189000" cy="878508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4" name="Line 7"/>
          <p:cNvSpPr/>
          <p:nvPr/>
        </p:nvSpPr>
        <p:spPr>
          <a:xfrm>
            <a:off x="179280" y="963720"/>
            <a:ext cx="8785440" cy="0"/>
          </a:xfrm>
          <a:prstGeom prst="line">
            <a:avLst/>
          </a:prstGeom>
          <a:ln w="7632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AutoShape 8"/>
          <p:cNvSpPr/>
          <p:nvPr/>
        </p:nvSpPr>
        <p:spPr>
          <a:xfrm>
            <a:off x="8172360" y="177840"/>
            <a:ext cx="792360" cy="747720"/>
          </a:xfrm>
          <a:prstGeom prst="bevel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WordArt 9"/>
          <p:cNvSpPr txBox="1"/>
          <p:nvPr/>
        </p:nvSpPr>
        <p:spPr>
          <a:xfrm>
            <a:off x="8296200" y="415800"/>
            <a:ext cx="505080" cy="2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2600" dir="0" blurRad="0" rotWithShape="0">
                    <a:srgbClr val="875b0d">
                      <a:alpha val="50000"/>
                    </a:srgbClr>
                  </a:outerShdw>
                </a:effectLst>
                <a:latin typeface="Arial"/>
              </a:rPr>
              <a:t>200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2600" dir="0" blurRad="0" rotWithShape="0">
                  <a:srgbClr val="875b0d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57" name="Text Box 10"/>
          <p:cNvSpPr/>
          <p:nvPr/>
        </p:nvSpPr>
        <p:spPr>
          <a:xfrm>
            <a:off x="7308720" y="549360"/>
            <a:ext cx="9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bbe0e3"/>
                </a:solidFill>
                <a:latin typeface="Arial"/>
              </a:rPr>
              <a:t>1 ту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11"/>
          <p:cNvSpPr/>
          <p:nvPr/>
        </p:nvSpPr>
        <p:spPr>
          <a:xfrm>
            <a:off x="1403280" y="1844640"/>
            <a:ext cx="4608720" cy="261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С глухим шипящим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Кругл, как мячи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Со звонким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Как огонь, горяч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WordArt 13"/>
          <p:cNvSpPr txBox="1"/>
          <p:nvPr/>
        </p:nvSpPr>
        <p:spPr>
          <a:xfrm>
            <a:off x="3492360" y="4941720"/>
            <a:ext cx="288000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Шар - жар</a:t>
            </a:r>
            <a:endParaRPr b="1" i="1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ffff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360" name="Rectangle 14"/>
          <p:cNvSpPr/>
          <p:nvPr/>
        </p:nvSpPr>
        <p:spPr>
          <a:xfrm>
            <a:off x="539640" y="189000"/>
            <a:ext cx="662472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Шара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AutoShape 15">
            <a:hlinkClick r:id="rId2" action="ppaction://hlinksldjump"/>
          </p:cNvPr>
          <p:cNvSpPr/>
          <p:nvPr/>
        </p:nvSpPr>
        <p:spPr>
          <a:xfrm>
            <a:off x="179280" y="6165720"/>
            <a:ext cx="506520" cy="503280"/>
          </a:xfrm>
          <a:custGeom>
            <a:avLst/>
            <a:gdLst>
              <a:gd name="textAreaLeft" fmla="*/ 32400 w 506520"/>
              <a:gd name="textAreaRight" fmla="*/ 474120 w 5065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1739" h="21600">
                <a:moveTo>
                  <a:pt x="0" y="0"/>
                </a:moveTo>
                <a:lnTo>
                  <a:pt x="21739" y="0"/>
                </a:lnTo>
                <a:lnTo>
                  <a:pt x="21739" y="21600"/>
                </a:lnTo>
                <a:lnTo>
                  <a:pt x="0" y="21600"/>
                </a:lnTo>
                <a:close/>
              </a:path>
              <a:path fill="lightenLess" w="21739" h="21600">
                <a:moveTo>
                  <a:pt x="0" y="0"/>
                </a:moveTo>
                <a:lnTo>
                  <a:pt x="21739" y="0"/>
                </a:lnTo>
                <a:lnTo>
                  <a:pt x="20339" y="1400"/>
                </a:lnTo>
                <a:lnTo>
                  <a:pt x="1400" y="1400"/>
                </a:lnTo>
                <a:close/>
              </a:path>
              <a:path fill="darken" w="21739" h="21600">
                <a:moveTo>
                  <a:pt x="21739" y="0"/>
                </a:moveTo>
                <a:lnTo>
                  <a:pt x="21739" y="21600"/>
                </a:lnTo>
                <a:lnTo>
                  <a:pt x="20339" y="20200"/>
                </a:lnTo>
                <a:lnTo>
                  <a:pt x="20339" y="1400"/>
                </a:lnTo>
                <a:close/>
              </a:path>
              <a:path fill="darkenLess" w="21739" h="21600">
                <a:moveTo>
                  <a:pt x="217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39" y="20200"/>
                </a:lnTo>
                <a:close/>
              </a:path>
              <a:path fill="lighten" w="217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739" h="21600">
                <a:moveTo>
                  <a:pt x="10869" y="3837"/>
                </a:moveTo>
                <a:lnTo>
                  <a:pt x="13446" y="6448"/>
                </a:lnTo>
                <a:lnTo>
                  <a:pt x="13446" y="4707"/>
                </a:lnTo>
                <a:lnTo>
                  <a:pt x="15221" y="4707"/>
                </a:lnTo>
                <a:lnTo>
                  <a:pt x="15221" y="8224"/>
                </a:lnTo>
                <a:lnTo>
                  <a:pt x="17832" y="10800"/>
                </a:lnTo>
                <a:lnTo>
                  <a:pt x="16179" y="10800"/>
                </a:lnTo>
                <a:lnTo>
                  <a:pt x="16179" y="17989"/>
                </a:lnTo>
                <a:lnTo>
                  <a:pt x="5560" y="17989"/>
                </a:lnTo>
                <a:lnTo>
                  <a:pt x="5560" y="10800"/>
                </a:lnTo>
                <a:lnTo>
                  <a:pt x="3907" y="10800"/>
                </a:lnTo>
                <a:close/>
              </a:path>
              <a:path fill="darkenLess" w="21739" h="21600">
                <a:moveTo>
                  <a:pt x="13446" y="6448"/>
                </a:moveTo>
                <a:lnTo>
                  <a:pt x="13446" y="4707"/>
                </a:lnTo>
                <a:lnTo>
                  <a:pt x="15221" y="4707"/>
                </a:lnTo>
                <a:lnTo>
                  <a:pt x="15221" y="8224"/>
                </a:lnTo>
                <a:close/>
              </a:path>
              <a:path fill="darkenLess" w="21739" h="21600">
                <a:moveTo>
                  <a:pt x="9947" y="14299"/>
                </a:moveTo>
                <a:lnTo>
                  <a:pt x="11792" y="14299"/>
                </a:lnTo>
                <a:lnTo>
                  <a:pt x="11792" y="17989"/>
                </a:lnTo>
                <a:lnTo>
                  <a:pt x="16179" y="17989"/>
                </a:lnTo>
                <a:lnTo>
                  <a:pt x="16179" y="10800"/>
                </a:lnTo>
                <a:lnTo>
                  <a:pt x="5560" y="10800"/>
                </a:lnTo>
                <a:lnTo>
                  <a:pt x="5560" y="17989"/>
                </a:lnTo>
                <a:lnTo>
                  <a:pt x="994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nodeType="clickEffect" fill="hold">
                      <p:stCondLst>
                        <p:cond delay="0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7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2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363" name="Rectangle 3"/>
            <p:cNvSpPr/>
            <p:nvPr/>
          </p:nvSpPr>
          <p:spPr>
            <a:xfrm>
              <a:off x="0" y="0"/>
              <a:ext cx="179280" cy="685800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Rectangle 4"/>
            <p:cNvSpPr/>
            <p:nvPr/>
          </p:nvSpPr>
          <p:spPr>
            <a:xfrm>
              <a:off x="8964720" y="0"/>
              <a:ext cx="179280" cy="685800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Rectangle 5"/>
            <p:cNvSpPr/>
            <p:nvPr/>
          </p:nvSpPr>
          <p:spPr>
            <a:xfrm rot="5400000">
              <a:off x="4478760" y="-4298040"/>
              <a:ext cx="189000" cy="878508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Rectangle 6"/>
            <p:cNvSpPr/>
            <p:nvPr/>
          </p:nvSpPr>
          <p:spPr>
            <a:xfrm rot="5400000">
              <a:off x="4478760" y="2369160"/>
              <a:ext cx="189000" cy="878508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7" name="Line 7"/>
          <p:cNvSpPr/>
          <p:nvPr/>
        </p:nvSpPr>
        <p:spPr>
          <a:xfrm>
            <a:off x="179280" y="963720"/>
            <a:ext cx="8785440" cy="0"/>
          </a:xfrm>
          <a:prstGeom prst="line">
            <a:avLst/>
          </a:prstGeom>
          <a:ln w="7632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AutoShape 8"/>
          <p:cNvSpPr/>
          <p:nvPr/>
        </p:nvSpPr>
        <p:spPr>
          <a:xfrm>
            <a:off x="8172360" y="177840"/>
            <a:ext cx="792360" cy="747720"/>
          </a:xfrm>
          <a:prstGeom prst="bevel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WordArt 9"/>
          <p:cNvSpPr txBox="1"/>
          <p:nvPr/>
        </p:nvSpPr>
        <p:spPr>
          <a:xfrm>
            <a:off x="8296200" y="415800"/>
            <a:ext cx="505080" cy="2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2600" dir="0" blurRad="0" rotWithShape="0">
                    <a:srgbClr val="875b0d">
                      <a:alpha val="50000"/>
                    </a:srgbClr>
                  </a:outerShdw>
                </a:effectLst>
                <a:latin typeface="Arial"/>
              </a:rPr>
              <a:t>300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2600" dir="0" blurRad="0" rotWithShape="0">
                  <a:srgbClr val="875b0d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70" name="Text Box 10"/>
          <p:cNvSpPr/>
          <p:nvPr/>
        </p:nvSpPr>
        <p:spPr>
          <a:xfrm>
            <a:off x="7308720" y="549360"/>
            <a:ext cx="9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bbe0e3"/>
                </a:solidFill>
                <a:latin typeface="Arial"/>
              </a:rPr>
              <a:t>1 ту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11"/>
          <p:cNvSpPr/>
          <p:nvPr/>
        </p:nvSpPr>
        <p:spPr>
          <a:xfrm>
            <a:off x="611280" y="2060640"/>
            <a:ext cx="8064360" cy="261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Читаем мы направо смело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Геометрическое тел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Прочтем же справа мы налево -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Увидим разновидность дре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WordArt 13"/>
          <p:cNvSpPr txBox="1"/>
          <p:nvPr/>
        </p:nvSpPr>
        <p:spPr>
          <a:xfrm>
            <a:off x="4932360" y="5157720"/>
            <a:ext cx="237636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Куб - бук</a:t>
            </a:r>
            <a:endParaRPr b="1" i="1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ffff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373" name="Rectangle 14"/>
          <p:cNvSpPr/>
          <p:nvPr/>
        </p:nvSpPr>
        <p:spPr>
          <a:xfrm>
            <a:off x="539640" y="189000"/>
            <a:ext cx="662472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Шара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AutoShape 15">
            <a:hlinkClick r:id="rId2" action="ppaction://hlinksldjump"/>
          </p:cNvPr>
          <p:cNvSpPr/>
          <p:nvPr/>
        </p:nvSpPr>
        <p:spPr>
          <a:xfrm>
            <a:off x="179280" y="6165720"/>
            <a:ext cx="506520" cy="503280"/>
          </a:xfrm>
          <a:custGeom>
            <a:avLst/>
            <a:gdLst>
              <a:gd name="textAreaLeft" fmla="*/ 32400 w 506520"/>
              <a:gd name="textAreaRight" fmla="*/ 474120 w 5065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1739" h="21600">
                <a:moveTo>
                  <a:pt x="0" y="0"/>
                </a:moveTo>
                <a:lnTo>
                  <a:pt x="21739" y="0"/>
                </a:lnTo>
                <a:lnTo>
                  <a:pt x="21739" y="21600"/>
                </a:lnTo>
                <a:lnTo>
                  <a:pt x="0" y="21600"/>
                </a:lnTo>
                <a:close/>
              </a:path>
              <a:path fill="lightenLess" w="21739" h="21600">
                <a:moveTo>
                  <a:pt x="0" y="0"/>
                </a:moveTo>
                <a:lnTo>
                  <a:pt x="21739" y="0"/>
                </a:lnTo>
                <a:lnTo>
                  <a:pt x="20339" y="1400"/>
                </a:lnTo>
                <a:lnTo>
                  <a:pt x="1400" y="1400"/>
                </a:lnTo>
                <a:close/>
              </a:path>
              <a:path fill="darken" w="21739" h="21600">
                <a:moveTo>
                  <a:pt x="21739" y="0"/>
                </a:moveTo>
                <a:lnTo>
                  <a:pt x="21739" y="21600"/>
                </a:lnTo>
                <a:lnTo>
                  <a:pt x="20339" y="20200"/>
                </a:lnTo>
                <a:lnTo>
                  <a:pt x="20339" y="1400"/>
                </a:lnTo>
                <a:close/>
              </a:path>
              <a:path fill="darkenLess" w="21739" h="21600">
                <a:moveTo>
                  <a:pt x="217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39" y="20200"/>
                </a:lnTo>
                <a:close/>
              </a:path>
              <a:path fill="lighten" w="217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739" h="21600">
                <a:moveTo>
                  <a:pt x="10869" y="3837"/>
                </a:moveTo>
                <a:lnTo>
                  <a:pt x="13446" y="6448"/>
                </a:lnTo>
                <a:lnTo>
                  <a:pt x="13446" y="4707"/>
                </a:lnTo>
                <a:lnTo>
                  <a:pt x="15221" y="4707"/>
                </a:lnTo>
                <a:lnTo>
                  <a:pt x="15221" y="8224"/>
                </a:lnTo>
                <a:lnTo>
                  <a:pt x="17832" y="10800"/>
                </a:lnTo>
                <a:lnTo>
                  <a:pt x="16179" y="10800"/>
                </a:lnTo>
                <a:lnTo>
                  <a:pt x="16179" y="17989"/>
                </a:lnTo>
                <a:lnTo>
                  <a:pt x="5560" y="17989"/>
                </a:lnTo>
                <a:lnTo>
                  <a:pt x="5560" y="10800"/>
                </a:lnTo>
                <a:lnTo>
                  <a:pt x="3907" y="10800"/>
                </a:lnTo>
                <a:close/>
              </a:path>
              <a:path fill="darkenLess" w="21739" h="21600">
                <a:moveTo>
                  <a:pt x="13446" y="6448"/>
                </a:moveTo>
                <a:lnTo>
                  <a:pt x="13446" y="4707"/>
                </a:lnTo>
                <a:lnTo>
                  <a:pt x="15221" y="4707"/>
                </a:lnTo>
                <a:lnTo>
                  <a:pt x="15221" y="8224"/>
                </a:lnTo>
                <a:close/>
              </a:path>
              <a:path fill="darkenLess" w="21739" h="21600">
                <a:moveTo>
                  <a:pt x="9947" y="14299"/>
                </a:moveTo>
                <a:lnTo>
                  <a:pt x="11792" y="14299"/>
                </a:lnTo>
                <a:lnTo>
                  <a:pt x="11792" y="17989"/>
                </a:lnTo>
                <a:lnTo>
                  <a:pt x="16179" y="17989"/>
                </a:lnTo>
                <a:lnTo>
                  <a:pt x="16179" y="10800"/>
                </a:lnTo>
                <a:lnTo>
                  <a:pt x="5560" y="10800"/>
                </a:lnTo>
                <a:lnTo>
                  <a:pt x="5560" y="17989"/>
                </a:lnTo>
                <a:lnTo>
                  <a:pt x="994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nodeType="clickEffect" fill="hold">
                      <p:stCondLst>
                        <p:cond delay="0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2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5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376" name="Rectangle 3"/>
            <p:cNvSpPr/>
            <p:nvPr/>
          </p:nvSpPr>
          <p:spPr>
            <a:xfrm>
              <a:off x="0" y="0"/>
              <a:ext cx="179280" cy="685800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Rectangle 4"/>
            <p:cNvSpPr/>
            <p:nvPr/>
          </p:nvSpPr>
          <p:spPr>
            <a:xfrm>
              <a:off x="8964720" y="0"/>
              <a:ext cx="179280" cy="685800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Rectangle 5"/>
            <p:cNvSpPr/>
            <p:nvPr/>
          </p:nvSpPr>
          <p:spPr>
            <a:xfrm rot="5400000">
              <a:off x="4478760" y="-4298040"/>
              <a:ext cx="189000" cy="878508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Rectangle 6"/>
            <p:cNvSpPr/>
            <p:nvPr/>
          </p:nvSpPr>
          <p:spPr>
            <a:xfrm rot="5400000">
              <a:off x="4478760" y="2369160"/>
              <a:ext cx="189000" cy="878508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0" name="Line 7"/>
          <p:cNvSpPr/>
          <p:nvPr/>
        </p:nvSpPr>
        <p:spPr>
          <a:xfrm>
            <a:off x="179280" y="963720"/>
            <a:ext cx="8785440" cy="0"/>
          </a:xfrm>
          <a:prstGeom prst="line">
            <a:avLst/>
          </a:prstGeom>
          <a:ln w="7632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8"/>
          <p:cNvSpPr/>
          <p:nvPr/>
        </p:nvSpPr>
        <p:spPr>
          <a:xfrm>
            <a:off x="539640" y="189000"/>
            <a:ext cx="662472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колько?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AutoShape 9"/>
          <p:cNvSpPr/>
          <p:nvPr/>
        </p:nvSpPr>
        <p:spPr>
          <a:xfrm>
            <a:off x="8172360" y="177840"/>
            <a:ext cx="792360" cy="747720"/>
          </a:xfrm>
          <a:prstGeom prst="bevel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WordArt 10"/>
          <p:cNvSpPr txBox="1"/>
          <p:nvPr/>
        </p:nvSpPr>
        <p:spPr>
          <a:xfrm>
            <a:off x="8296200" y="415800"/>
            <a:ext cx="505080" cy="2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2600" dir="0" blurRad="0" rotWithShape="0">
                    <a:srgbClr val="875b0d">
                      <a:alpha val="50000"/>
                    </a:srgbClr>
                  </a:outerShdw>
                </a:effectLst>
                <a:latin typeface="Arial"/>
              </a:rPr>
              <a:t>100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2600" dir="0" blurRad="0" rotWithShape="0">
                  <a:srgbClr val="875b0d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84" name="Text Box 11"/>
          <p:cNvSpPr/>
          <p:nvPr/>
        </p:nvSpPr>
        <p:spPr>
          <a:xfrm>
            <a:off x="7308720" y="549360"/>
            <a:ext cx="9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bbe0e3"/>
                </a:solidFill>
                <a:latin typeface="Arial"/>
              </a:rPr>
              <a:t>2 ту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5" name="Group 12"/>
          <p:cNvGrpSpPr/>
          <p:nvPr/>
        </p:nvGrpSpPr>
        <p:grpSpPr>
          <a:xfrm>
            <a:off x="1187280" y="2491920"/>
            <a:ext cx="6048720" cy="2663640"/>
            <a:chOff x="1187280" y="2491920"/>
            <a:chExt cx="6048720" cy="2663640"/>
          </a:xfrm>
        </p:grpSpPr>
        <p:sp>
          <p:nvSpPr>
            <p:cNvPr id="386" name="AutoShape 13"/>
            <p:cNvSpPr/>
            <p:nvPr/>
          </p:nvSpPr>
          <p:spPr>
            <a:xfrm rot="10800000">
              <a:off x="1908000" y="2491560"/>
              <a:ext cx="4608720" cy="2663640"/>
            </a:xfrm>
            <a:prstGeom prst="wedgeEllipseCallout">
              <a:avLst>
                <a:gd name="adj1" fmla="val 4185"/>
                <a:gd name="adj2" fmla="val 63407"/>
              </a:avLst>
            </a:prstGeom>
            <a:gradFill rotWithShape="0">
              <a:gsLst>
                <a:gs pos="0">
                  <a:srgbClr val="ff6600"/>
                </a:gs>
                <a:gs pos="50000">
                  <a:srgbClr val="a50021"/>
                </a:gs>
                <a:gs pos="100000">
                  <a:srgbClr val="ff6600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Text Box 14"/>
            <p:cNvSpPr/>
            <p:nvPr/>
          </p:nvSpPr>
          <p:spPr>
            <a:xfrm>
              <a:off x="1187280" y="3211200"/>
              <a:ext cx="6048720" cy="103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ffff00"/>
                  </a:solidFill>
                  <a:latin typeface="Times New Roman"/>
                </a:rPr>
                <a:t>Вам попался кот в мешке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ffff00"/>
                  </a:solidFill>
                  <a:latin typeface="Times New Roman"/>
                </a:rPr>
                <a:t>Кому отдадите  вопрос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8" name="AutoShape 15">
            <a:hlinkClick r:id="" action="ppaction://hlinkshowjump?jump=nextslide"/>
          </p:cNvPr>
          <p:cNvSpPr/>
          <p:nvPr/>
        </p:nvSpPr>
        <p:spPr>
          <a:xfrm>
            <a:off x="8459640" y="6270480"/>
            <a:ext cx="540000" cy="405000"/>
          </a:xfrm>
          <a:custGeom>
            <a:avLst/>
            <a:gdLst>
              <a:gd name="textAreaLeft" fmla="*/ 25920 w 540000"/>
              <a:gd name="textAreaRight" fmla="*/ 514080 w 54000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28794" h="21600">
                <a:moveTo>
                  <a:pt x="0" y="0"/>
                </a:moveTo>
                <a:lnTo>
                  <a:pt x="28794" y="0"/>
                </a:lnTo>
                <a:lnTo>
                  <a:pt x="28794" y="21600"/>
                </a:lnTo>
                <a:lnTo>
                  <a:pt x="0" y="21600"/>
                </a:lnTo>
                <a:close/>
              </a:path>
              <a:path fill="lightenLess" w="28794" h="21600">
                <a:moveTo>
                  <a:pt x="0" y="0"/>
                </a:moveTo>
                <a:lnTo>
                  <a:pt x="28794" y="0"/>
                </a:lnTo>
                <a:lnTo>
                  <a:pt x="27394" y="1400"/>
                </a:lnTo>
                <a:lnTo>
                  <a:pt x="1400" y="1400"/>
                </a:lnTo>
                <a:close/>
              </a:path>
              <a:path fill="darken" w="28794" h="21600">
                <a:moveTo>
                  <a:pt x="28794" y="0"/>
                </a:moveTo>
                <a:lnTo>
                  <a:pt x="28794" y="21600"/>
                </a:lnTo>
                <a:lnTo>
                  <a:pt x="27394" y="20200"/>
                </a:lnTo>
                <a:lnTo>
                  <a:pt x="27394" y="1400"/>
                </a:lnTo>
                <a:close/>
              </a:path>
              <a:path fill="darkenLess" w="28794" h="21600">
                <a:moveTo>
                  <a:pt x="287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4" y="20200"/>
                </a:lnTo>
                <a:close/>
              </a:path>
              <a:path fill="lighten" w="287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94" h="21600">
                <a:moveTo>
                  <a:pt x="7390" y="3794"/>
                </a:moveTo>
                <a:lnTo>
                  <a:pt x="21403" y="10800"/>
                </a:lnTo>
                <a:lnTo>
                  <a:pt x="739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nodeType="clickEffect" fill="hold">
                      <p:stCondLst>
                        <p:cond delay="0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9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390" name="Rectangle 3"/>
            <p:cNvSpPr/>
            <p:nvPr/>
          </p:nvSpPr>
          <p:spPr>
            <a:xfrm>
              <a:off x="0" y="0"/>
              <a:ext cx="179280" cy="685800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Rectangle 4"/>
            <p:cNvSpPr/>
            <p:nvPr/>
          </p:nvSpPr>
          <p:spPr>
            <a:xfrm>
              <a:off x="8964720" y="0"/>
              <a:ext cx="179280" cy="685800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Rectangle 5"/>
            <p:cNvSpPr/>
            <p:nvPr/>
          </p:nvSpPr>
          <p:spPr>
            <a:xfrm rot="5400000">
              <a:off x="4478760" y="-4298040"/>
              <a:ext cx="189000" cy="878508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Rectangle 6"/>
            <p:cNvSpPr/>
            <p:nvPr/>
          </p:nvSpPr>
          <p:spPr>
            <a:xfrm rot="5400000">
              <a:off x="4478760" y="2369160"/>
              <a:ext cx="189000" cy="878508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4" name="Line 7"/>
          <p:cNvSpPr/>
          <p:nvPr/>
        </p:nvSpPr>
        <p:spPr>
          <a:xfrm>
            <a:off x="179280" y="963720"/>
            <a:ext cx="8785440" cy="0"/>
          </a:xfrm>
          <a:prstGeom prst="line">
            <a:avLst/>
          </a:prstGeom>
          <a:ln w="7632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8"/>
          <p:cNvSpPr/>
          <p:nvPr/>
        </p:nvSpPr>
        <p:spPr>
          <a:xfrm>
            <a:off x="539640" y="189000"/>
            <a:ext cx="662472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еометрия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9"/>
          <p:cNvSpPr/>
          <p:nvPr/>
        </p:nvSpPr>
        <p:spPr>
          <a:xfrm>
            <a:off x="8172360" y="177840"/>
            <a:ext cx="792360" cy="747720"/>
          </a:xfrm>
          <a:prstGeom prst="bevel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WordArt 10"/>
          <p:cNvSpPr txBox="1"/>
          <p:nvPr/>
        </p:nvSpPr>
        <p:spPr>
          <a:xfrm>
            <a:off x="8296200" y="415800"/>
            <a:ext cx="505080" cy="2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2600" dir="0" blurRad="0" rotWithShape="0">
                    <a:srgbClr val="875b0d">
                      <a:alpha val="50000"/>
                    </a:srgbClr>
                  </a:outerShdw>
                </a:effectLst>
                <a:latin typeface="Arial"/>
              </a:rPr>
              <a:t>300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2600" dir="0" blurRad="0" rotWithShape="0">
                  <a:srgbClr val="875b0d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98" name="Text Box 11"/>
          <p:cNvSpPr/>
          <p:nvPr/>
        </p:nvSpPr>
        <p:spPr>
          <a:xfrm>
            <a:off x="7308720" y="549360"/>
            <a:ext cx="9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bbe0e3"/>
                </a:solidFill>
                <a:latin typeface="Arial"/>
              </a:rPr>
              <a:t>2 ту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WordArt 14"/>
          <p:cNvSpPr txBox="1"/>
          <p:nvPr/>
        </p:nvSpPr>
        <p:spPr>
          <a:xfrm>
            <a:off x="3348000" y="4941720"/>
            <a:ext cx="489600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скрещивающихся</a:t>
            </a:r>
            <a:endParaRPr b="1" i="1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ffff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400" name="Text Box 12"/>
          <p:cNvSpPr/>
          <p:nvPr/>
        </p:nvSpPr>
        <p:spPr>
          <a:xfrm>
            <a:off x="611280" y="2205000"/>
            <a:ext cx="8064360" cy="15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Каких прямых на плоскости не существует, а в пространстве </a:t>
            </a:r>
            <a:br>
              <a:rPr sz="3600"/>
            </a:b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они есть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AutoShape 18">
            <a:hlinkClick r:id="rId2" action="ppaction://hlinksldjump"/>
          </p:cNvPr>
          <p:cNvSpPr/>
          <p:nvPr/>
        </p:nvSpPr>
        <p:spPr>
          <a:xfrm>
            <a:off x="179280" y="6165720"/>
            <a:ext cx="506520" cy="503280"/>
          </a:xfrm>
          <a:custGeom>
            <a:avLst/>
            <a:gdLst>
              <a:gd name="textAreaLeft" fmla="*/ 32400 w 506520"/>
              <a:gd name="textAreaRight" fmla="*/ 474120 w 5065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1739" h="21600">
                <a:moveTo>
                  <a:pt x="0" y="0"/>
                </a:moveTo>
                <a:lnTo>
                  <a:pt x="21739" y="0"/>
                </a:lnTo>
                <a:lnTo>
                  <a:pt x="21739" y="21600"/>
                </a:lnTo>
                <a:lnTo>
                  <a:pt x="0" y="21600"/>
                </a:lnTo>
                <a:close/>
              </a:path>
              <a:path fill="lightenLess" w="21739" h="21600">
                <a:moveTo>
                  <a:pt x="0" y="0"/>
                </a:moveTo>
                <a:lnTo>
                  <a:pt x="21739" y="0"/>
                </a:lnTo>
                <a:lnTo>
                  <a:pt x="20339" y="1400"/>
                </a:lnTo>
                <a:lnTo>
                  <a:pt x="1400" y="1400"/>
                </a:lnTo>
                <a:close/>
              </a:path>
              <a:path fill="darken" w="21739" h="21600">
                <a:moveTo>
                  <a:pt x="21739" y="0"/>
                </a:moveTo>
                <a:lnTo>
                  <a:pt x="21739" y="21600"/>
                </a:lnTo>
                <a:lnTo>
                  <a:pt x="20339" y="20200"/>
                </a:lnTo>
                <a:lnTo>
                  <a:pt x="20339" y="1400"/>
                </a:lnTo>
                <a:close/>
              </a:path>
              <a:path fill="darkenLess" w="21739" h="21600">
                <a:moveTo>
                  <a:pt x="217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39" y="20200"/>
                </a:lnTo>
                <a:close/>
              </a:path>
              <a:path fill="lighten" w="217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739" h="21600">
                <a:moveTo>
                  <a:pt x="10869" y="3837"/>
                </a:moveTo>
                <a:lnTo>
                  <a:pt x="13446" y="6448"/>
                </a:lnTo>
                <a:lnTo>
                  <a:pt x="13446" y="4707"/>
                </a:lnTo>
                <a:lnTo>
                  <a:pt x="15221" y="4707"/>
                </a:lnTo>
                <a:lnTo>
                  <a:pt x="15221" y="8224"/>
                </a:lnTo>
                <a:lnTo>
                  <a:pt x="17832" y="10800"/>
                </a:lnTo>
                <a:lnTo>
                  <a:pt x="16179" y="10800"/>
                </a:lnTo>
                <a:lnTo>
                  <a:pt x="16179" y="17989"/>
                </a:lnTo>
                <a:lnTo>
                  <a:pt x="5560" y="17989"/>
                </a:lnTo>
                <a:lnTo>
                  <a:pt x="5560" y="10800"/>
                </a:lnTo>
                <a:lnTo>
                  <a:pt x="3907" y="10800"/>
                </a:lnTo>
                <a:close/>
              </a:path>
              <a:path fill="darkenLess" w="21739" h="21600">
                <a:moveTo>
                  <a:pt x="13446" y="6448"/>
                </a:moveTo>
                <a:lnTo>
                  <a:pt x="13446" y="4707"/>
                </a:lnTo>
                <a:lnTo>
                  <a:pt x="15221" y="4707"/>
                </a:lnTo>
                <a:lnTo>
                  <a:pt x="15221" y="8224"/>
                </a:lnTo>
                <a:close/>
              </a:path>
              <a:path fill="darkenLess" w="21739" h="21600">
                <a:moveTo>
                  <a:pt x="9947" y="14299"/>
                </a:moveTo>
                <a:lnTo>
                  <a:pt x="11792" y="14299"/>
                </a:lnTo>
                <a:lnTo>
                  <a:pt x="11792" y="17989"/>
                </a:lnTo>
                <a:lnTo>
                  <a:pt x="16179" y="17989"/>
                </a:lnTo>
                <a:lnTo>
                  <a:pt x="16179" y="10800"/>
                </a:lnTo>
                <a:lnTo>
                  <a:pt x="5560" y="10800"/>
                </a:lnTo>
                <a:lnTo>
                  <a:pt x="5560" y="17989"/>
                </a:lnTo>
                <a:lnTo>
                  <a:pt x="994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9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2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03" name="Rectangle 3"/>
            <p:cNvSpPr/>
            <p:nvPr/>
          </p:nvSpPr>
          <p:spPr>
            <a:xfrm>
              <a:off x="0" y="0"/>
              <a:ext cx="179280" cy="685800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Rectangle 4"/>
            <p:cNvSpPr/>
            <p:nvPr/>
          </p:nvSpPr>
          <p:spPr>
            <a:xfrm>
              <a:off x="8964720" y="0"/>
              <a:ext cx="179280" cy="685800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Rectangle 5"/>
            <p:cNvSpPr/>
            <p:nvPr/>
          </p:nvSpPr>
          <p:spPr>
            <a:xfrm rot="5400000">
              <a:off x="4478760" y="-4298040"/>
              <a:ext cx="189000" cy="878508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Rectangle 6"/>
            <p:cNvSpPr/>
            <p:nvPr/>
          </p:nvSpPr>
          <p:spPr>
            <a:xfrm rot="5400000">
              <a:off x="4478760" y="2369160"/>
              <a:ext cx="189000" cy="878508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7" name="Line 7"/>
          <p:cNvSpPr/>
          <p:nvPr/>
        </p:nvSpPr>
        <p:spPr>
          <a:xfrm>
            <a:off x="179280" y="963720"/>
            <a:ext cx="8785440" cy="0"/>
          </a:xfrm>
          <a:prstGeom prst="line">
            <a:avLst/>
          </a:prstGeom>
          <a:ln w="7632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8"/>
          <p:cNvSpPr/>
          <p:nvPr/>
        </p:nvSpPr>
        <p:spPr>
          <a:xfrm>
            <a:off x="539640" y="189000"/>
            <a:ext cx="662472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колько?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AutoShape 9"/>
          <p:cNvSpPr/>
          <p:nvPr/>
        </p:nvSpPr>
        <p:spPr>
          <a:xfrm>
            <a:off x="8172360" y="177840"/>
            <a:ext cx="792360" cy="747720"/>
          </a:xfrm>
          <a:prstGeom prst="bevel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WordArt 10"/>
          <p:cNvSpPr txBox="1"/>
          <p:nvPr/>
        </p:nvSpPr>
        <p:spPr>
          <a:xfrm>
            <a:off x="8296200" y="415800"/>
            <a:ext cx="505080" cy="2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2600" dir="0" blurRad="0" rotWithShape="0">
                    <a:srgbClr val="875b0d">
                      <a:alpha val="50000"/>
                    </a:srgbClr>
                  </a:outerShdw>
                </a:effectLst>
                <a:latin typeface="Arial"/>
              </a:rPr>
              <a:t>200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2600" dir="0" blurRad="0" rotWithShape="0">
                  <a:srgbClr val="875b0d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11" name="Text Box 11"/>
          <p:cNvSpPr/>
          <p:nvPr/>
        </p:nvSpPr>
        <p:spPr>
          <a:xfrm>
            <a:off x="7308720" y="549360"/>
            <a:ext cx="9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bbe0e3"/>
                </a:solidFill>
                <a:latin typeface="Arial"/>
              </a:rPr>
              <a:t>2 ту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12"/>
          <p:cNvSpPr/>
          <p:nvPr/>
        </p:nvSpPr>
        <p:spPr>
          <a:xfrm>
            <a:off x="611280" y="2205000"/>
            <a:ext cx="806436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Сколько музыкантов в квинтете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3" name="Picture 24" descr="arg-5-25-trans-y"/>
          <p:cNvPicPr/>
          <p:nvPr/>
        </p:nvPicPr>
        <p:blipFill>
          <a:blip r:embed="rId2"/>
          <a:stretch/>
        </p:blipFill>
        <p:spPr>
          <a:xfrm>
            <a:off x="4859280" y="3573360"/>
            <a:ext cx="1679760" cy="2087640"/>
          </a:xfrm>
          <a:prstGeom prst="rect">
            <a:avLst/>
          </a:prstGeom>
          <a:ln w="0">
            <a:noFill/>
          </a:ln>
        </p:spPr>
      </p:pic>
      <p:sp>
        <p:nvSpPr>
          <p:cNvPr id="414" name="AutoShape 25">
            <a:hlinkClick r:id="rId3" action="ppaction://hlinksldjump"/>
          </p:cNvPr>
          <p:cNvSpPr/>
          <p:nvPr/>
        </p:nvSpPr>
        <p:spPr>
          <a:xfrm>
            <a:off x="179280" y="6165720"/>
            <a:ext cx="506520" cy="503280"/>
          </a:xfrm>
          <a:custGeom>
            <a:avLst/>
            <a:gdLst>
              <a:gd name="textAreaLeft" fmla="*/ 32400 w 506520"/>
              <a:gd name="textAreaRight" fmla="*/ 474120 w 5065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1739" h="21600">
                <a:moveTo>
                  <a:pt x="0" y="0"/>
                </a:moveTo>
                <a:lnTo>
                  <a:pt x="21739" y="0"/>
                </a:lnTo>
                <a:lnTo>
                  <a:pt x="21739" y="21600"/>
                </a:lnTo>
                <a:lnTo>
                  <a:pt x="0" y="21600"/>
                </a:lnTo>
                <a:close/>
              </a:path>
              <a:path fill="lightenLess" w="21739" h="21600">
                <a:moveTo>
                  <a:pt x="0" y="0"/>
                </a:moveTo>
                <a:lnTo>
                  <a:pt x="21739" y="0"/>
                </a:lnTo>
                <a:lnTo>
                  <a:pt x="20339" y="1400"/>
                </a:lnTo>
                <a:lnTo>
                  <a:pt x="1400" y="1400"/>
                </a:lnTo>
                <a:close/>
              </a:path>
              <a:path fill="darken" w="21739" h="21600">
                <a:moveTo>
                  <a:pt x="21739" y="0"/>
                </a:moveTo>
                <a:lnTo>
                  <a:pt x="21739" y="21600"/>
                </a:lnTo>
                <a:lnTo>
                  <a:pt x="20339" y="20200"/>
                </a:lnTo>
                <a:lnTo>
                  <a:pt x="20339" y="1400"/>
                </a:lnTo>
                <a:close/>
              </a:path>
              <a:path fill="darkenLess" w="21739" h="21600">
                <a:moveTo>
                  <a:pt x="217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39" y="20200"/>
                </a:lnTo>
                <a:close/>
              </a:path>
              <a:path fill="lighten" w="217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739" h="21600">
                <a:moveTo>
                  <a:pt x="10869" y="3837"/>
                </a:moveTo>
                <a:lnTo>
                  <a:pt x="13446" y="6448"/>
                </a:lnTo>
                <a:lnTo>
                  <a:pt x="13446" y="4707"/>
                </a:lnTo>
                <a:lnTo>
                  <a:pt x="15221" y="4707"/>
                </a:lnTo>
                <a:lnTo>
                  <a:pt x="15221" y="8224"/>
                </a:lnTo>
                <a:lnTo>
                  <a:pt x="17832" y="10800"/>
                </a:lnTo>
                <a:lnTo>
                  <a:pt x="16179" y="10800"/>
                </a:lnTo>
                <a:lnTo>
                  <a:pt x="16179" y="17989"/>
                </a:lnTo>
                <a:lnTo>
                  <a:pt x="5560" y="17989"/>
                </a:lnTo>
                <a:lnTo>
                  <a:pt x="5560" y="10800"/>
                </a:lnTo>
                <a:lnTo>
                  <a:pt x="3907" y="10800"/>
                </a:lnTo>
                <a:close/>
              </a:path>
              <a:path fill="darkenLess" w="21739" h="21600">
                <a:moveTo>
                  <a:pt x="13446" y="6448"/>
                </a:moveTo>
                <a:lnTo>
                  <a:pt x="13446" y="4707"/>
                </a:lnTo>
                <a:lnTo>
                  <a:pt x="15221" y="4707"/>
                </a:lnTo>
                <a:lnTo>
                  <a:pt x="15221" y="8224"/>
                </a:lnTo>
                <a:close/>
              </a:path>
              <a:path fill="darkenLess" w="21739" h="21600">
                <a:moveTo>
                  <a:pt x="9947" y="14299"/>
                </a:moveTo>
                <a:lnTo>
                  <a:pt x="11792" y="14299"/>
                </a:lnTo>
                <a:lnTo>
                  <a:pt x="11792" y="17989"/>
                </a:lnTo>
                <a:lnTo>
                  <a:pt x="16179" y="17989"/>
                </a:lnTo>
                <a:lnTo>
                  <a:pt x="16179" y="10800"/>
                </a:lnTo>
                <a:lnTo>
                  <a:pt x="5560" y="10800"/>
                </a:lnTo>
                <a:lnTo>
                  <a:pt x="5560" y="17989"/>
                </a:lnTo>
                <a:lnTo>
                  <a:pt x="994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nodeType="clickEffect" fill="hold">
                      <p:stCondLst>
                        <p:cond delay="0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5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16" name="Rectangle 3"/>
            <p:cNvSpPr/>
            <p:nvPr/>
          </p:nvSpPr>
          <p:spPr>
            <a:xfrm>
              <a:off x="0" y="0"/>
              <a:ext cx="179280" cy="685800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Rectangle 4"/>
            <p:cNvSpPr/>
            <p:nvPr/>
          </p:nvSpPr>
          <p:spPr>
            <a:xfrm>
              <a:off x="8964720" y="0"/>
              <a:ext cx="179280" cy="685800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Rectangle 5"/>
            <p:cNvSpPr/>
            <p:nvPr/>
          </p:nvSpPr>
          <p:spPr>
            <a:xfrm rot="5400000">
              <a:off x="4478760" y="-4298040"/>
              <a:ext cx="189000" cy="878508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Rectangle 6"/>
            <p:cNvSpPr/>
            <p:nvPr/>
          </p:nvSpPr>
          <p:spPr>
            <a:xfrm rot="5400000">
              <a:off x="4478760" y="2369160"/>
              <a:ext cx="189000" cy="878508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0" name="Line 7"/>
          <p:cNvSpPr/>
          <p:nvPr/>
        </p:nvSpPr>
        <p:spPr>
          <a:xfrm>
            <a:off x="179280" y="963720"/>
            <a:ext cx="8785440" cy="0"/>
          </a:xfrm>
          <a:prstGeom prst="line">
            <a:avLst/>
          </a:prstGeom>
          <a:ln w="7632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8"/>
          <p:cNvSpPr/>
          <p:nvPr/>
        </p:nvSpPr>
        <p:spPr>
          <a:xfrm>
            <a:off x="539640" y="189000"/>
            <a:ext cx="662472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колько?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AutoShape 9"/>
          <p:cNvSpPr/>
          <p:nvPr/>
        </p:nvSpPr>
        <p:spPr>
          <a:xfrm>
            <a:off x="8172360" y="177840"/>
            <a:ext cx="792360" cy="747720"/>
          </a:xfrm>
          <a:prstGeom prst="bevel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WordArt 10"/>
          <p:cNvSpPr txBox="1"/>
          <p:nvPr/>
        </p:nvSpPr>
        <p:spPr>
          <a:xfrm>
            <a:off x="8296200" y="415800"/>
            <a:ext cx="505080" cy="2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2600" dir="0" blurRad="0" rotWithShape="0">
                    <a:srgbClr val="875b0d">
                      <a:alpha val="50000"/>
                    </a:srgbClr>
                  </a:outerShdw>
                </a:effectLst>
                <a:latin typeface="Arial"/>
              </a:rPr>
              <a:t>300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2600" dir="0" blurRad="0" rotWithShape="0">
                  <a:srgbClr val="875b0d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24" name="Text Box 11"/>
          <p:cNvSpPr/>
          <p:nvPr/>
        </p:nvSpPr>
        <p:spPr>
          <a:xfrm>
            <a:off x="7308720" y="549360"/>
            <a:ext cx="9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bbe0e3"/>
                </a:solidFill>
                <a:latin typeface="Arial"/>
              </a:rPr>
              <a:t>2 ту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12"/>
          <p:cNvSpPr/>
          <p:nvPr/>
        </p:nvSpPr>
        <p:spPr>
          <a:xfrm>
            <a:off x="611280" y="2205000"/>
            <a:ext cx="806436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На сколько градусов могут поворачивать голову сов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WordArt 14"/>
          <p:cNvSpPr txBox="1"/>
          <p:nvPr/>
        </p:nvSpPr>
        <p:spPr>
          <a:xfrm>
            <a:off x="6156360" y="4365720"/>
            <a:ext cx="1440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270</a:t>
            </a:r>
            <a:endParaRPr b="1" i="1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ffff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427" name="WordArt 21"/>
          <p:cNvSpPr txBox="1"/>
          <p:nvPr/>
        </p:nvSpPr>
        <p:spPr>
          <a:xfrm>
            <a:off x="7667640" y="4292640"/>
            <a:ext cx="21744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0</a:t>
            </a:r>
            <a:endParaRPr b="1" i="1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ffff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428" name="AutoShape 22">
            <a:hlinkClick r:id="rId2" action="ppaction://hlinksldjump"/>
          </p:cNvPr>
          <p:cNvSpPr/>
          <p:nvPr/>
        </p:nvSpPr>
        <p:spPr>
          <a:xfrm>
            <a:off x="179280" y="6165720"/>
            <a:ext cx="506520" cy="503280"/>
          </a:xfrm>
          <a:custGeom>
            <a:avLst/>
            <a:gdLst>
              <a:gd name="textAreaLeft" fmla="*/ 32400 w 506520"/>
              <a:gd name="textAreaRight" fmla="*/ 474120 w 5065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1739" h="21600">
                <a:moveTo>
                  <a:pt x="0" y="0"/>
                </a:moveTo>
                <a:lnTo>
                  <a:pt x="21739" y="0"/>
                </a:lnTo>
                <a:lnTo>
                  <a:pt x="21739" y="21600"/>
                </a:lnTo>
                <a:lnTo>
                  <a:pt x="0" y="21600"/>
                </a:lnTo>
                <a:close/>
              </a:path>
              <a:path fill="lightenLess" w="21739" h="21600">
                <a:moveTo>
                  <a:pt x="0" y="0"/>
                </a:moveTo>
                <a:lnTo>
                  <a:pt x="21739" y="0"/>
                </a:lnTo>
                <a:lnTo>
                  <a:pt x="20339" y="1400"/>
                </a:lnTo>
                <a:lnTo>
                  <a:pt x="1400" y="1400"/>
                </a:lnTo>
                <a:close/>
              </a:path>
              <a:path fill="darken" w="21739" h="21600">
                <a:moveTo>
                  <a:pt x="21739" y="0"/>
                </a:moveTo>
                <a:lnTo>
                  <a:pt x="21739" y="21600"/>
                </a:lnTo>
                <a:lnTo>
                  <a:pt x="20339" y="20200"/>
                </a:lnTo>
                <a:lnTo>
                  <a:pt x="20339" y="1400"/>
                </a:lnTo>
                <a:close/>
              </a:path>
              <a:path fill="darkenLess" w="21739" h="21600">
                <a:moveTo>
                  <a:pt x="217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39" y="20200"/>
                </a:lnTo>
                <a:close/>
              </a:path>
              <a:path fill="lighten" w="217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739" h="21600">
                <a:moveTo>
                  <a:pt x="10869" y="3837"/>
                </a:moveTo>
                <a:lnTo>
                  <a:pt x="13446" y="6448"/>
                </a:lnTo>
                <a:lnTo>
                  <a:pt x="13446" y="4707"/>
                </a:lnTo>
                <a:lnTo>
                  <a:pt x="15221" y="4707"/>
                </a:lnTo>
                <a:lnTo>
                  <a:pt x="15221" y="8224"/>
                </a:lnTo>
                <a:lnTo>
                  <a:pt x="17832" y="10800"/>
                </a:lnTo>
                <a:lnTo>
                  <a:pt x="16179" y="10800"/>
                </a:lnTo>
                <a:lnTo>
                  <a:pt x="16179" y="17989"/>
                </a:lnTo>
                <a:lnTo>
                  <a:pt x="5560" y="17989"/>
                </a:lnTo>
                <a:lnTo>
                  <a:pt x="5560" y="10800"/>
                </a:lnTo>
                <a:lnTo>
                  <a:pt x="3907" y="10800"/>
                </a:lnTo>
                <a:close/>
              </a:path>
              <a:path fill="darkenLess" w="21739" h="21600">
                <a:moveTo>
                  <a:pt x="13446" y="6448"/>
                </a:moveTo>
                <a:lnTo>
                  <a:pt x="13446" y="4707"/>
                </a:lnTo>
                <a:lnTo>
                  <a:pt x="15221" y="4707"/>
                </a:lnTo>
                <a:lnTo>
                  <a:pt x="15221" y="8224"/>
                </a:lnTo>
                <a:close/>
              </a:path>
              <a:path fill="darkenLess" w="21739" h="21600">
                <a:moveTo>
                  <a:pt x="9947" y="14299"/>
                </a:moveTo>
                <a:lnTo>
                  <a:pt x="11792" y="14299"/>
                </a:lnTo>
                <a:lnTo>
                  <a:pt x="11792" y="17989"/>
                </a:lnTo>
                <a:lnTo>
                  <a:pt x="16179" y="17989"/>
                </a:lnTo>
                <a:lnTo>
                  <a:pt x="16179" y="10800"/>
                </a:lnTo>
                <a:lnTo>
                  <a:pt x="5560" y="10800"/>
                </a:lnTo>
                <a:lnTo>
                  <a:pt x="5560" y="17989"/>
                </a:lnTo>
                <a:lnTo>
                  <a:pt x="994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nodeType="clickEffect" fill="hold">
                      <p:stCondLst>
                        <p:cond delay="0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2" dur="1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9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30" name="Rectangle 3"/>
            <p:cNvSpPr/>
            <p:nvPr/>
          </p:nvSpPr>
          <p:spPr>
            <a:xfrm>
              <a:off x="0" y="0"/>
              <a:ext cx="179280" cy="685800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Rectangle 4"/>
            <p:cNvSpPr/>
            <p:nvPr/>
          </p:nvSpPr>
          <p:spPr>
            <a:xfrm>
              <a:off x="8964720" y="0"/>
              <a:ext cx="179280" cy="685800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Rectangle 5"/>
            <p:cNvSpPr/>
            <p:nvPr/>
          </p:nvSpPr>
          <p:spPr>
            <a:xfrm rot="5400000">
              <a:off x="4478760" y="-4298040"/>
              <a:ext cx="189000" cy="878508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Rectangle 6"/>
            <p:cNvSpPr/>
            <p:nvPr/>
          </p:nvSpPr>
          <p:spPr>
            <a:xfrm rot="5400000">
              <a:off x="4478760" y="2369160"/>
              <a:ext cx="189000" cy="878508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4" name="Line 7"/>
          <p:cNvSpPr/>
          <p:nvPr/>
        </p:nvSpPr>
        <p:spPr>
          <a:xfrm>
            <a:off x="179280" y="963720"/>
            <a:ext cx="8785440" cy="0"/>
          </a:xfrm>
          <a:prstGeom prst="line">
            <a:avLst/>
          </a:prstGeom>
          <a:ln w="7632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ectangle 8"/>
          <p:cNvSpPr/>
          <p:nvPr/>
        </p:nvSpPr>
        <p:spPr>
          <a:xfrm>
            <a:off x="539640" y="189000"/>
            <a:ext cx="662472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атематические  омони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AutoShape 9"/>
          <p:cNvSpPr/>
          <p:nvPr/>
        </p:nvSpPr>
        <p:spPr>
          <a:xfrm>
            <a:off x="8172360" y="177840"/>
            <a:ext cx="792360" cy="747720"/>
          </a:xfrm>
          <a:prstGeom prst="bevel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WordArt 10"/>
          <p:cNvSpPr txBox="1"/>
          <p:nvPr/>
        </p:nvSpPr>
        <p:spPr>
          <a:xfrm>
            <a:off x="8296200" y="415800"/>
            <a:ext cx="505080" cy="2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2600" dir="0" blurRad="0" rotWithShape="0">
                    <a:srgbClr val="875b0d">
                      <a:alpha val="50000"/>
                    </a:srgbClr>
                  </a:outerShdw>
                </a:effectLst>
                <a:latin typeface="Arial"/>
              </a:rPr>
              <a:t>100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2600" dir="0" blurRad="0" rotWithShape="0">
                  <a:srgbClr val="875b0d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38" name="Text Box 11"/>
          <p:cNvSpPr/>
          <p:nvPr/>
        </p:nvSpPr>
        <p:spPr>
          <a:xfrm>
            <a:off x="7308720" y="549360"/>
            <a:ext cx="9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bbe0e3"/>
                </a:solidFill>
                <a:latin typeface="Arial"/>
              </a:rPr>
              <a:t>2 ту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12"/>
          <p:cNvSpPr/>
          <p:nvPr/>
        </p:nvSpPr>
        <p:spPr>
          <a:xfrm>
            <a:off x="826920" y="2133720"/>
            <a:ext cx="7561440" cy="189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Не только художник, но и линия, дающая наглядное представление о характере изменения функции.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WordArt 17"/>
          <p:cNvSpPr txBox="1"/>
          <p:nvPr/>
        </p:nvSpPr>
        <p:spPr>
          <a:xfrm>
            <a:off x="5003640" y="4508640"/>
            <a:ext cx="251964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график</a:t>
            </a:r>
            <a:endParaRPr b="1" i="1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ffff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441" name="AutoShape 18">
            <a:hlinkClick r:id="rId2" action="ppaction://hlinksldjump"/>
          </p:cNvPr>
          <p:cNvSpPr/>
          <p:nvPr/>
        </p:nvSpPr>
        <p:spPr>
          <a:xfrm>
            <a:off x="179280" y="6165720"/>
            <a:ext cx="506520" cy="503280"/>
          </a:xfrm>
          <a:custGeom>
            <a:avLst/>
            <a:gdLst>
              <a:gd name="textAreaLeft" fmla="*/ 32400 w 506520"/>
              <a:gd name="textAreaRight" fmla="*/ 474120 w 5065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1739" h="21600">
                <a:moveTo>
                  <a:pt x="0" y="0"/>
                </a:moveTo>
                <a:lnTo>
                  <a:pt x="21739" y="0"/>
                </a:lnTo>
                <a:lnTo>
                  <a:pt x="21739" y="21600"/>
                </a:lnTo>
                <a:lnTo>
                  <a:pt x="0" y="21600"/>
                </a:lnTo>
                <a:close/>
              </a:path>
              <a:path fill="lightenLess" w="21739" h="21600">
                <a:moveTo>
                  <a:pt x="0" y="0"/>
                </a:moveTo>
                <a:lnTo>
                  <a:pt x="21739" y="0"/>
                </a:lnTo>
                <a:lnTo>
                  <a:pt x="20339" y="1400"/>
                </a:lnTo>
                <a:lnTo>
                  <a:pt x="1400" y="1400"/>
                </a:lnTo>
                <a:close/>
              </a:path>
              <a:path fill="darken" w="21739" h="21600">
                <a:moveTo>
                  <a:pt x="21739" y="0"/>
                </a:moveTo>
                <a:lnTo>
                  <a:pt x="21739" y="21600"/>
                </a:lnTo>
                <a:lnTo>
                  <a:pt x="20339" y="20200"/>
                </a:lnTo>
                <a:lnTo>
                  <a:pt x="20339" y="1400"/>
                </a:lnTo>
                <a:close/>
              </a:path>
              <a:path fill="darkenLess" w="21739" h="21600">
                <a:moveTo>
                  <a:pt x="217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39" y="20200"/>
                </a:lnTo>
                <a:close/>
              </a:path>
              <a:path fill="lighten" w="217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739" h="21600">
                <a:moveTo>
                  <a:pt x="10869" y="3837"/>
                </a:moveTo>
                <a:lnTo>
                  <a:pt x="13446" y="6448"/>
                </a:lnTo>
                <a:lnTo>
                  <a:pt x="13446" y="4707"/>
                </a:lnTo>
                <a:lnTo>
                  <a:pt x="15221" y="4707"/>
                </a:lnTo>
                <a:lnTo>
                  <a:pt x="15221" y="8224"/>
                </a:lnTo>
                <a:lnTo>
                  <a:pt x="17832" y="10800"/>
                </a:lnTo>
                <a:lnTo>
                  <a:pt x="16179" y="10800"/>
                </a:lnTo>
                <a:lnTo>
                  <a:pt x="16179" y="17989"/>
                </a:lnTo>
                <a:lnTo>
                  <a:pt x="5560" y="17989"/>
                </a:lnTo>
                <a:lnTo>
                  <a:pt x="5560" y="10800"/>
                </a:lnTo>
                <a:lnTo>
                  <a:pt x="3907" y="10800"/>
                </a:lnTo>
                <a:close/>
              </a:path>
              <a:path fill="darkenLess" w="21739" h="21600">
                <a:moveTo>
                  <a:pt x="13446" y="6448"/>
                </a:moveTo>
                <a:lnTo>
                  <a:pt x="13446" y="4707"/>
                </a:lnTo>
                <a:lnTo>
                  <a:pt x="15221" y="4707"/>
                </a:lnTo>
                <a:lnTo>
                  <a:pt x="15221" y="8224"/>
                </a:lnTo>
                <a:close/>
              </a:path>
              <a:path fill="darkenLess" w="21739" h="21600">
                <a:moveTo>
                  <a:pt x="9947" y="14299"/>
                </a:moveTo>
                <a:lnTo>
                  <a:pt x="11792" y="14299"/>
                </a:lnTo>
                <a:lnTo>
                  <a:pt x="11792" y="17989"/>
                </a:lnTo>
                <a:lnTo>
                  <a:pt x="16179" y="17989"/>
                </a:lnTo>
                <a:lnTo>
                  <a:pt x="16179" y="10800"/>
                </a:lnTo>
                <a:lnTo>
                  <a:pt x="5560" y="10800"/>
                </a:lnTo>
                <a:lnTo>
                  <a:pt x="5560" y="17989"/>
                </a:lnTo>
                <a:lnTo>
                  <a:pt x="994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nodeType="clickEffect" fill="hold">
                      <p:stCondLst>
                        <p:cond delay="0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7" dur="1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2" name="Rectangle 3"/>
            <p:cNvSpPr/>
            <p:nvPr/>
          </p:nvSpPr>
          <p:spPr>
            <a:xfrm>
              <a:off x="0" y="0"/>
              <a:ext cx="179280" cy="685800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4"/>
            <p:cNvSpPr/>
            <p:nvPr/>
          </p:nvSpPr>
          <p:spPr>
            <a:xfrm>
              <a:off x="8964720" y="0"/>
              <a:ext cx="179280" cy="685800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5"/>
            <p:cNvSpPr/>
            <p:nvPr/>
          </p:nvSpPr>
          <p:spPr>
            <a:xfrm rot="5400000">
              <a:off x="4478760" y="-4298040"/>
              <a:ext cx="189000" cy="878508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Rectangle 6"/>
            <p:cNvSpPr/>
            <p:nvPr/>
          </p:nvSpPr>
          <p:spPr>
            <a:xfrm rot="5400000">
              <a:off x="4478760" y="2369160"/>
              <a:ext cx="189000" cy="878508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Line 8"/>
          <p:cNvSpPr/>
          <p:nvPr/>
        </p:nvSpPr>
        <p:spPr>
          <a:xfrm>
            <a:off x="179280" y="792000"/>
            <a:ext cx="8785440" cy="0"/>
          </a:xfrm>
          <a:prstGeom prst="line">
            <a:avLst/>
          </a:prstGeom>
          <a:ln w="7632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0"/>
          <p:cNvSpPr/>
          <p:nvPr/>
        </p:nvSpPr>
        <p:spPr>
          <a:xfrm>
            <a:off x="900000" y="1268280"/>
            <a:ext cx="7391520" cy="48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Какой формы глазное яблоко сов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)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шарообразно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)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убическо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)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ническо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ирамидальн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12">
            <a:hlinkClick r:id="" action="ppaction://hlinkshowjump?jump=nextslide"/>
          </p:cNvPr>
          <p:cNvSpPr/>
          <p:nvPr/>
        </p:nvSpPr>
        <p:spPr>
          <a:xfrm>
            <a:off x="8354880" y="6270480"/>
            <a:ext cx="611280" cy="405000"/>
          </a:xfrm>
          <a:custGeom>
            <a:avLst/>
            <a:gdLst>
              <a:gd name="textAreaLeft" fmla="*/ 25920 w 611280"/>
              <a:gd name="textAreaRight" fmla="*/ 585360 w 61128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32592" h="21600">
                <a:moveTo>
                  <a:pt x="0" y="0"/>
                </a:moveTo>
                <a:lnTo>
                  <a:pt x="32592" y="0"/>
                </a:lnTo>
                <a:lnTo>
                  <a:pt x="32592" y="21600"/>
                </a:lnTo>
                <a:lnTo>
                  <a:pt x="0" y="21600"/>
                </a:lnTo>
                <a:close/>
              </a:path>
              <a:path fill="lightenLess" w="32592" h="21600">
                <a:moveTo>
                  <a:pt x="0" y="0"/>
                </a:moveTo>
                <a:lnTo>
                  <a:pt x="32592" y="0"/>
                </a:lnTo>
                <a:lnTo>
                  <a:pt x="31192" y="1400"/>
                </a:lnTo>
                <a:lnTo>
                  <a:pt x="1400" y="1400"/>
                </a:lnTo>
                <a:close/>
              </a:path>
              <a:path fill="darken" w="32592" h="21600">
                <a:moveTo>
                  <a:pt x="32592" y="0"/>
                </a:moveTo>
                <a:lnTo>
                  <a:pt x="32592" y="21600"/>
                </a:lnTo>
                <a:lnTo>
                  <a:pt x="31192" y="20200"/>
                </a:lnTo>
                <a:lnTo>
                  <a:pt x="31192" y="1400"/>
                </a:lnTo>
                <a:close/>
              </a:path>
              <a:path fill="darkenLess" w="32592" h="21600">
                <a:moveTo>
                  <a:pt x="325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92" y="20200"/>
                </a:lnTo>
                <a:close/>
              </a:path>
              <a:path fill="lighten" w="325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92" h="21600">
                <a:moveTo>
                  <a:pt x="9289" y="3794"/>
                </a:moveTo>
                <a:lnTo>
                  <a:pt x="23302" y="10800"/>
                </a:lnTo>
                <a:lnTo>
                  <a:pt x="9289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13"/>
          <p:cNvSpPr/>
          <p:nvPr/>
        </p:nvSpPr>
        <p:spPr>
          <a:xfrm>
            <a:off x="1042920" y="117360"/>
            <a:ext cx="77770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Своя игра</a:t>
            </a: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                   </a:t>
            </a: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I </a:t>
            </a: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 отборочный ту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14">
            <a:hlinkClick r:id="rId1" action="ppaction://hlinksldjump"/>
          </p:cNvPr>
          <p:cNvSpPr/>
          <p:nvPr/>
        </p:nvSpPr>
        <p:spPr>
          <a:xfrm>
            <a:off x="179280" y="189000"/>
            <a:ext cx="505080" cy="576000"/>
          </a:xfrm>
          <a:custGeom>
            <a:avLst/>
            <a:gdLst>
              <a:gd name="textAreaLeft" fmla="*/ 32760 w 505080"/>
              <a:gd name="textAreaRight" fmla="*/ 472680 w 505080"/>
              <a:gd name="textAreaTop" fmla="*/ 32400 h 576000"/>
              <a:gd name="textAreaBottom" fmla="*/ 543600 h 576000"/>
            </a:gdLst>
            <a:ahLst/>
            <a:rect l="textAreaLeft" t="textAreaTop" r="textAreaRight" b="textAreaBottom"/>
            <a:pathLst>
              <a:path w="21600" h="24631">
                <a:moveTo>
                  <a:pt x="0" y="0"/>
                </a:moveTo>
                <a:lnTo>
                  <a:pt x="21600" y="0"/>
                </a:lnTo>
                <a:lnTo>
                  <a:pt x="21600" y="24631"/>
                </a:lnTo>
                <a:lnTo>
                  <a:pt x="0" y="24631"/>
                </a:lnTo>
                <a:close/>
              </a:path>
              <a:path fill="lightenLess" w="21600" h="246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31">
                <a:moveTo>
                  <a:pt x="21600" y="0"/>
                </a:moveTo>
                <a:lnTo>
                  <a:pt x="21600" y="24631"/>
                </a:lnTo>
                <a:lnTo>
                  <a:pt x="20200" y="23231"/>
                </a:lnTo>
                <a:lnTo>
                  <a:pt x="20200" y="1400"/>
                </a:lnTo>
                <a:close/>
              </a:path>
              <a:path fill="darkenLess" w="21600" h="24631">
                <a:moveTo>
                  <a:pt x="21600" y="24631"/>
                </a:moveTo>
                <a:lnTo>
                  <a:pt x="0" y="24631"/>
                </a:lnTo>
                <a:lnTo>
                  <a:pt x="1400" y="23231"/>
                </a:lnTo>
                <a:lnTo>
                  <a:pt x="20200" y="23231"/>
                </a:lnTo>
                <a:close/>
              </a:path>
              <a:path fill="lighten" w="21600" h="24631">
                <a:moveTo>
                  <a:pt x="0" y="246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31"/>
                </a:lnTo>
                <a:close/>
              </a:path>
              <a:path fill="darken" w="21600" h="24631">
                <a:moveTo>
                  <a:pt x="10800" y="5352"/>
                </a:moveTo>
                <a:lnTo>
                  <a:pt x="13376" y="7964"/>
                </a:lnTo>
                <a:lnTo>
                  <a:pt x="13376" y="6223"/>
                </a:lnTo>
                <a:lnTo>
                  <a:pt x="15152" y="6223"/>
                </a:lnTo>
                <a:lnTo>
                  <a:pt x="15152" y="9739"/>
                </a:lnTo>
                <a:lnTo>
                  <a:pt x="17763" y="12315"/>
                </a:lnTo>
                <a:lnTo>
                  <a:pt x="16109" y="12315"/>
                </a:lnTo>
                <a:lnTo>
                  <a:pt x="16109" y="19505"/>
                </a:lnTo>
                <a:lnTo>
                  <a:pt x="5491" y="19505"/>
                </a:lnTo>
                <a:lnTo>
                  <a:pt x="5491" y="12315"/>
                </a:lnTo>
                <a:lnTo>
                  <a:pt x="3837" y="12315"/>
                </a:lnTo>
                <a:close/>
              </a:path>
              <a:path fill="darkenLess" w="21600" h="24631">
                <a:moveTo>
                  <a:pt x="13376" y="7964"/>
                </a:moveTo>
                <a:lnTo>
                  <a:pt x="13376" y="6223"/>
                </a:lnTo>
                <a:lnTo>
                  <a:pt x="15152" y="6223"/>
                </a:lnTo>
                <a:lnTo>
                  <a:pt x="15152" y="9739"/>
                </a:lnTo>
                <a:close/>
              </a:path>
              <a:path fill="darkenLess" w="21600" h="24631">
                <a:moveTo>
                  <a:pt x="9877" y="15814"/>
                </a:moveTo>
                <a:lnTo>
                  <a:pt x="11723" y="15814"/>
                </a:lnTo>
                <a:lnTo>
                  <a:pt x="11723" y="19505"/>
                </a:lnTo>
                <a:lnTo>
                  <a:pt x="16109" y="19505"/>
                </a:lnTo>
                <a:lnTo>
                  <a:pt x="16109" y="12315"/>
                </a:lnTo>
                <a:lnTo>
                  <a:pt x="5491" y="12315"/>
                </a:lnTo>
                <a:lnTo>
                  <a:pt x="5491" y="19505"/>
                </a:lnTo>
                <a:lnTo>
                  <a:pt x="9877" y="19505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6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6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1" dur="500" fill="hold"/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9ffcc"/>
                                      </p:to>
                                    </p:animClr>
                                    <p:animClr clrSpc="rgb">
                                      <p:cBhvr>
                                        <p:cTn id="52" dur="500" fill="hold"/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ffcc"/>
                                      </p:to>
                                    </p:animClr>
                                    <p:set>
                                      <p:cBhvr>
                                        <p:cTn id="53" dur="500" fill="hold"/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2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43" name="Rectangle 3"/>
            <p:cNvSpPr/>
            <p:nvPr/>
          </p:nvSpPr>
          <p:spPr>
            <a:xfrm>
              <a:off x="0" y="0"/>
              <a:ext cx="179280" cy="685800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Rectangle 4"/>
            <p:cNvSpPr/>
            <p:nvPr/>
          </p:nvSpPr>
          <p:spPr>
            <a:xfrm>
              <a:off x="8964720" y="0"/>
              <a:ext cx="179280" cy="685800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Rectangle 5"/>
            <p:cNvSpPr/>
            <p:nvPr/>
          </p:nvSpPr>
          <p:spPr>
            <a:xfrm rot="5400000">
              <a:off x="4478760" y="-4298040"/>
              <a:ext cx="189000" cy="878508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Rectangle 6"/>
            <p:cNvSpPr/>
            <p:nvPr/>
          </p:nvSpPr>
          <p:spPr>
            <a:xfrm rot="5400000">
              <a:off x="4478760" y="2369160"/>
              <a:ext cx="189000" cy="878508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7" name="Line 7"/>
          <p:cNvSpPr/>
          <p:nvPr/>
        </p:nvSpPr>
        <p:spPr>
          <a:xfrm>
            <a:off x="179280" y="963720"/>
            <a:ext cx="8785440" cy="0"/>
          </a:xfrm>
          <a:prstGeom prst="line">
            <a:avLst/>
          </a:prstGeom>
          <a:ln w="7632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AutoShape 9"/>
          <p:cNvSpPr/>
          <p:nvPr/>
        </p:nvSpPr>
        <p:spPr>
          <a:xfrm>
            <a:off x="8172360" y="177840"/>
            <a:ext cx="792360" cy="747720"/>
          </a:xfrm>
          <a:prstGeom prst="bevel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WordArt 10"/>
          <p:cNvSpPr txBox="1"/>
          <p:nvPr/>
        </p:nvSpPr>
        <p:spPr>
          <a:xfrm>
            <a:off x="8296200" y="415800"/>
            <a:ext cx="505080" cy="2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2600" dir="0" blurRad="0" rotWithShape="0">
                    <a:srgbClr val="875b0d">
                      <a:alpha val="50000"/>
                    </a:srgbClr>
                  </a:outerShdw>
                </a:effectLst>
                <a:latin typeface="Arial"/>
              </a:rPr>
              <a:t>200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2600" dir="0" blurRad="0" rotWithShape="0">
                  <a:srgbClr val="875b0d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50" name="Text Box 11"/>
          <p:cNvSpPr/>
          <p:nvPr/>
        </p:nvSpPr>
        <p:spPr>
          <a:xfrm>
            <a:off x="7308720" y="549360"/>
            <a:ext cx="9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bbe0e3"/>
                </a:solidFill>
                <a:latin typeface="Arial"/>
              </a:rPr>
              <a:t>2 ту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12"/>
          <p:cNvSpPr/>
          <p:nvPr/>
        </p:nvSpPr>
        <p:spPr>
          <a:xfrm>
            <a:off x="468360" y="1700280"/>
            <a:ext cx="806436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Не только звание, ранг, чин, но и цифровое или буквенное выражение, показывающее, сколько раз число (или величина) умножается само на себя.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WordArt 14"/>
          <p:cNvSpPr txBox="1"/>
          <p:nvPr/>
        </p:nvSpPr>
        <p:spPr>
          <a:xfrm>
            <a:off x="5508720" y="4797360"/>
            <a:ext cx="2448000" cy="43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степень</a:t>
            </a:r>
            <a:endParaRPr b="1" i="1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ffff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453" name="Rectangle 16"/>
          <p:cNvSpPr/>
          <p:nvPr/>
        </p:nvSpPr>
        <p:spPr>
          <a:xfrm>
            <a:off x="539640" y="189000"/>
            <a:ext cx="662472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атематические  омони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AutoShape 17">
            <a:hlinkClick r:id="rId2" action="ppaction://hlinksldjump"/>
          </p:cNvPr>
          <p:cNvSpPr/>
          <p:nvPr/>
        </p:nvSpPr>
        <p:spPr>
          <a:xfrm>
            <a:off x="179280" y="6165720"/>
            <a:ext cx="506520" cy="503280"/>
          </a:xfrm>
          <a:custGeom>
            <a:avLst/>
            <a:gdLst>
              <a:gd name="textAreaLeft" fmla="*/ 32400 w 506520"/>
              <a:gd name="textAreaRight" fmla="*/ 474120 w 5065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1739" h="21600">
                <a:moveTo>
                  <a:pt x="0" y="0"/>
                </a:moveTo>
                <a:lnTo>
                  <a:pt x="21739" y="0"/>
                </a:lnTo>
                <a:lnTo>
                  <a:pt x="21739" y="21600"/>
                </a:lnTo>
                <a:lnTo>
                  <a:pt x="0" y="21600"/>
                </a:lnTo>
                <a:close/>
              </a:path>
              <a:path fill="lightenLess" w="21739" h="21600">
                <a:moveTo>
                  <a:pt x="0" y="0"/>
                </a:moveTo>
                <a:lnTo>
                  <a:pt x="21739" y="0"/>
                </a:lnTo>
                <a:lnTo>
                  <a:pt x="20339" y="1400"/>
                </a:lnTo>
                <a:lnTo>
                  <a:pt x="1400" y="1400"/>
                </a:lnTo>
                <a:close/>
              </a:path>
              <a:path fill="darken" w="21739" h="21600">
                <a:moveTo>
                  <a:pt x="21739" y="0"/>
                </a:moveTo>
                <a:lnTo>
                  <a:pt x="21739" y="21600"/>
                </a:lnTo>
                <a:lnTo>
                  <a:pt x="20339" y="20200"/>
                </a:lnTo>
                <a:lnTo>
                  <a:pt x="20339" y="1400"/>
                </a:lnTo>
                <a:close/>
              </a:path>
              <a:path fill="darkenLess" w="21739" h="21600">
                <a:moveTo>
                  <a:pt x="217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39" y="20200"/>
                </a:lnTo>
                <a:close/>
              </a:path>
              <a:path fill="lighten" w="217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739" h="21600">
                <a:moveTo>
                  <a:pt x="10869" y="3837"/>
                </a:moveTo>
                <a:lnTo>
                  <a:pt x="13446" y="6448"/>
                </a:lnTo>
                <a:lnTo>
                  <a:pt x="13446" y="4707"/>
                </a:lnTo>
                <a:lnTo>
                  <a:pt x="15221" y="4707"/>
                </a:lnTo>
                <a:lnTo>
                  <a:pt x="15221" y="8224"/>
                </a:lnTo>
                <a:lnTo>
                  <a:pt x="17832" y="10800"/>
                </a:lnTo>
                <a:lnTo>
                  <a:pt x="16179" y="10800"/>
                </a:lnTo>
                <a:lnTo>
                  <a:pt x="16179" y="17989"/>
                </a:lnTo>
                <a:lnTo>
                  <a:pt x="5560" y="17989"/>
                </a:lnTo>
                <a:lnTo>
                  <a:pt x="5560" y="10800"/>
                </a:lnTo>
                <a:lnTo>
                  <a:pt x="3907" y="10800"/>
                </a:lnTo>
                <a:close/>
              </a:path>
              <a:path fill="darkenLess" w="21739" h="21600">
                <a:moveTo>
                  <a:pt x="13446" y="6448"/>
                </a:moveTo>
                <a:lnTo>
                  <a:pt x="13446" y="4707"/>
                </a:lnTo>
                <a:lnTo>
                  <a:pt x="15221" y="4707"/>
                </a:lnTo>
                <a:lnTo>
                  <a:pt x="15221" y="8224"/>
                </a:lnTo>
                <a:close/>
              </a:path>
              <a:path fill="darkenLess" w="21739" h="21600">
                <a:moveTo>
                  <a:pt x="9947" y="14299"/>
                </a:moveTo>
                <a:lnTo>
                  <a:pt x="11792" y="14299"/>
                </a:lnTo>
                <a:lnTo>
                  <a:pt x="11792" y="17989"/>
                </a:lnTo>
                <a:lnTo>
                  <a:pt x="16179" y="17989"/>
                </a:lnTo>
                <a:lnTo>
                  <a:pt x="16179" y="10800"/>
                </a:lnTo>
                <a:lnTo>
                  <a:pt x="5560" y="10800"/>
                </a:lnTo>
                <a:lnTo>
                  <a:pt x="5560" y="17989"/>
                </a:lnTo>
                <a:lnTo>
                  <a:pt x="994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8" dur="indefinite" restart="never" nodeType="tmRoot">
          <p:childTnLst>
            <p:seq>
              <p:cTn id="579" dur="indefinite" nodeType="mainSeq">
                <p:childTnLst>
                  <p:par>
                    <p:cTn id="580" nodeType="clickEffect" fill="hold">
                      <p:stCondLst>
                        <p:cond delay="0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nodeType="clickEffect" fill="hold">
                      <p:stCondLst>
                        <p:cond delay="indefinite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2" dur="1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5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56" name="Rectangle 3"/>
            <p:cNvSpPr/>
            <p:nvPr/>
          </p:nvSpPr>
          <p:spPr>
            <a:xfrm>
              <a:off x="0" y="0"/>
              <a:ext cx="179280" cy="685800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Rectangle 4"/>
            <p:cNvSpPr/>
            <p:nvPr/>
          </p:nvSpPr>
          <p:spPr>
            <a:xfrm>
              <a:off x="8964720" y="0"/>
              <a:ext cx="179280" cy="685800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Rectangle 5"/>
            <p:cNvSpPr/>
            <p:nvPr/>
          </p:nvSpPr>
          <p:spPr>
            <a:xfrm rot="5400000">
              <a:off x="4478760" y="-4298040"/>
              <a:ext cx="189000" cy="878508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Rectangle 6"/>
            <p:cNvSpPr/>
            <p:nvPr/>
          </p:nvSpPr>
          <p:spPr>
            <a:xfrm rot="5400000">
              <a:off x="4478760" y="2369160"/>
              <a:ext cx="189000" cy="878508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0" name="Line 7"/>
          <p:cNvSpPr/>
          <p:nvPr/>
        </p:nvSpPr>
        <p:spPr>
          <a:xfrm>
            <a:off x="179280" y="963720"/>
            <a:ext cx="8785440" cy="0"/>
          </a:xfrm>
          <a:prstGeom prst="line">
            <a:avLst/>
          </a:prstGeom>
          <a:ln w="7632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AutoShape 9"/>
          <p:cNvSpPr/>
          <p:nvPr/>
        </p:nvSpPr>
        <p:spPr>
          <a:xfrm>
            <a:off x="8172360" y="177840"/>
            <a:ext cx="792360" cy="747720"/>
          </a:xfrm>
          <a:prstGeom prst="bevel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WordArt 10"/>
          <p:cNvSpPr txBox="1"/>
          <p:nvPr/>
        </p:nvSpPr>
        <p:spPr>
          <a:xfrm>
            <a:off x="8296200" y="415800"/>
            <a:ext cx="505080" cy="2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2600" dir="0" blurRad="0" rotWithShape="0">
                    <a:srgbClr val="875b0d">
                      <a:alpha val="50000"/>
                    </a:srgbClr>
                  </a:outerShdw>
                </a:effectLst>
                <a:latin typeface="Arial"/>
              </a:rPr>
              <a:t>300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2600" dir="0" blurRad="0" rotWithShape="0">
                  <a:srgbClr val="875b0d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63" name="Text Box 11"/>
          <p:cNvSpPr/>
          <p:nvPr/>
        </p:nvSpPr>
        <p:spPr>
          <a:xfrm>
            <a:off x="7308720" y="549360"/>
            <a:ext cx="9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bbe0e3"/>
                </a:solidFill>
                <a:latin typeface="Arial"/>
              </a:rPr>
              <a:t>2 ту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 Box 12"/>
          <p:cNvSpPr/>
          <p:nvPr/>
        </p:nvSpPr>
        <p:spPr>
          <a:xfrm>
            <a:off x="1403280" y="2133720"/>
            <a:ext cx="6553440" cy="23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Не только углубление, пазуха, длинный замкнутый канал в анатомии, но и тригонометри-ческая функция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WordArt 14"/>
          <p:cNvSpPr txBox="1"/>
          <p:nvPr/>
        </p:nvSpPr>
        <p:spPr>
          <a:xfrm>
            <a:off x="5940360" y="4724280"/>
            <a:ext cx="1584360" cy="43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синус</a:t>
            </a:r>
            <a:endParaRPr b="1" i="1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ffff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466" name="Rectangle 16"/>
          <p:cNvSpPr/>
          <p:nvPr/>
        </p:nvSpPr>
        <p:spPr>
          <a:xfrm>
            <a:off x="539640" y="189000"/>
            <a:ext cx="662472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атематические  омони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AutoShape 17">
            <a:hlinkClick r:id="rId2" action="ppaction://hlinksldjump"/>
          </p:cNvPr>
          <p:cNvSpPr/>
          <p:nvPr/>
        </p:nvSpPr>
        <p:spPr>
          <a:xfrm>
            <a:off x="179280" y="6165720"/>
            <a:ext cx="506520" cy="503280"/>
          </a:xfrm>
          <a:custGeom>
            <a:avLst/>
            <a:gdLst>
              <a:gd name="textAreaLeft" fmla="*/ 32400 w 506520"/>
              <a:gd name="textAreaRight" fmla="*/ 474120 w 5065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1739" h="21600">
                <a:moveTo>
                  <a:pt x="0" y="0"/>
                </a:moveTo>
                <a:lnTo>
                  <a:pt x="21739" y="0"/>
                </a:lnTo>
                <a:lnTo>
                  <a:pt x="21739" y="21600"/>
                </a:lnTo>
                <a:lnTo>
                  <a:pt x="0" y="21600"/>
                </a:lnTo>
                <a:close/>
              </a:path>
              <a:path fill="lightenLess" w="21739" h="21600">
                <a:moveTo>
                  <a:pt x="0" y="0"/>
                </a:moveTo>
                <a:lnTo>
                  <a:pt x="21739" y="0"/>
                </a:lnTo>
                <a:lnTo>
                  <a:pt x="20339" y="1400"/>
                </a:lnTo>
                <a:lnTo>
                  <a:pt x="1400" y="1400"/>
                </a:lnTo>
                <a:close/>
              </a:path>
              <a:path fill="darken" w="21739" h="21600">
                <a:moveTo>
                  <a:pt x="21739" y="0"/>
                </a:moveTo>
                <a:lnTo>
                  <a:pt x="21739" y="21600"/>
                </a:lnTo>
                <a:lnTo>
                  <a:pt x="20339" y="20200"/>
                </a:lnTo>
                <a:lnTo>
                  <a:pt x="20339" y="1400"/>
                </a:lnTo>
                <a:close/>
              </a:path>
              <a:path fill="darkenLess" w="21739" h="21600">
                <a:moveTo>
                  <a:pt x="217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39" y="20200"/>
                </a:lnTo>
                <a:close/>
              </a:path>
              <a:path fill="lighten" w="217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739" h="21600">
                <a:moveTo>
                  <a:pt x="10869" y="3837"/>
                </a:moveTo>
                <a:lnTo>
                  <a:pt x="13446" y="6448"/>
                </a:lnTo>
                <a:lnTo>
                  <a:pt x="13446" y="4707"/>
                </a:lnTo>
                <a:lnTo>
                  <a:pt x="15221" y="4707"/>
                </a:lnTo>
                <a:lnTo>
                  <a:pt x="15221" y="8224"/>
                </a:lnTo>
                <a:lnTo>
                  <a:pt x="17832" y="10800"/>
                </a:lnTo>
                <a:lnTo>
                  <a:pt x="16179" y="10800"/>
                </a:lnTo>
                <a:lnTo>
                  <a:pt x="16179" y="17989"/>
                </a:lnTo>
                <a:lnTo>
                  <a:pt x="5560" y="17989"/>
                </a:lnTo>
                <a:lnTo>
                  <a:pt x="5560" y="10800"/>
                </a:lnTo>
                <a:lnTo>
                  <a:pt x="3907" y="10800"/>
                </a:lnTo>
                <a:close/>
              </a:path>
              <a:path fill="darkenLess" w="21739" h="21600">
                <a:moveTo>
                  <a:pt x="13446" y="6448"/>
                </a:moveTo>
                <a:lnTo>
                  <a:pt x="13446" y="4707"/>
                </a:lnTo>
                <a:lnTo>
                  <a:pt x="15221" y="4707"/>
                </a:lnTo>
                <a:lnTo>
                  <a:pt x="15221" y="8224"/>
                </a:lnTo>
                <a:close/>
              </a:path>
              <a:path fill="darkenLess" w="21739" h="21600">
                <a:moveTo>
                  <a:pt x="9947" y="14299"/>
                </a:moveTo>
                <a:lnTo>
                  <a:pt x="11792" y="14299"/>
                </a:lnTo>
                <a:lnTo>
                  <a:pt x="11792" y="17989"/>
                </a:lnTo>
                <a:lnTo>
                  <a:pt x="16179" y="17989"/>
                </a:lnTo>
                <a:lnTo>
                  <a:pt x="16179" y="10800"/>
                </a:lnTo>
                <a:lnTo>
                  <a:pt x="5560" y="10800"/>
                </a:lnTo>
                <a:lnTo>
                  <a:pt x="5560" y="17989"/>
                </a:lnTo>
                <a:lnTo>
                  <a:pt x="994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3" dur="indefinite" restart="never" nodeType="tmRoot">
          <p:childTnLst>
            <p:seq>
              <p:cTn id="594" dur="indefinite" nodeType="mainSeq">
                <p:childTnLst>
                  <p:par>
                    <p:cTn id="595" nodeType="clickEffect" fill="hold">
                      <p:stCondLst>
                        <p:cond delay="0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nodeType="clickEffect" fill="hold">
                      <p:stCondLst>
                        <p:cond delay="indefinite"/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7" dur="1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8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69" name="Rectangle 3"/>
            <p:cNvSpPr/>
            <p:nvPr/>
          </p:nvSpPr>
          <p:spPr>
            <a:xfrm>
              <a:off x="0" y="0"/>
              <a:ext cx="179280" cy="685800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Rectangle 4"/>
            <p:cNvSpPr/>
            <p:nvPr/>
          </p:nvSpPr>
          <p:spPr>
            <a:xfrm>
              <a:off x="8964720" y="0"/>
              <a:ext cx="179280" cy="685800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Rectangle 5"/>
            <p:cNvSpPr/>
            <p:nvPr/>
          </p:nvSpPr>
          <p:spPr>
            <a:xfrm rot="5400000">
              <a:off x="4478760" y="-4298040"/>
              <a:ext cx="189000" cy="878508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Rectangle 6"/>
            <p:cNvSpPr/>
            <p:nvPr/>
          </p:nvSpPr>
          <p:spPr>
            <a:xfrm rot="5400000">
              <a:off x="4478760" y="2369160"/>
              <a:ext cx="189000" cy="878508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3" name="Rectangle 7"/>
          <p:cNvSpPr/>
          <p:nvPr/>
        </p:nvSpPr>
        <p:spPr>
          <a:xfrm>
            <a:off x="1042920" y="117360"/>
            <a:ext cx="77770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Своя игра</a:t>
            </a: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                   </a:t>
            </a: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III </a:t>
            </a: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 отборочный ту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Line 8"/>
          <p:cNvSpPr/>
          <p:nvPr/>
        </p:nvSpPr>
        <p:spPr>
          <a:xfrm>
            <a:off x="179280" y="803160"/>
            <a:ext cx="8785440" cy="0"/>
          </a:xfrm>
          <a:prstGeom prst="line">
            <a:avLst/>
          </a:prstGeom>
          <a:ln w="7632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Rectangle 9"/>
          <p:cNvSpPr/>
          <p:nvPr/>
        </p:nvSpPr>
        <p:spPr>
          <a:xfrm>
            <a:off x="395280" y="2060640"/>
            <a:ext cx="8497800" cy="28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Какую форму имеет наша Галактик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)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шарообразную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)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пиральную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)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ллиптическу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AutoShape 10">
            <a:hlinkClick r:id="" action="ppaction://hlinkshowjump?jump=nextslide"/>
          </p:cNvPr>
          <p:cNvSpPr/>
          <p:nvPr/>
        </p:nvSpPr>
        <p:spPr>
          <a:xfrm>
            <a:off x="8354880" y="6270480"/>
            <a:ext cx="611280" cy="405000"/>
          </a:xfrm>
          <a:custGeom>
            <a:avLst/>
            <a:gdLst>
              <a:gd name="textAreaLeft" fmla="*/ 25920 w 611280"/>
              <a:gd name="textAreaRight" fmla="*/ 585360 w 61128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32592" h="21600">
                <a:moveTo>
                  <a:pt x="0" y="0"/>
                </a:moveTo>
                <a:lnTo>
                  <a:pt x="32592" y="0"/>
                </a:lnTo>
                <a:lnTo>
                  <a:pt x="32592" y="21600"/>
                </a:lnTo>
                <a:lnTo>
                  <a:pt x="0" y="21600"/>
                </a:lnTo>
                <a:close/>
              </a:path>
              <a:path fill="lightenLess" w="32592" h="21600">
                <a:moveTo>
                  <a:pt x="0" y="0"/>
                </a:moveTo>
                <a:lnTo>
                  <a:pt x="32592" y="0"/>
                </a:lnTo>
                <a:lnTo>
                  <a:pt x="31192" y="1400"/>
                </a:lnTo>
                <a:lnTo>
                  <a:pt x="1400" y="1400"/>
                </a:lnTo>
                <a:close/>
              </a:path>
              <a:path fill="darken" w="32592" h="21600">
                <a:moveTo>
                  <a:pt x="32592" y="0"/>
                </a:moveTo>
                <a:lnTo>
                  <a:pt x="32592" y="21600"/>
                </a:lnTo>
                <a:lnTo>
                  <a:pt x="31192" y="20200"/>
                </a:lnTo>
                <a:lnTo>
                  <a:pt x="31192" y="1400"/>
                </a:lnTo>
                <a:close/>
              </a:path>
              <a:path fill="darkenLess" w="32592" h="21600">
                <a:moveTo>
                  <a:pt x="325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92" y="20200"/>
                </a:lnTo>
                <a:close/>
              </a:path>
              <a:path fill="lighten" w="325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92" h="21600">
                <a:moveTo>
                  <a:pt x="9289" y="3794"/>
                </a:moveTo>
                <a:lnTo>
                  <a:pt x="23302" y="10800"/>
                </a:lnTo>
                <a:lnTo>
                  <a:pt x="9289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AutoShape 11">
            <a:hlinkClick r:id="rId1" action="ppaction://hlinksldjump"/>
          </p:cNvPr>
          <p:cNvSpPr/>
          <p:nvPr/>
        </p:nvSpPr>
        <p:spPr>
          <a:xfrm>
            <a:off x="179280" y="189000"/>
            <a:ext cx="505080" cy="576000"/>
          </a:xfrm>
          <a:custGeom>
            <a:avLst/>
            <a:gdLst>
              <a:gd name="textAreaLeft" fmla="*/ 32760 w 505080"/>
              <a:gd name="textAreaRight" fmla="*/ 472680 w 505080"/>
              <a:gd name="textAreaTop" fmla="*/ 32400 h 576000"/>
              <a:gd name="textAreaBottom" fmla="*/ 543600 h 576000"/>
            </a:gdLst>
            <a:ahLst/>
            <a:rect l="textAreaLeft" t="textAreaTop" r="textAreaRight" b="textAreaBottom"/>
            <a:pathLst>
              <a:path w="21600" h="24631">
                <a:moveTo>
                  <a:pt x="0" y="0"/>
                </a:moveTo>
                <a:lnTo>
                  <a:pt x="21600" y="0"/>
                </a:lnTo>
                <a:lnTo>
                  <a:pt x="21600" y="24631"/>
                </a:lnTo>
                <a:lnTo>
                  <a:pt x="0" y="24631"/>
                </a:lnTo>
                <a:close/>
              </a:path>
              <a:path fill="lightenLess" w="21600" h="246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31">
                <a:moveTo>
                  <a:pt x="21600" y="0"/>
                </a:moveTo>
                <a:lnTo>
                  <a:pt x="21600" y="24631"/>
                </a:lnTo>
                <a:lnTo>
                  <a:pt x="20200" y="23231"/>
                </a:lnTo>
                <a:lnTo>
                  <a:pt x="20200" y="1400"/>
                </a:lnTo>
                <a:close/>
              </a:path>
              <a:path fill="darkenLess" w="21600" h="24631">
                <a:moveTo>
                  <a:pt x="21600" y="24631"/>
                </a:moveTo>
                <a:lnTo>
                  <a:pt x="0" y="24631"/>
                </a:lnTo>
                <a:lnTo>
                  <a:pt x="1400" y="23231"/>
                </a:lnTo>
                <a:lnTo>
                  <a:pt x="20200" y="23231"/>
                </a:lnTo>
                <a:close/>
              </a:path>
              <a:path fill="lighten" w="21600" h="24631">
                <a:moveTo>
                  <a:pt x="0" y="246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31"/>
                </a:lnTo>
                <a:close/>
              </a:path>
              <a:path fill="darken" w="21600" h="24631">
                <a:moveTo>
                  <a:pt x="10800" y="5352"/>
                </a:moveTo>
                <a:lnTo>
                  <a:pt x="13376" y="7964"/>
                </a:lnTo>
                <a:lnTo>
                  <a:pt x="13376" y="6223"/>
                </a:lnTo>
                <a:lnTo>
                  <a:pt x="15152" y="6223"/>
                </a:lnTo>
                <a:lnTo>
                  <a:pt x="15152" y="9739"/>
                </a:lnTo>
                <a:lnTo>
                  <a:pt x="17763" y="12315"/>
                </a:lnTo>
                <a:lnTo>
                  <a:pt x="16109" y="12315"/>
                </a:lnTo>
                <a:lnTo>
                  <a:pt x="16109" y="19505"/>
                </a:lnTo>
                <a:lnTo>
                  <a:pt x="5491" y="19505"/>
                </a:lnTo>
                <a:lnTo>
                  <a:pt x="5491" y="12315"/>
                </a:lnTo>
                <a:lnTo>
                  <a:pt x="3837" y="12315"/>
                </a:lnTo>
                <a:close/>
              </a:path>
              <a:path fill="darkenLess" w="21600" h="24631">
                <a:moveTo>
                  <a:pt x="13376" y="7964"/>
                </a:moveTo>
                <a:lnTo>
                  <a:pt x="13376" y="6223"/>
                </a:lnTo>
                <a:lnTo>
                  <a:pt x="15152" y="6223"/>
                </a:lnTo>
                <a:lnTo>
                  <a:pt x="15152" y="9739"/>
                </a:lnTo>
                <a:close/>
              </a:path>
              <a:path fill="darkenLess" w="21600" h="24631">
                <a:moveTo>
                  <a:pt x="9877" y="15814"/>
                </a:moveTo>
                <a:lnTo>
                  <a:pt x="11723" y="15814"/>
                </a:lnTo>
                <a:lnTo>
                  <a:pt x="11723" y="19505"/>
                </a:lnTo>
                <a:lnTo>
                  <a:pt x="16109" y="19505"/>
                </a:lnTo>
                <a:lnTo>
                  <a:pt x="16109" y="12315"/>
                </a:lnTo>
                <a:lnTo>
                  <a:pt x="5491" y="12315"/>
                </a:lnTo>
                <a:lnTo>
                  <a:pt x="5491" y="19505"/>
                </a:lnTo>
                <a:lnTo>
                  <a:pt x="9877" y="19505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8" dur="indefinite" restart="never" nodeType="tmRoot">
          <p:childTnLst>
            <p:seq>
              <p:cTn id="609" dur="indefinite" nodeType="mainSeq">
                <p:childTnLst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4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4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1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4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4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4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4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nodeType="clickEffect" fill="hold">
                      <p:stCondLst>
                        <p:cond delay="indefinite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29" dur="500" fill="hold"/>
                                        <p:tgtEl>
                                          <p:spTgt spid="4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-1,-52)"/>
                                      </p:to>
                                    </p:set>
                                    <p:set>
                                      <p:cBhvr>
                                        <p:cTn id="630" dur="500" fill="hold"/>
                                        <p:tgtEl>
                                          <p:spTgt spid="4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-1,-52)"/>
                                      </p:to>
                                    </p:set>
                                    <p:set>
                                      <p:cBhvr>
                                        <p:cTn id="631" dur="500" fill="hold"/>
                                        <p:tgtEl>
                                          <p:spTgt spid="4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8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79" name="Rectangle 3"/>
            <p:cNvSpPr/>
            <p:nvPr/>
          </p:nvSpPr>
          <p:spPr>
            <a:xfrm>
              <a:off x="0" y="0"/>
              <a:ext cx="179280" cy="685800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Rectangle 4"/>
            <p:cNvSpPr/>
            <p:nvPr/>
          </p:nvSpPr>
          <p:spPr>
            <a:xfrm>
              <a:off x="8964720" y="0"/>
              <a:ext cx="179280" cy="685800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Rectangle 5"/>
            <p:cNvSpPr/>
            <p:nvPr/>
          </p:nvSpPr>
          <p:spPr>
            <a:xfrm rot="5400000">
              <a:off x="4478760" y="-4298040"/>
              <a:ext cx="189000" cy="878508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Rectangle 6"/>
            <p:cNvSpPr/>
            <p:nvPr/>
          </p:nvSpPr>
          <p:spPr>
            <a:xfrm rot="5400000">
              <a:off x="4478760" y="2369160"/>
              <a:ext cx="189000" cy="878508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Rectangle 7"/>
          <p:cNvSpPr/>
          <p:nvPr/>
        </p:nvSpPr>
        <p:spPr>
          <a:xfrm>
            <a:off x="1042920" y="117360"/>
            <a:ext cx="77770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Своя игра</a:t>
            </a: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                   </a:t>
            </a: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III </a:t>
            </a: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 отборочный ту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Line 8"/>
          <p:cNvSpPr/>
          <p:nvPr/>
        </p:nvSpPr>
        <p:spPr>
          <a:xfrm>
            <a:off x="179280" y="803160"/>
            <a:ext cx="8785440" cy="0"/>
          </a:xfrm>
          <a:prstGeom prst="line">
            <a:avLst/>
          </a:prstGeom>
          <a:ln w="7632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Rectangle 9"/>
          <p:cNvSpPr/>
          <p:nvPr/>
        </p:nvSpPr>
        <p:spPr>
          <a:xfrm>
            <a:off x="611280" y="1916280"/>
            <a:ext cx="784836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Название какого геометрического тела произошло от греческих слов </a:t>
            </a: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«валик»,  «каток»?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)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шар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)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нус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)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илинд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AutoShape 10">
            <a:hlinkClick r:id="" action="ppaction://hlinkshowjump?jump=nextslide"/>
          </p:cNvPr>
          <p:cNvSpPr/>
          <p:nvPr/>
        </p:nvSpPr>
        <p:spPr>
          <a:xfrm>
            <a:off x="8354880" y="6270480"/>
            <a:ext cx="611280" cy="405000"/>
          </a:xfrm>
          <a:custGeom>
            <a:avLst/>
            <a:gdLst>
              <a:gd name="textAreaLeft" fmla="*/ 25920 w 611280"/>
              <a:gd name="textAreaRight" fmla="*/ 585360 w 61128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32592" h="21600">
                <a:moveTo>
                  <a:pt x="0" y="0"/>
                </a:moveTo>
                <a:lnTo>
                  <a:pt x="32592" y="0"/>
                </a:lnTo>
                <a:lnTo>
                  <a:pt x="32592" y="21600"/>
                </a:lnTo>
                <a:lnTo>
                  <a:pt x="0" y="21600"/>
                </a:lnTo>
                <a:close/>
              </a:path>
              <a:path fill="lightenLess" w="32592" h="21600">
                <a:moveTo>
                  <a:pt x="0" y="0"/>
                </a:moveTo>
                <a:lnTo>
                  <a:pt x="32592" y="0"/>
                </a:lnTo>
                <a:lnTo>
                  <a:pt x="31192" y="1400"/>
                </a:lnTo>
                <a:lnTo>
                  <a:pt x="1400" y="1400"/>
                </a:lnTo>
                <a:close/>
              </a:path>
              <a:path fill="darken" w="32592" h="21600">
                <a:moveTo>
                  <a:pt x="32592" y="0"/>
                </a:moveTo>
                <a:lnTo>
                  <a:pt x="32592" y="21600"/>
                </a:lnTo>
                <a:lnTo>
                  <a:pt x="31192" y="20200"/>
                </a:lnTo>
                <a:lnTo>
                  <a:pt x="31192" y="1400"/>
                </a:lnTo>
                <a:close/>
              </a:path>
              <a:path fill="darkenLess" w="32592" h="21600">
                <a:moveTo>
                  <a:pt x="325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92" y="20200"/>
                </a:lnTo>
                <a:close/>
              </a:path>
              <a:path fill="lighten" w="325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92" h="21600">
                <a:moveTo>
                  <a:pt x="9289" y="3794"/>
                </a:moveTo>
                <a:lnTo>
                  <a:pt x="23302" y="10800"/>
                </a:lnTo>
                <a:lnTo>
                  <a:pt x="9289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AutoShape 12">
            <a:hlinkClick r:id="rId1" action="ppaction://hlinksldjump"/>
          </p:cNvPr>
          <p:cNvSpPr/>
          <p:nvPr/>
        </p:nvSpPr>
        <p:spPr>
          <a:xfrm>
            <a:off x="179280" y="189000"/>
            <a:ext cx="505080" cy="576000"/>
          </a:xfrm>
          <a:custGeom>
            <a:avLst/>
            <a:gdLst>
              <a:gd name="textAreaLeft" fmla="*/ 32760 w 505080"/>
              <a:gd name="textAreaRight" fmla="*/ 472680 w 505080"/>
              <a:gd name="textAreaTop" fmla="*/ 32400 h 576000"/>
              <a:gd name="textAreaBottom" fmla="*/ 543600 h 576000"/>
            </a:gdLst>
            <a:ahLst/>
            <a:rect l="textAreaLeft" t="textAreaTop" r="textAreaRight" b="textAreaBottom"/>
            <a:pathLst>
              <a:path w="21600" h="24631">
                <a:moveTo>
                  <a:pt x="0" y="0"/>
                </a:moveTo>
                <a:lnTo>
                  <a:pt x="21600" y="0"/>
                </a:lnTo>
                <a:lnTo>
                  <a:pt x="21600" y="24631"/>
                </a:lnTo>
                <a:lnTo>
                  <a:pt x="0" y="24631"/>
                </a:lnTo>
                <a:close/>
              </a:path>
              <a:path fill="lightenLess" w="21600" h="246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31">
                <a:moveTo>
                  <a:pt x="21600" y="0"/>
                </a:moveTo>
                <a:lnTo>
                  <a:pt x="21600" y="24631"/>
                </a:lnTo>
                <a:lnTo>
                  <a:pt x="20200" y="23231"/>
                </a:lnTo>
                <a:lnTo>
                  <a:pt x="20200" y="1400"/>
                </a:lnTo>
                <a:close/>
              </a:path>
              <a:path fill="darkenLess" w="21600" h="24631">
                <a:moveTo>
                  <a:pt x="21600" y="24631"/>
                </a:moveTo>
                <a:lnTo>
                  <a:pt x="0" y="24631"/>
                </a:lnTo>
                <a:lnTo>
                  <a:pt x="1400" y="23231"/>
                </a:lnTo>
                <a:lnTo>
                  <a:pt x="20200" y="23231"/>
                </a:lnTo>
                <a:close/>
              </a:path>
              <a:path fill="lighten" w="21600" h="24631">
                <a:moveTo>
                  <a:pt x="0" y="246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31"/>
                </a:lnTo>
                <a:close/>
              </a:path>
              <a:path fill="darken" w="21600" h="24631">
                <a:moveTo>
                  <a:pt x="10800" y="5352"/>
                </a:moveTo>
                <a:lnTo>
                  <a:pt x="13376" y="7964"/>
                </a:lnTo>
                <a:lnTo>
                  <a:pt x="13376" y="6223"/>
                </a:lnTo>
                <a:lnTo>
                  <a:pt x="15152" y="6223"/>
                </a:lnTo>
                <a:lnTo>
                  <a:pt x="15152" y="9739"/>
                </a:lnTo>
                <a:lnTo>
                  <a:pt x="17763" y="12315"/>
                </a:lnTo>
                <a:lnTo>
                  <a:pt x="16109" y="12315"/>
                </a:lnTo>
                <a:lnTo>
                  <a:pt x="16109" y="19505"/>
                </a:lnTo>
                <a:lnTo>
                  <a:pt x="5491" y="19505"/>
                </a:lnTo>
                <a:lnTo>
                  <a:pt x="5491" y="12315"/>
                </a:lnTo>
                <a:lnTo>
                  <a:pt x="3837" y="12315"/>
                </a:lnTo>
                <a:close/>
              </a:path>
              <a:path fill="darkenLess" w="21600" h="24631">
                <a:moveTo>
                  <a:pt x="13376" y="7964"/>
                </a:moveTo>
                <a:lnTo>
                  <a:pt x="13376" y="6223"/>
                </a:lnTo>
                <a:lnTo>
                  <a:pt x="15152" y="6223"/>
                </a:lnTo>
                <a:lnTo>
                  <a:pt x="15152" y="9739"/>
                </a:lnTo>
                <a:close/>
              </a:path>
              <a:path fill="darkenLess" w="21600" h="24631">
                <a:moveTo>
                  <a:pt x="9877" y="15814"/>
                </a:moveTo>
                <a:lnTo>
                  <a:pt x="11723" y="15814"/>
                </a:lnTo>
                <a:lnTo>
                  <a:pt x="11723" y="19505"/>
                </a:lnTo>
                <a:lnTo>
                  <a:pt x="16109" y="19505"/>
                </a:lnTo>
                <a:lnTo>
                  <a:pt x="16109" y="12315"/>
                </a:lnTo>
                <a:lnTo>
                  <a:pt x="5491" y="12315"/>
                </a:lnTo>
                <a:lnTo>
                  <a:pt x="5491" y="19505"/>
                </a:lnTo>
                <a:lnTo>
                  <a:pt x="9877" y="19505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2" dur="indefinite" restart="never" nodeType="tmRoot">
          <p:childTnLst>
            <p:seq>
              <p:cTn id="633" dur="indefinite" nodeType="mainSeq">
                <p:childTnLst>
                  <p:par>
                    <p:cTn id="634" nodeType="clickEffect" fill="hold">
                      <p:stCondLst>
                        <p:cond delay="indefinite"/>
                      </p:stCondLst>
                      <p:childTnLst>
                        <p:par>
                          <p:cTn id="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4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4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4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4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4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4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4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nodeType="clickEffect" fill="hold">
                      <p:stCondLst>
                        <p:cond delay="indefinite"/>
                      </p:stCondLst>
                      <p:childTnLst>
                        <p:par>
                          <p:cTn id="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53" dur="500" fill="hold"/>
                                        <p:tgtEl>
                                          <p:spTgt spid="4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ffcc"/>
                                      </p:to>
                                    </p:animClr>
                                    <p:animClr clrSpc="rgb">
                                      <p:cBhvr>
                                        <p:cTn id="654" dur="500" fill="hold"/>
                                        <p:tgtEl>
                                          <p:spTgt spid="4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ffcc"/>
                                      </p:to>
                                    </p:animClr>
                                    <p:set>
                                      <p:cBhvr>
                                        <p:cTn id="655" dur="500" fill="hold"/>
                                        <p:tgtEl>
                                          <p:spTgt spid="4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8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89" name="Rectangle 3"/>
            <p:cNvSpPr/>
            <p:nvPr/>
          </p:nvSpPr>
          <p:spPr>
            <a:xfrm>
              <a:off x="0" y="0"/>
              <a:ext cx="179280" cy="685800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Rectangle 4"/>
            <p:cNvSpPr/>
            <p:nvPr/>
          </p:nvSpPr>
          <p:spPr>
            <a:xfrm>
              <a:off x="8964720" y="0"/>
              <a:ext cx="179280" cy="685800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Rectangle 5"/>
            <p:cNvSpPr/>
            <p:nvPr/>
          </p:nvSpPr>
          <p:spPr>
            <a:xfrm rot="5400000">
              <a:off x="4478760" y="-4298040"/>
              <a:ext cx="189000" cy="878508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Rectangle 6"/>
            <p:cNvSpPr/>
            <p:nvPr/>
          </p:nvSpPr>
          <p:spPr>
            <a:xfrm rot="5400000">
              <a:off x="4478760" y="2369160"/>
              <a:ext cx="189000" cy="878508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3" name="Rectangle 7"/>
          <p:cNvSpPr/>
          <p:nvPr/>
        </p:nvSpPr>
        <p:spPr>
          <a:xfrm>
            <a:off x="1042920" y="117360"/>
            <a:ext cx="77770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Своя игра</a:t>
            </a: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                   </a:t>
            </a: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III </a:t>
            </a: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 отборочный ту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Line 8"/>
          <p:cNvSpPr/>
          <p:nvPr/>
        </p:nvSpPr>
        <p:spPr>
          <a:xfrm>
            <a:off x="179280" y="803160"/>
            <a:ext cx="8785440" cy="0"/>
          </a:xfrm>
          <a:prstGeom prst="line">
            <a:avLst/>
          </a:prstGeom>
          <a:ln w="7632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Rectangle 9"/>
          <p:cNvSpPr/>
          <p:nvPr/>
        </p:nvSpPr>
        <p:spPr>
          <a:xfrm>
            <a:off x="611280" y="1916280"/>
            <a:ext cx="7848360" cy="39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Как называют точку пересечения медиан треугольников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)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ентроид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)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ентурион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)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ентрифуг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)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ентав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AutoShape 10">
            <a:hlinkClick r:id="" action="ppaction://hlinkshowjump?jump=nextslide"/>
          </p:cNvPr>
          <p:cNvSpPr/>
          <p:nvPr/>
        </p:nvSpPr>
        <p:spPr>
          <a:xfrm>
            <a:off x="8354880" y="6270480"/>
            <a:ext cx="611280" cy="405000"/>
          </a:xfrm>
          <a:custGeom>
            <a:avLst/>
            <a:gdLst>
              <a:gd name="textAreaLeft" fmla="*/ 25920 w 611280"/>
              <a:gd name="textAreaRight" fmla="*/ 585360 w 61128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32592" h="21600">
                <a:moveTo>
                  <a:pt x="0" y="0"/>
                </a:moveTo>
                <a:lnTo>
                  <a:pt x="32592" y="0"/>
                </a:lnTo>
                <a:lnTo>
                  <a:pt x="32592" y="21600"/>
                </a:lnTo>
                <a:lnTo>
                  <a:pt x="0" y="21600"/>
                </a:lnTo>
                <a:close/>
              </a:path>
              <a:path fill="lightenLess" w="32592" h="21600">
                <a:moveTo>
                  <a:pt x="0" y="0"/>
                </a:moveTo>
                <a:lnTo>
                  <a:pt x="32592" y="0"/>
                </a:lnTo>
                <a:lnTo>
                  <a:pt x="31192" y="1400"/>
                </a:lnTo>
                <a:lnTo>
                  <a:pt x="1400" y="1400"/>
                </a:lnTo>
                <a:close/>
              </a:path>
              <a:path fill="darken" w="32592" h="21600">
                <a:moveTo>
                  <a:pt x="32592" y="0"/>
                </a:moveTo>
                <a:lnTo>
                  <a:pt x="32592" y="21600"/>
                </a:lnTo>
                <a:lnTo>
                  <a:pt x="31192" y="20200"/>
                </a:lnTo>
                <a:lnTo>
                  <a:pt x="31192" y="1400"/>
                </a:lnTo>
                <a:close/>
              </a:path>
              <a:path fill="darkenLess" w="32592" h="21600">
                <a:moveTo>
                  <a:pt x="325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92" y="20200"/>
                </a:lnTo>
                <a:close/>
              </a:path>
              <a:path fill="lighten" w="325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92" h="21600">
                <a:moveTo>
                  <a:pt x="9289" y="3794"/>
                </a:moveTo>
                <a:lnTo>
                  <a:pt x="23302" y="10800"/>
                </a:lnTo>
                <a:lnTo>
                  <a:pt x="9289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AutoShape 12">
            <a:hlinkClick r:id="rId1" action="ppaction://hlinksldjump"/>
          </p:cNvPr>
          <p:cNvSpPr/>
          <p:nvPr/>
        </p:nvSpPr>
        <p:spPr>
          <a:xfrm>
            <a:off x="179280" y="189000"/>
            <a:ext cx="505080" cy="576000"/>
          </a:xfrm>
          <a:custGeom>
            <a:avLst/>
            <a:gdLst>
              <a:gd name="textAreaLeft" fmla="*/ 32760 w 505080"/>
              <a:gd name="textAreaRight" fmla="*/ 472680 w 505080"/>
              <a:gd name="textAreaTop" fmla="*/ 32400 h 576000"/>
              <a:gd name="textAreaBottom" fmla="*/ 543600 h 576000"/>
            </a:gdLst>
            <a:ahLst/>
            <a:rect l="textAreaLeft" t="textAreaTop" r="textAreaRight" b="textAreaBottom"/>
            <a:pathLst>
              <a:path w="21600" h="24631">
                <a:moveTo>
                  <a:pt x="0" y="0"/>
                </a:moveTo>
                <a:lnTo>
                  <a:pt x="21600" y="0"/>
                </a:lnTo>
                <a:lnTo>
                  <a:pt x="21600" y="24631"/>
                </a:lnTo>
                <a:lnTo>
                  <a:pt x="0" y="24631"/>
                </a:lnTo>
                <a:close/>
              </a:path>
              <a:path fill="lightenLess" w="21600" h="246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31">
                <a:moveTo>
                  <a:pt x="21600" y="0"/>
                </a:moveTo>
                <a:lnTo>
                  <a:pt x="21600" y="24631"/>
                </a:lnTo>
                <a:lnTo>
                  <a:pt x="20200" y="23231"/>
                </a:lnTo>
                <a:lnTo>
                  <a:pt x="20200" y="1400"/>
                </a:lnTo>
                <a:close/>
              </a:path>
              <a:path fill="darkenLess" w="21600" h="24631">
                <a:moveTo>
                  <a:pt x="21600" y="24631"/>
                </a:moveTo>
                <a:lnTo>
                  <a:pt x="0" y="24631"/>
                </a:lnTo>
                <a:lnTo>
                  <a:pt x="1400" y="23231"/>
                </a:lnTo>
                <a:lnTo>
                  <a:pt x="20200" y="23231"/>
                </a:lnTo>
                <a:close/>
              </a:path>
              <a:path fill="lighten" w="21600" h="24631">
                <a:moveTo>
                  <a:pt x="0" y="246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31"/>
                </a:lnTo>
                <a:close/>
              </a:path>
              <a:path fill="darken" w="21600" h="24631">
                <a:moveTo>
                  <a:pt x="10800" y="5352"/>
                </a:moveTo>
                <a:lnTo>
                  <a:pt x="13376" y="7964"/>
                </a:lnTo>
                <a:lnTo>
                  <a:pt x="13376" y="6223"/>
                </a:lnTo>
                <a:lnTo>
                  <a:pt x="15152" y="6223"/>
                </a:lnTo>
                <a:lnTo>
                  <a:pt x="15152" y="9739"/>
                </a:lnTo>
                <a:lnTo>
                  <a:pt x="17763" y="12315"/>
                </a:lnTo>
                <a:lnTo>
                  <a:pt x="16109" y="12315"/>
                </a:lnTo>
                <a:lnTo>
                  <a:pt x="16109" y="19505"/>
                </a:lnTo>
                <a:lnTo>
                  <a:pt x="5491" y="19505"/>
                </a:lnTo>
                <a:lnTo>
                  <a:pt x="5491" y="12315"/>
                </a:lnTo>
                <a:lnTo>
                  <a:pt x="3837" y="12315"/>
                </a:lnTo>
                <a:close/>
              </a:path>
              <a:path fill="darkenLess" w="21600" h="24631">
                <a:moveTo>
                  <a:pt x="13376" y="7964"/>
                </a:moveTo>
                <a:lnTo>
                  <a:pt x="13376" y="6223"/>
                </a:lnTo>
                <a:lnTo>
                  <a:pt x="15152" y="6223"/>
                </a:lnTo>
                <a:lnTo>
                  <a:pt x="15152" y="9739"/>
                </a:lnTo>
                <a:close/>
              </a:path>
              <a:path fill="darkenLess" w="21600" h="24631">
                <a:moveTo>
                  <a:pt x="9877" y="15814"/>
                </a:moveTo>
                <a:lnTo>
                  <a:pt x="11723" y="15814"/>
                </a:lnTo>
                <a:lnTo>
                  <a:pt x="11723" y="19505"/>
                </a:lnTo>
                <a:lnTo>
                  <a:pt x="16109" y="19505"/>
                </a:lnTo>
                <a:lnTo>
                  <a:pt x="16109" y="12315"/>
                </a:lnTo>
                <a:lnTo>
                  <a:pt x="5491" y="12315"/>
                </a:lnTo>
                <a:lnTo>
                  <a:pt x="5491" y="19505"/>
                </a:lnTo>
                <a:lnTo>
                  <a:pt x="9877" y="19505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nodeType="clickEffect" fill="hold">
                      <p:stCondLst>
                        <p:cond delay="indefinite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4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4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6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4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4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7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4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4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7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4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500" fill="hold"/>
                                        <p:tgtEl>
                                          <p:spTgt spid="4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82" dur="500" fill="hold"/>
                                        <p:tgtEl>
                                          <p:spTgt spid="4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ffcc"/>
                                      </p:to>
                                    </p:animClr>
                                    <p:animClr clrSpc="rgb">
                                      <p:cBhvr>
                                        <p:cTn id="683" dur="500" fill="hold"/>
                                        <p:tgtEl>
                                          <p:spTgt spid="4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ffcc"/>
                                      </p:to>
                                    </p:animClr>
                                    <p:set>
                                      <p:cBhvr>
                                        <p:cTn id="684" dur="500" fill="hold"/>
                                        <p:tgtEl>
                                          <p:spTgt spid="4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8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99" name="Rectangle 3"/>
            <p:cNvSpPr/>
            <p:nvPr/>
          </p:nvSpPr>
          <p:spPr>
            <a:xfrm>
              <a:off x="0" y="0"/>
              <a:ext cx="179280" cy="685800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Rectangle 4"/>
            <p:cNvSpPr/>
            <p:nvPr/>
          </p:nvSpPr>
          <p:spPr>
            <a:xfrm>
              <a:off x="8964720" y="0"/>
              <a:ext cx="179280" cy="685800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Rectangle 5"/>
            <p:cNvSpPr/>
            <p:nvPr/>
          </p:nvSpPr>
          <p:spPr>
            <a:xfrm rot="5400000">
              <a:off x="4478760" y="-4298040"/>
              <a:ext cx="189000" cy="878508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Rectangle 6"/>
            <p:cNvSpPr/>
            <p:nvPr/>
          </p:nvSpPr>
          <p:spPr>
            <a:xfrm rot="5400000">
              <a:off x="4478760" y="2369160"/>
              <a:ext cx="189000" cy="878508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3" name="Rectangle 7"/>
          <p:cNvSpPr/>
          <p:nvPr/>
        </p:nvSpPr>
        <p:spPr>
          <a:xfrm>
            <a:off x="1042920" y="117360"/>
            <a:ext cx="77770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Своя игра</a:t>
            </a: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                   </a:t>
            </a: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III </a:t>
            </a: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 отборочный ту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Line 8"/>
          <p:cNvSpPr/>
          <p:nvPr/>
        </p:nvSpPr>
        <p:spPr>
          <a:xfrm>
            <a:off x="179280" y="803160"/>
            <a:ext cx="8785440" cy="0"/>
          </a:xfrm>
          <a:prstGeom prst="line">
            <a:avLst/>
          </a:prstGeom>
          <a:ln w="7632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9"/>
          <p:cNvSpPr/>
          <p:nvPr/>
        </p:nvSpPr>
        <p:spPr>
          <a:xfrm>
            <a:off x="611280" y="1916280"/>
            <a:ext cx="7848360" cy="39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Как называется наименьшее количество, наименьшая величин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)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нюшк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)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ютельк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)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иниму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максиму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AutoShape 11">
            <a:hlinkClick r:id="rId1" action="ppaction://hlinksldjump"/>
          </p:cNvPr>
          <p:cNvSpPr/>
          <p:nvPr/>
        </p:nvSpPr>
        <p:spPr>
          <a:xfrm>
            <a:off x="179280" y="189000"/>
            <a:ext cx="505080" cy="576000"/>
          </a:xfrm>
          <a:custGeom>
            <a:avLst/>
            <a:gdLst>
              <a:gd name="textAreaLeft" fmla="*/ 32760 w 505080"/>
              <a:gd name="textAreaRight" fmla="*/ 472680 w 505080"/>
              <a:gd name="textAreaTop" fmla="*/ 32400 h 576000"/>
              <a:gd name="textAreaBottom" fmla="*/ 543600 h 576000"/>
            </a:gdLst>
            <a:ahLst/>
            <a:rect l="textAreaLeft" t="textAreaTop" r="textAreaRight" b="textAreaBottom"/>
            <a:pathLst>
              <a:path w="21600" h="24631">
                <a:moveTo>
                  <a:pt x="0" y="0"/>
                </a:moveTo>
                <a:lnTo>
                  <a:pt x="21600" y="0"/>
                </a:lnTo>
                <a:lnTo>
                  <a:pt x="21600" y="24631"/>
                </a:lnTo>
                <a:lnTo>
                  <a:pt x="0" y="24631"/>
                </a:lnTo>
                <a:close/>
              </a:path>
              <a:path fill="lightenLess" w="21600" h="246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31">
                <a:moveTo>
                  <a:pt x="21600" y="0"/>
                </a:moveTo>
                <a:lnTo>
                  <a:pt x="21600" y="24631"/>
                </a:lnTo>
                <a:lnTo>
                  <a:pt x="20200" y="23231"/>
                </a:lnTo>
                <a:lnTo>
                  <a:pt x="20200" y="1400"/>
                </a:lnTo>
                <a:close/>
              </a:path>
              <a:path fill="darkenLess" w="21600" h="24631">
                <a:moveTo>
                  <a:pt x="21600" y="24631"/>
                </a:moveTo>
                <a:lnTo>
                  <a:pt x="0" y="24631"/>
                </a:lnTo>
                <a:lnTo>
                  <a:pt x="1400" y="23231"/>
                </a:lnTo>
                <a:lnTo>
                  <a:pt x="20200" y="23231"/>
                </a:lnTo>
                <a:close/>
              </a:path>
              <a:path fill="lighten" w="21600" h="24631">
                <a:moveTo>
                  <a:pt x="0" y="246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31"/>
                </a:lnTo>
                <a:close/>
              </a:path>
              <a:path fill="darken" w="21600" h="24631">
                <a:moveTo>
                  <a:pt x="10800" y="5352"/>
                </a:moveTo>
                <a:lnTo>
                  <a:pt x="13376" y="7964"/>
                </a:lnTo>
                <a:lnTo>
                  <a:pt x="13376" y="6223"/>
                </a:lnTo>
                <a:lnTo>
                  <a:pt x="15152" y="6223"/>
                </a:lnTo>
                <a:lnTo>
                  <a:pt x="15152" y="9739"/>
                </a:lnTo>
                <a:lnTo>
                  <a:pt x="17763" y="12315"/>
                </a:lnTo>
                <a:lnTo>
                  <a:pt x="16109" y="12315"/>
                </a:lnTo>
                <a:lnTo>
                  <a:pt x="16109" y="19505"/>
                </a:lnTo>
                <a:lnTo>
                  <a:pt x="5491" y="19505"/>
                </a:lnTo>
                <a:lnTo>
                  <a:pt x="5491" y="12315"/>
                </a:lnTo>
                <a:lnTo>
                  <a:pt x="3837" y="12315"/>
                </a:lnTo>
                <a:close/>
              </a:path>
              <a:path fill="darkenLess" w="21600" h="24631">
                <a:moveTo>
                  <a:pt x="13376" y="7964"/>
                </a:moveTo>
                <a:lnTo>
                  <a:pt x="13376" y="6223"/>
                </a:lnTo>
                <a:lnTo>
                  <a:pt x="15152" y="6223"/>
                </a:lnTo>
                <a:lnTo>
                  <a:pt x="15152" y="9739"/>
                </a:lnTo>
                <a:close/>
              </a:path>
              <a:path fill="darkenLess" w="21600" h="24631">
                <a:moveTo>
                  <a:pt x="9877" y="15814"/>
                </a:moveTo>
                <a:lnTo>
                  <a:pt x="11723" y="15814"/>
                </a:lnTo>
                <a:lnTo>
                  <a:pt x="11723" y="19505"/>
                </a:lnTo>
                <a:lnTo>
                  <a:pt x="16109" y="19505"/>
                </a:lnTo>
                <a:lnTo>
                  <a:pt x="16109" y="12315"/>
                </a:lnTo>
                <a:lnTo>
                  <a:pt x="5491" y="12315"/>
                </a:lnTo>
                <a:lnTo>
                  <a:pt x="5491" y="19505"/>
                </a:lnTo>
                <a:lnTo>
                  <a:pt x="9877" y="19505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5" dur="indefinite" restart="never" nodeType="tmRoot">
          <p:childTnLst>
            <p:seq>
              <p:cTn id="686" dur="indefinite" nodeType="mainSeq">
                <p:childTnLst>
                  <p:par>
                    <p:cTn id="687" nodeType="clickEffect" fill="hold">
                      <p:stCondLst>
                        <p:cond delay="indefinite"/>
                      </p:stCondLst>
                      <p:childTnLst>
                        <p:par>
                          <p:cTn id="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1" dur="500" fill="hold"/>
                                        <p:tgtEl>
                                          <p:spTgt spid="5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5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6" dur="500" fill="hold"/>
                                        <p:tgtEl>
                                          <p:spTgt spid="5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5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9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1" dur="500" fill="hold"/>
                                        <p:tgtEl>
                                          <p:spTgt spid="5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500" fill="hold"/>
                                        <p:tgtEl>
                                          <p:spTgt spid="5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0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5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5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nodeType="clickEffect" fill="hold">
                      <p:stCondLst>
                        <p:cond delay="indefinite"/>
                      </p:stCondLst>
                      <p:childTnLst>
                        <p:par>
                          <p:cTn id="7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11" dur="500" fill="hold"/>
                                        <p:tgtEl>
                                          <p:spTgt spid="5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ffcc"/>
                                      </p:to>
                                    </p:animClr>
                                    <p:animClr clrSpc="rgb">
                                      <p:cBhvr>
                                        <p:cTn id="712" dur="500" fill="hold"/>
                                        <p:tgtEl>
                                          <p:spTgt spid="5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ffcc"/>
                                      </p:to>
                                    </p:animClr>
                                    <p:set>
                                      <p:cBhvr>
                                        <p:cTn id="713" dur="500" fill="hold"/>
                                        <p:tgtEl>
                                          <p:spTgt spid="5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7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08" name="Rectangle 3"/>
            <p:cNvSpPr/>
            <p:nvPr/>
          </p:nvSpPr>
          <p:spPr>
            <a:xfrm>
              <a:off x="0" y="0"/>
              <a:ext cx="179280" cy="685800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Rectangle 4"/>
            <p:cNvSpPr/>
            <p:nvPr/>
          </p:nvSpPr>
          <p:spPr>
            <a:xfrm>
              <a:off x="8964720" y="0"/>
              <a:ext cx="179280" cy="685800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Rectangle 5"/>
            <p:cNvSpPr/>
            <p:nvPr/>
          </p:nvSpPr>
          <p:spPr>
            <a:xfrm rot="5400000">
              <a:off x="4478760" y="-4298040"/>
              <a:ext cx="189000" cy="878508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Rectangle 6"/>
            <p:cNvSpPr/>
            <p:nvPr/>
          </p:nvSpPr>
          <p:spPr>
            <a:xfrm rot="5400000">
              <a:off x="4478760" y="2369160"/>
              <a:ext cx="189000" cy="878508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2" name="Rectangle 7"/>
          <p:cNvSpPr/>
          <p:nvPr/>
        </p:nvSpPr>
        <p:spPr>
          <a:xfrm>
            <a:off x="1042920" y="162000"/>
            <a:ext cx="77770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Своя игра</a:t>
            </a: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                   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III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ту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Line 8"/>
          <p:cNvSpPr/>
          <p:nvPr/>
        </p:nvSpPr>
        <p:spPr>
          <a:xfrm>
            <a:off x="179280" y="836640"/>
            <a:ext cx="8785440" cy="0"/>
          </a:xfrm>
          <a:prstGeom prst="line">
            <a:avLst/>
          </a:prstGeom>
          <a:ln w="7632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AutoShape 10"/>
          <p:cNvSpPr/>
          <p:nvPr/>
        </p:nvSpPr>
        <p:spPr>
          <a:xfrm>
            <a:off x="455760" y="3747960"/>
            <a:ext cx="4032000" cy="936720"/>
          </a:xfrm>
          <a:prstGeom prst="bevel">
            <a:avLst>
              <a:gd name="adj" fmla="val 12500"/>
            </a:avLst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AutoShape 11"/>
          <p:cNvSpPr/>
          <p:nvPr/>
        </p:nvSpPr>
        <p:spPr>
          <a:xfrm>
            <a:off x="455760" y="2811600"/>
            <a:ext cx="4032000" cy="936360"/>
          </a:xfrm>
          <a:prstGeom prst="bevel">
            <a:avLst>
              <a:gd name="adj" fmla="val 12500"/>
            </a:avLst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AutoShape 12"/>
          <p:cNvSpPr/>
          <p:nvPr/>
        </p:nvSpPr>
        <p:spPr>
          <a:xfrm>
            <a:off x="455760" y="1947960"/>
            <a:ext cx="4032000" cy="936360"/>
          </a:xfrm>
          <a:prstGeom prst="bevel">
            <a:avLst>
              <a:gd name="adj" fmla="val 12500"/>
            </a:avLst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AutoShape 14">
            <a:hlinkClick r:id="rId1" action="ppaction://hlinksldjump"/>
          </p:cNvPr>
          <p:cNvSpPr/>
          <p:nvPr/>
        </p:nvSpPr>
        <p:spPr>
          <a:xfrm>
            <a:off x="4500720" y="3747960"/>
            <a:ext cx="1428480" cy="936720"/>
          </a:xfrm>
          <a:prstGeom prst="bevel">
            <a:avLst>
              <a:gd name="adj" fmla="val 12500"/>
            </a:avLst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9999"/>
                </a:solidFill>
                <a:uFillTx/>
                <a:latin typeface="Garamond"/>
                <a:hlinkClick r:id="rId2" action="ppaction://hlinksldjump"/>
              </a:rPr>
              <a:t>1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AutoShape 15">
            <a:hlinkClick r:id="rId3" action="ppaction://hlinksldjump"/>
          </p:cNvPr>
          <p:cNvSpPr/>
          <p:nvPr/>
        </p:nvSpPr>
        <p:spPr>
          <a:xfrm>
            <a:off x="4487760" y="2811600"/>
            <a:ext cx="1428840" cy="936360"/>
          </a:xfrm>
          <a:prstGeom prst="bevel">
            <a:avLst>
              <a:gd name="adj" fmla="val 12500"/>
            </a:avLst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9999"/>
                </a:solidFill>
                <a:uFillTx/>
                <a:latin typeface="Garamond"/>
                <a:hlinkClick r:id="rId4" action="ppaction://hlinksldjump"/>
              </a:rPr>
              <a:t>1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AutoShape 16">
            <a:hlinkClick r:id="rId5" action="ppaction://hlinksldjump"/>
          </p:cNvPr>
          <p:cNvSpPr/>
          <p:nvPr/>
        </p:nvSpPr>
        <p:spPr>
          <a:xfrm>
            <a:off x="4487760" y="1947960"/>
            <a:ext cx="1428840" cy="936360"/>
          </a:xfrm>
          <a:prstGeom prst="bevel">
            <a:avLst>
              <a:gd name="adj" fmla="val 12500"/>
            </a:avLst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9999"/>
                </a:solidFill>
                <a:uFillTx/>
                <a:latin typeface="Garamond"/>
                <a:hlinkClick r:id="rId6" action="ppaction://hlinksldjump"/>
              </a:rPr>
              <a:t>1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AutoShape 18">
            <a:hlinkClick r:id="rId7" action="ppaction://hlinksldjump"/>
          </p:cNvPr>
          <p:cNvSpPr/>
          <p:nvPr/>
        </p:nvSpPr>
        <p:spPr>
          <a:xfrm>
            <a:off x="7378560" y="3747960"/>
            <a:ext cx="1301760" cy="936720"/>
          </a:xfrm>
          <a:prstGeom prst="bevel">
            <a:avLst>
              <a:gd name="adj" fmla="val 12500"/>
            </a:avLst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9999"/>
                </a:solidFill>
                <a:uFillTx/>
                <a:latin typeface="Garamond"/>
                <a:hlinkClick r:id="rId8" action="ppaction://hlinksldjump"/>
              </a:rPr>
              <a:t>3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AutoShape 19">
            <a:hlinkClick r:id="rId9" action="ppaction://hlinksldjump"/>
          </p:cNvPr>
          <p:cNvSpPr/>
          <p:nvPr/>
        </p:nvSpPr>
        <p:spPr>
          <a:xfrm>
            <a:off x="7367760" y="2811600"/>
            <a:ext cx="1314360" cy="936360"/>
          </a:xfrm>
          <a:prstGeom prst="bevel">
            <a:avLst>
              <a:gd name="adj" fmla="val 12500"/>
            </a:avLst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9999"/>
                </a:solidFill>
                <a:uFillTx/>
                <a:latin typeface="Garamond"/>
                <a:hlinkClick r:id="rId10" action="ppaction://hlinksldjump"/>
              </a:rPr>
              <a:t>3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AutoShape 20">
            <a:hlinkClick r:id="rId11" action="ppaction://hlinksldjump"/>
          </p:cNvPr>
          <p:cNvSpPr/>
          <p:nvPr/>
        </p:nvSpPr>
        <p:spPr>
          <a:xfrm>
            <a:off x="7378560" y="1947960"/>
            <a:ext cx="1301760" cy="936360"/>
          </a:xfrm>
          <a:prstGeom prst="bevel">
            <a:avLst>
              <a:gd name="adj" fmla="val 12500"/>
            </a:avLst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9999"/>
                </a:solidFill>
                <a:uFillTx/>
                <a:latin typeface="Garamond"/>
                <a:hlinkClick r:id="rId12" action="ppaction://hlinksldjump"/>
              </a:rPr>
              <a:t>3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AutoShape 22">
            <a:hlinkClick r:id="rId13" action="ppaction://hlinksldjump"/>
          </p:cNvPr>
          <p:cNvSpPr/>
          <p:nvPr/>
        </p:nvSpPr>
        <p:spPr>
          <a:xfrm>
            <a:off x="5927760" y="3747960"/>
            <a:ext cx="1428840" cy="936720"/>
          </a:xfrm>
          <a:prstGeom prst="bevel">
            <a:avLst>
              <a:gd name="adj" fmla="val 12500"/>
            </a:avLst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9999"/>
                </a:solidFill>
                <a:uFillTx/>
                <a:latin typeface="Garamond"/>
                <a:hlinkClick r:id="rId14" action="ppaction://hlinksldjump"/>
              </a:rPr>
              <a:t>2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AutoShape 23">
            <a:hlinkClick r:id="rId15" action="ppaction://hlinksldjump"/>
          </p:cNvPr>
          <p:cNvSpPr/>
          <p:nvPr/>
        </p:nvSpPr>
        <p:spPr>
          <a:xfrm>
            <a:off x="5927760" y="2811600"/>
            <a:ext cx="1428840" cy="936360"/>
          </a:xfrm>
          <a:prstGeom prst="bevel">
            <a:avLst>
              <a:gd name="adj" fmla="val 12500"/>
            </a:avLst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9999"/>
                </a:solidFill>
                <a:uFillTx/>
                <a:latin typeface="Garamond"/>
                <a:hlinkClick r:id="rId16" action="ppaction://hlinksldjump"/>
              </a:rPr>
              <a:t>2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AutoShape 24">
            <a:hlinkClick r:id="rId17" action="ppaction://hlinksldjump"/>
          </p:cNvPr>
          <p:cNvSpPr/>
          <p:nvPr/>
        </p:nvSpPr>
        <p:spPr>
          <a:xfrm>
            <a:off x="5940360" y="1947960"/>
            <a:ext cx="1428840" cy="936360"/>
          </a:xfrm>
          <a:prstGeom prst="bevel">
            <a:avLst>
              <a:gd name="adj" fmla="val 12500"/>
            </a:avLst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9999"/>
                </a:solidFill>
                <a:uFillTx/>
                <a:latin typeface="Garamond"/>
                <a:hlinkClick r:id="rId18" action="ppaction://hlinksldjump"/>
              </a:rPr>
              <a:t>2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Text Box 25"/>
          <p:cNvSpPr/>
          <p:nvPr/>
        </p:nvSpPr>
        <p:spPr>
          <a:xfrm>
            <a:off x="527040" y="2163600"/>
            <a:ext cx="3816360" cy="45972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бус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 Box 26"/>
          <p:cNvSpPr/>
          <p:nvPr/>
        </p:nvSpPr>
        <p:spPr>
          <a:xfrm>
            <a:off x="527040" y="2955960"/>
            <a:ext cx="3816360" cy="45972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ссеянный математ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 Box 28"/>
          <p:cNvSpPr/>
          <p:nvPr/>
        </p:nvSpPr>
        <p:spPr>
          <a:xfrm>
            <a:off x="598320" y="3963960"/>
            <a:ext cx="3745080" cy="42912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Вездесущая математик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AutoShape 29">
            <a:hlinkClick r:id="rId19" action="ppaction://hlinksldjump"/>
          </p:cNvPr>
          <p:cNvSpPr/>
          <p:nvPr/>
        </p:nvSpPr>
        <p:spPr>
          <a:xfrm rot="10800000">
            <a:off x="8566200" y="6270120"/>
            <a:ext cx="395280" cy="405000"/>
          </a:xfrm>
          <a:custGeom>
            <a:avLst/>
            <a:gdLst>
              <a:gd name="textAreaLeft" fmla="*/ 25560 w 395280"/>
              <a:gd name="textAreaRight" fmla="*/ 369720 w 395280"/>
              <a:gd name="textAreaTop" fmla="*/ 25560 h 405000"/>
              <a:gd name="textAreaBottom" fmla="*/ 379440 h 405000"/>
            </a:gdLst>
            <a:ahLst/>
            <a:rect l="textAreaLeft" t="textAreaTop" r="textAreaRight" b="textAreaBottom"/>
            <a:pathLst>
              <a:path w="21600" h="22131">
                <a:moveTo>
                  <a:pt x="0" y="0"/>
                </a:moveTo>
                <a:lnTo>
                  <a:pt x="21600" y="0"/>
                </a:lnTo>
                <a:lnTo>
                  <a:pt x="21600" y="22131"/>
                </a:lnTo>
                <a:lnTo>
                  <a:pt x="0" y="22131"/>
                </a:lnTo>
                <a:close/>
              </a:path>
              <a:path fill="lightenLess" w="21600" h="221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131">
                <a:moveTo>
                  <a:pt x="21600" y="0"/>
                </a:moveTo>
                <a:lnTo>
                  <a:pt x="21600" y="22131"/>
                </a:lnTo>
                <a:lnTo>
                  <a:pt x="20200" y="20731"/>
                </a:lnTo>
                <a:lnTo>
                  <a:pt x="20200" y="1400"/>
                </a:lnTo>
                <a:close/>
              </a:path>
              <a:path fill="darkenLess" w="21600" h="22131">
                <a:moveTo>
                  <a:pt x="21600" y="22131"/>
                </a:moveTo>
                <a:lnTo>
                  <a:pt x="0" y="22131"/>
                </a:lnTo>
                <a:lnTo>
                  <a:pt x="1400" y="20731"/>
                </a:lnTo>
                <a:lnTo>
                  <a:pt x="20200" y="20731"/>
                </a:lnTo>
                <a:close/>
              </a:path>
              <a:path fill="lighten" w="21600" h="22131">
                <a:moveTo>
                  <a:pt x="0" y="221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0731"/>
                </a:lnTo>
                <a:close/>
              </a:path>
              <a:path fill="darken" w="21600" h="22131">
                <a:moveTo>
                  <a:pt x="3794" y="7758"/>
                </a:moveTo>
                <a:lnTo>
                  <a:pt x="7301" y="7758"/>
                </a:lnTo>
                <a:lnTo>
                  <a:pt x="7301" y="13093"/>
                </a:lnTo>
                <a:cubicBezTo>
                  <a:pt x="7301" y="14016"/>
                  <a:pt x="8102" y="14747"/>
                  <a:pt x="9138" y="14747"/>
                </a:cubicBezTo>
                <a:lnTo>
                  <a:pt x="10800" y="14747"/>
                </a:lnTo>
                <a:cubicBezTo>
                  <a:pt x="11836" y="14747"/>
                  <a:pt x="12636" y="14016"/>
                  <a:pt x="12636" y="13093"/>
                </a:cubicBezTo>
                <a:lnTo>
                  <a:pt x="12636" y="7758"/>
                </a:lnTo>
                <a:lnTo>
                  <a:pt x="10800" y="7758"/>
                </a:lnTo>
                <a:lnTo>
                  <a:pt x="14308" y="4250"/>
                </a:lnTo>
                <a:lnTo>
                  <a:pt x="17981" y="7758"/>
                </a:lnTo>
                <a:lnTo>
                  <a:pt x="16144" y="7758"/>
                </a:lnTo>
                <a:lnTo>
                  <a:pt x="16144" y="13093"/>
                </a:lnTo>
                <a:cubicBezTo>
                  <a:pt x="16144" y="15861"/>
                  <a:pt x="13568" y="18420"/>
                  <a:pt x="10800" y="18420"/>
                </a:cubicBezTo>
                <a:lnTo>
                  <a:pt x="9138" y="18420"/>
                </a:lnTo>
                <a:cubicBezTo>
                  <a:pt x="6370" y="18420"/>
                  <a:pt x="3794" y="15861"/>
                  <a:pt x="3794" y="13093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Text Box 30">
            <a:hlinkClick r:id="rId20" action="ppaction://hlinksldjump"/>
          </p:cNvPr>
          <p:cNvSpPr/>
          <p:nvPr/>
        </p:nvSpPr>
        <p:spPr>
          <a:xfrm>
            <a:off x="179280" y="189000"/>
            <a:ext cx="289080" cy="368280"/>
          </a:xfrm>
          <a:prstGeom prst="rect">
            <a:avLst/>
          </a:prstGeom>
          <a:gradFill rotWithShape="0">
            <a:gsLst>
              <a:gs pos="0">
                <a:srgbClr val="576869"/>
              </a:gs>
              <a:gs pos="50000">
                <a:srgbClr val="bbe0e3"/>
              </a:gs>
              <a:gs pos="100000">
                <a:srgbClr val="576869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Text Box 31">
            <a:hlinkClick r:id="rId21" action="ppaction://hlinksldjump"/>
          </p:cNvPr>
          <p:cNvSpPr/>
          <p:nvPr/>
        </p:nvSpPr>
        <p:spPr>
          <a:xfrm>
            <a:off x="468360" y="189000"/>
            <a:ext cx="287280" cy="368280"/>
          </a:xfrm>
          <a:prstGeom prst="rect">
            <a:avLst/>
          </a:prstGeom>
          <a:gradFill rotWithShape="0">
            <a:gsLst>
              <a:gs pos="0">
                <a:srgbClr val="576869"/>
              </a:gs>
              <a:gs pos="50000">
                <a:srgbClr val="bbe0e3"/>
              </a:gs>
              <a:gs pos="100000">
                <a:srgbClr val="576869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 Box 32">
            <a:hlinkClick r:id="rId22" action="ppaction://hlinksldjump"/>
          </p:cNvPr>
          <p:cNvSpPr/>
          <p:nvPr/>
        </p:nvSpPr>
        <p:spPr>
          <a:xfrm>
            <a:off x="755640" y="189000"/>
            <a:ext cx="287280" cy="368280"/>
          </a:xfrm>
          <a:prstGeom prst="rect">
            <a:avLst/>
          </a:prstGeom>
          <a:gradFill rotWithShape="0">
            <a:gsLst>
              <a:gs pos="0">
                <a:srgbClr val="576869"/>
              </a:gs>
              <a:gs pos="50000">
                <a:srgbClr val="bbe0e3"/>
              </a:gs>
              <a:gs pos="100000">
                <a:srgbClr val="576869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Text Box 33">
            <a:hlinkClick r:id="rId23" action="ppaction://hlinksldjump"/>
          </p:cNvPr>
          <p:cNvSpPr/>
          <p:nvPr/>
        </p:nvSpPr>
        <p:spPr>
          <a:xfrm>
            <a:off x="1042920" y="189000"/>
            <a:ext cx="287280" cy="368280"/>
          </a:xfrm>
          <a:prstGeom prst="rect">
            <a:avLst/>
          </a:prstGeom>
          <a:gradFill rotWithShape="0">
            <a:gsLst>
              <a:gs pos="0">
                <a:srgbClr val="576869"/>
              </a:gs>
              <a:gs pos="50000">
                <a:srgbClr val="bbe0e3"/>
              </a:gs>
              <a:gs pos="100000">
                <a:srgbClr val="576869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4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35" name="Rectangle 3"/>
            <p:cNvSpPr/>
            <p:nvPr/>
          </p:nvSpPr>
          <p:spPr>
            <a:xfrm>
              <a:off x="0" y="0"/>
              <a:ext cx="179280" cy="685800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Rectangle 4"/>
            <p:cNvSpPr/>
            <p:nvPr/>
          </p:nvSpPr>
          <p:spPr>
            <a:xfrm>
              <a:off x="8964720" y="0"/>
              <a:ext cx="179280" cy="685800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Rectangle 5"/>
            <p:cNvSpPr/>
            <p:nvPr/>
          </p:nvSpPr>
          <p:spPr>
            <a:xfrm rot="5400000">
              <a:off x="4478760" y="-4298040"/>
              <a:ext cx="189000" cy="878508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Rectangle 6"/>
            <p:cNvSpPr/>
            <p:nvPr/>
          </p:nvSpPr>
          <p:spPr>
            <a:xfrm rot="5400000">
              <a:off x="4478760" y="2369160"/>
              <a:ext cx="189000" cy="878508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9" name="Line 7"/>
          <p:cNvSpPr/>
          <p:nvPr/>
        </p:nvSpPr>
        <p:spPr>
          <a:xfrm>
            <a:off x="179280" y="963720"/>
            <a:ext cx="8785440" cy="0"/>
          </a:xfrm>
          <a:prstGeom prst="line">
            <a:avLst/>
          </a:prstGeom>
          <a:ln w="7632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Rectangle 8"/>
          <p:cNvSpPr/>
          <p:nvPr/>
        </p:nvSpPr>
        <p:spPr>
          <a:xfrm>
            <a:off x="1258920" y="189000"/>
            <a:ext cx="590544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ебусы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AutoShape 9"/>
          <p:cNvSpPr/>
          <p:nvPr/>
        </p:nvSpPr>
        <p:spPr>
          <a:xfrm>
            <a:off x="8172360" y="177840"/>
            <a:ext cx="792360" cy="747720"/>
          </a:xfrm>
          <a:prstGeom prst="bevel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WordArt 10"/>
          <p:cNvSpPr txBox="1"/>
          <p:nvPr/>
        </p:nvSpPr>
        <p:spPr>
          <a:xfrm>
            <a:off x="8296200" y="415800"/>
            <a:ext cx="505080" cy="2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2600" dir="0" blurRad="0" rotWithShape="0">
                    <a:srgbClr val="875b0d">
                      <a:alpha val="50000"/>
                    </a:srgbClr>
                  </a:outerShdw>
                </a:effectLst>
                <a:latin typeface="Arial"/>
              </a:rPr>
              <a:t>100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2600" dir="0" blurRad="0" rotWithShape="0">
                  <a:srgbClr val="875b0d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43" name="Text Box 11"/>
          <p:cNvSpPr/>
          <p:nvPr/>
        </p:nvSpPr>
        <p:spPr>
          <a:xfrm>
            <a:off x="7308720" y="549360"/>
            <a:ext cx="9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bbe0e3"/>
                </a:solidFill>
                <a:latin typeface="Arial"/>
              </a:rPr>
              <a:t>3 ту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AutoShape 13">
            <a:hlinkClick r:id="rId2" action="ppaction://hlinksldjump"/>
          </p:cNvPr>
          <p:cNvSpPr/>
          <p:nvPr/>
        </p:nvSpPr>
        <p:spPr>
          <a:xfrm>
            <a:off x="179280" y="6165720"/>
            <a:ext cx="506520" cy="503280"/>
          </a:xfrm>
          <a:custGeom>
            <a:avLst/>
            <a:gdLst>
              <a:gd name="textAreaLeft" fmla="*/ 32400 w 506520"/>
              <a:gd name="textAreaRight" fmla="*/ 474120 w 5065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1739" h="21600">
                <a:moveTo>
                  <a:pt x="0" y="0"/>
                </a:moveTo>
                <a:lnTo>
                  <a:pt x="21739" y="0"/>
                </a:lnTo>
                <a:lnTo>
                  <a:pt x="21739" y="21600"/>
                </a:lnTo>
                <a:lnTo>
                  <a:pt x="0" y="21600"/>
                </a:lnTo>
                <a:close/>
              </a:path>
              <a:path fill="lightenLess" w="21739" h="21600">
                <a:moveTo>
                  <a:pt x="0" y="0"/>
                </a:moveTo>
                <a:lnTo>
                  <a:pt x="21739" y="0"/>
                </a:lnTo>
                <a:lnTo>
                  <a:pt x="20339" y="1400"/>
                </a:lnTo>
                <a:lnTo>
                  <a:pt x="1400" y="1400"/>
                </a:lnTo>
                <a:close/>
              </a:path>
              <a:path fill="darken" w="21739" h="21600">
                <a:moveTo>
                  <a:pt x="21739" y="0"/>
                </a:moveTo>
                <a:lnTo>
                  <a:pt x="21739" y="21600"/>
                </a:lnTo>
                <a:lnTo>
                  <a:pt x="20339" y="20200"/>
                </a:lnTo>
                <a:lnTo>
                  <a:pt x="20339" y="1400"/>
                </a:lnTo>
                <a:close/>
              </a:path>
              <a:path fill="darkenLess" w="21739" h="21600">
                <a:moveTo>
                  <a:pt x="217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39" y="20200"/>
                </a:lnTo>
                <a:close/>
              </a:path>
              <a:path fill="lighten" w="217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739" h="21600">
                <a:moveTo>
                  <a:pt x="10869" y="3837"/>
                </a:moveTo>
                <a:lnTo>
                  <a:pt x="13446" y="6448"/>
                </a:lnTo>
                <a:lnTo>
                  <a:pt x="13446" y="4707"/>
                </a:lnTo>
                <a:lnTo>
                  <a:pt x="15221" y="4707"/>
                </a:lnTo>
                <a:lnTo>
                  <a:pt x="15221" y="8224"/>
                </a:lnTo>
                <a:lnTo>
                  <a:pt x="17832" y="10800"/>
                </a:lnTo>
                <a:lnTo>
                  <a:pt x="16179" y="10800"/>
                </a:lnTo>
                <a:lnTo>
                  <a:pt x="16179" y="17989"/>
                </a:lnTo>
                <a:lnTo>
                  <a:pt x="5560" y="17989"/>
                </a:lnTo>
                <a:lnTo>
                  <a:pt x="5560" y="10800"/>
                </a:lnTo>
                <a:lnTo>
                  <a:pt x="3907" y="10800"/>
                </a:lnTo>
                <a:close/>
              </a:path>
              <a:path fill="darkenLess" w="21739" h="21600">
                <a:moveTo>
                  <a:pt x="13446" y="6448"/>
                </a:moveTo>
                <a:lnTo>
                  <a:pt x="13446" y="4707"/>
                </a:lnTo>
                <a:lnTo>
                  <a:pt x="15221" y="4707"/>
                </a:lnTo>
                <a:lnTo>
                  <a:pt x="15221" y="8224"/>
                </a:lnTo>
                <a:close/>
              </a:path>
              <a:path fill="darkenLess" w="21739" h="21600">
                <a:moveTo>
                  <a:pt x="9947" y="14299"/>
                </a:moveTo>
                <a:lnTo>
                  <a:pt x="11792" y="14299"/>
                </a:lnTo>
                <a:lnTo>
                  <a:pt x="11792" y="17989"/>
                </a:lnTo>
                <a:lnTo>
                  <a:pt x="16179" y="17989"/>
                </a:lnTo>
                <a:lnTo>
                  <a:pt x="16179" y="10800"/>
                </a:lnTo>
                <a:lnTo>
                  <a:pt x="5560" y="10800"/>
                </a:lnTo>
                <a:lnTo>
                  <a:pt x="5560" y="17989"/>
                </a:lnTo>
                <a:lnTo>
                  <a:pt x="994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WordArt 14"/>
          <p:cNvSpPr txBox="1"/>
          <p:nvPr/>
        </p:nvSpPr>
        <p:spPr>
          <a:xfrm>
            <a:off x="3851280" y="5373720"/>
            <a:ext cx="158436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Угол</a:t>
            </a:r>
            <a:endParaRPr b="1" i="1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ffff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pic>
        <p:nvPicPr>
          <p:cNvPr id="546" name="Picture 15" descr="rebus_3"/>
          <p:cNvPicPr/>
          <p:nvPr/>
        </p:nvPicPr>
        <p:blipFill>
          <a:blip r:embed="rId3"/>
          <a:stretch/>
        </p:blipFill>
        <p:spPr>
          <a:xfrm>
            <a:off x="395280" y="1628640"/>
            <a:ext cx="8209080" cy="32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4" dur="indefinite" restart="never" nodeType="tmRoot">
          <p:childTnLst>
            <p:seq>
              <p:cTn id="715" dur="indefinite" nodeType="mainSeq">
                <p:childTnLst>
                  <p:par>
                    <p:cTn id="716" nodeType="clickEffect" fill="hold">
                      <p:stCondLst>
                        <p:cond delay="indefinite"/>
                      </p:stCondLst>
                      <p:childTnLst>
                        <p:par>
                          <p:cTn id="7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0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2" dur="10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7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48" name="Rectangle 3"/>
            <p:cNvSpPr/>
            <p:nvPr/>
          </p:nvSpPr>
          <p:spPr>
            <a:xfrm>
              <a:off x="0" y="0"/>
              <a:ext cx="179280" cy="685800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Rectangle 4"/>
            <p:cNvSpPr/>
            <p:nvPr/>
          </p:nvSpPr>
          <p:spPr>
            <a:xfrm>
              <a:off x="8964720" y="0"/>
              <a:ext cx="179280" cy="685800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Rectangle 5"/>
            <p:cNvSpPr/>
            <p:nvPr/>
          </p:nvSpPr>
          <p:spPr>
            <a:xfrm rot="5400000">
              <a:off x="4478760" y="-4298040"/>
              <a:ext cx="189000" cy="878508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Rectangle 6"/>
            <p:cNvSpPr/>
            <p:nvPr/>
          </p:nvSpPr>
          <p:spPr>
            <a:xfrm rot="5400000">
              <a:off x="4478760" y="2369160"/>
              <a:ext cx="189000" cy="878508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2" name="Line 7"/>
          <p:cNvSpPr/>
          <p:nvPr/>
        </p:nvSpPr>
        <p:spPr>
          <a:xfrm>
            <a:off x="179280" y="963720"/>
            <a:ext cx="8785440" cy="0"/>
          </a:xfrm>
          <a:prstGeom prst="line">
            <a:avLst/>
          </a:prstGeom>
          <a:ln w="7632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AutoShape 9"/>
          <p:cNvSpPr/>
          <p:nvPr/>
        </p:nvSpPr>
        <p:spPr>
          <a:xfrm>
            <a:off x="8172360" y="177840"/>
            <a:ext cx="792360" cy="747720"/>
          </a:xfrm>
          <a:prstGeom prst="bevel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WordArt 10"/>
          <p:cNvSpPr txBox="1"/>
          <p:nvPr/>
        </p:nvSpPr>
        <p:spPr>
          <a:xfrm>
            <a:off x="8296200" y="415800"/>
            <a:ext cx="505080" cy="2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2600" dir="0" blurRad="0" rotWithShape="0">
                    <a:srgbClr val="875b0d">
                      <a:alpha val="50000"/>
                    </a:srgbClr>
                  </a:outerShdw>
                </a:effectLst>
                <a:latin typeface="Arial"/>
              </a:rPr>
              <a:t>200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2600" dir="0" blurRad="0" rotWithShape="0">
                  <a:srgbClr val="875b0d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55" name="Text Box 11"/>
          <p:cNvSpPr/>
          <p:nvPr/>
        </p:nvSpPr>
        <p:spPr>
          <a:xfrm>
            <a:off x="7308720" y="549360"/>
            <a:ext cx="9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bbe0e3"/>
                </a:solidFill>
                <a:latin typeface="Arial"/>
              </a:rPr>
              <a:t>3 ту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WordArt 14"/>
          <p:cNvSpPr txBox="1"/>
          <p:nvPr/>
        </p:nvSpPr>
        <p:spPr>
          <a:xfrm>
            <a:off x="2987640" y="5229360"/>
            <a:ext cx="259236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Диаметр</a:t>
            </a:r>
            <a:endParaRPr b="1" i="1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ffff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557" name="AutoShape 15">
            <a:hlinkClick r:id="rId2" action="ppaction://hlinksldjump"/>
          </p:cNvPr>
          <p:cNvSpPr/>
          <p:nvPr/>
        </p:nvSpPr>
        <p:spPr>
          <a:xfrm>
            <a:off x="179280" y="6165720"/>
            <a:ext cx="506520" cy="503280"/>
          </a:xfrm>
          <a:custGeom>
            <a:avLst/>
            <a:gdLst>
              <a:gd name="textAreaLeft" fmla="*/ 32400 w 506520"/>
              <a:gd name="textAreaRight" fmla="*/ 474120 w 5065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1739" h="21600">
                <a:moveTo>
                  <a:pt x="0" y="0"/>
                </a:moveTo>
                <a:lnTo>
                  <a:pt x="21739" y="0"/>
                </a:lnTo>
                <a:lnTo>
                  <a:pt x="21739" y="21600"/>
                </a:lnTo>
                <a:lnTo>
                  <a:pt x="0" y="21600"/>
                </a:lnTo>
                <a:close/>
              </a:path>
              <a:path fill="lightenLess" w="21739" h="21600">
                <a:moveTo>
                  <a:pt x="0" y="0"/>
                </a:moveTo>
                <a:lnTo>
                  <a:pt x="21739" y="0"/>
                </a:lnTo>
                <a:lnTo>
                  <a:pt x="20339" y="1400"/>
                </a:lnTo>
                <a:lnTo>
                  <a:pt x="1400" y="1400"/>
                </a:lnTo>
                <a:close/>
              </a:path>
              <a:path fill="darken" w="21739" h="21600">
                <a:moveTo>
                  <a:pt x="21739" y="0"/>
                </a:moveTo>
                <a:lnTo>
                  <a:pt x="21739" y="21600"/>
                </a:lnTo>
                <a:lnTo>
                  <a:pt x="20339" y="20200"/>
                </a:lnTo>
                <a:lnTo>
                  <a:pt x="20339" y="1400"/>
                </a:lnTo>
                <a:close/>
              </a:path>
              <a:path fill="darkenLess" w="21739" h="21600">
                <a:moveTo>
                  <a:pt x="217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39" y="20200"/>
                </a:lnTo>
                <a:close/>
              </a:path>
              <a:path fill="lighten" w="217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739" h="21600">
                <a:moveTo>
                  <a:pt x="10869" y="3837"/>
                </a:moveTo>
                <a:lnTo>
                  <a:pt x="13446" y="6448"/>
                </a:lnTo>
                <a:lnTo>
                  <a:pt x="13446" y="4707"/>
                </a:lnTo>
                <a:lnTo>
                  <a:pt x="15221" y="4707"/>
                </a:lnTo>
                <a:lnTo>
                  <a:pt x="15221" y="8224"/>
                </a:lnTo>
                <a:lnTo>
                  <a:pt x="17832" y="10800"/>
                </a:lnTo>
                <a:lnTo>
                  <a:pt x="16179" y="10800"/>
                </a:lnTo>
                <a:lnTo>
                  <a:pt x="16179" y="17989"/>
                </a:lnTo>
                <a:lnTo>
                  <a:pt x="5560" y="17989"/>
                </a:lnTo>
                <a:lnTo>
                  <a:pt x="5560" y="10800"/>
                </a:lnTo>
                <a:lnTo>
                  <a:pt x="3907" y="10800"/>
                </a:lnTo>
                <a:close/>
              </a:path>
              <a:path fill="darkenLess" w="21739" h="21600">
                <a:moveTo>
                  <a:pt x="13446" y="6448"/>
                </a:moveTo>
                <a:lnTo>
                  <a:pt x="13446" y="4707"/>
                </a:lnTo>
                <a:lnTo>
                  <a:pt x="15221" y="4707"/>
                </a:lnTo>
                <a:lnTo>
                  <a:pt x="15221" y="8224"/>
                </a:lnTo>
                <a:close/>
              </a:path>
              <a:path fill="darkenLess" w="21739" h="21600">
                <a:moveTo>
                  <a:pt x="9947" y="14299"/>
                </a:moveTo>
                <a:lnTo>
                  <a:pt x="11792" y="14299"/>
                </a:lnTo>
                <a:lnTo>
                  <a:pt x="11792" y="17989"/>
                </a:lnTo>
                <a:lnTo>
                  <a:pt x="16179" y="17989"/>
                </a:lnTo>
                <a:lnTo>
                  <a:pt x="16179" y="10800"/>
                </a:lnTo>
                <a:lnTo>
                  <a:pt x="5560" y="10800"/>
                </a:lnTo>
                <a:lnTo>
                  <a:pt x="5560" y="17989"/>
                </a:lnTo>
                <a:lnTo>
                  <a:pt x="994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tangle 16"/>
          <p:cNvSpPr/>
          <p:nvPr/>
        </p:nvSpPr>
        <p:spPr>
          <a:xfrm>
            <a:off x="1979640" y="189000"/>
            <a:ext cx="504036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ебусы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9" name="Picture 17" descr="rebus_32"/>
          <p:cNvPicPr/>
          <p:nvPr/>
        </p:nvPicPr>
        <p:blipFill>
          <a:blip r:embed="rId3"/>
          <a:stretch/>
        </p:blipFill>
        <p:spPr>
          <a:xfrm>
            <a:off x="611280" y="1557360"/>
            <a:ext cx="7958160" cy="31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3" dur="indefinite" restart="never" nodeType="tmRoot">
          <p:childTnLst>
            <p:seq>
              <p:cTn id="724" dur="indefinite" nodeType="mainSeq">
                <p:childTnLst>
                  <p:par>
                    <p:cTn id="725" nodeType="clickEffect" fill="hold">
                      <p:stCondLst>
                        <p:cond delay="indefinite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9" dur="1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1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1" dur="1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61" name="Rectangle 3"/>
            <p:cNvSpPr/>
            <p:nvPr/>
          </p:nvSpPr>
          <p:spPr>
            <a:xfrm>
              <a:off x="0" y="0"/>
              <a:ext cx="179280" cy="685800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Rectangle 4"/>
            <p:cNvSpPr/>
            <p:nvPr/>
          </p:nvSpPr>
          <p:spPr>
            <a:xfrm>
              <a:off x="8964720" y="0"/>
              <a:ext cx="179280" cy="685800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Rectangle 5"/>
            <p:cNvSpPr/>
            <p:nvPr/>
          </p:nvSpPr>
          <p:spPr>
            <a:xfrm rot="5400000">
              <a:off x="4478760" y="-4298040"/>
              <a:ext cx="189000" cy="878508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Rectangle 6"/>
            <p:cNvSpPr/>
            <p:nvPr/>
          </p:nvSpPr>
          <p:spPr>
            <a:xfrm rot="5400000">
              <a:off x="4478760" y="2369160"/>
              <a:ext cx="189000" cy="878508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5" name="Line 7"/>
          <p:cNvSpPr/>
          <p:nvPr/>
        </p:nvSpPr>
        <p:spPr>
          <a:xfrm>
            <a:off x="179280" y="963720"/>
            <a:ext cx="8785440" cy="0"/>
          </a:xfrm>
          <a:prstGeom prst="line">
            <a:avLst/>
          </a:prstGeom>
          <a:ln w="7632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AutoShape 9"/>
          <p:cNvSpPr/>
          <p:nvPr/>
        </p:nvSpPr>
        <p:spPr>
          <a:xfrm>
            <a:off x="8172360" y="177840"/>
            <a:ext cx="792360" cy="747720"/>
          </a:xfrm>
          <a:prstGeom prst="bevel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WordArt 10"/>
          <p:cNvSpPr txBox="1"/>
          <p:nvPr/>
        </p:nvSpPr>
        <p:spPr>
          <a:xfrm>
            <a:off x="8296200" y="415800"/>
            <a:ext cx="505080" cy="2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2600" dir="0" blurRad="0" rotWithShape="0">
                    <a:srgbClr val="875b0d">
                      <a:alpha val="50000"/>
                    </a:srgbClr>
                  </a:outerShdw>
                </a:effectLst>
                <a:latin typeface="Arial"/>
              </a:rPr>
              <a:t>300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2600" dir="0" blurRad="0" rotWithShape="0">
                  <a:srgbClr val="875b0d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68" name="Text Box 11"/>
          <p:cNvSpPr/>
          <p:nvPr/>
        </p:nvSpPr>
        <p:spPr>
          <a:xfrm>
            <a:off x="7308720" y="549360"/>
            <a:ext cx="9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bbe0e3"/>
                </a:solidFill>
                <a:latin typeface="Arial"/>
              </a:rPr>
              <a:t>3 ту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AutoShape 16">
            <a:hlinkClick r:id="rId2" action="ppaction://hlinksldjump"/>
          </p:cNvPr>
          <p:cNvSpPr/>
          <p:nvPr/>
        </p:nvSpPr>
        <p:spPr>
          <a:xfrm>
            <a:off x="179280" y="6165720"/>
            <a:ext cx="506520" cy="503280"/>
          </a:xfrm>
          <a:custGeom>
            <a:avLst/>
            <a:gdLst>
              <a:gd name="textAreaLeft" fmla="*/ 32400 w 506520"/>
              <a:gd name="textAreaRight" fmla="*/ 474120 w 5065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1739" h="21600">
                <a:moveTo>
                  <a:pt x="0" y="0"/>
                </a:moveTo>
                <a:lnTo>
                  <a:pt x="21739" y="0"/>
                </a:lnTo>
                <a:lnTo>
                  <a:pt x="21739" y="21600"/>
                </a:lnTo>
                <a:lnTo>
                  <a:pt x="0" y="21600"/>
                </a:lnTo>
                <a:close/>
              </a:path>
              <a:path fill="lightenLess" w="21739" h="21600">
                <a:moveTo>
                  <a:pt x="0" y="0"/>
                </a:moveTo>
                <a:lnTo>
                  <a:pt x="21739" y="0"/>
                </a:lnTo>
                <a:lnTo>
                  <a:pt x="20339" y="1400"/>
                </a:lnTo>
                <a:lnTo>
                  <a:pt x="1400" y="1400"/>
                </a:lnTo>
                <a:close/>
              </a:path>
              <a:path fill="darken" w="21739" h="21600">
                <a:moveTo>
                  <a:pt x="21739" y="0"/>
                </a:moveTo>
                <a:lnTo>
                  <a:pt x="21739" y="21600"/>
                </a:lnTo>
                <a:lnTo>
                  <a:pt x="20339" y="20200"/>
                </a:lnTo>
                <a:lnTo>
                  <a:pt x="20339" y="1400"/>
                </a:lnTo>
                <a:close/>
              </a:path>
              <a:path fill="darkenLess" w="21739" h="21600">
                <a:moveTo>
                  <a:pt x="217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39" y="20200"/>
                </a:lnTo>
                <a:close/>
              </a:path>
              <a:path fill="lighten" w="217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739" h="21600">
                <a:moveTo>
                  <a:pt x="10869" y="3837"/>
                </a:moveTo>
                <a:lnTo>
                  <a:pt x="13446" y="6448"/>
                </a:lnTo>
                <a:lnTo>
                  <a:pt x="13446" y="4707"/>
                </a:lnTo>
                <a:lnTo>
                  <a:pt x="15221" y="4707"/>
                </a:lnTo>
                <a:lnTo>
                  <a:pt x="15221" y="8224"/>
                </a:lnTo>
                <a:lnTo>
                  <a:pt x="17832" y="10800"/>
                </a:lnTo>
                <a:lnTo>
                  <a:pt x="16179" y="10800"/>
                </a:lnTo>
                <a:lnTo>
                  <a:pt x="16179" y="17989"/>
                </a:lnTo>
                <a:lnTo>
                  <a:pt x="5560" y="17989"/>
                </a:lnTo>
                <a:lnTo>
                  <a:pt x="5560" y="10800"/>
                </a:lnTo>
                <a:lnTo>
                  <a:pt x="3907" y="10800"/>
                </a:lnTo>
                <a:close/>
              </a:path>
              <a:path fill="darkenLess" w="21739" h="21600">
                <a:moveTo>
                  <a:pt x="13446" y="6448"/>
                </a:moveTo>
                <a:lnTo>
                  <a:pt x="13446" y="4707"/>
                </a:lnTo>
                <a:lnTo>
                  <a:pt x="15221" y="4707"/>
                </a:lnTo>
                <a:lnTo>
                  <a:pt x="15221" y="8224"/>
                </a:lnTo>
                <a:close/>
              </a:path>
              <a:path fill="darkenLess" w="21739" h="21600">
                <a:moveTo>
                  <a:pt x="9947" y="14299"/>
                </a:moveTo>
                <a:lnTo>
                  <a:pt x="11792" y="14299"/>
                </a:lnTo>
                <a:lnTo>
                  <a:pt x="11792" y="17989"/>
                </a:lnTo>
                <a:lnTo>
                  <a:pt x="16179" y="17989"/>
                </a:lnTo>
                <a:lnTo>
                  <a:pt x="16179" y="10800"/>
                </a:lnTo>
                <a:lnTo>
                  <a:pt x="5560" y="10800"/>
                </a:lnTo>
                <a:lnTo>
                  <a:pt x="5560" y="17989"/>
                </a:lnTo>
                <a:lnTo>
                  <a:pt x="994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Rectangle 17"/>
          <p:cNvSpPr/>
          <p:nvPr/>
        </p:nvSpPr>
        <p:spPr>
          <a:xfrm>
            <a:off x="539640" y="189000"/>
            <a:ext cx="662472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ебусы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1" name="Picture 18" descr="rebus_8"/>
          <p:cNvPicPr/>
          <p:nvPr/>
        </p:nvPicPr>
        <p:blipFill>
          <a:blip r:embed="rId3"/>
          <a:stretch/>
        </p:blipFill>
        <p:spPr>
          <a:xfrm>
            <a:off x="395280" y="1700280"/>
            <a:ext cx="8424720" cy="2973240"/>
          </a:xfrm>
          <a:prstGeom prst="rect">
            <a:avLst/>
          </a:prstGeom>
          <a:ln w="0">
            <a:noFill/>
          </a:ln>
        </p:spPr>
      </p:pic>
      <p:sp>
        <p:nvSpPr>
          <p:cNvPr id="572" name="WordArt 19"/>
          <p:cNvSpPr txBox="1"/>
          <p:nvPr/>
        </p:nvSpPr>
        <p:spPr>
          <a:xfrm>
            <a:off x="2916360" y="5229360"/>
            <a:ext cx="403200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Лобачевский</a:t>
            </a:r>
            <a:endParaRPr b="1" i="1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ffff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2" dur="indefinite" restart="never" nodeType="tmRoot">
          <p:childTnLst>
            <p:seq>
              <p:cTn id="733" dur="indefinite" nodeType="mainSeq">
                <p:childTnLst>
                  <p:par>
                    <p:cTn id="734" nodeType="clickEffect" fill="hold">
                      <p:stCondLst>
                        <p:cond delay="indefinite"/>
                      </p:stCondLst>
                      <p:childTnLst>
                        <p:par>
                          <p:cTn id="7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8" dur="10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10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0" dur="10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72" name="Rectangle 3"/>
            <p:cNvSpPr/>
            <p:nvPr/>
          </p:nvSpPr>
          <p:spPr>
            <a:xfrm>
              <a:off x="0" y="0"/>
              <a:ext cx="179280" cy="685800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Rectangle 4"/>
            <p:cNvSpPr/>
            <p:nvPr/>
          </p:nvSpPr>
          <p:spPr>
            <a:xfrm>
              <a:off x="8964720" y="0"/>
              <a:ext cx="179280" cy="685800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Rectangle 5"/>
            <p:cNvSpPr/>
            <p:nvPr/>
          </p:nvSpPr>
          <p:spPr>
            <a:xfrm rot="5400000">
              <a:off x="4478760" y="-4298040"/>
              <a:ext cx="189000" cy="878508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Rectangle 6"/>
            <p:cNvSpPr/>
            <p:nvPr/>
          </p:nvSpPr>
          <p:spPr>
            <a:xfrm rot="5400000">
              <a:off x="4478760" y="2369160"/>
              <a:ext cx="189000" cy="878508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Line 8"/>
          <p:cNvSpPr/>
          <p:nvPr/>
        </p:nvSpPr>
        <p:spPr>
          <a:xfrm>
            <a:off x="179280" y="803160"/>
            <a:ext cx="8785440" cy="0"/>
          </a:xfrm>
          <a:prstGeom prst="line">
            <a:avLst/>
          </a:prstGeom>
          <a:ln w="7632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10"/>
          <p:cNvSpPr/>
          <p:nvPr/>
        </p:nvSpPr>
        <p:spPr>
          <a:xfrm>
            <a:off x="468360" y="1413000"/>
            <a:ext cx="7991280" cy="42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Какова сумма  числа вершин и </a:t>
            </a: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ребер куб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)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2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16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)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)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11">
            <a:hlinkClick r:id="rId1" action="ppaction://hlinksldjump"/>
          </p:cNvPr>
          <p:cNvSpPr/>
          <p:nvPr/>
        </p:nvSpPr>
        <p:spPr>
          <a:xfrm>
            <a:off x="179280" y="189000"/>
            <a:ext cx="505080" cy="576000"/>
          </a:xfrm>
          <a:custGeom>
            <a:avLst/>
            <a:gdLst>
              <a:gd name="textAreaLeft" fmla="*/ 32760 w 505080"/>
              <a:gd name="textAreaRight" fmla="*/ 472680 w 505080"/>
              <a:gd name="textAreaTop" fmla="*/ 32400 h 576000"/>
              <a:gd name="textAreaBottom" fmla="*/ 543600 h 576000"/>
            </a:gdLst>
            <a:ahLst/>
            <a:rect l="textAreaLeft" t="textAreaTop" r="textAreaRight" b="textAreaBottom"/>
            <a:pathLst>
              <a:path w="21600" h="24631">
                <a:moveTo>
                  <a:pt x="0" y="0"/>
                </a:moveTo>
                <a:lnTo>
                  <a:pt x="21600" y="0"/>
                </a:lnTo>
                <a:lnTo>
                  <a:pt x="21600" y="24631"/>
                </a:lnTo>
                <a:lnTo>
                  <a:pt x="0" y="24631"/>
                </a:lnTo>
                <a:close/>
              </a:path>
              <a:path fill="lightenLess" w="21600" h="246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31">
                <a:moveTo>
                  <a:pt x="21600" y="0"/>
                </a:moveTo>
                <a:lnTo>
                  <a:pt x="21600" y="24631"/>
                </a:lnTo>
                <a:lnTo>
                  <a:pt x="20200" y="23231"/>
                </a:lnTo>
                <a:lnTo>
                  <a:pt x="20200" y="1400"/>
                </a:lnTo>
                <a:close/>
              </a:path>
              <a:path fill="darkenLess" w="21600" h="24631">
                <a:moveTo>
                  <a:pt x="21600" y="24631"/>
                </a:moveTo>
                <a:lnTo>
                  <a:pt x="0" y="24631"/>
                </a:lnTo>
                <a:lnTo>
                  <a:pt x="1400" y="23231"/>
                </a:lnTo>
                <a:lnTo>
                  <a:pt x="20200" y="23231"/>
                </a:lnTo>
                <a:close/>
              </a:path>
              <a:path fill="lighten" w="21600" h="24631">
                <a:moveTo>
                  <a:pt x="0" y="246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31"/>
                </a:lnTo>
                <a:close/>
              </a:path>
              <a:path fill="darken" w="21600" h="24631">
                <a:moveTo>
                  <a:pt x="10800" y="5352"/>
                </a:moveTo>
                <a:lnTo>
                  <a:pt x="13376" y="7964"/>
                </a:lnTo>
                <a:lnTo>
                  <a:pt x="13376" y="6223"/>
                </a:lnTo>
                <a:lnTo>
                  <a:pt x="15152" y="6223"/>
                </a:lnTo>
                <a:lnTo>
                  <a:pt x="15152" y="9739"/>
                </a:lnTo>
                <a:lnTo>
                  <a:pt x="17763" y="12315"/>
                </a:lnTo>
                <a:lnTo>
                  <a:pt x="16109" y="12315"/>
                </a:lnTo>
                <a:lnTo>
                  <a:pt x="16109" y="19505"/>
                </a:lnTo>
                <a:lnTo>
                  <a:pt x="5491" y="19505"/>
                </a:lnTo>
                <a:lnTo>
                  <a:pt x="5491" y="12315"/>
                </a:lnTo>
                <a:lnTo>
                  <a:pt x="3837" y="12315"/>
                </a:lnTo>
                <a:close/>
              </a:path>
              <a:path fill="darkenLess" w="21600" h="24631">
                <a:moveTo>
                  <a:pt x="13376" y="7964"/>
                </a:moveTo>
                <a:lnTo>
                  <a:pt x="13376" y="6223"/>
                </a:lnTo>
                <a:lnTo>
                  <a:pt x="15152" y="6223"/>
                </a:lnTo>
                <a:lnTo>
                  <a:pt x="15152" y="9739"/>
                </a:lnTo>
                <a:close/>
              </a:path>
              <a:path fill="darkenLess" w="21600" h="24631">
                <a:moveTo>
                  <a:pt x="9877" y="15814"/>
                </a:moveTo>
                <a:lnTo>
                  <a:pt x="11723" y="15814"/>
                </a:lnTo>
                <a:lnTo>
                  <a:pt x="11723" y="19505"/>
                </a:lnTo>
                <a:lnTo>
                  <a:pt x="16109" y="19505"/>
                </a:lnTo>
                <a:lnTo>
                  <a:pt x="16109" y="12315"/>
                </a:lnTo>
                <a:lnTo>
                  <a:pt x="5491" y="12315"/>
                </a:lnTo>
                <a:lnTo>
                  <a:pt x="5491" y="19505"/>
                </a:lnTo>
                <a:lnTo>
                  <a:pt x="9877" y="19505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12">
            <a:hlinkClick r:id="" action="ppaction://hlinkshowjump?jump=nextslide"/>
          </p:cNvPr>
          <p:cNvSpPr/>
          <p:nvPr/>
        </p:nvSpPr>
        <p:spPr>
          <a:xfrm>
            <a:off x="8354880" y="6270480"/>
            <a:ext cx="611280" cy="405000"/>
          </a:xfrm>
          <a:custGeom>
            <a:avLst/>
            <a:gdLst>
              <a:gd name="textAreaLeft" fmla="*/ 25920 w 611280"/>
              <a:gd name="textAreaRight" fmla="*/ 585360 w 61128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32592" h="21600">
                <a:moveTo>
                  <a:pt x="0" y="0"/>
                </a:moveTo>
                <a:lnTo>
                  <a:pt x="32592" y="0"/>
                </a:lnTo>
                <a:lnTo>
                  <a:pt x="32592" y="21600"/>
                </a:lnTo>
                <a:lnTo>
                  <a:pt x="0" y="21600"/>
                </a:lnTo>
                <a:close/>
              </a:path>
              <a:path fill="lightenLess" w="32592" h="21600">
                <a:moveTo>
                  <a:pt x="0" y="0"/>
                </a:moveTo>
                <a:lnTo>
                  <a:pt x="32592" y="0"/>
                </a:lnTo>
                <a:lnTo>
                  <a:pt x="31192" y="1400"/>
                </a:lnTo>
                <a:lnTo>
                  <a:pt x="1400" y="1400"/>
                </a:lnTo>
                <a:close/>
              </a:path>
              <a:path fill="darken" w="32592" h="21600">
                <a:moveTo>
                  <a:pt x="32592" y="0"/>
                </a:moveTo>
                <a:lnTo>
                  <a:pt x="32592" y="21600"/>
                </a:lnTo>
                <a:lnTo>
                  <a:pt x="31192" y="20200"/>
                </a:lnTo>
                <a:lnTo>
                  <a:pt x="31192" y="1400"/>
                </a:lnTo>
                <a:close/>
              </a:path>
              <a:path fill="darkenLess" w="32592" h="21600">
                <a:moveTo>
                  <a:pt x="325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92" y="20200"/>
                </a:lnTo>
                <a:close/>
              </a:path>
              <a:path fill="lighten" w="325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92" h="21600">
                <a:moveTo>
                  <a:pt x="9289" y="3794"/>
                </a:moveTo>
                <a:lnTo>
                  <a:pt x="23302" y="10800"/>
                </a:lnTo>
                <a:lnTo>
                  <a:pt x="9289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13"/>
          <p:cNvSpPr/>
          <p:nvPr/>
        </p:nvSpPr>
        <p:spPr>
          <a:xfrm>
            <a:off x="1042920" y="117360"/>
            <a:ext cx="77770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Своя игра</a:t>
            </a: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                   </a:t>
            </a: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I </a:t>
            </a: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 отборочный ту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0" dur="500" fill="hold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9ffcc"/>
                                      </p:to>
                                    </p:animClr>
                                    <p:animClr clrSpc="rgb">
                                      <p:cBhvr>
                                        <p:cTn id="91" dur="500" fill="hold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ffcc"/>
                                      </p:to>
                                    </p:animClr>
                                    <p:set>
                                      <p:cBhvr>
                                        <p:cTn id="92" dur="500" fill="hold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3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74" name="Rectangle 3"/>
            <p:cNvSpPr/>
            <p:nvPr/>
          </p:nvSpPr>
          <p:spPr>
            <a:xfrm>
              <a:off x="0" y="0"/>
              <a:ext cx="179280" cy="685800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Rectangle 4"/>
            <p:cNvSpPr/>
            <p:nvPr/>
          </p:nvSpPr>
          <p:spPr>
            <a:xfrm>
              <a:off x="8964720" y="0"/>
              <a:ext cx="179280" cy="685800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Rectangle 5"/>
            <p:cNvSpPr/>
            <p:nvPr/>
          </p:nvSpPr>
          <p:spPr>
            <a:xfrm rot="5400000">
              <a:off x="4478760" y="-4298040"/>
              <a:ext cx="189000" cy="878508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Rectangle 6"/>
            <p:cNvSpPr/>
            <p:nvPr/>
          </p:nvSpPr>
          <p:spPr>
            <a:xfrm rot="5400000">
              <a:off x="4478760" y="2369160"/>
              <a:ext cx="189000" cy="878508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8" name="Line 7"/>
          <p:cNvSpPr/>
          <p:nvPr/>
        </p:nvSpPr>
        <p:spPr>
          <a:xfrm>
            <a:off x="179280" y="963720"/>
            <a:ext cx="8785440" cy="0"/>
          </a:xfrm>
          <a:prstGeom prst="line">
            <a:avLst/>
          </a:prstGeom>
          <a:ln w="7632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Rectangle 8"/>
          <p:cNvSpPr/>
          <p:nvPr/>
        </p:nvSpPr>
        <p:spPr>
          <a:xfrm>
            <a:off x="1116000" y="189000"/>
            <a:ext cx="604836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ассеянный математик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AutoShape 9"/>
          <p:cNvSpPr/>
          <p:nvPr/>
        </p:nvSpPr>
        <p:spPr>
          <a:xfrm>
            <a:off x="8172360" y="177840"/>
            <a:ext cx="792360" cy="747720"/>
          </a:xfrm>
          <a:prstGeom prst="bevel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WordArt 10"/>
          <p:cNvSpPr txBox="1"/>
          <p:nvPr/>
        </p:nvSpPr>
        <p:spPr>
          <a:xfrm>
            <a:off x="8296200" y="415800"/>
            <a:ext cx="505080" cy="2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2600" dir="0" blurRad="0" rotWithShape="0">
                    <a:srgbClr val="875b0d">
                      <a:alpha val="50000"/>
                    </a:srgbClr>
                  </a:outerShdw>
                </a:effectLst>
                <a:latin typeface="Arial"/>
              </a:rPr>
              <a:t>100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2600" dir="0" blurRad="0" rotWithShape="0">
                  <a:srgbClr val="875b0d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82" name="Text Box 11"/>
          <p:cNvSpPr/>
          <p:nvPr/>
        </p:nvSpPr>
        <p:spPr>
          <a:xfrm>
            <a:off x="7308720" y="549360"/>
            <a:ext cx="9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bbe0e3"/>
                </a:solidFill>
                <a:latin typeface="Arial"/>
              </a:rPr>
              <a:t>3 ту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Text Box 12"/>
          <p:cNvSpPr/>
          <p:nvPr/>
        </p:nvSpPr>
        <p:spPr>
          <a:xfrm>
            <a:off x="611280" y="2205000"/>
            <a:ext cx="806436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Хотел написать главное занятие врачей, а получился разрез</a:t>
            </a: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WordArt 14"/>
          <p:cNvSpPr txBox="1"/>
          <p:nvPr/>
        </p:nvSpPr>
        <p:spPr>
          <a:xfrm>
            <a:off x="2987640" y="4941720"/>
            <a:ext cx="460872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Лечение - сечение</a:t>
            </a:r>
            <a:endParaRPr b="1" i="1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ffff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585" name="AutoShape 15">
            <a:hlinkClick r:id="rId2" action="ppaction://hlinksldjump"/>
          </p:cNvPr>
          <p:cNvSpPr/>
          <p:nvPr/>
        </p:nvSpPr>
        <p:spPr>
          <a:xfrm>
            <a:off x="179280" y="6165720"/>
            <a:ext cx="506520" cy="503280"/>
          </a:xfrm>
          <a:custGeom>
            <a:avLst/>
            <a:gdLst>
              <a:gd name="textAreaLeft" fmla="*/ 32400 w 506520"/>
              <a:gd name="textAreaRight" fmla="*/ 474120 w 5065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1739" h="21600">
                <a:moveTo>
                  <a:pt x="0" y="0"/>
                </a:moveTo>
                <a:lnTo>
                  <a:pt x="21739" y="0"/>
                </a:lnTo>
                <a:lnTo>
                  <a:pt x="21739" y="21600"/>
                </a:lnTo>
                <a:lnTo>
                  <a:pt x="0" y="21600"/>
                </a:lnTo>
                <a:close/>
              </a:path>
              <a:path fill="lightenLess" w="21739" h="21600">
                <a:moveTo>
                  <a:pt x="0" y="0"/>
                </a:moveTo>
                <a:lnTo>
                  <a:pt x="21739" y="0"/>
                </a:lnTo>
                <a:lnTo>
                  <a:pt x="20339" y="1400"/>
                </a:lnTo>
                <a:lnTo>
                  <a:pt x="1400" y="1400"/>
                </a:lnTo>
                <a:close/>
              </a:path>
              <a:path fill="darken" w="21739" h="21600">
                <a:moveTo>
                  <a:pt x="21739" y="0"/>
                </a:moveTo>
                <a:lnTo>
                  <a:pt x="21739" y="21600"/>
                </a:lnTo>
                <a:lnTo>
                  <a:pt x="20339" y="20200"/>
                </a:lnTo>
                <a:lnTo>
                  <a:pt x="20339" y="1400"/>
                </a:lnTo>
                <a:close/>
              </a:path>
              <a:path fill="darkenLess" w="21739" h="21600">
                <a:moveTo>
                  <a:pt x="217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39" y="20200"/>
                </a:lnTo>
                <a:close/>
              </a:path>
              <a:path fill="lighten" w="217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739" h="21600">
                <a:moveTo>
                  <a:pt x="10869" y="3837"/>
                </a:moveTo>
                <a:lnTo>
                  <a:pt x="13446" y="6448"/>
                </a:lnTo>
                <a:lnTo>
                  <a:pt x="13446" y="4707"/>
                </a:lnTo>
                <a:lnTo>
                  <a:pt x="15221" y="4707"/>
                </a:lnTo>
                <a:lnTo>
                  <a:pt x="15221" y="8224"/>
                </a:lnTo>
                <a:lnTo>
                  <a:pt x="17832" y="10800"/>
                </a:lnTo>
                <a:lnTo>
                  <a:pt x="16179" y="10800"/>
                </a:lnTo>
                <a:lnTo>
                  <a:pt x="16179" y="17989"/>
                </a:lnTo>
                <a:lnTo>
                  <a:pt x="5560" y="17989"/>
                </a:lnTo>
                <a:lnTo>
                  <a:pt x="5560" y="10800"/>
                </a:lnTo>
                <a:lnTo>
                  <a:pt x="3907" y="10800"/>
                </a:lnTo>
                <a:close/>
              </a:path>
              <a:path fill="darkenLess" w="21739" h="21600">
                <a:moveTo>
                  <a:pt x="13446" y="6448"/>
                </a:moveTo>
                <a:lnTo>
                  <a:pt x="13446" y="4707"/>
                </a:lnTo>
                <a:lnTo>
                  <a:pt x="15221" y="4707"/>
                </a:lnTo>
                <a:lnTo>
                  <a:pt x="15221" y="8224"/>
                </a:lnTo>
                <a:close/>
              </a:path>
              <a:path fill="darkenLess" w="21739" h="21600">
                <a:moveTo>
                  <a:pt x="9947" y="14299"/>
                </a:moveTo>
                <a:lnTo>
                  <a:pt x="11792" y="14299"/>
                </a:lnTo>
                <a:lnTo>
                  <a:pt x="11792" y="17989"/>
                </a:lnTo>
                <a:lnTo>
                  <a:pt x="16179" y="17989"/>
                </a:lnTo>
                <a:lnTo>
                  <a:pt x="16179" y="10800"/>
                </a:lnTo>
                <a:lnTo>
                  <a:pt x="5560" y="10800"/>
                </a:lnTo>
                <a:lnTo>
                  <a:pt x="5560" y="17989"/>
                </a:lnTo>
                <a:lnTo>
                  <a:pt x="994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1" dur="indefinite" restart="never" nodeType="tmRoot">
          <p:childTnLst>
            <p:seq>
              <p:cTn id="742" dur="indefinite" nodeType="mainSeq">
                <p:childTnLst>
                  <p:par>
                    <p:cTn id="743" nodeType="clickEffect" fill="hold">
                      <p:stCondLst>
                        <p:cond delay="0"/>
                      </p:stCondLst>
                      <p:childTnLst>
                        <p:par>
                          <p:cTn id="7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7" dur="1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1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nodeType="clickEffect" fill="hold">
                      <p:stCondLst>
                        <p:cond delay="indefinite"/>
                      </p:stCondLst>
                      <p:childTnLst>
                        <p:par>
                          <p:cTn id="7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3" dur="1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1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5" dur="10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6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87" name="Rectangle 3"/>
            <p:cNvSpPr/>
            <p:nvPr/>
          </p:nvSpPr>
          <p:spPr>
            <a:xfrm>
              <a:off x="0" y="0"/>
              <a:ext cx="179280" cy="685800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Rectangle 4"/>
            <p:cNvSpPr/>
            <p:nvPr/>
          </p:nvSpPr>
          <p:spPr>
            <a:xfrm>
              <a:off x="8964720" y="0"/>
              <a:ext cx="179280" cy="685800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Rectangle 5"/>
            <p:cNvSpPr/>
            <p:nvPr/>
          </p:nvSpPr>
          <p:spPr>
            <a:xfrm rot="5400000">
              <a:off x="4478760" y="-4298040"/>
              <a:ext cx="189000" cy="878508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Rectangle 6"/>
            <p:cNvSpPr/>
            <p:nvPr/>
          </p:nvSpPr>
          <p:spPr>
            <a:xfrm rot="5400000">
              <a:off x="4478760" y="2369160"/>
              <a:ext cx="189000" cy="878508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1" name="Line 7"/>
          <p:cNvSpPr/>
          <p:nvPr/>
        </p:nvSpPr>
        <p:spPr>
          <a:xfrm>
            <a:off x="179280" y="963720"/>
            <a:ext cx="8785440" cy="0"/>
          </a:xfrm>
          <a:prstGeom prst="line">
            <a:avLst/>
          </a:prstGeom>
          <a:ln w="7632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AutoShape 9"/>
          <p:cNvSpPr/>
          <p:nvPr/>
        </p:nvSpPr>
        <p:spPr>
          <a:xfrm>
            <a:off x="8172360" y="177840"/>
            <a:ext cx="792360" cy="747720"/>
          </a:xfrm>
          <a:prstGeom prst="bevel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WordArt 10"/>
          <p:cNvSpPr txBox="1"/>
          <p:nvPr/>
        </p:nvSpPr>
        <p:spPr>
          <a:xfrm>
            <a:off x="8296200" y="415800"/>
            <a:ext cx="505080" cy="2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2600" dir="0" blurRad="0" rotWithShape="0">
                    <a:srgbClr val="875b0d">
                      <a:alpha val="50000"/>
                    </a:srgbClr>
                  </a:outerShdw>
                </a:effectLst>
                <a:latin typeface="Arial"/>
              </a:rPr>
              <a:t>200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2600" dir="0" blurRad="0" rotWithShape="0">
                  <a:srgbClr val="875b0d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94" name="Text Box 11"/>
          <p:cNvSpPr/>
          <p:nvPr/>
        </p:nvSpPr>
        <p:spPr>
          <a:xfrm>
            <a:off x="7308720" y="549360"/>
            <a:ext cx="9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bbe0e3"/>
                </a:solidFill>
                <a:latin typeface="Arial"/>
              </a:rPr>
              <a:t>3 ту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Text Box 12"/>
          <p:cNvSpPr/>
          <p:nvPr/>
        </p:nvSpPr>
        <p:spPr>
          <a:xfrm>
            <a:off x="395280" y="1916280"/>
            <a:ext cx="8352000" cy="15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Хотел написать  название зимнего христианского праздника, </a:t>
            </a:r>
            <a:br>
              <a:rPr sz="3600"/>
            </a:b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а получилось равенство</a:t>
            </a: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WordArt 14"/>
          <p:cNvSpPr txBox="1"/>
          <p:nvPr/>
        </p:nvSpPr>
        <p:spPr>
          <a:xfrm>
            <a:off x="2195640" y="5013360"/>
            <a:ext cx="5905440" cy="57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Рождество - тождество</a:t>
            </a:r>
            <a:endParaRPr b="1" i="1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ffff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597" name="AutoShape 15">
            <a:hlinkClick r:id="rId2" action="ppaction://hlinksldjump"/>
          </p:cNvPr>
          <p:cNvSpPr/>
          <p:nvPr/>
        </p:nvSpPr>
        <p:spPr>
          <a:xfrm>
            <a:off x="179280" y="6165720"/>
            <a:ext cx="506520" cy="503280"/>
          </a:xfrm>
          <a:custGeom>
            <a:avLst/>
            <a:gdLst>
              <a:gd name="textAreaLeft" fmla="*/ 32400 w 506520"/>
              <a:gd name="textAreaRight" fmla="*/ 474120 w 5065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1739" h="21600">
                <a:moveTo>
                  <a:pt x="0" y="0"/>
                </a:moveTo>
                <a:lnTo>
                  <a:pt x="21739" y="0"/>
                </a:lnTo>
                <a:lnTo>
                  <a:pt x="21739" y="21600"/>
                </a:lnTo>
                <a:lnTo>
                  <a:pt x="0" y="21600"/>
                </a:lnTo>
                <a:close/>
              </a:path>
              <a:path fill="lightenLess" w="21739" h="21600">
                <a:moveTo>
                  <a:pt x="0" y="0"/>
                </a:moveTo>
                <a:lnTo>
                  <a:pt x="21739" y="0"/>
                </a:lnTo>
                <a:lnTo>
                  <a:pt x="20339" y="1400"/>
                </a:lnTo>
                <a:lnTo>
                  <a:pt x="1400" y="1400"/>
                </a:lnTo>
                <a:close/>
              </a:path>
              <a:path fill="darken" w="21739" h="21600">
                <a:moveTo>
                  <a:pt x="21739" y="0"/>
                </a:moveTo>
                <a:lnTo>
                  <a:pt x="21739" y="21600"/>
                </a:lnTo>
                <a:lnTo>
                  <a:pt x="20339" y="20200"/>
                </a:lnTo>
                <a:lnTo>
                  <a:pt x="20339" y="1400"/>
                </a:lnTo>
                <a:close/>
              </a:path>
              <a:path fill="darkenLess" w="21739" h="21600">
                <a:moveTo>
                  <a:pt x="217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39" y="20200"/>
                </a:lnTo>
                <a:close/>
              </a:path>
              <a:path fill="lighten" w="217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739" h="21600">
                <a:moveTo>
                  <a:pt x="10869" y="3837"/>
                </a:moveTo>
                <a:lnTo>
                  <a:pt x="13446" y="6448"/>
                </a:lnTo>
                <a:lnTo>
                  <a:pt x="13446" y="4707"/>
                </a:lnTo>
                <a:lnTo>
                  <a:pt x="15221" y="4707"/>
                </a:lnTo>
                <a:lnTo>
                  <a:pt x="15221" y="8224"/>
                </a:lnTo>
                <a:lnTo>
                  <a:pt x="17832" y="10800"/>
                </a:lnTo>
                <a:lnTo>
                  <a:pt x="16179" y="10800"/>
                </a:lnTo>
                <a:lnTo>
                  <a:pt x="16179" y="17989"/>
                </a:lnTo>
                <a:lnTo>
                  <a:pt x="5560" y="17989"/>
                </a:lnTo>
                <a:lnTo>
                  <a:pt x="5560" y="10800"/>
                </a:lnTo>
                <a:lnTo>
                  <a:pt x="3907" y="10800"/>
                </a:lnTo>
                <a:close/>
              </a:path>
              <a:path fill="darkenLess" w="21739" h="21600">
                <a:moveTo>
                  <a:pt x="13446" y="6448"/>
                </a:moveTo>
                <a:lnTo>
                  <a:pt x="13446" y="4707"/>
                </a:lnTo>
                <a:lnTo>
                  <a:pt x="15221" y="4707"/>
                </a:lnTo>
                <a:lnTo>
                  <a:pt x="15221" y="8224"/>
                </a:lnTo>
                <a:close/>
              </a:path>
              <a:path fill="darkenLess" w="21739" h="21600">
                <a:moveTo>
                  <a:pt x="9947" y="14299"/>
                </a:moveTo>
                <a:lnTo>
                  <a:pt x="11792" y="14299"/>
                </a:lnTo>
                <a:lnTo>
                  <a:pt x="11792" y="17989"/>
                </a:lnTo>
                <a:lnTo>
                  <a:pt x="16179" y="17989"/>
                </a:lnTo>
                <a:lnTo>
                  <a:pt x="16179" y="10800"/>
                </a:lnTo>
                <a:lnTo>
                  <a:pt x="5560" y="10800"/>
                </a:lnTo>
                <a:lnTo>
                  <a:pt x="5560" y="17989"/>
                </a:lnTo>
                <a:lnTo>
                  <a:pt x="994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Rectangle 16"/>
          <p:cNvSpPr/>
          <p:nvPr/>
        </p:nvSpPr>
        <p:spPr>
          <a:xfrm>
            <a:off x="1116000" y="189000"/>
            <a:ext cx="604836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ассеянный математик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6" dur="indefinite" restart="never" nodeType="tmRoot">
          <p:childTnLst>
            <p:seq>
              <p:cTn id="757" dur="indefinite" nodeType="mainSeq">
                <p:childTnLst>
                  <p:par>
                    <p:cTn id="758" nodeType="clickEffect" fill="hold">
                      <p:stCondLst>
                        <p:cond delay="0"/>
                      </p:stCondLst>
                      <p:childTnLst>
                        <p:par>
                          <p:cTn id="7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2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nodeType="clickEffect" fill="hold">
                      <p:stCondLst>
                        <p:cond delay="indefinite"/>
                      </p:stCondLst>
                      <p:childTnLst>
                        <p:par>
                          <p:cTn id="7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8" dur="10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10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0" dur="10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9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00" name="Rectangle 3"/>
            <p:cNvSpPr/>
            <p:nvPr/>
          </p:nvSpPr>
          <p:spPr>
            <a:xfrm>
              <a:off x="0" y="0"/>
              <a:ext cx="179280" cy="685800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Rectangle 4"/>
            <p:cNvSpPr/>
            <p:nvPr/>
          </p:nvSpPr>
          <p:spPr>
            <a:xfrm>
              <a:off x="8964720" y="0"/>
              <a:ext cx="179280" cy="685800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Rectangle 5"/>
            <p:cNvSpPr/>
            <p:nvPr/>
          </p:nvSpPr>
          <p:spPr>
            <a:xfrm rot="5400000">
              <a:off x="4478760" y="-4298040"/>
              <a:ext cx="189000" cy="878508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Rectangle 6"/>
            <p:cNvSpPr/>
            <p:nvPr/>
          </p:nvSpPr>
          <p:spPr>
            <a:xfrm rot="5400000">
              <a:off x="4478760" y="2369160"/>
              <a:ext cx="189000" cy="878508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4" name="Line 7"/>
          <p:cNvSpPr/>
          <p:nvPr/>
        </p:nvSpPr>
        <p:spPr>
          <a:xfrm>
            <a:off x="179280" y="963720"/>
            <a:ext cx="8785440" cy="0"/>
          </a:xfrm>
          <a:prstGeom prst="line">
            <a:avLst/>
          </a:prstGeom>
          <a:ln w="7632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AutoShape 9"/>
          <p:cNvSpPr/>
          <p:nvPr/>
        </p:nvSpPr>
        <p:spPr>
          <a:xfrm>
            <a:off x="8172360" y="177840"/>
            <a:ext cx="792360" cy="747720"/>
          </a:xfrm>
          <a:prstGeom prst="bevel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WordArt 10"/>
          <p:cNvSpPr txBox="1"/>
          <p:nvPr/>
        </p:nvSpPr>
        <p:spPr>
          <a:xfrm>
            <a:off x="8296200" y="415800"/>
            <a:ext cx="505080" cy="2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2600" dir="0" blurRad="0" rotWithShape="0">
                    <a:srgbClr val="875b0d">
                      <a:alpha val="50000"/>
                    </a:srgbClr>
                  </a:outerShdw>
                </a:effectLst>
                <a:latin typeface="Arial"/>
              </a:rPr>
              <a:t>300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2600" dir="0" blurRad="0" rotWithShape="0">
                  <a:srgbClr val="875b0d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07" name="Text Box 11"/>
          <p:cNvSpPr/>
          <p:nvPr/>
        </p:nvSpPr>
        <p:spPr>
          <a:xfrm>
            <a:off x="7308720" y="549360"/>
            <a:ext cx="9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bbe0e3"/>
                </a:solidFill>
                <a:latin typeface="Arial"/>
              </a:rPr>
              <a:t>3 ту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Text Box 12"/>
          <p:cNvSpPr/>
          <p:nvPr/>
        </p:nvSpPr>
        <p:spPr>
          <a:xfrm>
            <a:off x="539640" y="2349360"/>
            <a:ext cx="806472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Хотел написать название вознаграждения в коммерции, а получилось геометрическое тело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WordArt 14"/>
          <p:cNvSpPr txBox="1"/>
          <p:nvPr/>
        </p:nvSpPr>
        <p:spPr>
          <a:xfrm>
            <a:off x="3132000" y="5013360"/>
            <a:ext cx="3024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Бонус - конус</a:t>
            </a:r>
            <a:endParaRPr b="1" i="1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ffff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610" name="AutoShape 15">
            <a:hlinkClick r:id="rId2" action="ppaction://hlinksldjump"/>
          </p:cNvPr>
          <p:cNvSpPr/>
          <p:nvPr/>
        </p:nvSpPr>
        <p:spPr>
          <a:xfrm>
            <a:off x="179280" y="6165720"/>
            <a:ext cx="506520" cy="503280"/>
          </a:xfrm>
          <a:custGeom>
            <a:avLst/>
            <a:gdLst>
              <a:gd name="textAreaLeft" fmla="*/ 32400 w 506520"/>
              <a:gd name="textAreaRight" fmla="*/ 474120 w 5065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1739" h="21600">
                <a:moveTo>
                  <a:pt x="0" y="0"/>
                </a:moveTo>
                <a:lnTo>
                  <a:pt x="21739" y="0"/>
                </a:lnTo>
                <a:lnTo>
                  <a:pt x="21739" y="21600"/>
                </a:lnTo>
                <a:lnTo>
                  <a:pt x="0" y="21600"/>
                </a:lnTo>
                <a:close/>
              </a:path>
              <a:path fill="lightenLess" w="21739" h="21600">
                <a:moveTo>
                  <a:pt x="0" y="0"/>
                </a:moveTo>
                <a:lnTo>
                  <a:pt x="21739" y="0"/>
                </a:lnTo>
                <a:lnTo>
                  <a:pt x="20339" y="1400"/>
                </a:lnTo>
                <a:lnTo>
                  <a:pt x="1400" y="1400"/>
                </a:lnTo>
                <a:close/>
              </a:path>
              <a:path fill="darken" w="21739" h="21600">
                <a:moveTo>
                  <a:pt x="21739" y="0"/>
                </a:moveTo>
                <a:lnTo>
                  <a:pt x="21739" y="21600"/>
                </a:lnTo>
                <a:lnTo>
                  <a:pt x="20339" y="20200"/>
                </a:lnTo>
                <a:lnTo>
                  <a:pt x="20339" y="1400"/>
                </a:lnTo>
                <a:close/>
              </a:path>
              <a:path fill="darkenLess" w="21739" h="21600">
                <a:moveTo>
                  <a:pt x="217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39" y="20200"/>
                </a:lnTo>
                <a:close/>
              </a:path>
              <a:path fill="lighten" w="217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739" h="21600">
                <a:moveTo>
                  <a:pt x="10869" y="3837"/>
                </a:moveTo>
                <a:lnTo>
                  <a:pt x="13446" y="6448"/>
                </a:lnTo>
                <a:lnTo>
                  <a:pt x="13446" y="4707"/>
                </a:lnTo>
                <a:lnTo>
                  <a:pt x="15221" y="4707"/>
                </a:lnTo>
                <a:lnTo>
                  <a:pt x="15221" y="8224"/>
                </a:lnTo>
                <a:lnTo>
                  <a:pt x="17832" y="10800"/>
                </a:lnTo>
                <a:lnTo>
                  <a:pt x="16179" y="10800"/>
                </a:lnTo>
                <a:lnTo>
                  <a:pt x="16179" y="17989"/>
                </a:lnTo>
                <a:lnTo>
                  <a:pt x="5560" y="17989"/>
                </a:lnTo>
                <a:lnTo>
                  <a:pt x="5560" y="10800"/>
                </a:lnTo>
                <a:lnTo>
                  <a:pt x="3907" y="10800"/>
                </a:lnTo>
                <a:close/>
              </a:path>
              <a:path fill="darkenLess" w="21739" h="21600">
                <a:moveTo>
                  <a:pt x="13446" y="6448"/>
                </a:moveTo>
                <a:lnTo>
                  <a:pt x="13446" y="4707"/>
                </a:lnTo>
                <a:lnTo>
                  <a:pt x="15221" y="4707"/>
                </a:lnTo>
                <a:lnTo>
                  <a:pt x="15221" y="8224"/>
                </a:lnTo>
                <a:close/>
              </a:path>
              <a:path fill="darkenLess" w="21739" h="21600">
                <a:moveTo>
                  <a:pt x="9947" y="14299"/>
                </a:moveTo>
                <a:lnTo>
                  <a:pt x="11792" y="14299"/>
                </a:lnTo>
                <a:lnTo>
                  <a:pt x="11792" y="17989"/>
                </a:lnTo>
                <a:lnTo>
                  <a:pt x="16179" y="17989"/>
                </a:lnTo>
                <a:lnTo>
                  <a:pt x="16179" y="10800"/>
                </a:lnTo>
                <a:lnTo>
                  <a:pt x="5560" y="10800"/>
                </a:lnTo>
                <a:lnTo>
                  <a:pt x="5560" y="17989"/>
                </a:lnTo>
                <a:lnTo>
                  <a:pt x="994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Rectangle 16"/>
          <p:cNvSpPr/>
          <p:nvPr/>
        </p:nvSpPr>
        <p:spPr>
          <a:xfrm>
            <a:off x="1332000" y="260280"/>
            <a:ext cx="604836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ассеянный математик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nodeType="clickEffect" fill="hold">
                      <p:stCondLst>
                        <p:cond delay="0"/>
                      </p:stCondLst>
                      <p:childTnLst>
                        <p:par>
                          <p:cTn id="7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1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nodeType="clickEffect" fill="hold">
                      <p:stCondLst>
                        <p:cond delay="indefinite"/>
                      </p:stCondLst>
                      <p:childTnLst>
                        <p:par>
                          <p:cTn id="7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3" dur="1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1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5" dur="10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2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13" name="Rectangle 3"/>
            <p:cNvSpPr/>
            <p:nvPr/>
          </p:nvSpPr>
          <p:spPr>
            <a:xfrm>
              <a:off x="0" y="0"/>
              <a:ext cx="179280" cy="685800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Rectangle 4"/>
            <p:cNvSpPr/>
            <p:nvPr/>
          </p:nvSpPr>
          <p:spPr>
            <a:xfrm>
              <a:off x="8964720" y="0"/>
              <a:ext cx="179280" cy="685800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Rectangle 5"/>
            <p:cNvSpPr/>
            <p:nvPr/>
          </p:nvSpPr>
          <p:spPr>
            <a:xfrm rot="5400000">
              <a:off x="4478760" y="-4298040"/>
              <a:ext cx="189000" cy="878508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Rectangle 6"/>
            <p:cNvSpPr/>
            <p:nvPr/>
          </p:nvSpPr>
          <p:spPr>
            <a:xfrm rot="5400000">
              <a:off x="4478760" y="2369160"/>
              <a:ext cx="189000" cy="878508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7" name="Line 7"/>
          <p:cNvSpPr/>
          <p:nvPr/>
        </p:nvSpPr>
        <p:spPr>
          <a:xfrm>
            <a:off x="179280" y="963720"/>
            <a:ext cx="8785440" cy="0"/>
          </a:xfrm>
          <a:prstGeom prst="line">
            <a:avLst/>
          </a:prstGeom>
          <a:ln w="7632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Rectangle 8"/>
          <p:cNvSpPr/>
          <p:nvPr/>
        </p:nvSpPr>
        <p:spPr>
          <a:xfrm>
            <a:off x="1187280" y="189000"/>
            <a:ext cx="597708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ездесущая математика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AutoShape 9"/>
          <p:cNvSpPr/>
          <p:nvPr/>
        </p:nvSpPr>
        <p:spPr>
          <a:xfrm>
            <a:off x="8172360" y="177840"/>
            <a:ext cx="792360" cy="747720"/>
          </a:xfrm>
          <a:prstGeom prst="bevel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WordArt 10"/>
          <p:cNvSpPr txBox="1"/>
          <p:nvPr/>
        </p:nvSpPr>
        <p:spPr>
          <a:xfrm>
            <a:off x="8296200" y="415800"/>
            <a:ext cx="505080" cy="2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2600" dir="0" blurRad="0" rotWithShape="0">
                    <a:srgbClr val="875b0d">
                      <a:alpha val="50000"/>
                    </a:srgbClr>
                  </a:outerShdw>
                </a:effectLst>
                <a:latin typeface="Arial"/>
              </a:rPr>
              <a:t>100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2600" dir="0" blurRad="0" rotWithShape="0">
                  <a:srgbClr val="875b0d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21" name="Text Box 11"/>
          <p:cNvSpPr/>
          <p:nvPr/>
        </p:nvSpPr>
        <p:spPr>
          <a:xfrm>
            <a:off x="7308720" y="549360"/>
            <a:ext cx="9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bbe0e3"/>
                </a:solidFill>
                <a:latin typeface="Arial"/>
              </a:rPr>
              <a:t>3 ту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12"/>
          <p:cNvSpPr/>
          <p:nvPr/>
        </p:nvSpPr>
        <p:spPr>
          <a:xfrm>
            <a:off x="611280" y="2205000"/>
            <a:ext cx="8064360" cy="15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Над каким предприятием можно увидеть вывеску с надписью «сто»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WordArt 14"/>
          <p:cNvSpPr txBox="1"/>
          <p:nvPr/>
        </p:nvSpPr>
        <p:spPr>
          <a:xfrm>
            <a:off x="2556000" y="4581360"/>
            <a:ext cx="5256000" cy="115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Станция  технического</a:t>
            </a:r>
            <a:endParaRPr b="1" i="1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ffff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обслуживания</a:t>
            </a:r>
            <a:endParaRPr b="1" i="1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ffff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624" name="AutoShape 15">
            <a:hlinkClick r:id="rId2" action="ppaction://hlinksldjump"/>
          </p:cNvPr>
          <p:cNvSpPr/>
          <p:nvPr/>
        </p:nvSpPr>
        <p:spPr>
          <a:xfrm>
            <a:off x="179280" y="6165720"/>
            <a:ext cx="506520" cy="503280"/>
          </a:xfrm>
          <a:custGeom>
            <a:avLst/>
            <a:gdLst>
              <a:gd name="textAreaLeft" fmla="*/ 32400 w 506520"/>
              <a:gd name="textAreaRight" fmla="*/ 474120 w 5065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1739" h="21600">
                <a:moveTo>
                  <a:pt x="0" y="0"/>
                </a:moveTo>
                <a:lnTo>
                  <a:pt x="21739" y="0"/>
                </a:lnTo>
                <a:lnTo>
                  <a:pt x="21739" y="21600"/>
                </a:lnTo>
                <a:lnTo>
                  <a:pt x="0" y="21600"/>
                </a:lnTo>
                <a:close/>
              </a:path>
              <a:path fill="lightenLess" w="21739" h="21600">
                <a:moveTo>
                  <a:pt x="0" y="0"/>
                </a:moveTo>
                <a:lnTo>
                  <a:pt x="21739" y="0"/>
                </a:lnTo>
                <a:lnTo>
                  <a:pt x="20339" y="1400"/>
                </a:lnTo>
                <a:lnTo>
                  <a:pt x="1400" y="1400"/>
                </a:lnTo>
                <a:close/>
              </a:path>
              <a:path fill="darken" w="21739" h="21600">
                <a:moveTo>
                  <a:pt x="21739" y="0"/>
                </a:moveTo>
                <a:lnTo>
                  <a:pt x="21739" y="21600"/>
                </a:lnTo>
                <a:lnTo>
                  <a:pt x="20339" y="20200"/>
                </a:lnTo>
                <a:lnTo>
                  <a:pt x="20339" y="1400"/>
                </a:lnTo>
                <a:close/>
              </a:path>
              <a:path fill="darkenLess" w="21739" h="21600">
                <a:moveTo>
                  <a:pt x="217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39" y="20200"/>
                </a:lnTo>
                <a:close/>
              </a:path>
              <a:path fill="lighten" w="217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739" h="21600">
                <a:moveTo>
                  <a:pt x="10869" y="3837"/>
                </a:moveTo>
                <a:lnTo>
                  <a:pt x="13446" y="6448"/>
                </a:lnTo>
                <a:lnTo>
                  <a:pt x="13446" y="4707"/>
                </a:lnTo>
                <a:lnTo>
                  <a:pt x="15221" y="4707"/>
                </a:lnTo>
                <a:lnTo>
                  <a:pt x="15221" y="8224"/>
                </a:lnTo>
                <a:lnTo>
                  <a:pt x="17832" y="10800"/>
                </a:lnTo>
                <a:lnTo>
                  <a:pt x="16179" y="10800"/>
                </a:lnTo>
                <a:lnTo>
                  <a:pt x="16179" y="17989"/>
                </a:lnTo>
                <a:lnTo>
                  <a:pt x="5560" y="17989"/>
                </a:lnTo>
                <a:lnTo>
                  <a:pt x="5560" y="10800"/>
                </a:lnTo>
                <a:lnTo>
                  <a:pt x="3907" y="10800"/>
                </a:lnTo>
                <a:close/>
              </a:path>
              <a:path fill="darkenLess" w="21739" h="21600">
                <a:moveTo>
                  <a:pt x="13446" y="6448"/>
                </a:moveTo>
                <a:lnTo>
                  <a:pt x="13446" y="4707"/>
                </a:lnTo>
                <a:lnTo>
                  <a:pt x="15221" y="4707"/>
                </a:lnTo>
                <a:lnTo>
                  <a:pt x="15221" y="8224"/>
                </a:lnTo>
                <a:close/>
              </a:path>
              <a:path fill="darkenLess" w="21739" h="21600">
                <a:moveTo>
                  <a:pt x="9947" y="14299"/>
                </a:moveTo>
                <a:lnTo>
                  <a:pt x="11792" y="14299"/>
                </a:lnTo>
                <a:lnTo>
                  <a:pt x="11792" y="17989"/>
                </a:lnTo>
                <a:lnTo>
                  <a:pt x="16179" y="17989"/>
                </a:lnTo>
                <a:lnTo>
                  <a:pt x="16179" y="10800"/>
                </a:lnTo>
                <a:lnTo>
                  <a:pt x="5560" y="10800"/>
                </a:lnTo>
                <a:lnTo>
                  <a:pt x="5560" y="17989"/>
                </a:lnTo>
                <a:lnTo>
                  <a:pt x="994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6" dur="indefinite" restart="never" nodeType="tmRoot">
          <p:childTnLst>
            <p:seq>
              <p:cTn id="787" dur="indefinite" nodeType="mainSeq">
                <p:childTnLst>
                  <p:par>
                    <p:cTn id="788" nodeType="clickEffect" fill="hold">
                      <p:stCondLst>
                        <p:cond delay="0"/>
                      </p:stCondLst>
                      <p:childTnLst>
                        <p:par>
                          <p:cTn id="7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10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nodeType="clickEffect" fill="hold">
                      <p:stCondLst>
                        <p:cond delay="indefinite"/>
                      </p:stCondLst>
                      <p:childTnLst>
                        <p:par>
                          <p:cTn id="7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8" dur="10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10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0" dur="10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5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26" name="Rectangle 3"/>
            <p:cNvSpPr/>
            <p:nvPr/>
          </p:nvSpPr>
          <p:spPr>
            <a:xfrm>
              <a:off x="0" y="0"/>
              <a:ext cx="179280" cy="685800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Rectangle 4"/>
            <p:cNvSpPr/>
            <p:nvPr/>
          </p:nvSpPr>
          <p:spPr>
            <a:xfrm>
              <a:off x="8964720" y="0"/>
              <a:ext cx="179280" cy="685800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Rectangle 5"/>
            <p:cNvSpPr/>
            <p:nvPr/>
          </p:nvSpPr>
          <p:spPr>
            <a:xfrm rot="5400000">
              <a:off x="4478760" y="-4298040"/>
              <a:ext cx="189000" cy="878508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Rectangle 6"/>
            <p:cNvSpPr/>
            <p:nvPr/>
          </p:nvSpPr>
          <p:spPr>
            <a:xfrm rot="5400000">
              <a:off x="4478760" y="2369160"/>
              <a:ext cx="189000" cy="878508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0" name="Line 7"/>
          <p:cNvSpPr/>
          <p:nvPr/>
        </p:nvSpPr>
        <p:spPr>
          <a:xfrm>
            <a:off x="179280" y="963720"/>
            <a:ext cx="8785440" cy="0"/>
          </a:xfrm>
          <a:prstGeom prst="line">
            <a:avLst/>
          </a:prstGeom>
          <a:ln w="7632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AutoShape 9"/>
          <p:cNvSpPr/>
          <p:nvPr/>
        </p:nvSpPr>
        <p:spPr>
          <a:xfrm>
            <a:off x="8172360" y="177840"/>
            <a:ext cx="792360" cy="747720"/>
          </a:xfrm>
          <a:prstGeom prst="bevel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WordArt 10"/>
          <p:cNvSpPr txBox="1"/>
          <p:nvPr/>
        </p:nvSpPr>
        <p:spPr>
          <a:xfrm>
            <a:off x="8296200" y="415800"/>
            <a:ext cx="505080" cy="2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2600" dir="0" blurRad="0" rotWithShape="0">
                    <a:srgbClr val="875b0d">
                      <a:alpha val="50000"/>
                    </a:srgbClr>
                  </a:outerShdw>
                </a:effectLst>
                <a:latin typeface="Arial"/>
              </a:rPr>
              <a:t>200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2600" dir="0" blurRad="0" rotWithShape="0">
                  <a:srgbClr val="875b0d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33" name="Text Box 11"/>
          <p:cNvSpPr/>
          <p:nvPr/>
        </p:nvSpPr>
        <p:spPr>
          <a:xfrm>
            <a:off x="7308720" y="549360"/>
            <a:ext cx="9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bbe0e3"/>
                </a:solidFill>
                <a:latin typeface="Arial"/>
              </a:rPr>
              <a:t>2 ту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4" name="Group 12"/>
          <p:cNvGrpSpPr/>
          <p:nvPr/>
        </p:nvGrpSpPr>
        <p:grpSpPr>
          <a:xfrm>
            <a:off x="1187280" y="2491920"/>
            <a:ext cx="6048720" cy="2663640"/>
            <a:chOff x="1187280" y="2491920"/>
            <a:chExt cx="6048720" cy="2663640"/>
          </a:xfrm>
        </p:grpSpPr>
        <p:sp>
          <p:nvSpPr>
            <p:cNvPr id="635" name="AutoShape 13"/>
            <p:cNvSpPr/>
            <p:nvPr/>
          </p:nvSpPr>
          <p:spPr>
            <a:xfrm rot="10800000">
              <a:off x="1908000" y="2491560"/>
              <a:ext cx="4608720" cy="2663640"/>
            </a:xfrm>
            <a:prstGeom prst="wedgeEllipseCallout">
              <a:avLst>
                <a:gd name="adj1" fmla="val 4185"/>
                <a:gd name="adj2" fmla="val 63407"/>
              </a:avLst>
            </a:prstGeom>
            <a:gradFill rotWithShape="0">
              <a:gsLst>
                <a:gs pos="0">
                  <a:srgbClr val="ff6600"/>
                </a:gs>
                <a:gs pos="50000">
                  <a:srgbClr val="a50021"/>
                </a:gs>
                <a:gs pos="100000">
                  <a:srgbClr val="ff6600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Text Box 14"/>
            <p:cNvSpPr/>
            <p:nvPr/>
          </p:nvSpPr>
          <p:spPr>
            <a:xfrm>
              <a:off x="1187280" y="3211200"/>
              <a:ext cx="6048720" cy="103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ffff00"/>
                  </a:solidFill>
                  <a:latin typeface="Times New Roman"/>
                </a:rPr>
                <a:t>Вам попался кот в мешке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ffff00"/>
                  </a:solidFill>
                  <a:latin typeface="Times New Roman"/>
                </a:rPr>
                <a:t>Кому отдадите  вопрос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7" name="AutoShape 15">
            <a:hlinkClick r:id="" action="ppaction://hlinkshowjump?jump=nextslide"/>
          </p:cNvPr>
          <p:cNvSpPr/>
          <p:nvPr/>
        </p:nvSpPr>
        <p:spPr>
          <a:xfrm>
            <a:off x="8459640" y="6270480"/>
            <a:ext cx="540000" cy="405000"/>
          </a:xfrm>
          <a:custGeom>
            <a:avLst/>
            <a:gdLst>
              <a:gd name="textAreaLeft" fmla="*/ 25920 w 540000"/>
              <a:gd name="textAreaRight" fmla="*/ 514080 w 54000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28794" h="21600">
                <a:moveTo>
                  <a:pt x="0" y="0"/>
                </a:moveTo>
                <a:lnTo>
                  <a:pt x="28794" y="0"/>
                </a:lnTo>
                <a:lnTo>
                  <a:pt x="28794" y="21600"/>
                </a:lnTo>
                <a:lnTo>
                  <a:pt x="0" y="21600"/>
                </a:lnTo>
                <a:close/>
              </a:path>
              <a:path fill="lightenLess" w="28794" h="21600">
                <a:moveTo>
                  <a:pt x="0" y="0"/>
                </a:moveTo>
                <a:lnTo>
                  <a:pt x="28794" y="0"/>
                </a:lnTo>
                <a:lnTo>
                  <a:pt x="27394" y="1400"/>
                </a:lnTo>
                <a:lnTo>
                  <a:pt x="1400" y="1400"/>
                </a:lnTo>
                <a:close/>
              </a:path>
              <a:path fill="darken" w="28794" h="21600">
                <a:moveTo>
                  <a:pt x="28794" y="0"/>
                </a:moveTo>
                <a:lnTo>
                  <a:pt x="28794" y="21600"/>
                </a:lnTo>
                <a:lnTo>
                  <a:pt x="27394" y="20200"/>
                </a:lnTo>
                <a:lnTo>
                  <a:pt x="27394" y="1400"/>
                </a:lnTo>
                <a:close/>
              </a:path>
              <a:path fill="darkenLess" w="28794" h="21600">
                <a:moveTo>
                  <a:pt x="287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4" y="20200"/>
                </a:lnTo>
                <a:close/>
              </a:path>
              <a:path fill="lighten" w="287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94" h="21600">
                <a:moveTo>
                  <a:pt x="7390" y="3794"/>
                </a:moveTo>
                <a:lnTo>
                  <a:pt x="21403" y="10800"/>
                </a:lnTo>
                <a:lnTo>
                  <a:pt x="739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Rectangle 16"/>
          <p:cNvSpPr/>
          <p:nvPr/>
        </p:nvSpPr>
        <p:spPr>
          <a:xfrm>
            <a:off x="1187280" y="189000"/>
            <a:ext cx="597708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ездесущая математика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nodeType="clickEffect" fill="hold">
                      <p:stCondLst>
                        <p:cond delay="0"/>
                      </p:stCondLst>
                      <p:childTnLst>
                        <p:par>
                          <p:cTn id="8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9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40" name="Rectangle 3"/>
            <p:cNvSpPr/>
            <p:nvPr/>
          </p:nvSpPr>
          <p:spPr>
            <a:xfrm>
              <a:off x="0" y="0"/>
              <a:ext cx="179280" cy="685800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Rectangle 4"/>
            <p:cNvSpPr/>
            <p:nvPr/>
          </p:nvSpPr>
          <p:spPr>
            <a:xfrm>
              <a:off x="8964720" y="0"/>
              <a:ext cx="179280" cy="685800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Rectangle 5"/>
            <p:cNvSpPr/>
            <p:nvPr/>
          </p:nvSpPr>
          <p:spPr>
            <a:xfrm rot="5400000">
              <a:off x="4478760" y="-4298040"/>
              <a:ext cx="189000" cy="878508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Rectangle 6"/>
            <p:cNvSpPr/>
            <p:nvPr/>
          </p:nvSpPr>
          <p:spPr>
            <a:xfrm rot="5400000">
              <a:off x="4478760" y="2369160"/>
              <a:ext cx="189000" cy="878508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4" name="Line 7"/>
          <p:cNvSpPr/>
          <p:nvPr/>
        </p:nvSpPr>
        <p:spPr>
          <a:xfrm>
            <a:off x="179280" y="963720"/>
            <a:ext cx="8785440" cy="0"/>
          </a:xfrm>
          <a:prstGeom prst="line">
            <a:avLst/>
          </a:prstGeom>
          <a:ln w="7632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Rectangle 8"/>
          <p:cNvSpPr/>
          <p:nvPr/>
        </p:nvSpPr>
        <p:spPr>
          <a:xfrm>
            <a:off x="539640" y="189000"/>
            <a:ext cx="662472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ловесное  сложение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AutoShape 9"/>
          <p:cNvSpPr/>
          <p:nvPr/>
        </p:nvSpPr>
        <p:spPr>
          <a:xfrm>
            <a:off x="8172360" y="177840"/>
            <a:ext cx="792360" cy="747720"/>
          </a:xfrm>
          <a:prstGeom prst="bevel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WordArt 10"/>
          <p:cNvSpPr txBox="1"/>
          <p:nvPr/>
        </p:nvSpPr>
        <p:spPr>
          <a:xfrm>
            <a:off x="8296200" y="415800"/>
            <a:ext cx="505080" cy="2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2600" dir="0" blurRad="0" rotWithShape="0">
                    <a:srgbClr val="875b0d">
                      <a:alpha val="50000"/>
                    </a:srgbClr>
                  </a:outerShdw>
                </a:effectLst>
                <a:latin typeface="Arial"/>
              </a:rPr>
              <a:t>200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2600" dir="0" blurRad="0" rotWithShape="0">
                  <a:srgbClr val="875b0d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48" name="Text Box 11"/>
          <p:cNvSpPr/>
          <p:nvPr/>
        </p:nvSpPr>
        <p:spPr>
          <a:xfrm>
            <a:off x="7308720" y="549360"/>
            <a:ext cx="9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bbe0e3"/>
                </a:solidFill>
                <a:latin typeface="Arial"/>
              </a:rPr>
              <a:t>3 ту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Text Box 12"/>
          <p:cNvSpPr/>
          <p:nvPr/>
        </p:nvSpPr>
        <p:spPr>
          <a:xfrm>
            <a:off x="611280" y="2205000"/>
            <a:ext cx="8064360" cy="15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Певческий коллектив + </a:t>
            </a:r>
            <a:br>
              <a:rPr sz="3600"/>
            </a:b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+ Положительный ответ = </a:t>
            </a:r>
            <a:br>
              <a:rPr sz="3600"/>
            </a:b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= Отрезок в окружности</a:t>
            </a: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WordArt 14"/>
          <p:cNvSpPr txBox="1"/>
          <p:nvPr/>
        </p:nvSpPr>
        <p:spPr>
          <a:xfrm>
            <a:off x="3132000" y="4797360"/>
            <a:ext cx="439272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Хор + Да  = Хорда</a:t>
            </a:r>
            <a:endParaRPr b="1" i="1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ffff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651" name="AutoShape 15">
            <a:hlinkClick r:id="rId2" action="ppaction://hlinksldjump"/>
          </p:cNvPr>
          <p:cNvSpPr/>
          <p:nvPr/>
        </p:nvSpPr>
        <p:spPr>
          <a:xfrm>
            <a:off x="179280" y="6165720"/>
            <a:ext cx="506520" cy="503280"/>
          </a:xfrm>
          <a:custGeom>
            <a:avLst/>
            <a:gdLst>
              <a:gd name="textAreaLeft" fmla="*/ 32400 w 506520"/>
              <a:gd name="textAreaRight" fmla="*/ 474120 w 5065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1739" h="21600">
                <a:moveTo>
                  <a:pt x="0" y="0"/>
                </a:moveTo>
                <a:lnTo>
                  <a:pt x="21739" y="0"/>
                </a:lnTo>
                <a:lnTo>
                  <a:pt x="21739" y="21600"/>
                </a:lnTo>
                <a:lnTo>
                  <a:pt x="0" y="21600"/>
                </a:lnTo>
                <a:close/>
              </a:path>
              <a:path fill="lightenLess" w="21739" h="21600">
                <a:moveTo>
                  <a:pt x="0" y="0"/>
                </a:moveTo>
                <a:lnTo>
                  <a:pt x="21739" y="0"/>
                </a:lnTo>
                <a:lnTo>
                  <a:pt x="20339" y="1400"/>
                </a:lnTo>
                <a:lnTo>
                  <a:pt x="1400" y="1400"/>
                </a:lnTo>
                <a:close/>
              </a:path>
              <a:path fill="darken" w="21739" h="21600">
                <a:moveTo>
                  <a:pt x="21739" y="0"/>
                </a:moveTo>
                <a:lnTo>
                  <a:pt x="21739" y="21600"/>
                </a:lnTo>
                <a:lnTo>
                  <a:pt x="20339" y="20200"/>
                </a:lnTo>
                <a:lnTo>
                  <a:pt x="20339" y="1400"/>
                </a:lnTo>
                <a:close/>
              </a:path>
              <a:path fill="darkenLess" w="21739" h="21600">
                <a:moveTo>
                  <a:pt x="217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39" y="20200"/>
                </a:lnTo>
                <a:close/>
              </a:path>
              <a:path fill="lighten" w="217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739" h="21600">
                <a:moveTo>
                  <a:pt x="10869" y="3837"/>
                </a:moveTo>
                <a:lnTo>
                  <a:pt x="13446" y="6448"/>
                </a:lnTo>
                <a:lnTo>
                  <a:pt x="13446" y="4707"/>
                </a:lnTo>
                <a:lnTo>
                  <a:pt x="15221" y="4707"/>
                </a:lnTo>
                <a:lnTo>
                  <a:pt x="15221" y="8224"/>
                </a:lnTo>
                <a:lnTo>
                  <a:pt x="17832" y="10800"/>
                </a:lnTo>
                <a:lnTo>
                  <a:pt x="16179" y="10800"/>
                </a:lnTo>
                <a:lnTo>
                  <a:pt x="16179" y="17989"/>
                </a:lnTo>
                <a:lnTo>
                  <a:pt x="5560" y="17989"/>
                </a:lnTo>
                <a:lnTo>
                  <a:pt x="5560" y="10800"/>
                </a:lnTo>
                <a:lnTo>
                  <a:pt x="3907" y="10800"/>
                </a:lnTo>
                <a:close/>
              </a:path>
              <a:path fill="darkenLess" w="21739" h="21600">
                <a:moveTo>
                  <a:pt x="13446" y="6448"/>
                </a:moveTo>
                <a:lnTo>
                  <a:pt x="13446" y="4707"/>
                </a:lnTo>
                <a:lnTo>
                  <a:pt x="15221" y="4707"/>
                </a:lnTo>
                <a:lnTo>
                  <a:pt x="15221" y="8224"/>
                </a:lnTo>
                <a:close/>
              </a:path>
              <a:path fill="darkenLess" w="21739" h="21600">
                <a:moveTo>
                  <a:pt x="9947" y="14299"/>
                </a:moveTo>
                <a:lnTo>
                  <a:pt x="11792" y="14299"/>
                </a:lnTo>
                <a:lnTo>
                  <a:pt x="11792" y="17989"/>
                </a:lnTo>
                <a:lnTo>
                  <a:pt x="16179" y="17989"/>
                </a:lnTo>
                <a:lnTo>
                  <a:pt x="16179" y="10800"/>
                </a:lnTo>
                <a:lnTo>
                  <a:pt x="5560" y="10800"/>
                </a:lnTo>
                <a:lnTo>
                  <a:pt x="5560" y="17989"/>
                </a:lnTo>
                <a:lnTo>
                  <a:pt x="994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9" dur="indefinite" restart="never" nodeType="tmRoot">
          <p:childTnLst>
            <p:seq>
              <p:cTn id="810" dur="indefinite" nodeType="mainSeq">
                <p:childTnLst>
                  <p:par>
                    <p:cTn id="811" nodeType="clickEffect" fill="hold">
                      <p:stCondLst>
                        <p:cond delay="0"/>
                      </p:stCondLst>
                      <p:childTnLst>
                        <p:par>
                          <p:cTn id="8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5" dur="10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10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nodeType="clickEffect" fill="hold">
                      <p:stCondLst>
                        <p:cond delay="indefinite"/>
                      </p:stCondLst>
                      <p:childTnLst>
                        <p:par>
                          <p:cTn id="8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1" dur="10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10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3" dur="10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2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53" name="Rectangle 3"/>
            <p:cNvSpPr/>
            <p:nvPr/>
          </p:nvSpPr>
          <p:spPr>
            <a:xfrm>
              <a:off x="0" y="0"/>
              <a:ext cx="179280" cy="685800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Rectangle 4"/>
            <p:cNvSpPr/>
            <p:nvPr/>
          </p:nvSpPr>
          <p:spPr>
            <a:xfrm>
              <a:off x="8964720" y="0"/>
              <a:ext cx="179280" cy="685800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Rectangle 5"/>
            <p:cNvSpPr/>
            <p:nvPr/>
          </p:nvSpPr>
          <p:spPr>
            <a:xfrm rot="5400000">
              <a:off x="4478760" y="-4298040"/>
              <a:ext cx="189000" cy="878508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Rectangle 6"/>
            <p:cNvSpPr/>
            <p:nvPr/>
          </p:nvSpPr>
          <p:spPr>
            <a:xfrm rot="5400000">
              <a:off x="4478760" y="2369160"/>
              <a:ext cx="189000" cy="878508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7" name="Line 7"/>
          <p:cNvSpPr/>
          <p:nvPr/>
        </p:nvSpPr>
        <p:spPr>
          <a:xfrm>
            <a:off x="179280" y="963720"/>
            <a:ext cx="8785440" cy="0"/>
          </a:xfrm>
          <a:prstGeom prst="line">
            <a:avLst/>
          </a:prstGeom>
          <a:ln w="7632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AutoShape 9"/>
          <p:cNvSpPr/>
          <p:nvPr/>
        </p:nvSpPr>
        <p:spPr>
          <a:xfrm>
            <a:off x="8172360" y="177840"/>
            <a:ext cx="792360" cy="747720"/>
          </a:xfrm>
          <a:prstGeom prst="bevel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WordArt 10"/>
          <p:cNvSpPr txBox="1"/>
          <p:nvPr/>
        </p:nvSpPr>
        <p:spPr>
          <a:xfrm>
            <a:off x="8296200" y="415800"/>
            <a:ext cx="505080" cy="2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2600" dir="0" blurRad="0" rotWithShape="0">
                    <a:srgbClr val="875b0d">
                      <a:alpha val="50000"/>
                    </a:srgbClr>
                  </a:outerShdw>
                </a:effectLst>
                <a:latin typeface="Arial"/>
              </a:rPr>
              <a:t>300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2600" dir="0" blurRad="0" rotWithShape="0">
                  <a:srgbClr val="875b0d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60" name="Text Box 11"/>
          <p:cNvSpPr/>
          <p:nvPr/>
        </p:nvSpPr>
        <p:spPr>
          <a:xfrm>
            <a:off x="7308720" y="549360"/>
            <a:ext cx="9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bbe0e3"/>
                </a:solidFill>
                <a:latin typeface="Arial"/>
              </a:rPr>
              <a:t>3 ту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Text Box 12"/>
          <p:cNvSpPr/>
          <p:nvPr/>
        </p:nvSpPr>
        <p:spPr>
          <a:xfrm>
            <a:off x="324000" y="2060640"/>
            <a:ext cx="84978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Какими единицами массы можно расплачиваться за покупки?</a:t>
            </a: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AutoShape 15">
            <a:hlinkClick r:id="rId2" action="ppaction://hlinksldjump"/>
          </p:cNvPr>
          <p:cNvSpPr/>
          <p:nvPr/>
        </p:nvSpPr>
        <p:spPr>
          <a:xfrm>
            <a:off x="179280" y="6165720"/>
            <a:ext cx="506520" cy="503280"/>
          </a:xfrm>
          <a:custGeom>
            <a:avLst/>
            <a:gdLst>
              <a:gd name="textAreaLeft" fmla="*/ 32400 w 506520"/>
              <a:gd name="textAreaRight" fmla="*/ 474120 w 5065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1739" h="21600">
                <a:moveTo>
                  <a:pt x="0" y="0"/>
                </a:moveTo>
                <a:lnTo>
                  <a:pt x="21739" y="0"/>
                </a:lnTo>
                <a:lnTo>
                  <a:pt x="21739" y="21600"/>
                </a:lnTo>
                <a:lnTo>
                  <a:pt x="0" y="21600"/>
                </a:lnTo>
                <a:close/>
              </a:path>
              <a:path fill="lightenLess" w="21739" h="21600">
                <a:moveTo>
                  <a:pt x="0" y="0"/>
                </a:moveTo>
                <a:lnTo>
                  <a:pt x="21739" y="0"/>
                </a:lnTo>
                <a:lnTo>
                  <a:pt x="20339" y="1400"/>
                </a:lnTo>
                <a:lnTo>
                  <a:pt x="1400" y="1400"/>
                </a:lnTo>
                <a:close/>
              </a:path>
              <a:path fill="darken" w="21739" h="21600">
                <a:moveTo>
                  <a:pt x="21739" y="0"/>
                </a:moveTo>
                <a:lnTo>
                  <a:pt x="21739" y="21600"/>
                </a:lnTo>
                <a:lnTo>
                  <a:pt x="20339" y="20200"/>
                </a:lnTo>
                <a:lnTo>
                  <a:pt x="20339" y="1400"/>
                </a:lnTo>
                <a:close/>
              </a:path>
              <a:path fill="darkenLess" w="21739" h="21600">
                <a:moveTo>
                  <a:pt x="217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39" y="20200"/>
                </a:lnTo>
                <a:close/>
              </a:path>
              <a:path fill="lighten" w="217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739" h="21600">
                <a:moveTo>
                  <a:pt x="10869" y="3837"/>
                </a:moveTo>
                <a:lnTo>
                  <a:pt x="13446" y="6448"/>
                </a:lnTo>
                <a:lnTo>
                  <a:pt x="13446" y="4707"/>
                </a:lnTo>
                <a:lnTo>
                  <a:pt x="15221" y="4707"/>
                </a:lnTo>
                <a:lnTo>
                  <a:pt x="15221" y="8224"/>
                </a:lnTo>
                <a:lnTo>
                  <a:pt x="17832" y="10800"/>
                </a:lnTo>
                <a:lnTo>
                  <a:pt x="16179" y="10800"/>
                </a:lnTo>
                <a:lnTo>
                  <a:pt x="16179" y="17989"/>
                </a:lnTo>
                <a:lnTo>
                  <a:pt x="5560" y="17989"/>
                </a:lnTo>
                <a:lnTo>
                  <a:pt x="5560" y="10800"/>
                </a:lnTo>
                <a:lnTo>
                  <a:pt x="3907" y="10800"/>
                </a:lnTo>
                <a:close/>
              </a:path>
              <a:path fill="darkenLess" w="21739" h="21600">
                <a:moveTo>
                  <a:pt x="13446" y="6448"/>
                </a:moveTo>
                <a:lnTo>
                  <a:pt x="13446" y="4707"/>
                </a:lnTo>
                <a:lnTo>
                  <a:pt x="15221" y="4707"/>
                </a:lnTo>
                <a:lnTo>
                  <a:pt x="15221" y="8224"/>
                </a:lnTo>
                <a:close/>
              </a:path>
              <a:path fill="darkenLess" w="21739" h="21600">
                <a:moveTo>
                  <a:pt x="9947" y="14299"/>
                </a:moveTo>
                <a:lnTo>
                  <a:pt x="11792" y="14299"/>
                </a:lnTo>
                <a:lnTo>
                  <a:pt x="11792" y="17989"/>
                </a:lnTo>
                <a:lnTo>
                  <a:pt x="16179" y="17989"/>
                </a:lnTo>
                <a:lnTo>
                  <a:pt x="16179" y="10800"/>
                </a:lnTo>
                <a:lnTo>
                  <a:pt x="5560" y="10800"/>
                </a:lnTo>
                <a:lnTo>
                  <a:pt x="5560" y="17989"/>
                </a:lnTo>
                <a:lnTo>
                  <a:pt x="994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Rectangle 16"/>
          <p:cNvSpPr/>
          <p:nvPr/>
        </p:nvSpPr>
        <p:spPr>
          <a:xfrm>
            <a:off x="1187280" y="189000"/>
            <a:ext cx="597708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ездесущая математика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WordArt 17"/>
          <p:cNvSpPr txBox="1"/>
          <p:nvPr/>
        </p:nvSpPr>
        <p:spPr>
          <a:xfrm>
            <a:off x="3059280" y="4653000"/>
            <a:ext cx="30240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Фунтами</a:t>
            </a:r>
            <a:endParaRPr b="1" i="1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ffff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4" dur="indefinite" restart="never" nodeType="tmRoot">
          <p:childTnLst>
            <p:seq>
              <p:cTn id="825" dur="indefinite" nodeType="mainSeq">
                <p:childTnLst>
                  <p:par>
                    <p:cTn id="826" nodeType="clickEffect" fill="hold">
                      <p:stCondLst>
                        <p:cond delay="0"/>
                      </p:stCondLst>
                      <p:childTnLst>
                        <p:par>
                          <p:cTn id="8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0" dur="1000" fill="hold"/>
                                        <p:tgtEl>
                                          <p:spTgt spid="6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1000" fill="hold"/>
                                        <p:tgtEl>
                                          <p:spTgt spid="6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nodeType="clickEffect" fill="hold">
                      <p:stCondLst>
                        <p:cond delay="indefinite"/>
                      </p:stCondLst>
                      <p:childTnLst>
                        <p:par>
                          <p:cTn id="8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6" dur="10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10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8" dur="10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5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66" name="Rectangle 3"/>
            <p:cNvSpPr/>
            <p:nvPr/>
          </p:nvSpPr>
          <p:spPr>
            <a:xfrm>
              <a:off x="0" y="0"/>
              <a:ext cx="179280" cy="685800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Rectangle 4"/>
            <p:cNvSpPr/>
            <p:nvPr/>
          </p:nvSpPr>
          <p:spPr>
            <a:xfrm>
              <a:off x="8964720" y="0"/>
              <a:ext cx="179280" cy="685800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Rectangle 5"/>
            <p:cNvSpPr/>
            <p:nvPr/>
          </p:nvSpPr>
          <p:spPr>
            <a:xfrm rot="5400000">
              <a:off x="4478760" y="-4298040"/>
              <a:ext cx="189000" cy="878508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Rectangle 6"/>
            <p:cNvSpPr/>
            <p:nvPr/>
          </p:nvSpPr>
          <p:spPr>
            <a:xfrm rot="5400000">
              <a:off x="4478760" y="2369160"/>
              <a:ext cx="189000" cy="878508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0" name="Line 7"/>
          <p:cNvSpPr/>
          <p:nvPr/>
        </p:nvSpPr>
        <p:spPr>
          <a:xfrm>
            <a:off x="179280" y="963720"/>
            <a:ext cx="8785440" cy="0"/>
          </a:xfrm>
          <a:prstGeom prst="line">
            <a:avLst/>
          </a:prstGeom>
          <a:ln w="7632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Rectangle 15"/>
          <p:cNvSpPr/>
          <p:nvPr/>
        </p:nvSpPr>
        <p:spPr>
          <a:xfrm>
            <a:off x="1187280" y="260280"/>
            <a:ext cx="662472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«Расшифровка» 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Rectangle 16"/>
          <p:cNvSpPr/>
          <p:nvPr/>
        </p:nvSpPr>
        <p:spPr>
          <a:xfrm>
            <a:off x="528120" y="2038320"/>
            <a:ext cx="814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ПО </a:t>
            </a: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2 </a:t>
            </a: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 Л;      ТУ  </a:t>
            </a: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3,14</a:t>
            </a: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  ЦА;        </a:t>
            </a: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80:2</a:t>
            </a: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  А</a:t>
            </a: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AutoShape 32">
            <a:hlinkClick r:id="" action="ppaction://hlinkshowjump?jump=nextslide"/>
          </p:cNvPr>
          <p:cNvSpPr/>
          <p:nvPr/>
        </p:nvSpPr>
        <p:spPr>
          <a:xfrm>
            <a:off x="8459640" y="6270480"/>
            <a:ext cx="540000" cy="405000"/>
          </a:xfrm>
          <a:custGeom>
            <a:avLst/>
            <a:gdLst>
              <a:gd name="textAreaLeft" fmla="*/ 25920 w 540000"/>
              <a:gd name="textAreaRight" fmla="*/ 514080 w 54000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28794" h="21600">
                <a:moveTo>
                  <a:pt x="0" y="0"/>
                </a:moveTo>
                <a:lnTo>
                  <a:pt x="28794" y="0"/>
                </a:lnTo>
                <a:lnTo>
                  <a:pt x="28794" y="21600"/>
                </a:lnTo>
                <a:lnTo>
                  <a:pt x="0" y="21600"/>
                </a:lnTo>
                <a:close/>
              </a:path>
              <a:path fill="lightenLess" w="28794" h="21600">
                <a:moveTo>
                  <a:pt x="0" y="0"/>
                </a:moveTo>
                <a:lnTo>
                  <a:pt x="28794" y="0"/>
                </a:lnTo>
                <a:lnTo>
                  <a:pt x="27394" y="1400"/>
                </a:lnTo>
                <a:lnTo>
                  <a:pt x="1400" y="1400"/>
                </a:lnTo>
                <a:close/>
              </a:path>
              <a:path fill="darken" w="28794" h="21600">
                <a:moveTo>
                  <a:pt x="28794" y="0"/>
                </a:moveTo>
                <a:lnTo>
                  <a:pt x="28794" y="21600"/>
                </a:lnTo>
                <a:lnTo>
                  <a:pt x="27394" y="20200"/>
                </a:lnTo>
                <a:lnTo>
                  <a:pt x="27394" y="1400"/>
                </a:lnTo>
                <a:close/>
              </a:path>
              <a:path fill="darkenLess" w="28794" h="21600">
                <a:moveTo>
                  <a:pt x="287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4" y="20200"/>
                </a:lnTo>
                <a:close/>
              </a:path>
              <a:path fill="lighten" w="287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94" h="21600">
                <a:moveTo>
                  <a:pt x="7390" y="3794"/>
                </a:moveTo>
                <a:lnTo>
                  <a:pt x="21403" y="10800"/>
                </a:lnTo>
                <a:lnTo>
                  <a:pt x="739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WordArt 33"/>
          <p:cNvSpPr txBox="1"/>
          <p:nvPr/>
        </p:nvSpPr>
        <p:spPr>
          <a:xfrm>
            <a:off x="395280" y="3500280"/>
            <a:ext cx="201600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по два л</a:t>
            </a:r>
            <a:endParaRPr b="1" i="1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ffff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675" name="WordArt 34"/>
          <p:cNvSpPr txBox="1"/>
          <p:nvPr/>
        </p:nvSpPr>
        <p:spPr>
          <a:xfrm>
            <a:off x="3419640" y="3573360"/>
            <a:ext cx="230472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ту пи ца</a:t>
            </a:r>
            <a:endParaRPr b="1" i="1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ffff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676" name="WordArt 35"/>
          <p:cNvSpPr txBox="1"/>
          <p:nvPr/>
        </p:nvSpPr>
        <p:spPr>
          <a:xfrm>
            <a:off x="6659640" y="3500280"/>
            <a:ext cx="180000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сорок а</a:t>
            </a:r>
            <a:endParaRPr b="1" i="1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ffff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9" dur="indefinite" restart="never" nodeType="tmRoot">
          <p:childTnLst>
            <p:seq>
              <p:cTn id="840" dur="indefinite" nodeType="mainSeq">
                <p:childTnLst>
                  <p:par>
                    <p:cTn id="841" nodeType="clickEffect" fill="hold">
                      <p:stCondLst>
                        <p:cond delay="indefinite"/>
                      </p:stCondLst>
                      <p:childTnLst>
                        <p:par>
                          <p:cTn id="8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5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nodeType="clickEffect" fill="hold">
                      <p:stCondLst>
                        <p:cond delay="indefinite"/>
                      </p:stCondLst>
                      <p:childTnLst>
                        <p:par>
                          <p:cTn id="8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1" dur="10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10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3" dur="10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nodeType="clickEffect" fill="hold">
                      <p:stCondLst>
                        <p:cond delay="indefinite"/>
                      </p:stCondLst>
                      <p:childTnLst>
                        <p:par>
                          <p:cTn id="8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8" dur="10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10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0" dur="10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nodeType="clickEffect" fill="hold">
                      <p:stCondLst>
                        <p:cond delay="indefinite"/>
                      </p:stCondLst>
                      <p:childTnLst>
                        <p:par>
                          <p:cTn id="8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5" dur="10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10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7" dur="10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7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78" name="Rectangle 3"/>
            <p:cNvSpPr/>
            <p:nvPr/>
          </p:nvSpPr>
          <p:spPr>
            <a:xfrm>
              <a:off x="0" y="0"/>
              <a:ext cx="179280" cy="685800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Rectangle 4"/>
            <p:cNvSpPr/>
            <p:nvPr/>
          </p:nvSpPr>
          <p:spPr>
            <a:xfrm>
              <a:off x="8964720" y="0"/>
              <a:ext cx="179280" cy="685800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Rectangle 5"/>
            <p:cNvSpPr/>
            <p:nvPr/>
          </p:nvSpPr>
          <p:spPr>
            <a:xfrm rot="5400000">
              <a:off x="4478760" y="-4298040"/>
              <a:ext cx="189000" cy="878508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Rectangle 6"/>
            <p:cNvSpPr/>
            <p:nvPr/>
          </p:nvSpPr>
          <p:spPr>
            <a:xfrm rot="5400000">
              <a:off x="4478760" y="2369160"/>
              <a:ext cx="189000" cy="878508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2" name="Rectangle 7"/>
          <p:cNvSpPr/>
          <p:nvPr/>
        </p:nvSpPr>
        <p:spPr>
          <a:xfrm>
            <a:off x="1042920" y="162000"/>
            <a:ext cx="77770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Своя игра</a:t>
            </a: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                    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Фина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Line 8"/>
          <p:cNvSpPr/>
          <p:nvPr/>
        </p:nvSpPr>
        <p:spPr>
          <a:xfrm>
            <a:off x="179280" y="836640"/>
            <a:ext cx="8785440" cy="0"/>
          </a:xfrm>
          <a:prstGeom prst="line">
            <a:avLst/>
          </a:prstGeom>
          <a:ln w="7632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AutoShape 10"/>
          <p:cNvSpPr/>
          <p:nvPr/>
        </p:nvSpPr>
        <p:spPr>
          <a:xfrm>
            <a:off x="395280" y="3789360"/>
            <a:ext cx="4032360" cy="936720"/>
          </a:xfrm>
          <a:prstGeom prst="bevel">
            <a:avLst>
              <a:gd name="adj" fmla="val 12500"/>
            </a:avLst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AutoShape 11"/>
          <p:cNvSpPr/>
          <p:nvPr/>
        </p:nvSpPr>
        <p:spPr>
          <a:xfrm>
            <a:off x="395280" y="2852640"/>
            <a:ext cx="4032360" cy="936720"/>
          </a:xfrm>
          <a:prstGeom prst="bevel">
            <a:avLst>
              <a:gd name="adj" fmla="val 12500"/>
            </a:avLst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AutoShape 12"/>
          <p:cNvSpPr/>
          <p:nvPr/>
        </p:nvSpPr>
        <p:spPr>
          <a:xfrm>
            <a:off x="395280" y="1989000"/>
            <a:ext cx="4032360" cy="936720"/>
          </a:xfrm>
          <a:prstGeom prst="bevel">
            <a:avLst>
              <a:gd name="adj" fmla="val 12500"/>
            </a:avLst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AutoShape 14">
            <a:hlinkClick r:id="rId1" action="ppaction://hlinksldjump"/>
          </p:cNvPr>
          <p:cNvSpPr/>
          <p:nvPr/>
        </p:nvSpPr>
        <p:spPr>
          <a:xfrm>
            <a:off x="4440240" y="3789360"/>
            <a:ext cx="1428840" cy="936720"/>
          </a:xfrm>
          <a:prstGeom prst="bevel">
            <a:avLst>
              <a:gd name="adj" fmla="val 12500"/>
            </a:avLst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9999"/>
                </a:solidFill>
                <a:uFillTx/>
                <a:latin typeface="Garamond"/>
                <a:hlinkClick r:id="rId2" action="ppaction://hlinksldjump"/>
              </a:rPr>
              <a:t>1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AutoShape 15">
            <a:hlinkClick r:id="rId3" action="ppaction://hlinksldjump"/>
          </p:cNvPr>
          <p:cNvSpPr/>
          <p:nvPr/>
        </p:nvSpPr>
        <p:spPr>
          <a:xfrm>
            <a:off x="4427640" y="2852640"/>
            <a:ext cx="1428480" cy="936720"/>
          </a:xfrm>
          <a:prstGeom prst="bevel">
            <a:avLst>
              <a:gd name="adj" fmla="val 12500"/>
            </a:avLst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9999"/>
                </a:solidFill>
                <a:uFillTx/>
                <a:latin typeface="Garamond"/>
                <a:hlinkClick r:id="rId4" action="ppaction://hlinksldjump"/>
              </a:rPr>
              <a:t>1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AutoShape 16">
            <a:hlinkClick r:id="rId5" action="ppaction://hlinksldjump"/>
          </p:cNvPr>
          <p:cNvSpPr/>
          <p:nvPr/>
        </p:nvSpPr>
        <p:spPr>
          <a:xfrm>
            <a:off x="4427640" y="1989000"/>
            <a:ext cx="1428480" cy="936720"/>
          </a:xfrm>
          <a:prstGeom prst="bevel">
            <a:avLst>
              <a:gd name="adj" fmla="val 12500"/>
            </a:avLst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9999"/>
                </a:solidFill>
                <a:uFillTx/>
                <a:latin typeface="Garamond"/>
                <a:hlinkClick r:id="rId6" action="ppaction://hlinksldjump"/>
              </a:rPr>
              <a:t>1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AutoShape 18">
            <a:hlinkClick r:id="rId7" action="ppaction://hlinksldjump"/>
          </p:cNvPr>
          <p:cNvSpPr/>
          <p:nvPr/>
        </p:nvSpPr>
        <p:spPr>
          <a:xfrm>
            <a:off x="7318440" y="3789360"/>
            <a:ext cx="1301760" cy="936720"/>
          </a:xfrm>
          <a:prstGeom prst="bevel">
            <a:avLst>
              <a:gd name="adj" fmla="val 12500"/>
            </a:avLst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9999"/>
                </a:solidFill>
                <a:uFillTx/>
                <a:latin typeface="Garamond"/>
                <a:hlinkClick r:id="rId8" action="ppaction://hlinksldjump"/>
              </a:rPr>
              <a:t>3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AutoShape 19">
            <a:hlinkClick r:id="rId9" action="ppaction://hlinksldjump"/>
          </p:cNvPr>
          <p:cNvSpPr/>
          <p:nvPr/>
        </p:nvSpPr>
        <p:spPr>
          <a:xfrm>
            <a:off x="7307280" y="2852640"/>
            <a:ext cx="1314360" cy="936720"/>
          </a:xfrm>
          <a:prstGeom prst="bevel">
            <a:avLst>
              <a:gd name="adj" fmla="val 12500"/>
            </a:avLst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9999"/>
                </a:solidFill>
                <a:uFillTx/>
                <a:latin typeface="Garamond"/>
                <a:hlinkClick r:id="rId10" action="ppaction://hlinksldjump"/>
              </a:rPr>
              <a:t>3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AutoShape 20"/>
          <p:cNvSpPr/>
          <p:nvPr/>
        </p:nvSpPr>
        <p:spPr>
          <a:xfrm>
            <a:off x="7318440" y="1989000"/>
            <a:ext cx="1301760" cy="936720"/>
          </a:xfrm>
          <a:prstGeom prst="bevel">
            <a:avLst>
              <a:gd name="adj" fmla="val 12500"/>
            </a:avLst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9999"/>
                </a:solidFill>
                <a:uFillTx/>
                <a:latin typeface="Garamond"/>
                <a:hlinkClick r:id="rId11" action="ppaction://hlinksldjump"/>
              </a:rPr>
              <a:t>3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AutoShape 22"/>
          <p:cNvSpPr/>
          <p:nvPr/>
        </p:nvSpPr>
        <p:spPr>
          <a:xfrm>
            <a:off x="5867280" y="3789360"/>
            <a:ext cx="1428840" cy="936720"/>
          </a:xfrm>
          <a:prstGeom prst="bevel">
            <a:avLst>
              <a:gd name="adj" fmla="val 12500"/>
            </a:avLst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aramond"/>
              </a:rPr>
              <a:t>2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AutoShape 23"/>
          <p:cNvSpPr/>
          <p:nvPr/>
        </p:nvSpPr>
        <p:spPr>
          <a:xfrm>
            <a:off x="5867280" y="2852640"/>
            <a:ext cx="1428840" cy="936720"/>
          </a:xfrm>
          <a:prstGeom prst="bevel">
            <a:avLst>
              <a:gd name="adj" fmla="val 12500"/>
            </a:avLst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aramond"/>
              </a:rPr>
              <a:t>2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AutoShape 24"/>
          <p:cNvSpPr/>
          <p:nvPr/>
        </p:nvSpPr>
        <p:spPr>
          <a:xfrm>
            <a:off x="5880240" y="1989000"/>
            <a:ext cx="1428480" cy="936720"/>
          </a:xfrm>
          <a:prstGeom prst="bevel">
            <a:avLst>
              <a:gd name="adj" fmla="val 12500"/>
            </a:avLst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aramond"/>
              </a:rPr>
              <a:t>2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Text Box 25"/>
          <p:cNvSpPr/>
          <p:nvPr/>
        </p:nvSpPr>
        <p:spPr>
          <a:xfrm>
            <a:off x="466560" y="2205000"/>
            <a:ext cx="3816360" cy="45972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ловесное слож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Text Box 26"/>
          <p:cNvSpPr/>
          <p:nvPr/>
        </p:nvSpPr>
        <p:spPr>
          <a:xfrm>
            <a:off x="466560" y="2997360"/>
            <a:ext cx="3816360" cy="45972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атематика в лиц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Text Box 28"/>
          <p:cNvSpPr/>
          <p:nvPr/>
        </p:nvSpPr>
        <p:spPr>
          <a:xfrm>
            <a:off x="552600" y="4003560"/>
            <a:ext cx="3744720" cy="45972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дним словом - фраз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AutoShape 29"/>
          <p:cNvSpPr/>
          <p:nvPr/>
        </p:nvSpPr>
        <p:spPr>
          <a:xfrm rot="10800000">
            <a:off x="8566200" y="6270120"/>
            <a:ext cx="395280" cy="405000"/>
          </a:xfrm>
          <a:custGeom>
            <a:avLst/>
            <a:gdLst>
              <a:gd name="textAreaLeft" fmla="*/ 25560 w 395280"/>
              <a:gd name="textAreaRight" fmla="*/ 369720 w 395280"/>
              <a:gd name="textAreaTop" fmla="*/ 25560 h 405000"/>
              <a:gd name="textAreaBottom" fmla="*/ 379440 h 405000"/>
            </a:gdLst>
            <a:ahLst/>
            <a:rect l="textAreaLeft" t="textAreaTop" r="textAreaRight" b="textAreaBottom"/>
            <a:pathLst>
              <a:path w="21600" h="22131">
                <a:moveTo>
                  <a:pt x="0" y="0"/>
                </a:moveTo>
                <a:lnTo>
                  <a:pt x="21600" y="0"/>
                </a:lnTo>
                <a:lnTo>
                  <a:pt x="21600" y="22131"/>
                </a:lnTo>
                <a:lnTo>
                  <a:pt x="0" y="22131"/>
                </a:lnTo>
                <a:close/>
              </a:path>
              <a:path fill="lightenLess" w="21600" h="221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131">
                <a:moveTo>
                  <a:pt x="21600" y="0"/>
                </a:moveTo>
                <a:lnTo>
                  <a:pt x="21600" y="22131"/>
                </a:lnTo>
                <a:lnTo>
                  <a:pt x="20200" y="20731"/>
                </a:lnTo>
                <a:lnTo>
                  <a:pt x="20200" y="1400"/>
                </a:lnTo>
                <a:close/>
              </a:path>
              <a:path fill="darkenLess" w="21600" h="22131">
                <a:moveTo>
                  <a:pt x="21600" y="22131"/>
                </a:moveTo>
                <a:lnTo>
                  <a:pt x="0" y="22131"/>
                </a:lnTo>
                <a:lnTo>
                  <a:pt x="1400" y="20731"/>
                </a:lnTo>
                <a:lnTo>
                  <a:pt x="20200" y="20731"/>
                </a:lnTo>
                <a:close/>
              </a:path>
              <a:path fill="lighten" w="21600" h="22131">
                <a:moveTo>
                  <a:pt x="0" y="221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0731"/>
                </a:lnTo>
                <a:close/>
              </a:path>
              <a:path fill="darken" w="21600" h="22131">
                <a:moveTo>
                  <a:pt x="3794" y="7758"/>
                </a:moveTo>
                <a:lnTo>
                  <a:pt x="7301" y="7758"/>
                </a:lnTo>
                <a:lnTo>
                  <a:pt x="7301" y="13093"/>
                </a:lnTo>
                <a:cubicBezTo>
                  <a:pt x="7301" y="14016"/>
                  <a:pt x="8102" y="14747"/>
                  <a:pt x="9138" y="14747"/>
                </a:cubicBezTo>
                <a:lnTo>
                  <a:pt x="10800" y="14747"/>
                </a:lnTo>
                <a:cubicBezTo>
                  <a:pt x="11836" y="14747"/>
                  <a:pt x="12636" y="14016"/>
                  <a:pt x="12636" y="13093"/>
                </a:cubicBezTo>
                <a:lnTo>
                  <a:pt x="12636" y="7758"/>
                </a:lnTo>
                <a:lnTo>
                  <a:pt x="10800" y="7758"/>
                </a:lnTo>
                <a:lnTo>
                  <a:pt x="14308" y="4250"/>
                </a:lnTo>
                <a:lnTo>
                  <a:pt x="17981" y="7758"/>
                </a:lnTo>
                <a:lnTo>
                  <a:pt x="16144" y="7758"/>
                </a:lnTo>
                <a:lnTo>
                  <a:pt x="16144" y="13093"/>
                </a:lnTo>
                <a:cubicBezTo>
                  <a:pt x="16144" y="15861"/>
                  <a:pt x="13568" y="18420"/>
                  <a:pt x="10800" y="18420"/>
                </a:cubicBezTo>
                <a:lnTo>
                  <a:pt x="9138" y="18420"/>
                </a:lnTo>
                <a:cubicBezTo>
                  <a:pt x="6370" y="18420"/>
                  <a:pt x="3794" y="15861"/>
                  <a:pt x="3794" y="13093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701" name="Rectangle 3"/>
            <p:cNvSpPr/>
            <p:nvPr/>
          </p:nvSpPr>
          <p:spPr>
            <a:xfrm>
              <a:off x="0" y="0"/>
              <a:ext cx="179280" cy="685800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Rectangle 4"/>
            <p:cNvSpPr/>
            <p:nvPr/>
          </p:nvSpPr>
          <p:spPr>
            <a:xfrm>
              <a:off x="8964720" y="0"/>
              <a:ext cx="179280" cy="685800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Rectangle 5"/>
            <p:cNvSpPr/>
            <p:nvPr/>
          </p:nvSpPr>
          <p:spPr>
            <a:xfrm rot="5400000">
              <a:off x="4478760" y="-4298040"/>
              <a:ext cx="189000" cy="878508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Rectangle 6"/>
            <p:cNvSpPr/>
            <p:nvPr/>
          </p:nvSpPr>
          <p:spPr>
            <a:xfrm rot="5400000">
              <a:off x="4478760" y="2369160"/>
              <a:ext cx="189000" cy="878508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5" name="Line 7"/>
          <p:cNvSpPr/>
          <p:nvPr/>
        </p:nvSpPr>
        <p:spPr>
          <a:xfrm>
            <a:off x="179280" y="963720"/>
            <a:ext cx="8785440" cy="0"/>
          </a:xfrm>
          <a:prstGeom prst="line">
            <a:avLst/>
          </a:prstGeom>
          <a:ln w="7632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Rectangle 8"/>
          <p:cNvSpPr/>
          <p:nvPr/>
        </p:nvSpPr>
        <p:spPr>
          <a:xfrm>
            <a:off x="971640" y="189000"/>
            <a:ext cx="619272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ловесное сложение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AutoShape 9"/>
          <p:cNvSpPr/>
          <p:nvPr/>
        </p:nvSpPr>
        <p:spPr>
          <a:xfrm>
            <a:off x="8172360" y="177840"/>
            <a:ext cx="792360" cy="747720"/>
          </a:xfrm>
          <a:prstGeom prst="bevel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WordArt 10"/>
          <p:cNvSpPr txBox="1"/>
          <p:nvPr/>
        </p:nvSpPr>
        <p:spPr>
          <a:xfrm>
            <a:off x="8296200" y="415800"/>
            <a:ext cx="505080" cy="2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2600" dir="0" blurRad="0" rotWithShape="0">
                    <a:srgbClr val="875b0d">
                      <a:alpha val="50000"/>
                    </a:srgbClr>
                  </a:outerShdw>
                </a:effectLst>
                <a:latin typeface="Arial"/>
              </a:rPr>
              <a:t>100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2600" dir="0" blurRad="0" rotWithShape="0">
                  <a:srgbClr val="875b0d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09" name="Text Box 11"/>
          <p:cNvSpPr/>
          <p:nvPr/>
        </p:nvSpPr>
        <p:spPr>
          <a:xfrm>
            <a:off x="7093080" y="54936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bbe0e3"/>
                </a:solidFill>
                <a:latin typeface="Arial"/>
              </a:rPr>
              <a:t>фина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Text Box 12"/>
          <p:cNvSpPr/>
          <p:nvPr/>
        </p:nvSpPr>
        <p:spPr>
          <a:xfrm>
            <a:off x="611280" y="2205000"/>
            <a:ext cx="806436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Нота + Множество деревьев =</a:t>
            </a:r>
            <a:br>
              <a:rPr sz="3600"/>
            </a:b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 = Древнегреческий математик</a:t>
            </a: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AutoShape 13"/>
          <p:cNvSpPr/>
          <p:nvPr/>
        </p:nvSpPr>
        <p:spPr>
          <a:xfrm>
            <a:off x="179280" y="6165720"/>
            <a:ext cx="506520" cy="503280"/>
          </a:xfrm>
          <a:custGeom>
            <a:avLst/>
            <a:gdLst>
              <a:gd name="textAreaLeft" fmla="*/ 32400 w 506520"/>
              <a:gd name="textAreaRight" fmla="*/ 474120 w 5065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1739" h="21600">
                <a:moveTo>
                  <a:pt x="0" y="0"/>
                </a:moveTo>
                <a:lnTo>
                  <a:pt x="21739" y="0"/>
                </a:lnTo>
                <a:lnTo>
                  <a:pt x="21739" y="21600"/>
                </a:lnTo>
                <a:lnTo>
                  <a:pt x="0" y="21600"/>
                </a:lnTo>
                <a:close/>
              </a:path>
              <a:path fill="lightenLess" w="21739" h="21600">
                <a:moveTo>
                  <a:pt x="0" y="0"/>
                </a:moveTo>
                <a:lnTo>
                  <a:pt x="21739" y="0"/>
                </a:lnTo>
                <a:lnTo>
                  <a:pt x="20339" y="1400"/>
                </a:lnTo>
                <a:lnTo>
                  <a:pt x="1400" y="1400"/>
                </a:lnTo>
                <a:close/>
              </a:path>
              <a:path fill="darken" w="21739" h="21600">
                <a:moveTo>
                  <a:pt x="21739" y="0"/>
                </a:moveTo>
                <a:lnTo>
                  <a:pt x="21739" y="21600"/>
                </a:lnTo>
                <a:lnTo>
                  <a:pt x="20339" y="20200"/>
                </a:lnTo>
                <a:lnTo>
                  <a:pt x="20339" y="1400"/>
                </a:lnTo>
                <a:close/>
              </a:path>
              <a:path fill="darkenLess" w="21739" h="21600">
                <a:moveTo>
                  <a:pt x="217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39" y="20200"/>
                </a:lnTo>
                <a:close/>
              </a:path>
              <a:path fill="lighten" w="217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739" h="21600">
                <a:moveTo>
                  <a:pt x="10869" y="3837"/>
                </a:moveTo>
                <a:lnTo>
                  <a:pt x="13446" y="6448"/>
                </a:lnTo>
                <a:lnTo>
                  <a:pt x="13446" y="4707"/>
                </a:lnTo>
                <a:lnTo>
                  <a:pt x="15221" y="4707"/>
                </a:lnTo>
                <a:lnTo>
                  <a:pt x="15221" y="8224"/>
                </a:lnTo>
                <a:lnTo>
                  <a:pt x="17832" y="10800"/>
                </a:lnTo>
                <a:lnTo>
                  <a:pt x="16179" y="10800"/>
                </a:lnTo>
                <a:lnTo>
                  <a:pt x="16179" y="17989"/>
                </a:lnTo>
                <a:lnTo>
                  <a:pt x="5560" y="17989"/>
                </a:lnTo>
                <a:lnTo>
                  <a:pt x="5560" y="10800"/>
                </a:lnTo>
                <a:lnTo>
                  <a:pt x="3907" y="10800"/>
                </a:lnTo>
                <a:close/>
              </a:path>
              <a:path fill="darkenLess" w="21739" h="21600">
                <a:moveTo>
                  <a:pt x="13446" y="6448"/>
                </a:moveTo>
                <a:lnTo>
                  <a:pt x="13446" y="4707"/>
                </a:lnTo>
                <a:lnTo>
                  <a:pt x="15221" y="4707"/>
                </a:lnTo>
                <a:lnTo>
                  <a:pt x="15221" y="8224"/>
                </a:lnTo>
                <a:close/>
              </a:path>
              <a:path fill="darkenLess" w="21739" h="21600">
                <a:moveTo>
                  <a:pt x="9947" y="14299"/>
                </a:moveTo>
                <a:lnTo>
                  <a:pt x="11792" y="14299"/>
                </a:lnTo>
                <a:lnTo>
                  <a:pt x="11792" y="17989"/>
                </a:lnTo>
                <a:lnTo>
                  <a:pt x="16179" y="17989"/>
                </a:lnTo>
                <a:lnTo>
                  <a:pt x="16179" y="10800"/>
                </a:lnTo>
                <a:lnTo>
                  <a:pt x="5560" y="10800"/>
                </a:lnTo>
                <a:lnTo>
                  <a:pt x="5560" y="17989"/>
                </a:lnTo>
                <a:lnTo>
                  <a:pt x="994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WordArt 14"/>
          <p:cNvSpPr txBox="1"/>
          <p:nvPr/>
        </p:nvSpPr>
        <p:spPr>
          <a:xfrm>
            <a:off x="2771640" y="4941720"/>
            <a:ext cx="388800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Фа - Лес = Фалес</a:t>
            </a:r>
            <a:endParaRPr b="1" i="1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ffff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8" dur="indefinite" restart="never" nodeType="tmRoot">
          <p:childTnLst>
            <p:seq>
              <p:cTn id="869" dur="indefinite" nodeType="mainSeq">
                <p:childTnLst>
                  <p:par>
                    <p:cTn id="870" nodeType="clickEffect" fill="hold">
                      <p:stCondLst>
                        <p:cond delay="0"/>
                      </p:stCondLst>
                      <p:childTnLst>
                        <p:par>
                          <p:cTn id="8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4" dur="10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10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nodeType="clickEffect" fill="hold">
                      <p:stCondLst>
                        <p:cond delay="indefinite"/>
                      </p:stCondLst>
                      <p:childTnLst>
                        <p:par>
                          <p:cTn id="8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0" dur="10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10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2" dur="10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82" name="Rectangle 3"/>
            <p:cNvSpPr/>
            <p:nvPr/>
          </p:nvSpPr>
          <p:spPr>
            <a:xfrm>
              <a:off x="0" y="0"/>
              <a:ext cx="179280" cy="685800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Rectangle 4"/>
            <p:cNvSpPr/>
            <p:nvPr/>
          </p:nvSpPr>
          <p:spPr>
            <a:xfrm>
              <a:off x="8964720" y="0"/>
              <a:ext cx="179280" cy="685800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ectangle 5"/>
            <p:cNvSpPr/>
            <p:nvPr/>
          </p:nvSpPr>
          <p:spPr>
            <a:xfrm rot="5400000">
              <a:off x="4478760" y="-4298040"/>
              <a:ext cx="189000" cy="878508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Rectangle 6"/>
            <p:cNvSpPr/>
            <p:nvPr/>
          </p:nvSpPr>
          <p:spPr>
            <a:xfrm rot="5400000">
              <a:off x="4478760" y="2369160"/>
              <a:ext cx="189000" cy="878508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Line 8"/>
          <p:cNvSpPr/>
          <p:nvPr/>
        </p:nvSpPr>
        <p:spPr>
          <a:xfrm>
            <a:off x="179280" y="803160"/>
            <a:ext cx="8785440" cy="0"/>
          </a:xfrm>
          <a:prstGeom prst="line">
            <a:avLst/>
          </a:prstGeom>
          <a:ln w="7632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395280" y="1773360"/>
            <a:ext cx="84978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Какой из четырёхугольнико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не является параллелограммо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)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вадрат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)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омб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рямоугольник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)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рапец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11">
            <a:hlinkClick r:id="rId1" action="ppaction://hlinksldjump"/>
          </p:cNvPr>
          <p:cNvSpPr/>
          <p:nvPr/>
        </p:nvSpPr>
        <p:spPr>
          <a:xfrm>
            <a:off x="179280" y="189000"/>
            <a:ext cx="505080" cy="576000"/>
          </a:xfrm>
          <a:custGeom>
            <a:avLst/>
            <a:gdLst>
              <a:gd name="textAreaLeft" fmla="*/ 32760 w 505080"/>
              <a:gd name="textAreaRight" fmla="*/ 472680 w 505080"/>
              <a:gd name="textAreaTop" fmla="*/ 32400 h 576000"/>
              <a:gd name="textAreaBottom" fmla="*/ 543600 h 576000"/>
            </a:gdLst>
            <a:ahLst/>
            <a:rect l="textAreaLeft" t="textAreaTop" r="textAreaRight" b="textAreaBottom"/>
            <a:pathLst>
              <a:path w="21600" h="24631">
                <a:moveTo>
                  <a:pt x="0" y="0"/>
                </a:moveTo>
                <a:lnTo>
                  <a:pt x="21600" y="0"/>
                </a:lnTo>
                <a:lnTo>
                  <a:pt x="21600" y="24631"/>
                </a:lnTo>
                <a:lnTo>
                  <a:pt x="0" y="24631"/>
                </a:lnTo>
                <a:close/>
              </a:path>
              <a:path fill="lightenLess" w="21600" h="246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31">
                <a:moveTo>
                  <a:pt x="21600" y="0"/>
                </a:moveTo>
                <a:lnTo>
                  <a:pt x="21600" y="24631"/>
                </a:lnTo>
                <a:lnTo>
                  <a:pt x="20200" y="23231"/>
                </a:lnTo>
                <a:lnTo>
                  <a:pt x="20200" y="1400"/>
                </a:lnTo>
                <a:close/>
              </a:path>
              <a:path fill="darkenLess" w="21600" h="24631">
                <a:moveTo>
                  <a:pt x="21600" y="24631"/>
                </a:moveTo>
                <a:lnTo>
                  <a:pt x="0" y="24631"/>
                </a:lnTo>
                <a:lnTo>
                  <a:pt x="1400" y="23231"/>
                </a:lnTo>
                <a:lnTo>
                  <a:pt x="20200" y="23231"/>
                </a:lnTo>
                <a:close/>
              </a:path>
              <a:path fill="lighten" w="21600" h="24631">
                <a:moveTo>
                  <a:pt x="0" y="246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31"/>
                </a:lnTo>
                <a:close/>
              </a:path>
              <a:path fill="darken" w="21600" h="24631">
                <a:moveTo>
                  <a:pt x="10800" y="5352"/>
                </a:moveTo>
                <a:lnTo>
                  <a:pt x="13376" y="7964"/>
                </a:lnTo>
                <a:lnTo>
                  <a:pt x="13376" y="6223"/>
                </a:lnTo>
                <a:lnTo>
                  <a:pt x="15152" y="6223"/>
                </a:lnTo>
                <a:lnTo>
                  <a:pt x="15152" y="9739"/>
                </a:lnTo>
                <a:lnTo>
                  <a:pt x="17763" y="12315"/>
                </a:lnTo>
                <a:lnTo>
                  <a:pt x="16109" y="12315"/>
                </a:lnTo>
                <a:lnTo>
                  <a:pt x="16109" y="19505"/>
                </a:lnTo>
                <a:lnTo>
                  <a:pt x="5491" y="19505"/>
                </a:lnTo>
                <a:lnTo>
                  <a:pt x="5491" y="12315"/>
                </a:lnTo>
                <a:lnTo>
                  <a:pt x="3837" y="12315"/>
                </a:lnTo>
                <a:close/>
              </a:path>
              <a:path fill="darkenLess" w="21600" h="24631">
                <a:moveTo>
                  <a:pt x="13376" y="7964"/>
                </a:moveTo>
                <a:lnTo>
                  <a:pt x="13376" y="6223"/>
                </a:lnTo>
                <a:lnTo>
                  <a:pt x="15152" y="6223"/>
                </a:lnTo>
                <a:lnTo>
                  <a:pt x="15152" y="9739"/>
                </a:lnTo>
                <a:close/>
              </a:path>
              <a:path fill="darkenLess" w="21600" h="24631">
                <a:moveTo>
                  <a:pt x="9877" y="15814"/>
                </a:moveTo>
                <a:lnTo>
                  <a:pt x="11723" y="15814"/>
                </a:lnTo>
                <a:lnTo>
                  <a:pt x="11723" y="19505"/>
                </a:lnTo>
                <a:lnTo>
                  <a:pt x="16109" y="19505"/>
                </a:lnTo>
                <a:lnTo>
                  <a:pt x="16109" y="12315"/>
                </a:lnTo>
                <a:lnTo>
                  <a:pt x="5491" y="12315"/>
                </a:lnTo>
                <a:lnTo>
                  <a:pt x="5491" y="19505"/>
                </a:lnTo>
                <a:lnTo>
                  <a:pt x="9877" y="19505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12">
            <a:hlinkClick r:id="" action="ppaction://hlinkshowjump?jump=nextslide"/>
          </p:cNvPr>
          <p:cNvSpPr/>
          <p:nvPr/>
        </p:nvSpPr>
        <p:spPr>
          <a:xfrm>
            <a:off x="8354880" y="6270480"/>
            <a:ext cx="611280" cy="405000"/>
          </a:xfrm>
          <a:custGeom>
            <a:avLst/>
            <a:gdLst>
              <a:gd name="textAreaLeft" fmla="*/ 25920 w 611280"/>
              <a:gd name="textAreaRight" fmla="*/ 585360 w 61128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32592" h="21600">
                <a:moveTo>
                  <a:pt x="0" y="0"/>
                </a:moveTo>
                <a:lnTo>
                  <a:pt x="32592" y="0"/>
                </a:lnTo>
                <a:lnTo>
                  <a:pt x="32592" y="21600"/>
                </a:lnTo>
                <a:lnTo>
                  <a:pt x="0" y="21600"/>
                </a:lnTo>
                <a:close/>
              </a:path>
              <a:path fill="lightenLess" w="32592" h="21600">
                <a:moveTo>
                  <a:pt x="0" y="0"/>
                </a:moveTo>
                <a:lnTo>
                  <a:pt x="32592" y="0"/>
                </a:lnTo>
                <a:lnTo>
                  <a:pt x="31192" y="1400"/>
                </a:lnTo>
                <a:lnTo>
                  <a:pt x="1400" y="1400"/>
                </a:lnTo>
                <a:close/>
              </a:path>
              <a:path fill="darken" w="32592" h="21600">
                <a:moveTo>
                  <a:pt x="32592" y="0"/>
                </a:moveTo>
                <a:lnTo>
                  <a:pt x="32592" y="21600"/>
                </a:lnTo>
                <a:lnTo>
                  <a:pt x="31192" y="20200"/>
                </a:lnTo>
                <a:lnTo>
                  <a:pt x="31192" y="1400"/>
                </a:lnTo>
                <a:close/>
              </a:path>
              <a:path fill="darkenLess" w="32592" h="21600">
                <a:moveTo>
                  <a:pt x="325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92" y="20200"/>
                </a:lnTo>
                <a:close/>
              </a:path>
              <a:path fill="lighten" w="325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92" h="21600">
                <a:moveTo>
                  <a:pt x="9289" y="3794"/>
                </a:moveTo>
                <a:lnTo>
                  <a:pt x="23302" y="10800"/>
                </a:lnTo>
                <a:lnTo>
                  <a:pt x="9289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3"/>
          <p:cNvSpPr/>
          <p:nvPr/>
        </p:nvSpPr>
        <p:spPr>
          <a:xfrm>
            <a:off x="1042920" y="117360"/>
            <a:ext cx="77770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Своя игра</a:t>
            </a: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                   </a:t>
            </a: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I </a:t>
            </a: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 отборочный ту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9" dur="500" fill="hold"/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9ffcc"/>
                                      </p:to>
                                    </p:animClr>
                                    <p:animClr clrSpc="rgb">
                                      <p:cBhvr>
                                        <p:cTn id="120" dur="500" fill="hold"/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ffcc"/>
                                      </p:to>
                                    </p:animClr>
                                    <p:set>
                                      <p:cBhvr>
                                        <p:cTn id="121" dur="500" fill="hold"/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3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714" name="Rectangle 3"/>
            <p:cNvSpPr/>
            <p:nvPr/>
          </p:nvSpPr>
          <p:spPr>
            <a:xfrm>
              <a:off x="0" y="0"/>
              <a:ext cx="179280" cy="685800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Rectangle 4"/>
            <p:cNvSpPr/>
            <p:nvPr/>
          </p:nvSpPr>
          <p:spPr>
            <a:xfrm>
              <a:off x="8964720" y="0"/>
              <a:ext cx="179280" cy="685800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Rectangle 5"/>
            <p:cNvSpPr/>
            <p:nvPr/>
          </p:nvSpPr>
          <p:spPr>
            <a:xfrm rot="5400000">
              <a:off x="4478760" y="-4298040"/>
              <a:ext cx="189000" cy="878508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Rectangle 6"/>
            <p:cNvSpPr/>
            <p:nvPr/>
          </p:nvSpPr>
          <p:spPr>
            <a:xfrm rot="5400000">
              <a:off x="4478760" y="2369160"/>
              <a:ext cx="189000" cy="878508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8" name="Line 7"/>
          <p:cNvSpPr/>
          <p:nvPr/>
        </p:nvSpPr>
        <p:spPr>
          <a:xfrm>
            <a:off x="179280" y="963720"/>
            <a:ext cx="8785440" cy="0"/>
          </a:xfrm>
          <a:prstGeom prst="line">
            <a:avLst/>
          </a:prstGeom>
          <a:ln w="7632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AutoShape 9"/>
          <p:cNvSpPr/>
          <p:nvPr/>
        </p:nvSpPr>
        <p:spPr>
          <a:xfrm>
            <a:off x="8172360" y="177840"/>
            <a:ext cx="792360" cy="747720"/>
          </a:xfrm>
          <a:prstGeom prst="bevel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WordArt 10"/>
          <p:cNvSpPr txBox="1"/>
          <p:nvPr/>
        </p:nvSpPr>
        <p:spPr>
          <a:xfrm>
            <a:off x="8296200" y="415800"/>
            <a:ext cx="505080" cy="2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2600" dir="0" blurRad="0" rotWithShape="0">
                    <a:srgbClr val="875b0d">
                      <a:alpha val="50000"/>
                    </a:srgbClr>
                  </a:outerShdw>
                </a:effectLst>
                <a:latin typeface="Arial"/>
              </a:rPr>
              <a:t>200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2600" dir="0" blurRad="0" rotWithShape="0">
                  <a:srgbClr val="875b0d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21" name="Text Box 11"/>
          <p:cNvSpPr/>
          <p:nvPr/>
        </p:nvSpPr>
        <p:spPr>
          <a:xfrm>
            <a:off x="7020000" y="549360"/>
            <a:ext cx="11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bbe0e3"/>
                </a:solidFill>
                <a:latin typeface="Arial"/>
              </a:rPr>
              <a:t>фина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Text Box 12"/>
          <p:cNvSpPr/>
          <p:nvPr/>
        </p:nvSpPr>
        <p:spPr>
          <a:xfrm>
            <a:off x="539640" y="1916280"/>
            <a:ext cx="806472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Столетие + Математический бублик = = Отрезок определенной длины и направления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AutoShape 13"/>
          <p:cNvSpPr/>
          <p:nvPr/>
        </p:nvSpPr>
        <p:spPr>
          <a:xfrm>
            <a:off x="179280" y="6165720"/>
            <a:ext cx="506520" cy="503280"/>
          </a:xfrm>
          <a:custGeom>
            <a:avLst/>
            <a:gdLst>
              <a:gd name="textAreaLeft" fmla="*/ 32400 w 506520"/>
              <a:gd name="textAreaRight" fmla="*/ 474120 w 5065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1739" h="21600">
                <a:moveTo>
                  <a:pt x="0" y="0"/>
                </a:moveTo>
                <a:lnTo>
                  <a:pt x="21739" y="0"/>
                </a:lnTo>
                <a:lnTo>
                  <a:pt x="21739" y="21600"/>
                </a:lnTo>
                <a:lnTo>
                  <a:pt x="0" y="21600"/>
                </a:lnTo>
                <a:close/>
              </a:path>
              <a:path fill="lightenLess" w="21739" h="21600">
                <a:moveTo>
                  <a:pt x="0" y="0"/>
                </a:moveTo>
                <a:lnTo>
                  <a:pt x="21739" y="0"/>
                </a:lnTo>
                <a:lnTo>
                  <a:pt x="20339" y="1400"/>
                </a:lnTo>
                <a:lnTo>
                  <a:pt x="1400" y="1400"/>
                </a:lnTo>
                <a:close/>
              </a:path>
              <a:path fill="darken" w="21739" h="21600">
                <a:moveTo>
                  <a:pt x="21739" y="0"/>
                </a:moveTo>
                <a:lnTo>
                  <a:pt x="21739" y="21600"/>
                </a:lnTo>
                <a:lnTo>
                  <a:pt x="20339" y="20200"/>
                </a:lnTo>
                <a:lnTo>
                  <a:pt x="20339" y="1400"/>
                </a:lnTo>
                <a:close/>
              </a:path>
              <a:path fill="darkenLess" w="21739" h="21600">
                <a:moveTo>
                  <a:pt x="217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39" y="20200"/>
                </a:lnTo>
                <a:close/>
              </a:path>
              <a:path fill="lighten" w="217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739" h="21600">
                <a:moveTo>
                  <a:pt x="10869" y="3837"/>
                </a:moveTo>
                <a:lnTo>
                  <a:pt x="13446" y="6448"/>
                </a:lnTo>
                <a:lnTo>
                  <a:pt x="13446" y="4707"/>
                </a:lnTo>
                <a:lnTo>
                  <a:pt x="15221" y="4707"/>
                </a:lnTo>
                <a:lnTo>
                  <a:pt x="15221" y="8224"/>
                </a:lnTo>
                <a:lnTo>
                  <a:pt x="17832" y="10800"/>
                </a:lnTo>
                <a:lnTo>
                  <a:pt x="16179" y="10800"/>
                </a:lnTo>
                <a:lnTo>
                  <a:pt x="16179" y="17989"/>
                </a:lnTo>
                <a:lnTo>
                  <a:pt x="5560" y="17989"/>
                </a:lnTo>
                <a:lnTo>
                  <a:pt x="5560" y="10800"/>
                </a:lnTo>
                <a:lnTo>
                  <a:pt x="3907" y="10800"/>
                </a:lnTo>
                <a:close/>
              </a:path>
              <a:path fill="darkenLess" w="21739" h="21600">
                <a:moveTo>
                  <a:pt x="13446" y="6448"/>
                </a:moveTo>
                <a:lnTo>
                  <a:pt x="13446" y="4707"/>
                </a:lnTo>
                <a:lnTo>
                  <a:pt x="15221" y="4707"/>
                </a:lnTo>
                <a:lnTo>
                  <a:pt x="15221" y="8224"/>
                </a:lnTo>
                <a:close/>
              </a:path>
              <a:path fill="darkenLess" w="21739" h="21600">
                <a:moveTo>
                  <a:pt x="9947" y="14299"/>
                </a:moveTo>
                <a:lnTo>
                  <a:pt x="11792" y="14299"/>
                </a:lnTo>
                <a:lnTo>
                  <a:pt x="11792" y="17989"/>
                </a:lnTo>
                <a:lnTo>
                  <a:pt x="16179" y="17989"/>
                </a:lnTo>
                <a:lnTo>
                  <a:pt x="16179" y="10800"/>
                </a:lnTo>
                <a:lnTo>
                  <a:pt x="5560" y="10800"/>
                </a:lnTo>
                <a:lnTo>
                  <a:pt x="5560" y="17989"/>
                </a:lnTo>
                <a:lnTo>
                  <a:pt x="994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WordArt 14"/>
          <p:cNvSpPr txBox="1"/>
          <p:nvPr/>
        </p:nvSpPr>
        <p:spPr>
          <a:xfrm>
            <a:off x="2340000" y="4724280"/>
            <a:ext cx="475308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Век + Тор = Вектор</a:t>
            </a:r>
            <a:endParaRPr b="1" i="1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ffff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725" name="Rectangle 16"/>
          <p:cNvSpPr/>
          <p:nvPr/>
        </p:nvSpPr>
        <p:spPr>
          <a:xfrm>
            <a:off x="971640" y="189000"/>
            <a:ext cx="619272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ловесное сложение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3" dur="indefinite" restart="never" nodeType="tmRoot">
          <p:childTnLst>
            <p:seq>
              <p:cTn id="884" dur="indefinite" nodeType="mainSeq">
                <p:childTnLst>
                  <p:par>
                    <p:cTn id="885" nodeType="clickEffect" fill="hold">
                      <p:stCondLst>
                        <p:cond delay="0"/>
                      </p:stCondLst>
                      <p:childTnLst>
                        <p:par>
                          <p:cTn id="8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9" dur="10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10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nodeType="clickEffect" fill="hold">
                      <p:stCondLst>
                        <p:cond delay="indefinite"/>
                      </p:stCondLst>
                      <p:childTnLst>
                        <p:par>
                          <p:cTn id="8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5" dur="10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6" dur="10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7" dur="10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6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727" name="Rectangle 3"/>
            <p:cNvSpPr/>
            <p:nvPr/>
          </p:nvSpPr>
          <p:spPr>
            <a:xfrm>
              <a:off x="0" y="0"/>
              <a:ext cx="179280" cy="685800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Rectangle 4"/>
            <p:cNvSpPr/>
            <p:nvPr/>
          </p:nvSpPr>
          <p:spPr>
            <a:xfrm>
              <a:off x="8964720" y="0"/>
              <a:ext cx="179280" cy="685800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Rectangle 5"/>
            <p:cNvSpPr/>
            <p:nvPr/>
          </p:nvSpPr>
          <p:spPr>
            <a:xfrm rot="5400000">
              <a:off x="4478760" y="-4298040"/>
              <a:ext cx="189000" cy="878508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Rectangle 6"/>
            <p:cNvSpPr/>
            <p:nvPr/>
          </p:nvSpPr>
          <p:spPr>
            <a:xfrm rot="5400000">
              <a:off x="4478760" y="2369160"/>
              <a:ext cx="189000" cy="878508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1" name="Line 7"/>
          <p:cNvSpPr/>
          <p:nvPr/>
        </p:nvSpPr>
        <p:spPr>
          <a:xfrm>
            <a:off x="179280" y="963720"/>
            <a:ext cx="8785440" cy="0"/>
          </a:xfrm>
          <a:prstGeom prst="line">
            <a:avLst/>
          </a:prstGeom>
          <a:ln w="7632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AutoShape 9"/>
          <p:cNvSpPr/>
          <p:nvPr/>
        </p:nvSpPr>
        <p:spPr>
          <a:xfrm>
            <a:off x="8172360" y="177840"/>
            <a:ext cx="792360" cy="747720"/>
          </a:xfrm>
          <a:prstGeom prst="bevel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WordArt 10"/>
          <p:cNvSpPr txBox="1"/>
          <p:nvPr/>
        </p:nvSpPr>
        <p:spPr>
          <a:xfrm>
            <a:off x="8296200" y="415800"/>
            <a:ext cx="505080" cy="2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2600" dir="0" blurRad="0" rotWithShape="0">
                    <a:srgbClr val="875b0d">
                      <a:alpha val="50000"/>
                    </a:srgbClr>
                  </a:outerShdw>
                </a:effectLst>
                <a:latin typeface="Arial"/>
              </a:rPr>
              <a:t>300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2600" dir="0" blurRad="0" rotWithShape="0">
                  <a:srgbClr val="875b0d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34" name="Text Box 11"/>
          <p:cNvSpPr/>
          <p:nvPr/>
        </p:nvSpPr>
        <p:spPr>
          <a:xfrm>
            <a:off x="7093080" y="54936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bbe0e3"/>
                </a:solidFill>
                <a:latin typeface="Arial"/>
              </a:rPr>
              <a:t>фина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5" name="Group 12"/>
          <p:cNvGrpSpPr/>
          <p:nvPr/>
        </p:nvGrpSpPr>
        <p:grpSpPr>
          <a:xfrm>
            <a:off x="1187280" y="2491920"/>
            <a:ext cx="6048720" cy="2663640"/>
            <a:chOff x="1187280" y="2491920"/>
            <a:chExt cx="6048720" cy="2663640"/>
          </a:xfrm>
        </p:grpSpPr>
        <p:sp>
          <p:nvSpPr>
            <p:cNvPr id="736" name="AutoShape 13"/>
            <p:cNvSpPr/>
            <p:nvPr/>
          </p:nvSpPr>
          <p:spPr>
            <a:xfrm rot="10800000">
              <a:off x="1908000" y="2491560"/>
              <a:ext cx="4608720" cy="2663640"/>
            </a:xfrm>
            <a:prstGeom prst="wedgeEllipseCallout">
              <a:avLst>
                <a:gd name="adj1" fmla="val 4185"/>
                <a:gd name="adj2" fmla="val 63407"/>
              </a:avLst>
            </a:prstGeom>
            <a:gradFill rotWithShape="0">
              <a:gsLst>
                <a:gs pos="0">
                  <a:srgbClr val="ff6600"/>
                </a:gs>
                <a:gs pos="50000">
                  <a:srgbClr val="a50021"/>
                </a:gs>
                <a:gs pos="100000">
                  <a:srgbClr val="ff6600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Text Box 14"/>
            <p:cNvSpPr/>
            <p:nvPr/>
          </p:nvSpPr>
          <p:spPr>
            <a:xfrm>
              <a:off x="1187280" y="3211200"/>
              <a:ext cx="6048720" cy="103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ffff00"/>
                  </a:solidFill>
                  <a:latin typeface="Times New Roman"/>
                </a:rPr>
                <a:t>Вам попался кот в мешке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ffff00"/>
                  </a:solidFill>
                  <a:latin typeface="Times New Roman"/>
                </a:rPr>
                <a:t>Кому отдадите  вопрос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8" name="AutoShape 15">
            <a:hlinkClick r:id="" action="ppaction://hlinkshowjump?jump=nextslide"/>
          </p:cNvPr>
          <p:cNvSpPr/>
          <p:nvPr/>
        </p:nvSpPr>
        <p:spPr>
          <a:xfrm>
            <a:off x="8459640" y="6270480"/>
            <a:ext cx="540000" cy="405000"/>
          </a:xfrm>
          <a:custGeom>
            <a:avLst/>
            <a:gdLst>
              <a:gd name="textAreaLeft" fmla="*/ 25920 w 540000"/>
              <a:gd name="textAreaRight" fmla="*/ 514080 w 54000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28794" h="21600">
                <a:moveTo>
                  <a:pt x="0" y="0"/>
                </a:moveTo>
                <a:lnTo>
                  <a:pt x="28794" y="0"/>
                </a:lnTo>
                <a:lnTo>
                  <a:pt x="28794" y="21600"/>
                </a:lnTo>
                <a:lnTo>
                  <a:pt x="0" y="21600"/>
                </a:lnTo>
                <a:close/>
              </a:path>
              <a:path fill="lightenLess" w="28794" h="21600">
                <a:moveTo>
                  <a:pt x="0" y="0"/>
                </a:moveTo>
                <a:lnTo>
                  <a:pt x="28794" y="0"/>
                </a:lnTo>
                <a:lnTo>
                  <a:pt x="27394" y="1400"/>
                </a:lnTo>
                <a:lnTo>
                  <a:pt x="1400" y="1400"/>
                </a:lnTo>
                <a:close/>
              </a:path>
              <a:path fill="darken" w="28794" h="21600">
                <a:moveTo>
                  <a:pt x="28794" y="0"/>
                </a:moveTo>
                <a:lnTo>
                  <a:pt x="28794" y="21600"/>
                </a:lnTo>
                <a:lnTo>
                  <a:pt x="27394" y="20200"/>
                </a:lnTo>
                <a:lnTo>
                  <a:pt x="27394" y="1400"/>
                </a:lnTo>
                <a:close/>
              </a:path>
              <a:path fill="darkenLess" w="28794" h="21600">
                <a:moveTo>
                  <a:pt x="287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4" y="20200"/>
                </a:lnTo>
                <a:close/>
              </a:path>
              <a:path fill="lighten" w="287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94" h="21600">
                <a:moveTo>
                  <a:pt x="7390" y="3794"/>
                </a:moveTo>
                <a:lnTo>
                  <a:pt x="21403" y="10800"/>
                </a:lnTo>
                <a:lnTo>
                  <a:pt x="739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Rectangle 16"/>
          <p:cNvSpPr/>
          <p:nvPr/>
        </p:nvSpPr>
        <p:spPr>
          <a:xfrm>
            <a:off x="971640" y="189000"/>
            <a:ext cx="619272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ловесное сложение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8" dur="indefinite" restart="never" nodeType="tmRoot">
          <p:childTnLst>
            <p:seq>
              <p:cTn id="899" dur="indefinite" nodeType="mainSeq">
                <p:childTnLst>
                  <p:par>
                    <p:cTn id="900" nodeType="clickEffect" fill="hold">
                      <p:stCondLst>
                        <p:cond delay="0"/>
                      </p:stCondLst>
                      <p:childTnLst>
                        <p:par>
                          <p:cTn id="9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4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741" name="Rectangle 3"/>
            <p:cNvSpPr/>
            <p:nvPr/>
          </p:nvSpPr>
          <p:spPr>
            <a:xfrm>
              <a:off x="0" y="0"/>
              <a:ext cx="179280" cy="685800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Rectangle 4"/>
            <p:cNvSpPr/>
            <p:nvPr/>
          </p:nvSpPr>
          <p:spPr>
            <a:xfrm>
              <a:off x="8964720" y="0"/>
              <a:ext cx="179280" cy="685800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Rectangle 5"/>
            <p:cNvSpPr/>
            <p:nvPr/>
          </p:nvSpPr>
          <p:spPr>
            <a:xfrm rot="5400000">
              <a:off x="4478760" y="-4298040"/>
              <a:ext cx="189000" cy="878508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Rectangle 6"/>
            <p:cNvSpPr/>
            <p:nvPr/>
          </p:nvSpPr>
          <p:spPr>
            <a:xfrm rot="5400000">
              <a:off x="4478760" y="2369160"/>
              <a:ext cx="189000" cy="878508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5" name="Line 7"/>
          <p:cNvSpPr/>
          <p:nvPr/>
        </p:nvSpPr>
        <p:spPr>
          <a:xfrm>
            <a:off x="179280" y="963720"/>
            <a:ext cx="8785440" cy="0"/>
          </a:xfrm>
          <a:prstGeom prst="line">
            <a:avLst/>
          </a:prstGeom>
          <a:ln w="7632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Rectangle 8"/>
          <p:cNvSpPr/>
          <p:nvPr/>
        </p:nvSpPr>
        <p:spPr>
          <a:xfrm>
            <a:off x="539640" y="189000"/>
            <a:ext cx="662472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атематическая анаграм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AutoShape 9"/>
          <p:cNvSpPr/>
          <p:nvPr/>
        </p:nvSpPr>
        <p:spPr>
          <a:xfrm>
            <a:off x="8172360" y="177840"/>
            <a:ext cx="792360" cy="747720"/>
          </a:xfrm>
          <a:prstGeom prst="bevel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WordArt 10"/>
          <p:cNvSpPr txBox="1"/>
          <p:nvPr/>
        </p:nvSpPr>
        <p:spPr>
          <a:xfrm>
            <a:off x="8296200" y="415800"/>
            <a:ext cx="505080" cy="2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2600" dir="0" blurRad="0" rotWithShape="0">
                    <a:srgbClr val="875b0d">
                      <a:alpha val="50000"/>
                    </a:srgbClr>
                  </a:outerShdw>
                </a:effectLst>
                <a:latin typeface="Arial"/>
              </a:rPr>
              <a:t>200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2600" dir="0" blurRad="0" rotWithShape="0">
                  <a:srgbClr val="875b0d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49" name="Text Box 11"/>
          <p:cNvSpPr/>
          <p:nvPr/>
        </p:nvSpPr>
        <p:spPr>
          <a:xfrm>
            <a:off x="7020000" y="549360"/>
            <a:ext cx="11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bbe0e3"/>
                </a:solidFill>
                <a:latin typeface="Arial"/>
              </a:rPr>
              <a:t>фина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Text Box 12"/>
          <p:cNvSpPr/>
          <p:nvPr/>
        </p:nvSpPr>
        <p:spPr>
          <a:xfrm>
            <a:off x="539640" y="1916280"/>
            <a:ext cx="806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КОТ +  САН + ГЕН    </a:t>
            </a:r>
            <a:r>
              <a:rPr b="1" lang="ru-RU" sz="3600" spc="-1" strike="noStrike">
                <a:solidFill>
                  <a:srgbClr val="ffff00"/>
                </a:solidFill>
                <a:latin typeface="Wingdings 3"/>
                <a:ea typeface="Wingdings 3"/>
              </a:rPr>
              <a:t></a:t>
            </a: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  тригонометрическая функция</a:t>
            </a: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AutoShape 13"/>
          <p:cNvSpPr/>
          <p:nvPr/>
        </p:nvSpPr>
        <p:spPr>
          <a:xfrm>
            <a:off x="179280" y="6165720"/>
            <a:ext cx="506520" cy="503280"/>
          </a:xfrm>
          <a:custGeom>
            <a:avLst/>
            <a:gdLst>
              <a:gd name="textAreaLeft" fmla="*/ 32400 w 506520"/>
              <a:gd name="textAreaRight" fmla="*/ 474120 w 5065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1739" h="21600">
                <a:moveTo>
                  <a:pt x="0" y="0"/>
                </a:moveTo>
                <a:lnTo>
                  <a:pt x="21739" y="0"/>
                </a:lnTo>
                <a:lnTo>
                  <a:pt x="21739" y="21600"/>
                </a:lnTo>
                <a:lnTo>
                  <a:pt x="0" y="21600"/>
                </a:lnTo>
                <a:close/>
              </a:path>
              <a:path fill="lightenLess" w="21739" h="21600">
                <a:moveTo>
                  <a:pt x="0" y="0"/>
                </a:moveTo>
                <a:lnTo>
                  <a:pt x="21739" y="0"/>
                </a:lnTo>
                <a:lnTo>
                  <a:pt x="20339" y="1400"/>
                </a:lnTo>
                <a:lnTo>
                  <a:pt x="1400" y="1400"/>
                </a:lnTo>
                <a:close/>
              </a:path>
              <a:path fill="darken" w="21739" h="21600">
                <a:moveTo>
                  <a:pt x="21739" y="0"/>
                </a:moveTo>
                <a:lnTo>
                  <a:pt x="21739" y="21600"/>
                </a:lnTo>
                <a:lnTo>
                  <a:pt x="20339" y="20200"/>
                </a:lnTo>
                <a:lnTo>
                  <a:pt x="20339" y="1400"/>
                </a:lnTo>
                <a:close/>
              </a:path>
              <a:path fill="darkenLess" w="21739" h="21600">
                <a:moveTo>
                  <a:pt x="217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39" y="20200"/>
                </a:lnTo>
                <a:close/>
              </a:path>
              <a:path fill="lighten" w="217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739" h="21600">
                <a:moveTo>
                  <a:pt x="10869" y="3837"/>
                </a:moveTo>
                <a:lnTo>
                  <a:pt x="13446" y="6448"/>
                </a:lnTo>
                <a:lnTo>
                  <a:pt x="13446" y="4707"/>
                </a:lnTo>
                <a:lnTo>
                  <a:pt x="15221" y="4707"/>
                </a:lnTo>
                <a:lnTo>
                  <a:pt x="15221" y="8224"/>
                </a:lnTo>
                <a:lnTo>
                  <a:pt x="17832" y="10800"/>
                </a:lnTo>
                <a:lnTo>
                  <a:pt x="16179" y="10800"/>
                </a:lnTo>
                <a:lnTo>
                  <a:pt x="16179" y="17989"/>
                </a:lnTo>
                <a:lnTo>
                  <a:pt x="5560" y="17989"/>
                </a:lnTo>
                <a:lnTo>
                  <a:pt x="5560" y="10800"/>
                </a:lnTo>
                <a:lnTo>
                  <a:pt x="3907" y="10800"/>
                </a:lnTo>
                <a:close/>
              </a:path>
              <a:path fill="darkenLess" w="21739" h="21600">
                <a:moveTo>
                  <a:pt x="13446" y="6448"/>
                </a:moveTo>
                <a:lnTo>
                  <a:pt x="13446" y="4707"/>
                </a:lnTo>
                <a:lnTo>
                  <a:pt x="15221" y="4707"/>
                </a:lnTo>
                <a:lnTo>
                  <a:pt x="15221" y="8224"/>
                </a:lnTo>
                <a:close/>
              </a:path>
              <a:path fill="darkenLess" w="21739" h="21600">
                <a:moveTo>
                  <a:pt x="9947" y="14299"/>
                </a:moveTo>
                <a:lnTo>
                  <a:pt x="11792" y="14299"/>
                </a:lnTo>
                <a:lnTo>
                  <a:pt x="11792" y="17989"/>
                </a:lnTo>
                <a:lnTo>
                  <a:pt x="16179" y="17989"/>
                </a:lnTo>
                <a:lnTo>
                  <a:pt x="16179" y="10800"/>
                </a:lnTo>
                <a:lnTo>
                  <a:pt x="5560" y="10800"/>
                </a:lnTo>
                <a:lnTo>
                  <a:pt x="5560" y="17989"/>
                </a:lnTo>
                <a:lnTo>
                  <a:pt x="994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WordArt 14"/>
          <p:cNvSpPr txBox="1"/>
          <p:nvPr/>
        </p:nvSpPr>
        <p:spPr>
          <a:xfrm>
            <a:off x="3276720" y="4365720"/>
            <a:ext cx="295272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Котангенс</a:t>
            </a:r>
            <a:endParaRPr b="1" i="1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ffff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6" dur="indefinite" restart="never" nodeType="tmRoot">
          <p:childTnLst>
            <p:seq>
              <p:cTn id="907" dur="indefinite" nodeType="mainSeq">
                <p:childTnLst>
                  <p:par>
                    <p:cTn id="908" nodeType="clickEffect" fill="hold">
                      <p:stCondLst>
                        <p:cond delay="0"/>
                      </p:stCondLst>
                      <p:childTnLst>
                        <p:par>
                          <p:cTn id="9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2" dur="10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3" dur="10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nodeType="clickEffect" fill="hold">
                      <p:stCondLst>
                        <p:cond delay="indefinite"/>
                      </p:stCondLst>
                      <p:childTnLst>
                        <p:par>
                          <p:cTn id="9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8" dur="10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9" dur="10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0" dur="10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3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754" name="Rectangle 3"/>
            <p:cNvSpPr/>
            <p:nvPr/>
          </p:nvSpPr>
          <p:spPr>
            <a:xfrm>
              <a:off x="0" y="0"/>
              <a:ext cx="179280" cy="685800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Rectangle 4"/>
            <p:cNvSpPr/>
            <p:nvPr/>
          </p:nvSpPr>
          <p:spPr>
            <a:xfrm>
              <a:off x="8964720" y="0"/>
              <a:ext cx="179280" cy="685800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Rectangle 5"/>
            <p:cNvSpPr/>
            <p:nvPr/>
          </p:nvSpPr>
          <p:spPr>
            <a:xfrm rot="5400000">
              <a:off x="4478760" y="-4298040"/>
              <a:ext cx="189000" cy="878508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Rectangle 6"/>
            <p:cNvSpPr/>
            <p:nvPr/>
          </p:nvSpPr>
          <p:spPr>
            <a:xfrm rot="5400000">
              <a:off x="4478760" y="2369160"/>
              <a:ext cx="189000" cy="878508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8" name="Line 7"/>
          <p:cNvSpPr/>
          <p:nvPr/>
        </p:nvSpPr>
        <p:spPr>
          <a:xfrm>
            <a:off x="179280" y="963720"/>
            <a:ext cx="8785440" cy="0"/>
          </a:xfrm>
          <a:prstGeom prst="line">
            <a:avLst/>
          </a:prstGeom>
          <a:ln w="7632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Rectangle 8"/>
          <p:cNvSpPr/>
          <p:nvPr/>
        </p:nvSpPr>
        <p:spPr>
          <a:xfrm>
            <a:off x="539640" y="189000"/>
            <a:ext cx="662472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атематика в лиц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AutoShape 9"/>
          <p:cNvSpPr/>
          <p:nvPr/>
        </p:nvSpPr>
        <p:spPr>
          <a:xfrm>
            <a:off x="8172360" y="177840"/>
            <a:ext cx="792360" cy="747720"/>
          </a:xfrm>
          <a:prstGeom prst="bevel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WordArt 10"/>
          <p:cNvSpPr txBox="1"/>
          <p:nvPr/>
        </p:nvSpPr>
        <p:spPr>
          <a:xfrm>
            <a:off x="8296200" y="415800"/>
            <a:ext cx="505080" cy="2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2600" dir="0" blurRad="0" rotWithShape="0">
                    <a:srgbClr val="875b0d">
                      <a:alpha val="50000"/>
                    </a:srgbClr>
                  </a:outerShdw>
                </a:effectLst>
                <a:latin typeface="Arial"/>
              </a:rPr>
              <a:t>100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2600" dir="0" blurRad="0" rotWithShape="0">
                  <a:srgbClr val="875b0d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62" name="Text Box 11"/>
          <p:cNvSpPr/>
          <p:nvPr/>
        </p:nvSpPr>
        <p:spPr>
          <a:xfrm>
            <a:off x="7093080" y="54936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bbe0e3"/>
                </a:solidFill>
                <a:latin typeface="Arial"/>
              </a:rPr>
              <a:t>фина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Text Box 12"/>
          <p:cNvSpPr/>
          <p:nvPr/>
        </p:nvSpPr>
        <p:spPr>
          <a:xfrm>
            <a:off x="611280" y="1844640"/>
            <a:ext cx="8208720" cy="26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О какой науке Цицерон сказал: «Греки изучали её, чтобы познать мир, а римляне – чтобы измерять земельные участки»?</a:t>
            </a: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AutoShape 13"/>
          <p:cNvSpPr/>
          <p:nvPr/>
        </p:nvSpPr>
        <p:spPr>
          <a:xfrm>
            <a:off x="179280" y="6165720"/>
            <a:ext cx="506520" cy="503280"/>
          </a:xfrm>
          <a:custGeom>
            <a:avLst/>
            <a:gdLst>
              <a:gd name="textAreaLeft" fmla="*/ 32400 w 506520"/>
              <a:gd name="textAreaRight" fmla="*/ 474120 w 5065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1739" h="21600">
                <a:moveTo>
                  <a:pt x="0" y="0"/>
                </a:moveTo>
                <a:lnTo>
                  <a:pt x="21739" y="0"/>
                </a:lnTo>
                <a:lnTo>
                  <a:pt x="21739" y="21600"/>
                </a:lnTo>
                <a:lnTo>
                  <a:pt x="0" y="21600"/>
                </a:lnTo>
                <a:close/>
              </a:path>
              <a:path fill="lightenLess" w="21739" h="21600">
                <a:moveTo>
                  <a:pt x="0" y="0"/>
                </a:moveTo>
                <a:lnTo>
                  <a:pt x="21739" y="0"/>
                </a:lnTo>
                <a:lnTo>
                  <a:pt x="20339" y="1400"/>
                </a:lnTo>
                <a:lnTo>
                  <a:pt x="1400" y="1400"/>
                </a:lnTo>
                <a:close/>
              </a:path>
              <a:path fill="darken" w="21739" h="21600">
                <a:moveTo>
                  <a:pt x="21739" y="0"/>
                </a:moveTo>
                <a:lnTo>
                  <a:pt x="21739" y="21600"/>
                </a:lnTo>
                <a:lnTo>
                  <a:pt x="20339" y="20200"/>
                </a:lnTo>
                <a:lnTo>
                  <a:pt x="20339" y="1400"/>
                </a:lnTo>
                <a:close/>
              </a:path>
              <a:path fill="darkenLess" w="21739" h="21600">
                <a:moveTo>
                  <a:pt x="217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39" y="20200"/>
                </a:lnTo>
                <a:close/>
              </a:path>
              <a:path fill="lighten" w="217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739" h="21600">
                <a:moveTo>
                  <a:pt x="10869" y="3837"/>
                </a:moveTo>
                <a:lnTo>
                  <a:pt x="13446" y="6448"/>
                </a:lnTo>
                <a:lnTo>
                  <a:pt x="13446" y="4707"/>
                </a:lnTo>
                <a:lnTo>
                  <a:pt x="15221" y="4707"/>
                </a:lnTo>
                <a:lnTo>
                  <a:pt x="15221" y="8224"/>
                </a:lnTo>
                <a:lnTo>
                  <a:pt x="17832" y="10800"/>
                </a:lnTo>
                <a:lnTo>
                  <a:pt x="16179" y="10800"/>
                </a:lnTo>
                <a:lnTo>
                  <a:pt x="16179" y="17989"/>
                </a:lnTo>
                <a:lnTo>
                  <a:pt x="5560" y="17989"/>
                </a:lnTo>
                <a:lnTo>
                  <a:pt x="5560" y="10800"/>
                </a:lnTo>
                <a:lnTo>
                  <a:pt x="3907" y="10800"/>
                </a:lnTo>
                <a:close/>
              </a:path>
              <a:path fill="darkenLess" w="21739" h="21600">
                <a:moveTo>
                  <a:pt x="13446" y="6448"/>
                </a:moveTo>
                <a:lnTo>
                  <a:pt x="13446" y="4707"/>
                </a:lnTo>
                <a:lnTo>
                  <a:pt x="15221" y="4707"/>
                </a:lnTo>
                <a:lnTo>
                  <a:pt x="15221" y="8224"/>
                </a:lnTo>
                <a:close/>
              </a:path>
              <a:path fill="darkenLess" w="21739" h="21600">
                <a:moveTo>
                  <a:pt x="9947" y="14299"/>
                </a:moveTo>
                <a:lnTo>
                  <a:pt x="11792" y="14299"/>
                </a:lnTo>
                <a:lnTo>
                  <a:pt x="11792" y="17989"/>
                </a:lnTo>
                <a:lnTo>
                  <a:pt x="16179" y="17989"/>
                </a:lnTo>
                <a:lnTo>
                  <a:pt x="16179" y="10800"/>
                </a:lnTo>
                <a:lnTo>
                  <a:pt x="5560" y="10800"/>
                </a:lnTo>
                <a:lnTo>
                  <a:pt x="5560" y="17989"/>
                </a:lnTo>
                <a:lnTo>
                  <a:pt x="994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WordArt 14"/>
          <p:cNvSpPr txBox="1"/>
          <p:nvPr/>
        </p:nvSpPr>
        <p:spPr>
          <a:xfrm>
            <a:off x="3348000" y="5084640"/>
            <a:ext cx="32400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О геометрии</a:t>
            </a:r>
            <a:endParaRPr b="1" i="1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ffff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1" dur="indefinite" restart="never" nodeType="tmRoot">
          <p:childTnLst>
            <p:seq>
              <p:cTn id="922" dur="indefinite" nodeType="mainSeq">
                <p:childTnLst>
                  <p:par>
                    <p:cTn id="923" nodeType="clickEffect" fill="hold">
                      <p:stCondLst>
                        <p:cond delay="0"/>
                      </p:stCondLst>
                      <p:childTnLst>
                        <p:par>
                          <p:cTn id="9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7" dur="10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8" dur="10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nodeType="clickEffect" fill="hold">
                      <p:stCondLst>
                        <p:cond delay="indefinite"/>
                      </p:stCondLst>
                      <p:childTnLst>
                        <p:par>
                          <p:cTn id="9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3" dur="10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10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5" dur="10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6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767" name="Rectangle 3"/>
            <p:cNvSpPr/>
            <p:nvPr/>
          </p:nvSpPr>
          <p:spPr>
            <a:xfrm>
              <a:off x="0" y="0"/>
              <a:ext cx="179280" cy="685800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Rectangle 4"/>
            <p:cNvSpPr/>
            <p:nvPr/>
          </p:nvSpPr>
          <p:spPr>
            <a:xfrm>
              <a:off x="8964720" y="0"/>
              <a:ext cx="179280" cy="685800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Rectangle 5"/>
            <p:cNvSpPr/>
            <p:nvPr/>
          </p:nvSpPr>
          <p:spPr>
            <a:xfrm rot="5400000">
              <a:off x="4478760" y="-4298040"/>
              <a:ext cx="189000" cy="878508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Rectangle 6"/>
            <p:cNvSpPr/>
            <p:nvPr/>
          </p:nvSpPr>
          <p:spPr>
            <a:xfrm rot="5400000">
              <a:off x="4478760" y="2369160"/>
              <a:ext cx="189000" cy="878508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1" name="Line 7"/>
          <p:cNvSpPr/>
          <p:nvPr/>
        </p:nvSpPr>
        <p:spPr>
          <a:xfrm>
            <a:off x="179280" y="963720"/>
            <a:ext cx="8785440" cy="0"/>
          </a:xfrm>
          <a:prstGeom prst="line">
            <a:avLst/>
          </a:prstGeom>
          <a:ln w="7632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AutoShape 9"/>
          <p:cNvSpPr/>
          <p:nvPr/>
        </p:nvSpPr>
        <p:spPr>
          <a:xfrm>
            <a:off x="8172360" y="177840"/>
            <a:ext cx="792360" cy="747720"/>
          </a:xfrm>
          <a:prstGeom prst="bevel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WordArt 10"/>
          <p:cNvSpPr txBox="1"/>
          <p:nvPr/>
        </p:nvSpPr>
        <p:spPr>
          <a:xfrm>
            <a:off x="8296200" y="415800"/>
            <a:ext cx="505080" cy="2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2600" dir="0" blurRad="0" rotWithShape="0">
                    <a:srgbClr val="875b0d">
                      <a:alpha val="50000"/>
                    </a:srgbClr>
                  </a:outerShdw>
                </a:effectLst>
                <a:latin typeface="Arial"/>
              </a:rPr>
              <a:t>200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2600" dir="0" blurRad="0" rotWithShape="0">
                  <a:srgbClr val="875b0d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74" name="Text Box 11"/>
          <p:cNvSpPr/>
          <p:nvPr/>
        </p:nvSpPr>
        <p:spPr>
          <a:xfrm>
            <a:off x="7093080" y="54936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bbe0e3"/>
                </a:solidFill>
                <a:latin typeface="Arial"/>
              </a:rPr>
              <a:t>фина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Text Box 12"/>
          <p:cNvSpPr/>
          <p:nvPr/>
        </p:nvSpPr>
        <p:spPr>
          <a:xfrm>
            <a:off x="611280" y="1844640"/>
            <a:ext cx="806436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Кому принадлежат эти строки: «Математику уже затем учить надо, что она ум в порядок приводит»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AutoShape 13"/>
          <p:cNvSpPr/>
          <p:nvPr/>
        </p:nvSpPr>
        <p:spPr>
          <a:xfrm>
            <a:off x="179280" y="6165720"/>
            <a:ext cx="506520" cy="503280"/>
          </a:xfrm>
          <a:custGeom>
            <a:avLst/>
            <a:gdLst>
              <a:gd name="textAreaLeft" fmla="*/ 32400 w 506520"/>
              <a:gd name="textAreaRight" fmla="*/ 474120 w 5065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1739" h="21600">
                <a:moveTo>
                  <a:pt x="0" y="0"/>
                </a:moveTo>
                <a:lnTo>
                  <a:pt x="21739" y="0"/>
                </a:lnTo>
                <a:lnTo>
                  <a:pt x="21739" y="21600"/>
                </a:lnTo>
                <a:lnTo>
                  <a:pt x="0" y="21600"/>
                </a:lnTo>
                <a:close/>
              </a:path>
              <a:path fill="lightenLess" w="21739" h="21600">
                <a:moveTo>
                  <a:pt x="0" y="0"/>
                </a:moveTo>
                <a:lnTo>
                  <a:pt x="21739" y="0"/>
                </a:lnTo>
                <a:lnTo>
                  <a:pt x="20339" y="1400"/>
                </a:lnTo>
                <a:lnTo>
                  <a:pt x="1400" y="1400"/>
                </a:lnTo>
                <a:close/>
              </a:path>
              <a:path fill="darken" w="21739" h="21600">
                <a:moveTo>
                  <a:pt x="21739" y="0"/>
                </a:moveTo>
                <a:lnTo>
                  <a:pt x="21739" y="21600"/>
                </a:lnTo>
                <a:lnTo>
                  <a:pt x="20339" y="20200"/>
                </a:lnTo>
                <a:lnTo>
                  <a:pt x="20339" y="1400"/>
                </a:lnTo>
                <a:close/>
              </a:path>
              <a:path fill="darkenLess" w="21739" h="21600">
                <a:moveTo>
                  <a:pt x="217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39" y="20200"/>
                </a:lnTo>
                <a:close/>
              </a:path>
              <a:path fill="lighten" w="217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739" h="21600">
                <a:moveTo>
                  <a:pt x="10869" y="3837"/>
                </a:moveTo>
                <a:lnTo>
                  <a:pt x="13446" y="6448"/>
                </a:lnTo>
                <a:lnTo>
                  <a:pt x="13446" y="4707"/>
                </a:lnTo>
                <a:lnTo>
                  <a:pt x="15221" y="4707"/>
                </a:lnTo>
                <a:lnTo>
                  <a:pt x="15221" y="8224"/>
                </a:lnTo>
                <a:lnTo>
                  <a:pt x="17832" y="10800"/>
                </a:lnTo>
                <a:lnTo>
                  <a:pt x="16179" y="10800"/>
                </a:lnTo>
                <a:lnTo>
                  <a:pt x="16179" y="17989"/>
                </a:lnTo>
                <a:lnTo>
                  <a:pt x="5560" y="17989"/>
                </a:lnTo>
                <a:lnTo>
                  <a:pt x="5560" y="10800"/>
                </a:lnTo>
                <a:lnTo>
                  <a:pt x="3907" y="10800"/>
                </a:lnTo>
                <a:close/>
              </a:path>
              <a:path fill="darkenLess" w="21739" h="21600">
                <a:moveTo>
                  <a:pt x="13446" y="6448"/>
                </a:moveTo>
                <a:lnTo>
                  <a:pt x="13446" y="4707"/>
                </a:lnTo>
                <a:lnTo>
                  <a:pt x="15221" y="4707"/>
                </a:lnTo>
                <a:lnTo>
                  <a:pt x="15221" y="8224"/>
                </a:lnTo>
                <a:close/>
              </a:path>
              <a:path fill="darkenLess" w="21739" h="21600">
                <a:moveTo>
                  <a:pt x="9947" y="14299"/>
                </a:moveTo>
                <a:lnTo>
                  <a:pt x="11792" y="14299"/>
                </a:lnTo>
                <a:lnTo>
                  <a:pt x="11792" y="17989"/>
                </a:lnTo>
                <a:lnTo>
                  <a:pt x="16179" y="17989"/>
                </a:lnTo>
                <a:lnTo>
                  <a:pt x="16179" y="10800"/>
                </a:lnTo>
                <a:lnTo>
                  <a:pt x="5560" y="10800"/>
                </a:lnTo>
                <a:lnTo>
                  <a:pt x="5560" y="17989"/>
                </a:lnTo>
                <a:lnTo>
                  <a:pt x="994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WordArt 14"/>
          <p:cNvSpPr txBox="1"/>
          <p:nvPr/>
        </p:nvSpPr>
        <p:spPr>
          <a:xfrm>
            <a:off x="2268360" y="4941720"/>
            <a:ext cx="439272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М. В. Ломоносову</a:t>
            </a:r>
            <a:endParaRPr b="1" i="1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ffff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778" name="Rectangle 15"/>
          <p:cNvSpPr/>
          <p:nvPr/>
        </p:nvSpPr>
        <p:spPr>
          <a:xfrm>
            <a:off x="539640" y="189000"/>
            <a:ext cx="662472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атематика в лиц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6" dur="indefinite" restart="never" nodeType="tmRoot">
          <p:childTnLst>
            <p:seq>
              <p:cTn id="937" dur="indefinite" nodeType="mainSeq">
                <p:childTnLst>
                  <p:par>
                    <p:cTn id="938" nodeType="clickEffect" fill="hold">
                      <p:stCondLst>
                        <p:cond delay="0"/>
                      </p:stCondLst>
                      <p:childTnLst>
                        <p:par>
                          <p:cTn id="9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2" dur="10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3" dur="10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nodeType="clickEffect" fill="hold">
                      <p:stCondLst>
                        <p:cond delay="indefinite"/>
                      </p:stCondLst>
                      <p:childTnLst>
                        <p:par>
                          <p:cTn id="9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8" dur="10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9" dur="10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0" dur="10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9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780" name="Rectangle 3"/>
            <p:cNvSpPr/>
            <p:nvPr/>
          </p:nvSpPr>
          <p:spPr>
            <a:xfrm>
              <a:off x="0" y="0"/>
              <a:ext cx="179280" cy="685800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Rectangle 4"/>
            <p:cNvSpPr/>
            <p:nvPr/>
          </p:nvSpPr>
          <p:spPr>
            <a:xfrm>
              <a:off x="8964720" y="0"/>
              <a:ext cx="179280" cy="685800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Rectangle 5"/>
            <p:cNvSpPr/>
            <p:nvPr/>
          </p:nvSpPr>
          <p:spPr>
            <a:xfrm rot="5400000">
              <a:off x="4478760" y="-4298040"/>
              <a:ext cx="189000" cy="878508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Rectangle 6"/>
            <p:cNvSpPr/>
            <p:nvPr/>
          </p:nvSpPr>
          <p:spPr>
            <a:xfrm rot="5400000">
              <a:off x="4478760" y="2369160"/>
              <a:ext cx="189000" cy="878508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4" name="Line 7"/>
          <p:cNvSpPr/>
          <p:nvPr/>
        </p:nvSpPr>
        <p:spPr>
          <a:xfrm>
            <a:off x="179280" y="963720"/>
            <a:ext cx="8785440" cy="0"/>
          </a:xfrm>
          <a:prstGeom prst="line">
            <a:avLst/>
          </a:prstGeom>
          <a:ln w="7632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AutoShape 9"/>
          <p:cNvSpPr/>
          <p:nvPr/>
        </p:nvSpPr>
        <p:spPr>
          <a:xfrm>
            <a:off x="8172360" y="177840"/>
            <a:ext cx="792360" cy="747720"/>
          </a:xfrm>
          <a:prstGeom prst="bevel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WordArt 10"/>
          <p:cNvSpPr txBox="1"/>
          <p:nvPr/>
        </p:nvSpPr>
        <p:spPr>
          <a:xfrm>
            <a:off x="8296200" y="415800"/>
            <a:ext cx="505080" cy="2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2600" dir="0" blurRad="0" rotWithShape="0">
                    <a:srgbClr val="875b0d">
                      <a:alpha val="50000"/>
                    </a:srgbClr>
                  </a:outerShdw>
                </a:effectLst>
                <a:latin typeface="Arial"/>
              </a:rPr>
              <a:t>300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2600" dir="0" blurRad="0" rotWithShape="0">
                  <a:srgbClr val="875b0d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87" name="Text Box 11"/>
          <p:cNvSpPr/>
          <p:nvPr/>
        </p:nvSpPr>
        <p:spPr>
          <a:xfrm>
            <a:off x="7093080" y="54936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bbe0e3"/>
                </a:solidFill>
                <a:latin typeface="Arial"/>
              </a:rPr>
              <a:t>фина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Text Box 12"/>
          <p:cNvSpPr/>
          <p:nvPr/>
        </p:nvSpPr>
        <p:spPr>
          <a:xfrm>
            <a:off x="611280" y="2205000"/>
            <a:ext cx="806436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Кто  в 15 книгах под общим  названием «Начала» </a:t>
            </a:r>
            <a:br>
              <a:rPr sz="3600"/>
            </a:b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подвел итог 300-летнему развитию греческой  математики?</a:t>
            </a: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AutoShape 13"/>
          <p:cNvSpPr/>
          <p:nvPr/>
        </p:nvSpPr>
        <p:spPr>
          <a:xfrm>
            <a:off x="179280" y="6165720"/>
            <a:ext cx="506520" cy="503280"/>
          </a:xfrm>
          <a:custGeom>
            <a:avLst/>
            <a:gdLst>
              <a:gd name="textAreaLeft" fmla="*/ 32400 w 506520"/>
              <a:gd name="textAreaRight" fmla="*/ 474120 w 5065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1739" h="21600">
                <a:moveTo>
                  <a:pt x="0" y="0"/>
                </a:moveTo>
                <a:lnTo>
                  <a:pt x="21739" y="0"/>
                </a:lnTo>
                <a:lnTo>
                  <a:pt x="21739" y="21600"/>
                </a:lnTo>
                <a:lnTo>
                  <a:pt x="0" y="21600"/>
                </a:lnTo>
                <a:close/>
              </a:path>
              <a:path fill="lightenLess" w="21739" h="21600">
                <a:moveTo>
                  <a:pt x="0" y="0"/>
                </a:moveTo>
                <a:lnTo>
                  <a:pt x="21739" y="0"/>
                </a:lnTo>
                <a:lnTo>
                  <a:pt x="20339" y="1400"/>
                </a:lnTo>
                <a:lnTo>
                  <a:pt x="1400" y="1400"/>
                </a:lnTo>
                <a:close/>
              </a:path>
              <a:path fill="darken" w="21739" h="21600">
                <a:moveTo>
                  <a:pt x="21739" y="0"/>
                </a:moveTo>
                <a:lnTo>
                  <a:pt x="21739" y="21600"/>
                </a:lnTo>
                <a:lnTo>
                  <a:pt x="20339" y="20200"/>
                </a:lnTo>
                <a:lnTo>
                  <a:pt x="20339" y="1400"/>
                </a:lnTo>
                <a:close/>
              </a:path>
              <a:path fill="darkenLess" w="21739" h="21600">
                <a:moveTo>
                  <a:pt x="217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39" y="20200"/>
                </a:lnTo>
                <a:close/>
              </a:path>
              <a:path fill="lighten" w="217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739" h="21600">
                <a:moveTo>
                  <a:pt x="10869" y="3837"/>
                </a:moveTo>
                <a:lnTo>
                  <a:pt x="13446" y="6448"/>
                </a:lnTo>
                <a:lnTo>
                  <a:pt x="13446" y="4707"/>
                </a:lnTo>
                <a:lnTo>
                  <a:pt x="15221" y="4707"/>
                </a:lnTo>
                <a:lnTo>
                  <a:pt x="15221" y="8224"/>
                </a:lnTo>
                <a:lnTo>
                  <a:pt x="17832" y="10800"/>
                </a:lnTo>
                <a:lnTo>
                  <a:pt x="16179" y="10800"/>
                </a:lnTo>
                <a:lnTo>
                  <a:pt x="16179" y="17989"/>
                </a:lnTo>
                <a:lnTo>
                  <a:pt x="5560" y="17989"/>
                </a:lnTo>
                <a:lnTo>
                  <a:pt x="5560" y="10800"/>
                </a:lnTo>
                <a:lnTo>
                  <a:pt x="3907" y="10800"/>
                </a:lnTo>
                <a:close/>
              </a:path>
              <a:path fill="darkenLess" w="21739" h="21600">
                <a:moveTo>
                  <a:pt x="13446" y="6448"/>
                </a:moveTo>
                <a:lnTo>
                  <a:pt x="13446" y="4707"/>
                </a:lnTo>
                <a:lnTo>
                  <a:pt x="15221" y="4707"/>
                </a:lnTo>
                <a:lnTo>
                  <a:pt x="15221" y="8224"/>
                </a:lnTo>
                <a:close/>
              </a:path>
              <a:path fill="darkenLess" w="21739" h="21600">
                <a:moveTo>
                  <a:pt x="9947" y="14299"/>
                </a:moveTo>
                <a:lnTo>
                  <a:pt x="11792" y="14299"/>
                </a:lnTo>
                <a:lnTo>
                  <a:pt x="11792" y="17989"/>
                </a:lnTo>
                <a:lnTo>
                  <a:pt x="16179" y="17989"/>
                </a:lnTo>
                <a:lnTo>
                  <a:pt x="16179" y="10800"/>
                </a:lnTo>
                <a:lnTo>
                  <a:pt x="5560" y="10800"/>
                </a:lnTo>
                <a:lnTo>
                  <a:pt x="5560" y="17989"/>
                </a:lnTo>
                <a:lnTo>
                  <a:pt x="994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WordArt 14"/>
          <p:cNvSpPr txBox="1"/>
          <p:nvPr/>
        </p:nvSpPr>
        <p:spPr>
          <a:xfrm>
            <a:off x="3564000" y="5300640"/>
            <a:ext cx="216036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Евклид</a:t>
            </a:r>
            <a:endParaRPr b="1" i="1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ffff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791" name="Rectangle 15"/>
          <p:cNvSpPr/>
          <p:nvPr/>
        </p:nvSpPr>
        <p:spPr>
          <a:xfrm>
            <a:off x="539640" y="189000"/>
            <a:ext cx="662472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атематика в лиц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1" dur="indefinite" restart="never" nodeType="tmRoot">
          <p:childTnLst>
            <p:seq>
              <p:cTn id="952" dur="indefinite" nodeType="mainSeq">
                <p:childTnLst>
                  <p:par>
                    <p:cTn id="953" nodeType="clickEffect" fill="hold">
                      <p:stCondLst>
                        <p:cond delay="0"/>
                      </p:stCondLst>
                      <p:childTnLst>
                        <p:par>
                          <p:cTn id="9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7" dur="10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8" dur="10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nodeType="clickEffect" fill="hold">
                      <p:stCondLst>
                        <p:cond delay="indefinite"/>
                      </p:stCondLst>
                      <p:childTnLst>
                        <p:par>
                          <p:cTn id="9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3" dur="10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10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5" dur="1000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2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793" name="Rectangle 3"/>
            <p:cNvSpPr/>
            <p:nvPr/>
          </p:nvSpPr>
          <p:spPr>
            <a:xfrm>
              <a:off x="0" y="0"/>
              <a:ext cx="179280" cy="685800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Rectangle 4"/>
            <p:cNvSpPr/>
            <p:nvPr/>
          </p:nvSpPr>
          <p:spPr>
            <a:xfrm>
              <a:off x="8964720" y="0"/>
              <a:ext cx="179280" cy="685800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Rectangle 5"/>
            <p:cNvSpPr/>
            <p:nvPr/>
          </p:nvSpPr>
          <p:spPr>
            <a:xfrm rot="5400000">
              <a:off x="4478760" y="-4298040"/>
              <a:ext cx="189000" cy="878508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Rectangle 6"/>
            <p:cNvSpPr/>
            <p:nvPr/>
          </p:nvSpPr>
          <p:spPr>
            <a:xfrm rot="5400000">
              <a:off x="4478760" y="2369160"/>
              <a:ext cx="189000" cy="878508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7" name="Line 7"/>
          <p:cNvSpPr/>
          <p:nvPr/>
        </p:nvSpPr>
        <p:spPr>
          <a:xfrm>
            <a:off x="179280" y="963720"/>
            <a:ext cx="8785440" cy="0"/>
          </a:xfrm>
          <a:prstGeom prst="line">
            <a:avLst/>
          </a:prstGeom>
          <a:ln w="7632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Rectangle 8"/>
          <p:cNvSpPr/>
          <p:nvPr/>
        </p:nvSpPr>
        <p:spPr>
          <a:xfrm>
            <a:off x="1187280" y="189000"/>
            <a:ext cx="597708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дним словом - фразу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AutoShape 9"/>
          <p:cNvSpPr/>
          <p:nvPr/>
        </p:nvSpPr>
        <p:spPr>
          <a:xfrm>
            <a:off x="8172360" y="177840"/>
            <a:ext cx="792360" cy="747720"/>
          </a:xfrm>
          <a:prstGeom prst="bevel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WordArt 10"/>
          <p:cNvSpPr txBox="1"/>
          <p:nvPr/>
        </p:nvSpPr>
        <p:spPr>
          <a:xfrm>
            <a:off x="8296200" y="415800"/>
            <a:ext cx="505080" cy="2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2600" dir="0" blurRad="0" rotWithShape="0">
                    <a:srgbClr val="875b0d">
                      <a:alpha val="50000"/>
                    </a:srgbClr>
                  </a:outerShdw>
                </a:effectLst>
                <a:latin typeface="Arial"/>
              </a:rPr>
              <a:t>100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2600" dir="0" blurRad="0" rotWithShape="0">
                  <a:srgbClr val="875b0d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801" name="Text Box 11"/>
          <p:cNvSpPr/>
          <p:nvPr/>
        </p:nvSpPr>
        <p:spPr>
          <a:xfrm>
            <a:off x="7093080" y="54936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bbe0e3"/>
                </a:solidFill>
                <a:latin typeface="Arial"/>
              </a:rPr>
              <a:t>фина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Text Box 12"/>
          <p:cNvSpPr/>
          <p:nvPr/>
        </p:nvSpPr>
        <p:spPr>
          <a:xfrm>
            <a:off x="611280" y="2205000"/>
            <a:ext cx="8064360" cy="15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«Третья степень </a:t>
            </a:r>
            <a:br>
              <a:rPr sz="3600"/>
            </a:b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первой буквы алфавита» -  </a:t>
            </a:r>
            <a:br>
              <a:rPr sz="3600"/>
            </a:b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государство в Америке</a:t>
            </a: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AutoShape 13"/>
          <p:cNvSpPr/>
          <p:nvPr/>
        </p:nvSpPr>
        <p:spPr>
          <a:xfrm>
            <a:off x="179280" y="6165720"/>
            <a:ext cx="506520" cy="503280"/>
          </a:xfrm>
          <a:custGeom>
            <a:avLst/>
            <a:gdLst>
              <a:gd name="textAreaLeft" fmla="*/ 32400 w 506520"/>
              <a:gd name="textAreaRight" fmla="*/ 474120 w 5065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1739" h="21600">
                <a:moveTo>
                  <a:pt x="0" y="0"/>
                </a:moveTo>
                <a:lnTo>
                  <a:pt x="21739" y="0"/>
                </a:lnTo>
                <a:lnTo>
                  <a:pt x="21739" y="21600"/>
                </a:lnTo>
                <a:lnTo>
                  <a:pt x="0" y="21600"/>
                </a:lnTo>
                <a:close/>
              </a:path>
              <a:path fill="lightenLess" w="21739" h="21600">
                <a:moveTo>
                  <a:pt x="0" y="0"/>
                </a:moveTo>
                <a:lnTo>
                  <a:pt x="21739" y="0"/>
                </a:lnTo>
                <a:lnTo>
                  <a:pt x="20339" y="1400"/>
                </a:lnTo>
                <a:lnTo>
                  <a:pt x="1400" y="1400"/>
                </a:lnTo>
                <a:close/>
              </a:path>
              <a:path fill="darken" w="21739" h="21600">
                <a:moveTo>
                  <a:pt x="21739" y="0"/>
                </a:moveTo>
                <a:lnTo>
                  <a:pt x="21739" y="21600"/>
                </a:lnTo>
                <a:lnTo>
                  <a:pt x="20339" y="20200"/>
                </a:lnTo>
                <a:lnTo>
                  <a:pt x="20339" y="1400"/>
                </a:lnTo>
                <a:close/>
              </a:path>
              <a:path fill="darkenLess" w="21739" h="21600">
                <a:moveTo>
                  <a:pt x="217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39" y="20200"/>
                </a:lnTo>
                <a:close/>
              </a:path>
              <a:path fill="lighten" w="217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739" h="21600">
                <a:moveTo>
                  <a:pt x="10869" y="3837"/>
                </a:moveTo>
                <a:lnTo>
                  <a:pt x="13446" y="6448"/>
                </a:lnTo>
                <a:lnTo>
                  <a:pt x="13446" y="4707"/>
                </a:lnTo>
                <a:lnTo>
                  <a:pt x="15221" y="4707"/>
                </a:lnTo>
                <a:lnTo>
                  <a:pt x="15221" y="8224"/>
                </a:lnTo>
                <a:lnTo>
                  <a:pt x="17832" y="10800"/>
                </a:lnTo>
                <a:lnTo>
                  <a:pt x="16179" y="10800"/>
                </a:lnTo>
                <a:lnTo>
                  <a:pt x="16179" y="17989"/>
                </a:lnTo>
                <a:lnTo>
                  <a:pt x="5560" y="17989"/>
                </a:lnTo>
                <a:lnTo>
                  <a:pt x="5560" y="10800"/>
                </a:lnTo>
                <a:lnTo>
                  <a:pt x="3907" y="10800"/>
                </a:lnTo>
                <a:close/>
              </a:path>
              <a:path fill="darkenLess" w="21739" h="21600">
                <a:moveTo>
                  <a:pt x="13446" y="6448"/>
                </a:moveTo>
                <a:lnTo>
                  <a:pt x="13446" y="4707"/>
                </a:lnTo>
                <a:lnTo>
                  <a:pt x="15221" y="4707"/>
                </a:lnTo>
                <a:lnTo>
                  <a:pt x="15221" y="8224"/>
                </a:lnTo>
                <a:close/>
              </a:path>
              <a:path fill="darkenLess" w="21739" h="21600">
                <a:moveTo>
                  <a:pt x="9947" y="14299"/>
                </a:moveTo>
                <a:lnTo>
                  <a:pt x="11792" y="14299"/>
                </a:lnTo>
                <a:lnTo>
                  <a:pt x="11792" y="17989"/>
                </a:lnTo>
                <a:lnTo>
                  <a:pt x="16179" y="17989"/>
                </a:lnTo>
                <a:lnTo>
                  <a:pt x="16179" y="10800"/>
                </a:lnTo>
                <a:lnTo>
                  <a:pt x="5560" y="10800"/>
                </a:lnTo>
                <a:lnTo>
                  <a:pt x="5560" y="17989"/>
                </a:lnTo>
                <a:lnTo>
                  <a:pt x="994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WordArt 14"/>
          <p:cNvSpPr txBox="1"/>
          <p:nvPr/>
        </p:nvSpPr>
        <p:spPr>
          <a:xfrm>
            <a:off x="2340000" y="5013360"/>
            <a:ext cx="532764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Куб - а     Куба  </a:t>
            </a:r>
            <a:endParaRPr b="1" i="1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ffff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805" name="Rectangle 15"/>
          <p:cNvSpPr/>
          <p:nvPr/>
        </p:nvSpPr>
        <p:spPr>
          <a:xfrm>
            <a:off x="5067000" y="4949280"/>
            <a:ext cx="50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Wingdings 3"/>
                <a:ea typeface="Wingdings 3"/>
              </a:rPr>
              <a:t></a:t>
            </a: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nodeType="clickEffect" fill="hold">
                      <p:stCondLst>
                        <p:cond delay="0"/>
                      </p:stCondLst>
                      <p:childTnLst>
                        <p:par>
                          <p:cTn id="9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2" dur="10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3" dur="10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nodeType="clickEffect" fill="hold">
                      <p:stCondLst>
                        <p:cond delay="indefinite"/>
                      </p:stCondLst>
                      <p:childTnLst>
                        <p:par>
                          <p:cTn id="9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8" dur="5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1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6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807" name="Rectangle 3"/>
            <p:cNvSpPr/>
            <p:nvPr/>
          </p:nvSpPr>
          <p:spPr>
            <a:xfrm>
              <a:off x="0" y="0"/>
              <a:ext cx="179280" cy="685800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Rectangle 4"/>
            <p:cNvSpPr/>
            <p:nvPr/>
          </p:nvSpPr>
          <p:spPr>
            <a:xfrm>
              <a:off x="8964720" y="0"/>
              <a:ext cx="179280" cy="685800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Rectangle 5"/>
            <p:cNvSpPr/>
            <p:nvPr/>
          </p:nvSpPr>
          <p:spPr>
            <a:xfrm rot="5400000">
              <a:off x="4478760" y="-4298040"/>
              <a:ext cx="189000" cy="878508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Rectangle 6"/>
            <p:cNvSpPr/>
            <p:nvPr/>
          </p:nvSpPr>
          <p:spPr>
            <a:xfrm rot="5400000">
              <a:off x="4478760" y="2369160"/>
              <a:ext cx="189000" cy="878508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1" name="Line 7"/>
          <p:cNvSpPr/>
          <p:nvPr/>
        </p:nvSpPr>
        <p:spPr>
          <a:xfrm>
            <a:off x="179280" y="963720"/>
            <a:ext cx="8785440" cy="0"/>
          </a:xfrm>
          <a:prstGeom prst="line">
            <a:avLst/>
          </a:prstGeom>
          <a:ln w="7632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AutoShape 9"/>
          <p:cNvSpPr/>
          <p:nvPr/>
        </p:nvSpPr>
        <p:spPr>
          <a:xfrm>
            <a:off x="8172360" y="177840"/>
            <a:ext cx="792360" cy="747720"/>
          </a:xfrm>
          <a:prstGeom prst="bevel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WordArt 10"/>
          <p:cNvSpPr txBox="1"/>
          <p:nvPr/>
        </p:nvSpPr>
        <p:spPr>
          <a:xfrm>
            <a:off x="8296200" y="415800"/>
            <a:ext cx="505080" cy="2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2600" dir="0" blurRad="0" rotWithShape="0">
                    <a:srgbClr val="875b0d">
                      <a:alpha val="50000"/>
                    </a:srgbClr>
                  </a:outerShdw>
                </a:effectLst>
                <a:latin typeface="Arial"/>
              </a:rPr>
              <a:t>200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2600" dir="0" blurRad="0" rotWithShape="0">
                  <a:srgbClr val="875b0d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814" name="Text Box 11"/>
          <p:cNvSpPr/>
          <p:nvPr/>
        </p:nvSpPr>
        <p:spPr>
          <a:xfrm>
            <a:off x="7093080" y="54936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bbe0e3"/>
                </a:solidFill>
                <a:latin typeface="Arial"/>
              </a:rPr>
              <a:t>фина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Text Box 12"/>
          <p:cNvSpPr/>
          <p:nvPr/>
        </p:nvSpPr>
        <p:spPr>
          <a:xfrm>
            <a:off x="611280" y="2205000"/>
            <a:ext cx="8064360" cy="15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«Гектар, на котором ничего не выросло» - </a:t>
            </a:r>
            <a:br>
              <a:rPr sz="3600"/>
            </a:b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наркотик из индийской конопли</a:t>
            </a: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AutoShape 13"/>
          <p:cNvSpPr/>
          <p:nvPr/>
        </p:nvSpPr>
        <p:spPr>
          <a:xfrm>
            <a:off x="179280" y="6165720"/>
            <a:ext cx="506520" cy="503280"/>
          </a:xfrm>
          <a:custGeom>
            <a:avLst/>
            <a:gdLst>
              <a:gd name="textAreaLeft" fmla="*/ 32400 w 506520"/>
              <a:gd name="textAreaRight" fmla="*/ 474120 w 5065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1739" h="21600">
                <a:moveTo>
                  <a:pt x="0" y="0"/>
                </a:moveTo>
                <a:lnTo>
                  <a:pt x="21739" y="0"/>
                </a:lnTo>
                <a:lnTo>
                  <a:pt x="21739" y="21600"/>
                </a:lnTo>
                <a:lnTo>
                  <a:pt x="0" y="21600"/>
                </a:lnTo>
                <a:close/>
              </a:path>
              <a:path fill="lightenLess" w="21739" h="21600">
                <a:moveTo>
                  <a:pt x="0" y="0"/>
                </a:moveTo>
                <a:lnTo>
                  <a:pt x="21739" y="0"/>
                </a:lnTo>
                <a:lnTo>
                  <a:pt x="20339" y="1400"/>
                </a:lnTo>
                <a:lnTo>
                  <a:pt x="1400" y="1400"/>
                </a:lnTo>
                <a:close/>
              </a:path>
              <a:path fill="darken" w="21739" h="21600">
                <a:moveTo>
                  <a:pt x="21739" y="0"/>
                </a:moveTo>
                <a:lnTo>
                  <a:pt x="21739" y="21600"/>
                </a:lnTo>
                <a:lnTo>
                  <a:pt x="20339" y="20200"/>
                </a:lnTo>
                <a:lnTo>
                  <a:pt x="20339" y="1400"/>
                </a:lnTo>
                <a:close/>
              </a:path>
              <a:path fill="darkenLess" w="21739" h="21600">
                <a:moveTo>
                  <a:pt x="217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39" y="20200"/>
                </a:lnTo>
                <a:close/>
              </a:path>
              <a:path fill="lighten" w="217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739" h="21600">
                <a:moveTo>
                  <a:pt x="10869" y="3837"/>
                </a:moveTo>
                <a:lnTo>
                  <a:pt x="13446" y="6448"/>
                </a:lnTo>
                <a:lnTo>
                  <a:pt x="13446" y="4707"/>
                </a:lnTo>
                <a:lnTo>
                  <a:pt x="15221" y="4707"/>
                </a:lnTo>
                <a:lnTo>
                  <a:pt x="15221" y="8224"/>
                </a:lnTo>
                <a:lnTo>
                  <a:pt x="17832" y="10800"/>
                </a:lnTo>
                <a:lnTo>
                  <a:pt x="16179" y="10800"/>
                </a:lnTo>
                <a:lnTo>
                  <a:pt x="16179" y="17989"/>
                </a:lnTo>
                <a:lnTo>
                  <a:pt x="5560" y="17989"/>
                </a:lnTo>
                <a:lnTo>
                  <a:pt x="5560" y="10800"/>
                </a:lnTo>
                <a:lnTo>
                  <a:pt x="3907" y="10800"/>
                </a:lnTo>
                <a:close/>
              </a:path>
              <a:path fill="darkenLess" w="21739" h="21600">
                <a:moveTo>
                  <a:pt x="13446" y="6448"/>
                </a:moveTo>
                <a:lnTo>
                  <a:pt x="13446" y="4707"/>
                </a:lnTo>
                <a:lnTo>
                  <a:pt x="15221" y="4707"/>
                </a:lnTo>
                <a:lnTo>
                  <a:pt x="15221" y="8224"/>
                </a:lnTo>
                <a:close/>
              </a:path>
              <a:path fill="darkenLess" w="21739" h="21600">
                <a:moveTo>
                  <a:pt x="9947" y="14299"/>
                </a:moveTo>
                <a:lnTo>
                  <a:pt x="11792" y="14299"/>
                </a:lnTo>
                <a:lnTo>
                  <a:pt x="11792" y="17989"/>
                </a:lnTo>
                <a:lnTo>
                  <a:pt x="16179" y="17989"/>
                </a:lnTo>
                <a:lnTo>
                  <a:pt x="16179" y="10800"/>
                </a:lnTo>
                <a:lnTo>
                  <a:pt x="5560" y="10800"/>
                </a:lnTo>
                <a:lnTo>
                  <a:pt x="5560" y="17989"/>
                </a:lnTo>
                <a:lnTo>
                  <a:pt x="994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WordArt 14"/>
          <p:cNvSpPr txBox="1"/>
          <p:nvPr/>
        </p:nvSpPr>
        <p:spPr>
          <a:xfrm>
            <a:off x="1763640" y="5229360"/>
            <a:ext cx="590400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Га - шиш       Гашиш</a:t>
            </a:r>
            <a:endParaRPr b="1" i="1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ffff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818" name="Rectangle 17"/>
          <p:cNvSpPr/>
          <p:nvPr/>
        </p:nvSpPr>
        <p:spPr>
          <a:xfrm>
            <a:off x="1187280" y="189000"/>
            <a:ext cx="597708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дним словом - фразу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Rectangle 18"/>
          <p:cNvSpPr/>
          <p:nvPr/>
        </p:nvSpPr>
        <p:spPr>
          <a:xfrm>
            <a:off x="4851000" y="5228640"/>
            <a:ext cx="50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Wingdings 3"/>
                <a:ea typeface="Wingdings 3"/>
              </a:rPr>
              <a:t></a:t>
            </a: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2" dur="indefinite" restart="never" nodeType="tmRoot">
          <p:childTnLst>
            <p:seq>
              <p:cTn id="983" dur="indefinite" nodeType="mainSeq">
                <p:childTnLst>
                  <p:par>
                    <p:cTn id="984" nodeType="clickEffect" fill="hold">
                      <p:stCondLst>
                        <p:cond delay="0"/>
                      </p:stCondLst>
                      <p:childTnLst>
                        <p:par>
                          <p:cTn id="9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8" dur="10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9" dur="10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0" nodeType="clickEffect" fill="hold">
                      <p:stCondLst>
                        <p:cond delay="indefinite"/>
                      </p:stCondLst>
                      <p:childTnLst>
                        <p:par>
                          <p:cTn id="9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4" dur="5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7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821" name="Rectangle 3"/>
            <p:cNvSpPr/>
            <p:nvPr/>
          </p:nvSpPr>
          <p:spPr>
            <a:xfrm>
              <a:off x="0" y="0"/>
              <a:ext cx="179280" cy="685800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Rectangle 4"/>
            <p:cNvSpPr/>
            <p:nvPr/>
          </p:nvSpPr>
          <p:spPr>
            <a:xfrm>
              <a:off x="8964720" y="0"/>
              <a:ext cx="179280" cy="685800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Rectangle 5"/>
            <p:cNvSpPr/>
            <p:nvPr/>
          </p:nvSpPr>
          <p:spPr>
            <a:xfrm rot="5400000">
              <a:off x="4478760" y="-4298040"/>
              <a:ext cx="189000" cy="878508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Rectangle 6"/>
            <p:cNvSpPr/>
            <p:nvPr/>
          </p:nvSpPr>
          <p:spPr>
            <a:xfrm rot="5400000">
              <a:off x="4478760" y="2369160"/>
              <a:ext cx="189000" cy="878508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5" name="Line 7"/>
          <p:cNvSpPr/>
          <p:nvPr/>
        </p:nvSpPr>
        <p:spPr>
          <a:xfrm>
            <a:off x="179280" y="963720"/>
            <a:ext cx="8785440" cy="0"/>
          </a:xfrm>
          <a:prstGeom prst="line">
            <a:avLst/>
          </a:prstGeom>
          <a:ln w="7632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AutoShape 9"/>
          <p:cNvSpPr/>
          <p:nvPr/>
        </p:nvSpPr>
        <p:spPr>
          <a:xfrm>
            <a:off x="8172360" y="177840"/>
            <a:ext cx="792360" cy="747720"/>
          </a:xfrm>
          <a:prstGeom prst="bevel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WordArt 10"/>
          <p:cNvSpPr txBox="1"/>
          <p:nvPr/>
        </p:nvSpPr>
        <p:spPr>
          <a:xfrm>
            <a:off x="8296200" y="415800"/>
            <a:ext cx="505080" cy="2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2600" dir="0" blurRad="0" rotWithShape="0">
                    <a:srgbClr val="875b0d">
                      <a:alpha val="50000"/>
                    </a:srgbClr>
                  </a:outerShdw>
                </a:effectLst>
                <a:latin typeface="Arial"/>
              </a:rPr>
              <a:t>300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2600" dir="0" blurRad="0" rotWithShape="0">
                  <a:srgbClr val="875b0d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828" name="Text Box 11"/>
          <p:cNvSpPr/>
          <p:nvPr/>
        </p:nvSpPr>
        <p:spPr>
          <a:xfrm>
            <a:off x="7093080" y="54936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bbe0e3"/>
                </a:solidFill>
                <a:latin typeface="Arial"/>
              </a:rPr>
              <a:t>фина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Text Box 12"/>
          <p:cNvSpPr/>
          <p:nvPr/>
        </p:nvSpPr>
        <p:spPr>
          <a:xfrm>
            <a:off x="611280" y="2205000"/>
            <a:ext cx="8064360" cy="15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«Танцевальное движение единицы объема» - </a:t>
            </a: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инструментарий живописца</a:t>
            </a: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AutoShape 13"/>
          <p:cNvSpPr/>
          <p:nvPr/>
        </p:nvSpPr>
        <p:spPr>
          <a:xfrm>
            <a:off x="179280" y="6165720"/>
            <a:ext cx="506520" cy="503280"/>
          </a:xfrm>
          <a:custGeom>
            <a:avLst/>
            <a:gdLst>
              <a:gd name="textAreaLeft" fmla="*/ 32400 w 506520"/>
              <a:gd name="textAreaRight" fmla="*/ 474120 w 5065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1739" h="21600">
                <a:moveTo>
                  <a:pt x="0" y="0"/>
                </a:moveTo>
                <a:lnTo>
                  <a:pt x="21739" y="0"/>
                </a:lnTo>
                <a:lnTo>
                  <a:pt x="21739" y="21600"/>
                </a:lnTo>
                <a:lnTo>
                  <a:pt x="0" y="21600"/>
                </a:lnTo>
                <a:close/>
              </a:path>
              <a:path fill="lightenLess" w="21739" h="21600">
                <a:moveTo>
                  <a:pt x="0" y="0"/>
                </a:moveTo>
                <a:lnTo>
                  <a:pt x="21739" y="0"/>
                </a:lnTo>
                <a:lnTo>
                  <a:pt x="20339" y="1400"/>
                </a:lnTo>
                <a:lnTo>
                  <a:pt x="1400" y="1400"/>
                </a:lnTo>
                <a:close/>
              </a:path>
              <a:path fill="darken" w="21739" h="21600">
                <a:moveTo>
                  <a:pt x="21739" y="0"/>
                </a:moveTo>
                <a:lnTo>
                  <a:pt x="21739" y="21600"/>
                </a:lnTo>
                <a:lnTo>
                  <a:pt x="20339" y="20200"/>
                </a:lnTo>
                <a:lnTo>
                  <a:pt x="20339" y="1400"/>
                </a:lnTo>
                <a:close/>
              </a:path>
              <a:path fill="darkenLess" w="21739" h="21600">
                <a:moveTo>
                  <a:pt x="217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39" y="20200"/>
                </a:lnTo>
                <a:close/>
              </a:path>
              <a:path fill="lighten" w="217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739" h="21600">
                <a:moveTo>
                  <a:pt x="10869" y="3837"/>
                </a:moveTo>
                <a:lnTo>
                  <a:pt x="13446" y="6448"/>
                </a:lnTo>
                <a:lnTo>
                  <a:pt x="13446" y="4707"/>
                </a:lnTo>
                <a:lnTo>
                  <a:pt x="15221" y="4707"/>
                </a:lnTo>
                <a:lnTo>
                  <a:pt x="15221" y="8224"/>
                </a:lnTo>
                <a:lnTo>
                  <a:pt x="17832" y="10800"/>
                </a:lnTo>
                <a:lnTo>
                  <a:pt x="16179" y="10800"/>
                </a:lnTo>
                <a:lnTo>
                  <a:pt x="16179" y="17989"/>
                </a:lnTo>
                <a:lnTo>
                  <a:pt x="5560" y="17989"/>
                </a:lnTo>
                <a:lnTo>
                  <a:pt x="5560" y="10800"/>
                </a:lnTo>
                <a:lnTo>
                  <a:pt x="3907" y="10800"/>
                </a:lnTo>
                <a:close/>
              </a:path>
              <a:path fill="darkenLess" w="21739" h="21600">
                <a:moveTo>
                  <a:pt x="13446" y="6448"/>
                </a:moveTo>
                <a:lnTo>
                  <a:pt x="13446" y="4707"/>
                </a:lnTo>
                <a:lnTo>
                  <a:pt x="15221" y="4707"/>
                </a:lnTo>
                <a:lnTo>
                  <a:pt x="15221" y="8224"/>
                </a:lnTo>
                <a:close/>
              </a:path>
              <a:path fill="darkenLess" w="21739" h="21600">
                <a:moveTo>
                  <a:pt x="9947" y="14299"/>
                </a:moveTo>
                <a:lnTo>
                  <a:pt x="11792" y="14299"/>
                </a:lnTo>
                <a:lnTo>
                  <a:pt x="11792" y="17989"/>
                </a:lnTo>
                <a:lnTo>
                  <a:pt x="16179" y="17989"/>
                </a:lnTo>
                <a:lnTo>
                  <a:pt x="16179" y="10800"/>
                </a:lnTo>
                <a:lnTo>
                  <a:pt x="5560" y="10800"/>
                </a:lnTo>
                <a:lnTo>
                  <a:pt x="5560" y="17989"/>
                </a:lnTo>
                <a:lnTo>
                  <a:pt x="994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WordArt 14"/>
          <p:cNvSpPr txBox="1"/>
          <p:nvPr/>
        </p:nvSpPr>
        <p:spPr>
          <a:xfrm>
            <a:off x="1763640" y="5084640"/>
            <a:ext cx="59770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Па - литра      Палитра</a:t>
            </a:r>
            <a:endParaRPr b="1" i="1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ffff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832" name="Rectangle 17"/>
          <p:cNvSpPr/>
          <p:nvPr/>
        </p:nvSpPr>
        <p:spPr>
          <a:xfrm>
            <a:off x="1187280" y="189000"/>
            <a:ext cx="597708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дним словом - фразу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Rectangle 18"/>
          <p:cNvSpPr/>
          <p:nvPr/>
        </p:nvSpPr>
        <p:spPr>
          <a:xfrm>
            <a:off x="4777920" y="5012640"/>
            <a:ext cx="50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Wingdings 3"/>
                <a:ea typeface="Wingdings 3"/>
              </a:rPr>
              <a:t></a:t>
            </a: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8" dur="indefinite" restart="never" nodeType="tmRoot">
          <p:childTnLst>
            <p:seq>
              <p:cTn id="999" dur="indefinite" nodeType="mainSeq">
                <p:childTnLst>
                  <p:par>
                    <p:cTn id="1000" nodeType="clickEffect" fill="hold">
                      <p:stCondLst>
                        <p:cond delay="0"/>
                      </p:stCondLst>
                      <p:childTnLst>
                        <p:par>
                          <p:cTn id="10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4" dur="10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5" dur="10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nodeType="clickEffect" fill="hold">
                      <p:stCondLst>
                        <p:cond delay="indefinite"/>
                      </p:stCondLst>
                      <p:childTnLst>
                        <p:par>
                          <p:cTn id="10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0" dur="500"/>
                                        <p:tgtEl>
                                          <p:spTgt spid="8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3" dur="5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4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835" name="Rectangle 3"/>
            <p:cNvSpPr/>
            <p:nvPr/>
          </p:nvSpPr>
          <p:spPr>
            <a:xfrm>
              <a:off x="0" y="0"/>
              <a:ext cx="179280" cy="685800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Rectangle 4"/>
            <p:cNvSpPr/>
            <p:nvPr/>
          </p:nvSpPr>
          <p:spPr>
            <a:xfrm>
              <a:off x="8964720" y="0"/>
              <a:ext cx="179280" cy="685800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Rectangle 5"/>
            <p:cNvSpPr/>
            <p:nvPr/>
          </p:nvSpPr>
          <p:spPr>
            <a:xfrm rot="5400000">
              <a:off x="4478760" y="-4298040"/>
              <a:ext cx="189000" cy="878508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Rectangle 6"/>
            <p:cNvSpPr/>
            <p:nvPr/>
          </p:nvSpPr>
          <p:spPr>
            <a:xfrm rot="5400000">
              <a:off x="4478760" y="2369160"/>
              <a:ext cx="189000" cy="878508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9" name="WordArt 14"/>
          <p:cNvSpPr txBox="1"/>
          <p:nvPr/>
        </p:nvSpPr>
        <p:spPr>
          <a:xfrm>
            <a:off x="1332000" y="476280"/>
            <a:ext cx="6840360" cy="24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обеда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840" name="Picture 16" descr="stars"/>
          <p:cNvPicPr/>
          <p:nvPr/>
        </p:nvPicPr>
        <p:blipFill>
          <a:blip r:embed="rId1"/>
          <a:stretch/>
        </p:blipFill>
        <p:spPr>
          <a:xfrm>
            <a:off x="3276720" y="2925720"/>
            <a:ext cx="2458800" cy="2276640"/>
          </a:xfrm>
          <a:prstGeom prst="rect">
            <a:avLst/>
          </a:prstGeom>
          <a:ln w="0">
            <a:noFill/>
          </a:ln>
        </p:spPr>
      </p:pic>
      <p:pic>
        <p:nvPicPr>
          <p:cNvPr id="841" name="Picture 17" descr="b1"/>
          <p:cNvPicPr/>
          <p:nvPr/>
        </p:nvPicPr>
        <p:blipFill>
          <a:blip r:embed="rId2"/>
          <a:stretch/>
        </p:blipFill>
        <p:spPr>
          <a:xfrm rot="1256400">
            <a:off x="5508360" y="3068640"/>
            <a:ext cx="1771560" cy="2519280"/>
          </a:xfrm>
          <a:prstGeom prst="rect">
            <a:avLst/>
          </a:prstGeom>
          <a:ln w="0">
            <a:noFill/>
          </a:ln>
        </p:spPr>
      </p:pic>
      <p:pic>
        <p:nvPicPr>
          <p:cNvPr id="842" name="Picture 18" descr="b1"/>
          <p:cNvPicPr/>
          <p:nvPr/>
        </p:nvPicPr>
        <p:blipFill>
          <a:blip r:embed="rId3"/>
          <a:stretch/>
        </p:blipFill>
        <p:spPr>
          <a:xfrm rot="20162400">
            <a:off x="1979640" y="3298680"/>
            <a:ext cx="1771560" cy="25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2" name="Rectangle 3"/>
            <p:cNvSpPr/>
            <p:nvPr/>
          </p:nvSpPr>
          <p:spPr>
            <a:xfrm>
              <a:off x="0" y="0"/>
              <a:ext cx="179280" cy="685800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Rectangle 4"/>
            <p:cNvSpPr/>
            <p:nvPr/>
          </p:nvSpPr>
          <p:spPr>
            <a:xfrm>
              <a:off x="8964720" y="0"/>
              <a:ext cx="179280" cy="685800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Rectangle 5"/>
            <p:cNvSpPr/>
            <p:nvPr/>
          </p:nvSpPr>
          <p:spPr>
            <a:xfrm rot="5400000">
              <a:off x="4478760" y="-4298040"/>
              <a:ext cx="189000" cy="878508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Rectangle 6"/>
            <p:cNvSpPr/>
            <p:nvPr/>
          </p:nvSpPr>
          <p:spPr>
            <a:xfrm rot="5400000">
              <a:off x="4478760" y="2369160"/>
              <a:ext cx="189000" cy="878508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Rectangle 7"/>
          <p:cNvSpPr/>
          <p:nvPr/>
        </p:nvSpPr>
        <p:spPr>
          <a:xfrm>
            <a:off x="1042920" y="162000"/>
            <a:ext cx="77770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Своя игра</a:t>
            </a: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                   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I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ту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8"/>
          <p:cNvSpPr/>
          <p:nvPr/>
        </p:nvSpPr>
        <p:spPr>
          <a:xfrm>
            <a:off x="179280" y="836640"/>
            <a:ext cx="8785440" cy="0"/>
          </a:xfrm>
          <a:prstGeom prst="line">
            <a:avLst/>
          </a:prstGeom>
          <a:ln w="7632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35"/>
          <p:cNvSpPr/>
          <p:nvPr/>
        </p:nvSpPr>
        <p:spPr>
          <a:xfrm>
            <a:off x="468360" y="3716280"/>
            <a:ext cx="4032360" cy="936720"/>
          </a:xfrm>
          <a:prstGeom prst="bevel">
            <a:avLst>
              <a:gd name="adj" fmla="val 12500"/>
            </a:avLst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38"/>
          <p:cNvSpPr/>
          <p:nvPr/>
        </p:nvSpPr>
        <p:spPr>
          <a:xfrm>
            <a:off x="468360" y="2779560"/>
            <a:ext cx="4032360" cy="936720"/>
          </a:xfrm>
          <a:prstGeom prst="bevel">
            <a:avLst>
              <a:gd name="adj" fmla="val 12500"/>
            </a:avLst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39"/>
          <p:cNvSpPr/>
          <p:nvPr/>
        </p:nvSpPr>
        <p:spPr>
          <a:xfrm>
            <a:off x="468360" y="1916280"/>
            <a:ext cx="4032360" cy="865080"/>
          </a:xfrm>
          <a:prstGeom prst="bevel">
            <a:avLst>
              <a:gd name="adj" fmla="val 12500"/>
            </a:avLst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40">
            <a:hlinkClick r:id="rId1" action="ppaction://hlinksldjump"/>
          </p:cNvPr>
          <p:cNvSpPr/>
          <p:nvPr/>
        </p:nvSpPr>
        <p:spPr>
          <a:xfrm>
            <a:off x="4513320" y="3716280"/>
            <a:ext cx="1428840" cy="936720"/>
          </a:xfrm>
          <a:prstGeom prst="bevel">
            <a:avLst>
              <a:gd name="adj" fmla="val 12500"/>
            </a:avLst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9999"/>
                </a:solidFill>
                <a:uFillTx/>
                <a:latin typeface="Garamond"/>
                <a:hlinkClick r:id="rId2" action="ppaction://hlinksldjump"/>
              </a:rPr>
              <a:t>1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43">
            <a:hlinkClick r:id="rId3" action="ppaction://hlinksldjump"/>
          </p:cNvPr>
          <p:cNvSpPr/>
          <p:nvPr/>
        </p:nvSpPr>
        <p:spPr>
          <a:xfrm>
            <a:off x="4500720" y="2779560"/>
            <a:ext cx="1428480" cy="936720"/>
          </a:xfrm>
          <a:prstGeom prst="bevel">
            <a:avLst>
              <a:gd name="adj" fmla="val 12500"/>
            </a:avLst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9999"/>
                </a:solidFill>
                <a:uFillTx/>
                <a:latin typeface="Garamond"/>
                <a:hlinkClick r:id="rId4" action="ppaction://hlinksldjump"/>
              </a:rPr>
              <a:t>1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44">
            <a:hlinkClick r:id="rId5" action="ppaction://hlinksldjump"/>
          </p:cNvPr>
          <p:cNvSpPr/>
          <p:nvPr/>
        </p:nvSpPr>
        <p:spPr>
          <a:xfrm>
            <a:off x="4500720" y="1916280"/>
            <a:ext cx="1428480" cy="936360"/>
          </a:xfrm>
          <a:prstGeom prst="bevel">
            <a:avLst>
              <a:gd name="adj" fmla="val 12500"/>
            </a:avLst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9999"/>
                </a:solidFill>
                <a:uFillTx/>
                <a:latin typeface="Garamond"/>
                <a:hlinkClick r:id="rId6" action="ppaction://hlinksldjump"/>
              </a:rPr>
              <a:t>1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45">
            <a:hlinkClick r:id="rId7" action="ppaction://hlinksldjump"/>
          </p:cNvPr>
          <p:cNvSpPr/>
          <p:nvPr/>
        </p:nvSpPr>
        <p:spPr>
          <a:xfrm>
            <a:off x="7391520" y="3716280"/>
            <a:ext cx="1301760" cy="936720"/>
          </a:xfrm>
          <a:prstGeom prst="bevel">
            <a:avLst>
              <a:gd name="adj" fmla="val 12500"/>
            </a:avLst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9999"/>
                </a:solidFill>
                <a:uFillTx/>
                <a:latin typeface="Garamond"/>
                <a:hlinkClick r:id="rId8" action="ppaction://hlinksldjump"/>
              </a:rPr>
              <a:t>3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48">
            <a:hlinkClick r:id="rId9" action="ppaction://hlinksldjump"/>
          </p:cNvPr>
          <p:cNvSpPr/>
          <p:nvPr/>
        </p:nvSpPr>
        <p:spPr>
          <a:xfrm>
            <a:off x="7380360" y="2779560"/>
            <a:ext cx="1314360" cy="936720"/>
          </a:xfrm>
          <a:prstGeom prst="bevel">
            <a:avLst>
              <a:gd name="adj" fmla="val 12500"/>
            </a:avLst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9999"/>
                </a:solidFill>
                <a:uFillTx/>
                <a:latin typeface="Garamond"/>
                <a:hlinkClick r:id="rId10" action="ppaction://hlinksldjump"/>
              </a:rPr>
              <a:t>3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49">
            <a:hlinkClick r:id="rId11" action="ppaction://hlinksldjump"/>
          </p:cNvPr>
          <p:cNvSpPr/>
          <p:nvPr/>
        </p:nvSpPr>
        <p:spPr>
          <a:xfrm>
            <a:off x="7391520" y="1916280"/>
            <a:ext cx="1301760" cy="936360"/>
          </a:xfrm>
          <a:prstGeom prst="bevel">
            <a:avLst>
              <a:gd name="adj" fmla="val 12500"/>
            </a:avLst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9999"/>
                </a:solidFill>
                <a:uFillTx/>
                <a:latin typeface="Garamond"/>
                <a:hlinkClick r:id="rId12" action="ppaction://hlinksldjump"/>
              </a:rPr>
              <a:t>3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50">
            <a:hlinkClick r:id="rId13" action="ppaction://hlinksldjump"/>
          </p:cNvPr>
          <p:cNvSpPr/>
          <p:nvPr/>
        </p:nvSpPr>
        <p:spPr>
          <a:xfrm>
            <a:off x="5940360" y="3716280"/>
            <a:ext cx="1428840" cy="936720"/>
          </a:xfrm>
          <a:prstGeom prst="bevel">
            <a:avLst>
              <a:gd name="adj" fmla="val 12500"/>
            </a:avLst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9999"/>
                </a:solidFill>
                <a:uFillTx/>
                <a:latin typeface="Garamond"/>
                <a:hlinkClick r:id="rId14" action="ppaction://hlinksldjump"/>
              </a:rPr>
              <a:t>2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53">
            <a:hlinkClick r:id="rId15" action="ppaction://hlinksldjump"/>
          </p:cNvPr>
          <p:cNvSpPr/>
          <p:nvPr/>
        </p:nvSpPr>
        <p:spPr>
          <a:xfrm>
            <a:off x="5940360" y="2779560"/>
            <a:ext cx="1428840" cy="936720"/>
          </a:xfrm>
          <a:prstGeom prst="bevel">
            <a:avLst>
              <a:gd name="adj" fmla="val 12500"/>
            </a:avLst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9999"/>
                </a:solidFill>
                <a:uFillTx/>
                <a:latin typeface="Garamond"/>
                <a:hlinkClick r:id="rId16" action="ppaction://hlinksldjump"/>
              </a:rPr>
              <a:t>2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54">
            <a:hlinkClick r:id="rId17" action="ppaction://hlinksldjump"/>
          </p:cNvPr>
          <p:cNvSpPr/>
          <p:nvPr/>
        </p:nvSpPr>
        <p:spPr>
          <a:xfrm>
            <a:off x="5952960" y="1916280"/>
            <a:ext cx="1428840" cy="936360"/>
          </a:xfrm>
          <a:prstGeom prst="bevel">
            <a:avLst>
              <a:gd name="adj" fmla="val 12500"/>
            </a:avLst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9999"/>
                </a:solidFill>
                <a:uFillTx/>
                <a:latin typeface="Garamond"/>
                <a:hlinkClick r:id="rId18" action="ppaction://hlinksldjump"/>
              </a:rPr>
              <a:t>2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55"/>
          <p:cNvSpPr/>
          <p:nvPr/>
        </p:nvSpPr>
        <p:spPr>
          <a:xfrm>
            <a:off x="539640" y="1916280"/>
            <a:ext cx="3816360" cy="70380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гадки с математическим уклон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56"/>
          <p:cNvSpPr/>
          <p:nvPr/>
        </p:nvSpPr>
        <p:spPr>
          <a:xfrm>
            <a:off x="539640" y="2924280"/>
            <a:ext cx="3816360" cy="45972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еометр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58"/>
          <p:cNvSpPr/>
          <p:nvPr/>
        </p:nvSpPr>
        <p:spPr>
          <a:xfrm>
            <a:off x="611280" y="3860640"/>
            <a:ext cx="3744720" cy="45972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гадай сло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61">
            <a:hlinkClick r:id="rId19" action="ppaction://hlinksldjump"/>
          </p:cNvPr>
          <p:cNvSpPr/>
          <p:nvPr/>
        </p:nvSpPr>
        <p:spPr>
          <a:xfrm rot="10800000">
            <a:off x="8566200" y="6270120"/>
            <a:ext cx="395280" cy="405000"/>
          </a:xfrm>
          <a:custGeom>
            <a:avLst/>
            <a:gdLst>
              <a:gd name="textAreaLeft" fmla="*/ 25560 w 395280"/>
              <a:gd name="textAreaRight" fmla="*/ 369720 w 395280"/>
              <a:gd name="textAreaTop" fmla="*/ 25560 h 405000"/>
              <a:gd name="textAreaBottom" fmla="*/ 379440 h 405000"/>
            </a:gdLst>
            <a:ahLst/>
            <a:rect l="textAreaLeft" t="textAreaTop" r="textAreaRight" b="textAreaBottom"/>
            <a:pathLst>
              <a:path w="21600" h="22131">
                <a:moveTo>
                  <a:pt x="0" y="0"/>
                </a:moveTo>
                <a:lnTo>
                  <a:pt x="21600" y="0"/>
                </a:lnTo>
                <a:lnTo>
                  <a:pt x="21600" y="22131"/>
                </a:lnTo>
                <a:lnTo>
                  <a:pt x="0" y="22131"/>
                </a:lnTo>
                <a:close/>
              </a:path>
              <a:path fill="lightenLess" w="21600" h="221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131">
                <a:moveTo>
                  <a:pt x="21600" y="0"/>
                </a:moveTo>
                <a:lnTo>
                  <a:pt x="21600" y="22131"/>
                </a:lnTo>
                <a:lnTo>
                  <a:pt x="20200" y="20731"/>
                </a:lnTo>
                <a:lnTo>
                  <a:pt x="20200" y="1400"/>
                </a:lnTo>
                <a:close/>
              </a:path>
              <a:path fill="darkenLess" w="21600" h="22131">
                <a:moveTo>
                  <a:pt x="21600" y="22131"/>
                </a:moveTo>
                <a:lnTo>
                  <a:pt x="0" y="22131"/>
                </a:lnTo>
                <a:lnTo>
                  <a:pt x="1400" y="20731"/>
                </a:lnTo>
                <a:lnTo>
                  <a:pt x="20200" y="20731"/>
                </a:lnTo>
                <a:close/>
              </a:path>
              <a:path fill="lighten" w="21600" h="22131">
                <a:moveTo>
                  <a:pt x="0" y="221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0731"/>
                </a:lnTo>
                <a:close/>
              </a:path>
              <a:path fill="darken" w="21600" h="22131">
                <a:moveTo>
                  <a:pt x="3794" y="7758"/>
                </a:moveTo>
                <a:lnTo>
                  <a:pt x="7301" y="7758"/>
                </a:lnTo>
                <a:lnTo>
                  <a:pt x="7301" y="13093"/>
                </a:lnTo>
                <a:cubicBezTo>
                  <a:pt x="7301" y="14016"/>
                  <a:pt x="8102" y="14747"/>
                  <a:pt x="9138" y="14747"/>
                </a:cubicBezTo>
                <a:lnTo>
                  <a:pt x="10800" y="14747"/>
                </a:lnTo>
                <a:cubicBezTo>
                  <a:pt x="11836" y="14747"/>
                  <a:pt x="12636" y="14016"/>
                  <a:pt x="12636" y="13093"/>
                </a:cubicBezTo>
                <a:lnTo>
                  <a:pt x="12636" y="7758"/>
                </a:lnTo>
                <a:lnTo>
                  <a:pt x="10800" y="7758"/>
                </a:lnTo>
                <a:lnTo>
                  <a:pt x="14308" y="4250"/>
                </a:lnTo>
                <a:lnTo>
                  <a:pt x="17981" y="7758"/>
                </a:lnTo>
                <a:lnTo>
                  <a:pt x="16144" y="7758"/>
                </a:lnTo>
                <a:lnTo>
                  <a:pt x="16144" y="13093"/>
                </a:lnTo>
                <a:cubicBezTo>
                  <a:pt x="16144" y="15861"/>
                  <a:pt x="13568" y="18420"/>
                  <a:pt x="10800" y="18420"/>
                </a:cubicBezTo>
                <a:lnTo>
                  <a:pt x="9138" y="18420"/>
                </a:lnTo>
                <a:cubicBezTo>
                  <a:pt x="6370" y="18420"/>
                  <a:pt x="3794" y="15861"/>
                  <a:pt x="3794" y="13093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62">
            <a:hlinkClick r:id="rId20" action="ppaction://hlinksldjump"/>
          </p:cNvPr>
          <p:cNvSpPr/>
          <p:nvPr/>
        </p:nvSpPr>
        <p:spPr>
          <a:xfrm>
            <a:off x="179280" y="189000"/>
            <a:ext cx="289080" cy="368280"/>
          </a:xfrm>
          <a:prstGeom prst="rect">
            <a:avLst/>
          </a:prstGeom>
          <a:gradFill rotWithShape="0">
            <a:gsLst>
              <a:gs pos="0">
                <a:srgbClr val="576869"/>
              </a:gs>
              <a:gs pos="50000">
                <a:srgbClr val="bbe0e3"/>
              </a:gs>
              <a:gs pos="100000">
                <a:srgbClr val="576869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63">
            <a:hlinkClick r:id="rId21" action="ppaction://hlinksldjump"/>
          </p:cNvPr>
          <p:cNvSpPr/>
          <p:nvPr/>
        </p:nvSpPr>
        <p:spPr>
          <a:xfrm>
            <a:off x="468360" y="189000"/>
            <a:ext cx="287280" cy="368280"/>
          </a:xfrm>
          <a:prstGeom prst="rect">
            <a:avLst/>
          </a:prstGeom>
          <a:gradFill rotWithShape="0">
            <a:gsLst>
              <a:gs pos="0">
                <a:srgbClr val="576869"/>
              </a:gs>
              <a:gs pos="50000">
                <a:srgbClr val="bbe0e3"/>
              </a:gs>
              <a:gs pos="100000">
                <a:srgbClr val="576869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64">
            <a:hlinkClick r:id="rId22" action="ppaction://hlinksldjump"/>
          </p:cNvPr>
          <p:cNvSpPr/>
          <p:nvPr/>
        </p:nvSpPr>
        <p:spPr>
          <a:xfrm>
            <a:off x="755640" y="189000"/>
            <a:ext cx="287280" cy="368280"/>
          </a:xfrm>
          <a:prstGeom prst="rect">
            <a:avLst/>
          </a:prstGeom>
          <a:gradFill rotWithShape="0">
            <a:gsLst>
              <a:gs pos="0">
                <a:srgbClr val="576869"/>
              </a:gs>
              <a:gs pos="50000">
                <a:srgbClr val="bbe0e3"/>
              </a:gs>
              <a:gs pos="100000">
                <a:srgbClr val="576869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65">
            <a:hlinkClick r:id="rId23" action="ppaction://hlinksldjump"/>
          </p:cNvPr>
          <p:cNvSpPr/>
          <p:nvPr/>
        </p:nvSpPr>
        <p:spPr>
          <a:xfrm>
            <a:off x="1042920" y="189000"/>
            <a:ext cx="287280" cy="368280"/>
          </a:xfrm>
          <a:prstGeom prst="rect">
            <a:avLst/>
          </a:prstGeom>
          <a:gradFill rotWithShape="0">
            <a:gsLst>
              <a:gs pos="0">
                <a:srgbClr val="576869"/>
              </a:gs>
              <a:gs pos="50000">
                <a:srgbClr val="bbe0e3"/>
              </a:gs>
              <a:gs pos="100000">
                <a:srgbClr val="576869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Литератур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Text Box 4"/>
          <p:cNvSpPr/>
          <p:nvPr/>
        </p:nvSpPr>
        <p:spPr>
          <a:xfrm>
            <a:off x="250920" y="1700280"/>
            <a:ext cx="8675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геева И.Д.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Занимательные материалы по информатике и 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 математике. Методическое пособие.-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М.: ТЦ Сфера, 2005. – 240 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етодическая разработка «Ребусы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Савченко Е.М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Мурманская обл.,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Полярные Зори, МОУ гимназия № 1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gu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 Картинки  http://www.gifpark.su/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9" name="Rectangle 3"/>
            <p:cNvSpPr/>
            <p:nvPr/>
          </p:nvSpPr>
          <p:spPr>
            <a:xfrm>
              <a:off x="0" y="0"/>
              <a:ext cx="179280" cy="685800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4"/>
            <p:cNvSpPr/>
            <p:nvPr/>
          </p:nvSpPr>
          <p:spPr>
            <a:xfrm>
              <a:off x="8964720" y="0"/>
              <a:ext cx="179280" cy="685800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5"/>
            <p:cNvSpPr/>
            <p:nvPr/>
          </p:nvSpPr>
          <p:spPr>
            <a:xfrm rot="5400000">
              <a:off x="4478760" y="-4298040"/>
              <a:ext cx="189000" cy="878508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6"/>
            <p:cNvSpPr/>
            <p:nvPr/>
          </p:nvSpPr>
          <p:spPr>
            <a:xfrm rot="5400000">
              <a:off x="4478760" y="2369160"/>
              <a:ext cx="189000" cy="878508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" name="Line 8"/>
          <p:cNvSpPr/>
          <p:nvPr/>
        </p:nvSpPr>
        <p:spPr>
          <a:xfrm>
            <a:off x="179280" y="963720"/>
            <a:ext cx="8785440" cy="0"/>
          </a:xfrm>
          <a:prstGeom prst="line">
            <a:avLst/>
          </a:prstGeom>
          <a:ln w="7632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2"/>
          <p:cNvSpPr/>
          <p:nvPr/>
        </p:nvSpPr>
        <p:spPr>
          <a:xfrm>
            <a:off x="539640" y="189000"/>
            <a:ext cx="662472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агадки с математическим уклоном</a:t>
            </a: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13"/>
          <p:cNvSpPr/>
          <p:nvPr/>
        </p:nvSpPr>
        <p:spPr>
          <a:xfrm>
            <a:off x="8172360" y="177840"/>
            <a:ext cx="792360" cy="747720"/>
          </a:xfrm>
          <a:prstGeom prst="bevel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WordArt 14"/>
          <p:cNvSpPr txBox="1"/>
          <p:nvPr/>
        </p:nvSpPr>
        <p:spPr>
          <a:xfrm>
            <a:off x="8296200" y="415800"/>
            <a:ext cx="505080" cy="2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2600" dir="0" blurRad="0" rotWithShape="0">
                    <a:srgbClr val="875b0d">
                      <a:alpha val="50000"/>
                    </a:srgbClr>
                  </a:outerShdw>
                </a:effectLst>
                <a:latin typeface="Arial"/>
              </a:rPr>
              <a:t>100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2600" dir="0" blurRad="0" rotWithShape="0">
                  <a:srgbClr val="875b0d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27" name="Text Box 15"/>
          <p:cNvSpPr/>
          <p:nvPr/>
        </p:nvSpPr>
        <p:spPr>
          <a:xfrm>
            <a:off x="7308720" y="549360"/>
            <a:ext cx="9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bbe0e3"/>
                </a:solidFill>
                <a:latin typeface="Arial"/>
              </a:rPr>
              <a:t>1 ту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6"/>
          <p:cNvSpPr/>
          <p:nvPr/>
        </p:nvSpPr>
        <p:spPr>
          <a:xfrm>
            <a:off x="1619280" y="1916280"/>
            <a:ext cx="590400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Семи</a:t>
            </a: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цветный</a:t>
            </a: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 полукру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Из</a:t>
            </a: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 семи </a:t>
            </a: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широких</a:t>
            </a: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 ду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WordArt 17"/>
          <p:cNvSpPr txBox="1"/>
          <p:nvPr/>
        </p:nvSpPr>
        <p:spPr>
          <a:xfrm>
            <a:off x="2484360" y="4869000"/>
            <a:ext cx="180036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Радуга</a:t>
            </a:r>
            <a:endParaRPr b="1" i="1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ffff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130" name="AutoShape 18">
            <a:hlinkClick r:id="rId2" action="ppaction://hlinksldjump"/>
          </p:cNvPr>
          <p:cNvSpPr/>
          <p:nvPr/>
        </p:nvSpPr>
        <p:spPr>
          <a:xfrm>
            <a:off x="179280" y="6165720"/>
            <a:ext cx="505080" cy="50328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1677" h="21600">
                <a:moveTo>
                  <a:pt x="0" y="0"/>
                </a:moveTo>
                <a:lnTo>
                  <a:pt x="21677" y="0"/>
                </a:lnTo>
                <a:lnTo>
                  <a:pt x="21677" y="21600"/>
                </a:lnTo>
                <a:lnTo>
                  <a:pt x="0" y="21600"/>
                </a:lnTo>
                <a:close/>
              </a:path>
              <a:path fill="lightenLess" w="21677" h="21600">
                <a:moveTo>
                  <a:pt x="0" y="0"/>
                </a:moveTo>
                <a:lnTo>
                  <a:pt x="21677" y="0"/>
                </a:lnTo>
                <a:lnTo>
                  <a:pt x="20277" y="1400"/>
                </a:lnTo>
                <a:lnTo>
                  <a:pt x="1400" y="1400"/>
                </a:lnTo>
                <a:close/>
              </a:path>
              <a:path fill="darken" w="21677" h="21600">
                <a:moveTo>
                  <a:pt x="21677" y="0"/>
                </a:moveTo>
                <a:lnTo>
                  <a:pt x="21677" y="21600"/>
                </a:lnTo>
                <a:lnTo>
                  <a:pt x="20277" y="20200"/>
                </a:lnTo>
                <a:lnTo>
                  <a:pt x="20277" y="1400"/>
                </a:lnTo>
                <a:close/>
              </a:path>
              <a:path fill="darkenLess" w="21677" h="21600">
                <a:moveTo>
                  <a:pt x="216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77" y="20200"/>
                </a:lnTo>
                <a:close/>
              </a:path>
              <a:path fill="lighten" w="216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77" h="21600">
                <a:moveTo>
                  <a:pt x="10839" y="3837"/>
                </a:moveTo>
                <a:lnTo>
                  <a:pt x="13415" y="6448"/>
                </a:lnTo>
                <a:lnTo>
                  <a:pt x="13415" y="4707"/>
                </a:lnTo>
                <a:lnTo>
                  <a:pt x="15190" y="4707"/>
                </a:lnTo>
                <a:lnTo>
                  <a:pt x="15190" y="8224"/>
                </a:lnTo>
                <a:lnTo>
                  <a:pt x="17802" y="10800"/>
                </a:lnTo>
                <a:lnTo>
                  <a:pt x="16148" y="10800"/>
                </a:lnTo>
                <a:lnTo>
                  <a:pt x="16148" y="17989"/>
                </a:lnTo>
                <a:lnTo>
                  <a:pt x="5529" y="17989"/>
                </a:lnTo>
                <a:lnTo>
                  <a:pt x="5529" y="10800"/>
                </a:lnTo>
                <a:lnTo>
                  <a:pt x="3876" y="10800"/>
                </a:lnTo>
                <a:close/>
              </a:path>
              <a:path fill="darkenLess" w="21677" h="21600">
                <a:moveTo>
                  <a:pt x="13415" y="6448"/>
                </a:moveTo>
                <a:lnTo>
                  <a:pt x="13415" y="4707"/>
                </a:lnTo>
                <a:lnTo>
                  <a:pt x="15190" y="4707"/>
                </a:lnTo>
                <a:lnTo>
                  <a:pt x="15190" y="8224"/>
                </a:lnTo>
                <a:close/>
              </a:path>
              <a:path fill="darkenLess" w="21677" h="21600">
                <a:moveTo>
                  <a:pt x="9916" y="14299"/>
                </a:moveTo>
                <a:lnTo>
                  <a:pt x="11761" y="14299"/>
                </a:lnTo>
                <a:lnTo>
                  <a:pt x="11761" y="17989"/>
                </a:lnTo>
                <a:lnTo>
                  <a:pt x="16148" y="17989"/>
                </a:lnTo>
                <a:lnTo>
                  <a:pt x="16148" y="10800"/>
                </a:lnTo>
                <a:lnTo>
                  <a:pt x="5529" y="10800"/>
                </a:lnTo>
                <a:lnTo>
                  <a:pt x="5529" y="17989"/>
                </a:lnTo>
                <a:lnTo>
                  <a:pt x="9916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20" descr="r1"/>
          <p:cNvPicPr/>
          <p:nvPr/>
        </p:nvPicPr>
        <p:blipFill>
          <a:blip r:embed="rId3"/>
          <a:stretch/>
        </p:blipFill>
        <p:spPr>
          <a:xfrm>
            <a:off x="4716360" y="4005360"/>
            <a:ext cx="2808360" cy="149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0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33" name="Rectangle 3"/>
            <p:cNvSpPr/>
            <p:nvPr/>
          </p:nvSpPr>
          <p:spPr>
            <a:xfrm>
              <a:off x="0" y="0"/>
              <a:ext cx="179280" cy="685800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Rectangle 4"/>
            <p:cNvSpPr/>
            <p:nvPr/>
          </p:nvSpPr>
          <p:spPr>
            <a:xfrm>
              <a:off x="8964720" y="0"/>
              <a:ext cx="179280" cy="685800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Rectangle 5"/>
            <p:cNvSpPr/>
            <p:nvPr/>
          </p:nvSpPr>
          <p:spPr>
            <a:xfrm rot="5400000">
              <a:off x="4478760" y="-4298040"/>
              <a:ext cx="189000" cy="878508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Rectangle 6"/>
            <p:cNvSpPr/>
            <p:nvPr/>
          </p:nvSpPr>
          <p:spPr>
            <a:xfrm rot="5400000">
              <a:off x="4478760" y="2369160"/>
              <a:ext cx="189000" cy="878508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" name="Line 7"/>
          <p:cNvSpPr/>
          <p:nvPr/>
        </p:nvSpPr>
        <p:spPr>
          <a:xfrm>
            <a:off x="179280" y="963720"/>
            <a:ext cx="8785440" cy="0"/>
          </a:xfrm>
          <a:prstGeom prst="line">
            <a:avLst/>
          </a:prstGeom>
          <a:ln w="7632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9"/>
          <p:cNvSpPr/>
          <p:nvPr/>
        </p:nvSpPr>
        <p:spPr>
          <a:xfrm>
            <a:off x="8172360" y="177840"/>
            <a:ext cx="792360" cy="747720"/>
          </a:xfrm>
          <a:prstGeom prst="bevel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WordArt 10"/>
          <p:cNvSpPr txBox="1"/>
          <p:nvPr/>
        </p:nvSpPr>
        <p:spPr>
          <a:xfrm>
            <a:off x="8296200" y="415800"/>
            <a:ext cx="505080" cy="2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2600" dir="0" blurRad="0" rotWithShape="0">
                    <a:srgbClr val="875b0d">
                      <a:alpha val="50000"/>
                    </a:srgbClr>
                  </a:outerShdw>
                </a:effectLst>
                <a:latin typeface="Arial"/>
              </a:rPr>
              <a:t>200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2600" dir="0" blurRad="0" rotWithShape="0">
                  <a:srgbClr val="875b0d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40" name="Text Box 11"/>
          <p:cNvSpPr/>
          <p:nvPr/>
        </p:nvSpPr>
        <p:spPr>
          <a:xfrm>
            <a:off x="7308720" y="549360"/>
            <a:ext cx="9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bbe0e3"/>
                </a:solidFill>
                <a:latin typeface="Arial"/>
              </a:rPr>
              <a:t>1 ту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2"/>
          <p:cNvSpPr/>
          <p:nvPr/>
        </p:nvSpPr>
        <p:spPr>
          <a:xfrm>
            <a:off x="611280" y="1557360"/>
            <a:ext cx="5545080" cy="29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Шевелились у цвет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Все</a:t>
            </a: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 четыре </a:t>
            </a: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лепестк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Я сорвать его хотел –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Он вспорхнул и улетел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14">
            <a:hlinkClick r:id="rId2" action="ppaction://hlinksldjump"/>
          </p:cNvPr>
          <p:cNvSpPr/>
          <p:nvPr/>
        </p:nvSpPr>
        <p:spPr>
          <a:xfrm>
            <a:off x="179280" y="6165720"/>
            <a:ext cx="506520" cy="503280"/>
          </a:xfrm>
          <a:custGeom>
            <a:avLst/>
            <a:gdLst>
              <a:gd name="textAreaLeft" fmla="*/ 32400 w 506520"/>
              <a:gd name="textAreaRight" fmla="*/ 474120 w 5065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1739" h="21600">
                <a:moveTo>
                  <a:pt x="0" y="0"/>
                </a:moveTo>
                <a:lnTo>
                  <a:pt x="21739" y="0"/>
                </a:lnTo>
                <a:lnTo>
                  <a:pt x="21739" y="21600"/>
                </a:lnTo>
                <a:lnTo>
                  <a:pt x="0" y="21600"/>
                </a:lnTo>
                <a:close/>
              </a:path>
              <a:path fill="lightenLess" w="21739" h="21600">
                <a:moveTo>
                  <a:pt x="0" y="0"/>
                </a:moveTo>
                <a:lnTo>
                  <a:pt x="21739" y="0"/>
                </a:lnTo>
                <a:lnTo>
                  <a:pt x="20339" y="1400"/>
                </a:lnTo>
                <a:lnTo>
                  <a:pt x="1400" y="1400"/>
                </a:lnTo>
                <a:close/>
              </a:path>
              <a:path fill="darken" w="21739" h="21600">
                <a:moveTo>
                  <a:pt x="21739" y="0"/>
                </a:moveTo>
                <a:lnTo>
                  <a:pt x="21739" y="21600"/>
                </a:lnTo>
                <a:lnTo>
                  <a:pt x="20339" y="20200"/>
                </a:lnTo>
                <a:lnTo>
                  <a:pt x="20339" y="1400"/>
                </a:lnTo>
                <a:close/>
              </a:path>
              <a:path fill="darkenLess" w="21739" h="21600">
                <a:moveTo>
                  <a:pt x="217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39" y="20200"/>
                </a:lnTo>
                <a:close/>
              </a:path>
              <a:path fill="lighten" w="217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739" h="21600">
                <a:moveTo>
                  <a:pt x="10869" y="3837"/>
                </a:moveTo>
                <a:lnTo>
                  <a:pt x="13446" y="6448"/>
                </a:lnTo>
                <a:lnTo>
                  <a:pt x="13446" y="4707"/>
                </a:lnTo>
                <a:lnTo>
                  <a:pt x="15221" y="4707"/>
                </a:lnTo>
                <a:lnTo>
                  <a:pt x="15221" y="8224"/>
                </a:lnTo>
                <a:lnTo>
                  <a:pt x="17832" y="10800"/>
                </a:lnTo>
                <a:lnTo>
                  <a:pt x="16179" y="10800"/>
                </a:lnTo>
                <a:lnTo>
                  <a:pt x="16179" y="17989"/>
                </a:lnTo>
                <a:lnTo>
                  <a:pt x="5560" y="17989"/>
                </a:lnTo>
                <a:lnTo>
                  <a:pt x="5560" y="10800"/>
                </a:lnTo>
                <a:lnTo>
                  <a:pt x="3907" y="10800"/>
                </a:lnTo>
                <a:close/>
              </a:path>
              <a:path fill="darkenLess" w="21739" h="21600">
                <a:moveTo>
                  <a:pt x="13446" y="6448"/>
                </a:moveTo>
                <a:lnTo>
                  <a:pt x="13446" y="4707"/>
                </a:lnTo>
                <a:lnTo>
                  <a:pt x="15221" y="4707"/>
                </a:lnTo>
                <a:lnTo>
                  <a:pt x="15221" y="8224"/>
                </a:lnTo>
                <a:close/>
              </a:path>
              <a:path fill="darkenLess" w="21739" h="21600">
                <a:moveTo>
                  <a:pt x="9947" y="14299"/>
                </a:moveTo>
                <a:lnTo>
                  <a:pt x="11792" y="14299"/>
                </a:lnTo>
                <a:lnTo>
                  <a:pt x="11792" y="17989"/>
                </a:lnTo>
                <a:lnTo>
                  <a:pt x="16179" y="17989"/>
                </a:lnTo>
                <a:lnTo>
                  <a:pt x="16179" y="10800"/>
                </a:lnTo>
                <a:lnTo>
                  <a:pt x="5560" y="10800"/>
                </a:lnTo>
                <a:lnTo>
                  <a:pt x="5560" y="17989"/>
                </a:lnTo>
                <a:lnTo>
                  <a:pt x="994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WordArt 17"/>
          <p:cNvSpPr txBox="1"/>
          <p:nvPr/>
        </p:nvSpPr>
        <p:spPr>
          <a:xfrm>
            <a:off x="2484360" y="5013360"/>
            <a:ext cx="266400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Бабочка</a:t>
            </a:r>
            <a:endParaRPr b="1" i="1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ffff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144" name="Rectangle 19"/>
          <p:cNvSpPr/>
          <p:nvPr/>
        </p:nvSpPr>
        <p:spPr>
          <a:xfrm>
            <a:off x="539640" y="189000"/>
            <a:ext cx="662472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агадки с математическим уклоном</a:t>
            </a: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23" descr="B_Fly20"/>
          <p:cNvPicPr/>
          <p:nvPr/>
        </p:nvPicPr>
        <p:blipFill>
          <a:blip r:embed="rId3"/>
          <a:stretch/>
        </p:blipFill>
        <p:spPr>
          <a:xfrm>
            <a:off x="5651640" y="4292640"/>
            <a:ext cx="2158920" cy="16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0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47" name="Rectangle 3"/>
            <p:cNvSpPr/>
            <p:nvPr/>
          </p:nvSpPr>
          <p:spPr>
            <a:xfrm>
              <a:off x="0" y="0"/>
              <a:ext cx="179280" cy="685800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Rectangle 4"/>
            <p:cNvSpPr/>
            <p:nvPr/>
          </p:nvSpPr>
          <p:spPr>
            <a:xfrm>
              <a:off x="8964720" y="0"/>
              <a:ext cx="179280" cy="685800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Rectangle 5"/>
            <p:cNvSpPr/>
            <p:nvPr/>
          </p:nvSpPr>
          <p:spPr>
            <a:xfrm rot="5400000">
              <a:off x="4478760" y="-4298040"/>
              <a:ext cx="189000" cy="878508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Rectangle 6"/>
            <p:cNvSpPr/>
            <p:nvPr/>
          </p:nvSpPr>
          <p:spPr>
            <a:xfrm rot="5400000">
              <a:off x="4478760" y="2369160"/>
              <a:ext cx="189000" cy="878508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Line 7"/>
          <p:cNvSpPr/>
          <p:nvPr/>
        </p:nvSpPr>
        <p:spPr>
          <a:xfrm>
            <a:off x="179280" y="963720"/>
            <a:ext cx="8785440" cy="0"/>
          </a:xfrm>
          <a:prstGeom prst="line">
            <a:avLst/>
          </a:prstGeom>
          <a:ln w="7632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9"/>
          <p:cNvSpPr/>
          <p:nvPr/>
        </p:nvSpPr>
        <p:spPr>
          <a:xfrm>
            <a:off x="8172360" y="177840"/>
            <a:ext cx="792360" cy="747720"/>
          </a:xfrm>
          <a:prstGeom prst="bevel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WordArt 10"/>
          <p:cNvSpPr txBox="1"/>
          <p:nvPr/>
        </p:nvSpPr>
        <p:spPr>
          <a:xfrm>
            <a:off x="8296200" y="415800"/>
            <a:ext cx="505080" cy="2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2600" dir="0" blurRad="0" rotWithShape="0">
                    <a:srgbClr val="875b0d">
                      <a:alpha val="50000"/>
                    </a:srgbClr>
                  </a:outerShdw>
                </a:effectLst>
                <a:latin typeface="Arial"/>
              </a:rPr>
              <a:t>300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2600" dir="0" blurRad="0" rotWithShape="0">
                  <a:srgbClr val="875b0d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54" name="Text Box 11"/>
          <p:cNvSpPr/>
          <p:nvPr/>
        </p:nvSpPr>
        <p:spPr>
          <a:xfrm>
            <a:off x="7308720" y="549360"/>
            <a:ext cx="9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bbe0e3"/>
                </a:solidFill>
                <a:latin typeface="Arial"/>
              </a:rPr>
              <a:t>1 ту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12"/>
          <p:cNvSpPr/>
          <p:nvPr/>
        </p:nvSpPr>
        <p:spPr>
          <a:xfrm>
            <a:off x="611280" y="2205000"/>
            <a:ext cx="8064360" cy="122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Два 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стоят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, два 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лежат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, пятый 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ходит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Шестой 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водит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, седьмой 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песенки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поет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13">
            <a:hlinkClick r:id="rId2" action="ppaction://hlinksldjump"/>
          </p:cNvPr>
          <p:cNvSpPr/>
          <p:nvPr/>
        </p:nvSpPr>
        <p:spPr>
          <a:xfrm>
            <a:off x="179280" y="6165720"/>
            <a:ext cx="506520" cy="503280"/>
          </a:xfrm>
          <a:custGeom>
            <a:avLst/>
            <a:gdLst>
              <a:gd name="textAreaLeft" fmla="*/ 32400 w 506520"/>
              <a:gd name="textAreaRight" fmla="*/ 474120 w 5065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1739" h="21600">
                <a:moveTo>
                  <a:pt x="0" y="0"/>
                </a:moveTo>
                <a:lnTo>
                  <a:pt x="21739" y="0"/>
                </a:lnTo>
                <a:lnTo>
                  <a:pt x="21739" y="21600"/>
                </a:lnTo>
                <a:lnTo>
                  <a:pt x="0" y="21600"/>
                </a:lnTo>
                <a:close/>
              </a:path>
              <a:path fill="lightenLess" w="21739" h="21600">
                <a:moveTo>
                  <a:pt x="0" y="0"/>
                </a:moveTo>
                <a:lnTo>
                  <a:pt x="21739" y="0"/>
                </a:lnTo>
                <a:lnTo>
                  <a:pt x="20339" y="1400"/>
                </a:lnTo>
                <a:lnTo>
                  <a:pt x="1400" y="1400"/>
                </a:lnTo>
                <a:close/>
              </a:path>
              <a:path fill="darken" w="21739" h="21600">
                <a:moveTo>
                  <a:pt x="21739" y="0"/>
                </a:moveTo>
                <a:lnTo>
                  <a:pt x="21739" y="21600"/>
                </a:lnTo>
                <a:lnTo>
                  <a:pt x="20339" y="20200"/>
                </a:lnTo>
                <a:lnTo>
                  <a:pt x="20339" y="1400"/>
                </a:lnTo>
                <a:close/>
              </a:path>
              <a:path fill="darkenLess" w="21739" h="21600">
                <a:moveTo>
                  <a:pt x="217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39" y="20200"/>
                </a:lnTo>
                <a:close/>
              </a:path>
              <a:path fill="lighten" w="217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739" h="21600">
                <a:moveTo>
                  <a:pt x="10869" y="3837"/>
                </a:moveTo>
                <a:lnTo>
                  <a:pt x="13446" y="6448"/>
                </a:lnTo>
                <a:lnTo>
                  <a:pt x="13446" y="4707"/>
                </a:lnTo>
                <a:lnTo>
                  <a:pt x="15221" y="4707"/>
                </a:lnTo>
                <a:lnTo>
                  <a:pt x="15221" y="8224"/>
                </a:lnTo>
                <a:lnTo>
                  <a:pt x="17832" y="10800"/>
                </a:lnTo>
                <a:lnTo>
                  <a:pt x="16179" y="10800"/>
                </a:lnTo>
                <a:lnTo>
                  <a:pt x="16179" y="17989"/>
                </a:lnTo>
                <a:lnTo>
                  <a:pt x="5560" y="17989"/>
                </a:lnTo>
                <a:lnTo>
                  <a:pt x="5560" y="10800"/>
                </a:lnTo>
                <a:lnTo>
                  <a:pt x="3907" y="10800"/>
                </a:lnTo>
                <a:close/>
              </a:path>
              <a:path fill="darkenLess" w="21739" h="21600">
                <a:moveTo>
                  <a:pt x="13446" y="6448"/>
                </a:moveTo>
                <a:lnTo>
                  <a:pt x="13446" y="4707"/>
                </a:lnTo>
                <a:lnTo>
                  <a:pt x="15221" y="4707"/>
                </a:lnTo>
                <a:lnTo>
                  <a:pt x="15221" y="8224"/>
                </a:lnTo>
                <a:close/>
              </a:path>
              <a:path fill="darkenLess" w="21739" h="21600">
                <a:moveTo>
                  <a:pt x="9947" y="14299"/>
                </a:moveTo>
                <a:lnTo>
                  <a:pt x="11792" y="14299"/>
                </a:lnTo>
                <a:lnTo>
                  <a:pt x="11792" y="17989"/>
                </a:lnTo>
                <a:lnTo>
                  <a:pt x="16179" y="17989"/>
                </a:lnTo>
                <a:lnTo>
                  <a:pt x="16179" y="10800"/>
                </a:lnTo>
                <a:lnTo>
                  <a:pt x="5560" y="10800"/>
                </a:lnTo>
                <a:lnTo>
                  <a:pt x="5560" y="17989"/>
                </a:lnTo>
                <a:lnTo>
                  <a:pt x="994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WordArt 14"/>
          <p:cNvSpPr txBox="1"/>
          <p:nvPr/>
        </p:nvSpPr>
        <p:spPr>
          <a:xfrm>
            <a:off x="3348000" y="5013360"/>
            <a:ext cx="180036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Дверь</a:t>
            </a:r>
            <a:endParaRPr b="1" i="1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ffff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158" name="Rectangle 30"/>
          <p:cNvSpPr/>
          <p:nvPr/>
        </p:nvSpPr>
        <p:spPr>
          <a:xfrm>
            <a:off x="539640" y="189000"/>
            <a:ext cx="662472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агадки с математическим уклоном</a:t>
            </a: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31" descr="d7"/>
          <p:cNvPicPr/>
          <p:nvPr/>
        </p:nvPicPr>
        <p:blipFill>
          <a:blip r:embed="rId3"/>
          <a:stretch/>
        </p:blipFill>
        <p:spPr>
          <a:xfrm>
            <a:off x="5796000" y="4365720"/>
            <a:ext cx="971640" cy="14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0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30T11:02:27Z</dcterms:created>
  <dc:creator>Customer</dc:creator>
  <dc:description/>
  <dc:language>en-US</dc:language>
  <cp:lastModifiedBy>Учитель</cp:lastModifiedBy>
  <dcterms:modified xsi:type="dcterms:W3CDTF">2014-02-25T06:51:19Z</dcterms:modified>
  <cp:revision>73</cp:revision>
  <dc:subject/>
  <dc:title>Слайд 1</dc:title>
</cp:coreProperties>
</file>