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46F-F90A-49C2-9BC6-8224C5E7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861-176A-4F75-B01B-B10350D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32B-3E5D-40E9-B08E-47DCFB84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7CA-F687-4D03-8E74-520217F2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5930-3AB1-4672-82A7-B3FA0B91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6BD4-1B02-465F-B2C4-1FED12BB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297B-DB5C-4EE6-B87A-619A555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2C74-C6AE-4F95-877D-5779DDAC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B17-71BA-4D66-9DB9-311C078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8330-A468-4E15-987C-6848F0FA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78ED-A8EE-4F5A-8EAF-0F09C59D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9B3-539F-43CC-BB4D-9927A0F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B237-2E4F-41DA-BCEC-24BD3EE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01A4-9AC2-434C-B326-1CA8DA1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072-AC94-4ECE-99A3-3CCEB23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4F6C-E466-4716-A7B6-B652FFCB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A1C4-DDF6-42F8-8F6E-54F4DE7A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2ED-3388-4990-854F-23C42BE6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F73-8B1D-439D-8F9F-FC18E4DC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4D1-0C48-486C-94B0-C62DA01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4EE-E765-4230-BEA4-D45BDE58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47A-9F49-4DFF-BEC5-72FFA9D3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6E3-1BE3-446E-85D9-C0BB978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4E2-EF06-4B9D-ABF9-1ED3120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C9F3-4D65-4FA5-9801-36B37395D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D4D4-7111-4BCF-B1AC-F475EE29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Book Antiqua"/>
              </a:rPr>
              <a:t>Удивительный мир в капле воды или можно ли пить воду из лужи?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00240" y="3885840"/>
            <a:ext cx="57866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МОУ ДОД «Дом детского творчества» р.п. Духовниц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Духовницкого района Сарат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Группа  обучающихся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объединения «Юный натуралист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Кулешова Евгения, Кулешов Дени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Лесина Виктория, Борисов Олег – 9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Руководитель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– Трошкина Елена Анатоль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Другие объекты, обнаруженные в луже: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535040"/>
            <a:ext cx="6143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нечность пчелы, ротовой аппарат комара, лист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6" descr="фото 080.jpg"/>
          <p:cNvPicPr/>
          <p:nvPr/>
        </p:nvPicPr>
        <p:blipFill>
          <a:blip r:embed="rId1"/>
          <a:stretch/>
        </p:blipFill>
        <p:spPr>
          <a:xfrm>
            <a:off x="357120" y="2428920"/>
            <a:ext cx="2814840" cy="395136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pic>
        <p:nvPicPr>
          <p:cNvPr id="118" name="Содержимое 7" descr="фото 081.jpg"/>
          <p:cNvPicPr/>
          <p:nvPr/>
        </p:nvPicPr>
        <p:blipFill>
          <a:blip r:embed="rId2"/>
          <a:stretch/>
        </p:blipFill>
        <p:spPr>
          <a:xfrm>
            <a:off x="3357720" y="2643120"/>
            <a:ext cx="2814480" cy="395136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pic>
        <p:nvPicPr>
          <p:cNvPr id="119" name="Рисунок 8" descr="фото 085.jpg"/>
          <p:cNvPicPr/>
          <p:nvPr/>
        </p:nvPicPr>
        <p:blipFill>
          <a:blip r:embed="rId3"/>
          <a:stretch/>
        </p:blipFill>
        <p:spPr>
          <a:xfrm>
            <a:off x="6286680" y="1428840"/>
            <a:ext cx="2585880" cy="362880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972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Bookman Old Style"/>
              </a:rPr>
              <a:t>Экологическая экспертиза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71320" y="1285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зученные с помощью микроскопа простейшие организмы, обитающие в луже не приносят вреда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 помощью полученной информации из учебных источников сформулированы выводы о том, что в воде лужи встречается ещё достаточно много других обитателей, например болезнетворные бактерии, клещи, яйца паразитических червей, вирусы и т.д., которые оказывают на организм человека плохое влияние, вызывая у него много различных заболеваний. В этой луже могут оказаться окурки сигарет или «плевки», т.е. слюна проходящего мимо лужи некультурного человека  - заражённые какими-то серьёзными болезня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4009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«Не пей из лужи – 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козлёночком станешь!»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Содержимое 4" descr="p_F.jpg"/>
          <p:cNvPicPr/>
          <p:nvPr/>
        </p:nvPicPr>
        <p:blipFill>
          <a:blip r:embed="rId1"/>
          <a:stretch/>
        </p:blipFill>
        <p:spPr>
          <a:xfrm>
            <a:off x="4334040" y="1639800"/>
            <a:ext cx="4590720" cy="7047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Никогда не мой руки в луже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Чистые руки имеет тот, кто хочет быть здоро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айте правила личной гигиены, в частности гигиены ру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щательно мыть руки с мылом и вытирать их после мытья бумажным или тканевым полотенц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осещения туал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гул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приготовлением 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е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использования носового пла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бщения с живот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гда, когда руки выглядят гряз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АВИЛА ЛИЧНОЙ ГИГИЕНЫ ШКОЛЬНИКА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.   Умывайтесь утром и вечером, используйте средства личной гигиены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2.   Чистите зубы не менее 3 минут. Ваша зубная щетка не должна быть слишком мягкой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3.   Всегда мойте руки перед едой, после прогулки и туалета. 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4.   Имейте всегда чистый носовой платок или одноразовые салфетки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5.   Для еды пользуйтесь только своей посудой, не берите грязных тарелок, ложек, чашек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6.   Для питья воды используйте одноразовые стаканчики. Не оставляйте использованные стаканчики, выбрасывайте их в мусорное ведро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7.   Следите за чистотой своей одежды, обуви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8.   Не ходите в одной и той же обуви на улице, в школе и дома. Дома носите мягкую домашнюю обувь, для спортивных занятий используйте спортивную обувь. Для занятий в компьютерном классе используйте одноразовые бахилы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9.   Помогайте учителю и дежурным в поддержании порядка в классе, помогайте родным в домашней уборке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0.</a:t>
            </a:r>
            <a:r>
              <a:rPr b="0" lang="ru-RU" sz="1600" spc="-1" strike="noStrike" u="sng">
                <a:solidFill>
                  <a:srgbClr val="1f497d"/>
                </a:solidFill>
                <a:uFillTx/>
                <a:latin typeface="Arial"/>
              </a:rPr>
              <a:t> Соблюдайте режим дня!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Презентация итогов проектной деятельност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7" name="Содержимое 3" descr="фото 1 009.jpg"/>
          <p:cNvPicPr/>
          <p:nvPr/>
        </p:nvPicPr>
        <p:blipFill>
          <a:blip r:embed="rId1"/>
          <a:stretch/>
        </p:blipFill>
        <p:spPr>
          <a:xfrm>
            <a:off x="571680" y="3000240"/>
            <a:ext cx="2342880" cy="1757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8" name="Рисунок 4" descr="фото 1 020.jpg"/>
          <p:cNvPicPr/>
          <p:nvPr/>
        </p:nvPicPr>
        <p:blipFill>
          <a:blip r:embed="rId2"/>
          <a:stretch/>
        </p:blipFill>
        <p:spPr>
          <a:xfrm>
            <a:off x="5429160" y="1643040"/>
            <a:ext cx="314352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9" name="Рисунок 5" descr="фото 1 002.jpg"/>
          <p:cNvPicPr/>
          <p:nvPr/>
        </p:nvPicPr>
        <p:blipFill>
          <a:blip r:embed="rId3"/>
          <a:stretch/>
        </p:blipFill>
        <p:spPr>
          <a:xfrm>
            <a:off x="642960" y="1143000"/>
            <a:ext cx="2357280" cy="176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0" name="Рисунок 6" descr="фото 1 007.jpg"/>
          <p:cNvPicPr/>
          <p:nvPr/>
        </p:nvPicPr>
        <p:blipFill>
          <a:blip r:embed="rId4"/>
          <a:stretch/>
        </p:blipFill>
        <p:spPr>
          <a:xfrm>
            <a:off x="3143160" y="1143000"/>
            <a:ext cx="2071800" cy="2762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1" name="Рисунок 7" descr="фото 1 017.jpg"/>
          <p:cNvPicPr/>
          <p:nvPr/>
        </p:nvPicPr>
        <p:blipFill>
          <a:blip r:embed="rId5"/>
          <a:stretch/>
        </p:blipFill>
        <p:spPr>
          <a:xfrm>
            <a:off x="6143760" y="214200"/>
            <a:ext cx="238104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2" name="Рисунок 9" descr="фото 1 019.jpg"/>
          <p:cNvPicPr/>
          <p:nvPr/>
        </p:nvPicPr>
        <p:blipFill>
          <a:blip r:embed="rId6"/>
          <a:stretch/>
        </p:blipFill>
        <p:spPr>
          <a:xfrm>
            <a:off x="5429160" y="4143240"/>
            <a:ext cx="3286080" cy="2463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3" name="Рисунок 10" descr="фото 1 001.jpg"/>
          <p:cNvPicPr/>
          <p:nvPr/>
        </p:nvPicPr>
        <p:blipFill>
          <a:blip r:embed="rId7"/>
          <a:stretch/>
        </p:blipFill>
        <p:spPr>
          <a:xfrm>
            <a:off x="2857680" y="4357800"/>
            <a:ext cx="2357280" cy="176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4" name="Рисунок 11" descr="фото 1 021.jpg"/>
          <p:cNvPicPr/>
          <p:nvPr/>
        </p:nvPicPr>
        <p:blipFill>
          <a:blip r:embed="rId8"/>
          <a:stretch/>
        </p:blipFill>
        <p:spPr>
          <a:xfrm>
            <a:off x="357120" y="4857840"/>
            <a:ext cx="2286000" cy="1714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Материальные затраты проекта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Для изготовления листовок-памяток были приобрет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умага (размер А4 500листов)– 176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Цветные ручки (6штук) – 43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Цветная бумага для принтера (100листов) – 159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атман (1шт) – 20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ожницы (2шт) – 75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Всего: 473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Bookman Old Style"/>
              </a:rPr>
              <a:t>Источники информации: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ru.wikipedia.org/wiki/%CB%F3%E6%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ru.wikipedia.org/wiki/%D0%9F%D1%80%D0%BE%D1%81%D1%82%D0%B5%D0%B9%D1%88%D0%B8%D0%B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nsportal.ru/shkola/ekologiya/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festival.1september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И.Н.Пименова, А.В.Пименов «Зоология беспозвоночных. Теория. Задания. Ответы», Саратов, издательство «Лицей» 2005г., 287с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Б.В.Петровский «Популярная медицинская энциклопедия», Таллинн, издательство «Советская энциклопедия», 1993г, 704стр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f497d"/>
                </a:solidFill>
                <a:uFillTx/>
                <a:latin typeface="Bookman Old Style"/>
              </a:rPr>
              <a:t>Цель проекта: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Исследовать каплю воды из лужи оставшейся после дож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375e"/>
                </a:solidFill>
                <a:uFillTx/>
                <a:latin typeface="Bookman Old Style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Наблюдение с помощью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Экологическая эксперт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ttp://img-fotki.yandex.ru/get/5110/kalugina0201.7/0_5552b_f637d169_XL"/>
          <p:cNvPicPr/>
          <p:nvPr/>
        </p:nvPicPr>
        <p:blipFill>
          <a:blip r:embed="rId1"/>
          <a:stretch/>
        </p:blipFill>
        <p:spPr>
          <a:xfrm>
            <a:off x="5786280" y="214200"/>
            <a:ext cx="192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Гипотеза проекта: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71400" y="1600200"/>
            <a:ext cx="61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Мы предполагаем, что исследовав каплю воды из дождевой лужи и изучив многообразие и значение её обитателей, убедить окружающих, что пить воду и мыть руки из лужи нельз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Результаты исследований: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285560"/>
            <a:ext cx="33544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Что такое луж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1928880"/>
            <a:ext cx="37861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"Лужа - это относительно небольшое скопление жидкости, в большинстве случаев воды в углублениях на поверхности земли или в неровностях какого-либо покрытия (тротуар, проезжая часть дороги и т. п.). Лужа также является самой малой формой водоёмов, а с точки зрения экологии и зоологии водные лужи представляют собой малые водные биотопы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/wiki/%CB%F3%E6%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760" y="1214280"/>
            <a:ext cx="32860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Я иду, она смеё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Даже если дождь ид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Словно, меленькое 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Отражает небос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Я иду, она живая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Тянет, тянет, как магн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Эта лужа дождев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На меня гляд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 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Мимо лужи не пройти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На моём она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Если топну я ногою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Небо к верху полет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Мимо лужи не прой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Мне немножечко влет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Если небо голуб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Зачерпну я в башма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Наблюдение с помощью микроскопа: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4" name="Содержимое 3" descr="IMG_7877.jpg"/>
          <p:cNvPicPr/>
          <p:nvPr/>
        </p:nvPicPr>
        <p:blipFill>
          <a:blip r:embed="rId1"/>
          <a:stretch/>
        </p:blipFill>
        <p:spPr>
          <a:xfrm>
            <a:off x="5715000" y="4643280"/>
            <a:ext cx="2357280" cy="176868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pic>
        <p:nvPicPr>
          <p:cNvPr id="95" name="Рисунок 4" descr="IMG_7878.jpg"/>
          <p:cNvPicPr/>
          <p:nvPr/>
        </p:nvPicPr>
        <p:blipFill>
          <a:blip r:embed="rId2"/>
          <a:stretch/>
        </p:blipFill>
        <p:spPr>
          <a:xfrm>
            <a:off x="4429080" y="1143000"/>
            <a:ext cx="4262400" cy="319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5" descr="IMG_7872.jpg"/>
          <p:cNvPicPr/>
          <p:nvPr/>
        </p:nvPicPr>
        <p:blipFill>
          <a:blip r:embed="rId3"/>
          <a:stretch/>
        </p:blipFill>
        <p:spPr>
          <a:xfrm>
            <a:off x="357120" y="350028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2" descr="http://www.freelancejob.ru/upload/169/89751577330753.jpg"/>
          <p:cNvPicPr/>
          <p:nvPr/>
        </p:nvPicPr>
        <p:blipFill>
          <a:blip r:embed="rId4"/>
          <a:stretch/>
        </p:blipFill>
        <p:spPr>
          <a:xfrm>
            <a:off x="785880" y="1357200"/>
            <a:ext cx="2187360" cy="164304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Bookman Old Style"/>
              </a:rPr>
              <a:t>Вот что мы увидели:</a:t>
            </a:r>
            <a:endParaRPr b="0" lang="en-US" sz="5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9" name="Рисунок 3" descr="1337577726_2.jpg"/>
          <p:cNvPicPr/>
          <p:nvPr/>
        </p:nvPicPr>
        <p:blipFill>
          <a:blip r:embed="rId1"/>
          <a:stretch/>
        </p:blipFill>
        <p:spPr>
          <a:xfrm>
            <a:off x="2401920" y="1920960"/>
            <a:ext cx="3340080" cy="4960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i_016.jpg"/>
          <p:cNvPicPr/>
          <p:nvPr/>
        </p:nvPicPr>
        <p:blipFill>
          <a:blip r:embed="rId2"/>
          <a:stretch/>
        </p:blipFill>
        <p:spPr>
          <a:xfrm>
            <a:off x="5473800" y="3975120"/>
            <a:ext cx="30304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9298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ростейшие организмы- обитатели лужи:</a:t>
            </a:r>
            <a:br>
              <a:rPr sz="3200"/>
            </a:br>
            <a:r>
              <a:rPr b="0" lang="en-US" sz="1200" spc="-1" strike="noStrike">
                <a:solidFill>
                  <a:srgbClr val="1f497d"/>
                </a:solidFill>
                <a:latin typeface="Bookman Old Style"/>
              </a:rPr>
              <a:t>http://video.yandex.ru/#search?text=%20%D0%B2%D0%B8%D0%B4%D0%B5%D0%BE%20%D0%BE%20%D0%BF%D1%80%D0%BE%D1%81%D1%82%D0%B5%D1%88%D0%B8%D1%85%20%D0%BE%D0%B1%D0%B8%D1%82%D0%B0%D1%82%D0%B5%D0%BB%D1%8F%D1%85%20%D0%BB%D1%83%D0%B6%D0%B8&amp;filmId=pnvCPdzY9xc%3D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Инфузория-туфе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6" descr="фото 084.jpg"/>
          <p:cNvPicPr/>
          <p:nvPr/>
        </p:nvPicPr>
        <p:blipFill>
          <a:blip r:embed="rId1"/>
          <a:stretch/>
        </p:blipFill>
        <p:spPr>
          <a:xfrm>
            <a:off x="1214280" y="2143080"/>
            <a:ext cx="3002040" cy="421488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71760"/>
            <a:ext cx="404172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Эвглена зелё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7" descr="фото 079.jpg"/>
          <p:cNvPicPr/>
          <p:nvPr/>
        </p:nvPicPr>
        <p:blipFill>
          <a:blip r:embed="rId2"/>
          <a:stretch/>
        </p:blipFill>
        <p:spPr>
          <a:xfrm>
            <a:off x="5259240" y="2174760"/>
            <a:ext cx="3027600" cy="425160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928440"/>
            <a:ext cx="40402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Вольвокс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6" descr="фото 087.jpg"/>
          <p:cNvPicPr/>
          <p:nvPr/>
        </p:nvPicPr>
        <p:blipFill>
          <a:blip r:embed="rId1"/>
          <a:stretch/>
        </p:blipFill>
        <p:spPr>
          <a:xfrm>
            <a:off x="428760" y="1928880"/>
            <a:ext cx="4211640" cy="300024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6200" y="428760"/>
            <a:ext cx="414360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Представитель кишечнополостных - Гидра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7" descr="фото 083.jpg"/>
          <p:cNvPicPr/>
          <p:nvPr/>
        </p:nvPicPr>
        <p:blipFill>
          <a:blip r:embed="rId2"/>
          <a:stretch/>
        </p:blipFill>
        <p:spPr>
          <a:xfrm>
            <a:off x="5500800" y="2000160"/>
            <a:ext cx="3143160" cy="441324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Bookman Old Style"/>
              </a:rPr>
              <a:t>Ракообразные – обитатели лужи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Дафния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6" descr="фото 082.jpg"/>
          <p:cNvPicPr/>
          <p:nvPr/>
        </p:nvPicPr>
        <p:blipFill>
          <a:blip r:embed="rId1"/>
          <a:stretch/>
        </p:blipFill>
        <p:spPr>
          <a:xfrm>
            <a:off x="1069920" y="2174760"/>
            <a:ext cx="3073320" cy="431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Цикл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7" descr="фото 086.jpg"/>
          <p:cNvPicPr/>
          <p:nvPr/>
        </p:nvPicPr>
        <p:blipFill>
          <a:blip r:embed="rId2"/>
          <a:stretch/>
        </p:blipFill>
        <p:spPr>
          <a:xfrm>
            <a:off x="5259240" y="2174760"/>
            <a:ext cx="3098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Admin</cp:lastModifiedBy>
  <dcterms:modified xsi:type="dcterms:W3CDTF">2013-03-28T11:27:23Z</dcterms:modified>
  <cp:revision>24</cp:revision>
  <dc:subject/>
  <dc:title>Слайд 1</dc:title>
</cp:coreProperties>
</file>