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1487-9B34-4A88-9E6C-4E8B9523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25A1-A70B-45CF-B915-BB745341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A215-06D7-481B-88A6-359662708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5AD7-5360-4FF1-87E4-5A39E4B34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2FAA-6044-46DE-8EDA-20C7E9624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1F90-1124-447E-9BA4-654864C8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D689-277E-4EB0-B129-FA54FDA7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4AC5-0D1F-418E-9E51-7C418F7B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C0DF-5191-4521-A39F-0C4C01B2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D92A-9AB0-41EF-8DD3-76670B63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A692-8336-4E1D-9AEE-A3FE7FDB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BC57-CFB2-45C2-9247-9FA0B490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0E07-EF8A-420B-A34C-795E2B74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A156-70EF-42FD-AB19-077AD380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8D88-275D-4553-8A4F-3FB621B6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53F1-668F-4619-8155-389E4507E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BD2A-74D2-449B-93B1-7EE0ED14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B755-81D4-4A7E-BEE2-2C4AA0A9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CD21-FAA1-4417-93C7-5968B1CE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B592-2185-4071-96AB-67C74117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E3FB-49B4-4C5A-B3F0-D47C61DC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6186-A96A-40F5-857C-0F887F2F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F72A-92B8-408D-A870-9C8C68BC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C222-66ED-4488-8C2F-D1E29B53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9758-DA85-47FC-BB6F-8F62F6F87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1F0F-2F9A-422C-8138-37DF8E4B2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85716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Book Antiqua"/>
              </a:rPr>
              <a:t>Удивительный мир в капле воды или можно ли пить воду из лужи?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00240" y="3885840"/>
            <a:ext cx="578664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МОУ ДОД «Дом детского творчества» р.п. Духовницк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Духовницкого района Сарат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Bookman Old Style"/>
              </a:rPr>
              <a:t>Группа  обучающихся </a:t>
            </a: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объединения «Юный натуралист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Кулешова Евгения, Кулешов Денис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Лесина Виктория, Борисов Олег – 9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Bookman Old Style"/>
              </a:rPr>
              <a:t>Руководитель</a:t>
            </a: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 – Трошкина Елена Анатольевн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педагог дополните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6760" y="274680"/>
            <a:ext cx="86439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Bookman Old Style"/>
              </a:rPr>
              <a:t>Другие объекты, обнаруженные в луже: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5480" y="1535040"/>
            <a:ext cx="6143400" cy="67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Конечность пчелы, ротовой аппарат комара, лист 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Содержимое 6" descr="фото 080.jpg"/>
          <p:cNvPicPr/>
          <p:nvPr/>
        </p:nvPicPr>
        <p:blipFill>
          <a:blip r:embed="rId1"/>
          <a:stretch/>
        </p:blipFill>
        <p:spPr>
          <a:xfrm>
            <a:off x="357120" y="2428920"/>
            <a:ext cx="2814840" cy="3951360"/>
          </a:xfrm>
          <a:prstGeom prst="rect">
            <a:avLst/>
          </a:prstGeom>
          <a:ln w="9360">
            <a:solidFill>
              <a:srgbClr val="254061"/>
            </a:solidFill>
            <a:miter/>
          </a:ln>
        </p:spPr>
      </p:pic>
      <p:pic>
        <p:nvPicPr>
          <p:cNvPr id="118" name="Содержимое 7" descr="фото 081.jpg"/>
          <p:cNvPicPr/>
          <p:nvPr/>
        </p:nvPicPr>
        <p:blipFill>
          <a:blip r:embed="rId2"/>
          <a:stretch/>
        </p:blipFill>
        <p:spPr>
          <a:xfrm>
            <a:off x="3357720" y="2643120"/>
            <a:ext cx="2814480" cy="3951360"/>
          </a:xfrm>
          <a:prstGeom prst="rect">
            <a:avLst/>
          </a:prstGeom>
          <a:ln w="9360">
            <a:solidFill>
              <a:srgbClr val="254061"/>
            </a:solidFill>
            <a:miter/>
          </a:ln>
        </p:spPr>
      </p:pic>
      <p:pic>
        <p:nvPicPr>
          <p:cNvPr id="119" name="Рисунок 8" descr="фото 085.jpg"/>
          <p:cNvPicPr/>
          <p:nvPr/>
        </p:nvPicPr>
        <p:blipFill>
          <a:blip r:embed="rId3"/>
          <a:stretch/>
        </p:blipFill>
        <p:spPr>
          <a:xfrm>
            <a:off x="6286680" y="1428840"/>
            <a:ext cx="2585880" cy="3628800"/>
          </a:xfrm>
          <a:prstGeom prst="rect">
            <a:avLst/>
          </a:prstGeom>
          <a:ln w="9360">
            <a:solidFill>
              <a:srgbClr val="25406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274680"/>
            <a:ext cx="79725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Bookman Old Style"/>
              </a:rPr>
              <a:t>Экологическая экспертиза: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71320" y="1285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зученные с помощью микроскопа простейшие организмы, обитающие в луже не приносят вреда челове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 помощью полученной информации из учебных источников сформулированы выводы о том, что в воде лужи встречается ещё достаточно много других обитателей, например болезнетворные бактерии, клещи, яйца паразитических червей, вирусы и т.д., которые оказывают на организм человека плохое влияние, вызывая у него много различных заболеваний. В этой луже могут оказаться окурки сигарет или «плевки», т.е. слюна проходящего мимо лужи некультурного человека  - заражённые какими-то серьёзными болезням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40096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Bookman Old Style"/>
              </a:rPr>
              <a:t>«Не пей из лужи – </a:t>
            </a:r>
            <a:br>
              <a:rPr sz="4000"/>
            </a:br>
            <a:r>
              <a:rPr b="0" lang="ru-RU" sz="4000" spc="-1" strike="noStrike">
                <a:solidFill>
                  <a:srgbClr val="1f497d"/>
                </a:solidFill>
                <a:latin typeface="Bookman Old Style"/>
              </a:rPr>
              <a:t>козлёночком станешь!»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23" name="Содержимое 4" descr="p_F.jpg"/>
          <p:cNvPicPr/>
          <p:nvPr/>
        </p:nvPicPr>
        <p:blipFill>
          <a:blip r:embed="rId1"/>
          <a:stretch/>
        </p:blipFill>
        <p:spPr>
          <a:xfrm>
            <a:off x="4334040" y="1639800"/>
            <a:ext cx="4590720" cy="7047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840" y="1285920"/>
            <a:ext cx="40719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Никогда не мой руки в луже!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Чистые руки имеет тот, кто хочет быть здоровы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людайте правила личной гигиены, в частности гигиены ру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щательно мыть руки с мылом и вытирать их после мытья бумажным или тканевым полотенце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посещения туале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прогул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 приготовлением е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 ед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использования носового плат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общения с животн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гда, когда руки выглядят грязн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ПРАВИЛА ЛИЧНОЙ ГИГИЕНЫ ШКОЛЬНИКА</a:t>
            </a:r>
            <a:br>
              <a:rPr sz="1600"/>
            </a:b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1.   Умывайтесь утром и вечером, используйте средства личной гигиены.</a:t>
            </a:r>
            <a:br>
              <a:rPr sz="1600"/>
            </a:b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2.   Чистите зубы не менее 3 минут. Ваша зубная щетка не должна быть слишком мягкой.</a:t>
            </a:r>
            <a:br>
              <a:rPr sz="1600"/>
            </a:b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3.   Всегда мойте руки перед едой, после прогулки и туалета. </a:t>
            </a:r>
            <a:br>
              <a:rPr sz="1600"/>
            </a:b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4.   Имейте всегда чистый носовой платок или одноразовые салфетки.</a:t>
            </a:r>
            <a:br>
              <a:rPr sz="1600"/>
            </a:b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5.   Для еды пользуйтесь только своей посудой, не берите грязных тарелок, ложек, чашек.</a:t>
            </a:r>
            <a:br>
              <a:rPr sz="1600"/>
            </a:b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6.   Для питья воды используйте одноразовые стаканчики. Не оставляйте использованные стаканчики, выбрасывайте их в мусорное ведро.</a:t>
            </a:r>
            <a:br>
              <a:rPr sz="1600"/>
            </a:b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7.   Следите за чистотой своей одежды, обуви.</a:t>
            </a:r>
            <a:br>
              <a:rPr sz="1600"/>
            </a:b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8.   Не ходите в одной и той же обуви на улице, в школе и дома. Дома носите мягкую домашнюю обувь, для спортивных занятий используйте спортивную обувь. Для занятий в компьютерном классе используйте одноразовые бахилы.</a:t>
            </a:r>
            <a:br>
              <a:rPr sz="1600"/>
            </a:b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9.   Помогайте учителю и дежурным в поддержании порядка в классе, помогайте родным в домашней уборке.</a:t>
            </a:r>
            <a:br>
              <a:rPr sz="1600"/>
            </a:b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10.</a:t>
            </a:r>
            <a:r>
              <a:rPr b="0" lang="ru-RU" sz="1600" spc="-1" strike="noStrike" u="sng">
                <a:solidFill>
                  <a:srgbClr val="1f497d"/>
                </a:solidFill>
                <a:uFillTx/>
                <a:latin typeface="Arial"/>
              </a:rPr>
              <a:t> Соблюдайте режим дня!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472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omic Sans MS"/>
              </a:rPr>
              <a:t>Презентация итогов проектной деятельности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27" name="Содержимое 3" descr="фото 1 009.jpg"/>
          <p:cNvPicPr/>
          <p:nvPr/>
        </p:nvPicPr>
        <p:blipFill>
          <a:blip r:embed="rId1"/>
          <a:stretch/>
        </p:blipFill>
        <p:spPr>
          <a:xfrm>
            <a:off x="571680" y="3000240"/>
            <a:ext cx="2342880" cy="1757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28" name="Рисунок 4" descr="фото 1 020.jpg"/>
          <p:cNvPicPr/>
          <p:nvPr/>
        </p:nvPicPr>
        <p:blipFill>
          <a:blip r:embed="rId2"/>
          <a:stretch/>
        </p:blipFill>
        <p:spPr>
          <a:xfrm>
            <a:off x="5429160" y="1643040"/>
            <a:ext cx="3143520" cy="2357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29" name="Рисунок 5" descr="фото 1 002.jpg"/>
          <p:cNvPicPr/>
          <p:nvPr/>
        </p:nvPicPr>
        <p:blipFill>
          <a:blip r:embed="rId3"/>
          <a:stretch/>
        </p:blipFill>
        <p:spPr>
          <a:xfrm>
            <a:off x="642960" y="1143000"/>
            <a:ext cx="2357280" cy="17683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0" name="Рисунок 6" descr="фото 1 007.jpg"/>
          <p:cNvPicPr/>
          <p:nvPr/>
        </p:nvPicPr>
        <p:blipFill>
          <a:blip r:embed="rId4"/>
          <a:stretch/>
        </p:blipFill>
        <p:spPr>
          <a:xfrm>
            <a:off x="3143160" y="1143000"/>
            <a:ext cx="2071800" cy="27622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1" name="Рисунок 7" descr="фото 1 017.jpg"/>
          <p:cNvPicPr/>
          <p:nvPr/>
        </p:nvPicPr>
        <p:blipFill>
          <a:blip r:embed="rId5"/>
          <a:stretch/>
        </p:blipFill>
        <p:spPr>
          <a:xfrm>
            <a:off x="6143760" y="214200"/>
            <a:ext cx="2381040" cy="17859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2" name="Рисунок 9" descr="фото 1 019.jpg"/>
          <p:cNvPicPr/>
          <p:nvPr/>
        </p:nvPicPr>
        <p:blipFill>
          <a:blip r:embed="rId6"/>
          <a:stretch/>
        </p:blipFill>
        <p:spPr>
          <a:xfrm>
            <a:off x="5429160" y="4143240"/>
            <a:ext cx="3286080" cy="2463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3" name="Рисунок 10" descr="фото 1 001.jpg"/>
          <p:cNvPicPr/>
          <p:nvPr/>
        </p:nvPicPr>
        <p:blipFill>
          <a:blip r:embed="rId7"/>
          <a:stretch/>
        </p:blipFill>
        <p:spPr>
          <a:xfrm>
            <a:off x="2857680" y="4357800"/>
            <a:ext cx="2357280" cy="17683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4" name="Рисунок 11" descr="фото 1 021.jpg"/>
          <p:cNvPicPr/>
          <p:nvPr/>
        </p:nvPicPr>
        <p:blipFill>
          <a:blip r:embed="rId8"/>
          <a:stretch/>
        </p:blipFill>
        <p:spPr>
          <a:xfrm>
            <a:off x="357120" y="4857840"/>
            <a:ext cx="2286000" cy="17143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Bookman Old Style"/>
              </a:rPr>
              <a:t>Материальные затраты проекта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Для изготовления листовок-памяток были приобрете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Бумага (размер А4 500листов)– 176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Цветные ручки (6штук) – 43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Цветная бумага для принтера (100листов) – 159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атман (1шт) – 20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ожницы (2шт) – 75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Всего: 473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1f497d"/>
                </a:solidFill>
                <a:uFillTx/>
                <a:latin typeface="Bookman Old Style"/>
              </a:rPr>
              <a:t>Источники информации: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f497d"/>
                </a:solidFill>
                <a:uFillTx/>
                <a:latin typeface="Arial"/>
              </a:rPr>
              <a:t>http://ru.wikipedia.org/wiki/%CB%F3%E6%E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f497d"/>
                </a:solidFill>
                <a:uFillTx/>
                <a:latin typeface="Arial"/>
              </a:rPr>
              <a:t>http://ru.wikipedia.org/wiki/%D0%9F%D1%80%D0%BE%D1%81%D1%82%D0%B5%D0%B9%D1%88%D0%B8%D0%B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f497d"/>
                </a:solidFill>
                <a:uFillTx/>
                <a:latin typeface="Arial"/>
              </a:rPr>
              <a:t>http://nsportal.ru/shkola/ekologiya/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f497d"/>
                </a:solidFill>
                <a:uFillTx/>
                <a:latin typeface="Arial"/>
              </a:rPr>
              <a:t>http://festival.1september.r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И.Н.Пименова, А.В.Пименов «Зоология беспозвоночных. Теория. Задания. Ответы», Саратов, издательство «Лицей» 2005г., 287ст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Б.В.Петровский «Популярная медицинская энциклопедия», Таллинн, издательство «Советская энциклопедия», 1993г, 704стр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1f497d"/>
                </a:solidFill>
                <a:uFillTx/>
                <a:latin typeface="Bookman Old Style"/>
              </a:rPr>
              <a:t>Цель проекта: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Исследовать каплю воды из лужи оставшейся после дожд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9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17375e"/>
                </a:solidFill>
                <a:uFillTx/>
                <a:latin typeface="Bookman Old Style"/>
              </a:rPr>
              <a:t>Методы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Наблюдение с помощью микроско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Экологическая эксперт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http://img-fotki.yandex.ru/get/5110/kalugina0201.7/0_5552b_f637d169_XL"/>
          <p:cNvPicPr/>
          <p:nvPr/>
        </p:nvPicPr>
        <p:blipFill>
          <a:blip r:embed="rId1"/>
          <a:stretch/>
        </p:blipFill>
        <p:spPr>
          <a:xfrm>
            <a:off x="5786280" y="214200"/>
            <a:ext cx="19288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Гипотеза проекта: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71400" y="1600200"/>
            <a:ext cx="61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Мы предполагаем, что исследовав каплю воды из дождевой лужи и изучив многообразие и значение её обитателей, убедить окружающих, что пить воду и мыть руки из лужи нельзя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Результаты исследований: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1285560"/>
            <a:ext cx="335448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Bookman Old Style"/>
              </a:rPr>
              <a:t>Что такое луж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71320" y="1928880"/>
            <a:ext cx="378612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"Лужа - это относительно небольшое скопление жидкости, в большинстве случаев воды в углублениях на поверхности земли или в неровностях какого-либо покрытия (тротуар, проезжая часть дороги и т. п.). Лужа также является самой малой формой водоёмов, а с точки зрения экологии и зоологии водные лужи представляют собой малые водные биотопы.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http://ru.wikipedia.org/wiki/%CB%F3%E6%E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000760" y="1214280"/>
            <a:ext cx="32860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Bookman Old Style"/>
              </a:rPr>
              <a:t>Я иду, она смеётс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Bookman Old Style"/>
              </a:rPr>
              <a:t>Даже если дождь идё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Bookman Old Style"/>
              </a:rPr>
              <a:t>Словно, меленькое мо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Bookman Old Style"/>
              </a:rPr>
              <a:t>Отражает небосв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Bookman Old Style"/>
              </a:rPr>
              <a:t>Я иду, она живая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Bookman Old Style"/>
              </a:rPr>
              <a:t>Тянет, тянет, как магни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Bookman Old Style"/>
              </a:rPr>
              <a:t>Эта лужа дождева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Bookman Old Style"/>
              </a:rPr>
              <a:t>На меня гляди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Bookman Old Style"/>
              </a:rPr>
              <a:t> </a:t>
            </a:r>
            <a:r>
              <a:rPr b="0" i="1" lang="ru-RU" sz="1600" spc="-1" strike="noStrike">
                <a:solidFill>
                  <a:srgbClr val="c00000"/>
                </a:solidFill>
                <a:latin typeface="Bookman Old Style"/>
              </a:rPr>
              <a:t>Мимо лужи не пройти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Bookman Old Style"/>
              </a:rPr>
              <a:t>На моём она пу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Bookman Old Style"/>
              </a:rPr>
              <a:t>Если топну я ногою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Bookman Old Style"/>
              </a:rPr>
              <a:t>Небо к верху полети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Bookman Old Style"/>
              </a:rPr>
              <a:t>Мимо лужи не прой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Bookman Old Style"/>
              </a:rPr>
              <a:t>Мне немножечко влети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Bookman Old Style"/>
              </a:rPr>
              <a:t>Если небо голуб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Bookman Old Style"/>
              </a:rPr>
              <a:t>Зачерпну я в башма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Наблюдение с помощью микроскопа: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94" name="Содержимое 3" descr="IMG_7877.jpg"/>
          <p:cNvPicPr/>
          <p:nvPr/>
        </p:nvPicPr>
        <p:blipFill>
          <a:blip r:embed="rId1"/>
          <a:stretch/>
        </p:blipFill>
        <p:spPr>
          <a:xfrm>
            <a:off x="5715000" y="4643280"/>
            <a:ext cx="2357280" cy="1768680"/>
          </a:xfrm>
          <a:prstGeom prst="rect">
            <a:avLst/>
          </a:prstGeom>
          <a:ln w="9360">
            <a:solidFill>
              <a:srgbClr val="254061"/>
            </a:solidFill>
            <a:miter/>
          </a:ln>
        </p:spPr>
      </p:pic>
      <p:pic>
        <p:nvPicPr>
          <p:cNvPr id="95" name="Рисунок 4" descr="IMG_7878.jpg"/>
          <p:cNvPicPr/>
          <p:nvPr/>
        </p:nvPicPr>
        <p:blipFill>
          <a:blip r:embed="rId2"/>
          <a:stretch/>
        </p:blipFill>
        <p:spPr>
          <a:xfrm>
            <a:off x="4429080" y="1143000"/>
            <a:ext cx="4262400" cy="3197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6" name="Рисунок 5" descr="IMG_7872.jpg"/>
          <p:cNvPicPr/>
          <p:nvPr/>
        </p:nvPicPr>
        <p:blipFill>
          <a:blip r:embed="rId3"/>
          <a:stretch/>
        </p:blipFill>
        <p:spPr>
          <a:xfrm>
            <a:off x="357120" y="3500280"/>
            <a:ext cx="3905280" cy="2928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7" name="Picture 2" descr="http://www.freelancejob.ru/upload/169/89751577330753.jpg"/>
          <p:cNvPicPr/>
          <p:nvPr/>
        </p:nvPicPr>
        <p:blipFill>
          <a:blip r:embed="rId4"/>
          <a:stretch/>
        </p:blipFill>
        <p:spPr>
          <a:xfrm>
            <a:off x="785880" y="1357200"/>
            <a:ext cx="2187360" cy="1643040"/>
          </a:xfrm>
          <a:prstGeom prst="rect">
            <a:avLst/>
          </a:prstGeom>
          <a:ln w="9360">
            <a:solidFill>
              <a:srgbClr val="25406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f497d"/>
                </a:solidFill>
                <a:latin typeface="Bookman Old Style"/>
              </a:rPr>
              <a:t>Вот что мы увидели:</a:t>
            </a:r>
            <a:endParaRPr b="0" lang="en-US" sz="5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99" name="Рисунок 3" descr="1337577726_2.jpg"/>
          <p:cNvPicPr/>
          <p:nvPr/>
        </p:nvPicPr>
        <p:blipFill>
          <a:blip r:embed="rId1"/>
          <a:stretch/>
        </p:blipFill>
        <p:spPr>
          <a:xfrm>
            <a:off x="2401920" y="1920960"/>
            <a:ext cx="3340080" cy="49608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i_016.jpg"/>
          <p:cNvPicPr/>
          <p:nvPr/>
        </p:nvPicPr>
        <p:blipFill>
          <a:blip r:embed="rId2"/>
          <a:stretch/>
        </p:blipFill>
        <p:spPr>
          <a:xfrm>
            <a:off x="5473800" y="3975120"/>
            <a:ext cx="30304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9298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Bookman Old Style"/>
              </a:rPr>
              <a:t>Простейшие организмы- обитатели лужи:</a:t>
            </a:r>
            <a:br>
              <a:rPr sz="3200"/>
            </a:br>
            <a:r>
              <a:rPr b="0" lang="en-US" sz="1200" spc="-1" strike="noStrike">
                <a:solidFill>
                  <a:srgbClr val="1f497d"/>
                </a:solidFill>
                <a:latin typeface="Bookman Old Style"/>
              </a:rPr>
              <a:t>http://video.yandex.ru/#search?text=%20%D0%B2%D0%B8%D0%B4%D0%B5%D0%BE%20%D0%BE%20%D0%BF%D1%80%D0%BE%D1%81%D1%82%D0%B5%D1%88%D0%B8%D1%85%20%D0%BE%D0%B1%D0%B8%D1%82%D0%B0%D1%82%D0%B5%D0%BB%D1%8F%D1%85%20%D0%BB%D1%83%D0%B6%D0%B8&amp;filmId=pnvCPdzY9xc%3D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404028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Инфузория-туфель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Содержимое 6" descr="фото 084.jpg"/>
          <p:cNvPicPr/>
          <p:nvPr/>
        </p:nvPicPr>
        <p:blipFill>
          <a:blip r:embed="rId1"/>
          <a:stretch/>
        </p:blipFill>
        <p:spPr>
          <a:xfrm>
            <a:off x="1214280" y="2143080"/>
            <a:ext cx="3002040" cy="4214880"/>
          </a:xfrm>
          <a:prstGeom prst="rect">
            <a:avLst/>
          </a:prstGeom>
          <a:ln w="9360">
            <a:solidFill>
              <a:srgbClr val="254061"/>
            </a:solidFill>
            <a:miter/>
          </a:ln>
        </p:spPr>
      </p:pic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4720" y="1571760"/>
            <a:ext cx="4041720" cy="42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9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Эвглена зелё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Содержимое 7" descr="фото 079.jpg"/>
          <p:cNvPicPr/>
          <p:nvPr/>
        </p:nvPicPr>
        <p:blipFill>
          <a:blip r:embed="rId2"/>
          <a:stretch/>
        </p:blipFill>
        <p:spPr>
          <a:xfrm>
            <a:off x="5259240" y="2174760"/>
            <a:ext cx="3027600" cy="4251600"/>
          </a:xfrm>
          <a:prstGeom prst="rect">
            <a:avLst/>
          </a:prstGeom>
          <a:ln w="9360">
            <a:solidFill>
              <a:srgbClr val="25406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6840" y="928440"/>
            <a:ext cx="404028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Вольвокс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одержимое 6" descr="фото 087.jpg"/>
          <p:cNvPicPr/>
          <p:nvPr/>
        </p:nvPicPr>
        <p:blipFill>
          <a:blip r:embed="rId1"/>
          <a:stretch/>
        </p:blipFill>
        <p:spPr>
          <a:xfrm>
            <a:off x="428760" y="1928880"/>
            <a:ext cx="4211640" cy="3000240"/>
          </a:xfrm>
          <a:prstGeom prst="rect">
            <a:avLst/>
          </a:prstGeom>
          <a:ln w="28440">
            <a:solidFill>
              <a:srgbClr val="254061"/>
            </a:solidFill>
            <a:miter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786200" y="428760"/>
            <a:ext cx="4143600" cy="142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Представитель кишечнополостных - Гидра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Содержимое 7" descr="фото 083.jpg"/>
          <p:cNvPicPr/>
          <p:nvPr/>
        </p:nvPicPr>
        <p:blipFill>
          <a:blip r:embed="rId2"/>
          <a:stretch/>
        </p:blipFill>
        <p:spPr>
          <a:xfrm>
            <a:off x="5500800" y="2000160"/>
            <a:ext cx="3143160" cy="4413240"/>
          </a:xfrm>
          <a:prstGeom prst="rect">
            <a:avLst/>
          </a:prstGeom>
          <a:ln w="28440">
            <a:solidFill>
              <a:srgbClr val="25406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Bookman Old Style"/>
              </a:rPr>
              <a:t>Ракообразные – обитатели лужи: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404028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Дафния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одержимое 6" descr="фото 082.jpg"/>
          <p:cNvPicPr/>
          <p:nvPr/>
        </p:nvPicPr>
        <p:blipFill>
          <a:blip r:embed="rId1"/>
          <a:stretch/>
        </p:blipFill>
        <p:spPr>
          <a:xfrm>
            <a:off x="1069920" y="2174760"/>
            <a:ext cx="3073320" cy="43149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Цикло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Содержимое 7" descr="фото 086.jpg"/>
          <p:cNvPicPr/>
          <p:nvPr/>
        </p:nvPicPr>
        <p:blipFill>
          <a:blip r:embed="rId2"/>
          <a:stretch/>
        </p:blipFill>
        <p:spPr>
          <a:xfrm>
            <a:off x="5259240" y="2174760"/>
            <a:ext cx="30988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1:28:01Z</dcterms:created>
  <dc:creator>ppsworld.ru</dc:creator>
  <dc:description/>
  <dc:language>en-US</dc:language>
  <cp:lastModifiedBy>Admin</cp:lastModifiedBy>
  <dcterms:modified xsi:type="dcterms:W3CDTF">2013-03-28T11:27:23Z</dcterms:modified>
  <cp:revision>24</cp:revision>
  <dc:subject/>
  <dc:title>Слайд 1</dc:title>
</cp:coreProperties>
</file>