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DF6A-5A52-4AD1-A5C9-0152A431D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6738-9081-43F9-9BAF-5731553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D22B-6158-43FE-B8BD-28CCD401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280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0876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280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0876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F2FD-F20E-410D-AC2E-B9FBDF1C1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62033-82A5-4FD5-8F5B-73D4F435D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D25C2-1B70-4883-80F5-38C363F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18EB1-EF5A-46C7-8232-D667A3C2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4304E-A22F-43BA-AD54-9016015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37360-8F79-4E32-98E6-31E2A914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-513000"/>
            <a:ext cx="821052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70804-D3D0-4E49-B4DC-25ED3A24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4C82F-F031-46DB-8ABB-D7A89E2B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8AC5-AC6A-456C-ADD0-37BE78AA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D983-2D8A-4494-A391-16BBEFCF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7D77-4DEC-451A-B9F6-0D0C219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96B8D-7832-486E-B957-208D47D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62013-D99A-4EDB-8D4D-2D9559F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280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08760" y="193500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280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08760" y="4217760"/>
            <a:ext cx="26434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032F8-F257-4C74-A2E5-851C7B0844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666B-0F65-4AB2-AA4A-740E85F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687A-E9F1-4187-817F-19F6E043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0966-167B-4464-8944-B92FE502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513000"/>
            <a:ext cx="8210520" cy="10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673F-3C1E-479D-AD5C-5A7990A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CC8C-DF07-47BD-8A8D-F51BBAB3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160" y="421776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A917-11E4-408B-BBF4-D41E307B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160" y="1935000"/>
            <a:ext cx="400644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17760"/>
            <a:ext cx="8210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73B3-7AC9-4608-8802-4F74500F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146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430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EA484-AC8D-4370-8310-90DE5B098E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79848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513000"/>
            <a:ext cx="821052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1052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1464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7320" y="6356160"/>
            <a:ext cx="59040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48FF24-CCBD-4AEE-B06F-7E265DDFF675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60720" y="3416400"/>
            <a:ext cx="4755960" cy="4863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74920" y="85680"/>
            <a:ext cx="6553080" cy="15177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048040" y="1530360"/>
            <a:ext cx="5548320" cy="785880"/>
            <a:chOff x="2048040" y="1530360"/>
            <a:chExt cx="5548320" cy="785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048040" y="1530360"/>
              <a:ext cx="55483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124000" y="1628640"/>
              <a:ext cx="540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кружающий мир, 2-й класс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28880" y="907920"/>
            <a:ext cx="3309840" cy="646200"/>
            <a:chOff x="2828880" y="907920"/>
            <a:chExt cx="3309840" cy="64620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2828880" y="907920"/>
              <a:ext cx="3309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004200" y="981000"/>
              <a:ext cx="29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отные Арк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2655720" cy="19904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2903760" cy="217800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059280" y="1557360"/>
            <a:ext cx="2881080" cy="21589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771640" y="4140360"/>
            <a:ext cx="3348000" cy="20365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08" name=""/>
          <p:cNvGrpSpPr/>
          <p:nvPr/>
        </p:nvGrpSpPr>
        <p:grpSpPr>
          <a:xfrm>
            <a:off x="6864480" y="2992320"/>
            <a:ext cx="1414440" cy="646200"/>
            <a:chOff x="6864480" y="2992320"/>
            <a:chExt cx="1414440" cy="646200"/>
          </a:xfrm>
        </p:grpSpPr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6864480" y="2992320"/>
              <a:ext cx="1414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026840" y="3068640"/>
              <a:ext cx="11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орж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1040" y="2852640"/>
            <a:ext cx="2535480" cy="646200"/>
            <a:chOff x="311040" y="2852640"/>
            <a:chExt cx="2535480" cy="6462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311040" y="2852640"/>
              <a:ext cx="2535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5920" y="292428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елый медвед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93960" y="3425760"/>
            <a:ext cx="1524240" cy="646200"/>
            <a:chOff x="3693960" y="3425760"/>
            <a:chExt cx="1524240" cy="646200"/>
          </a:xfrm>
        </p:grpSpPr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693960" y="3425760"/>
              <a:ext cx="1524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55240" y="3500280"/>
              <a:ext cx="12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юл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75040" y="6089760"/>
            <a:ext cx="3011400" cy="645840"/>
            <a:chOff x="2975040" y="6089760"/>
            <a:chExt cx="3011400" cy="645840"/>
          </a:xfrm>
        </p:grpSpPr>
        <p:pic>
          <p:nvPicPr>
            <p:cNvPr id="118" name="" descr=""/>
            <p:cNvPicPr/>
            <p:nvPr/>
          </p:nvPicPr>
          <p:blipFill>
            <a:blip r:embed="rId10"/>
            <a:stretch/>
          </p:blipFill>
          <p:spPr>
            <a:xfrm>
              <a:off x="2975040" y="6089760"/>
              <a:ext cx="3011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167640" y="616572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ренландский к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60720" y="1163520"/>
            <a:ext cx="2449440" cy="1536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22" name=""/>
          <p:cNvGrpSpPr/>
          <p:nvPr/>
        </p:nvGrpSpPr>
        <p:grpSpPr>
          <a:xfrm>
            <a:off x="3240000" y="2519280"/>
            <a:ext cx="1409760" cy="646200"/>
            <a:chOff x="3240000" y="2519280"/>
            <a:chExt cx="1409760" cy="646200"/>
          </a:xfrm>
        </p:grpSpPr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3240000" y="2519280"/>
              <a:ext cx="1409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02000" y="25938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й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0" y="3084480"/>
            <a:ext cx="5334120" cy="566640"/>
            <a:chOff x="2286000" y="3084480"/>
            <a:chExt cx="5334120" cy="566640"/>
          </a:xfrm>
        </p:grpSpPr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2286000" y="3084480"/>
              <a:ext cx="5334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423880" y="3141720"/>
              <a:ext cx="511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то из них «кормильцы», а кто – «едоки»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9640" y="3716280"/>
            <a:ext cx="1584360" cy="15289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843280" y="3716280"/>
            <a:ext cx="1531800" cy="151452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003640" y="3716280"/>
            <a:ext cx="1519560" cy="15843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265880" y="3645000"/>
            <a:ext cx="1498680" cy="16556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2" name=""/>
          <p:cNvGrpSpPr/>
          <p:nvPr/>
        </p:nvGrpSpPr>
        <p:grpSpPr>
          <a:xfrm>
            <a:off x="2048040" y="4248000"/>
            <a:ext cx="871200" cy="652680"/>
            <a:chOff x="2048040" y="4248000"/>
            <a:chExt cx="871200" cy="652680"/>
          </a:xfrm>
        </p:grpSpPr>
        <p:pic>
          <p:nvPicPr>
            <p:cNvPr id="133" name="" descr=""/>
            <p:cNvPicPr/>
            <p:nvPr/>
          </p:nvPicPr>
          <p:blipFill>
            <a:blip r:embed="rId9"/>
            <a:stretch/>
          </p:blipFill>
          <p:spPr>
            <a:xfrm>
              <a:off x="2048040" y="4248000"/>
              <a:ext cx="8712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24000" y="4414680"/>
              <a:ext cx="59868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286160" y="4322880"/>
            <a:ext cx="865440" cy="650880"/>
            <a:chOff x="4286160" y="4322880"/>
            <a:chExt cx="865440" cy="650880"/>
          </a:xfrm>
        </p:grpSpPr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4286160" y="4322880"/>
              <a:ext cx="8654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356000" y="4486320"/>
              <a:ext cx="598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516720" y="4322880"/>
            <a:ext cx="865080" cy="650880"/>
            <a:chOff x="6516720" y="4322880"/>
            <a:chExt cx="865080" cy="650880"/>
          </a:xfrm>
        </p:grpSpPr>
        <p:pic>
          <p:nvPicPr>
            <p:cNvPr id="139" name="" descr=""/>
            <p:cNvPicPr/>
            <p:nvPr/>
          </p:nvPicPr>
          <p:blipFill>
            <a:blip r:embed="rId11"/>
            <a:stretch/>
          </p:blipFill>
          <p:spPr>
            <a:xfrm>
              <a:off x="6516720" y="4322880"/>
              <a:ext cx="8650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588000" y="4486320"/>
              <a:ext cx="598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394400" y="5241960"/>
            <a:ext cx="1195560" cy="568440"/>
            <a:chOff x="7394400" y="5241960"/>
            <a:chExt cx="1195560" cy="568440"/>
          </a:xfrm>
        </p:grpSpPr>
        <p:pic>
          <p:nvPicPr>
            <p:cNvPr id="142" name="" descr=""/>
            <p:cNvPicPr/>
            <p:nvPr/>
          </p:nvPicPr>
          <p:blipFill>
            <a:blip r:embed="rId12"/>
            <a:stretch/>
          </p:blipFill>
          <p:spPr>
            <a:xfrm>
              <a:off x="7394400" y="5241960"/>
              <a:ext cx="119556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527240" y="530064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й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37280" y="5241960"/>
            <a:ext cx="1103040" cy="568440"/>
            <a:chOff x="5237280" y="5241960"/>
            <a:chExt cx="1103040" cy="568440"/>
          </a:xfrm>
        </p:grpSpPr>
        <p:pic>
          <p:nvPicPr>
            <p:cNvPr id="145" name="" descr=""/>
            <p:cNvPicPr/>
            <p:nvPr/>
          </p:nvPicPr>
          <p:blipFill>
            <a:blip r:embed="rId13"/>
            <a:stretch/>
          </p:blipFill>
          <p:spPr>
            <a:xfrm>
              <a:off x="5237280" y="5241960"/>
              <a:ext cx="110304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368680" y="530064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ыб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603520" y="5175360"/>
            <a:ext cx="1998720" cy="871560"/>
            <a:chOff x="2603520" y="5175360"/>
            <a:chExt cx="1998720" cy="871560"/>
          </a:xfrm>
        </p:grpSpPr>
        <p:pic>
          <p:nvPicPr>
            <p:cNvPr id="148" name="" descr=""/>
            <p:cNvPicPr/>
            <p:nvPr/>
          </p:nvPicPr>
          <p:blipFill>
            <a:blip r:embed="rId14"/>
            <a:stretch/>
          </p:blipFill>
          <p:spPr>
            <a:xfrm>
              <a:off x="2603520" y="5175360"/>
              <a:ext cx="1998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33120" y="5229360"/>
              <a:ext cx="174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кто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живо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24000" y="5175360"/>
            <a:ext cx="2058840" cy="871560"/>
            <a:chOff x="324000" y="5175360"/>
            <a:chExt cx="2058840" cy="871560"/>
          </a:xfrm>
        </p:grpSpPr>
        <p:pic>
          <p:nvPicPr>
            <p:cNvPr id="151" name="" descr=""/>
            <p:cNvPicPr/>
            <p:nvPr/>
          </p:nvPicPr>
          <p:blipFill>
            <a:blip r:embed="rId15"/>
            <a:stretch/>
          </p:blipFill>
          <p:spPr>
            <a:xfrm>
              <a:off x="324000" y="5175360"/>
              <a:ext cx="2058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95280" y="5229360"/>
              <a:ext cx="18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ктонны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5240" y="6089760"/>
            <a:ext cx="2425680" cy="645840"/>
            <a:chOff x="165240" y="6089760"/>
            <a:chExt cx="2425680" cy="645840"/>
          </a:xfrm>
        </p:grpSpPr>
        <p:pic>
          <p:nvPicPr>
            <p:cNvPr id="154" name="" descr=""/>
            <p:cNvPicPr/>
            <p:nvPr/>
          </p:nvPicPr>
          <p:blipFill>
            <a:blip r:embed="rId16"/>
            <a:stretch/>
          </p:blipFill>
          <p:spPr>
            <a:xfrm>
              <a:off x="165240" y="6089760"/>
              <a:ext cx="24256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33360" y="6165720"/>
              <a:ext cx="210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кормильцы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828880" y="6089760"/>
            <a:ext cx="1590840" cy="645840"/>
            <a:chOff x="2828880" y="6089760"/>
            <a:chExt cx="1590840" cy="645840"/>
          </a:xfrm>
        </p:grpSpPr>
        <p:pic>
          <p:nvPicPr>
            <p:cNvPr id="157" name="" descr=""/>
            <p:cNvPicPr/>
            <p:nvPr/>
          </p:nvPicPr>
          <p:blipFill>
            <a:blip r:embed="rId17"/>
            <a:stretch/>
          </p:blipFill>
          <p:spPr>
            <a:xfrm>
              <a:off x="2828880" y="6089760"/>
              <a:ext cx="1590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99412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86360" y="6089760"/>
            <a:ext cx="1590480" cy="645840"/>
            <a:chOff x="4986360" y="6089760"/>
            <a:chExt cx="1590480" cy="645840"/>
          </a:xfrm>
        </p:grpSpPr>
        <p:pic>
          <p:nvPicPr>
            <p:cNvPr id="160" name="" descr=""/>
            <p:cNvPicPr/>
            <p:nvPr/>
          </p:nvPicPr>
          <p:blipFill>
            <a:blip r:embed="rId18"/>
            <a:stretch/>
          </p:blipFill>
          <p:spPr>
            <a:xfrm>
              <a:off x="4986360" y="6089760"/>
              <a:ext cx="1590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5304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223040" y="6089760"/>
            <a:ext cx="1592280" cy="645840"/>
            <a:chOff x="7223040" y="6089760"/>
            <a:chExt cx="1592280" cy="645840"/>
          </a:xfrm>
        </p:grpSpPr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7223040" y="6089760"/>
              <a:ext cx="15922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386840" y="6165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едок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189000"/>
            <a:ext cx="8229600" cy="718920"/>
          </a:xfrm>
          <a:prstGeom prst="roundRect">
            <a:avLst>
              <a:gd name="adj" fmla="val 16667"/>
            </a:avLst>
          </a:prstGeom>
          <a:solidFill>
            <a:srgbClr val="f8a73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ткрытие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076720" y="4581360"/>
            <a:ext cx="3848040" cy="1876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48040" cy="18669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8" name=""/>
          <p:cNvGrpSpPr/>
          <p:nvPr/>
        </p:nvGrpSpPr>
        <p:grpSpPr>
          <a:xfrm>
            <a:off x="2066760" y="993600"/>
            <a:ext cx="4645080" cy="567000"/>
            <a:chOff x="2066760" y="993600"/>
            <a:chExt cx="4645080" cy="567000"/>
          </a:xfrm>
        </p:grpSpPr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066760" y="993600"/>
              <a:ext cx="46450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190960" y="1052640"/>
              <a:ext cx="44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му в полярных областях холодно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6400" y="1859040"/>
            <a:ext cx="4321440" cy="1798560"/>
            <a:chOff x="536400" y="1859040"/>
            <a:chExt cx="4321440" cy="1798560"/>
          </a:xfrm>
        </p:grpSpPr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536400" y="1859040"/>
              <a:ext cx="43214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11280" y="1916280"/>
              <a:ext cx="4176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лимат полярных областей холоден и суров, так как лучи солнца там пологие (сильно наклонены) и слабо нагревают землю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42920" y="3876840"/>
            <a:ext cx="7272360" cy="566640"/>
            <a:chOff x="1042920" y="3876840"/>
            <a:chExt cx="7272360" cy="56664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1042920" y="3876840"/>
              <a:ext cx="72723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116000" y="3933720"/>
              <a:ext cx="71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равните наклон солнечных лучей на полюсе и на экваторе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2560" y="4956120"/>
            <a:ext cx="4322880" cy="841320"/>
            <a:chOff x="682560" y="4956120"/>
            <a:chExt cx="4322880" cy="84132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682560" y="4956120"/>
              <a:ext cx="4322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55640" y="5013360"/>
              <a:ext cx="417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Н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ваторе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 солнечные лучи крутые (почти прямые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7:21:10Z</dcterms:created>
  <dc:creator>Маргаритка</dc:creator>
  <dc:description/>
  <dc:language>en-US</dc:language>
  <cp:lastModifiedBy>1</cp:lastModifiedBy>
  <dcterms:modified xsi:type="dcterms:W3CDTF">2013-02-17T07:18:47Z</dcterms:modified>
  <cp:revision>92</cp:revision>
  <dc:subject/>
  <dc:title>Слайд 1</dc:title>
</cp:coreProperties>
</file>