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5493-D504-4FC5-8C35-4F0E1D5F74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8062-4661-48F2-A4E9-FCD66FE1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6B65-774E-42B2-8698-1EBAE55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280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0876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280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0876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83C4-1837-4D3B-991C-C744F7E3F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51828-3EEA-4ADF-A9AD-CF73B30B1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7A201-4419-4916-9296-DB63546E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ED97C-8E39-4E43-A58E-BE387CA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CAF9D-DCF3-443F-967C-4382587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EDB09-498A-4E8B-AD54-2EABF06B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-513000"/>
            <a:ext cx="821052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CB11-95CA-4B52-8764-188CD977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DE058-4335-427F-A52C-006878F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9E68-B552-4A53-8CED-37D1DE2C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3FA46-709D-4DBA-8FD8-95FF9A4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BF011-ECC7-4CB4-93E4-B498B5D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386B7-00EC-4D80-8421-5661FA46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B7291-DBAC-4422-9F1D-4B3FD7F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280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0876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280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0876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CE45F-DE2B-4DFF-B6F2-4506218D0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7DA4-5639-4270-ACC7-B6464E37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8E2F-09CB-4A32-8D8E-EAA9F8BC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60CC-9881-4E01-9435-3B371E2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513000"/>
            <a:ext cx="821052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6D95-DF9D-4A7C-BE91-4D8A3FA9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43AB-2209-46B5-A8CE-75719D69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3DD5-1305-4675-9786-6131FBA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73AE-DD9D-4A6D-A856-DBE3087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1464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4304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35DA9-FC02-42CB-AC94-D11FDF0387C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798480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1464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59040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C8EAED-B654-4B76-84A5-8E64E7A4553C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60720" y="3416400"/>
            <a:ext cx="4755960" cy="4863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74920" y="85680"/>
            <a:ext cx="6553080" cy="15177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048040" y="1530360"/>
            <a:ext cx="5548320" cy="785880"/>
            <a:chOff x="2048040" y="1530360"/>
            <a:chExt cx="5548320" cy="785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2048040" y="1530360"/>
              <a:ext cx="55483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124000" y="1628640"/>
              <a:ext cx="540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кружающий мир, 2-й класс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28880" y="907920"/>
            <a:ext cx="3309840" cy="646200"/>
            <a:chOff x="2828880" y="907920"/>
            <a:chExt cx="3309840" cy="64620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828880" y="907920"/>
              <a:ext cx="3309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04200" y="98100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вотные Арк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655720" cy="19904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84720" y="1052640"/>
            <a:ext cx="2903760" cy="217800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059280" y="1557360"/>
            <a:ext cx="2881080" cy="21589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771640" y="4140360"/>
            <a:ext cx="3348000" cy="20365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08" name=""/>
          <p:cNvGrpSpPr/>
          <p:nvPr/>
        </p:nvGrpSpPr>
        <p:grpSpPr>
          <a:xfrm>
            <a:off x="6864480" y="2992320"/>
            <a:ext cx="1414440" cy="646200"/>
            <a:chOff x="6864480" y="2992320"/>
            <a:chExt cx="1414440" cy="646200"/>
          </a:xfrm>
        </p:grpSpPr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6864480" y="2992320"/>
              <a:ext cx="1414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26840" y="306864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орж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1040" y="2852640"/>
            <a:ext cx="2535480" cy="646200"/>
            <a:chOff x="311040" y="2852640"/>
            <a:chExt cx="2535480" cy="6462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311040" y="2852640"/>
              <a:ext cx="2535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75920" y="292428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елый медве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93960" y="3425760"/>
            <a:ext cx="1524240" cy="646200"/>
            <a:chOff x="3693960" y="3425760"/>
            <a:chExt cx="1524240" cy="646200"/>
          </a:xfrm>
        </p:grpSpPr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693960" y="3425760"/>
              <a:ext cx="1524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55240" y="350028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юл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75040" y="6089760"/>
            <a:ext cx="3011400" cy="645840"/>
            <a:chOff x="2975040" y="6089760"/>
            <a:chExt cx="3011400" cy="645840"/>
          </a:xfrm>
        </p:grpSpPr>
        <p:pic>
          <p:nvPicPr>
            <p:cNvPr id="118" name="" descr=""/>
            <p:cNvPicPr/>
            <p:nvPr/>
          </p:nvPicPr>
          <p:blipFill>
            <a:blip r:embed="rId10"/>
            <a:stretch/>
          </p:blipFill>
          <p:spPr>
            <a:xfrm>
              <a:off x="2975040" y="6089760"/>
              <a:ext cx="3011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167640" y="616572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ренландский к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60720" y="1163520"/>
            <a:ext cx="2449440" cy="1536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22" name=""/>
          <p:cNvGrpSpPr/>
          <p:nvPr/>
        </p:nvGrpSpPr>
        <p:grpSpPr>
          <a:xfrm>
            <a:off x="3240000" y="2519280"/>
            <a:ext cx="1409760" cy="646200"/>
            <a:chOff x="3240000" y="2519280"/>
            <a:chExt cx="1409760" cy="64620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240000" y="2519280"/>
              <a:ext cx="1409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02000" y="25938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й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0" y="3084480"/>
            <a:ext cx="5334120" cy="566640"/>
            <a:chOff x="2286000" y="3084480"/>
            <a:chExt cx="5334120" cy="566640"/>
          </a:xfrm>
        </p:grpSpPr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2286000" y="3084480"/>
              <a:ext cx="5334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423880" y="3141720"/>
              <a:ext cx="511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то из них «кормильцы», а кто – «едоки»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39640" y="3716280"/>
            <a:ext cx="1584360" cy="15289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843280" y="3716280"/>
            <a:ext cx="1531800" cy="15145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003640" y="3716280"/>
            <a:ext cx="1519560" cy="15843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265880" y="3645000"/>
            <a:ext cx="1498680" cy="16556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2" name=""/>
          <p:cNvGrpSpPr/>
          <p:nvPr/>
        </p:nvGrpSpPr>
        <p:grpSpPr>
          <a:xfrm>
            <a:off x="2048040" y="4248000"/>
            <a:ext cx="871200" cy="652680"/>
            <a:chOff x="2048040" y="4248000"/>
            <a:chExt cx="871200" cy="652680"/>
          </a:xfrm>
        </p:grpSpPr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048040" y="4248000"/>
              <a:ext cx="8712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24000" y="4414680"/>
              <a:ext cx="5986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286160" y="4322880"/>
            <a:ext cx="865440" cy="650880"/>
            <a:chOff x="4286160" y="4322880"/>
            <a:chExt cx="865440" cy="650880"/>
          </a:xfrm>
        </p:grpSpPr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4286160" y="4322880"/>
              <a:ext cx="8654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356000" y="4486320"/>
              <a:ext cx="598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516720" y="4322880"/>
            <a:ext cx="865080" cy="650880"/>
            <a:chOff x="6516720" y="4322880"/>
            <a:chExt cx="865080" cy="650880"/>
          </a:xfrm>
        </p:grpSpPr>
        <p:pic>
          <p:nvPicPr>
            <p:cNvPr id="139" name="" descr=""/>
            <p:cNvPicPr/>
            <p:nvPr/>
          </p:nvPicPr>
          <p:blipFill>
            <a:blip r:embed="rId11"/>
            <a:stretch/>
          </p:blipFill>
          <p:spPr>
            <a:xfrm>
              <a:off x="6516720" y="4322880"/>
              <a:ext cx="8650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588000" y="4486320"/>
              <a:ext cx="598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394400" y="5241960"/>
            <a:ext cx="1195560" cy="568440"/>
            <a:chOff x="7394400" y="5241960"/>
            <a:chExt cx="1195560" cy="568440"/>
          </a:xfrm>
        </p:grpSpPr>
        <p:pic>
          <p:nvPicPr>
            <p:cNvPr id="142" name="" descr=""/>
            <p:cNvPicPr/>
            <p:nvPr/>
          </p:nvPicPr>
          <p:blipFill>
            <a:blip r:embed="rId12"/>
            <a:stretch/>
          </p:blipFill>
          <p:spPr>
            <a:xfrm>
              <a:off x="7394400" y="5241960"/>
              <a:ext cx="11955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27240" y="530064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й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37280" y="5241960"/>
            <a:ext cx="1103040" cy="568440"/>
            <a:chOff x="5237280" y="5241960"/>
            <a:chExt cx="1103040" cy="568440"/>
          </a:xfrm>
        </p:grpSpPr>
        <p:pic>
          <p:nvPicPr>
            <p:cNvPr id="145" name="" descr=""/>
            <p:cNvPicPr/>
            <p:nvPr/>
          </p:nvPicPr>
          <p:blipFill>
            <a:blip r:embed="rId13"/>
            <a:stretch/>
          </p:blipFill>
          <p:spPr>
            <a:xfrm>
              <a:off x="5237280" y="5241960"/>
              <a:ext cx="110304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368680" y="530064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ыб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603520" y="5175360"/>
            <a:ext cx="1998720" cy="871560"/>
            <a:chOff x="2603520" y="5175360"/>
            <a:chExt cx="1998720" cy="871560"/>
          </a:xfrm>
        </p:grpSpPr>
        <p:pic>
          <p:nvPicPr>
            <p:cNvPr id="148" name="" descr=""/>
            <p:cNvPicPr/>
            <p:nvPr/>
          </p:nvPicPr>
          <p:blipFill>
            <a:blip r:embed="rId14"/>
            <a:stretch/>
          </p:blipFill>
          <p:spPr>
            <a:xfrm>
              <a:off x="2603520" y="5175360"/>
              <a:ext cx="19987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33120" y="5229360"/>
              <a:ext cx="174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кто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во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24000" y="5175360"/>
            <a:ext cx="2058840" cy="871560"/>
            <a:chOff x="324000" y="5175360"/>
            <a:chExt cx="2058840" cy="871560"/>
          </a:xfrm>
        </p:grpSpPr>
        <p:pic>
          <p:nvPicPr>
            <p:cNvPr id="151" name="" descr=""/>
            <p:cNvPicPr/>
            <p:nvPr/>
          </p:nvPicPr>
          <p:blipFill>
            <a:blip r:embed="rId15"/>
            <a:stretch/>
          </p:blipFill>
          <p:spPr>
            <a:xfrm>
              <a:off x="324000" y="5175360"/>
              <a:ext cx="2058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95280" y="5229360"/>
              <a:ext cx="187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ктон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5240" y="6089760"/>
            <a:ext cx="2425680" cy="645840"/>
            <a:chOff x="165240" y="6089760"/>
            <a:chExt cx="2425680" cy="645840"/>
          </a:xfrm>
        </p:grpSpPr>
        <p:pic>
          <p:nvPicPr>
            <p:cNvPr id="154" name="" descr=""/>
            <p:cNvPicPr/>
            <p:nvPr/>
          </p:nvPicPr>
          <p:blipFill>
            <a:blip r:embed="rId16"/>
            <a:stretch/>
          </p:blipFill>
          <p:spPr>
            <a:xfrm>
              <a:off x="165240" y="6089760"/>
              <a:ext cx="24256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33360" y="616572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ормильцы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828880" y="6089760"/>
            <a:ext cx="1590840" cy="645840"/>
            <a:chOff x="2828880" y="6089760"/>
            <a:chExt cx="1590840" cy="645840"/>
          </a:xfrm>
        </p:grpSpPr>
        <p:pic>
          <p:nvPicPr>
            <p:cNvPr id="157" name="" descr=""/>
            <p:cNvPicPr/>
            <p:nvPr/>
          </p:nvPicPr>
          <p:blipFill>
            <a:blip r:embed="rId17"/>
            <a:stretch/>
          </p:blipFill>
          <p:spPr>
            <a:xfrm>
              <a:off x="2828880" y="6089760"/>
              <a:ext cx="1590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994120" y="6165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едо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86360" y="6089760"/>
            <a:ext cx="1590480" cy="645840"/>
            <a:chOff x="4986360" y="6089760"/>
            <a:chExt cx="1590480" cy="645840"/>
          </a:xfrm>
        </p:grpSpPr>
        <p:pic>
          <p:nvPicPr>
            <p:cNvPr id="160" name="" descr=""/>
            <p:cNvPicPr/>
            <p:nvPr/>
          </p:nvPicPr>
          <p:blipFill>
            <a:blip r:embed="rId18"/>
            <a:stretch/>
          </p:blipFill>
          <p:spPr>
            <a:xfrm>
              <a:off x="4986360" y="6089760"/>
              <a:ext cx="1590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53040" y="6165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едо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223040" y="6089760"/>
            <a:ext cx="1592280" cy="645840"/>
            <a:chOff x="7223040" y="6089760"/>
            <a:chExt cx="1592280" cy="645840"/>
          </a:xfrm>
        </p:grpSpPr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7223040" y="6089760"/>
              <a:ext cx="15922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386840" y="6165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едо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076720" y="4581360"/>
            <a:ext cx="3848040" cy="1876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48040" cy="18669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68" name=""/>
          <p:cNvGrpSpPr/>
          <p:nvPr/>
        </p:nvGrpSpPr>
        <p:grpSpPr>
          <a:xfrm>
            <a:off x="2066760" y="993600"/>
            <a:ext cx="4645080" cy="567000"/>
            <a:chOff x="2066760" y="993600"/>
            <a:chExt cx="4645080" cy="567000"/>
          </a:xfrm>
        </p:grpSpPr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066760" y="993600"/>
              <a:ext cx="46450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190960" y="1052640"/>
              <a:ext cx="44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ему в полярных областях холодно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6400" y="1859040"/>
            <a:ext cx="4321440" cy="1798560"/>
            <a:chOff x="536400" y="1859040"/>
            <a:chExt cx="4321440" cy="1798560"/>
          </a:xfrm>
        </p:grpSpPr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536400" y="1859040"/>
              <a:ext cx="43214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11280" y="1916280"/>
              <a:ext cx="4176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имат полярных областей холоден и суров, так как лучи солнца там пологие (сильно наклонены) и слабо нагревают землю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42920" y="3876840"/>
            <a:ext cx="7272360" cy="566640"/>
            <a:chOff x="1042920" y="3876840"/>
            <a:chExt cx="7272360" cy="566640"/>
          </a:xfrm>
        </p:grpSpPr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1042920" y="3876840"/>
              <a:ext cx="72723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16000" y="3933720"/>
              <a:ext cx="712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авните наклон солнечных лучей на полюсе и на экваторе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2560" y="4956120"/>
            <a:ext cx="4322880" cy="841320"/>
            <a:chOff x="682560" y="4956120"/>
            <a:chExt cx="4322880" cy="84132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682560" y="4956120"/>
              <a:ext cx="4322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55640" y="5013360"/>
              <a:ext cx="4176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Н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ваторе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 солнечные лучи крутые (почти прямые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7:21:10Z</dcterms:created>
  <dc:creator>Маргаритка</dc:creator>
  <dc:description/>
  <dc:language>en-US</dc:language>
  <cp:lastModifiedBy>1</cp:lastModifiedBy>
  <dcterms:modified xsi:type="dcterms:W3CDTF">2013-02-17T07:18:47Z</dcterms:modified>
  <cp:revision>92</cp:revision>
  <dc:subject/>
  <dc:title>Слайд 1</dc:title>
</cp:coreProperties>
</file>