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99F-5865-4654-B06B-6EB0646D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FB1-A7E2-4AAC-97C4-D5B175DC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368-9FED-44B0-980C-8C447528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DAC-D3BD-4C0C-8E7E-F431E399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1BE-ED05-4938-88D7-DD9FDB54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7F7-1A33-47E1-93CC-939A8F2D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DC2-636F-4BC9-9131-965614C4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C33-2821-45A0-83FB-27E76744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A75-DD44-4755-BF5E-346BF92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72D-5219-40FD-AF45-828EC10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595-E9EE-4994-9271-8F84A82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4A8-5909-4D37-94B2-6D50F76F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61F-7FC2-41E9-8FEA-7BE22D4014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talloinvest.com/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foxdesign.ru/" TargetMode="External"/><Relationship Id="rId5" Type="http://schemas.openxmlformats.org/officeDocument/2006/relationships/hyperlink" Target="http://www.rulex.ru/01130409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90b61cc30a34"/>
          <p:cNvPicPr/>
          <p:nvPr/>
        </p:nvPicPr>
        <p:blipFill>
          <a:blip r:embed="rId2"/>
          <a:stretch/>
        </p:blipFill>
        <p:spPr>
          <a:xfrm>
            <a:off x="380880" y="838080"/>
            <a:ext cx="1428840" cy="104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66520" y="365724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ХИМИЧЕСКАЯ 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учитель химии МКОУ СОШ №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пос. Пятигорский</a:t>
            </a:r>
            <a:br>
              <a:rPr sz="2400"/>
            </a:b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Балацкая Татьян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ahoma"/>
              </a:rPr>
              <a:t>«НЕМНОГО О МЕТАЛЛАХ И МЕТАЛЛУРГ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О КАКОМ МЕТАЛЛЕ ГОВОРЯТ: «В ГРАММ ДОБЫЧА, В ГОД ТРУДЫ»? КТО ИЗ УЧЁНЫХ ПОЛУЧИЛ В ПОДАРОК ГРАММ ЭТОГО МЕТАЛ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РАД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Грамм этого металла преподнёс американский народ Марии Кюри в 1921 г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В России первый радий был получен позже сотрудниками Радиевского института под руководством В. Г. Хлопина из отечественной р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179100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108612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72200" y="3048120"/>
            <a:ext cx="1184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ЧТО ОЗНАЧАЕТ ВЫРАЖЕНИЕ: «МЕЛАЛЛ, ПРИНЕСЁННЫЙ В ЖЕРТВУ РЫЖЕМУ ДЬЯВОЛУ»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ЖЕЛЕЗО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, А ТАКЖЕ СТАЛИ, ПРЕВРАЩАЮТСЯ В РЖАВЧИНУ В ПРОЦЕССЕ КОРРО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1009600">
            <a:off x="0" y="3200040"/>
            <a:ext cx="232416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36232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513600">
            <a:off x="6629400" y="32004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705720" y="472428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" y="4724280"/>
            <a:ext cx="1467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ПОЧЕМУ МОРСКУЮ ВОДУ МОЖНО НАЗВАТЬ «ЖИДКОЙ ЖЕЛЕЗНОЙ РУДОЙ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2361960"/>
            <a:ext cx="37335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Если извлечь всё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железо,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растворённое в морской воде, то его придётся по 35 тонн на каждого жителя плане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Текст 2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971800" cy="2022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219320" y="3886200"/>
            <a:ext cx="2895480" cy="1868400"/>
            <a:chOff x="1219320" y="3886200"/>
            <a:chExt cx="2895480" cy="1868400"/>
          </a:xfrm>
        </p:grpSpPr>
        <p:pic>
          <p:nvPicPr>
            <p:cNvPr id="107" name="Текст 2" descr=""/>
            <p:cNvPicPr/>
            <p:nvPr/>
          </p:nvPicPr>
          <p:blipFill>
            <a:blip r:embed="rId3"/>
            <a:stretch/>
          </p:blipFill>
          <p:spPr>
            <a:xfrm>
              <a:off x="1219320" y="3886200"/>
              <a:ext cx="28954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1219320" y="3886200"/>
              <a:ext cx="2895480" cy="18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81240" y="609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АВТОР ПЕРВОЙ В РОССИИ НАУЧНОЙ МОНОГРАФИИ ПО МЕТАЛЛУРГ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ahoma"/>
              </a:rPr>
              <a:t>М.В. Ломоно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 1742 году написал «Первые основания металлургии или рудных де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екст 2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2040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1941480" cy="2800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483080" y="3733920"/>
            <a:ext cx="19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858000" y="3581280"/>
            <a:ext cx="2033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 НАЗЫВАЕТСЯ НАУКА, ИЗУЧАЮЩАЯ ПОИСК РУД ПО РАСТЕНИЯ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59092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ИОГЕОХИМ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969920" cy="30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279108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ИЗ НАШИХ СООТЕЧЕСТВЕННИКОВ РАСКРЫЛ СЕКРЕТ БУЛА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Текст 2" descr=""/>
          <p:cNvPicPr/>
          <p:nvPr/>
        </p:nvPicPr>
        <p:blipFill>
          <a:blip r:embed="rId2"/>
          <a:stretch/>
        </p:blipFill>
        <p:spPr>
          <a:xfrm>
            <a:off x="519120" y="1676520"/>
            <a:ext cx="3471840" cy="4297320"/>
          </a:xfrm>
          <a:prstGeom prst="rect">
            <a:avLst/>
          </a:prstGeom>
          <a:ln w="0">
            <a:noFill/>
          </a:ln>
        </p:spPr>
      </p:pic>
      <p:pic>
        <p:nvPicPr>
          <p:cNvPr id="123" name="Текст 2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Аносов Павел Петрович</a:t>
            </a:r>
            <a:br>
              <a:rPr sz="2400"/>
            </a:b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799 – 1851 гг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русский металлург широчайшего кругоз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ИЗ РУССКИХ УЧЁНЫХ ПОЛОЖИЛ НАЧАЛО АЛЮМИНОТЕРМ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Текст 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20880" cy="3687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114440" y="1904760"/>
            <a:ext cx="4724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еке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Николай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826 – 1911 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рофессор  Харьковского университ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н также является создателем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«</a:t>
            </a: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вытеснительного ряда металл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НАЗОВИТЕ ИМЯ ВЫДАЮЩЕГОСЯ РУССКОГО УЧЁНОГО-МЕТАЛЛУРГА, ЗАНИМАВШЕГОСЯ ИЗУЧЕНИЕМ ПРЯМОГО ПОЛУЧЕНИЯ ЖЕЛЕЗА ИЗ 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3434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Чер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Дмитрий Константинови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839-1921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сновоположник металловедения, основатель крупной школы русских металлургов и металлове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86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КОМУ ИЗ ВЕЛИКИХ РУССКИХ ХИМИКОВ ПРИНАДЛЕЖАТ СЛОВА : «Я ПОЛАГАЮ, ЧТО ПРИДЁТ  ПОРА ИСКАТЬ СПОСОБОВ ПРЯМОГО ПОЛУЧЕНИЯ ЖЕЛЕЗА ИЗ РУД, МИНУЯ ЧУГУН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Текст 2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2475000" cy="277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352320" y="198072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Менделее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Дмитрию Иванови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Способ прямого получения железа из руды был реализ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 1982 г. на  Оскольском электрометаллургическом комбина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98108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800600" y="5181480"/>
            <a:ext cx="1523880" cy="143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819520" y="5164200"/>
            <a:ext cx="1523880" cy="14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85800" y="4876920"/>
            <a:ext cx="17524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           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Использованные материалы: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Чёрная металлургия – что это?», Шалимова Н.И., М.: Металлургия, 1986г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От костра до плазмы»  Венецкий С. И., 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М. :Знание,1986г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Химические викторины», Иванова Е.М., Ставрополь, 1992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3580920"/>
            <a:ext cx="6553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etalloinvest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xdesign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rulex.ru/01130409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БОЩЕНИЕ И УГЛУБЛЕНИЕ ЗНАНИЙ ПО ХИ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ОСПИТАНИЕ ИНТЕРЕСА К ПРЕДМЕ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РАЗВИТИЕ СТРЕМЛЕНИЯ К САМОСТОЯТЕЛЬНОЙ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АВТОР СЛЕДУЮЩЕГО ОПРЕДЕЛЕНИЯ: «МЕТАЛЛОМ НАЗЫВАЕТСЯ ТВЁРДОЕ, НЕПРОЗРАЧНОЕ И СВЕТЛОЕ ТЕЛО, КОТОРОЕ НА ОГНЕ ПЛАВИТЬ И ХОЛОДНОЕ КОВАТЬ МОЖНО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Из его наставлений «Первые основания Горной нау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Текст 2" descr=""/>
          <p:cNvPicPr/>
          <p:nvPr/>
        </p:nvPicPr>
        <p:blipFill>
          <a:blip r:embed="rId2"/>
          <a:stretch/>
        </p:blipFill>
        <p:spPr>
          <a:xfrm>
            <a:off x="3886200" y="2465280"/>
            <a:ext cx="4800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78720" y="835920"/>
            <a:ext cx="8157240" cy="137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Алхимики утверждали: «Семь металлов создал свет по числу семи планет…». Назовите эту «великолепную семёрк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rot="11465400">
            <a:off x="325440" y="2633400"/>
            <a:ext cx="1177920" cy="1488960"/>
          </a:xfrm>
          <a:prstGeom prst="wedgeEllipseCallout">
            <a:avLst>
              <a:gd name="adj1" fmla="val -28666"/>
              <a:gd name="adj2" fmla="val 779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114200">
            <a:off x="1371600" y="2666880"/>
            <a:ext cx="1447920" cy="1447920"/>
          </a:xfrm>
          <a:prstGeom prst="wedgeEllipseCallout">
            <a:avLst>
              <a:gd name="adj1" fmla="val -96023"/>
              <a:gd name="adj2" fmla="val 75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7146600">
            <a:off x="6755400" y="3759840"/>
            <a:ext cx="1384200" cy="1789200"/>
          </a:xfrm>
          <a:prstGeom prst="wedgeEllipseCallout">
            <a:avLst>
              <a:gd name="adj1" fmla="val -63773"/>
              <a:gd name="adj2" fmla="val 726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163000">
            <a:off x="3501720" y="3840120"/>
            <a:ext cx="1371600" cy="1447920"/>
          </a:xfrm>
          <a:prstGeom prst="wedgeEllipseCallout">
            <a:avLst>
              <a:gd name="adj1" fmla="val -80666"/>
              <a:gd name="adj2" fmla="val 10804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6670800">
            <a:off x="4838400" y="3772080"/>
            <a:ext cx="1828800" cy="1295280"/>
          </a:xfrm>
          <a:prstGeom prst="wedgeEllipseCallout">
            <a:avLst>
              <a:gd name="adj1" fmla="val -104050"/>
              <a:gd name="adj2" fmla="val 47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512600">
            <a:off x="1905120" y="3962520"/>
            <a:ext cx="1676160" cy="1371600"/>
          </a:xfrm>
          <a:prstGeom prst="wedgeEllipseCallout">
            <a:avLst>
              <a:gd name="adj1" fmla="val -73912"/>
              <a:gd name="adj2" fmla="val 1506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7598400">
            <a:off x="7608240" y="2350800"/>
            <a:ext cx="1219320" cy="1851120"/>
          </a:xfrm>
          <a:prstGeom prst="wedgeEllipseCallout">
            <a:avLst>
              <a:gd name="adj1" fmla="val 12375"/>
              <a:gd name="adj2" fmla="val 10715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2895480"/>
            <a:ext cx="76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u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58" name=""/>
          <p:cNvSpPr txBox="1"/>
          <p:nvPr/>
        </p:nvSpPr>
        <p:spPr>
          <a:xfrm rot="850200">
            <a:off x="5410080" y="3809520"/>
            <a:ext cx="752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C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59" name=""/>
          <p:cNvSpPr txBox="1"/>
          <p:nvPr/>
        </p:nvSpPr>
        <p:spPr>
          <a:xfrm rot="1377600">
            <a:off x="7924680" y="2742840"/>
            <a:ext cx="5763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0" name=""/>
          <p:cNvSpPr txBox="1"/>
          <p:nvPr/>
        </p:nvSpPr>
        <p:spPr>
          <a:xfrm rot="415800">
            <a:off x="2451240" y="3971520"/>
            <a:ext cx="741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403848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P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934320" y="4114800"/>
            <a:ext cx="838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H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28800" y="2819520"/>
            <a:ext cx="76212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ОЙ ИЗ МЕТАЛЛОВ В ГЛУБОКОЙ ДРЕВНОСТИ НАЗЫВАЛИ «НЕБЕСНОЙ МЕДЬЮ» И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630600" cy="40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ЖЕЛЕ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ервое железо, с которым познакомился человек было метеоритным, т.е. «небесного происхождения», обрабатывали его так же, как и ме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В КАКИХ СЛУЧАЯХ ЗОЛОТО БЫВАЕТ РАЗНОЦВЕТ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Текст 2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290760" cy="3687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1447560"/>
            <a:ext cx="4724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Золото бывает разноцветным в случае сплавления с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Cu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 или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Ag</a:t>
            </a:r>
            <a:r>
              <a:rPr b="1" i="1" lang="ru-RU" sz="2400" spc="-1" strike="noStrike">
                <a:solidFill>
                  <a:srgbClr val="1f497d"/>
                </a:solidFill>
                <a:latin typeface="Tahoma"/>
              </a:rPr>
              <a:t>.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 За счёт легирования создаётся богатая цветовая гамма. Небольшие добавки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Pd 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придают золоту красивый белый отт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По свидетельствам историков, во времена похода А. Македонского в Индию офицеры его армии болели желудочно-кишечными заболеваниями гораздо реже, чем солдаты. Еда и питьё у них были одинаковы, а вот металлическая посуда разная.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Из какого чудодейственного металла была изготовлена офицерская посу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Текст 2"/>
          <p:cNvGraphicFramePr/>
          <p:nvPr/>
        </p:nvGraphicFramePr>
        <p:xfrm>
          <a:off x="4648320" y="2004840"/>
          <a:ext cx="4038480" cy="13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04840"/>
                    <a:ext cx="403848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Текст 2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6668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62120" y="3733920"/>
            <a:ext cx="1812960" cy="2171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666880" y="3522600"/>
            <a:ext cx="232416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267080" y="4876920"/>
            <a:ext cx="2286000" cy="1447560"/>
          </a:xfrm>
          <a:prstGeom prst="cloudCallout">
            <a:avLst>
              <a:gd name="adj1" fmla="val -34166"/>
              <a:gd name="adj2" fmla="val 32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724280" y="4952880"/>
            <a:ext cx="10670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ой металл академик Ферсман А.Е. назвал «металлом консервной банки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Текст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80" name="Текст 2" descr=""/>
          <p:cNvPicPr/>
          <p:nvPr/>
        </p:nvPicPr>
        <p:blipFill>
          <a:blip r:embed="rId3"/>
          <a:stretch/>
        </p:blipFill>
        <p:spPr>
          <a:xfrm>
            <a:off x="5410080" y="1536840"/>
            <a:ext cx="3429000" cy="185580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2" descr=""/>
          <p:cNvPicPr/>
          <p:nvPr/>
        </p:nvPicPr>
        <p:blipFill>
          <a:blip r:embed="rId4"/>
          <a:stretch/>
        </p:blipFill>
        <p:spPr>
          <a:xfrm>
            <a:off x="528480" y="4030560"/>
            <a:ext cx="3429000" cy="1857600"/>
          </a:xfrm>
          <a:prstGeom prst="rect">
            <a:avLst/>
          </a:prstGeom>
          <a:ln w="0">
            <a:noFill/>
          </a:ln>
        </p:spPr>
      </p:pic>
      <p:pic>
        <p:nvPicPr>
          <p:cNvPr id="82" name="Текст 2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549400">
            <a:off x="2819160" y="1828800"/>
            <a:ext cx="3427200" cy="344016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57600" y="2666880"/>
            <a:ext cx="1219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993300"/>
                </a:solidFill>
                <a:latin typeface="Tahoma"/>
              </a:rPr>
              <a:t>Sn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9933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ЕМ БЫЛ ОТКРЫТ «РУССКИЙ ЧЛЕН ПЛАТИНОВОГО СЕМЕЙСТВА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Наш соотечественник профессор Казанского университета К. К. Клаус в 1844 году открыл новый металл, «русский член платинового семейства», названный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РУТЕНИЕМ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от латинского названия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РОССИИ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206712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176880" y="3733920"/>
            <a:ext cx="2433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3-03-28T08:00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