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2.png" ContentType="image/png"/>
  <Override PartName="/ppt/media/image36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wmf" ContentType="image/x-wmf"/>
  <Override PartName="/ppt/media/image1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DE4-30A6-4C7A-AEDD-DF57274C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BEF-4112-42D9-A4D6-D4029C20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355-2B53-461B-89ED-EF78F436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E64-A706-4E13-994D-00C0A13F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134-D84C-40F7-B6DB-F0C06E11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BD0-8E8C-46B3-BB7B-5EFD6075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D4F-F388-4DB2-9A93-198499CE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AA5-3774-4716-9308-165A6B83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617-DF91-43B4-BE82-1FC983CD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6B2-DC1A-4E60-B91A-CBCD9BCB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967-2F48-4DDB-AB92-C35E4E0A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CE1-DDB5-4929-BFD2-06964525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509B-DD44-44CB-9C2B-C8E5DFA7840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etalloinvest.com/" TargetMode="External"/><Relationship Id="rId3" Type="http://schemas.openxmlformats.org/officeDocument/2006/relationships/hyperlink" Target="http://ru.wikipedia.org/" TargetMode="External"/><Relationship Id="rId4" Type="http://schemas.openxmlformats.org/officeDocument/2006/relationships/hyperlink" Target="http://www.foxdesign.ru/" TargetMode="External"/><Relationship Id="rId5" Type="http://schemas.openxmlformats.org/officeDocument/2006/relationships/hyperlink" Target="http://www.rulex.ru/01130409.h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90b61cc30a34"/>
          <p:cNvPicPr/>
          <p:nvPr/>
        </p:nvPicPr>
        <p:blipFill>
          <a:blip r:embed="rId2"/>
          <a:stretch/>
        </p:blipFill>
        <p:spPr>
          <a:xfrm>
            <a:off x="380880" y="838080"/>
            <a:ext cx="1428840" cy="1047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666520" y="3657240"/>
            <a:ext cx="62485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ХИМИЧЕСКАЯ ВИКТОР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учитель химии МКОУ СОШ №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пос. Пятигорский</a:t>
            </a:r>
            <a:br>
              <a:rPr sz="2400"/>
            </a:b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Балацкая Татьяна Алекс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78487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ahoma"/>
              </a:rPr>
              <a:t>«НЕМНОГО О МЕТАЛЛАХ И МЕТАЛЛУРГ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О КАКОМ МЕТАЛЛЕ ГОВОРЯТ: «В ГРАММ ДОБЫЧА, В ГОД ТРУДЫ»? КТО ИЗ УЧЁНЫХ ПОЛУЧИЛ В ПОДАРОК ГРАММ ЭТОГО МЕТАЛЛ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РАД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ahoma"/>
              </a:rPr>
              <a:t>Грамм этого металла преподнёс американский народ Марии Кюри в 1921 год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ahoma"/>
              </a:rPr>
              <a:t>В России первый радий был получен позже сотрудниками Радиевского института под руководством В. Г. Хлопина из отечественной ру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179100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95280" y="3124080"/>
            <a:ext cx="1086120" cy="1447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172200" y="3048120"/>
            <a:ext cx="11844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ЧТО ОЗНАЧАЕТ ВЫРАЖЕНИЕ: «МЕЛАЛЛ, ПРИНЕСЁННЫЙ В ЖЕРТВУ РЫЖЕМУ ДЬЯВОЛУ»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9246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ЖЕЛЕЗО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, А ТАКЖЕ СТАЛИ, ПРЕВРАЩАЮТСЯ В РЖАВЧИНУ В ПРОЦЕССЕ КОРРОЗ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rot="21009600">
            <a:off x="0" y="3200040"/>
            <a:ext cx="232416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362320" y="3048120"/>
            <a:ext cx="4038480" cy="3276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 rot="513600">
            <a:off x="6629400" y="320040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705720" y="4724280"/>
            <a:ext cx="1857240" cy="1428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57200" y="4724280"/>
            <a:ext cx="1467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ПОЧЕМУ МОРСКУЮ ВОДУ МОЖНО НАЗВАТЬ «ЖИДКОЙ ЖЕЛЕЗНОЙ РУДОЙ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76560" y="2361960"/>
            <a:ext cx="373356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Если извлечь всё </a:t>
            </a: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железо,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 растворённое в морской воде, то его придётся по 35 тонн на каждого жителя планет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Текст 2" descr=""/>
          <p:cNvPicPr/>
          <p:nvPr/>
        </p:nvPicPr>
        <p:blipFill>
          <a:blip r:embed="rId2"/>
          <a:stretch/>
        </p:blipFill>
        <p:spPr>
          <a:xfrm>
            <a:off x="1143000" y="1600200"/>
            <a:ext cx="2971800" cy="20224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219320" y="3886200"/>
            <a:ext cx="2895480" cy="1868400"/>
            <a:chOff x="1219320" y="3886200"/>
            <a:chExt cx="2895480" cy="1868400"/>
          </a:xfrm>
        </p:grpSpPr>
        <p:pic>
          <p:nvPicPr>
            <p:cNvPr id="107" name="Текст 2" descr=""/>
            <p:cNvPicPr/>
            <p:nvPr/>
          </p:nvPicPr>
          <p:blipFill>
            <a:blip r:embed="rId3"/>
            <a:stretch/>
          </p:blipFill>
          <p:spPr>
            <a:xfrm>
              <a:off x="1219320" y="3886200"/>
              <a:ext cx="2895480" cy="18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1219320" y="3886200"/>
              <a:ext cx="2895480" cy="186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81240" y="6091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КТО АВТОР ПЕРВОЙ В РОССИИ НАУЧНОЙ МОНОГРАФИИ ПО МЕТАЛЛУРГИ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ahoma"/>
              </a:rPr>
              <a:t>М.В. Ломонос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в 1742 году написал «Первые основания металлургии или рудных дел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Текст 2" descr=""/>
          <p:cNvPicPr/>
          <p:nvPr/>
        </p:nvPicPr>
        <p:blipFill>
          <a:blip r:embed="rId2"/>
          <a:stretch/>
        </p:blipFill>
        <p:spPr>
          <a:xfrm>
            <a:off x="6781680" y="1447920"/>
            <a:ext cx="204012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257800" y="1981080"/>
            <a:ext cx="1941480" cy="2800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483080" y="3733920"/>
            <a:ext cx="19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858000" y="3581280"/>
            <a:ext cx="20336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КАК НАЗЫВАЕТСЯ НАУКА, ИЗУЧАЮЩАЯ ПОИСК РУД ПО РАСТЕНИЯ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590920" y="51814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БИОГЕОХИМ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1969920" cy="3047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943600" y="19810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895480" y="2895480"/>
            <a:ext cx="2791080" cy="1920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095880" y="4038480"/>
            <a:ext cx="236232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КТО ИЗ НАШИХ СООТЕЧЕСТВЕННИКОВ РАСКРЫЛ СЕКРЕТ БУЛА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Текст 2" descr=""/>
          <p:cNvPicPr/>
          <p:nvPr/>
        </p:nvPicPr>
        <p:blipFill>
          <a:blip r:embed="rId2"/>
          <a:stretch/>
        </p:blipFill>
        <p:spPr>
          <a:xfrm>
            <a:off x="519120" y="1676520"/>
            <a:ext cx="3471840" cy="4297320"/>
          </a:xfrm>
          <a:prstGeom prst="rect">
            <a:avLst/>
          </a:prstGeom>
          <a:ln w="0">
            <a:noFill/>
          </a:ln>
        </p:spPr>
      </p:pic>
      <p:pic>
        <p:nvPicPr>
          <p:cNvPr id="123" name="Текст 2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Аносов Павел Петрович</a:t>
            </a:r>
            <a:br>
              <a:rPr sz="2400"/>
            </a:b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(1799 – 1851 гг.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русский металлург широчайшего кругоз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КТО ИЗ РУССКИХ УЧЁНЫХ ПОЛОЖИЛ НАЧАЛО АЛЮМИНОТЕРМ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Текст 2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620880" cy="3687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114440" y="1904760"/>
            <a:ext cx="4724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Беке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Николай Никола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(1826 – 1911 г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профессор  Харьковского университе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Он также является создателем </a:t>
            </a: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«</a:t>
            </a: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вытеснительного ряда металлов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НАЗОВИТЕ ИМЯ ВЫДАЮЩЕГОСЯ РУССКОГО УЧЁНОГО-МЕТАЛЛУРГА, ЗАНИМАВШЕГОСЯ ИЗУЧЕНИЕМ ПРЯМОГО ПОЛУЧЕНИЯ ЖЕЛЕЗА ИЗ РУД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43434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Чер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Дмитрий Константинович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(1839-1921г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Основоположник металловедения, основатель крупной школы русских металлургов и металлове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Текст 2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3861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ahoma"/>
              </a:rPr>
              <a:t>КОМУ ИЗ ВЕЛИКИХ РУССКИХ ХИМИКОВ ПРИНАДЛЕЖАТ СЛОВА : «Я ПОЛАГАЮ, ЧТО ПРИДЁТ  ПОРА ИСКАТЬ СПОСОБОВ ПРЯМОГО ПОЛУЧЕНИЯ ЖЕЛЕЗА ИЗ РУД, МИНУЯ ЧУГУН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Текст 2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2475000" cy="2773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352320" y="1980720"/>
            <a:ext cx="4800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Менделее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Дмитрию Иванович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Способ прямого получения железа из руды был реализов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в 1982 г. на  Оскольском электрометаллургическом комбина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981080" cy="1865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800600" y="5181480"/>
            <a:ext cx="1523880" cy="1435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819520" y="5164200"/>
            <a:ext cx="1523880" cy="143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685800" y="4876920"/>
            <a:ext cx="175248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15364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ahoma"/>
              </a:rPr>
              <a:t>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ahoma"/>
              </a:rPr>
              <a:t>             </a:t>
            </a:r>
            <a:r>
              <a:rPr b="1" lang="ru-RU" sz="2400" spc="-1" strike="noStrike">
                <a:solidFill>
                  <a:srgbClr val="1f497d"/>
                </a:solidFill>
                <a:latin typeface="Tahoma"/>
              </a:rPr>
              <a:t>Использованные материалы: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«Чёрная металлургия – что это?», Шалимова Н.И., М.: Металлургия, 1986г.</a:t>
            </a: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«От костра до плазмы»  Венецкий С. И., </a:t>
            </a: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М. :Знание,1986г.</a:t>
            </a:r>
            <a:br>
              <a:rPr sz="2400"/>
            </a:br>
            <a:r>
              <a:rPr b="0" i="1" lang="ru-RU" sz="2400" spc="-1" strike="noStrike">
                <a:solidFill>
                  <a:srgbClr val="a50021"/>
                </a:solidFill>
                <a:latin typeface="Tahoma"/>
              </a:rPr>
              <a:t>«Химические викторины», Иванова Е.М., Ставрополь, 1992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3580920"/>
            <a:ext cx="6553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Интернет ресур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etalloinvest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u.wikipedia.or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foxdesign.r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rulex.ru/01130409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ОБОЩЕНИЕ И УГЛУБЛЕНИЕ ЗНАНИЙ ПО ХИМ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ВОСПИТАНИЕ ИНТЕРЕСА К ПРЕДМЕТ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РАЗВИТИЕ СТРЕМЛЕНИЯ К САМОСТОЯТЕЛЬНОЙ 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КТО АВТОР СЛЕДУЮЩЕГО ОПРЕДЕЛЕНИЯ: «МЕТАЛЛОМ НАЗЫВАЕТСЯ ТВЁРДОЕ, НЕПРОЗРАЧНОЕ И СВЕТЛОЕ ТЕЛО, КОТОРОЕ НА ОГНЕ ПЛАВИТЬ И ХОЛОДНОЕ КОВАТЬ МОЖНО»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3200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М.В. Ломоно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Из его наставлений «Первые основания Горной наук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Текст 2" descr=""/>
          <p:cNvPicPr/>
          <p:nvPr/>
        </p:nvPicPr>
        <p:blipFill>
          <a:blip r:embed="rId2"/>
          <a:stretch/>
        </p:blipFill>
        <p:spPr>
          <a:xfrm>
            <a:off x="3886200" y="2465280"/>
            <a:ext cx="48006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78720" y="835920"/>
            <a:ext cx="8157240" cy="137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Алхимики утверждали: «Семь металлов создал свет по числу семи планет…». Назовите эту «великолепную семёрк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 rot="11465400">
            <a:off x="325440" y="2633400"/>
            <a:ext cx="1177920" cy="1488960"/>
          </a:xfrm>
          <a:prstGeom prst="wedgeEllipseCallout">
            <a:avLst>
              <a:gd name="adj1" fmla="val -28666"/>
              <a:gd name="adj2" fmla="val 779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114200">
            <a:off x="1371600" y="2666880"/>
            <a:ext cx="1447920" cy="1447920"/>
          </a:xfrm>
          <a:prstGeom prst="wedgeEllipseCallout">
            <a:avLst>
              <a:gd name="adj1" fmla="val -96023"/>
              <a:gd name="adj2" fmla="val 75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7146600">
            <a:off x="6755400" y="3759840"/>
            <a:ext cx="1384200" cy="1789200"/>
          </a:xfrm>
          <a:prstGeom prst="wedgeEllipseCallout">
            <a:avLst>
              <a:gd name="adj1" fmla="val -63773"/>
              <a:gd name="adj2" fmla="val 7263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8163000">
            <a:off x="3501720" y="3840120"/>
            <a:ext cx="1371600" cy="1447920"/>
          </a:xfrm>
          <a:prstGeom prst="wedgeEllipseCallout">
            <a:avLst>
              <a:gd name="adj1" fmla="val -80666"/>
              <a:gd name="adj2" fmla="val 10804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6670800">
            <a:off x="4838400" y="3772080"/>
            <a:ext cx="1828800" cy="1295280"/>
          </a:xfrm>
          <a:prstGeom prst="wedgeEllipseCallout">
            <a:avLst>
              <a:gd name="adj1" fmla="val -104050"/>
              <a:gd name="adj2" fmla="val 4759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512600">
            <a:off x="1905120" y="3962520"/>
            <a:ext cx="1676160" cy="1371600"/>
          </a:xfrm>
          <a:prstGeom prst="wedgeEllipseCallout">
            <a:avLst>
              <a:gd name="adj1" fmla="val -73912"/>
              <a:gd name="adj2" fmla="val 15060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7598400">
            <a:off x="7608240" y="2350800"/>
            <a:ext cx="1219320" cy="1851120"/>
          </a:xfrm>
          <a:prstGeom prst="wedgeEllipseCallout">
            <a:avLst>
              <a:gd name="adj1" fmla="val 12375"/>
              <a:gd name="adj2" fmla="val 10715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2895480"/>
            <a:ext cx="761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Au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58" name=""/>
          <p:cNvSpPr txBox="1"/>
          <p:nvPr/>
        </p:nvSpPr>
        <p:spPr>
          <a:xfrm rot="850200">
            <a:off x="5410080" y="3809520"/>
            <a:ext cx="752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C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59" name=""/>
          <p:cNvSpPr txBox="1"/>
          <p:nvPr/>
        </p:nvSpPr>
        <p:spPr>
          <a:xfrm rot="1377600">
            <a:off x="7924680" y="2742840"/>
            <a:ext cx="57636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60" name=""/>
          <p:cNvSpPr txBox="1"/>
          <p:nvPr/>
        </p:nvSpPr>
        <p:spPr>
          <a:xfrm rot="415800">
            <a:off x="2451240" y="3971520"/>
            <a:ext cx="741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S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86200" y="4038480"/>
            <a:ext cx="762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Pb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934320" y="4114800"/>
            <a:ext cx="838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H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828800" y="2819520"/>
            <a:ext cx="762120" cy="12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A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КАКОЙ ИЗ МЕТАЛЛОВ В ГЛУБОКОЙ ДРЕВНОСТИ НАЗЫВАЛИ «НЕБЕСНОЙ МЕДЬЮ» И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Текст 2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3630600" cy="4068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ЖЕЛЕЗ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Первое железо, с которым познакомился человек было метеоритным, т.е. «небесного происхождения», обрабатывали его так же, как и мед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В КАКИХ СЛУЧАЯХ ЗОЛОТО БЫВАЕТ РАЗНОЦВЕТНЫ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Текст 2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290760" cy="36878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5840" y="1447560"/>
            <a:ext cx="4724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ahoma"/>
              </a:rPr>
              <a:t>Золото бывает разноцветным в случае сплавления с </a:t>
            </a: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Cu</a:t>
            </a:r>
            <a:r>
              <a:rPr b="1" i="1" lang="ru-RU" sz="2400" spc="-1" strike="noStrike">
                <a:solidFill>
                  <a:srgbClr val="a50021"/>
                </a:solidFill>
                <a:latin typeface="Tahoma"/>
              </a:rPr>
              <a:t> или </a:t>
            </a: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Ag</a:t>
            </a:r>
            <a:r>
              <a:rPr b="1" i="1" lang="ru-RU" sz="2400" spc="-1" strike="noStrike">
                <a:solidFill>
                  <a:srgbClr val="1f497d"/>
                </a:solidFill>
                <a:latin typeface="Tahoma"/>
              </a:rPr>
              <a:t>.</a:t>
            </a:r>
            <a:r>
              <a:rPr b="1" i="1" lang="ru-RU" sz="2400" spc="-1" strike="noStrike">
                <a:solidFill>
                  <a:srgbClr val="a50021"/>
                </a:solidFill>
                <a:latin typeface="Tahoma"/>
              </a:rPr>
              <a:t> За счёт легирования создаётся богатая цветовая гамма. Небольшие добавки </a:t>
            </a: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Pd </a:t>
            </a:r>
            <a:r>
              <a:rPr b="1" i="1" lang="ru-RU" sz="2400" spc="-1" strike="noStrike">
                <a:solidFill>
                  <a:srgbClr val="a50021"/>
                </a:solidFill>
                <a:latin typeface="Tahoma"/>
              </a:rPr>
              <a:t>придают золоту красивый белый оттен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По свидетельствам историков, во времена похода А. Македонского в Индию офицеры его армии болели желудочно-кишечными заболеваниями гораздо реже, чем солдаты. Еда и питьё у них были одинаковы, а вот металлическая посуда разная. 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Из какого чудодейственного металла была изготовлена офицерская посуд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Текст 2"/>
          <p:cNvGraphicFramePr/>
          <p:nvPr/>
        </p:nvGraphicFramePr>
        <p:xfrm>
          <a:off x="4648320" y="2004840"/>
          <a:ext cx="4038480" cy="13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04840"/>
                    <a:ext cx="4038480" cy="13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Текст 2" descr=""/>
          <p:cNvPicPr/>
          <p:nvPr/>
        </p:nvPicPr>
        <p:blipFill>
          <a:blip r:embed="rId4"/>
          <a:stretch/>
        </p:blipFill>
        <p:spPr>
          <a:xfrm>
            <a:off x="5943600" y="4038480"/>
            <a:ext cx="2666880" cy="1816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762120" y="3733920"/>
            <a:ext cx="1812960" cy="2171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2666880" y="3522600"/>
            <a:ext cx="2324160" cy="2187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267080" y="4876920"/>
            <a:ext cx="2286000" cy="1447560"/>
          </a:xfrm>
          <a:prstGeom prst="cloudCallout">
            <a:avLst>
              <a:gd name="adj1" fmla="val -34166"/>
              <a:gd name="adj2" fmla="val 3212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724280" y="4952880"/>
            <a:ext cx="106704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A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Какой металл академик Ферсман А.Е. назвал «металлом консервной банки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Текст 2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80" name="Текст 2" descr=""/>
          <p:cNvPicPr/>
          <p:nvPr/>
        </p:nvPicPr>
        <p:blipFill>
          <a:blip r:embed="rId3"/>
          <a:stretch/>
        </p:blipFill>
        <p:spPr>
          <a:xfrm>
            <a:off x="5410080" y="1536840"/>
            <a:ext cx="3429000" cy="1855800"/>
          </a:xfrm>
          <a:prstGeom prst="rect">
            <a:avLst/>
          </a:prstGeom>
          <a:ln w="0">
            <a:noFill/>
          </a:ln>
        </p:spPr>
      </p:pic>
      <p:pic>
        <p:nvPicPr>
          <p:cNvPr id="81" name="Текст 2" descr=""/>
          <p:cNvPicPr/>
          <p:nvPr/>
        </p:nvPicPr>
        <p:blipFill>
          <a:blip r:embed="rId4"/>
          <a:stretch/>
        </p:blipFill>
        <p:spPr>
          <a:xfrm>
            <a:off x="528480" y="4030560"/>
            <a:ext cx="3429000" cy="1857600"/>
          </a:xfrm>
          <a:prstGeom prst="rect">
            <a:avLst/>
          </a:prstGeom>
          <a:ln w="0">
            <a:noFill/>
          </a:ln>
        </p:spPr>
      </p:pic>
      <p:pic>
        <p:nvPicPr>
          <p:cNvPr id="82" name="Текст 2" descr=""/>
          <p:cNvPicPr/>
          <p:nvPr/>
        </p:nvPicPr>
        <p:blipFill>
          <a:blip r:embed="rId5"/>
          <a:stretch/>
        </p:blipFill>
        <p:spPr>
          <a:xfrm>
            <a:off x="5257800" y="3962520"/>
            <a:ext cx="3657600" cy="1981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rot="2549400">
            <a:off x="2819160" y="1828800"/>
            <a:ext cx="3427200" cy="344016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657600" y="2666880"/>
            <a:ext cx="1219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993300"/>
                </a:solidFill>
                <a:latin typeface="Tahoma"/>
              </a:rPr>
              <a:t>Sn</a:t>
            </a:r>
            <a:endParaRPr b="1" i="1" lang="en-US" sz="2400" spc="1" strike="noStrike">
              <a:ln w="9360">
                <a:solidFill>
                  <a:srgbClr val="a50021"/>
                </a:solidFill>
                <a:miter/>
              </a:ln>
              <a:solidFill>
                <a:srgbClr val="993300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ahoma"/>
              </a:rPr>
              <a:t>КЕМ БЫЛ ОТКРЫТ «РУССКИЙ ЧЛЕН ПЛАТИНОВОГО СЕМЕЙСТВА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Наш соотечественник профессор Казанского университета К. К. Клаус в 1844 году открыл новый металл, «русский член платинового семейства», названный </a:t>
            </a: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РУТЕНИЕМ 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(от латинского названия </a:t>
            </a:r>
            <a:r>
              <a:rPr b="1" i="1" lang="en-US" sz="2400" spc="-1" strike="noStrike">
                <a:solidFill>
                  <a:srgbClr val="1f497d"/>
                </a:solidFill>
                <a:latin typeface="Tahoma"/>
              </a:rPr>
              <a:t>РОССИИ</a:t>
            </a:r>
            <a:r>
              <a:rPr b="1" i="1" lang="en-US" sz="2400" spc="-1" strike="noStrike">
                <a:solidFill>
                  <a:srgbClr val="a50021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3429000"/>
            <a:ext cx="206712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352680" y="4038480"/>
            <a:ext cx="2438640" cy="1731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176880" y="3733920"/>
            <a:ext cx="2433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ckYouBill</cp:lastModifiedBy>
  <dcterms:modified xsi:type="dcterms:W3CDTF">2013-03-28T08:00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