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e6d7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ee6d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4525-BCFA-4360-B48F-A9304BFFC6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B2D8-8772-4946-BCE2-CBD28D801CE6}" type="slidenum">
              <a:rPr b="0" lang="ru-RU" sz="1200" spc="-1" strike="noStrike">
                <a:solidFill>
                  <a:srgbClr val="16192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6192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585-F8C4-49FD-BE48-06E1D18B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A2A-FC27-4F0F-BE7A-94356BB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7B8-0287-475A-BCF5-D3C2575E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400-035B-4E3C-AA05-358CFADC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53B2-1748-46CA-B339-CCC827D6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EEC1-8F8D-48CB-99A9-B70EFA16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CA96-B4DC-4CFC-AAC1-68F3D97E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1164-4392-4721-A60A-8787A192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A21C-48B9-49A3-8F98-08A9E749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7F75-1DE7-428C-A08B-DE5D678E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A39E-6CF6-48FF-8661-FF657E1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AB1-2734-4CE0-886C-C5FE9149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99D3-FD90-4583-BCAF-891D847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3C3D-C20A-4697-8428-D4CB0CDC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2B02-4294-4905-9560-7C9B4055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8489-9803-4282-994D-724E2132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7FB8-0128-4504-859F-B69A0151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494F-FD2F-4B75-B6EF-B917554D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D3B4-EA74-4727-AA27-9E82067C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C8394-6449-4EC4-956F-9E7030D5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7ED3-8B78-45FC-B10A-CDE51A1F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5885-F2CE-4FB3-BF29-529690C5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066-7800-43F9-B264-2B50D4A1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2D23-C8BA-416B-8483-C1B1CD54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3B26-DBDC-45D6-891B-5EA1A929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1B61-965A-4973-8202-E35032D3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2435-DD79-4B4D-B822-7A3AE561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267A-8F9F-44DC-9EF0-3D919E53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9C091-1B76-4835-88BF-592BB68A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ABBD-8D9A-49BE-9AEA-C1F7A959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9A59E-AB0B-42B2-9A13-3208200F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0B21F-A4E9-44B9-A945-11C214C7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043F-0EF7-4FB3-A344-4C125FE4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13B-4425-491F-9D0E-48CD8C57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63F12-2098-461C-BC5E-0FB3B2C8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64BC-5BBD-4314-92CC-85054C00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91095-1064-402B-9CF4-7FFACC17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8FDEB-BB0C-49E0-8D29-CD979B4C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26A72-CCFF-4F85-BBC1-CC87822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DFAED-8E1E-418E-9CA4-3516994F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DF76-DE73-41DD-AB12-23DD5597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7FC3C-D5C7-47E4-864B-F2EDD322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17CF0-848C-4935-8C7F-3E8576B3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788-6D09-4318-810D-BB9862C4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06F-77F5-4CEF-920D-CBA3F170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095-AF12-44B6-BEEC-553803AE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3E6-5ACF-49DA-96C3-D81D7E5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705-524A-4A12-85CC-D20B36C5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c324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ea6e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6192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6192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2f4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2f4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2f4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B359-0A39-443F-B925-44BDFE3BE3A0}" type="slidenum">
              <a:rPr b="0" lang="ru-RU" sz="1200" spc="-1" strike="noStrike">
                <a:solidFill>
                  <a:srgbClr val="2a2f4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e6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e6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ea6e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dc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dc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dc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E7B0-01CE-45C1-9031-09D70518D734}" type="slidenum">
              <a:rPr b="0" lang="ru-RU" sz="1200" spc="-1" strike="noStrike">
                <a:solidFill>
                  <a:srgbClr val="f2dc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61922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e6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e6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ea6e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dc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dc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2dc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ACC4-8673-42AB-9823-FAE5EA32407E}" type="slidenum">
              <a:rPr b="0" lang="ru-RU" sz="1200" spc="-1" strike="noStrike">
                <a:solidFill>
                  <a:srgbClr val="f2dc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c324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ea6e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6192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6192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61922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2f4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a2f4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922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a2f4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3681-8294-4555-9B22-F8C26F291CFF}" type="slidenum">
              <a:rPr b="0" lang="ru-RU" sz="1200" spc="-1" strike="noStrike">
                <a:solidFill>
                  <a:srgbClr val="2a2f4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стики цветовых тип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некоторых видов макияж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6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280836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32c16"/>
                </a:solidFill>
                <a:latin typeface="Calibri"/>
              </a:rPr>
              <a:t>Женщина-осень</a:t>
            </a:r>
            <a:endParaRPr b="0" lang="en-US" sz="28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2808000" cy="46087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дин из самых колоритных цветотипов. Если мы представим  осенний пейзаж, то в первую очередь увидим цветную картинку. Так и внешность осеннего типа – цветная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Волос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рыжие или каштанов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Кож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теплая с веснушками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Брови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с рыжим оттенком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Глаз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чаше с вкраплениями, желто-зеленые, коричнево-желтые, зеленые, янтарные, зелено0голубы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32c16"/>
                </a:solidFill>
                <a:latin typeface="Times New Roman"/>
                <a:ea typeface="Times New Roman"/>
              </a:rPr>
              <a:t>Губ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желто-розовы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25" name="Рисунок 4" descr="осень7.jpg"/>
          <p:cNvPicPr/>
          <p:nvPr/>
        </p:nvPicPr>
        <p:blipFill>
          <a:blip r:embed="rId1"/>
          <a:srcRect l="0" t="20379" r="0" b="20379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200"/>
                            </p:stCondLst>
                            <p:childTnLst>
                              <p:par>
                                <p:cTn id="2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2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2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2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92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12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20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244"/>
                </a:solidFill>
                <a:latin typeface="Calibri"/>
              </a:rPr>
              <a:t>Дополняют такую внешность и гармонируют с ней следующие цвета:</a:t>
            </a:r>
            <a:endParaRPr b="0" lang="en-US" sz="4400" spc="-1" strike="noStrike">
              <a:solidFill>
                <a:srgbClr val="2c3244"/>
              </a:solidFill>
              <a:latin typeface="Calibri"/>
            </a:endParaRPr>
          </a:p>
        </p:txBody>
      </p:sp>
      <p:pic>
        <p:nvPicPr>
          <p:cNvPr id="227" name="Содержимое 3" descr="допцвета осень.jpg"/>
          <p:cNvPicPr/>
          <p:nvPr/>
        </p:nvPicPr>
        <p:blipFill>
          <a:blip r:embed="rId1"/>
          <a:stretch/>
        </p:blipFill>
        <p:spPr>
          <a:xfrm>
            <a:off x="1619280" y="3573360"/>
            <a:ext cx="6192720" cy="1776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3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3244"/>
                </a:solidFill>
                <a:latin typeface="Calibri"/>
              </a:rPr>
              <a:t>Полная таблица цветотипов:</a:t>
            </a:r>
            <a:endParaRPr b="0" lang="en-US" sz="4000" spc="-1" strike="noStrike">
              <a:solidFill>
                <a:srgbClr val="2c3244"/>
              </a:solidFill>
              <a:latin typeface="Calibri"/>
            </a:endParaRPr>
          </a:p>
        </p:txBody>
      </p:sp>
      <p:pic>
        <p:nvPicPr>
          <p:cNvPr id="229" name="Содержимое 3" descr="153062.jpg"/>
          <p:cNvPicPr/>
          <p:nvPr/>
        </p:nvPicPr>
        <p:blipFill>
          <a:blip r:embed="rId1"/>
          <a:stretch/>
        </p:blipFill>
        <p:spPr>
          <a:xfrm>
            <a:off x="50760" y="1393920"/>
            <a:ext cx="9093240" cy="5464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300"/>
                            </p:stCondLst>
                            <p:childTnLst>
                              <p:par>
                                <p:cTn id="3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523800" y="1579680"/>
            <a:ext cx="7785000" cy="30715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3564000" cy="122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Дневной, или повседневный макияж.</a:t>
            </a:r>
            <a:endParaRPr b="0" lang="en-US" sz="28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2952720" cy="39610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сновные цели дневного макияжа – освежить лицо, скрыть недостатки кожи, подчеркнуть достоинства частей лица. 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При выборе цветовой гаммы лучше отдать предпочтение теплой или нейтральной, так как она лучше смотрится при дневном освещени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Гармоничным будет смотреться макияж, если сочетания цветов соответствуют цветовому типу женщины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34" name="Рисунок 4" descr="185483873712733f62c74b3cf3a9ddce.jpg"/>
          <p:cNvPicPr/>
          <p:nvPr/>
        </p:nvPicPr>
        <p:blipFill>
          <a:blip r:embed="rId1"/>
          <a:srcRect l="0" t="17120" r="0" b="1712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900"/>
                            </p:stCondLst>
                            <p:childTnLst>
                              <p:par>
                                <p:cTn id="3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900"/>
                            </p:stCondLst>
                            <p:childTnLst>
                              <p:par>
                                <p:cTn id="3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9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9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2952720" cy="144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Calibri"/>
              </a:rPr>
              <a:t>Макияж глаз для женщин, носящих очки.</a:t>
            </a:r>
            <a:br>
              <a:rPr sz="2400"/>
            </a:br>
            <a:r>
              <a:rPr b="1" lang="ru-RU" sz="2400" spc="-1" strike="noStrike">
                <a:solidFill>
                  <a:srgbClr val="5a160b"/>
                </a:solidFill>
                <a:latin typeface="Calibri"/>
              </a:rPr>
              <a:t>При близорукости.</a:t>
            </a:r>
            <a:endParaRPr b="0" lang="en-US" sz="24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2736720" cy="2879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чки для близоруких зрительно уменьшают глаза, поэтому макияж должен их увеличивать.</a:t>
            </a:r>
            <a:endParaRPr b="0" lang="en-US" sz="18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Для этого используют более объемные цвета теней и интенсивные контуры.</a:t>
            </a:r>
            <a:endParaRPr b="0" lang="en-US" sz="18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37" name="Рисунок 10" descr="eynekli%20qiz%2004_02_10.jpg"/>
          <p:cNvPicPr/>
          <p:nvPr/>
        </p:nvPicPr>
        <p:blipFill>
          <a:blip r:embed="rId1"/>
          <a:srcRect l="0" t="21487" r="0" b="21487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7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700"/>
                            </p:stCondLst>
                            <p:childTnLst>
                              <p:par>
                                <p:cTn id="3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7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295272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160b"/>
                </a:solidFill>
                <a:latin typeface="Calibri"/>
              </a:rPr>
              <a:t>Макияж глаз для женщин, носящих очки.</a:t>
            </a:r>
            <a:br>
              <a:rPr sz="2400"/>
            </a:br>
            <a:r>
              <a:rPr b="1" lang="ru-RU" sz="2400" spc="-1" strike="noStrike">
                <a:solidFill>
                  <a:srgbClr val="5a160b"/>
                </a:solidFill>
                <a:latin typeface="Calibri"/>
              </a:rPr>
              <a:t>При дальнозоркости.</a:t>
            </a:r>
            <a:endParaRPr b="0" lang="en-US" sz="24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2521080" cy="280368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У женщин, страдающих дальнозоркостью, очки визуально увеличивают глаза. И цель макияжа – уравновесить глаза с другими деталями лица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Для этого нужно использовать матовые оттенки теней, контур глаз лучше проводить тенями натуральных оттенков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40" name="Рисунок 4" descr="057087_187.jpg"/>
          <p:cNvPicPr/>
          <p:nvPr/>
        </p:nvPicPr>
        <p:blipFill>
          <a:blip r:embed="rId1"/>
          <a:srcRect l="0" t="21602" r="0" b="2160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9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900"/>
                            </p:stCondLst>
                            <p:childTnLst>
                              <p:par>
                                <p:cTn id="4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900"/>
                            </p:stCondLst>
                            <p:childTnLst>
                              <p:par>
                                <p:cTn id="4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2592360" cy="136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alibri"/>
              </a:rPr>
              <a:t>Корректирующий возрастной макияж.</a:t>
            </a:r>
            <a:endParaRPr b="0" lang="en-US" sz="28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3025800" cy="3380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9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Для женщин с возрастными изменениями кожи макияж с коррекцией скрывает недостатки, визуально подтягивает лицо, освежает и омолаживает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Для хорошего макияжа нужно использовать легкие структуры тональных и камуфлирующих средств, пастельные и приглушенные цвета теней, сочные оттенки помад и ограничить применение сухих препаратов и средств с перламутровой структурой, т.к. они подчеркивают морщинк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43" name="Рисунок 5" descr="11020801.jpg"/>
          <p:cNvPicPr/>
          <p:nvPr/>
        </p:nvPicPr>
        <p:blipFill>
          <a:blip r:embed="rId1"/>
          <a:srcRect l="0" t="19600" r="0" b="19600"/>
          <a:stretch/>
        </p:blipFill>
        <p:spPr>
          <a:xfrm rot="420000">
            <a:off x="3425400" y="1174320"/>
            <a:ext cx="4618080" cy="3932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345600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alibri"/>
              </a:rPr>
              <a:t>Деловой макияж</a:t>
            </a:r>
            <a:endParaRPr b="0" lang="en-US" sz="32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3025800" cy="3887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Цель макияжа – не отвлекать деловую женщину от работы, быть устойчивым, аккуратным, неброским, но подчеркнутым и гармонирующим с прической и одеждой.</a:t>
            </a:r>
            <a:endParaRPr b="0" lang="en-US" sz="20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46" name="Рисунок 4" descr="x_79e73d44[1].jpg"/>
          <p:cNvPicPr/>
          <p:nvPr/>
        </p:nvPicPr>
        <p:blipFill>
          <a:blip r:embed="rId1"/>
          <a:srcRect l="0" t="18087" r="0" b="18087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20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200"/>
                            </p:stCondLst>
                            <p:childTnLst>
                              <p:par>
                                <p:cTn id="4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3456000" cy="71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alibri"/>
              </a:rPr>
              <a:t>Вечерний макияж</a:t>
            </a:r>
            <a:endParaRPr b="0" lang="en-US" sz="32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2663640" cy="48960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Вечерний макияж отличается от натурального дневного тщательностью проработки контура лица и его частей с помощью декоративной косметик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Для вечера нужны более плотные структуры тона и корректирующих средств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Цвета теней и контуров лучше выбирать контрастные, т.к. они смотрятся ярче, нарядне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бязательно нужно учитывать освещение, т.к. при ярком электрическом свете цвет кожи выглядит светлее, а при приглушенном – светле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49" name="Рисунок 6" descr="x_7288fb43[1].jpg"/>
          <p:cNvPicPr/>
          <p:nvPr/>
        </p:nvPicPr>
        <p:blipFill>
          <a:blip r:embed="rId1"/>
          <a:srcRect l="0" t="7535" r="0" b="7535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300"/>
                            </p:stCondLst>
                            <p:childTnLst>
                              <p:par>
                                <p:cTn id="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300"/>
                            </p:stCondLst>
                            <p:childTnLst>
                              <p:par>
                                <p:cTn id="5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300"/>
                            </p:stCondLst>
                            <p:childTnLst>
                              <p:par>
                                <p:cTn id="5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7300"/>
                            </p:stCondLst>
                            <p:childTnLst>
                              <p:par>
                                <p:cTn id="5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9300"/>
                            </p:stCondLst>
                            <p:childTnLst>
                              <p:par>
                                <p:cTn id="5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523800" y="1047600"/>
            <a:ext cx="7785000" cy="40420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378000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160b"/>
                </a:solidFill>
                <a:latin typeface="Calibri"/>
              </a:rPr>
              <a:t>Свадебный макияж</a:t>
            </a:r>
            <a:endParaRPr b="0" lang="en-US" sz="32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2665440" cy="40323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Этот макияж, пожалуй, самый ответственный. В нем сочетается несколько техник, используемых в стойком, дневном, вечернем и фото макияжах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Цветовая гамма должна быть промежуточной: между натуральной (дневной) и контрастной (вечерней), нежной и в тоже время хорошо видна на фотографиях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52" name="Рисунок 12" descr="x621ef5f9.jpg"/>
          <p:cNvPicPr/>
          <p:nvPr/>
        </p:nvPicPr>
        <p:blipFill>
          <a:blip r:embed="rId1"/>
          <a:srcRect l="3316" t="0" r="3316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400"/>
                            </p:stCondLst>
                            <p:childTnLst>
                              <p:par>
                                <p:cTn id="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400"/>
                            </p:stCondLst>
                            <p:childTnLst>
                              <p:par>
                                <p:cTn id="5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400"/>
                            </p:stCondLst>
                            <p:childTnLst>
                              <p:par>
                                <p:cTn id="5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3168720" cy="122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160b"/>
                </a:solidFill>
                <a:latin typeface="Calibri"/>
              </a:rPr>
              <a:t>Фантазийный макияж.</a:t>
            </a:r>
            <a:endParaRPr b="0" lang="en-US" sz="28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2663640" cy="33084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Фантазийный макияж один из видов профессионального макияжа, чтобы его выполнить, необходима специальная подготовка: знание художественных приемов, колористики и различных техник. 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н может применяться в шоу программах, видеоклипах, для портфолио  с фотографиями и т.д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55" name="Рисунок 4" descr="x_670970d3[1].jpg"/>
          <p:cNvPicPr/>
          <p:nvPr/>
        </p:nvPicPr>
        <p:blipFill>
          <a:blip r:embed="rId1"/>
          <a:srcRect l="0" t="21630" r="0" b="21630"/>
          <a:stretch/>
        </p:blipFill>
        <p:spPr>
          <a:xfrm rot="420000">
            <a:off x="3498480" y="1247400"/>
            <a:ext cx="4616640" cy="3932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700"/>
                            </p:stCondLst>
                            <p:childTnLst>
                              <p:par>
                                <p:cTn id="5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700"/>
                            </p:stCondLst>
                            <p:childTnLst>
                              <p:par>
                                <p:cTn id="5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700"/>
                            </p:stCondLst>
                            <p:childTnLst>
                              <p:par>
                                <p:cTn id="5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Характеристику цветовых типов желательно знать каждой девушке и женщине, чтобы разобраться, какие цвета и оттенки подчеркивают личную гамму внешности. В природе все цвета гармоничны, а человек - это часть природы.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Идея, что каждому типу внешности подходят цвета определенного сезона, прижилась и прекрасно работает. Любую внешность можно ассоциировать с временем года: зима, весна, лето, осень.</a:t>
            </a:r>
            <a:endParaRPr b="0" lang="en-US" sz="2600" spc="-1" strike="noStrike">
              <a:solidFill>
                <a:srgbClr val="161922"/>
              </a:solidFill>
              <a:latin typeface="Constanti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2c3244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2c3244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287964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alibri"/>
              </a:rPr>
              <a:t>Женщина-зима</a:t>
            </a:r>
            <a:endParaRPr b="0" lang="en-US" sz="32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2592360" cy="46800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Как и в зимний период в природе господствуют холодные цвета, так и во внешности этого цветотипа преобладают холодные оттенк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Волос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темн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Кож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светлая, контрастирует с волосам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Брови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: темн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Глаза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: синие, серо-коричневые, серые, серо-зеленые, серо-голубы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44583"/>
                </a:solidFill>
                <a:latin typeface="Times New Roman"/>
                <a:ea typeface="Times New Roman"/>
              </a:rPr>
              <a:t>Губы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: бледно-розовые, лиловые</a:t>
            </a:r>
            <a:r>
              <a:rPr b="0" lang="ru-RU" sz="14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10" name="Рисунок 12" descr="джоли.jpg"/>
          <p:cNvPicPr/>
          <p:nvPr/>
        </p:nvPicPr>
        <p:blipFill>
          <a:blip r:embed="rId1"/>
          <a:srcRect l="2181" t="4056" r="3964" b="40103"/>
          <a:stretch/>
        </p:blipFill>
        <p:spPr>
          <a:xfrm rot="420000">
            <a:off x="3460320" y="1254240"/>
            <a:ext cx="4721400" cy="37605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1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1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1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1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1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1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9152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244"/>
                </a:solidFill>
                <a:latin typeface="Calibri"/>
              </a:rPr>
              <a:t>Дополняют такую внешность и гармонируют с ней следующие цвета:</a:t>
            </a:r>
            <a:endParaRPr b="0" lang="en-US" sz="4400" spc="-1" strike="noStrike">
              <a:solidFill>
                <a:srgbClr val="2c3244"/>
              </a:solidFill>
              <a:latin typeface="Calibri"/>
            </a:endParaRPr>
          </a:p>
        </p:txBody>
      </p:sp>
      <p:pic>
        <p:nvPicPr>
          <p:cNvPr id="212" name="Содержимое 3" descr="допцвета зымы.jpg"/>
          <p:cNvPicPr/>
          <p:nvPr/>
        </p:nvPicPr>
        <p:blipFill>
          <a:blip r:embed="rId1"/>
          <a:stretch/>
        </p:blipFill>
        <p:spPr>
          <a:xfrm>
            <a:off x="900000" y="3213000"/>
            <a:ext cx="756144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3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280836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9f65"/>
                </a:solidFill>
                <a:latin typeface="Calibri"/>
              </a:rPr>
              <a:t>Женщина-весна</a:t>
            </a:r>
            <a:endParaRPr b="0" lang="en-US" sz="28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2279880" cy="41036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Если сравнить этот цветотип с предыдущим, то основное отличие – это преобладание ясных нежных тонов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9f65"/>
                </a:solidFill>
                <a:latin typeface="Times New Roman"/>
                <a:ea typeface="Times New Roman"/>
              </a:rPr>
              <a:t>Волос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светлый с золотистым оттенком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9f65"/>
                </a:solidFill>
                <a:latin typeface="Times New Roman"/>
                <a:ea typeface="Times New Roman"/>
              </a:rPr>
              <a:t>Кож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теплый розовый с персиковым румянцем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9f65"/>
                </a:solidFill>
                <a:latin typeface="Times New Roman"/>
                <a:ea typeface="Times New Roman"/>
              </a:rPr>
              <a:t>Брови</a:t>
            </a:r>
            <a:r>
              <a:rPr b="0" lang="ru-RU" sz="1600" spc="-1" strike="noStrike">
                <a:solidFill>
                  <a:srgbClr val="f5cd2d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светл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9f65"/>
                </a:solidFill>
                <a:latin typeface="Times New Roman"/>
                <a:ea typeface="Times New Roman"/>
              </a:rPr>
              <a:t>Глаз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тепло-зеленые, зелено-голуб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9f65"/>
                </a:solidFill>
                <a:latin typeface="Times New Roman"/>
                <a:ea typeface="Times New Roman"/>
              </a:rPr>
              <a:t>Губ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тепло-розов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15" name="Рисунок 8" descr="x_e5e10be0[1].jpg"/>
          <p:cNvPicPr/>
          <p:nvPr/>
        </p:nvPicPr>
        <p:blipFill>
          <a:blip r:embed="rId1"/>
          <a:srcRect l="5945" t="0" r="5945" b="0"/>
          <a:stretch/>
        </p:blipFill>
        <p:spPr>
          <a:xfrm rot="420000">
            <a:off x="3498480" y="1174320"/>
            <a:ext cx="4616640" cy="3932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2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2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2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2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2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2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23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244"/>
                </a:solidFill>
                <a:latin typeface="Calibri"/>
              </a:rPr>
              <a:t>Дополняют такую внешность и гармонируют с ней следующие цвета:</a:t>
            </a:r>
            <a:endParaRPr b="0" lang="en-US" sz="4400" spc="-1" strike="noStrike">
              <a:solidFill>
                <a:srgbClr val="2c3244"/>
              </a:solidFill>
              <a:latin typeface="Calibri"/>
            </a:endParaRPr>
          </a:p>
        </p:txBody>
      </p:sp>
      <p:pic>
        <p:nvPicPr>
          <p:cNvPr id="217" name="Содержимое 3" descr="допцвета весна.jpg"/>
          <p:cNvPicPr/>
          <p:nvPr/>
        </p:nvPicPr>
        <p:blipFill>
          <a:blip r:embed="rId1"/>
          <a:stretch/>
        </p:blipFill>
        <p:spPr>
          <a:xfrm>
            <a:off x="1619280" y="3573360"/>
            <a:ext cx="6265800" cy="1797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3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2808000" cy="57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98d9"/>
                </a:solidFill>
                <a:latin typeface="Calibri"/>
              </a:rPr>
              <a:t>Женщина-лето</a:t>
            </a:r>
            <a:endParaRPr b="0" lang="en-US" sz="3200" spc="-1" strike="noStrike">
              <a:solidFill>
                <a:srgbClr val="2c3244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2881080" cy="35244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Холодный цветотип, которому соответствуют  приглушенные мягкие пастельные оттенки внешности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Волос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от пепельного блондина до средне-русых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Кож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бледная, розовая с холодным оттенком и оливковая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Брови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на тон светлее или темнее волос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Глаза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голубые, зелоно-голубые, серые, серо-коричневые, темно-коричневые.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Губы: </a:t>
            </a:r>
            <a:r>
              <a:rPr b="0" lang="ru-RU" sz="1600" spc="-1" strike="noStrike">
                <a:solidFill>
                  <a:srgbClr val="161922"/>
                </a:solidFill>
                <a:latin typeface="Times New Roman"/>
                <a:ea typeface="Times New Roman"/>
              </a:rPr>
              <a:t>бледно-розовые, лиловые</a:t>
            </a:r>
            <a:endParaRPr b="0" lang="en-US" sz="1600" spc="-1" strike="noStrike">
              <a:solidFill>
                <a:srgbClr val="161922"/>
              </a:solidFill>
              <a:latin typeface="Constantia"/>
            </a:endParaRPr>
          </a:p>
        </p:txBody>
      </p:sp>
      <p:pic>
        <p:nvPicPr>
          <p:cNvPr id="220" name="Рисунок 9" descr="x_92573766[1].jpg"/>
          <p:cNvPicPr/>
          <p:nvPr/>
        </p:nvPicPr>
        <p:blipFill>
          <a:blip r:embed="rId1"/>
          <a:srcRect l="3005" t="0" r="3005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100"/>
                            </p:stCondLst>
                            <p:childTnLst>
                              <p:par>
                                <p:cTn id="1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1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1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10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1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1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310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3244"/>
                </a:solidFill>
                <a:latin typeface="Calibri"/>
              </a:rPr>
              <a:t>Дополняют такую внешность и гармонируют с ней следующие цвета:</a:t>
            </a:r>
            <a:endParaRPr b="0" lang="en-US" sz="4400" spc="-1" strike="noStrike">
              <a:solidFill>
                <a:srgbClr val="2c3244"/>
              </a:solidFill>
              <a:latin typeface="Calibri"/>
            </a:endParaRPr>
          </a:p>
        </p:txBody>
      </p:sp>
      <p:pic>
        <p:nvPicPr>
          <p:cNvPr id="222" name="Содержимое 3" descr="допцвета лета.jpg"/>
          <p:cNvPicPr/>
          <p:nvPr/>
        </p:nvPicPr>
        <p:blipFill>
          <a:blip r:embed="rId1"/>
          <a:stretch/>
        </p:blipFill>
        <p:spPr>
          <a:xfrm>
            <a:off x="1042920" y="3573360"/>
            <a:ext cx="6918480" cy="2025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3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9:34:32Z</dcterms:created>
  <dc:creator>Home</dc:creator>
  <dc:description/>
  <dc:language>en-US</dc:language>
  <cp:lastModifiedBy>БОРИСЫЧ</cp:lastModifiedBy>
  <dcterms:modified xsi:type="dcterms:W3CDTF">2013-03-28T13:31:01Z</dcterms:modified>
  <cp:revision>32</cp:revision>
  <dc:subject/>
  <dc:title>Слайд 1</dc:title>
</cp:coreProperties>
</file>