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e6d7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ee6d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6BFF-ACAB-4245-9D57-5E04F8892B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24BB-B2A3-4E0F-8A33-F8A2CFF09B63}" type="slidenum">
              <a:rPr b="0" lang="ru-RU" sz="1200" spc="-1" strike="noStrike">
                <a:solidFill>
                  <a:srgbClr val="16192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6192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0BF-71FD-42DD-A8CE-B1AE5E29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C6B-7B6C-4E2D-B275-A4037AB0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9DC-64C3-467F-9F73-ED54E379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807-F8AD-46A3-8824-FDF3CEC2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5867-8D6F-42B8-9359-4622CA58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944E-9113-4BCC-8ABA-393C594B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1C9A-3DDA-4963-873B-E7294831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91C6-7284-48DD-B73D-F97422C2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D2DA-524C-42A1-A4C0-B3FBD09E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AE82-3D3B-44C8-9B12-FF761FB8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339D-A42A-4E16-BF5B-244C0B7A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AF1-9C06-4230-9446-93C70C35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762E-61BB-4F49-B323-A2FB4598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379D-BDE2-457A-ACBF-F9C58ACF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EE03-1412-4F98-9647-578F3D4A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2F81-4631-4DB7-804B-28300ABE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4971-64BC-4C18-BC33-8E97B916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6B7D-F93B-4FCF-B798-4F1E7923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14884-B40C-4352-B80C-BD682C18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0B31-8E24-46D9-935B-4E922F53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4A3FC-63E7-467B-B975-E7B3882A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9A7D-8420-45AA-AF6E-12D165D3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E13-734D-42E4-B984-9BA7497C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D039-AEA5-4308-B99D-547F58FE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26FF9-D95D-44E5-9B4D-2B955781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CEC5-3E52-4217-A551-6DA7374F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BEF19-B46F-4ED1-AE56-ACAC97AB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E438-F63E-4EB3-B7B9-0578F282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E8EE-B7BC-4FD6-A6B4-F0765EE0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06A43-E2B3-43FE-8BB6-70E42D81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0B548-E689-411B-9C37-B732081C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07436-B182-42F4-88C4-3D6C7132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67F3F-54A3-4656-8E13-1995D6FE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03B-1812-4670-8DA8-91A0A3AD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D0781-7948-4D7C-B03B-C3D1E217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A30CA-BF9A-4AAA-92B6-E54B6B31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A9906-E669-4738-AA03-C38F3564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8A214-8491-497E-97EF-57DC57C1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B25A-2276-422B-8DB1-863D5905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2F381-6FFE-4F90-9AB1-6D7B351E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BEF21-546F-42FE-82B4-C57BE2A3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DA747-C0D6-4C11-9750-423E09C3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090E-4719-4E9D-8CA9-6A2727F0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68C-9EFA-43A1-945B-32721081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3DA-1013-462B-BD71-9D7C12FF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4E7-9183-4C1E-B6DA-C809240A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443-0A2D-4F03-9799-90F18B2B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8B1-5164-44A3-B29F-EE6439D1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c324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ea6e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16192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16192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2f4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2f4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2f4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A1E9-2CAB-404D-A370-F9D94DA51A70}" type="slidenum">
              <a:rPr b="0" lang="ru-RU" sz="1200" spc="-1" strike="noStrike">
                <a:solidFill>
                  <a:srgbClr val="2a2f4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1922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1922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1922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1922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e6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e6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ea6e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dc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dc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dc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DB13-38FC-437F-90E7-CE3919B263E4}" type="slidenum">
              <a:rPr b="0" lang="ru-RU" sz="1200" spc="-1" strike="noStrike">
                <a:solidFill>
                  <a:srgbClr val="f2dc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1922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1922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e6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e6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ea6e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dc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dc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dc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E5AD-F608-4571-8CF8-D3C7523B4C39}" type="slidenum">
              <a:rPr b="0" lang="ru-RU" sz="1200" spc="-1" strike="noStrike">
                <a:solidFill>
                  <a:srgbClr val="f2dc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c324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ea6e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16192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16192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2f4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2f4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2f4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0AF2-FCE6-4B34-A2E1-7AF91EC8FE57}" type="slidenum">
              <a:rPr b="0" lang="ru-RU" sz="1200" spc="-1" strike="noStrike">
                <a:solidFill>
                  <a:srgbClr val="2a2f4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стики цветовых тип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некоторых видов макияж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6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280836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2c16"/>
                </a:solidFill>
                <a:latin typeface="Calibri"/>
              </a:rPr>
              <a:t>Женщина-осень</a:t>
            </a:r>
            <a:endParaRPr b="0" lang="en-US" sz="28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2808000" cy="46087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Один из самых колоритных цветотипов. Если мы представим  осенний пейзаж, то в первую очередь увидим цветную картинку. Так и внешность осеннего типа – цветная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Волос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рыжие или каштанов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Кож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теплая с веснушками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Брови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с рыжим оттенком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Глаз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чаше с вкраплениями, желто-зеленые, коричнево-желтые, зеленые, янтарные, зелено0голубые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Губ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желто-розовые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25" name="Рисунок 4" descr="осень7.jpg"/>
          <p:cNvPicPr/>
          <p:nvPr/>
        </p:nvPicPr>
        <p:blipFill>
          <a:blip r:embed="rId1"/>
          <a:srcRect l="0" t="20379" r="0" b="20379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200"/>
                            </p:stCondLst>
                            <p:childTnLst>
                              <p:par>
                                <p:cTn id="2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2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2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2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920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20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20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244"/>
                </a:solidFill>
                <a:latin typeface="Calibri"/>
              </a:rPr>
              <a:t>Дополняют такую внешность и гармонируют с ней следующие цвета:</a:t>
            </a:r>
            <a:endParaRPr b="0" lang="en-US" sz="4400" spc="-1" strike="noStrike">
              <a:solidFill>
                <a:srgbClr val="2c3244"/>
              </a:solidFill>
              <a:latin typeface="Calibri"/>
            </a:endParaRPr>
          </a:p>
        </p:txBody>
      </p:sp>
      <p:pic>
        <p:nvPicPr>
          <p:cNvPr id="227" name="Содержимое 3" descr="допцвета осень.jpg"/>
          <p:cNvPicPr/>
          <p:nvPr/>
        </p:nvPicPr>
        <p:blipFill>
          <a:blip r:embed="rId1"/>
          <a:stretch/>
        </p:blipFill>
        <p:spPr>
          <a:xfrm>
            <a:off x="1619280" y="3573360"/>
            <a:ext cx="6192720" cy="1776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3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3244"/>
                </a:solidFill>
                <a:latin typeface="Calibri"/>
              </a:rPr>
              <a:t>Полная таблица цветотипов:</a:t>
            </a:r>
            <a:endParaRPr b="0" lang="en-US" sz="4000" spc="-1" strike="noStrike">
              <a:solidFill>
                <a:srgbClr val="2c3244"/>
              </a:solidFill>
              <a:latin typeface="Calibri"/>
            </a:endParaRPr>
          </a:p>
        </p:txBody>
      </p:sp>
      <p:pic>
        <p:nvPicPr>
          <p:cNvPr id="229" name="Содержимое 3" descr="153062.jpg"/>
          <p:cNvPicPr/>
          <p:nvPr/>
        </p:nvPicPr>
        <p:blipFill>
          <a:blip r:embed="rId1"/>
          <a:stretch/>
        </p:blipFill>
        <p:spPr>
          <a:xfrm>
            <a:off x="50760" y="1393920"/>
            <a:ext cx="9093240" cy="5464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300"/>
                            </p:stCondLst>
                            <p:childTnLst>
                              <p:par>
                                <p:cTn id="3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523800" y="1579680"/>
            <a:ext cx="7785000" cy="3071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3564000" cy="122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Дневной, или повседневный макияж.</a:t>
            </a:r>
            <a:endParaRPr b="0" lang="en-US" sz="28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2952720" cy="39610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Основные цели дневного макияжа – освежить лицо, скрыть недостатки кожи, подчеркнуть достоинства частей лица. 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При выборе цветовой гаммы лучше отдать предпочтение теплой или нейтральной, так как она лучше смотрится при дневном освещении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Гармоничным будет смотреться макияж, если сочетания цветов соответствуют цветовому типу женщины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34" name="Рисунок 4" descr="185483873712733f62c74b3cf3a9ddce.jpg"/>
          <p:cNvPicPr/>
          <p:nvPr/>
        </p:nvPicPr>
        <p:blipFill>
          <a:blip r:embed="rId1"/>
          <a:srcRect l="0" t="17120" r="0" b="1712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900"/>
                            </p:stCondLst>
                            <p:childTnLst>
                              <p:par>
                                <p:cTn id="3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900"/>
                            </p:stCondLst>
                            <p:childTnLst>
                              <p:par>
                                <p:cTn id="3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900"/>
                            </p:stCondLst>
                            <p:childTnLst>
                              <p:par>
                                <p:cTn id="3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900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2952720" cy="144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Calibri"/>
              </a:rPr>
              <a:t>Макияж глаз для женщин, носящих очки.</a:t>
            </a:r>
            <a:br>
              <a:rPr sz="2400"/>
            </a:br>
            <a:r>
              <a:rPr b="1" lang="ru-RU" sz="2400" spc="-1" strike="noStrike">
                <a:solidFill>
                  <a:srgbClr val="5a160b"/>
                </a:solidFill>
                <a:latin typeface="Calibri"/>
              </a:rPr>
              <a:t>При близорукости.</a:t>
            </a:r>
            <a:endParaRPr b="0" lang="en-US" sz="24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2736720" cy="28796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Очки для близоруких зрительно уменьшают глаза, поэтому макияж должен их увеличивать.</a:t>
            </a:r>
            <a:endParaRPr b="0" lang="en-US" sz="18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Для этого используют более объемные цвета теней и интенсивные контуры.</a:t>
            </a:r>
            <a:endParaRPr b="0" lang="en-US" sz="18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37" name="Рисунок 10" descr="eynekli%20qiz%2004_02_10.jpg"/>
          <p:cNvPicPr/>
          <p:nvPr/>
        </p:nvPicPr>
        <p:blipFill>
          <a:blip r:embed="rId1"/>
          <a:srcRect l="0" t="21487" r="0" b="21487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7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700"/>
                            </p:stCondLst>
                            <p:childTnLst>
                              <p:par>
                                <p:cTn id="3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7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295272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Calibri"/>
              </a:rPr>
              <a:t>Макияж глаз для женщин, носящих очки.</a:t>
            </a:r>
            <a:br>
              <a:rPr sz="2400"/>
            </a:br>
            <a:r>
              <a:rPr b="1" lang="ru-RU" sz="2400" spc="-1" strike="noStrike">
                <a:solidFill>
                  <a:srgbClr val="5a160b"/>
                </a:solidFill>
                <a:latin typeface="Calibri"/>
              </a:rPr>
              <a:t>При дальнозоркости.</a:t>
            </a:r>
            <a:endParaRPr b="0" lang="en-US" sz="24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2521080" cy="28036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У женщин, страдающих дальнозоркостью, очки визуально увеличивают глаза. И цель макияжа – уравновесить глаза с другими деталями лица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Для этого нужно использовать матовые оттенки теней, контур глаз лучше проводить тенями натуральных оттенков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40" name="Рисунок 4" descr="057087_187.jpg"/>
          <p:cNvPicPr/>
          <p:nvPr/>
        </p:nvPicPr>
        <p:blipFill>
          <a:blip r:embed="rId1"/>
          <a:srcRect l="0" t="21602" r="0" b="2160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9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900"/>
                            </p:stCondLst>
                            <p:childTnLst>
                              <p:par>
                                <p:cTn id="4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900"/>
                            </p:stCondLst>
                            <p:childTnLst>
                              <p:par>
                                <p:cTn id="4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2592360" cy="136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alibri"/>
              </a:rPr>
              <a:t>Корректирующий возрастной макияж.</a:t>
            </a:r>
            <a:endParaRPr b="0" lang="en-US" sz="28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3025800" cy="3380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9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Для женщин с возрастными изменениями кожи макияж с коррекцией скрывает недостатки, визуально подтягивает лицо, освежает и омолаживает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Для хорошего макияжа нужно использовать легкие структуры тональных и камуфлирующих средств, пастельные и приглушенные цвета теней, сочные оттенки помад и ограничить применение сухих препаратов и средств с перламутровой структурой, т.к. они подчеркивают морщинки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43" name="Рисунок 5" descr="11020801.jpg"/>
          <p:cNvPicPr/>
          <p:nvPr/>
        </p:nvPicPr>
        <p:blipFill>
          <a:blip r:embed="rId1"/>
          <a:srcRect l="0" t="19600" r="0" b="19600"/>
          <a:stretch/>
        </p:blipFill>
        <p:spPr>
          <a:xfrm rot="420000">
            <a:off x="3425400" y="1174320"/>
            <a:ext cx="4618080" cy="39322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345600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alibri"/>
              </a:rPr>
              <a:t>Деловой макияж</a:t>
            </a:r>
            <a:endParaRPr b="0" lang="en-US" sz="32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3025800" cy="38876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Цель макияжа – не отвлекать деловую женщину от работы, быть устойчивым, аккуратным, неброским, но подчеркнутым и гармонирующим с прической и одеждой.</a:t>
            </a:r>
            <a:endParaRPr b="0" lang="en-US" sz="20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46" name="Рисунок 4" descr="x_79e73d44[1].jpg"/>
          <p:cNvPicPr/>
          <p:nvPr/>
        </p:nvPicPr>
        <p:blipFill>
          <a:blip r:embed="rId1"/>
          <a:srcRect l="0" t="18087" r="0" b="18087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20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200"/>
                            </p:stCondLst>
                            <p:childTnLst>
                              <p:par>
                                <p:cTn id="4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34560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alibri"/>
              </a:rPr>
              <a:t>Вечерний макияж</a:t>
            </a:r>
            <a:endParaRPr b="0" lang="en-US" sz="32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2663640" cy="48960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Вечерний макияж отличается от натурального дневного тщательностью проработки контура лица и его частей с помощью декоративной косметики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Для вечера нужны более плотные структуры тона и корректирующих средств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Цвета теней и контуров лучше выбирать контрастные, т.к. они смотрятся ярче, наряднее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Обязательно нужно учитывать освещение, т.к. при ярком электрическом свете цвет кожи выглядит светлее, а при приглушенном – светлее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49" name="Рисунок 6" descr="x_7288fb43[1].jpg"/>
          <p:cNvPicPr/>
          <p:nvPr/>
        </p:nvPicPr>
        <p:blipFill>
          <a:blip r:embed="rId1"/>
          <a:srcRect l="0" t="7535" r="0" b="7535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300"/>
                            </p:stCondLst>
                            <p:childTnLst>
                              <p:par>
                                <p:cTn id="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300"/>
                            </p:stCondLst>
                            <p:childTnLst>
                              <p:par>
                                <p:cTn id="5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300"/>
                            </p:stCondLst>
                            <p:childTnLst>
                              <p:par>
                                <p:cTn id="5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7300"/>
                            </p:stCondLst>
                            <p:childTnLst>
                              <p:par>
                                <p:cTn id="5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300"/>
                            </p:stCondLst>
                            <p:childTnLst>
                              <p:par>
                                <p:cTn id="5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523800" y="1047600"/>
            <a:ext cx="7785000" cy="40420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378000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alibri"/>
              </a:rPr>
              <a:t>Свадебный макияж</a:t>
            </a:r>
            <a:endParaRPr b="0" lang="en-US" sz="32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665440" cy="40323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Этот макияж, пожалуй, самый ответственный. В нем сочетается несколько техник, используемых в стойком, дневном, вечернем и фото макияжах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Цветовая гамма должна быть промежуточной: между натуральной (дневной) и контрастной (вечерней), нежной и в тоже время хорошо видна на фотографиях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52" name="Рисунок 12" descr="x621ef5f9.jpg"/>
          <p:cNvPicPr/>
          <p:nvPr/>
        </p:nvPicPr>
        <p:blipFill>
          <a:blip r:embed="rId1"/>
          <a:srcRect l="3316" t="0" r="3316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400"/>
                            </p:stCondLst>
                            <p:childTnLst>
                              <p:par>
                                <p:cTn id="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400"/>
                            </p:stCondLst>
                            <p:childTnLst>
                              <p:par>
                                <p:cTn id="5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400"/>
                            </p:stCondLst>
                            <p:childTnLst>
                              <p:par>
                                <p:cTn id="5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3168720" cy="122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alibri"/>
              </a:rPr>
              <a:t>Фантазийный макияж.</a:t>
            </a:r>
            <a:endParaRPr b="0" lang="en-US" sz="28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2663640" cy="33084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Фантазийный макияж один из видов профессионального макияжа, чтобы его выполнить, необходима специальная подготовка: знание художественных приемов, колористики и различных техник. 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Он может применяться в шоу программах, видеоклипах, для портфолио  с фотографиями и т.д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55" name="Рисунок 4" descr="x_670970d3[1].jpg"/>
          <p:cNvPicPr/>
          <p:nvPr/>
        </p:nvPicPr>
        <p:blipFill>
          <a:blip r:embed="rId1"/>
          <a:srcRect l="0" t="21630" r="0" b="21630"/>
          <a:stretch/>
        </p:blipFill>
        <p:spPr>
          <a:xfrm rot="420000">
            <a:off x="3498480" y="1247400"/>
            <a:ext cx="4616640" cy="39322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700"/>
                            </p:stCondLst>
                            <p:childTnLst>
                              <p:par>
                                <p:cTn id="5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700"/>
                            </p:stCondLst>
                            <p:childTnLst>
                              <p:par>
                                <p:cTn id="5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700"/>
                            </p:stCondLst>
                            <p:childTnLst>
                              <p:par>
                                <p:cTn id="5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Характеристику цветовых типов желательно знать каждой девушке и женщине, чтобы разобраться, какие цвета и оттенки подчеркивают личную гамму внешности. В природе все цвета гармоничны, а человек - это часть природы.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Идея, что каждому типу внешности подходят цвета определенного сезона, прижилась и прекрасно работает. Любую внешность можно ассоциировать с временем года: зима, весна, лето, осень.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c3244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287964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Calibri"/>
              </a:rPr>
              <a:t>Женщина-зима</a:t>
            </a:r>
            <a:endParaRPr b="0" lang="en-US" sz="32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2592360" cy="46800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Как и в зимний период в природе господствуют холодные цвета, так и во внешности этого цветотипа преобладают холодные оттенки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4583"/>
                </a:solidFill>
                <a:latin typeface="Times New Roman"/>
                <a:ea typeface="Times New Roman"/>
              </a:rPr>
              <a:t>Волос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темн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4583"/>
                </a:solidFill>
                <a:latin typeface="Times New Roman"/>
                <a:ea typeface="Times New Roman"/>
              </a:rPr>
              <a:t>Кож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светлая, контрастирует с волосами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4583"/>
                </a:solidFill>
                <a:latin typeface="Times New Roman"/>
                <a:ea typeface="Times New Roman"/>
              </a:rPr>
              <a:t>Брови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: темн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4583"/>
                </a:solidFill>
                <a:latin typeface="Times New Roman"/>
                <a:ea typeface="Times New Roman"/>
              </a:rPr>
              <a:t>Глаза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: синие, серо-коричневые, серые, серо-зеленые, серо-голубые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4583"/>
                </a:solidFill>
                <a:latin typeface="Times New Roman"/>
                <a:ea typeface="Times New Roman"/>
              </a:rPr>
              <a:t>Губы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: бледно-розовые, лиловые</a:t>
            </a:r>
            <a:r>
              <a:rPr b="0" lang="ru-RU" sz="14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10" name="Рисунок 12" descr="джоли.jpg"/>
          <p:cNvPicPr/>
          <p:nvPr/>
        </p:nvPicPr>
        <p:blipFill>
          <a:blip r:embed="rId1"/>
          <a:srcRect l="2181" t="4056" r="3964" b="40103"/>
          <a:stretch/>
        </p:blipFill>
        <p:spPr>
          <a:xfrm rot="420000">
            <a:off x="3460320" y="1254240"/>
            <a:ext cx="4721400" cy="37605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1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1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1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1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1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1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9152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244"/>
                </a:solidFill>
                <a:latin typeface="Calibri"/>
              </a:rPr>
              <a:t>Дополняют такую внешность и гармонируют с ней следующие цвета:</a:t>
            </a:r>
            <a:endParaRPr b="0" lang="en-US" sz="4400" spc="-1" strike="noStrike">
              <a:solidFill>
                <a:srgbClr val="2c3244"/>
              </a:solidFill>
              <a:latin typeface="Calibri"/>
            </a:endParaRPr>
          </a:p>
        </p:txBody>
      </p:sp>
      <p:pic>
        <p:nvPicPr>
          <p:cNvPr id="212" name="Содержимое 3" descr="допцвета зымы.jpg"/>
          <p:cNvPicPr/>
          <p:nvPr/>
        </p:nvPicPr>
        <p:blipFill>
          <a:blip r:embed="rId1"/>
          <a:stretch/>
        </p:blipFill>
        <p:spPr>
          <a:xfrm>
            <a:off x="900000" y="3213000"/>
            <a:ext cx="756144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30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280836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9f65"/>
                </a:solidFill>
                <a:latin typeface="Calibri"/>
              </a:rPr>
              <a:t>Женщина-весна</a:t>
            </a:r>
            <a:endParaRPr b="0" lang="en-US" sz="28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2279880" cy="41036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Если сравнить этот цветотип с предыдущим, то основное отличие – это преобладание ясных нежных тонов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9f65"/>
                </a:solidFill>
                <a:latin typeface="Times New Roman"/>
                <a:ea typeface="Times New Roman"/>
              </a:rPr>
              <a:t>Волос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светлый с золотистым оттенком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9f65"/>
                </a:solidFill>
                <a:latin typeface="Times New Roman"/>
                <a:ea typeface="Times New Roman"/>
              </a:rPr>
              <a:t>Кож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теплый розовый с персиковым румянцем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9f65"/>
                </a:solidFill>
                <a:latin typeface="Times New Roman"/>
                <a:ea typeface="Times New Roman"/>
              </a:rPr>
              <a:t>Брови</a:t>
            </a:r>
            <a:r>
              <a:rPr b="0" lang="ru-RU" sz="1600" spc="-1" strike="noStrike">
                <a:solidFill>
                  <a:srgbClr val="f5cd2d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светл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9f65"/>
                </a:solidFill>
                <a:latin typeface="Times New Roman"/>
                <a:ea typeface="Times New Roman"/>
              </a:rPr>
              <a:t>Глаз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тепло-зеленые, зелено-голуб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9f65"/>
                </a:solidFill>
                <a:latin typeface="Times New Roman"/>
                <a:ea typeface="Times New Roman"/>
              </a:rPr>
              <a:t>Губ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тепло-розов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15" name="Рисунок 8" descr="x_e5e10be0[1].jpg"/>
          <p:cNvPicPr/>
          <p:nvPr/>
        </p:nvPicPr>
        <p:blipFill>
          <a:blip r:embed="rId1"/>
          <a:srcRect l="5945" t="0" r="5945" b="0"/>
          <a:stretch/>
        </p:blipFill>
        <p:spPr>
          <a:xfrm rot="420000">
            <a:off x="3498480" y="1174320"/>
            <a:ext cx="4616640" cy="39322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2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2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2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2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2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2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244"/>
                </a:solidFill>
                <a:latin typeface="Calibri"/>
              </a:rPr>
              <a:t>Дополняют такую внешность и гармонируют с ней следующие цвета:</a:t>
            </a:r>
            <a:endParaRPr b="0" lang="en-US" sz="4400" spc="-1" strike="noStrike">
              <a:solidFill>
                <a:srgbClr val="2c3244"/>
              </a:solidFill>
              <a:latin typeface="Calibri"/>
            </a:endParaRPr>
          </a:p>
        </p:txBody>
      </p:sp>
      <p:pic>
        <p:nvPicPr>
          <p:cNvPr id="217" name="Содержимое 3" descr="допцвета весна.jpg"/>
          <p:cNvPicPr/>
          <p:nvPr/>
        </p:nvPicPr>
        <p:blipFill>
          <a:blip r:embed="rId1"/>
          <a:stretch/>
        </p:blipFill>
        <p:spPr>
          <a:xfrm>
            <a:off x="1619280" y="3573360"/>
            <a:ext cx="6265800" cy="1797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3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2808000" cy="57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98d9"/>
                </a:solidFill>
                <a:latin typeface="Calibri"/>
              </a:rPr>
              <a:t>Женщина-лето</a:t>
            </a:r>
            <a:endParaRPr b="0" lang="en-US" sz="32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2881080" cy="35244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Холодный цветотип, которому соответствуют  приглушенные мягкие пастельные оттенки внешности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98d9"/>
                </a:solidFill>
                <a:latin typeface="Times New Roman"/>
                <a:ea typeface="Times New Roman"/>
              </a:rPr>
              <a:t>Волос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от пепельного блондина до средне-русых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98d9"/>
                </a:solidFill>
                <a:latin typeface="Times New Roman"/>
                <a:ea typeface="Times New Roman"/>
              </a:rPr>
              <a:t>Кож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бледная, розовая с холодным оттенком и оливковая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98d9"/>
                </a:solidFill>
                <a:latin typeface="Times New Roman"/>
                <a:ea typeface="Times New Roman"/>
              </a:rPr>
              <a:t>Брови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на тон светлее или темнее волос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98d9"/>
                </a:solidFill>
                <a:latin typeface="Times New Roman"/>
                <a:ea typeface="Times New Roman"/>
              </a:rPr>
              <a:t>Глаз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голубые, зелоно-голубые, серые, серо-коричневые, темно-коричневые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98d9"/>
                </a:solidFill>
                <a:latin typeface="Times New Roman"/>
                <a:ea typeface="Times New Roman"/>
              </a:rPr>
              <a:t>Губ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бледно-розовые, лилов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20" name="Рисунок 9" descr="x_92573766[1].jpg"/>
          <p:cNvPicPr/>
          <p:nvPr/>
        </p:nvPicPr>
        <p:blipFill>
          <a:blip r:embed="rId1"/>
          <a:srcRect l="3005" t="0" r="3005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100"/>
                            </p:stCondLst>
                            <p:childTnLst>
                              <p:par>
                                <p:cTn id="1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1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1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10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10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11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310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244"/>
                </a:solidFill>
                <a:latin typeface="Calibri"/>
              </a:rPr>
              <a:t>Дополняют такую внешность и гармонируют с ней следующие цвета:</a:t>
            </a:r>
            <a:endParaRPr b="0" lang="en-US" sz="4400" spc="-1" strike="noStrike">
              <a:solidFill>
                <a:srgbClr val="2c3244"/>
              </a:solidFill>
              <a:latin typeface="Calibri"/>
            </a:endParaRPr>
          </a:p>
        </p:txBody>
      </p:sp>
      <p:pic>
        <p:nvPicPr>
          <p:cNvPr id="222" name="Содержимое 3" descr="допцвета лета.jpg"/>
          <p:cNvPicPr/>
          <p:nvPr/>
        </p:nvPicPr>
        <p:blipFill>
          <a:blip r:embed="rId1"/>
          <a:stretch/>
        </p:blipFill>
        <p:spPr>
          <a:xfrm>
            <a:off x="1042920" y="3573360"/>
            <a:ext cx="6918480" cy="2025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30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9:34:32Z</dcterms:created>
  <dc:creator>Home</dc:creator>
  <dc:description/>
  <dc:language>en-US</dc:language>
  <cp:lastModifiedBy>БОРИСЫЧ</cp:lastModifiedBy>
  <dcterms:modified xsi:type="dcterms:W3CDTF">2013-03-28T13:31:01Z</dcterms:modified>
  <cp:revision>32</cp:revision>
  <dc:subject/>
  <dc:title>Слайд 1</dc:title>
</cp:coreProperties>
</file>