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30.png" ContentType="image/png"/>
  <Override PartName="/ppt/media/image5.wmf" ContentType="image/x-wmf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3.png" ContentType="image/png"/>
  <Override PartName="/ppt/media/image3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3A9-570A-4BFD-AA7B-EDD9C4DE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8A3-2A3A-425C-AEFF-A7ABF57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04A4-67D6-47BE-BC22-AB947805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C7D-8724-4CB2-A8E9-C7780DD0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369-9F8A-4813-A52B-671601A2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6B2-032F-4D50-9885-BD48F31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F7A-F0AE-4F00-84D8-4E7F0362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C07-AEB2-4752-90CE-CF57DCC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F13-6BD2-4FA6-83C9-9B247F6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662-AEEF-433F-B21C-99CDE87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A13-AEA4-47B5-84A0-86A65759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E29-9149-478C-812D-1910E4D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2FE7-6F58-4B55-8247-5412177432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image" Target="../media/image21.png"/><Relationship Id="rId37" Type="http://schemas.openxmlformats.org/officeDocument/2006/relationships/image" Target="../media/image22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Tahoma"/>
              </a:rPr>
              <a:t>ВОКРУГ ТЕБЯ – МИР…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ahoma"/>
              </a:rPr>
              <a:t>ПОД ЗНАКОМ КРАСНОГО КРЕСТ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Бах  Ария из сюиты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ahoma"/>
              </a:rPr>
              <a:t>символик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1863 год Международная конференция в Женев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ubCross"/>
          <p:cNvSpPr/>
          <p:nvPr/>
        </p:nvSpPr>
        <p:spPr>
          <a:xfrm>
            <a:off x="2268360" y="1844640"/>
            <a:ext cx="237672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219640" y="1700280"/>
            <a:ext cx="180036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imitation_1"/>
          <p:cNvPicPr/>
          <p:nvPr/>
        </p:nvPicPr>
        <p:blipFill>
          <a:blip r:embed="rId2"/>
          <a:stretch/>
        </p:blipFill>
        <p:spPr>
          <a:xfrm>
            <a:off x="0" y="0"/>
            <a:ext cx="4143240" cy="400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misuse_4"/>
          <p:cNvPicPr/>
          <p:nvPr/>
        </p:nvPicPr>
        <p:blipFill>
          <a:blip r:embed="rId3"/>
          <a:stretch/>
        </p:blipFill>
        <p:spPr>
          <a:xfrm>
            <a:off x="4786200" y="0"/>
            <a:ext cx="4357800" cy="428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treason"/>
          <p:cNvPicPr/>
          <p:nvPr/>
        </p:nvPicPr>
        <p:blipFill>
          <a:blip r:embed="rId4"/>
          <a:stretch/>
        </p:blipFill>
        <p:spPr>
          <a:xfrm>
            <a:off x="285840" y="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mitation_3"/>
          <p:cNvPicPr/>
          <p:nvPr/>
        </p:nvPicPr>
        <p:blipFill>
          <a:blip r:embed="rId5"/>
          <a:stretch/>
        </p:blipFill>
        <p:spPr>
          <a:xfrm>
            <a:off x="2357280" y="3643200"/>
            <a:ext cx="4357800" cy="321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MG_3275"/>
          <p:cNvPicPr/>
          <p:nvPr/>
        </p:nvPicPr>
        <p:blipFill>
          <a:blip r:embed="rId6"/>
          <a:stretch/>
        </p:blipFill>
        <p:spPr>
          <a:xfrm>
            <a:off x="4287960" y="285840"/>
            <a:ext cx="4856040" cy="354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isuse_33"/>
          <p:cNvPicPr/>
          <p:nvPr/>
        </p:nvPicPr>
        <p:blipFill>
          <a:blip r:embed="rId7"/>
          <a:stretch/>
        </p:blipFill>
        <p:spPr>
          <a:xfrm>
            <a:off x="3584520" y="3571920"/>
            <a:ext cx="5559480" cy="195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isuse_2"/>
          <p:cNvPicPr/>
          <p:nvPr/>
        </p:nvPicPr>
        <p:blipFill>
          <a:blip r:embed="rId8"/>
          <a:stretch/>
        </p:blipFill>
        <p:spPr>
          <a:xfrm>
            <a:off x="0" y="5038560"/>
            <a:ext cx="48578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Documents and Settings\204\Рабочий стол\бабич семинар\аене.jpg"/>
          <p:cNvPicPr/>
          <p:nvPr/>
        </p:nvPicPr>
        <p:blipFill>
          <a:blip r:embed="rId2"/>
          <a:stretch/>
        </p:blipFill>
        <p:spPr>
          <a:xfrm>
            <a:off x="539640" y="1773360"/>
            <a:ext cx="3786120" cy="47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И.С. ТУРГЕНЕВ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ПАМЯТИ Ю.П. ВРЕВСКОЙ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8" descr="РОМАШКА БЕЛАЯ"/>
          <p:cNvPicPr/>
          <p:nvPr/>
        </p:nvPicPr>
        <p:blipFill>
          <a:blip r:embed="rId3"/>
          <a:stretch/>
        </p:blipFill>
        <p:spPr>
          <a:xfrm>
            <a:off x="2771640" y="0"/>
            <a:ext cx="2320920" cy="2098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4859280" y="2997360"/>
            <a:ext cx="2367000" cy="37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НТЯБРЬ, 1878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1.11497E-006 C 0.00522 -0.00694 0.01112 -0.01295 0.01806 -0.01596 C 0.02865 -0.03007 0.04376 -0.02683 0.05782 -0.02891 C 0.07067 -0.03307 0.08369 -0.03099 0.09636 -0.03701 C 0.14758 -0.03608 0.18942 -0.03261 0.23855 -0.03053 C 0.2474 -0.0266 0.25713 -0.0229 0.26633 -0.02081 C 0.27206 -0.01943 0.27779 -0.01896 0.28317 -0.01596 C 0.29081 -0.01179 0.29879 -0.00855 0.30608 -0.00323 C 0.31893 0.00625 0.30869 0.00116 0.31685 0.00486 C 0.32154 0.00972 0.32935 0.01735 0.3349 0.0192 C 0.34185 0.02846 0.34966 0.03493 0.35782 0.04164 C 0.36251 0.04557 0.36477 0.05066 0.36997 0.05298 C 0.37501 0.05968 0.38108 0.06339 0.38681 0.06894 C 0.3922 0.07403 0.39706 0.08027 0.40244 0.08513 C 0.40765 0.09554 0.40174 0.08582 0.40852 0.09161 C 0.4106 0.09346 0.4139 0.09901 0.41563 0.10109 C 0.41911 0.10502 0.42275 0.10896 0.42657 0.11243 C 0.43074 0.12075 0.43404 0.12839 0.43855 0.13648 C 0.43942 0.1381 0.44115 0.13833 0.4422 0.13972 C 0.44358 0.14157 0.44463 0.14389 0.44584 0.14597 C 0.44827 0.15568 0.45279 0.1647 0.45904 0.17026 C 0.46199 0.18159 0.46685 0.18946 0.4724 0.19894 C 0.47345 0.20102 0.47657 0.21189 0.47709 0.21351 C 0.47813 0.21629 0.47952 0.21907 0.48074 0.22161 C 0.48143 0.22323 0.48247 0.22462 0.48317 0.22624 C 0.48855 0.24058 0.4922 0.25816 0.49879 0.27134 C 0.50001 0.27967 0.50279 0.28569 0.50487 0.29378 C 0.5073 0.30327 0.50799 0.31437 0.51216 0.3227 C 0.51372 0.33079 0.51494 0.33889 0.51685 0.34675 C 0.51598 0.44507 0.52536 0.4564 0.50487 0.51701 C 0.50192 0.5258 0.50088 0.53297 0.49636 0.54106 C 0.49324 0.55263 0.48803 0.56258 0.48195 0.5716 C 0.4797 0.57507 0.47709 0.57784 0.47466 0.58108 C 0.47258 0.58386 0.46754 0.58756 0.46754 0.58756 C 0.46407 0.59427 0.45817 0.59866 0.45313 0.60352 C 0.43699 0.61902 0.43369 0.62365 0.41442 0.63244 C 0.41077 0.63405 0.4073 0.63845 0.40365 0.63891 C 0.39358 0.63984 0.38369 0.64007 0.37362 0.64053 C 0.35765 0.64238 0.34341 0.65025 0.32779 0.65325 C 0.30869 0.66598 0.28056 0.66066 0.26268 0.66135 C 0.24983 0.66181 0.23699 0.66251 0.22414 0.66297 C 0.2172 0.66598 0.20973 0.66667 0.20244 0.66783 C 0.18803 0.6743 0.18004 0.66852 0.16876 0.66297 C 0.15886 0.65788 0.14671 0.65418 0.13612 0.65187 C 0.13282 0.64863 0.13178 0.64817 0.129 0.64377 C 0.12813 0.64238 0.12779 0.64007 0.12657 0.63891 C 0.12553 0.63776 0.12414 0.63799 0.12292 0.63729 C 0.12015 0.63544 0.11563 0.6292 0.11563 0.6292 L 0.10852 0.63082 E">
                                      <p:cBhvr>
                                        <p:cTn id="37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204\Рабочий стол\бабич семинар\vrevskaya.jpg"/>
          <p:cNvPicPr/>
          <p:nvPr/>
        </p:nvPicPr>
        <p:blipFill>
          <a:blip r:embed="rId2"/>
          <a:stretch/>
        </p:blipFill>
        <p:spPr>
          <a:xfrm>
            <a:off x="357120" y="428760"/>
            <a:ext cx="4357800" cy="60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204\Рабочий стол\бабич семинар\муж.jpg"/>
          <p:cNvPicPr/>
          <p:nvPr/>
        </p:nvPicPr>
        <p:blipFill>
          <a:blip r:embed="rId3"/>
          <a:stretch/>
        </p:blipFill>
        <p:spPr>
          <a:xfrm>
            <a:off x="4643280" y="428760"/>
            <a:ext cx="4286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РИНЦИП ГУМАНН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Все действия медицинского персонала направлены на сохранение жизни и здоровья больных, раненых, страдающих. Главное для медиков – оказывать помощь тем, кто в ней нуждается, уменьшать их страд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333360"/>
            <a:ext cx="96854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сновополагающие принципы Международного движения Красного Креста и Красного Полумесяц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Гума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Беспристраст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Нейтра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Независим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Доброволь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Единств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Универсальность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НАСКОЛЬКО ВЫ ТЕРПИМЫ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ЗА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3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-А      1. ПОСТАВЬТЕ СЕБЕ ПО 2 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5-Б      2. ПОДСЧИТАЙТЕ КОЛ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6-Б           НАБРАННЫХ ВАМИ ОЧ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7-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8-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9-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0 – 5 ОЧКОВ – Вы непреклонны и упрямы, навязываете свое мнение другим, чтобы достичь своей цели. Вам трудно поддерживать нормальные отношения с теми, кто думает иначе, чем 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5 – 12 ОЧКОВ – Вы твердо отстаиваете свои убеждения, но способны изменить свою точку зр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13 – 18 ОЧКОВ – Вы можете принять другую идею, с пониманием отнестись к любому поступку. Вы достаточно критично относитесь к своему мнению, способны отказаться от точки зрения, которая оказалась ошибоч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НАМ ЖИЗНЬ ДАНА, ЧТОБЫ ЛЮБ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ЛЮБИТЬ БЕЗ МЕРЫ, БЕЗ ПРЕДЕЛ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И ВСЕМ СТРАДАЛЬЦАМ ПОСВЯТИ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ahoma"/>
              </a:rPr>
              <a:t>СВОЙ РАЗУМ, КРОВЬ СВОЮ И ТЕЛ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ЦЕЛИ ЗАНЯТ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ПОЗНАКОМИТЬСЯ С ИСТОРИЕЙ ВОЗНИКНОВЕНИЯ ОРГАНИЗАЦИИ КРАСНЫЙ КРЕСТ И КРАСНЫЙ ПОЛУ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ВОСПИТЫВАТЬ ЛИЧНОСТЬ, ДЛЯ КОТОРОЙ МИЛОСЕРДИЕ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ГУМАННОСТЬ –  ОСНОВНОЙ ЖИЗНЕННЫЙ ПРИНЦИ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ПЛАН ЗАНЯТИ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Значение слов милосердие, гуманность, состра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История возникновения организации Красный Кр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Символика организации Красный Крест и Красный Полу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Знакомство со стихотворением в прозе И.С. Тургенева «Памяти Ю.П. Вревск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ЛИСТ САМООЦЕНК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557360"/>
          <a:ext cx="8928000" cy="5157720"/>
        </p:xfrm>
        <a:graphic>
          <a:graphicData uri="http://schemas.openxmlformats.org/drawingml/2006/table">
            <a:tbl>
              <a:tblPr/>
              <a:tblGrid>
                <a:gridCol w="5759280"/>
                <a:gridCol w="1584360"/>
                <a:gridCol w="158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Начало 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Конец зан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1. Вы хорошо ориентируетесь в деятельности и символике организации Красный Крест 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2. Вы знаете историю возникновения организации Красный Крест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3. Вы можете сформулировать главный принцип гуманности для медика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4. Вы знакомы со стихотворением в прозе И.С. Тургенева «Памяти Ю.П. Вревской»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5. Вам понравилось наше занятие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6. Пригодятся ли Вам знания, полученные на занятии «Под знаком Красного Креста»?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j0240719"/>
          <p:cNvPicPr/>
          <p:nvPr/>
        </p:nvPicPr>
        <p:blipFill>
          <a:blip r:embed="rId2"/>
          <a:stretch/>
        </p:blipFill>
        <p:spPr>
          <a:xfrm>
            <a:off x="2627280" y="981000"/>
            <a:ext cx="1798560" cy="28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16724"/>
          <p:cNvPicPr/>
          <p:nvPr/>
        </p:nvPicPr>
        <p:blipFill>
          <a:blip r:embed="rId3"/>
          <a:stretch/>
        </p:blipFill>
        <p:spPr>
          <a:xfrm>
            <a:off x="3564000" y="321300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301252"/>
          <p:cNvPicPr/>
          <p:nvPr/>
        </p:nvPicPr>
        <p:blipFill>
          <a:blip r:embed="rId4"/>
          <a:stretch/>
        </p:blipFill>
        <p:spPr>
          <a:xfrm>
            <a:off x="4427640" y="119700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6948360" y="2133720"/>
            <a:ext cx="164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Ы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324000" y="3645000"/>
            <a:ext cx="2724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ЗЫВЧИВЫЙ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5219640" y="5157720"/>
            <a:ext cx="375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РАДАТЕЛЬНЫЙ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5435640" y="692280"/>
            <a:ext cx="3495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ПРИСТРАСТНЫЙ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12"/>
          <p:cNvSpPr txBox="1"/>
          <p:nvPr/>
        </p:nvSpPr>
        <p:spPr>
          <a:xfrm>
            <a:off x="468360" y="4437000"/>
            <a:ext cx="31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БРОВОЛЬНЫЙ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179280" y="76500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РАВЕДЛИВЫЙ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14"/>
          <p:cNvSpPr txBox="1"/>
          <p:nvPr/>
        </p:nvSpPr>
        <p:spPr>
          <a:xfrm>
            <a:off x="6012000" y="3357720"/>
            <a:ext cx="2943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ОСЕРДНЫЙ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15"/>
          <p:cNvSpPr txBox="1"/>
          <p:nvPr/>
        </p:nvSpPr>
        <p:spPr>
          <a:xfrm>
            <a:off x="1476360" y="5877000"/>
            <a:ext cx="31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СТВЕННЫЙ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324000" y="2276640"/>
            <a:ext cx="2095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УМАННЫЙ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6659640" y="1341360"/>
            <a:ext cx="22636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ой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8"/>
          <p:cNvSpPr txBox="1"/>
          <p:nvPr/>
        </p:nvSpPr>
        <p:spPr>
          <a:xfrm>
            <a:off x="539640" y="1413000"/>
            <a:ext cx="172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адный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WordArt 19"/>
          <p:cNvSpPr txBox="1"/>
          <p:nvPr/>
        </p:nvSpPr>
        <p:spPr>
          <a:xfrm>
            <a:off x="6516720" y="4365720"/>
            <a:ext cx="20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ивый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20"/>
          <p:cNvSpPr txBox="1"/>
          <p:nvPr/>
        </p:nvSpPr>
        <p:spPr>
          <a:xfrm>
            <a:off x="1692360" y="2997360"/>
            <a:ext cx="2895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фликтный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WordArt 21"/>
          <p:cNvSpPr txBox="1"/>
          <p:nvPr/>
        </p:nvSpPr>
        <p:spPr>
          <a:xfrm>
            <a:off x="3564000" y="1341360"/>
            <a:ext cx="171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живый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5076720" y="5877000"/>
            <a:ext cx="280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стительный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900000" y="5157720"/>
            <a:ext cx="18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нивый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5076720" y="2637000"/>
            <a:ext cx="149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упый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2340000" y="0"/>
            <a:ext cx="383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ответственный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Доброт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отзывчивость, душевное расположение к людям, стремление делать добр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тзывчив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легко откликающийся на чужие нужды, готовый помо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острадание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жалость, сочувствие, вызываемое чьим-нибудь несчастьем, гор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Беспристрастн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 не обнаруживающий пристрастия, справедли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Добровольны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совершаемый по собственному желанию, не принудитель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Справедлив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действующие беспристрастно, в соответствии с исти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Милосердие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готовность помочь, простить из сострадания, человеколюб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тветственный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– о человеке: с высокоразвитым чувством долга, ревниво относящемся к своим обязаннос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Гуманный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– человечный, отзывчив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ИСТОРИЯ ВОЗНИКНОВЕНИЯ ОРГАНИЗАЦИИ КРАСНЫЙ КРЕС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24 июня 1859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Сольферино (Итали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Анри Дюнан: «Нельзя ли создать во всех европейских странах общества по оказанию помощи, которые в военное время действуя на добровольных началах, обеспечивали бы уход за ранеными, независимо от их национальности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5"/>
          <p:cNvSpPr/>
          <p:nvPr/>
        </p:nvSpPr>
        <p:spPr>
          <a:xfrm>
            <a:off x="5219640" y="1700280"/>
            <a:ext cx="1800360" cy="28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ubCross"/>
          <p:cNvSpPr/>
          <p:nvPr/>
        </p:nvSpPr>
        <p:spPr>
          <a:xfrm>
            <a:off x="2268360" y="1844640"/>
            <a:ext cx="237672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В состав Международного движения Красного Креста и Красного Полумесяца входя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ждународный комитет Красного Кре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ждународная Федерация Обществ Красного Креста и Красного Полумеся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Национальные Общества Красного Креста и Красного Полумеся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4:12:40Z</dcterms:created>
  <dc:creator>Бабич Е.В.</dc:creator>
  <dc:description/>
  <dc:language>en-US</dc:language>
  <cp:lastModifiedBy>Елена</cp:lastModifiedBy>
  <dcterms:modified xsi:type="dcterms:W3CDTF">2013-03-28T19:17:32Z</dcterms:modified>
  <cp:revision>17</cp:revision>
  <dc:subject/>
  <dc:title> ВОКРУГ ТЕБЯ – МИР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