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2.png" ContentType="image/png"/>
  <Override PartName="/ppt/media/image17.gif" ContentType="image/gif"/>
  <Override PartName="/ppt/media/image2.wmf" ContentType="image/x-wmf"/>
  <Override PartName="/ppt/media/image16.png" ContentType="image/png"/>
  <Override PartName="/ppt/media/image7.gif" ContentType="image/gif"/>
  <Override PartName="/ppt/media/image1.wmf" ContentType="image/x-wmf"/>
  <Override PartName="/ppt/media/image15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9.wmf" ContentType="image/x-wmf"/>
  <Override PartName="/ppt/media/image1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E8E1-62B9-457B-A26B-CE1762C29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3FAA-7D4C-43AA-AF32-F7E25770F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849D-FF9F-4BFC-ADFC-A83899104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C275-07E9-472C-8C4E-A52B16D6F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7E8F1-B7FD-42FF-BF0C-543276FF5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C9739-435B-467A-99A1-1FD3F7CF5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C42E3-B118-46C4-B8EC-F9CEB5854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9A515-5A65-4655-96F4-3A83FC243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609BD-0C0C-49B4-8866-93701560E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B9256-BAD8-4E9A-9F13-73BE9AD0E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1BF1C-0E54-4F01-BF8B-14B7ABCF1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AF03-3A43-45FF-9212-101F270EC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562C5-68F4-43AB-8979-E50CE0330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602E3-CAD3-4A84-9AEE-E6F40147A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E4A22-8D02-4CB0-9992-A2B11B23E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04C48-A594-45A8-8592-AAB449155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B3639-1C18-41C1-8D32-ABCAB6599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2686-610D-4915-BC46-661D2E127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F7FA-9767-43D6-8069-151C683F2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516D-BCE4-4424-8B84-D39D3D9B3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0F67-4B4B-44EA-A553-D0748DEC2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9B3F-2F44-4B3C-9C86-94335A056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5025-11FB-43D0-BC33-F75BDD53D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782E-C20C-4D99-9FE0-D169396D6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bd3737"/>
                </a:gs>
                <a:gs pos="100000">
                  <a:srgbClr val="721e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21e1e"/>
                </a:gs>
                <a:gs pos="100000">
                  <a:srgbClr val="bd373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21e1e"/>
                  </a:gs>
                  <a:gs pos="100000">
                    <a:srgbClr val="bd373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d3737"/>
                  </a:gs>
                  <a:gs pos="100000">
                    <a:srgbClr val="721e1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21e1e"/>
                  </a:gs>
                  <a:gs pos="100000">
                    <a:srgbClr val="bd373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bd373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d3737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7cc2f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bd373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d3737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7cc2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CB3F4-7A82-42CC-8204-F7D37CBD8BF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d3737"/>
                  </a:gs>
                  <a:gs pos="100000">
                    <a:srgbClr val="721e1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21e1e"/>
                  </a:gs>
                  <a:gs pos="100000">
                    <a:srgbClr val="bd373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50000">
                  <a:srgbClr val="f7cc2f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d3737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bd373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21e1e"/>
                  </a:gs>
                  <a:gs pos="100000">
                    <a:srgbClr val="bd373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d3737"/>
                  </a:gs>
                  <a:gs pos="100000">
                    <a:srgbClr val="721e1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21e1e"/>
                  </a:gs>
                  <a:gs pos="100000">
                    <a:srgbClr val="bd373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bd373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d3737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7cc2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E4EB4-6EEE-44A7-8FA8-9B33C85BE52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6560" y="3357360"/>
            <a:ext cx="7086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Tahoma"/>
              </a:rPr>
              <a:t>ЗАБОЛЕВАНИЯ КРОВЕНОСНОЙ СИСТЕМЫ</a:t>
            </a:r>
            <a:endParaRPr b="1" lang="en-US" sz="66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696000" y="3257640"/>
            <a:ext cx="24480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rcRect l="30977" t="2734" r="24781" b="4101"/>
          <a:stretch/>
        </p:blipFill>
        <p:spPr>
          <a:xfrm>
            <a:off x="2700360" y="189000"/>
            <a:ext cx="4032360" cy="6480000"/>
          </a:xfrm>
          <a:prstGeom prst="rect">
            <a:avLst/>
          </a:prstGeom>
          <a:ln w="38160">
            <a:solidFill>
              <a:srgbClr val="ffff00"/>
            </a:solidFill>
            <a:prstDash val="sysDot"/>
            <a:miter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0484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066320" y="692280"/>
            <a:ext cx="754380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7cc2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О каких заболеваниях крови, сердца и сосудов Вы слышали хотя бы 1 раз в жизн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7cc2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О каких заболеваниях крови, сердца и сосудов Вы хотели бы узнать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7cc2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очему вы хотите о них узнать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7cc2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Где Вы слышали об этих заболеваниях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5892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000"/>
                            </p:stCondLst>
                            <p:childTnLst>
                              <p:par>
                                <p:cTn id="1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3300"/>
            </a:gs>
            <a:gs pos="100000">
              <a:srgbClr val="721e1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3300"/>
            </a:gs>
            <a:gs pos="100000">
              <a:srgbClr val="721e1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893160" y="210960"/>
            <a:ext cx="696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  <a:ea typeface="Times New Roman"/>
              </a:rPr>
              <a:t>Заболевания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  <a:ea typeface="Times New Roman"/>
              </a:rPr>
              <a:t>кровеносной систем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324000" y="2133720"/>
          <a:ext cx="8640720" cy="4038480"/>
        </p:xfrm>
        <a:graphic>
          <a:graphicData uri="http://schemas.openxmlformats.org/drawingml/2006/table">
            <a:tbl>
              <a:tblPr/>
              <a:tblGrid>
                <a:gridCol w="2881080"/>
                <a:gridCol w="2586240"/>
                <a:gridCol w="3173400"/>
              </a:tblGrid>
              <a:tr h="136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болевание</a:t>
                      </a:r>
                      <a:endParaRPr b="0" lang="en-US" sz="3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имптомы </a:t>
                      </a:r>
                      <a:endParaRPr b="0" lang="en-US" sz="3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ры профилактики</a:t>
                      </a:r>
                      <a:endParaRPr b="0" lang="en-US" sz="3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16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721e1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68360" y="2184840"/>
            <a:ext cx="79912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7cc2f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cc2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ИНФАРКТ МИОКАР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7cc2f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cc2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ИНСУЛЬ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7cc2f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cc2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ОРОК СЕРДЦА</a:t>
            </a:r>
            <a:r>
              <a:rPr b="1" lang="en-US" sz="3200" spc="-1" strike="noStrike">
                <a:solidFill>
                  <a:srgbClr val="f7cc2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7cc2f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cc2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ГИПЕРТО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7cc2f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cc2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ТРОМБОФЛЕБИ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7cc2f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cc2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ГЕМОФИЛ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7cc2f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cc2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ВЛИЯНИЕ АЛКОГОЛЯ И НИКОТИ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НА КРОВЕНОСНУЮ СИСТЕМУ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1640" cy="14842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5038560" y="0"/>
            <a:ext cx="41054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59280" cy="6858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Tahoma"/>
              </a:rPr>
              <a:t>ЦЕЛИ УРОКА</a:t>
            </a:r>
            <a:endParaRPr b="1" lang="en-US" sz="6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1280" y="1981080"/>
            <a:ext cx="799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Познакомиться с заболеваниями крови, сосудов и сердц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1001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Выяснить меры по профилактике заболеваний кровеносной системы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4533840" cy="32385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71280" y="386064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Tahoma"/>
              </a:rPr>
              <a:t>ИНТЕРВЬЮ ВРАЧА</a:t>
            </a:r>
            <a:endParaRPr b="1" lang="en-US" sz="60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Tahoma"/>
              </a:rPr>
              <a:t>СИНКВЕЙН</a:t>
            </a:r>
            <a:endParaRPr b="1" lang="en-US" sz="60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42560" y="1981080"/>
            <a:ext cx="777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1 – ПОНЯТИЕ (СЛОВО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 – ПРИЛАГАТЕЛЬНЫЕ (2 СЛОВ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3 – ГЛАГОЛЫ (3 СЛОВ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4 – ПРЕДЛОЖЕНИЕ (4 СЛОВ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5 – СУЩЕСТВИТЕЛЬНОЕ (1 СЛОВО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59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«Вообще 9/10 нашего счастья основано на здоровье. При нем все становится источником наслаждения, тогда как без него решительно никакое внешнее благо не может доставить удовольствия»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             </a:t>
            </a:r>
            <a:r>
              <a:rPr b="1" lang="en-US" sz="4000" spc="-1" strike="noStrike">
                <a:solidFill>
                  <a:srgbClr val="f7cc2f"/>
                </a:solidFill>
                <a:latin typeface="Tahoma"/>
              </a:rPr>
              <a:t>Артур Шопенгауэр</a:t>
            </a:r>
            <a:endParaRPr b="1" lang="en-US" sz="40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3300"/>
            </a:gs>
            <a:gs pos="100000">
              <a:srgbClr val="721e1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420920" y="-117000"/>
            <a:ext cx="608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7cc2f"/>
                </a:solidFill>
                <a:latin typeface="Arial"/>
                <a:ea typeface="Times New Roman"/>
              </a:rPr>
              <a:t>Лист самооценки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50920" y="692280"/>
          <a:ext cx="8713800" cy="5924520"/>
        </p:xfrm>
        <a:graphic>
          <a:graphicData uri="http://schemas.openxmlformats.org/drawingml/2006/table">
            <a:tbl>
              <a:tblPr/>
              <a:tblGrid>
                <a:gridCol w="5976720"/>
                <a:gridCol w="1368720"/>
                <a:gridCol w="13683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про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чало уро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нец уро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 Знаете ли вы заболевания кровеносной системы?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 Знакомы ли вы с причинами возникновения заболеваний кровеносной системы?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 Владеете ли вы знаниями о строении и функциях органов кровеносной системы?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 Знаете ли вы о профилактических мерах предупреждения заболеваний кровеносной системы?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 Понравился ли вам наш урок?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-----------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. Пригодятся ли вам знания, полученные на уроке?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-----------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115640" y="4762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1001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ГОМЕОСТАЗ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spcBef>
                <a:spcPts val="1001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ИММУНИТЕ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spcBef>
                <a:spcPts val="1001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АРТЕРИ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spcBef>
                <a:spcPts val="1001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ВЕН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spcBef>
                <a:spcPts val="1001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ПЕРЕЛИВАНИЕ КРОВ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spcBef>
                <a:spcPts val="1001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РЕЦИПИЕН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spcBef>
                <a:spcPts val="1001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СЫВОРОТК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spcBef>
                <a:spcPts val="1001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ВАКЦИН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0484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3300"/>
            </a:gs>
            <a:gs pos="100000">
              <a:srgbClr val="721e1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rcRect l="21120" t="47087" r="25567" b="28752"/>
          <a:stretch/>
        </p:blipFill>
        <p:spPr>
          <a:xfrm>
            <a:off x="1835280" y="4941720"/>
            <a:ext cx="6840360" cy="1727280"/>
          </a:xfrm>
          <a:prstGeom prst="rect">
            <a:avLst/>
          </a:prstGeom>
          <a:ln w="28440">
            <a:solidFill>
              <a:srgbClr val="ffff00"/>
            </a:solidFill>
            <a:prstDash val="sysDot"/>
            <a:miter/>
          </a:ln>
        </p:spPr>
      </p:pic>
      <p:sp>
        <p:nvSpPr>
          <p:cNvPr id="118" name=""/>
          <p:cNvSpPr/>
          <p:nvPr/>
        </p:nvSpPr>
        <p:spPr>
          <a:xfrm>
            <a:off x="6084720" y="981000"/>
            <a:ext cx="287640" cy="505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2916360" y="1052640"/>
            <a:ext cx="287280" cy="4316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04840" cy="18003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132000" y="404640"/>
            <a:ext cx="3024360" cy="720720"/>
          </a:xfrm>
          <a:prstGeom prst="flowChartAlternateProcess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КРОВ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258920" y="1628640"/>
            <a:ext cx="2881440" cy="609840"/>
          </a:xfrm>
          <a:prstGeom prst="flowChartAlternateProcess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ПЛАЗ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03640" y="1628640"/>
            <a:ext cx="3529080" cy="1584360"/>
          </a:xfrm>
          <a:prstGeom prst="flowChartAlternateProcess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148360" y="1700280"/>
            <a:ext cx="345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ФОРМЕННЫ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ЭЛЕМЕНТЫ КРОВ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924000" y="3141720"/>
            <a:ext cx="1081080" cy="1079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580000" y="3213000"/>
            <a:ext cx="579600" cy="10796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524720" y="3213000"/>
            <a:ext cx="71640" cy="9367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11640" y="4437000"/>
            <a:ext cx="2160720" cy="576360"/>
          </a:xfrm>
          <a:prstGeom prst="flowChartAlternateProcess">
            <a:avLst/>
          </a:prstGeom>
          <a:solidFill>
            <a:srgbClr val="cc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1e1e"/>
                </a:solidFill>
                <a:latin typeface="Tahoma"/>
              </a:rPr>
              <a:t>ЛЕЙКОЦИ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88000" y="4365720"/>
            <a:ext cx="2232000" cy="577800"/>
          </a:xfrm>
          <a:prstGeom prst="flowChartAlternateProcess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ahoma"/>
              </a:rPr>
              <a:t>ЭРИТРОЦИ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92360" y="4437000"/>
            <a:ext cx="2305080" cy="5763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ahoma"/>
              </a:rPr>
              <a:t>ТРОМБОЦИ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5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26920" y="549360"/>
            <a:ext cx="763272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 одной книге по физиологии было сказано: 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«</a:t>
            </a:r>
            <a:r>
              <a:rPr b="1" i="1" lang="ru-RU" sz="3200" spc="-1" strike="noStrike">
                <a:solidFill>
                  <a:srgbClr val="ffff00"/>
                </a:solidFill>
                <a:latin typeface="Comic Sans MS"/>
              </a:rPr>
              <a:t>В каждую секунду в Красном море миллионы кораблей терпят крушение и опускаются на дно. Но миллионы новых кораблей выходят из гаваней вновь в плавание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».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Что подразумевается под «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кораблями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» и «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гаванями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»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0484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04840" cy="18003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rcRect l="26776" t="0" r="23101" b="0"/>
          <a:stretch/>
        </p:blipFill>
        <p:spPr>
          <a:xfrm>
            <a:off x="2268360" y="333360"/>
            <a:ext cx="5183280" cy="6264360"/>
          </a:xfrm>
          <a:prstGeom prst="rect">
            <a:avLst/>
          </a:prstGeom>
          <a:ln w="38160">
            <a:solidFill>
              <a:srgbClr val="ffff00"/>
            </a:solidFill>
            <a:prstDash val="sysDot"/>
            <a:miter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476360" y="260280"/>
            <a:ext cx="6858000" cy="6408720"/>
          </a:xfrm>
          <a:prstGeom prst="rect">
            <a:avLst/>
          </a:prstGeom>
          <a:ln w="38160">
            <a:solidFill>
              <a:srgbClr val="ffff00"/>
            </a:solidFill>
            <a:prstDash val="sysDot"/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3300"/>
            </a:gs>
            <a:gs pos="100000">
              <a:srgbClr val="721e1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179280" y="209520"/>
          <a:ext cx="8785440" cy="6440400"/>
        </p:xfrm>
        <a:graphic>
          <a:graphicData uri="http://schemas.openxmlformats.org/drawingml/2006/table">
            <a:tbl>
              <a:tblPr/>
              <a:tblGrid>
                <a:gridCol w="2197080"/>
                <a:gridCol w="1371600"/>
                <a:gridCol w="2746440"/>
                <a:gridCol w="2470320"/>
              </a:tblGrid>
              <a:tr h="120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Фаза сердечного цикл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Время, 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аправления движения кров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Положение клапан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Систола предсерди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Систола желудочк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Диастол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3300"/>
            </a:gs>
            <a:gs pos="100000">
              <a:srgbClr val="721e1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179280" y="260280"/>
          <a:ext cx="8785080" cy="6440400"/>
        </p:xfrm>
        <a:graphic>
          <a:graphicData uri="http://schemas.openxmlformats.org/drawingml/2006/table">
            <a:tbl>
              <a:tblPr/>
              <a:tblGrid>
                <a:gridCol w="2196000"/>
                <a:gridCol w="1373040"/>
                <a:gridCol w="2746440"/>
                <a:gridCol w="24696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Фаза сердечного цикл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Время, 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аправления движения кров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Положение клапан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Систола предсерди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0, 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Из предсердий в желудочк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Створчатые открыты,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полулунные закрыт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Систола желудочк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0,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Из желудочков в сосуд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Створчатые закрыты, полулунные открыт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7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Диастол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0,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Все сердце заполняется кровью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Створчатые открыты,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полулунные закрыт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1T15:34:37Z</dcterms:created>
  <dc:creator>Елена</dc:creator>
  <dc:description/>
  <dc:language>en-US</dc:language>
  <cp:lastModifiedBy>Елена</cp:lastModifiedBy>
  <dcterms:modified xsi:type="dcterms:W3CDTF">2008-11-24T19:19:05Z</dcterms:modified>
  <cp:revision>4</cp:revision>
  <dc:subject/>
  <dc:title>ЗАБОЛЕВАНИЯ КРОВЕНОСНОЙ СИСТЕМЫ</dc:title>
</cp:coreProperties>
</file>