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7.gif" ContentType="image/gif"/>
  <Override PartName="/ppt/media/image2.wmf" ContentType="image/x-wmf"/>
  <Override PartName="/ppt/media/image16.png" ContentType="image/png"/>
  <Override PartName="/ppt/media/image7.gif" ContentType="image/gif"/>
  <Override PartName="/ppt/media/image1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500-2C0A-4EA3-8175-C9755700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2F5-506A-44D8-B5F5-B66F6845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43C-FBA1-46C5-928A-79FE9880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E52-606A-4D13-BF02-CD2A7A50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1975-7A73-4970-890E-C349376F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C93-FD45-4F38-9F65-CCBC14EC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02B-A6DA-4E94-B346-5052D442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CC6-73F6-40B2-AA35-F680CC5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6121-4AF9-4B9A-AC7C-B8DBF53C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ECD2-8223-4A36-BE81-CB877F9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AAC-D570-4AC3-8F96-C69764C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131-991A-4581-A459-3BA95529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CD2-3AE3-46C8-BE10-9F273CA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9E70-45D1-4045-9118-DD182AB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7315-81F0-4BC6-B089-EA9ED0B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E05E-AEEC-4469-A4AD-A1F68CF0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ACE0-C976-4C27-9E1B-F5078BF2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D40-B646-4E35-9D11-0B71ED7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665-2018-4D0E-A603-008EB967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0DD-DDD5-401C-854E-4C7CEDCA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FB4-B3CB-4872-B245-19490F6F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068-6C27-4CEB-8E50-A06EFD46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A35-6DBA-4C67-AAC4-3BF1A99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B95-D2D4-4F2B-A353-A6CA3A2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D9FA-2F33-46A4-A9B7-121EC9993F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234C-15BE-462E-B2A5-C9133CA372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57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ЗАБОЛЕВАНИЯ КРОВЕНОСНОЙ СИСТЕМЫ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96000" y="3257640"/>
            <a:ext cx="244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30977" t="2734" r="24781" b="4101"/>
          <a:stretch/>
        </p:blipFill>
        <p:spPr>
          <a:xfrm>
            <a:off x="2700360" y="189000"/>
            <a:ext cx="4032360" cy="648000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 каких заболеваниях крови, сердца и сосудов Вы слышали хотя бы 1 раз в жиз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 каких заболеваниях крови, сердца и сосудов Вы хотели бы узн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чему вы хотите о них узн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де Вы слышали об этих заболевани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93160" y="210960"/>
            <a:ext cx="69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Заболеван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кровеносной сис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2133720"/>
          <a:ext cx="8640720" cy="4038480"/>
        </p:xfrm>
        <a:graphic>
          <a:graphicData uri="http://schemas.openxmlformats.org/drawingml/2006/table">
            <a:tbl>
              <a:tblPr/>
              <a:tblGrid>
                <a:gridCol w="2881080"/>
                <a:gridCol w="2586240"/>
                <a:gridCol w="317340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ы профилактики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2184840"/>
            <a:ext cx="799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РОК СЕРДЦА</a:t>
            </a: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ИПЕРТ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РОМБОФЛЕБ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МОФИ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ЛИЯНИЕ АЛКОГОЛЯ И НИКО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 КРОВЕНОСНУЮ СИСТЕ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640" cy="1484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38560" y="0"/>
            <a:ext cx="410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ЦЕЛИ УРОКА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знакомиться с заболеваниями крови, сосудов и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яснить меры по профилактике заболеваний кровеносной систем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33840" cy="3238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3860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ИНТЕРВЬЮ ВРАЧА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СИНКВЕЙН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– ПОНЯТИЕ (СЛОВ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– ПРИЛАГАТЕЛЬНЫЕ (2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– ГЛАГОЛЫ (3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– ПРЕДЛОЖЕНИЕ (4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 – СУЩЕСТВИТЕЛЬНОЕ (1 СЛОВ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Вообще 9/10 нашего счастья основано на здоровье. При нем все становится источником наслаждения, тогда как без него решительно никакое внешнее благо не может доставить удовольствия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4000" spc="-1" strike="noStrike">
                <a:solidFill>
                  <a:srgbClr val="f7cc2f"/>
                </a:solidFill>
                <a:latin typeface="Tahoma"/>
              </a:rPr>
              <a:t>Артур Шопенгауэр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20920" y="-117000"/>
            <a:ext cx="60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cc2f"/>
                </a:solidFill>
                <a:latin typeface="Arial"/>
                <a:ea typeface="Times New Roman"/>
              </a:rPr>
              <a:t>Лист самооцен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692280"/>
          <a:ext cx="8713800" cy="5924520"/>
        </p:xfrm>
        <a:graphic>
          <a:graphicData uri="http://schemas.openxmlformats.org/drawingml/2006/table">
            <a:tbl>
              <a:tblPr/>
              <a:tblGrid>
                <a:gridCol w="5976720"/>
                <a:gridCol w="1368720"/>
                <a:gridCol w="136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о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ец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наете ли вы заболевания кровеносной системы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Знакомы ли вы с причинами возникновения заболеваний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ладеете ли вы знаниями о строении и функциях органов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Знаете ли вы о профилактических мерах предупреждения заболеваний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онравился ли вам наш урок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Пригодятся ли вам знания, полученные на уроке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15640" y="47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ИММУНИТ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РТЕР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Е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ЕРЕЛИВАНИЕ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ЕЦИПИ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ЫВОРОТ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АКЦ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21120" t="47087" r="25567" b="28752"/>
          <a:stretch/>
        </p:blipFill>
        <p:spPr>
          <a:xfrm>
            <a:off x="1835280" y="4941720"/>
            <a:ext cx="6840360" cy="172728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sp>
        <p:nvSpPr>
          <p:cNvPr id="118" name=""/>
          <p:cNvSpPr/>
          <p:nvPr/>
        </p:nvSpPr>
        <p:spPr>
          <a:xfrm>
            <a:off x="6084720" y="981000"/>
            <a:ext cx="28764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16360" y="1052640"/>
            <a:ext cx="28728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32000" y="404640"/>
            <a:ext cx="302436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КР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628640"/>
            <a:ext cx="2881440" cy="60984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ЛА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1628640"/>
            <a:ext cx="3529080" cy="15843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170028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ФОРМ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ЭЛЕМЕНТЫ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24000" y="3141720"/>
            <a:ext cx="1081080" cy="1079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80000" y="3213000"/>
            <a:ext cx="579600" cy="107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3213000"/>
            <a:ext cx="7164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4437000"/>
            <a:ext cx="2160720" cy="5763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1e1e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365720"/>
            <a:ext cx="2232000" cy="5778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437000"/>
            <a:ext cx="2305080" cy="576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одной книге по физиологии было сказано: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В каждую секунду в Красном море миллионы кораблей терпят крушение и опускаются на дно. Но миллионы новых кораблей выходят из гаваней вновь в плавание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»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подразумевается под «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раблям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гаваням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26776" t="0" r="23101" b="0"/>
          <a:stretch/>
        </p:blipFill>
        <p:spPr>
          <a:xfrm>
            <a:off x="2268360" y="333360"/>
            <a:ext cx="5183280" cy="6264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6858000" cy="640872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9280" y="209520"/>
          <a:ext cx="8785440" cy="6440400"/>
        </p:xfrm>
        <a:graphic>
          <a:graphicData uri="http://schemas.openxmlformats.org/drawingml/2006/table">
            <a:tbl>
              <a:tblPr/>
              <a:tblGrid>
                <a:gridCol w="2197080"/>
                <a:gridCol w="1371600"/>
                <a:gridCol w="2746440"/>
                <a:gridCol w="247032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аза сердечного цик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, 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правления движения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жение клап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предсерд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желудоч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иаст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260280"/>
          <a:ext cx="8785080" cy="6440400"/>
        </p:xfrm>
        <a:graphic>
          <a:graphicData uri="http://schemas.openxmlformats.org/drawingml/2006/table">
            <a:tbl>
              <a:tblPr/>
              <a:tblGrid>
                <a:gridCol w="2196000"/>
                <a:gridCol w="1373040"/>
                <a:gridCol w="2746440"/>
                <a:gridCol w="2469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аза сердечного цик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, 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правления движения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жение клап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предсерд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з предсердий в желуд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открыты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полулунные за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желудоч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з желудочков в сосу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закрыты, полулунные от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иаст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се сердце заполняется кров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открыты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полулунные за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4:37Z</dcterms:created>
  <dc:creator>Елена</dc:creator>
  <dc:description/>
  <dc:language>en-US</dc:language>
  <cp:lastModifiedBy>Елена</cp:lastModifiedBy>
  <dcterms:modified xsi:type="dcterms:W3CDTF">2008-11-24T19:19:05Z</dcterms:modified>
  <cp:revision>4</cp:revision>
  <dc:subject/>
  <dc:title>ЗАБОЛЕВАНИЯ КРОВЕНОСНОЙ СИСТЕМЫ</dc:title>
</cp:coreProperties>
</file>