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6643-FC8D-433C-AFE1-90FA5DB31E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4AC-7656-425E-A319-D9C5CFC8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446-D6C4-4480-AAF3-0328C789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C27-482E-49A8-BDD4-83C40584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594-C4C2-4EE9-B4A9-6003DD0F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9038-D17C-4181-985B-3B149A80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FF1D-59AB-4ED7-B4C2-D9BD752B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AF4-C816-4406-BDAC-D397836B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32F9-F34F-4C9E-955F-C15F55F8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84C6-6F3A-4850-942A-2A7D0004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5391-B152-48F6-A35B-E2AF82E9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1F14-9B22-403C-AF26-EF0185F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64C-BC7F-4353-AC31-1DF5162C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4AFF-1355-4F17-85E6-2EB3EF0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E6C2-DEA3-4BA8-991D-11A9F011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0F37-9950-4B99-B940-8F53381E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0750-3D6F-4D23-9A2A-E4FB1196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82F8-022A-41A8-9256-C9F6EC10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73E-D0C3-4C86-B04E-049BD274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1B2-0617-4493-AAE3-60FC9154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BD6-9EC2-4318-B480-7F5A0163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790-3F82-48DC-97FE-A8BA6B78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E9B-132D-45EE-B71D-4A54471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F77-787F-4AD7-9869-4EC8C83A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0C4-7F4E-4791-AC3F-9D1B4837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8E2C-FEC2-466B-B3AE-23A177C999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2DFC-4FBD-410E-9989-751D327695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3;&#1080;&#1084;&#1087;&#1080;&#1081;&#1089;&#1082;&#1080;&#1081;_&#1086;&#1075;&#1086;&#1085;&#1100;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Задачи на движ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1 : Нахождение пути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1655640"/>
            <a:ext cx="56883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1 : Нахождение пу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йти путь волка с зайцем, если они двигались вдоль аллеи на юг со скоростью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1 м/с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в течение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4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екунд, а затем на запад вдоль другой аллеи с прежней скоростью еще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екунд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580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верк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= 1 м/с х 40 с =40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= 1 м/с х 30 с = 30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= 40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 +30 м = 70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вет: 70 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2: Нахождение скорости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1622520"/>
            <a:ext cx="5616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2: Нахождение скорос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  соревнованиях  по  горным лыжам волк-победитель показал следующие  результаты: специальный слалом – длина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60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,  время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с;    скоростной  спуск – длина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320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, время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16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.  Сравните средние  скорости волка на соревнования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580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= 600м : 60 с = 10 м/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 = 3200м: 160 с = 20 м/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&lt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ча 3. Нахождение времени движ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 12 по 26 февраля 2010 года в канадском городе Ванкувер состоялись зимние Олимпийские игры.  Олимпийский огонь по традиции зажигается на горе Олимп в Греции от солнечных лучей и доставляется к месту соревнований. По заявлениям организаторов Олимпиады, эстафета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олимпийского огня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составила около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5 000 км. В ней  участвовало примерно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2 000 факелоносцев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дача 3. Нахождение времени движ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35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аршрут эстафеты олимпийского огня был самым протяженным в истории Олимпийских игр и проложен по воде (1000 км), по воздуху (18 тыс. км) и по земле (26 тыс. км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колько времени Олимпийский огонь  путешествовал по воздуху, если скорость самолета приблизительно 300 км/ч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795640" y="1827360"/>
            <a:ext cx="288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верк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= 18000 км : 300 км/ч = 60 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твет: 60 часов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340000" y="4437000"/>
            <a:ext cx="360360" cy="2305080"/>
          </a:xfrm>
          <a:custGeom>
            <a:avLst/>
            <a:gdLst/>
            <a:ahLst/>
            <a:rect l="l" t="t" r="r" b="b"/>
            <a:pathLst>
              <a:path w="227" h="1452">
                <a:moveTo>
                  <a:pt x="0" y="0"/>
                </a:moveTo>
                <a:cubicBezTo>
                  <a:pt x="98" y="635"/>
                  <a:pt x="197" y="1271"/>
                  <a:pt x="227" y="1452"/>
                </a:cubicBezTo>
              </a:path>
            </a:pathLst>
          </a:custGeom>
          <a:noFill/>
          <a:ln w="954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89200">
            <a:off x="5508360" y="4797000"/>
            <a:ext cx="1352520" cy="1611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=S: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8550800">
            <a:off x="7596720" y="4688640"/>
            <a:ext cx="1366560" cy="172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89200">
            <a:off x="7235640" y="3213000"/>
            <a:ext cx="1285560" cy="1613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459000">
            <a:off x="5425200" y="3440160"/>
            <a:ext cx="1290600" cy="1555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89200">
            <a:off x="3995280" y="2491920"/>
            <a:ext cx="1352520" cy="1611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=S: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8550800">
            <a:off x="5831640" y="2240640"/>
            <a:ext cx="1366920" cy="1726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89200">
            <a:off x="5724360" y="691920"/>
            <a:ext cx="1285920" cy="1612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461000">
            <a:off x="4066920" y="764640"/>
            <a:ext cx="1290600" cy="1555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89200">
            <a:off x="766440" y="3862080"/>
            <a:ext cx="1352520" cy="1611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461000">
            <a:off x="826920" y="2204640"/>
            <a:ext cx="1290960" cy="1555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9200">
            <a:off x="2392200" y="2030040"/>
            <a:ext cx="1285920" cy="1612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550800">
            <a:off x="2602440" y="3790080"/>
            <a:ext cx="1366560" cy="172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=v*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357720"/>
            <a:ext cx="1224000" cy="1153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1844640"/>
            <a:ext cx="122400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221000"/>
            <a:ext cx="1295280" cy="115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3357000">
            <a:off x="1188000" y="5156640"/>
            <a:ext cx="2087640" cy="648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7727000">
            <a:off x="6300720" y="5516280"/>
            <a:ext cx="2087640" cy="649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861600">
            <a:off x="3564360" y="3932640"/>
            <a:ext cx="2087640" cy="64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3068640"/>
            <a:ext cx="576360" cy="3024360"/>
          </a:xfrm>
          <a:custGeom>
            <a:avLst/>
            <a:gdLst/>
            <a:ahLst/>
            <a:rect l="l" t="t" r="r" b="b"/>
            <a:pathLst>
              <a:path w="363" h="1905">
                <a:moveTo>
                  <a:pt x="363" y="0"/>
                </a:moveTo>
                <a:cubicBezTo>
                  <a:pt x="363" y="0"/>
                  <a:pt x="181" y="952"/>
                  <a:pt x="0" y="1905"/>
                </a:cubicBezTo>
              </a:path>
            </a:pathLst>
          </a:custGeom>
          <a:noFill/>
          <a:ln w="698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5373720"/>
            <a:ext cx="216000" cy="1511280"/>
          </a:xfrm>
          <a:custGeom>
            <a:avLst/>
            <a:gdLst/>
            <a:ahLst/>
            <a:rect l="l" t="t" r="r" b="b"/>
            <a:pathLst>
              <a:path w="136" h="952">
                <a:moveTo>
                  <a:pt x="136" y="0"/>
                </a:moveTo>
                <a:cubicBezTo>
                  <a:pt x="68" y="408"/>
                  <a:pt x="0" y="816"/>
                  <a:pt x="0" y="952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rot="3087000">
            <a:off x="3989880" y="4215600"/>
            <a:ext cx="14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ид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26028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8:16:43Z</dcterms:created>
  <dc:creator>ТАТЬЯНА</dc:creator>
  <dc:description/>
  <dc:language>en-US</dc:language>
  <cp:lastModifiedBy>ТАТЬЯНА</cp:lastModifiedBy>
  <dcterms:modified xsi:type="dcterms:W3CDTF">2012-03-11T19:16:03Z</dcterms:modified>
  <cp:revision>43</cp:revision>
  <dc:subject/>
  <dc:title>Задачи на движение</dc:title>
</cp:coreProperties>
</file>