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8BB-74A3-48AC-97DA-4842C3C9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227-90BD-45DC-9B4F-A9C19720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F4B-C353-422B-8AE7-54165943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CC9-024F-48C7-98BB-DC51CE40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7307-CB72-4D4C-8ACB-40B68C70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164A-0FCC-4AAD-9D57-E98DE41A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CBC8-C691-4175-B55C-3C54834D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98C7-6D24-4F04-B70A-D4123336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DB2B-9ADE-454B-9D95-6024C501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8B17-3BDD-45DB-A783-9453B222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76D8-BAC6-452D-9A40-639684E0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047-96F2-4CF9-AB1C-A2FC2910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E45E-9521-4486-9733-D5B0E961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7A01-8A2F-4935-9756-D945BDD7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E8A0-24B2-4CCC-8B6D-D773B6A6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CE10-76B4-4B44-AE89-4F775445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93EE-20A1-4CCF-9F17-DF722F7E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F74-F22B-4AA7-A1E8-AA5A3089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23A-A1B7-4A25-A006-3D6395DB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F89-A3C7-45C8-92A7-7E894EB9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A94-C599-4CDF-A5C6-01AC0608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41A-12E4-4201-839E-17BB6AF7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AF4-8F23-4F5A-8C0D-2B683FAE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F1C-7E5A-445C-9F0D-47A493E0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EADF-D26B-4C21-8263-0A80E96B70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219D-3DF4-424A-A345-E65F6AF56E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доровый образ жизн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4" descr="Все победы начинаются с победы над самим собой"/>
          <p:cNvPicPr/>
          <p:nvPr/>
        </p:nvPicPr>
        <p:blipFill>
          <a:blip r:embed="rId1"/>
          <a:stretch/>
        </p:blipFill>
        <p:spPr>
          <a:xfrm>
            <a:off x="4932360" y="2565360"/>
            <a:ext cx="4211640" cy="4292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То, что кажется сегодня невозможным..."/>
          <p:cNvPicPr/>
          <p:nvPr/>
        </p:nvPicPr>
        <p:blipFill>
          <a:blip r:embed="rId2"/>
          <a:stretch/>
        </p:blipFill>
        <p:spPr>
          <a:xfrm>
            <a:off x="0" y="2565360"/>
            <a:ext cx="4643280" cy="4292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Что такое здоровый образ жизни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02920" y="335772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доровый образ жизни – это то, что позволяет нам, дожить до глубокой старости и, при этом, сохранить активность и крепкое здоровье. Да, именно так. В нашем организме заложен огромный запас прочности! Но, если к своему здоровью относиться пренебрежительно, этот запас может быстро иссякнуть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7238880" cy="144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Как нужно вести здоровый образ жизни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02920" y="2143080"/>
            <a:ext cx="723924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ое понятие как распорядок дня всё реже встречается в жизни современного человека, но этот фактор тоже имеет немаловажную роль в сохранении здоровья. Ритм жизни человека обязательно должен предусматривать время для труда, отдыха, сна, и еды. Человек, который не соблюдает режим дня, со временем становится раздражительным, у него накапливается переутомление, такие люди чаще подвержены стрессу и заболеваниям. К сожалению, современному человеку сложно поддерживать хороший распорядок дня, приходится жертвовать временем, отведённым на сон, принимать пищу только тогда когда на это есть время, и т. д. Правильный распорядок дня поможет не только сохранить здоровье, но и лучше организует Ваше врем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же наше здоровье зависит от хорошего сна. Достаточный сон необходим для нормальной деятельности нервной системы. Потребность во сне у разных людей может быть разная, но в среднем рекомендуется спать не менее 8 ч. Регулярное недосыпание ведёт к снижению работоспособности и сильной утомляемости. Для того чтобы Вас не мучила бессонница необходимо за 1 ч. до сна прекратить физическую или умственную работу. Последний приём пищи должен быть не позднее, чем за 2 ч. до сна. Спать лучше в хорошо проветриваемой комнате, а также желательно ложиться спать в одно и тоже врем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зическая нагрузка является одним из важнейших средств укрепления здоровья. Даже небольшая каждодневная 20-минутная гимнастика приносит огромную пользу. Гимнастика, атлетика, подвижные игры очень полезны для сердечно-сосудистой системы, лёгких, укрепления опорно-двигательного аппарата. Занятия бегом оказывают положительное влияние на нервную и эндокринную системы. Ходьба помогает избавиться от лишнего веса. Подсчитано, что за 1 час быстрой ходьбы сгорает до 35 граммов жировой ткани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faktory-zdorovja2"/>
          <p:cNvPicPr/>
          <p:nvPr/>
        </p:nvPicPr>
        <p:blipFill>
          <a:blip r:embed="rId1"/>
          <a:stretch/>
        </p:blipFill>
        <p:spPr>
          <a:xfrm>
            <a:off x="1857240" y="1214280"/>
            <a:ext cx="6929640" cy="5445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т чего зависит здоровый образ жизни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Не дай себя остановить"/>
          <p:cNvPicPr/>
          <p:nvPr/>
        </p:nvPicPr>
        <p:blipFill>
          <a:blip r:embed="rId1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Чтобы достичь успеха нужно..."/>
          <p:cNvPicPr/>
          <p:nvPr/>
        </p:nvPicPr>
        <p:blipFill>
          <a:blip r:embed="rId2"/>
          <a:stretch/>
        </p:blipFill>
        <p:spPr>
          <a:xfrm>
            <a:off x="0" y="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Не завидуйте тем, у кого от природы идеальная фигура...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3276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Трудный лишь первый шаг!"/>
          <p:cNvPicPr/>
          <p:nvPr/>
        </p:nvPicPr>
        <p:blipFill>
          <a:blip r:embed="rId4"/>
          <a:stretch/>
        </p:blipFill>
        <p:spPr>
          <a:xfrm>
            <a:off x="4788000" y="3213000"/>
            <a:ext cx="4356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1:45:20Z</dcterms:created>
  <dc:creator>атто</dc:creator>
  <dc:description/>
  <dc:language>en-US</dc:language>
  <cp:lastModifiedBy>Bill Gates</cp:lastModifiedBy>
  <dcterms:modified xsi:type="dcterms:W3CDTF">2013-03-28T17:54:11Z</dcterms:modified>
  <cp:revision>4</cp:revision>
  <dc:subject/>
  <dc:title>Здоровый образ жизни.</dc:title>
</cp:coreProperties>
</file>