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EF6-FF9E-4BA8-9075-CB3844E6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A92-0EA0-4309-9CE5-5459AFE3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7E0-0B49-4B5F-9004-080878A9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387-E7D2-46B2-B9C7-4FF1D186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893-E9F9-4F1A-B6CA-76AC5A12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7283-5548-4A27-94B4-5FF5B684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098-2E62-49CB-B691-93F2093A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FCE6-C52E-4453-894C-8723436A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C795-6421-477D-90DA-1435F27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0FB2-4749-43A0-825E-62BF6C5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5E74-FE74-48FB-9F7C-EC1B934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363-8C8D-4BC2-AA70-6EDC729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1548-B969-412C-85B8-99D70234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A23C-E8F4-4FF4-BE8D-5A673592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D7E9-2729-493E-B3AC-9DEA691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6541-E5A0-434C-946E-79F3CDCE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3AD-A57D-4034-B614-94CA6336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A59-DF62-40B7-983B-DE29DFC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BEF-9B3F-48F5-920C-1844575F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94C-C91D-4AF9-BDFD-001ED03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6F4-B4B8-4259-BE52-DC1A33F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A1E-FDD6-467E-97E0-3CBF7C47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B0B-97E8-4916-9293-56EED73A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628-0C09-48FE-9E3F-FC75057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C120-B169-4B6F-BA77-1B2AE92485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8B3-288C-43D7-A450-62DCF53656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доровый образ жизн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4" descr="Все победы начинаются с победы над самим собой"/>
          <p:cNvPicPr/>
          <p:nvPr/>
        </p:nvPicPr>
        <p:blipFill>
          <a:blip r:embed="rId1"/>
          <a:stretch/>
        </p:blipFill>
        <p:spPr>
          <a:xfrm>
            <a:off x="4932360" y="2565360"/>
            <a:ext cx="4211640" cy="429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То, что кажется сегодня невозможным..."/>
          <p:cNvPicPr/>
          <p:nvPr/>
        </p:nvPicPr>
        <p:blipFill>
          <a:blip r:embed="rId2"/>
          <a:stretch/>
        </p:blipFill>
        <p:spPr>
          <a:xfrm>
            <a:off x="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Что такое здоровый образ жизни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2920" y="33577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доровый образ жизни – это то, что позволяет нам, дожить до глубокой старости и, при этом, сохранить активность и крепкое здоровье. Да, именно так. В нашем организме заложен огромный запас прочности! Но, если к своему здоровью относиться пренебрежительно, этот запас может быстро иссякнуть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ак нужно вести здоровый образ жизни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2920" y="2143080"/>
            <a:ext cx="72392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ое понятие как распорядок дня всё реже встречается в жизни современного человека, но этот фактор тоже имеет немаловажную роль в сохранении здоровья. Ритм жизни человека обязательно должен предусматривать время для труда, отдыха, сна, и еды. Человек, который не соблюдает режим дня, со временем становится раздражительным, у него накапливается переутомление, такие люди чаще подвержены стрессу и заболеваниям. К сожалению, современному человеку сложно поддерживать хороший распорядок дня, приходится жертвовать временем, отведённым на сон, принимать пищу только тогда когда на это есть время, и т. д. Правильный распорядок дня поможет не только сохранить здоровье, но и лучше организует Ваше врем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же наше здоровье зависит от хорошего сна. Достаточный сон необходим для нормальной деятельности нервной системы. Потребность во сне у разных людей может быть разная, но в среднем рекомендуется спать не менее 8 ч. Регулярное недосыпание ведёт к снижению работоспособности и сильной утомляемости. Для того чтобы Вас не мучила бессонница необходимо за 1 ч. до сна прекратить физическую или умственную работу. Последний приём пищи должен быть не позднее, чем за 2 ч. до сна. Спать лучше в хорошо проветриваемой комнате, а также желательно ложиться спать в одно и тоже врем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ая нагрузка является одним из важнейших средств укрепления здоровья. Даже небольшая каждодневная 20-минутная гимнастика приносит огромную пользу. Гимнастика, атлетика, подвижные игры очень полезны для сердечно-сосудистой системы, лёгких, укрепления опорно-двигательного аппарата. Занятия бегом оказывают положительное влияние на нервную и эндокринную системы. Ходьба помогает избавиться от лишнего веса. Подсчитано, что за 1 час быстрой ходьбы сгорает до 35 граммов жировой ткан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faktory-zdorovja2"/>
          <p:cNvPicPr/>
          <p:nvPr/>
        </p:nvPicPr>
        <p:blipFill>
          <a:blip r:embed="rId1"/>
          <a:stretch/>
        </p:blipFill>
        <p:spPr>
          <a:xfrm>
            <a:off x="1857240" y="1214280"/>
            <a:ext cx="6929640" cy="5445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т чего зависит здоровый образ жизн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Не дай себя остановить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Чтобы достичь успеха нужно..."/>
          <p:cNvPicPr/>
          <p:nvPr/>
        </p:nvPicPr>
        <p:blipFill>
          <a:blip r:embed="rId2"/>
          <a:stretch/>
        </p:blipFill>
        <p:spPr>
          <a:xfrm>
            <a:off x="0" y="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Не завидуйте тем, у кого от природы идеальная фигура...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27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Трудный лишь первый шаг!"/>
          <p:cNvPicPr/>
          <p:nvPr/>
        </p:nvPicPr>
        <p:blipFill>
          <a:blip r:embed="rId4"/>
          <a:stretch/>
        </p:blipFill>
        <p:spPr>
          <a:xfrm>
            <a:off x="4788000" y="3213000"/>
            <a:ext cx="4356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1:45:20Z</dcterms:created>
  <dc:creator>атто</dc:creator>
  <dc:description/>
  <dc:language>en-US</dc:language>
  <cp:lastModifiedBy>Bill Gates</cp:lastModifiedBy>
  <dcterms:modified xsi:type="dcterms:W3CDTF">2013-03-28T17:54:11Z</dcterms:modified>
  <cp:revision>4</cp:revision>
  <dc:subject/>
  <dc:title>Здоровый образ жизни.</dc:title>
</cp:coreProperties>
</file>