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3A3-3F31-4451-B817-C27BFC31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D266-A2A1-4420-A0F8-BE405E06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C963-AF87-42A7-8CA6-8D64D10E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4CAE-0197-4EBF-8300-05703C21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9027-0250-4668-91E4-2E69CCD5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ACF8-8C17-4997-9BA1-B0F54769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7DFC-EB2C-4A10-BF16-B8851A31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DC0F-D449-4A54-9D7B-7C687BF2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E4AF-1245-48FD-A8BD-354C3FA8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5A51-002F-4FA2-9AFB-42152839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AF6E-5C54-4BE9-BDCF-61CAB3F2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A411-653E-4EC2-9CFA-AD2C33C3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B265-489B-43FD-A9AD-FE2A79CE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05EE-44B5-4BEB-A7C8-32BD44D2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6DED-8A36-4CAC-B945-806FB0E2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BD1F-D122-419E-AFBA-114C5801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49FD-F478-4ECB-AE91-3C6825F8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2DAD1-4DC9-42BF-BFED-9FF4C151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102BB-F201-4E74-B79B-70D28039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A3633-49AE-4787-A35E-C2B7D47F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48E9D-3825-446C-A7AF-B511E908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1C028-E96D-4BDD-AF22-21634108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BB4-14FB-4FB8-9589-BF13FFAF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854A8-5227-494C-9F81-285C7387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469B0-E393-4037-A0CB-20B38C4D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A551E-21FE-4862-A08B-9BD7F4B8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BC91B-BDA0-4CCE-B1B1-BF156980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94478-9CF0-4C94-80AA-B9C5A599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C7944-8F47-4B31-9037-F0BAEB00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17EF4-8A21-45CB-8E7F-75E5FD49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1C7AD-2E09-425D-9EE9-77B94CC1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DB545-C0A0-4A5D-935D-CE286D13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225C9-A149-4CC1-8B0C-278F2091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350-EF2F-4C45-B191-269FEB9F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8FC77-5F08-4C3F-AA82-A48B59A8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D3481-1647-4D65-A698-988E21D3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BE2D1-4E38-4257-B939-29EEF5C1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2CE50-DC0D-4D63-8FB8-B222035B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3A56C-21E8-4E96-9F9C-2981124B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4B2DC-F8EA-4F60-817A-C27D86DF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1FF15-FD91-46BD-BE1D-68ED4C93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87E2F-EA0F-40AE-98FD-71723FF4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F93F3-66CB-4454-99DB-BCC81E2A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6E59F-90EC-441F-8837-57687A4F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8A95-2E7A-49E2-89FB-3AA91E67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3F93C-954B-4F17-BCA3-EDD8F800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89D97-8748-4289-AF91-7025E070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49A9D-CFC0-4C73-ADD6-CC333595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C9DFA-28BD-4FA8-A234-A96117BF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AB4C6-17DE-49A9-928E-CD61E3CE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4AC76-0F2A-4B46-A184-4C4E84C6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5632A-CBBD-4647-AA5F-6C996D00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33A68-8401-476E-A420-BE68206E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A09EC-924F-4035-B012-4F709EA6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0FC09-E44A-4978-8B81-36E6BA06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509-E1D7-410D-8240-CD10649F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AC199-CEB2-4CE3-B742-82208031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606-EA7C-4E80-B498-A9B2B8F2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33C-555D-4CFD-81E0-26FE00E6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271-01BE-4E66-A9ED-5146CF36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47C7-E775-4BE0-8D6C-847690101FB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B294-AE85-49BC-AD11-73AF7B98DAE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23F4-E06E-4543-902E-BF066E52C4C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A654-411E-4017-A31B-4963B8182FC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346F-D0A2-4EAB-AA61-C1FFCD3941E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Живой уголок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2 класса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895120" y="3504960"/>
            <a:ext cx="5599080" cy="28191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Классный руководите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766f"/>
                </a:solidFill>
                <a:latin typeface="Verdana"/>
              </a:rPr>
              <a:t>ТЕРЕХОВА ТАТЬЯНА ИВАН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ГБОУ РТ Школа-интернат для детей-сирот и детей, оставшихся без попечения родителей, г. Кызы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2012-2013 учебный го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Users\Татьяна Ивановна\Desktop\ЖИВОЙ УГОЛОК\Улитка\Новая папка\PICT3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838080" y="6094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 любит Маркиза куп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Users\Татьяна Ивановна\Desktop\ЖИВОЙ УГОЛОК\Улитка\Новая папка\PICT31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914400" y="380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купавшись, она вылезает из своей ван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Users\Татьяна Ивановна\Desktop\ЖИВОЙ УГОЛОК\Улитка\Новая папка\PICT3290.JPG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"/>
          <p:cNvSpPr/>
          <p:nvPr/>
        </p:nvSpPr>
        <p:spPr>
          <a:xfrm>
            <a:off x="533520" y="533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льше всего она любит принимать вот такой ду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C:\Users\Татьяна Ивановна\Desktop\ЖИВОЙ УГОЛОК\Улитка\Новая папка\PICT32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2"/>
          <p:cNvSpPr/>
          <p:nvPr/>
        </p:nvSpPr>
        <p:spPr>
          <a:xfrm>
            <a:off x="3352680" y="6858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Т КАКАЯ ЧИСТЕНЬКА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:\Users\Татьяна Ивановна\Desktop\ЖИВОЙ УГОЛОК\Улитка\Новая папка\PICT32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C:\Users\Татьяна Ивановна\Desktop\ЖИВОЙ УГОЛОК\Улитка\Новая папка\PICT32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C:\Users\Татьяна Ивановна\Desktop\ЖИВОЙ УГОЛОК\Улитка\Новая папка\PICT3242.JPG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2"/>
          <p:cNvSpPr/>
          <p:nvPr/>
        </p:nvSpPr>
        <p:spPr>
          <a:xfrm>
            <a:off x="380880" y="5335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Ммаркизы появились яй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Татьяна Ивановна\Desktop\ЖИВОЙ УГОЛОК\Улитка\Улитка 1\PICT31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C:\Users\Татьяна Ивановна\Desktop\ЖИВОЙ УГОЛОК\Улитка\Улитка 1\PICT31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:\Users\Татьяна Ивановна\Desktop\ЖИВОЙ УГОЛОК\Улитка\Улитка 1\PICT31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2"/>
          <p:cNvSpPr/>
          <p:nvPr/>
        </p:nvSpPr>
        <p:spPr>
          <a:xfrm>
            <a:off x="914400" y="6172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меряем объ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33520" y="5943240"/>
            <a:ext cx="8183520" cy="42084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5c00"/>
                </a:solidFill>
                <a:latin typeface="Verdana"/>
              </a:rPr>
              <a:t>В конце сентября нам в класс принесли улитку Ахатин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2" descr="C:\Users\Татьяна Ивановна\Desktop\ЖИВОЙ УГОЛОК\Улитка\Новая папка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C:\Users\Татьяна Ивановна\Desktop\ЖИВОЙ УГОЛОК\Улитка\Улитка 1\PICT3134.JPG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2"/>
          <p:cNvSpPr/>
          <p:nvPr/>
        </p:nvSpPr>
        <p:spPr>
          <a:xfrm>
            <a:off x="609480" y="6019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меряем дл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C:\Users\Татьяна Ивановна\Desktop\2 класс\Фото 2 класса\100KM026\PICT33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304920" y="4572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лина Ирина подготовила и выступила на конференции с научной работой о нашей Марки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C:\Users\Татьяна Ивановна\Desktop\ЖИВОЙ УГОЛОК\Улитка\Новая папка\PICT31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2"/>
          <p:cNvSpPr/>
          <p:nvPr/>
        </p:nvSpPr>
        <p:spPr>
          <a:xfrm>
            <a:off x="609480" y="56386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ещё у нас ест ёжик Фунт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:\Users\Татьяна Ивановна\Desktop\ЖИВОЙ УГОЛОК\Улитка\Новая папка\PICT31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"/>
          <p:cNvSpPr/>
          <p:nvPr/>
        </p:nvSpPr>
        <p:spPr>
          <a:xfrm>
            <a:off x="685800" y="54100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ухаживаем за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C:\Users\Татьяна Ивановна\Desktop\ЖИВОЙ УГОЛОК\Улитка\Новая папка\PICT31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0" y="3049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мим его мясом, каш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декабря он впал в спя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Users\Татьяна Ивановна\Desktop\ЖИВОЙ УГОЛОК\Улитка\Новая папка\PICT33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2"/>
          <p:cNvSpPr/>
          <p:nvPr/>
        </p:nvSpPr>
        <p:spPr>
          <a:xfrm>
            <a:off x="380880" y="533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это наша черепашка Торт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C:\Users\Татьяна Ивановна\Desktop\ЖИВОЙ УГОЛОК\Улитка\Новая папка\PICT33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2"/>
          <p:cNvSpPr/>
          <p:nvPr/>
        </p:nvSpPr>
        <p:spPr>
          <a:xfrm>
            <a:off x="68580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неё также сделали террари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:\Users\Татьяна Ивановна\Desktop\ЖИВОЙ УГОЛОК\ЧЕРЕПАХА\PICT11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TextBox 2"/>
          <p:cNvSpPr/>
          <p:nvPr/>
        </p:nvSpPr>
        <p:spPr>
          <a:xfrm>
            <a:off x="685800" y="3808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ртила – среднеазиатская сухопутная черепа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C:\Users\Татьяна Ивановна\Desktop\ЖИВОЙ УГОЛОК\ЧЕРЕПАХА\PICT11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2"/>
          <p:cNvSpPr/>
          <p:nvPr/>
        </p:nvSpPr>
        <p:spPr>
          <a:xfrm>
            <a:off x="609480" y="380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ы ухаживаем за ней, наблюдаем и ведем запи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Татьяна Ивановна\Desktop\ЖИВОЙ УГОЛОК\ЧЕРЕПАХА\PICT33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2"/>
          <p:cNvSpPr/>
          <p:nvPr/>
        </p:nvSpPr>
        <p:spPr>
          <a:xfrm>
            <a:off x="914400" y="5181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епаха – очень интересное живот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Users\Татьяна Ивановна\Desktop\ЖИВОЙ УГОЛОК\Улитка\Улитка 1\PICT31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380880" y="601992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азу сделали для нее жилице - террари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C:\Users\Татьяна Ивановна\Desktop\2 класс\Фото 2 класса\100KM026\PICT33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"/>
          <p:cNvSpPr/>
          <p:nvPr/>
        </p:nvSpPr>
        <p:spPr>
          <a:xfrm>
            <a:off x="762120" y="6094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о всех своих наблюдениях мы  рассказали на школьной конфере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C:\Users\Татьяна Ивановна\Desktop\ЖИВОЙ УГОЛОК\Улитка\Новая папка\3.JPG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685800" y="533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день кормим её. Особенно наша улитка любит огурцы и помид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Users\Татьяна Ивановна\Desktop\ЖИВОЙ УГОЛОК\Улитка\Новая папка\PICT30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"/>
          <p:cNvSpPr/>
          <p:nvPr/>
        </p:nvSpPr>
        <p:spPr>
          <a:xfrm>
            <a:off x="990720" y="6094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террариуме должно быть всегда вла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Users\Татьяна Ивановна\Desktop\ЖИВОЙ УГОЛОК\Улитка\Новая папка\PICT307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838080" y="685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брызгиваем стенки террариума в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C:\Users\Татьяна Ивановна\Desktop\ЖИВОЙ УГОЛОК\Улитка\Новая папка\PICT30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838080" y="5335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о каждый день чистить террари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Users\Татьяна Ивановна\Desktop\ЖИВОЙ УГОЛОК\Улитка\Новая папка\PICT31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457200" y="533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едим за весом улитки. Дали ей имя – Марки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Татьяна Ивановна\Desktop\ЖИВОЙ УГОЛОК\Улитка\Новая папка\PICT31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60948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кизе нравятся все процед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2:28:22Z</dcterms:created>
  <dc:creator>Татьяна Ивановна</dc:creator>
  <dc:description/>
  <dc:language>en-US</dc:language>
  <cp:lastModifiedBy>Татьяна Ивановна</cp:lastModifiedBy>
  <dcterms:modified xsi:type="dcterms:W3CDTF">2013-03-28T14:27:3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