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8A1C-9325-463F-B098-72E7C3465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9B74-0450-47CB-9BF2-3401C400E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E915-F07B-4F35-86CE-255238EAD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1D03-4DDC-4507-A787-235AE0C56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5E572-45CE-4B5A-B09D-C5C27F754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D38F7-080D-4B63-AB5F-E2195CCB8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05440-C5EF-4FFF-A117-CAD748932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BEC20-C42D-471D-9F8F-7201BE35B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ED320-BB7A-46DE-89CD-13E7C6773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3A63C-9196-4EC1-9AE8-D087A7287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32A62-36E3-44AC-96F3-D1DF1345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DFFB-E8AE-4B52-87B9-F19357684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939CC-D458-4598-B073-332ECC69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B9C47-FC67-4698-8EE5-B354CEAA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31B9C-BA9E-4B82-9385-5FD578032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37A73-69A9-4AFC-B8F8-19C4583B7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7D49A-714B-45F8-8C94-06A05FF99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87A5D-F8C1-4E56-8B1D-8879DECED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F50D9-AFE9-44F8-9282-3B3DEB64F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9F920-7A98-4506-84B9-F6D61208C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B7E66-3F28-499D-92C7-22182543C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84AAA-31AD-4D98-9B74-656617A4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1D73-B74A-441D-9F59-1B4BCD287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E8199-AD1D-4ED5-857E-3C5B7D489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9DE67-615E-4966-8FBD-815D083C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A8859-CF22-4953-9B44-ADEF5175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DF68D-8A87-4C56-9522-101F6B5C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5A131-F221-47ED-81D2-53F747EF5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7B87C-C054-4DE2-A0E8-212DFBC67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21931-9117-407C-A57D-125FEC0C0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3DE94-7B91-42D3-B375-BA0191CEC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22F08-0DED-43E4-A210-0C35E048A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711E2-7089-4BB1-85C6-65A8F5534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23B8-8D46-427C-B05F-8F9FF3F86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6925F-54D3-49E0-A4AE-1C85836B3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B46D3-FD19-4D52-8582-940A4FDA4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55657-997B-494E-B4DA-75B3715A5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A6CB3-6611-4DF8-B940-50D194CF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52575-6F8D-4638-B08A-0EEEEBD9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DA4F8-89E4-4932-A22A-EFFCCD67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2FD85-E3B0-4F43-B043-C5F95CDAC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B1661-4A93-43A1-BA0E-162807056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6EE32-7FC3-441A-87FA-9F40EA6D7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77898-3082-4A22-86FA-E3AE82B0A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75EE-BD92-4AD8-8834-291F4288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4D40F1-5C5F-47DB-B703-2AFBDF67A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0BD34-3A1B-4E74-9720-DB3D95A4B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DA2D5-ACF1-45E8-86A1-29286B61F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EADD3-6091-431C-A5C1-E708D5C70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41ACC-16ED-4815-A6E3-45BF61BDE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76ADE-4728-407C-9749-685C732B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C79D7-DB97-4D5C-82B2-16B36A3E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04813-761F-4830-9999-95A22022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B1C18-5A62-4B3C-AF0C-B3BF62FBA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1FAB8-E60D-4B42-8E79-0E5B5128C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4A18-0F12-4169-9ECC-2C95EBBB3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52097-AAB9-4C09-87F2-33455E466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5D98-64FD-4138-8D63-13073AC1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1087-B04A-42A7-9ABD-44D91EC2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DD2D-4A9B-4FFD-9F6D-320E69C3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091E4-B774-4BC8-83A3-018AB913ADD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0CDF2-D3BE-46D5-ACE7-2A37E784060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06B2B-7FA6-42FF-93DF-7AD00E75C33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83148-5A55-4365-81D2-AD7F0BFAA5D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C225F-9232-481F-A420-818B4DBF2DA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Живой уголок</a:t>
            </a:r>
            <a:br>
              <a:rPr sz="4500"/>
            </a:b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2 класса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2895120" y="3504960"/>
            <a:ext cx="5599080" cy="281916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Классный руководител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9766f"/>
                </a:solidFill>
                <a:latin typeface="Verdana"/>
              </a:rPr>
              <a:t>ТЕРЕХОВА ТАТЬЯНА ИВАНОВ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ГБОУ РТ Школа-интернат для детей-сирот и детей, оставшихся без попечения родителей, г. Кызыл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2012-2013 учебный год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C:\Users\Татьяна Ивановна\Desktop\ЖИВОЙ УГОЛОК\Улитка\Новая папка\PICT315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TextBox 2"/>
          <p:cNvSpPr/>
          <p:nvPr/>
        </p:nvSpPr>
        <p:spPr>
          <a:xfrm>
            <a:off x="838080" y="6094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обенно любит Маркиза купа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C:\Users\Татьяна Ивановна\Desktop\ЖИВОЙ УГОЛОК\Улитка\Новая папка\PICT316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TextBox 2"/>
          <p:cNvSpPr/>
          <p:nvPr/>
        </p:nvSpPr>
        <p:spPr>
          <a:xfrm>
            <a:off x="914400" y="3808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купавшись, она вылезает из своей ван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C:\Users\Татьяна Ивановна\Desktop\ЖИВОЙ УГОЛОК\Улитка\Новая папка\PICT3290.JPG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TextBox 2"/>
          <p:cNvSpPr/>
          <p:nvPr/>
        </p:nvSpPr>
        <p:spPr>
          <a:xfrm>
            <a:off x="533520" y="5335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ольше всего она любит принимать вот такой душ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C:\Users\Татьяна Ивановна\Desktop\ЖИВОЙ УГОЛОК\Улитка\Новая папка\PICT329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5" name="TextBox 2"/>
          <p:cNvSpPr/>
          <p:nvPr/>
        </p:nvSpPr>
        <p:spPr>
          <a:xfrm>
            <a:off x="3352680" y="68580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Т КАКАЯ ЧИСТЕНЬКА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C:\Users\Татьяна Ивановна\Desktop\ЖИВОЙ УГОЛОК\Улитка\Новая папка\PICT32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C:\Users\Татьяна Ивановна\Desktop\ЖИВОЙ УГОЛОК\Улитка\Новая папка\PICT320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C:\Users\Татьяна Ивановна\Desktop\ЖИВОЙ УГОЛОК\Улитка\Новая папка\PICT3242.JPG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9" name="TextBox 2"/>
          <p:cNvSpPr/>
          <p:nvPr/>
        </p:nvSpPr>
        <p:spPr>
          <a:xfrm>
            <a:off x="380880" y="53352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 Ммаркизы появились яй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C:\Users\Татьяна Ивановна\Desktop\ЖИВОЙ УГОЛОК\Улитка\Улитка 1\PICT312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C:\Users\Татьяна Ивановна\Desktop\ЖИВОЙ УГОЛОК\Улитка\Улитка 1\PICT313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C:\Users\Татьяна Ивановна\Desktop\ЖИВОЙ УГОЛОК\Улитка\Улитка 1\PICT313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TextBox 2"/>
          <p:cNvSpPr/>
          <p:nvPr/>
        </p:nvSpPr>
        <p:spPr>
          <a:xfrm>
            <a:off x="914400" y="61722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змеряем объё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533520" y="5943240"/>
            <a:ext cx="8183520" cy="420840"/>
          </a:xfrm>
          <a:prstGeom prst="rect">
            <a:avLst/>
          </a:prstGeom>
          <a:noFill/>
          <a:ln w="0">
            <a:noFill/>
          </a:ln>
        </p:spPr>
        <p:txBody>
          <a:bodyPr lIns="118800" t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95c00"/>
                </a:solidFill>
                <a:latin typeface="Verdana"/>
              </a:rPr>
              <a:t>В конце сентября нам в класс принесли улитку Ахатин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2" descr="C:\Users\Татьяна Ивановна\Desktop\ЖИВОЙ УГОЛОК\Улитка\Новая папка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C:\Users\Татьяна Ивановна\Desktop\ЖИВОЙ УГОЛОК\Улитка\Улитка 1\PICT3134.JPG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5" name="TextBox 2"/>
          <p:cNvSpPr/>
          <p:nvPr/>
        </p:nvSpPr>
        <p:spPr>
          <a:xfrm>
            <a:off x="609480" y="60199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змеряем дли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C:\Users\Татьяна Ивановна\Desktop\2 класс\Фото 2 класса\100KM026\PICT337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TextBox 2"/>
          <p:cNvSpPr/>
          <p:nvPr/>
        </p:nvSpPr>
        <p:spPr>
          <a:xfrm>
            <a:off x="304920" y="4572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елина Ирина подготовила и выступила на конференции с научной работой о нашей Маркиз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C:\Users\Татьяна Ивановна\Desktop\ЖИВОЙ УГОЛОК\Улитка\Новая папка\PICT31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TextBox 2"/>
          <p:cNvSpPr/>
          <p:nvPr/>
        </p:nvSpPr>
        <p:spPr>
          <a:xfrm>
            <a:off x="609480" y="563868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 ещё у нас ест ёжик Фунт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C:\Users\Татьяна Ивановна\Desktop\ЖИВОЙ УГОЛОК\Улитка\Новая папка\PICT314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1" name="TextBox 2"/>
          <p:cNvSpPr/>
          <p:nvPr/>
        </p:nvSpPr>
        <p:spPr>
          <a:xfrm>
            <a:off x="685800" y="54100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ы ухаживаем за н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C:\Users\Татьяна Ивановна\Desktop\ЖИВОЙ УГОЛОК\Улитка\Новая папка\PICT315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3" name="TextBox 2"/>
          <p:cNvSpPr/>
          <p:nvPr/>
        </p:nvSpPr>
        <p:spPr>
          <a:xfrm>
            <a:off x="0" y="30492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рмим его мясом, каш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 декабря он впал в спяч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C:\Users\Татьяна Ивановна\Desktop\ЖИВОЙ УГОЛОК\Улитка\Новая папка\PICT33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5" name="TextBox 2"/>
          <p:cNvSpPr/>
          <p:nvPr/>
        </p:nvSpPr>
        <p:spPr>
          <a:xfrm>
            <a:off x="380880" y="5335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 это наша черепашка Торти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C:\Users\Татьяна Ивановна\Desktop\ЖИВОЙ УГОЛОК\Улитка\Новая папка\PICT330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TextBox 2"/>
          <p:cNvSpPr/>
          <p:nvPr/>
        </p:nvSpPr>
        <p:spPr>
          <a:xfrm>
            <a:off x="685800" y="3808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ля неё также сделали террариу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C:\Users\Татьяна Ивановна\Desktop\ЖИВОЙ УГОЛОК\ЧЕРЕПАХА\PICT117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9" name="TextBox 2"/>
          <p:cNvSpPr/>
          <p:nvPr/>
        </p:nvSpPr>
        <p:spPr>
          <a:xfrm>
            <a:off x="685800" y="3808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ортила – среднеазиатская сухопутная черепа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C:\Users\Татьяна Ивановна\Desktop\ЖИВОЙ УГОЛОК\ЧЕРЕПАХА\PICT117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1" name="TextBox 2"/>
          <p:cNvSpPr/>
          <p:nvPr/>
        </p:nvSpPr>
        <p:spPr>
          <a:xfrm>
            <a:off x="609480" y="3808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ы ухаживаем за ней, наблюдаем и ведем запис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C:\Users\Татьяна Ивановна\Desktop\ЖИВОЙ УГОЛОК\ЧЕРЕПАХА\PICT333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3" name="TextBox 2"/>
          <p:cNvSpPr/>
          <p:nvPr/>
        </p:nvSpPr>
        <p:spPr>
          <a:xfrm>
            <a:off x="914400" y="51814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репаха – очень интересное живот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C:\Users\Татьяна Ивановна\Desktop\ЖИВОЙ УГОЛОК\Улитка\Улитка 1\PICT31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TextBox 2"/>
          <p:cNvSpPr/>
          <p:nvPr/>
        </p:nvSpPr>
        <p:spPr>
          <a:xfrm>
            <a:off x="380880" y="6019920"/>
            <a:ext cx="65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разу сделали для нее жилице - террариу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C:\Users\Татьяна Ивановна\Desktop\2 класс\Фото 2 класса\100KM026\PICT337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5" name="TextBox 2"/>
          <p:cNvSpPr/>
          <p:nvPr/>
        </p:nvSpPr>
        <p:spPr>
          <a:xfrm>
            <a:off x="762120" y="60948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о всех своих наблюдениях мы  рассказали на школьной конферен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C:\Users\Татьяна Ивановна\Desktop\ЖИВОЙ УГОЛОК\Улитка\Новая папка\3.JPG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TextBox 2"/>
          <p:cNvSpPr/>
          <p:nvPr/>
        </p:nvSpPr>
        <p:spPr>
          <a:xfrm>
            <a:off x="685800" y="5335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ждый день кормим её. Особенно наша улитка любит огурцы и помидо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C:\Users\Татьяна Ивановна\Desktop\ЖИВОЙ УГОЛОК\Улитка\Новая папка\PICT307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TextBox 2"/>
          <p:cNvSpPr/>
          <p:nvPr/>
        </p:nvSpPr>
        <p:spPr>
          <a:xfrm>
            <a:off x="990720" y="6094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террариуме должно быть всегда влаж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C:\Users\Татьяна Ивановна\Desktop\ЖИВОЙ УГОЛОК\Улитка\Новая папка\PICT307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TextBox 2"/>
          <p:cNvSpPr/>
          <p:nvPr/>
        </p:nvSpPr>
        <p:spPr>
          <a:xfrm>
            <a:off x="838080" y="6858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брызгиваем стенки террариума вод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C:\Users\Татьяна Ивановна\Desktop\ЖИВОЙ УГОЛОК\Улитка\Новая папка\PICT307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TextBox 2"/>
          <p:cNvSpPr/>
          <p:nvPr/>
        </p:nvSpPr>
        <p:spPr>
          <a:xfrm>
            <a:off x="838080" y="53352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обходимо каждый день чистить террариу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C:\Users\Татьяна Ивановна\Desktop\ЖИВОЙ УГОЛОК\Улитка\Новая папка\PICT31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TextBox 2"/>
          <p:cNvSpPr/>
          <p:nvPr/>
        </p:nvSpPr>
        <p:spPr>
          <a:xfrm>
            <a:off x="457200" y="5335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ледим за весом улитки. Дали ей имя – Марки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C:\Users\Татьяна Ивановна\Desktop\ЖИВОЙ УГОЛОК\Улитка\Новая папка\PICT311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7" name="TextBox 2"/>
          <p:cNvSpPr/>
          <p:nvPr/>
        </p:nvSpPr>
        <p:spPr>
          <a:xfrm>
            <a:off x="609480" y="4572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ркизе нравятся все процед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8T12:28:22Z</dcterms:created>
  <dc:creator>Татьяна Ивановна</dc:creator>
  <dc:description/>
  <dc:language>en-US</dc:language>
  <cp:lastModifiedBy>Татьяна Ивановна</cp:lastModifiedBy>
  <dcterms:modified xsi:type="dcterms:W3CDTF">2013-03-28T14:27:39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