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image6.jpeg" ContentType="image/jpeg"/>
  <Override PartName="/ppt/media/%D0%B7%D1%8F%D0%B1%D0%BB%D0%B8%D0%BA.wav" ContentType="audio/x-wav"/>
  <Override PartName="/ppt/media/%D0%B4%D1%8F%D1%82%D0%B5%D0%BB.wav" ContentType="audio/x-wav"/>
  <Override PartName="/ppt/media/image4.jpeg" ContentType="image/jpeg"/>
  <Override PartName="/ppt/media/image2.png" ContentType="image/png"/>
  <Override PartName="/ppt/media/%D0%BC%D0%BE%D1%81%D0%BA%D0%BE%D0%B2%D0%BA%D0%B0.wav" ContentType="audio/x-wav"/>
  <Override PartName="/ppt/media/image3.jpeg" ContentType="image/jpeg"/>
  <Override PartName="/ppt/media/%D1%89%D0%B5%D0%B3%D0%BE%D0%BB.wav" ContentType="audio/x-wav"/>
  <Override PartName="/ppt/media/%D1%81%D0%BE%D0%B9%D0%BA%D0%B0.wav" ContentType="audio/x-wav"/>
  <Override PartName="/ppt/media/image5.jpeg" ContentType="image/jpeg"/>
  <Override PartName="/ppt/media/%D0%BF%D0%BE%D0%BF%D0%BE%D0%BB%D0%B7%D0%B5%D0%BD%D1%8C.wav" ContentType="audio/x-wav"/>
  <Override PartName="/ppt/media/%D1%85%D0%BE%D1%85%20%D1%81%D0%B8%D0%BD.wav" ContentType="audio/x-wav"/>
  <Override PartName="/ppt/media/image1.jpeg" ContentType="image/jpeg"/>
  <Override PartName="/ppt/media/%D0%B1%D1%81%D0%B8%D0%BD%D0%B8%D1%86%D0%B0.wav" ContentType="audio/x-wav"/>
  <Override PartName="/ppt/media/image11.jpeg" ContentType="image/jpeg"/>
  <Override PartName="/ppt/media/image9.jpeg" ContentType="image/jpeg"/>
  <Override PartName="/ppt/media/%D0%B1%D0%B4%D1%8F%D1%82%D0%B5%D0%BB.wav" ContentType="audio/x-wav"/>
  <Override PartName="/ppt/media/image10.jpeg" ContentType="image/jpeg"/>
  <Override PartName="/ppt/media/%D0%B2%D0%BE%D1%80.wav" ContentType="audio/x-wav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CAE-6B9A-4AB4-9A78-E3FF16AC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474-3FFC-4D13-9A33-40AACA2A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3C3-66D4-407A-B1A6-DF99BCB2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CDC-B67F-463F-BAB5-0A3671BF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C299-43F5-4B4D-A7C8-8A7CBBD3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CAA7-0BC6-419D-A768-CEEEFA6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5251-C0AC-439C-821C-E9A96E32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6EB5-E7DC-4977-82E3-E8C752F8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9798-DE01-4411-8D2C-9A066D84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8332-3C9F-42F6-ADA9-263C174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1DE3-FB7C-47C5-AF1A-49AF3FAC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F16-B034-4846-A825-14862A7B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F3C0-B471-463C-9089-44855DF4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E6EA-748E-4A44-B32F-4387DFC0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B39F-0CB3-40BE-9262-BC59CE3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3E9E-0E31-4287-ADD5-06C9BA7E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7554-0CE2-4398-A035-E2F39F09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ADC-9467-414E-9B24-86C4644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3C3-DC6B-4FAE-B7C3-49C8E543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6C4-DBA1-40A5-BD43-BB1D42DD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306-DBFA-4A51-9854-3D90C841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FB0-5E2F-4AC2-AC92-25A3D8AB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F52-4F4C-45F1-A5AF-A329A98E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3A4-5F7B-4C35-8932-8ECB225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89DE-0E15-4EA2-9BC3-3FB149154B69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ED1F-A88A-42A2-98B8-821B14C24699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&#1093;&#1086;&#1093;%20&#1089;&#1080;&#1085;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54;&#1087;&#1077;&#1088;&#1077;&#1085;&#1080;&#1077;_(&#1073;&#1080;&#1086;&#1083;&#1086;&#1075;&#1080;&#1103;)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&#1087;&#1086;&#1087;&#1086;&#1083;&#1079;&#1077;&#1085;&#1100;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&#1056;&#1099;&#1078;&#1080;&#1081;_&#1094;&#1074;&#1077;&#1090;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&#1089;&#1086;&#1081;&#1082;&#1072;.wav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audio" Target="../media/&#1097;&#1077;&#1075;&#1086;&#1083;.wav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&#1074;&#1086;&#1088;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&#1073;&#1076;&#1103;&#1090;&#1077;&#1083;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&#1076;&#1103;&#1090;&#1077;&#1083;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55;&#1090;&#1080;&#1095;&#1100;&#1077;_&#1082;&#1088;&#1099;&#1083;&#1086;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&#1079;&#1103;&#1073;&#1083;&#1080;&#1082;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&#1073;&#1089;&#1080;&#1085;&#1080;&#1094;&#1072;.wav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1;&#1086;&#1083;&#1100;&#1096;&#1072;&#1103;_&#1089;&#1080;&#1085;&#1080;&#1094;&#1072;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&#1084;&#1086;&#1089;&#1082;&#1086;&#1074;&#1082;&#1072;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&#1073;&#1089;&#1080;&#1085;&#1080;&#1094;&#1072;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Rockwell Condensed"/>
              </a:rPr>
              <a:t>Зимующие птицы </a:t>
            </a:r>
            <a:br>
              <a:rPr sz="4000"/>
            </a:br>
            <a:r>
              <a:rPr b="1" lang="en-US" sz="4000" spc="-1" strike="noStrike">
                <a:solidFill>
                  <a:srgbClr val="d1ddd4"/>
                </a:solidFill>
                <a:latin typeface="Rockwell Condensed"/>
              </a:rPr>
              <a:t>нашего сел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Verdana"/>
              </a:rPr>
              <a:t>Подготовила учитель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f8f8f8"/>
                </a:solidFill>
                <a:latin typeface="Verdana"/>
              </a:rPr>
              <a:t>МБОУ «Аверинская СОШ»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Verdana"/>
              </a:rPr>
              <a:t>Батракова Т.И. 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Большая синиц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Не только летом, но и зимой они прыгают с ветки на ветку, ищут щели и трещинки в коре, где спрятались насекомые. Даже в стужу очищают деревья от мелких насекомых и их личинок. За зиму синички уничтожат все гнёзда боярышницы и златогузки.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427280" cy="4273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06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91160" y="1989000"/>
            <a:ext cx="4452840" cy="4292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Поползень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Небольшая подвижная птица длиной 12—14,5 см;   размахом крыльев 22,5—27 см и весом 20—25 г, с плотным телосложением, большой головой и короткой, почти незаметной шеей.  </a:t>
            </a:r>
            <a:r>
              <a:rPr b="0" lang="en-US" sz="2000" spc="-1" strike="noStrike" u="sng">
                <a:solidFill>
                  <a:srgbClr val="86c0ce"/>
                </a:solidFill>
                <a:uFillTx/>
                <a:latin typeface="Arial"/>
                <a:hlinkClick r:id="rId2"/>
              </a:rPr>
              <a:t>Оперение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 пушистое, густое. Окраска сильно варьирует в зависимости от района обитания, при этом верхняя часть тела всегда имеет различные оттенки голубовато-серого цвета.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8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4284720" cy="4264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Сойк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35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Имеет яркое, рыхлое оперение, заметный широкий хохол на голове и довольно длинный хвост. Цвет туловища </a:t>
            </a:r>
            <a:r>
              <a:rPr b="0" lang="en-US" sz="2000" spc="-1" strike="noStrike" u="sng">
                <a:solidFill>
                  <a:srgbClr val="86c0ce"/>
                </a:solidFill>
                <a:uFillTx/>
                <a:latin typeface="Arial"/>
                <a:hlinkClick r:id="rId2"/>
              </a:rPr>
              <a:t>рыжевато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-коричневый, крылья, хвост 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(у некоторых подвидов и верх головы) — черные, надхвостье белое, перья на плечах — ярко-голубые с узкими черными полосками. Голова -рыжая,   беловатая. Взрослые особи имеют рост 15 см и длину с хвостом 25—40 см. Вес 150—200 г.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989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75320" cy="4105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Щегол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Телосложение их плотное, голова круглая, шея короткая. Оперение густое и плотное, разнообразной окраски. У некоторых  видов на голове хохолок. Крылья средней длины. Вокруг длинного, конической формы клюва имеется широкая красная «маска» иного цвета, чем верх головы; спина и грудь у него однотонно-серые с буроватым оттенком.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circle/>
    <p:sndAc>
      <p:stSnd>
        <p:snd r:embed="rId3" name="%D1%89%D0%B5%D0%B3%D0%BE%D0%BB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406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44892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Sos! Sos!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Спасите! На помощь!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556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Эту телеграмму прислали нам птицы. Но, чтобы помочь им, надо знать, какие птицы зимуют и чем кормятся. Туго приходится братьям нашим меньшим - против них объединяются холод и голод. Но зимой для птиц, особенно маленьких с быстрым обменом веществ, самое неприятное – голод. При наличии пищи птицы переносят даже сильные морозы. Потому-то так важны кормушки!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556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Кусочки сала и мяса для синиц можно положить в сеточку и повесить прямо на ветку. Мясо и сало можно давать сырое и вареное, но обязательно  не соленое. Белый хлеб нужно, предварительно подсушив, мелко растолочь- крупные замерзшие куски птицам «не по зубам». Перловую крупу, горох и чечевицу предлагать пернатым не стоит: разбухая в желудке, они могут вызвать мучительную смерть. Из круп птицы охотно поедают овсянку и пшенную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556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Мы составили книжку «Зимующие птицы нашего села», чтобы все дети знали этих птиц и смогли им помочь выжить в холодное время года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Птичье «население» Белгородского края не менее разнообразно, чем в других районах нашей страны. По данным науки, в пределах области обитает 290 видов птиц.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В окрестностях городов, сел, в лесных массивах оседло живут 14 видов пернатых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86280" y="2708280"/>
            <a:ext cx="4257720" cy="370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Воробей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72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Общая окраска оперения домового воробья коричневато-бурая сверху, беловатая снизу. Самец отличается от самки большим черным пятном, охватывающим подбородок, горло, зоб и верхнюю часть груди. 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Гнездятся они в разных строениях, скворечниках, садах, в парках, в дуплах деревьев.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642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4067280" cy="3809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Дятел пёстрый большой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5720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Окраска оперения у дятлов разнообразная, но у большинства видов довольно яркая — черная, зеленая или пестрая. Оперение жесткое. Тело у дятлов коренастое, у подавляющего большинства видов с характерным долотообразным клювом. Ноги короткие, с двумя обращенными назад и двумя вперед пальцами, вооруженными цепкими когтями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4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Дятел пёстрый малый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Добывая себе пищу, в той или иной степени дятлы долбят кору деревьев и кустарников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53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4589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Зяблик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 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Окраска оперения     яркая: голова синевато-серая, спина коричневатая с зелёным, зоб и грудь буровато-красные, на </a:t>
            </a:r>
            <a:r>
              <a:rPr b="0" lang="en-US" sz="2800" spc="-1" strike="noStrike" u="sng">
                <a:solidFill>
                  <a:srgbClr val="86c0ce"/>
                </a:solidFill>
                <a:uFillTx/>
                <a:latin typeface="Arial"/>
                <a:hlinkClick r:id="rId2"/>
              </a:rPr>
              <a:t>крыльях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  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большие белые пятна.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7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11600" y="1341360"/>
            <a:ext cx="4353120" cy="4940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Лазоревк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Мелкая синица с коротким тонким клювом и относительно коротким хвостом.  Сине-лазоревая шапочка и тёмно-синие тонкие полоски по обеим сторонам клюва, которые проходят через глаза и далее смыкаются на затылке. Ещё одна тёмно-синяя полоса проходит вокруг шеи, образуя подобие ошейника. Щёчки и лоб белые; затылок, крылья и хвост голубовато-синие. Спина  оливково-зелёная. Низ зеленовато-жёлтый, внизу имеется небольшая тёмная продольная полоса. Клюв чёрный, ноги сизо-серые.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06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924360" cy="4319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1ddd4"/>
                </a:solidFill>
                <a:latin typeface="Arial"/>
              </a:rPr>
              <a:t>Московк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Окрасом, прежде всего чёрной шапочкой перьев на голове и белыми щёчками, напоминает </a:t>
            </a:r>
            <a:r>
              <a:rPr b="0" lang="en-US" sz="2400" spc="-1" strike="noStrike" u="sng">
                <a:solidFill>
                  <a:srgbClr val="86c0ce"/>
                </a:solidFill>
                <a:uFillTx/>
                <a:latin typeface="Arial"/>
                <a:hlinkClick r:id="rId2"/>
              </a:rPr>
              <a:t>большую синицу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, однако отличается от неё меньшими размерами, более плотным телосложением и бледным оперением остальной части тела.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28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Большая синиц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32000" y="1267920"/>
            <a:ext cx="6696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Большая синица - это хорошо заметная, подвижная птица величиной с воробья (масса тела 15-21 г).  Голова, горло, подхвостье черные, щеки и пятно на затылке белые, грудь и брюшко ярко-желтые с черной продольной полосой и «галстуком», более широкими у самцов, хвост и крылья серо-голубые, спина зеленая. Ведет оседлый и кочующий образ жизни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16720" y="371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06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22:23:50Z</dcterms:created>
  <dc:creator>таня</dc:creator>
  <dc:description/>
  <dc:language>en-US</dc:language>
  <cp:lastModifiedBy>таня</cp:lastModifiedBy>
  <dcterms:modified xsi:type="dcterms:W3CDTF">2013-03-28T16:43:38Z</dcterms:modified>
  <cp:revision>13</cp:revision>
  <dc:subject/>
  <dc:title>Зимующие птицы  Белгородской области</dc:title>
</cp:coreProperties>
</file>