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jpeg" ContentType="image/jpeg"/>
  <Override PartName="/ppt/media/image6.jpeg" ContentType="image/jpeg"/>
  <Override PartName="/ppt/media/%D0%B7%D1%8F%D0%B1%D0%BB%D0%B8%D0%BA.wav" ContentType="audio/x-wav"/>
  <Override PartName="/ppt/media/%D0%B4%D1%8F%D1%82%D0%B5%D0%BB.wav" ContentType="audio/x-wav"/>
  <Override PartName="/ppt/media/image4.jpeg" ContentType="image/jpeg"/>
  <Override PartName="/ppt/media/image2.png" ContentType="image/png"/>
  <Override PartName="/ppt/media/%D0%BC%D0%BE%D1%81%D0%BA%D0%BE%D0%B2%D0%BA%D0%B0.wav" ContentType="audio/x-wav"/>
  <Override PartName="/ppt/media/image3.jpeg" ContentType="image/jpeg"/>
  <Override PartName="/ppt/media/%D1%89%D0%B5%D0%B3%D0%BE%D0%BB.wav" ContentType="audio/x-wav"/>
  <Override PartName="/ppt/media/%D1%81%D0%BE%D0%B9%D0%BA%D0%B0.wav" ContentType="audio/x-wav"/>
  <Override PartName="/ppt/media/image5.jpeg" ContentType="image/jpeg"/>
  <Override PartName="/ppt/media/%D0%BF%D0%BE%D0%BF%D0%BE%D0%BB%D0%B7%D0%B5%D0%BD%D1%8C.wav" ContentType="audio/x-wav"/>
  <Override PartName="/ppt/media/%D1%85%D0%BE%D1%85%20%D1%81%D0%B8%D0%BD.wav" ContentType="audio/x-wav"/>
  <Override PartName="/ppt/media/image1.jpeg" ContentType="image/jpeg"/>
  <Override PartName="/ppt/media/%D0%B1%D1%81%D0%B8%D0%BD%D0%B8%D1%86%D0%B0.wav" ContentType="audio/x-wav"/>
  <Override PartName="/ppt/media/image11.jpeg" ContentType="image/jpeg"/>
  <Override PartName="/ppt/media/image9.jpeg" ContentType="image/jpeg"/>
  <Override PartName="/ppt/media/%D0%B1%D0%B4%D1%8F%D1%82%D0%B5%D0%BB.wav" ContentType="audio/x-wav"/>
  <Override PartName="/ppt/media/image10.jpeg" ContentType="image/jpeg"/>
  <Override PartName="/ppt/media/%D0%B2%D0%BE%D1%80.wav" ContentType="audio/x-wav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D17C-5F2C-450A-99E4-D0DC4F29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942A-C5A0-4E7D-8192-6799C56F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B25-DA5A-406D-A9EC-B2DED745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570D-A87A-42CA-8954-FC589406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AD2B-A27C-4702-AAFA-428C5A74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B8ED-485A-4CF6-B3FB-24044AF2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88DB-4F41-4188-AA0F-13642D23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25D3-D9CC-4207-B87B-97D345C3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2C32-23EE-4B81-94DC-F3BC2D85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5B51-83F4-46C5-8C29-CE3B5E13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DA7B-6646-4B5E-B800-FB921EB7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916A-A6F7-47C7-9DA4-5195AA6A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0E10-05E3-44AB-9580-3E3BEBEF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2FCA-39EF-4EF3-ADFC-9A2B5132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FFED-A1EE-4159-B59F-698CC87C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9985-B9B7-48AE-A15F-3A3A5837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3E52-FA23-49B3-9F06-ABD22396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E42-7D57-4984-8510-EA3B98BB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E75E-7C10-4C1D-B221-D724D5AE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07F2-7867-476E-9770-C44E9D71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B22F-A31D-4F7A-8F60-356D5EF6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5913-EB30-47DB-AA10-0478785B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BD83-66C8-496B-A5FA-12CEAD26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5863-436F-408C-B1A4-027F1902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A49C-68ED-4B7E-BB4D-FE261A9DCF03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3C2C-FA3F-443C-AAC2-4FD6C14CC36F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audio" Target="../media/&#1093;&#1086;&#1093;%20&#1089;&#1080;&#1085;.wav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ru.wikipedia.org/wiki/&#1054;&#1087;&#1077;&#1088;&#1077;&#1085;&#1080;&#1077;_(&#1073;&#1080;&#1086;&#1083;&#1086;&#1075;&#1080;&#1103;)" TargetMode="External"/><Relationship Id="rId3" Type="http://schemas.openxmlformats.org/officeDocument/2006/relationships/image" Target="../media/image2.png"/><Relationship Id="rId4" Type="http://schemas.openxmlformats.org/officeDocument/2006/relationships/audio" Target="../media/&#1087;&#1086;&#1087;&#1086;&#1083;&#1079;&#1077;&#1085;&#1100;.wav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ru.wikipedia.org/wiki/&#1056;&#1099;&#1078;&#1080;&#1081;_&#1094;&#1074;&#1077;&#1090;" TargetMode="External"/><Relationship Id="rId3" Type="http://schemas.openxmlformats.org/officeDocument/2006/relationships/image" Target="../media/image2.png"/><Relationship Id="rId4" Type="http://schemas.openxmlformats.org/officeDocument/2006/relationships/audio" Target="../media/&#1089;&#1086;&#1081;&#1082;&#1072;.wav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audio" Target="../media/&#1097;&#1077;&#1075;&#1086;&#1083;.wav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&#1074;&#1086;&#1088;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audio" Target="../media/&#1073;&#1076;&#1103;&#1090;&#1077;&#1083;.wav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audio" Target="../media/&#1076;&#1103;&#1090;&#1077;&#1083;.wav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u.wikipedia.org/wiki/&#1055;&#1090;&#1080;&#1095;&#1100;&#1077;_&#1082;&#1088;&#1099;&#1083;&#1086;" TargetMode="External"/><Relationship Id="rId3" Type="http://schemas.openxmlformats.org/officeDocument/2006/relationships/image" Target="../media/image2.png"/><Relationship Id="rId4" Type="http://schemas.openxmlformats.org/officeDocument/2006/relationships/audio" Target="../media/&#1079;&#1103;&#1073;&#1083;&#1080;&#1082;.wav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audio" Target="../media/&#1073;&#1089;&#1080;&#1085;&#1080;&#1094;&#1072;.wav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u.wikipedia.org/wiki/&#1041;&#1086;&#1083;&#1100;&#1096;&#1072;&#1103;_&#1089;&#1080;&#1085;&#1080;&#1094;&#1072;" TargetMode="External"/><Relationship Id="rId3" Type="http://schemas.openxmlformats.org/officeDocument/2006/relationships/image" Target="../media/image2.png"/><Relationship Id="rId4" Type="http://schemas.openxmlformats.org/officeDocument/2006/relationships/audio" Target="../media/&#1084;&#1086;&#1089;&#1082;&#1086;&#1074;&#1082;&#1072;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&#1073;&#1089;&#1080;&#1085;&#1080;&#1094;&#1072;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ddd4"/>
                </a:solidFill>
                <a:latin typeface="Rockwell Condensed"/>
              </a:rPr>
              <a:t>Зимующие птицы </a:t>
            </a:r>
            <a:br>
              <a:rPr sz="4000"/>
            </a:br>
            <a:r>
              <a:rPr b="1" lang="en-US" sz="4000" spc="-1" strike="noStrike">
                <a:solidFill>
                  <a:srgbClr val="d1ddd4"/>
                </a:solidFill>
                <a:latin typeface="Rockwell Condensed"/>
              </a:rPr>
              <a:t>нашего села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8f8f8"/>
                </a:solidFill>
                <a:latin typeface="Verdana"/>
              </a:rPr>
              <a:t>Подготовила учитель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f8f8f8"/>
                </a:solidFill>
                <a:latin typeface="Verdana"/>
              </a:rPr>
              <a:t>МБОУ «Аверинская СОШ»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8f8f8"/>
                </a:solidFill>
                <a:latin typeface="Verdana"/>
              </a:rPr>
              <a:t>Батракова Т.И. 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ddd4"/>
                </a:solidFill>
                <a:latin typeface="Arial"/>
              </a:rPr>
              <a:t>Большая синица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Не только летом, но и зимой они прыгают с ветки на ветку, ищут щели и трещинки в коре, где спрятались насекомые. Даже в стужу очищают деревья от мелких насекомых и их личинок. За зиму синички уничтожат все гнёзда боярышницы и златогузки.</a:t>
            </a:r>
            <a:r>
              <a:rPr b="0" lang="en-US" sz="1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067280" y="1773360"/>
            <a:ext cx="4427280" cy="4273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706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91160" y="1989000"/>
            <a:ext cx="4452840" cy="42926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ddd4"/>
                </a:solidFill>
                <a:latin typeface="Arial"/>
              </a:rPr>
              <a:t>Поползень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Небольшая подвижная птица длиной 12—14,5 см;   размахом крыльев 22,5—27 см и весом 20—25 г, с плотным телосложением, большой головой и короткой, почти незаметной шеей.  </a:t>
            </a:r>
            <a:r>
              <a:rPr b="0" lang="en-US" sz="2000" spc="-1" strike="noStrike" u="sng">
                <a:solidFill>
                  <a:srgbClr val="86c0ce"/>
                </a:solidFill>
                <a:uFillTx/>
                <a:latin typeface="Arial"/>
                <a:hlinkClick r:id="rId2"/>
              </a:rPr>
              <a:t>Оперение</a:t>
            </a:r>
            <a:r>
              <a:rPr b="0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 пушистое, густое. Окраска сильно варьирует в зависимости от района обитания, при этом верхняя часть тела всегда имеет различные оттенки голубовато-серого цвета.</a:t>
            </a: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784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4284720" cy="42642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ddd4"/>
                </a:solidFill>
                <a:latin typeface="Arial"/>
              </a:rPr>
              <a:t>Сойка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356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Имеет яркое, рыхлое оперение, заметный широкий хохол на голове и довольно длинный хвост. Цвет туловища </a:t>
            </a:r>
            <a:r>
              <a:rPr b="0" lang="en-US" sz="2000" spc="-1" strike="noStrike" u="sng">
                <a:solidFill>
                  <a:srgbClr val="86c0ce"/>
                </a:solidFill>
                <a:uFillTx/>
                <a:latin typeface="Arial"/>
                <a:hlinkClick r:id="rId2"/>
              </a:rPr>
              <a:t>рыжевато</a:t>
            </a:r>
            <a:r>
              <a:rPr b="0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-коричневый, крылья, хвост 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(у некоторых подвидов и верх головы) — черные, надхвостье белое, перья на плечах — ярко-голубые с узкими черными полосками. Голова -рыжая,   беловатая. Взрослые особи имеют рост 15 см и длину с хвостом 25—40 см. Вес 150—200 г.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989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211640" y="1916280"/>
            <a:ext cx="4675320" cy="41050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ddd4"/>
                </a:solidFill>
                <a:latin typeface="Arial"/>
              </a:rPr>
              <a:t>Щегол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Телосложение их плотное, голова круглая, шея короткая. Оперение густое и плотное, разнообразной окраски. У некоторых  видов на голове хохолок. Крылья средней длины. Вокруг длинного, конической формы клюва имеется широкая красная «маска» иного цвета, чем верх головы; спина и грудь у него однотонно-серые с буроватым оттенком.</a:t>
            </a: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3000">
    <p:circle/>
    <p:sndAc>
      <p:stSnd>
        <p:snd r:embed="rId3" name="%D1%89%D0%B5%D0%B3%D0%BE%D0%BB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406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44892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28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Sos! Sos! </a:t>
            </a: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Спасите! На помощь!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5568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Эту телеграмму прислали нам птицы. Но, чтобы помочь им, надо знать, какие птицы зимуют и чем кормятся. Туго приходится братьям нашим меньшим - против них объединяются холод и голод. Но зимой для птиц, особенно маленьких с быстрым обменом веществ, самое неприятное – голод. При наличии пищи птицы переносят даже сильные морозы. Потому-то так важны кормушки!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5568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Кусочки сала и мяса для синиц можно положить в сеточку и повесить прямо на ветку. Мясо и сало можно давать сырое и вареное, но обязательно  не соленое. Белый хлеб нужно, предварительно подсушив, мелко растолочь- крупные замерзшие куски птицам «не по зубам». Перловую крупу, горох и чечевицу предлагать пернатым не стоит: разбухая в желудке, они могут вызвать мучительную смерть. Из круп птицы охотно поедают овсянку и пшенную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5568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Мы составили книжку «Зимующие птицы нашего села», чтобы все дети знали этих птиц и смогли им помочь выжить в холодное время года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Птичье «население» Белгородского края не менее разнообразно, чем в других районах нашей страны. По данным науки, в пределах области обитает 290 видов птиц. 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Verdana"/>
              </a:rPr>
              <a:t>В окрестностях городов, сел, в лесных массивах оседло живут 14 видов пернатых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86280" y="2708280"/>
            <a:ext cx="4257720" cy="37051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ddd4"/>
                </a:solidFill>
                <a:latin typeface="Arial"/>
              </a:rPr>
              <a:t>Воробей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572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Общая окраска оперения домового воробья коричневато-бурая сверху, беловатая снизу. Самец отличается от самки большим черным пятном, охватывающим подбородок, горло, зоб и верхнюю часть груди.  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Гнездятся они в разных строениях, скворечниках, садах, в парках, в дуплах деревьев.</a:t>
            </a:r>
            <a:r>
              <a:rPr b="0" lang="en-US" sz="1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642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4067280" cy="38098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ddd4"/>
                </a:solidFill>
                <a:latin typeface="Arial"/>
              </a:rPr>
              <a:t>Дятел пёстрый большой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5720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Окраска оперения у дятлов разнообразная, но у большинства видов довольно яркая — черная, зеленая или пестрая. Оперение жесткое. Тело у дятлов коренастое, у подавляющего большинства видов с характерным долотообразным клювом. Ноги короткие, с двумя обращенными назад и двумя вперед пальцами, вооруженными цепкими когтями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84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ddd4"/>
                </a:solidFill>
                <a:latin typeface="Arial"/>
              </a:rPr>
              <a:t>Дятел пёстрый малый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Добывая себе пищу, в той или иной степени дятлы долбят кору деревьев и кустарников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534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284720" y="2276640"/>
            <a:ext cx="4589280" cy="35049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ddd4"/>
                </a:solidFill>
                <a:latin typeface="Arial"/>
              </a:rPr>
              <a:t>Зяблик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 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Окраска оперения     яркая: голова синевато-серая, спина коричневатая с зелёным, зоб и грудь буровато-красные, на </a:t>
            </a:r>
            <a:r>
              <a:rPr b="0" lang="en-US" sz="2800" spc="-1" strike="noStrike" u="sng">
                <a:solidFill>
                  <a:srgbClr val="86c0ce"/>
                </a:solidFill>
                <a:uFillTx/>
                <a:latin typeface="Arial"/>
                <a:hlinkClick r:id="rId2"/>
              </a:rPr>
              <a:t>крыльях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   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большие белые пятна.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177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11600" y="1341360"/>
            <a:ext cx="4353120" cy="4940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ddd4"/>
                </a:solidFill>
                <a:latin typeface="Arial"/>
              </a:rPr>
              <a:t>Лазоревка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Мелкая синица с коротким тонким клювом и относительно коротким хвостом.  Сине-лазоревая шапочка и тёмно-синие тонкие полоски по обеим сторонам клюва, которые проходят через глаза и далее смыкаются на затылке. Ещё одна тёмно-синяя полоса проходит вокруг шеи, образуя подобие ошейника. Щёчки и лоб белые; затылок, крылья и хвост голубовато-синие. Спина  оливково-зелёная. Низ зеленовато-жёлтый, внизу имеется небольшая тёмная продольная полоса. Клюв чёрный, ноги сизо-серые.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706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924360" cy="4319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1ddd4"/>
                </a:solidFill>
                <a:latin typeface="Arial"/>
              </a:rPr>
              <a:t>Московка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Окрасом, прежде всего чёрной шапочкой перьев на голове и белыми щёчками, напоминает </a:t>
            </a:r>
            <a:r>
              <a:rPr b="0" lang="en-US" sz="2400" spc="-1" strike="noStrike" u="sng">
                <a:solidFill>
                  <a:srgbClr val="86c0ce"/>
                </a:solidFill>
                <a:uFillTx/>
                <a:latin typeface="Arial"/>
                <a:hlinkClick r:id="rId2"/>
              </a:rPr>
              <a:t>большую синицу</a:t>
            </a:r>
            <a:r>
              <a:rPr b="0" lang="en-US" sz="2400" spc="-1" strike="noStrike" u="sng">
                <a:solidFill>
                  <a:srgbClr val="f8f8f8"/>
                </a:solidFill>
                <a:uFillTx/>
                <a:latin typeface="Arial"/>
              </a:rPr>
              <a:t>, однако отличается от неё меньшими размерами, более плотным телосложением и бледным оперением остальной части тела.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28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ddd4"/>
                </a:solidFill>
                <a:latin typeface="Arial"/>
              </a:rPr>
              <a:t>Большая синица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32000" y="1267920"/>
            <a:ext cx="6696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Большая синица - это хорошо заметная, подвижная птица величиной с воробья (масса тела 15-21 г).  Голова, горло, подхвостье черные, щеки и пятно на затылке белые, грудь и брюшко ярко-желтые с черной продольной полосой и «галстуком», более широкими у самцов, хвост и крылья серо-голубые, спина зеленая. Ведет оседлый и кочующий образ жизни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516720" y="371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06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22:23:50Z</dcterms:created>
  <dc:creator>таня</dc:creator>
  <dc:description/>
  <dc:language>en-US</dc:language>
  <cp:lastModifiedBy>таня</cp:lastModifiedBy>
  <dcterms:modified xsi:type="dcterms:W3CDTF">2013-03-28T16:43:38Z</dcterms:modified>
  <cp:revision>13</cp:revision>
  <dc:subject/>
  <dc:title>Зимующие птицы  Белгородской области</dc:title>
</cp:coreProperties>
</file>