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50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24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4728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550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24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550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62440" y="1413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728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550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62440" y="4158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8160" y="4158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8160" y="1413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47280" y="4158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nsau.edu.ru/images/vetfac/images/ebooks/microbiology/stu/micol/pict/diagn3_l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52516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ЗАРИОТОКСИКО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7840" y="3814920"/>
            <a:ext cx="5257800" cy="177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тудент ветеринарного отделения ГБОУ СПО ЯНАО “Ямальский полярный агроэкономический техникум г.Салехард Анагуричи Алексей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кур- угнетение, взъерошенность перьев, синюшность гребня и сережек, прекращение яйцекладк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2" descr="C:\Users\нагибина\Downloads\1166530901-3.jpg"/>
          <p:cNvPicPr/>
          <p:nvPr/>
        </p:nvPicPr>
        <p:blipFill>
          <a:blip r:embed="rId1"/>
          <a:stretch/>
        </p:blipFill>
        <p:spPr>
          <a:xfrm>
            <a:off x="2484360" y="3213000"/>
            <a:ext cx="453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5640" y="475920"/>
            <a:ext cx="694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з рациона исключаем пораженные корм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/в тиосульфат натрия 30%, глюкозу 40%, аскорбиновую кислоту, 10% натрий хлор, гексаметилентетрамин, 10% кальций хлор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/к кофеин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нутрь 0,1-0,5% раствор натрия гидрокарбоната, глауберовая соль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Г.А. Хмельницкий, В.Н.Локтионов, Д.Д. Полоз учебник «Ветеринарная токсикология» ВО «Агропромиздат»1987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И.И. Тарасов, И.П. Кондрахин, В.И. Ильин учебник «Внутренние незаразные болезни сельскохозяйственных животных» ВО «Агропромиздат»1987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.С. Ионов «Внутренние незаразные болезни крупного рогатого скота» «колос»1975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1.изображение- поражение злаковых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http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//zoosvit. ukrainianforum. net/t320-t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2. изображение -микрокониидии гриба-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veterinary.academic.ru/4621pic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3. изображение-  некроз кончика гребня -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www.webpticeprom.r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4.изображение - споры и серповидные макроконидии -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http://nsau.edu.ru/images/vetfac/images/ebooks/microbiology/stu/micol/diagn.ht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908000" y="47628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источник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4d4d4d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</a:t>
            </a:r>
            <a:r>
              <a:rPr b="0" lang="uk-UA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РАВЛЕНИЕ ИСПОРЧЕНЫМИ КОРМАМИ,СОДЕРЖАЩИМИ ГРИБЫ РОДА </a:t>
            </a: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Fusarium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. Фузарии распространены повсеместно. Они поражают хлебные злаки, кормовые культуры, плоды. Фузарии хорошо растут при температуре 18—24°С, грибы образуют токсические вещества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оксины гриба устойчивы к нагреванию и высушивани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8836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ЗАРИОТОКСИКОЗ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ьяный хлеб».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жение злаковых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Содержимое 3" descr="C:\Users\нагибина\Downloads\timthumb.jpg"/>
          <p:cNvPicPr/>
          <p:nvPr/>
        </p:nvPicPr>
        <p:blipFill>
          <a:blip r:embed="rId1"/>
          <a:stretch/>
        </p:blipFill>
        <p:spPr>
          <a:xfrm>
            <a:off x="1187280" y="1989000"/>
            <a:ext cx="6337440" cy="410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скопическое исслед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8560" y="1413000"/>
            <a:ext cx="7705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На картофельном агаре мицелий пышный, белый или нежно-розовый. При микроскопии обнаруживают: шаровидные, грушевидные или лимоновидные микроконид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C:\Users\нагибина\Downloads\images.jpg"/>
          <p:cNvPicPr/>
          <p:nvPr/>
        </p:nvPicPr>
        <p:blipFill>
          <a:blip r:embed="rId1"/>
          <a:stretch/>
        </p:blipFill>
        <p:spPr>
          <a:xfrm>
            <a:off x="5364000" y="3573360"/>
            <a:ext cx="273708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2" descr="C:\Users\нагибина\Downloads\265px-Fusarium_poae.jpg"/>
          <p:cNvPicPr/>
          <p:nvPr/>
        </p:nvPicPr>
        <p:blipFill>
          <a:blip r:embed="rId2"/>
          <a:srcRect l="6140" t="0" r="0" b="4315"/>
          <a:stretch/>
        </p:blipFill>
        <p:spPr>
          <a:xfrm>
            <a:off x="1332000" y="3573360"/>
            <a:ext cx="315900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Users\нагибина\Downloads\image100.jpg"/>
          <p:cNvPicPr/>
          <p:nvPr/>
        </p:nvPicPr>
        <p:blipFill>
          <a:blip r:embed="rId1"/>
          <a:stretch/>
        </p:blipFill>
        <p:spPr>
          <a:xfrm>
            <a:off x="4932360" y="2060640"/>
            <a:ext cx="381636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Содержимое 3" descr="http://nsau.edu.ru/images/vetfac/images/ebooks/microbiology/stu/micol/pict/diagn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276640"/>
            <a:ext cx="3168720" cy="280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TextBox 6"/>
          <p:cNvSpPr/>
          <p:nvPr/>
        </p:nvSpPr>
        <p:spPr>
          <a:xfrm>
            <a:off x="684360" y="5661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поры и серповидные макроконидии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скармливание животным соломы, сена, зернофуража, комбикормов пораженных токсическими грибами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едрасполагающие факторы- наличие в рационе кислых кормов (силоса, барды)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2627280" y="40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1d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свиней –угнетение, снижение аппетита, рвота, жажда, болезненность в области брюшной стенки, понос, частые позывы к мочеиспусканию, парезы и параличи, выделение из влагалища катарального экссудата, небольшое увеличение молочной желез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и хроническом течении- исхудание, изъязвление и некротические участки на пяточке, губах, в ротовой полост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30% наблюдается выпадение влагалища, у 5-10%- прямой кишк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лошадей- общее угнетение, потеря аппетита, понос, исхудание, мышечная дрожь, повышение температуры тел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ри хроническом течении- стоматит, увеличение лимфатических узлов, изъязвление губ, лейкоэнцефаломаляци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47280" y="141300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У жвачных- угнетение, снижение чувствительности кожных покровов, атаксия, тремор, потеря аппетита, расстройство пищеварения ,парезы параличи конечностей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 крови сначала – лейкоцитоз, а затем лейкопени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Возможны абор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07:42Z</dcterms:created>
  <dc:creator>qwerty</dc:creator>
  <dc:description/>
  <dc:language>en-US</dc:language>
  <cp:lastModifiedBy>нагибина</cp:lastModifiedBy>
  <dcterms:modified xsi:type="dcterms:W3CDTF">2013-03-29T16:03:49Z</dcterms:modified>
  <cp:revision>37</cp:revision>
  <dc:subject/>
  <dc:title>Name of presentation</dc:title>
</cp:coreProperties>
</file>