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43D-DB2A-4DEC-B8AF-C29D201F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065-89AB-46CD-A138-B7DFCD55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3AE-48F6-4D47-9179-DDD18E0A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400-B942-4250-979A-563433B7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DAF-74AF-4F76-89B9-264A659C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0ED-2CC8-4B18-95EE-4351B4A7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DD6-A7EA-4271-935D-292627CC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DD0-411D-4EBC-BE2B-DF27D797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0E7-A2C9-4295-ACC5-98A6D4E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554-181F-42E0-936F-A307CB8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E9F-44BE-4D9A-B75C-EAF67F86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D85-0D21-4880-9746-5C82E93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3EAF-BAC6-43A4-B679-04A3BE183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704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00720" y="4292640"/>
            <a:ext cx="2520720" cy="2041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1484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80000" y="328464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24560" y="3357720"/>
            <a:ext cx="181944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56000" y="48690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780000" y="1628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6659640" y="189000"/>
            <a:ext cx="225720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9280" y="42210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979560" y="692280"/>
            <a:ext cx="147780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6877080" y="5059440"/>
            <a:ext cx="2087640" cy="165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gins with the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720" y="1413000"/>
            <a:ext cx="204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m]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2648160" cy="2647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2000" y="184464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1771920" cy="259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635280" y="2420640"/>
            <a:ext cx="13543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[g]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25756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16360" y="4365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2158920" cy="16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476360" y="1197000"/>
            <a:ext cx="1498680" cy="187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13800" y="2708280"/>
            <a:ext cx="14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p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364500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124000" y="549360"/>
            <a:ext cx="2449440" cy="1923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13440" y="2563920"/>
            <a:ext cx="167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ei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40048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16000" y="3933720"/>
            <a:ext cx="2508120" cy="250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56000" y="765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213080" y="2563920"/>
            <a:ext cx="105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l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40766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56000" y="6206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354560" y="2381400"/>
            <a:ext cx="179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æ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92720" y="3860640"/>
            <a:ext cx="3166920" cy="256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96880" y="2852640"/>
            <a:ext cx="206856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042920" y="189000"/>
            <a:ext cx="3471840" cy="2604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ачала повторяем лексику (1 слай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опаем в ладош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задаёт вопрос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egins with the soun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и называет зв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отвеча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with the sound 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the soun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… и называют указанный зв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22:52:03Z</dcterms:created>
  <dc:creator>User</dc:creator>
  <dc:description/>
  <dc:language>en-US</dc:language>
  <cp:lastModifiedBy>User</cp:lastModifiedBy>
  <dcterms:modified xsi:type="dcterms:W3CDTF">2013-03-28T23:39:07Z</dcterms:modified>
  <cp:revision>3</cp:revision>
  <dc:subject/>
  <dc:title>sounds</dc:title>
</cp:coreProperties>
</file>