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B33-5BCE-4971-95AD-FE377234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3D0-B3CE-40AC-99D3-ED5BF9E8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758-B0F1-4A92-8FC4-41A6A76E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476-A590-41FE-9DA4-2A5DE4E9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4CC-B838-4E4A-87B0-CEE44BF3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92E-87E8-4D44-93E6-724E0E3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63F-8C2A-4B64-BADA-1336E5BF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E86-EF90-453F-B453-0DD43CC5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B0A-7F5C-40B0-A731-1CCE8046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9AD-DD47-48D2-A167-9A41238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9CD-B347-46A4-980C-41570B0A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A53-452A-40BB-9922-AE5A3C0B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E826-B6EE-4ABF-8B71-59C0218D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70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00720" y="4292640"/>
            <a:ext cx="2520720" cy="2041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80000" y="328464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24560" y="3357720"/>
            <a:ext cx="181944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56000" y="48690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780000" y="1628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659640" y="189000"/>
            <a:ext cx="225720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9280" y="42210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979560" y="692280"/>
            <a:ext cx="147780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6877080" y="5059440"/>
            <a:ext cx="2087640" cy="165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gins with the 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2720" y="1413000"/>
            <a:ext cx="204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m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648160" cy="2647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12000" y="184464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177192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635280" y="2420640"/>
            <a:ext cx="13543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g]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25756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2158920" cy="169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476360" y="1197000"/>
            <a:ext cx="1498680" cy="187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13800" y="2708280"/>
            <a:ext cx="14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364500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124000" y="549360"/>
            <a:ext cx="2449440" cy="192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13440" y="2563920"/>
            <a:ext cx="167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ei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40048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508120" cy="250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56000" y="765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213080" y="2563920"/>
            <a:ext cx="105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556000" y="620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354560" y="2381400"/>
            <a:ext cx="179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æ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3166920" cy="256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96880" y="2852640"/>
            <a:ext cx="206856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042920" y="189000"/>
            <a:ext cx="3471840" cy="2604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ачала повторяем лексику (1 слай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опаем в ладош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задаёт вопрос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egins with the soun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и называет зв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отвеча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with the sound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the soun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 и называют указанный зв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22:52:03Z</dcterms:created>
  <dc:creator>User</dc:creator>
  <dc:description/>
  <dc:language>en-US</dc:language>
  <cp:lastModifiedBy>User</cp:lastModifiedBy>
  <dcterms:modified xsi:type="dcterms:W3CDTF">2013-03-28T23:39:07Z</dcterms:modified>
  <cp:revision>3</cp:revision>
  <dc:subject/>
  <dc:title>sounds</dc:title>
</cp:coreProperties>
</file>