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321-B068-420F-863D-B3E43191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011-00C1-4F16-9DA0-2DC47A78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79338-6453-4FDB-8BCC-5C21AE9D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8BDB0-7DD3-41D2-9561-D281E11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E56AA-E604-402C-87EE-5A0E67A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68072-FACE-40AC-A966-A95001A7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56FD9D-9892-407C-92F2-4D30B5E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90E78-3C93-4308-950C-6140263C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7D13D-E2D6-4C69-84A4-9AD60D8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EE0E33-D8BD-4986-8999-97E52DF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0502A-EFB1-45DE-8841-E9570994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60A-0D0A-4BB6-895C-FA6EFB71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BC6-294C-4B50-A02B-2AB25160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56E75-A1FF-4EAD-A324-A46171D3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A77AC-E3A0-4548-8088-B158B61A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34AA-D06F-451A-8E4B-B571922B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688F5-A0BC-4923-9B58-4168798D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D33D7-A6A2-4BDE-80E4-0D2FDFD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AE083-960E-42EA-B6B7-F73D3C98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A13B9-C732-4C8C-A8B7-CEF2FF1A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BB1-F021-4C29-9276-751F1D5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3DF3A-EE4F-42A3-BEF2-66B06047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42A80-A297-4DBA-A36A-DBBABE50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4E348-7045-4D5B-ABC2-F05593C0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499E4-F817-4C82-A429-C94055D9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8D90C-A933-4ED7-B468-B6637C99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C0CD1-B6FD-429D-A637-CBAE5EA4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43284-59C3-4C47-AFE0-C69D2DC6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A6D1-C0EE-4BB1-BB68-A0FC3703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0A0E-4E29-4BCB-985B-6F792C31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5646-B45B-433D-8280-F0C4F106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4C4-802B-4D76-8B65-F9C2D0C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3224-3B52-4AC1-B19F-706E6DDC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E1B5-DF12-4C88-853C-61CCA3D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F37-E963-4056-8A0F-3AD3A7A0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6236C-08D1-4AC0-8CCD-746F6E8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83F7-E7E3-464B-82B6-B6DB7EA2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67FF-6AB9-47AA-8956-80546B77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FD73-6E04-45D7-BE94-25BC6809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E03AF-2483-4529-8142-73F7C499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E0BD0-A127-4920-BB56-77693BA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85C4A-1B3F-49D2-88AA-F7B2836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E99-5E8E-48C3-B485-50D3CF0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0CC79-8ECE-4BA1-A183-8938C608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424A3-8708-43C4-ABBE-E69F2DC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9ED30-16AE-4F21-B62B-E9168F6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809EB-A340-47AB-B8B6-E7F49F0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E4965-764A-43A8-8C0D-7FA39A3C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517DD-3FE8-460B-BAB1-4E75C55B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FF37A-0601-4804-ABB8-01348A3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D26F5-5B6A-465D-8F58-35BD532B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CC06D-3D02-4171-9BF8-D2B0EC4C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C649-0168-4562-8BDD-E7F2CADD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DE4-AD1C-4988-804F-2C377605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BA12-778E-49DF-9C5F-D85803FD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8A04-E0C3-43EF-BACB-71C28701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16F0-EE42-44AB-8290-2D6BE0F0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4D133-1B7B-47DD-9569-B8F6873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82B92-2A0D-4700-A934-4866FCF3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F67D-CAEB-4C76-9102-0B9BC83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0C82-E1D9-4C2B-B6FE-DB55098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2377-ABA6-4F85-84BC-D42FE9C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1559-6163-4855-A9F4-8795C400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4EA4-F65F-4843-979B-9D994054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A58-C902-4741-B1D5-4C699E39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0CC3-4E82-4EC0-9211-C220952E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8095-ABE5-4A1A-953E-8ACD6B6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BACE-10D7-4836-AE61-920D0A9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88C94-083F-4B83-88A5-9A59506D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5E0F-D792-4380-A5A9-BD4C055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97EC-8953-4F07-82E3-A89FC18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9D22-2327-4641-A993-DB227777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E1BE-751D-46FF-AD5C-08374BD2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25820-4873-4B61-A0C5-2AD7B33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FE8B1-9177-45CC-AF73-95632B6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926-4D1F-4180-807F-8F559AA9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97619-248B-401B-BA0E-1FFED5F8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91CF-06CA-4C32-B367-6AEBCAB8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98EB4-3FB0-41E3-8075-D472FC6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5192-C8B3-45A4-B9E0-13CCF6E5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53162-E718-4EF2-8CFF-2CEC0825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9B9D-9797-4981-BC17-BACB8ACC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26DB-D659-4E32-B649-D3339310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E369A-4B42-4D88-9AC5-1F359CF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55224-38FC-4EBB-B94F-CB082A2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114EF-AB36-4C39-A03F-255C04C5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389-F3FE-4C64-9C84-83CCEA0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FE7C-9389-425D-972B-85ABBDA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2845-EDC6-4F62-A8FE-A78F8BED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C103-C7F4-495E-B788-C84EDDC7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70B40-49D4-473A-A163-77474E9F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89055-6C93-4663-A194-CCABB1F5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74594-63D7-4074-BD36-5D6837D0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29261-0B3C-4926-A95B-0FF04E6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1216F-0B6E-4CC9-B74B-B5BA2EA4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51323-9F67-477F-A242-F17D6516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E70EC-51AD-436E-B518-717D4233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F87-38FE-4D1C-9281-A8B10DC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91E23-DC8C-4C3B-8033-134FFD92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2340B-11BF-4744-A98A-A1A174E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9E56CC-3C0F-4F51-8806-43A6F95D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7D1556-2DDB-4A93-B13C-0A9772B4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6716A-DD69-4F02-BCA7-ADF1FCD8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300B2-1F57-4C01-8542-296B7367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00A244-E595-471E-9587-4A7508F0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13CFC6-15F6-43FF-B599-E55604F9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35834-4762-42A0-A362-1F2FAD9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6BC98C-6E2E-42B1-8B5F-9215A55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642-72B4-4D59-9ABF-24A10814BC6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B52-F3D7-4B83-A48C-615D416AE89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317-6B54-4C93-B1D5-B6B0795E016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F343-E90E-4E1E-AE3A-53B75C34029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731C-4D9F-454A-A057-70664819982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8AF-D9BC-415A-8B15-5F700B07DC1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3DC-A2CF-4AED-AC53-2461119785C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3A4D-E1BD-48CB-A76E-587D6EE455E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FB79-F671-45A6-90BA-AD24D3B19F9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428760" y="35712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Articl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езентация – тренаже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оугольник 5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Скругленный прямоугольник 6"/>
          <p:cNvSpPr/>
          <p:nvPr/>
        </p:nvSpPr>
        <p:spPr>
          <a:xfrm>
            <a:off x="285840" y="3000240"/>
            <a:ext cx="3429000" cy="15717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I live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кругленный прямоугольник 7"/>
          <p:cNvSpPr/>
          <p:nvPr/>
        </p:nvSpPr>
        <p:spPr>
          <a:xfrm>
            <a:off x="5286240" y="2928960"/>
            <a:ext cx="3429000" cy="16430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osc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215120" y="5429160"/>
            <a:ext cx="1357560" cy="1000080"/>
          </a:xfrm>
          <a:custGeom>
            <a:avLst/>
            <a:gdLst>
              <a:gd name="textAreaLeft" fmla="*/ 64800 w 1357560"/>
              <a:gd name="textAreaRight" fmla="*/ 1292760 w 135756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9318" h="21600">
                <a:moveTo>
                  <a:pt x="0" y="0"/>
                </a:moveTo>
                <a:lnTo>
                  <a:pt x="29318" y="0"/>
                </a:lnTo>
                <a:lnTo>
                  <a:pt x="29318" y="21600"/>
                </a:lnTo>
                <a:lnTo>
                  <a:pt x="0" y="21600"/>
                </a:lnTo>
                <a:close/>
              </a:path>
              <a:path fill="lightenLess" w="29318" h="21600">
                <a:moveTo>
                  <a:pt x="0" y="0"/>
                </a:moveTo>
                <a:lnTo>
                  <a:pt x="29318" y="0"/>
                </a:lnTo>
                <a:lnTo>
                  <a:pt x="27918" y="1400"/>
                </a:lnTo>
                <a:lnTo>
                  <a:pt x="1400" y="1400"/>
                </a:lnTo>
                <a:close/>
              </a:path>
              <a:path fill="darken" w="29318" h="21600">
                <a:moveTo>
                  <a:pt x="29318" y="0"/>
                </a:moveTo>
                <a:lnTo>
                  <a:pt x="29318" y="21600"/>
                </a:lnTo>
                <a:lnTo>
                  <a:pt x="27918" y="20200"/>
                </a:lnTo>
                <a:lnTo>
                  <a:pt x="27918" y="1400"/>
                </a:lnTo>
                <a:close/>
              </a:path>
              <a:path fill="darkenLess" w="29318" h="21600">
                <a:moveTo>
                  <a:pt x="29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8" y="20200"/>
                </a:lnTo>
                <a:close/>
              </a:path>
              <a:path fill="lighten" w="29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8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72 -0.00023 C 0.04028 0.00925 0.01702 0.01896 0.01598 0.00601 C 0.01494 -0.00694 0.02101 -0.06661 0.05764 -0.07817 C 0.09428 -0.08973 0.20452 -0.08511 0.23612 -0.06383 C 0.26771 -0.04255 0.28282 0.01943 0.24688 0.04903 C 0.21094 0.07863 0.07761 0.1117 0.02066 0.11448 C -0.03628 0.11725 -0.07152 0.03839 -0.09479 0.06545 C -0.11805 0.09251 -0.11875 0.18409 -0.11927 0.27636 E">
                                      <p:cBhvr>
                                        <p:cTn id="36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357120" y="35712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оугольник 14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оугольник 15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оугольник 16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17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Скругленный прямоугольник 18"/>
          <p:cNvSpPr/>
          <p:nvPr/>
        </p:nvSpPr>
        <p:spPr>
          <a:xfrm>
            <a:off x="357120" y="2928960"/>
            <a:ext cx="385776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y father 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ый прямоугольник 20"/>
          <p:cNvSpPr/>
          <p:nvPr/>
        </p:nvSpPr>
        <p:spPr>
          <a:xfrm>
            <a:off x="5429160" y="2857680"/>
            <a:ext cx="335772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manage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215120" y="5286240"/>
            <a:ext cx="1428840" cy="1143000"/>
          </a:xfrm>
          <a:custGeom>
            <a:avLst/>
            <a:gdLst>
              <a:gd name="textAreaLeft" fmla="*/ 73800 w 1428840"/>
              <a:gd name="textAreaRight" fmla="*/ 1355040 w 14288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5468 -0.00439 C -0.10503 -0.01665 -0.15521 -0.02868 -0.17465 -0.01873 C -0.19409 -0.00879 -0.2 0.03215 -0.17153 0.05504 C -0.14305 0.07794 -0.05486 0.11517 -0.00382 0.11864 C 0.04722 0.12211 0.104 0.05273 0.13455 0.07562 C 0.16511 0.09852 0.1717 0.22595 0.17917 0.25601 E">
                                      <p:cBhvr>
                                        <p:cTn id="53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5"/>
          <p:cNvSpPr/>
          <p:nvPr/>
        </p:nvSpPr>
        <p:spPr>
          <a:xfrm>
            <a:off x="357120" y="35712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7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8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0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Скругленный прямоугольник 11"/>
          <p:cNvSpPr/>
          <p:nvPr/>
        </p:nvSpPr>
        <p:spPr>
          <a:xfrm>
            <a:off x="285840" y="2786040"/>
            <a:ext cx="3429000" cy="14288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We visit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кругленный прямоугольник 12"/>
          <p:cNvSpPr/>
          <p:nvPr/>
        </p:nvSpPr>
        <p:spPr>
          <a:xfrm>
            <a:off x="4786200" y="2714760"/>
            <a:ext cx="4071960" cy="14284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Bolshoi Theat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215120" y="5429160"/>
            <a:ext cx="1357560" cy="1000080"/>
          </a:xfrm>
          <a:custGeom>
            <a:avLst/>
            <a:gdLst>
              <a:gd name="textAreaLeft" fmla="*/ 64800 w 1357560"/>
              <a:gd name="textAreaRight" fmla="*/ 1292760 w 1357560"/>
              <a:gd name="textAreaTop" fmla="*/ 64800 h 1000080"/>
              <a:gd name="textAreaBottom" fmla="*/ 935280 h 1000080"/>
            </a:gdLst>
            <a:ahLst/>
            <a:rect l="textAreaLeft" t="textAreaTop" r="textAreaRight" b="textAreaBottom"/>
            <a:pathLst>
              <a:path w="29318" h="21600">
                <a:moveTo>
                  <a:pt x="0" y="0"/>
                </a:moveTo>
                <a:lnTo>
                  <a:pt x="29318" y="0"/>
                </a:lnTo>
                <a:lnTo>
                  <a:pt x="29318" y="21600"/>
                </a:lnTo>
                <a:lnTo>
                  <a:pt x="0" y="21600"/>
                </a:lnTo>
                <a:close/>
              </a:path>
              <a:path fill="lightenLess" w="29318" h="21600">
                <a:moveTo>
                  <a:pt x="0" y="0"/>
                </a:moveTo>
                <a:lnTo>
                  <a:pt x="29318" y="0"/>
                </a:lnTo>
                <a:lnTo>
                  <a:pt x="27918" y="1400"/>
                </a:lnTo>
                <a:lnTo>
                  <a:pt x="1400" y="1400"/>
                </a:lnTo>
                <a:close/>
              </a:path>
              <a:path fill="darken" w="29318" h="21600">
                <a:moveTo>
                  <a:pt x="29318" y="0"/>
                </a:moveTo>
                <a:lnTo>
                  <a:pt x="29318" y="21600"/>
                </a:lnTo>
                <a:lnTo>
                  <a:pt x="27918" y="20200"/>
                </a:lnTo>
                <a:lnTo>
                  <a:pt x="27918" y="1400"/>
                </a:lnTo>
                <a:close/>
              </a:path>
              <a:path fill="darkenLess" w="29318" h="21600">
                <a:moveTo>
                  <a:pt x="29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8" y="20200"/>
                </a:lnTo>
                <a:close/>
              </a:path>
              <a:path fill="lighten" w="29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8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4949 C -0.03577 -0.09551 -0.05261 -0.14154 -0.08195 -0.15587 C -0.11129 -0.17021 -0.13577 -0.14084 -0.19427 -0.13552 C -0.25278 -0.1302 -0.39566 -0.15772 -0.43264 -0.12327 C -0.46962 -0.08881 -0.4658 0.0414 -0.4158 0.07146 C -0.3658 0.10153 -0.19011 0.0599 -0.13264 0.05712 C -0.07518 0.05435 -0.08368 0.02983 -0.07118 0.05504 C -0.05868 0.08025 -0.05903 0.18316 -0.05729 0.20883 E">
                                      <p:cBhvr>
                                        <p:cTn id="10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285840" y="42876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2857680" y="1714680"/>
            <a:ext cx="71424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357192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4357800" y="1714680"/>
            <a:ext cx="85716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5214960" y="1714680"/>
            <a:ext cx="785880" cy="4284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кругленный прямоугольник 6"/>
          <p:cNvSpPr/>
          <p:nvPr/>
        </p:nvSpPr>
        <p:spPr>
          <a:xfrm>
            <a:off x="357120" y="271476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There are many clouds i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7"/>
          <p:cNvSpPr/>
          <p:nvPr/>
        </p:nvSpPr>
        <p:spPr>
          <a:xfrm>
            <a:off x="7143840" y="2714760"/>
            <a:ext cx="1785960" cy="15714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sk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43840" y="5500800"/>
            <a:ext cx="1428840" cy="857160"/>
          </a:xfrm>
          <a:custGeom>
            <a:avLst/>
            <a:gdLst>
              <a:gd name="textAreaLeft" fmla="*/ 55440 w 1428840"/>
              <a:gd name="textAreaRight" fmla="*/ 1373400 w 142884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41 -0.04741 C 0.01857 -0.06799 0.02691 -0.08834 0.05816 -0.08834 C 0.08941 -0.08834 0.14948 -0.04163 0.19809 -0.04741 C 0.2467 -0.05319 0.31719 -0.13969 0.35034 -0.12327 C 0.3835 -0.10685 0.41788 0.01804 0.39653 0.05111 C 0.37517 0.08418 0.25555 0.04833 0.22274 0.07562 C 0.18993 0.10291 0.19479 0.15865 0.19965 0.21485 E">
                                      <p:cBhvr>
                                        <p:cTn id="130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6"/>
          <p:cNvSpPr/>
          <p:nvPr/>
        </p:nvSpPr>
        <p:spPr>
          <a:xfrm>
            <a:off x="428760" y="1785960"/>
            <a:ext cx="4286160" cy="12142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Gagarin wa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кругленный прямоугольник 7"/>
          <p:cNvSpPr/>
          <p:nvPr/>
        </p:nvSpPr>
        <p:spPr>
          <a:xfrm>
            <a:off x="1357200" y="3857760"/>
            <a:ext cx="7358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first cosmonau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429680" y="5786280"/>
            <a:ext cx="1214280" cy="785880"/>
          </a:xfrm>
          <a:custGeom>
            <a:avLst/>
            <a:gdLst>
              <a:gd name="textAreaLeft" fmla="*/ 50760 w 1214280"/>
              <a:gd name="textAreaRight" fmla="*/ 1163520 w 12142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33369" h="21600">
                <a:moveTo>
                  <a:pt x="0" y="0"/>
                </a:moveTo>
                <a:lnTo>
                  <a:pt x="33369" y="0"/>
                </a:lnTo>
                <a:lnTo>
                  <a:pt x="33369" y="21600"/>
                </a:lnTo>
                <a:lnTo>
                  <a:pt x="0" y="21600"/>
                </a:lnTo>
                <a:close/>
              </a:path>
              <a:path fill="lightenLess" w="33369" h="21600">
                <a:moveTo>
                  <a:pt x="0" y="0"/>
                </a:moveTo>
                <a:lnTo>
                  <a:pt x="33369" y="0"/>
                </a:lnTo>
                <a:lnTo>
                  <a:pt x="31969" y="1400"/>
                </a:lnTo>
                <a:lnTo>
                  <a:pt x="1400" y="1400"/>
                </a:lnTo>
                <a:close/>
              </a:path>
              <a:path fill="darken" w="33369" h="21600">
                <a:moveTo>
                  <a:pt x="33369" y="0"/>
                </a:moveTo>
                <a:lnTo>
                  <a:pt x="33369" y="21600"/>
                </a:lnTo>
                <a:lnTo>
                  <a:pt x="31969" y="20200"/>
                </a:lnTo>
                <a:lnTo>
                  <a:pt x="31969" y="1400"/>
                </a:lnTo>
                <a:close/>
              </a:path>
              <a:path fill="darkenLess" w="33369" h="21600">
                <a:moveTo>
                  <a:pt x="33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9" y="20200"/>
                </a:lnTo>
                <a:close/>
              </a:path>
              <a:path fill="lighten" w="33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9" h="21600">
                <a:moveTo>
                  <a:pt x="9678" y="3794"/>
                </a:moveTo>
                <a:lnTo>
                  <a:pt x="23691" y="10800"/>
                </a:lnTo>
                <a:lnTo>
                  <a:pt x="9678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53284E-006 C 0.00781 -0.04024 0.0158 -0.08025 0.07535 -0.07794 C 0.1349 -0.07562 0.34201 -0.03353 0.35694 0.01434 C 0.37187 0.06221 0.1967 0.17669 0.16458 0.20907 E">
                                      <p:cBhvr>
                                        <p:cTn id="16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6"/>
          <p:cNvSpPr/>
          <p:nvPr/>
        </p:nvSpPr>
        <p:spPr>
          <a:xfrm>
            <a:off x="285840" y="2143080"/>
            <a:ext cx="3071880" cy="1214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He is fro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7"/>
          <p:cNvSpPr/>
          <p:nvPr/>
        </p:nvSpPr>
        <p:spPr>
          <a:xfrm>
            <a:off x="4786200" y="2071800"/>
            <a:ext cx="328608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Ukra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358040" y="5572080"/>
            <a:ext cx="1285920" cy="785880"/>
          </a:xfrm>
          <a:custGeom>
            <a:avLst/>
            <a:gdLst>
              <a:gd name="textAreaLeft" fmla="*/ 50760 w 1285920"/>
              <a:gd name="textAreaRight" fmla="*/ 1235160 w 12859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35337" h="21600">
                <a:moveTo>
                  <a:pt x="0" y="0"/>
                </a:moveTo>
                <a:lnTo>
                  <a:pt x="35337" y="0"/>
                </a:lnTo>
                <a:lnTo>
                  <a:pt x="35337" y="21600"/>
                </a:lnTo>
                <a:lnTo>
                  <a:pt x="0" y="21600"/>
                </a:lnTo>
                <a:close/>
              </a:path>
              <a:path fill="lightenLess" w="35337" h="21600">
                <a:moveTo>
                  <a:pt x="0" y="0"/>
                </a:moveTo>
                <a:lnTo>
                  <a:pt x="35337" y="0"/>
                </a:lnTo>
                <a:lnTo>
                  <a:pt x="33937" y="1400"/>
                </a:lnTo>
                <a:lnTo>
                  <a:pt x="1400" y="1400"/>
                </a:lnTo>
                <a:close/>
              </a:path>
              <a:path fill="darken" w="35337" h="21600">
                <a:moveTo>
                  <a:pt x="35337" y="0"/>
                </a:moveTo>
                <a:lnTo>
                  <a:pt x="35337" y="21600"/>
                </a:lnTo>
                <a:lnTo>
                  <a:pt x="33937" y="20200"/>
                </a:lnTo>
                <a:lnTo>
                  <a:pt x="33937" y="1400"/>
                </a:lnTo>
                <a:close/>
              </a:path>
              <a:path fill="darkenLess" w="35337" h="21600">
                <a:moveTo>
                  <a:pt x="35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7" y="20200"/>
                </a:lnTo>
                <a:close/>
              </a:path>
              <a:path fill="lighten" w="35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37" h="21600">
                <a:moveTo>
                  <a:pt x="10662" y="3794"/>
                </a:moveTo>
                <a:lnTo>
                  <a:pt x="24675" y="10800"/>
                </a:lnTo>
                <a:lnTo>
                  <a:pt x="1066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0.04167 C -0.14323 0.03611 -0.29635 0.03056 -0.35781 0.04167 C -0.41927 0.05278 -0.41232 0.1037 -0.35937 0.10833 C -0.30642 0.11296 -0.09028 0.04653 -0.0401 0.06944 C 0.0099 0.09236 -0.02396 0.16898 -0.05798 0.24583 E">
                                      <p:cBhvr>
                                        <p:cTn id="202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1"/>
          <p:cNvSpPr/>
          <p:nvPr/>
        </p:nvSpPr>
        <p:spPr>
          <a:xfrm>
            <a:off x="357120" y="4287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2"/>
          <p:cNvSpPr/>
          <p:nvPr/>
        </p:nvSpPr>
        <p:spPr>
          <a:xfrm>
            <a:off x="2714760" y="114300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3"/>
          <p:cNvSpPr/>
          <p:nvPr/>
        </p:nvSpPr>
        <p:spPr>
          <a:xfrm>
            <a:off x="342900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4"/>
          <p:cNvSpPr/>
          <p:nvPr/>
        </p:nvSpPr>
        <p:spPr>
          <a:xfrm>
            <a:off x="4214880" y="114300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5"/>
          <p:cNvSpPr/>
          <p:nvPr/>
        </p:nvSpPr>
        <p:spPr>
          <a:xfrm>
            <a:off x="507204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6"/>
          <p:cNvSpPr/>
          <p:nvPr/>
        </p:nvSpPr>
        <p:spPr>
          <a:xfrm>
            <a:off x="500040" y="2071800"/>
            <a:ext cx="400068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Tom i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7"/>
          <p:cNvSpPr/>
          <p:nvPr/>
        </p:nvSpPr>
        <p:spPr>
          <a:xfrm>
            <a:off x="2214720" y="3786120"/>
            <a:ext cx="6572160" cy="12146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Great Brita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643880" y="585792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01 -0.00232 C 0.15295 -0.07801 0.2599 -0.15348 0.30885 -0.14422 C 0.35781 -0.13496 0.40174 0.00463 0.33958 0.0537 C 0.27743 0.10277 -0.02309 0.12477 -0.06372 0.15046 C -0.10434 0.17615 -0.00416999999999999 0.19236 0.09601 0.20856 E">
                                      <p:cBhvr>
                                        <p:cTn id="244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642960" y="42876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2"/>
          <p:cNvSpPr/>
          <p:nvPr/>
        </p:nvSpPr>
        <p:spPr>
          <a:xfrm>
            <a:off x="2714760" y="114300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3"/>
          <p:cNvSpPr/>
          <p:nvPr/>
        </p:nvSpPr>
        <p:spPr>
          <a:xfrm>
            <a:off x="342900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4214880" y="114300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5072040" y="114300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6"/>
          <p:cNvSpPr/>
          <p:nvPr/>
        </p:nvSpPr>
        <p:spPr>
          <a:xfrm>
            <a:off x="857160" y="2428920"/>
            <a:ext cx="407196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In this hou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7"/>
          <p:cNvSpPr/>
          <p:nvPr/>
        </p:nvSpPr>
        <p:spPr>
          <a:xfrm>
            <a:off x="3429000" y="4143240"/>
            <a:ext cx="5214960" cy="15004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Pushkins liv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857920"/>
            <a:ext cx="1143000" cy="571320"/>
          </a:xfrm>
          <a:custGeom>
            <a:avLst/>
            <a:gdLst>
              <a:gd name="textAreaLeft" fmla="*/ 36720 w 1143000"/>
              <a:gd name="textAreaRight" fmla="*/ 1106280 w 11430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0.03865 C 0.16424 -0.01852 0.31702 -0.07547 0.37934 -0.0625 C 0.44167 -0.04954 0.41806 0.06828 0.38577 0.11597 C 0.35347 0.16365 0.21163 0.19861 0.18577 0.22361 C 0.1599 0.24861 0.19532 0.25764 0.23091 0.26666 E">
                                      <p:cBhvr>
                                        <p:cTn id="274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кругленный прямоугольник 6"/>
          <p:cNvSpPr/>
          <p:nvPr/>
        </p:nvSpPr>
        <p:spPr>
          <a:xfrm>
            <a:off x="428760" y="1714680"/>
            <a:ext cx="3786120" cy="12855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There w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7"/>
          <p:cNvSpPr/>
          <p:nvPr/>
        </p:nvSpPr>
        <p:spPr>
          <a:xfrm>
            <a:off x="357120" y="3500280"/>
            <a:ext cx="8429760" cy="15717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Rockwell"/>
              </a:rPr>
              <a:t>pictures on the wall in his fla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143840" y="5857920"/>
            <a:ext cx="1071360" cy="642960"/>
          </a:xfrm>
          <a:custGeom>
            <a:avLst/>
            <a:gdLst>
              <a:gd name="textAreaLeft" fmla="*/ 41400 w 1071360"/>
              <a:gd name="textAreaRight" fmla="*/ 1029960 w 10713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84" h="21600">
                <a:moveTo>
                  <a:pt x="0" y="0"/>
                </a:moveTo>
                <a:lnTo>
                  <a:pt x="35984" y="0"/>
                </a:lnTo>
                <a:lnTo>
                  <a:pt x="35984" y="21600"/>
                </a:lnTo>
                <a:lnTo>
                  <a:pt x="0" y="21600"/>
                </a:lnTo>
                <a:close/>
              </a:path>
              <a:path fill="lightenLess" w="35984" h="21600">
                <a:moveTo>
                  <a:pt x="0" y="0"/>
                </a:moveTo>
                <a:lnTo>
                  <a:pt x="35984" y="0"/>
                </a:lnTo>
                <a:lnTo>
                  <a:pt x="34584" y="1400"/>
                </a:lnTo>
                <a:lnTo>
                  <a:pt x="1400" y="1400"/>
                </a:lnTo>
                <a:close/>
              </a:path>
              <a:path fill="darken" w="35984" h="21600">
                <a:moveTo>
                  <a:pt x="35984" y="0"/>
                </a:moveTo>
                <a:lnTo>
                  <a:pt x="35984" y="21600"/>
                </a:lnTo>
                <a:lnTo>
                  <a:pt x="34584" y="20200"/>
                </a:lnTo>
                <a:lnTo>
                  <a:pt x="34584" y="1400"/>
                </a:lnTo>
                <a:close/>
              </a:path>
              <a:path fill="darkenLess" w="35984" h="21600">
                <a:moveTo>
                  <a:pt x="3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4" y="20200"/>
                </a:lnTo>
                <a:close/>
              </a:path>
              <a:path fill="lighten" w="3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4" h="21600">
                <a:moveTo>
                  <a:pt x="10985" y="3794"/>
                </a:moveTo>
                <a:lnTo>
                  <a:pt x="24998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34505E-006 C 0.04531 -0.03169 0.0908 -0.06337 0.14618 -0.05135 C 0.20156 -0.03932 0.32135 0.03792 0.33229 0.07169 C 0.34323 0.10545 0.24444 0.15818 0.21232 0.15147 C 0.1802 0.14477 0.17257 0.02081 0.13993 0.03075 C 0.10729 0.0407 0.06198 0.1258 0.01684 0.21091 E">
                                      <p:cBhvr>
                                        <p:cTn id="31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кругленный прямоугольник 6"/>
          <p:cNvSpPr/>
          <p:nvPr/>
        </p:nvSpPr>
        <p:spPr>
          <a:xfrm>
            <a:off x="357120" y="2143080"/>
            <a:ext cx="1500120" cy="14288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It’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7"/>
          <p:cNvSpPr/>
          <p:nvPr/>
        </p:nvSpPr>
        <p:spPr>
          <a:xfrm>
            <a:off x="2857680" y="2071800"/>
            <a:ext cx="6000480" cy="15001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lovely day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429680" y="5286240"/>
            <a:ext cx="1285560" cy="928800"/>
          </a:xfrm>
          <a:custGeom>
            <a:avLst/>
            <a:gdLst>
              <a:gd name="textAreaLeft" fmla="*/ 60120 w 1285560"/>
              <a:gd name="textAreaRight" fmla="*/ 1225440 w 128556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9894" h="21600">
                <a:moveTo>
                  <a:pt x="0" y="0"/>
                </a:moveTo>
                <a:lnTo>
                  <a:pt x="29894" y="0"/>
                </a:lnTo>
                <a:lnTo>
                  <a:pt x="29894" y="21600"/>
                </a:lnTo>
                <a:lnTo>
                  <a:pt x="0" y="21600"/>
                </a:lnTo>
                <a:close/>
              </a:path>
              <a:path fill="lightenLess" w="29894" h="21600">
                <a:moveTo>
                  <a:pt x="0" y="0"/>
                </a:moveTo>
                <a:lnTo>
                  <a:pt x="29894" y="0"/>
                </a:lnTo>
                <a:lnTo>
                  <a:pt x="28494" y="1400"/>
                </a:lnTo>
                <a:lnTo>
                  <a:pt x="1400" y="1400"/>
                </a:lnTo>
                <a:close/>
              </a:path>
              <a:path fill="darken" w="29894" h="21600">
                <a:moveTo>
                  <a:pt x="29894" y="0"/>
                </a:moveTo>
                <a:lnTo>
                  <a:pt x="29894" y="21600"/>
                </a:lnTo>
                <a:lnTo>
                  <a:pt x="28494" y="20200"/>
                </a:lnTo>
                <a:lnTo>
                  <a:pt x="28494" y="1400"/>
                </a:lnTo>
                <a:close/>
              </a:path>
              <a:path fill="darkenLess" w="29894" h="21600">
                <a:moveTo>
                  <a:pt x="29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4" y="20200"/>
                </a:lnTo>
                <a:close/>
              </a:path>
              <a:path fill="lighten" w="29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4" h="21600">
                <a:moveTo>
                  <a:pt x="7940" y="3794"/>
                </a:moveTo>
                <a:lnTo>
                  <a:pt x="21953" y="10800"/>
                </a:lnTo>
                <a:lnTo>
                  <a:pt x="7940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46 0.00069 C -0.05521 -0.02729 -0.09879 -0.05528 -0.13906 -0.04834 C -0.17934 -0.0414 -0.28472 0.01827 -0.25295 0.04185 C -0.22118 0.06544 0.02153 0.05573 0.05156 0.09296 C 0.08159 0.1302 -0.05226 0.23635 -0.07292 0.26503 E">
                                      <p:cBhvr>
                                        <p:cTn id="33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428760" y="285840"/>
            <a:ext cx="83581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definite article (a / 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исчисляемым существительным в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динственном числ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, когда оно называется в речи впервые </a:t>
            </a: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I se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black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og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. Перед названием профессии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(My father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octor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. He isn’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engineer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3. В восклицательных предложениях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(Wh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 nice girl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 –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глас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 –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еред согласн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7"/>
          <p:cNvSpPr/>
          <p:nvPr/>
        </p:nvSpPr>
        <p:spPr>
          <a:xfrm>
            <a:off x="1143000" y="1928880"/>
            <a:ext cx="7715160" cy="278604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lake Baikal is the deepest lake in the worl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429680" y="5572080"/>
            <a:ext cx="1214280" cy="714600"/>
          </a:xfrm>
          <a:custGeom>
            <a:avLst/>
            <a:gdLst>
              <a:gd name="textAreaLeft" fmla="*/ 46080 w 1214280"/>
              <a:gd name="textAreaRight" fmla="*/ 1168200 w 12142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36696" h="21600">
                <a:moveTo>
                  <a:pt x="0" y="0"/>
                </a:moveTo>
                <a:lnTo>
                  <a:pt x="36696" y="0"/>
                </a:lnTo>
                <a:lnTo>
                  <a:pt x="36696" y="21600"/>
                </a:lnTo>
                <a:lnTo>
                  <a:pt x="0" y="21600"/>
                </a:lnTo>
                <a:close/>
              </a:path>
              <a:path fill="lightenLess" w="36696" h="21600">
                <a:moveTo>
                  <a:pt x="0" y="0"/>
                </a:moveTo>
                <a:lnTo>
                  <a:pt x="36696" y="0"/>
                </a:lnTo>
                <a:lnTo>
                  <a:pt x="35296" y="1400"/>
                </a:lnTo>
                <a:lnTo>
                  <a:pt x="1400" y="1400"/>
                </a:lnTo>
                <a:close/>
              </a:path>
              <a:path fill="darken" w="36696" h="21600">
                <a:moveTo>
                  <a:pt x="36696" y="0"/>
                </a:moveTo>
                <a:lnTo>
                  <a:pt x="36696" y="21600"/>
                </a:lnTo>
                <a:lnTo>
                  <a:pt x="35296" y="20200"/>
                </a:lnTo>
                <a:lnTo>
                  <a:pt x="35296" y="1400"/>
                </a:lnTo>
                <a:close/>
              </a:path>
              <a:path fill="darkenLess" w="36696" h="21600">
                <a:moveTo>
                  <a:pt x="36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96" y="20200"/>
                </a:lnTo>
                <a:close/>
              </a:path>
              <a:path fill="lighten" w="36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96" h="21600">
                <a:moveTo>
                  <a:pt x="11342" y="3794"/>
                </a:moveTo>
                <a:lnTo>
                  <a:pt x="25355" y="10800"/>
                </a:lnTo>
                <a:lnTo>
                  <a:pt x="11342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3 -0.04256 C 0.0967 -0.05944 0.14722 -0.07609 0.18663 -0.0673 C 0.22604 -0.05852 0.30608 -0.01573 0.28351 0.01063 C 0.26094 0.037 0.13767 0.08765 0.05121 0.09065 C -0.03524 0.09366 -0.1526 0.04209 -0.2349 0.02914 C -0.31719 0.01618 -0.39583 -0.02036 -0.44254 0.01272 C -0.48924 0.04556 -0.50382 0.19333 -0.51493 0.22779 E">
                                      <p:cBhvr>
                                        <p:cTn id="383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2"/>
          <p:cNvSpPr/>
          <p:nvPr/>
        </p:nvSpPr>
        <p:spPr>
          <a:xfrm>
            <a:off x="2714760" y="857160"/>
            <a:ext cx="71424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3"/>
          <p:cNvSpPr/>
          <p:nvPr/>
        </p:nvSpPr>
        <p:spPr>
          <a:xfrm>
            <a:off x="342900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4"/>
          <p:cNvSpPr/>
          <p:nvPr/>
        </p:nvSpPr>
        <p:spPr>
          <a:xfrm>
            <a:off x="4214880" y="857160"/>
            <a:ext cx="85716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5072040" y="857160"/>
            <a:ext cx="785880" cy="4287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Скругленный прямоугольник 6"/>
          <p:cNvSpPr/>
          <p:nvPr/>
        </p:nvSpPr>
        <p:spPr>
          <a:xfrm>
            <a:off x="428760" y="2071800"/>
            <a:ext cx="2000160" cy="10713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He</a:t>
            </a:r>
            <a:r>
              <a:rPr b="1" lang="en-US" sz="4800" spc="-1" strike="noStrike">
                <a:solidFill>
                  <a:srgbClr val="ffff00"/>
                </a:solidFill>
                <a:latin typeface="Rockwell"/>
              </a:rPr>
              <a:t> i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Скругленный прямоугольник 7"/>
          <p:cNvSpPr/>
          <p:nvPr/>
        </p:nvSpPr>
        <p:spPr>
          <a:xfrm>
            <a:off x="3714840" y="2000160"/>
            <a:ext cx="5072040" cy="11430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ockwell"/>
              </a:rPr>
              <a:t>tallest pupil in his clas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643720"/>
            <a:ext cx="1214280" cy="714240"/>
          </a:xfrm>
          <a:custGeom>
            <a:avLst/>
            <a:gdLst>
              <a:gd name="textAreaLeft" fmla="*/ 46080 w 1214280"/>
              <a:gd name="textAreaRight" fmla="*/ 1168200 w 12142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6715" h="21600">
                <a:moveTo>
                  <a:pt x="0" y="0"/>
                </a:moveTo>
                <a:lnTo>
                  <a:pt x="36715" y="0"/>
                </a:lnTo>
                <a:lnTo>
                  <a:pt x="36715" y="21600"/>
                </a:lnTo>
                <a:lnTo>
                  <a:pt x="0" y="21600"/>
                </a:lnTo>
                <a:close/>
              </a:path>
              <a:path fill="lightenLess" w="36715" h="21600">
                <a:moveTo>
                  <a:pt x="0" y="0"/>
                </a:moveTo>
                <a:lnTo>
                  <a:pt x="36715" y="0"/>
                </a:lnTo>
                <a:lnTo>
                  <a:pt x="35315" y="1400"/>
                </a:lnTo>
                <a:lnTo>
                  <a:pt x="1400" y="1400"/>
                </a:lnTo>
                <a:close/>
              </a:path>
              <a:path fill="darken" w="36715" h="21600">
                <a:moveTo>
                  <a:pt x="36715" y="0"/>
                </a:moveTo>
                <a:lnTo>
                  <a:pt x="36715" y="21600"/>
                </a:lnTo>
                <a:lnTo>
                  <a:pt x="35315" y="20200"/>
                </a:lnTo>
                <a:lnTo>
                  <a:pt x="35315" y="1400"/>
                </a:lnTo>
                <a:close/>
              </a:path>
              <a:path fill="darkenLess" w="36715" h="21600">
                <a:moveTo>
                  <a:pt x="36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5" y="20200"/>
                </a:lnTo>
                <a:close/>
              </a:path>
              <a:path fill="lighten" w="36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5" h="21600">
                <a:moveTo>
                  <a:pt x="11351" y="3794"/>
                </a:moveTo>
                <a:lnTo>
                  <a:pt x="25364" y="10800"/>
                </a:lnTo>
                <a:lnTo>
                  <a:pt x="11351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6 0.03727 C 0.10729 0.03773 0.19653 0.03819 0.23889 0.04815 C 0.28125 0.0581 0.31615 0.08241 0.27292 0.09745 C 0.22969 0.1125 0.04809 0.14699 -0.02066 0.13843 C -0.08941 0.12986 -0.11371 0.03194 -0.1401 0.04583 C -0.16649 0.05972 -0.17274 0.14097 -0.17882 0.22222 E">
                                      <p:cBhvr>
                                        <p:cTn id="41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2"/>
          <p:cNvSpPr/>
          <p:nvPr/>
        </p:nvSpPr>
        <p:spPr>
          <a:xfrm>
            <a:off x="2714760" y="785880"/>
            <a:ext cx="71424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3"/>
          <p:cNvSpPr/>
          <p:nvPr/>
        </p:nvSpPr>
        <p:spPr>
          <a:xfrm>
            <a:off x="342900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4214880" y="785880"/>
            <a:ext cx="85716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5"/>
          <p:cNvSpPr/>
          <p:nvPr/>
        </p:nvSpPr>
        <p:spPr>
          <a:xfrm>
            <a:off x="507204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Скругленный прямоугольник 6"/>
          <p:cNvSpPr/>
          <p:nvPr/>
        </p:nvSpPr>
        <p:spPr>
          <a:xfrm>
            <a:off x="214200" y="2143080"/>
            <a:ext cx="2428920" cy="11430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I hav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Скругленный прямоугольник 7"/>
          <p:cNvSpPr/>
          <p:nvPr/>
        </p:nvSpPr>
        <p:spPr>
          <a:xfrm>
            <a:off x="3571920" y="2000160"/>
            <a:ext cx="542916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orange pencil-bo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286760" y="5500800"/>
            <a:ext cx="1285920" cy="857160"/>
          </a:xfrm>
          <a:custGeom>
            <a:avLst/>
            <a:gdLst>
              <a:gd name="textAreaLeft" fmla="*/ 55440 w 1285920"/>
              <a:gd name="textAreaRight" fmla="*/ 1230480 w 128592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4467 C -0.07569 0.06412 -0.16719 0.08379 -0.22118 0.07268 C -0.27517 0.06157 -0.29288 -0.04375 -0.30816 -0.02199 C -0.32344 -0.000240000000000001 -0.35816 0.18379 -0.31302 0.20393 C -0.26788 0.22407 -0.07604 0.09189 -0.03715 0.09861 C 0.00174 0.10532 -0.03871 0.175 -0.07916 0.24467 E">
                                      <p:cBhvr>
                                        <p:cTn id="44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428760" y="2142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берите правильный вариант артик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оугольник 2"/>
          <p:cNvSpPr/>
          <p:nvPr/>
        </p:nvSpPr>
        <p:spPr>
          <a:xfrm>
            <a:off x="2714760" y="785880"/>
            <a:ext cx="71424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оугольник 3"/>
          <p:cNvSpPr/>
          <p:nvPr/>
        </p:nvSpPr>
        <p:spPr>
          <a:xfrm>
            <a:off x="342900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4"/>
          <p:cNvSpPr/>
          <p:nvPr/>
        </p:nvSpPr>
        <p:spPr>
          <a:xfrm>
            <a:off x="4214880" y="785880"/>
            <a:ext cx="85716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5072040" y="785880"/>
            <a:ext cx="785880" cy="50004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Скругленный прямоугольник 6"/>
          <p:cNvSpPr/>
          <p:nvPr/>
        </p:nvSpPr>
        <p:spPr>
          <a:xfrm>
            <a:off x="642960" y="2214720"/>
            <a:ext cx="7429320" cy="128556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Would you like to dri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Скругленный прямоугольник 7"/>
          <p:cNvSpPr/>
          <p:nvPr/>
        </p:nvSpPr>
        <p:spPr>
          <a:xfrm>
            <a:off x="857160" y="4214880"/>
            <a:ext cx="7143840" cy="128592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"/>
              </a:rPr>
              <a:t>orange ju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72240" y="5857920"/>
            <a:ext cx="1000440" cy="571320"/>
          </a:xfrm>
          <a:custGeom>
            <a:avLst/>
            <a:gdLst>
              <a:gd name="textAreaLeft" fmla="*/ 36720 w 1000440"/>
              <a:gd name="textAreaRight" fmla="*/ 963720 w 100044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3794"/>
                </a:moveTo>
                <a:lnTo>
                  <a:pt x="25913" y="10800"/>
                </a:lnTo>
                <a:lnTo>
                  <a:pt x="11900" y="1780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-0.02732 C 0.15538 -0.04399 0.27656 -0.06042 0.27448 -0.04028 C 0.2724 -0.02014 0.00903 0.04398 0.02135 0.09305 C 0.03368 0.14213 0.31302 0.20138 0.34878 0.25393 C 0.38455 0.3074 0.31806 0.38495 0.23576 0.41134 C 0.15347 0.43773 0.00434000000000001 0.42546 -0.14479 0.41342 E">
                                      <p:cBhvr>
                                        <p:cTn id="491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1"/>
          <p:cNvSpPr/>
          <p:nvPr/>
        </p:nvSpPr>
        <p:spPr>
          <a:xfrm>
            <a:off x="285840" y="1000080"/>
            <a:ext cx="8572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ные ресур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олетова М.З., Добрынина Н.В. «Английский язык: Английский с удовольствием/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 English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для 8 класса общеобраз. учрежд. – Обнинск: Титул,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глийский язык: Весь школьный курс в таблицах / авт. – сост. Т. Е. Лабода. – Минск: Современная школа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214200" y="285840"/>
            <a:ext cx="871560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Rockwell"/>
              </a:rPr>
              <a:t>Definite article (the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существительными как в единственном, так и во множественном числе, когда оно уже знакомо или упоминалось в речи ранее </a:t>
            </a:r>
            <a:r>
              <a:rPr b="1" lang="ru-RU" sz="3200" spc="-1" strike="noStrike">
                <a:solidFill>
                  <a:srgbClr val="00b050"/>
                </a:solidFill>
                <a:latin typeface="Cambria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I see 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a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dog. 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The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dog is black.</a:t>
            </a:r>
            <a:r>
              <a:rPr b="1" lang="en-US" sz="3200" spc="-1" strike="noStrike">
                <a:solidFill>
                  <a:srgbClr val="c00000"/>
                </a:solidFill>
                <a:latin typeface="Rockwell"/>
              </a:rPr>
              <a:t> The</a:t>
            </a:r>
            <a:r>
              <a:rPr b="1" lang="en-US" sz="3200" spc="-1" strike="noStrike">
                <a:solidFill>
                  <a:srgbClr val="00b050"/>
                </a:solidFill>
                <a:latin typeface="Rockwell"/>
              </a:rPr>
              <a:t> apples on the plate are red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существительными, являющимися единственными в своем роде (</a:t>
            </a: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Solar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Перед названиями сторон св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ou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357120" y="214200"/>
            <a:ext cx="85726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4.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ред названиями океанов, морей, рек, озер, каналов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Baltic Sea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;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English Channel</a:t>
            </a:r>
            <a:r>
              <a:rPr b="1" lang="ru-RU" sz="3600" spc="-1" strike="noStrike">
                <a:solidFill>
                  <a:srgbClr val="00b050"/>
                </a:solidFill>
                <a:latin typeface="Rockwel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Volga,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Ontario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5. Перед названиями горных цепей, пустынь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Pamirs; 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Sahara Desert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6. Перед названиями некоторых исторических учреждений (музеев, театро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7. Перед названиями газет (</a:t>
            </a:r>
            <a:r>
              <a:rPr b="1" lang="en-US" sz="3600" spc="-1" strike="noStrike">
                <a:solidFill>
                  <a:srgbClr val="ff0000"/>
                </a:solidFill>
                <a:latin typeface="Rockwel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Rockwell"/>
              </a:rPr>
              <a:t> Times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2"/>
          <p:cNvSpPr/>
          <p:nvPr/>
        </p:nvSpPr>
        <p:spPr>
          <a:xfrm>
            <a:off x="214200" y="428760"/>
            <a:ext cx="87156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еред названиями стран, содержащих слова: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Republic, kingdom, states, fed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 некоторых исключения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Netherlands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Ukraine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Philippines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Argentine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Vatican City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Cong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еред названиями национальностей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Russ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Перед порядковыми числительны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first student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7</a:t>
            </a:r>
            <a:r>
              <a:rPr b="1" lang="en-US" sz="36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"/>
          <p:cNvSpPr/>
          <p:nvPr/>
        </p:nvSpPr>
        <p:spPr>
          <a:xfrm>
            <a:off x="357120" y="428760"/>
            <a:ext cx="85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Перед существительными с прилагательными в превосходной степ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best sportsman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nicest da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2. Перед фамилиями во множественном числе, обозначающими членов одной семьи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Sidorov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Перед словам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atre/ cinema/ radio/ sky/ sea/ country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итулами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Que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214200" y="214200"/>
            <a:ext cx="8643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ero Article (No Artic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именами и фамилиями </a:t>
            </a: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Ivan Petro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стран, городов, улиц, площадей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Russia, Gorokhovets, Lenin street, Red Squa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островов, горных верши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Jamaica, Elbr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д названиями континен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(Africa, As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857160" y="785880"/>
            <a:ext cx="7715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Перед названиями видов спорта , игр, дней, месяцев, праздников, цветов, напитков, блюд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pla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otball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is my favourite colour;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д названиями ресторанов, магазинов, банков и отелей, которые названы в честь своих основателей и оканчивающихся н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s/ ‘s (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Barcl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 Bank, Harr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’s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Ban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838836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9:01:34Z</dcterms:created>
  <dc:creator>Учитель</dc:creator>
  <dc:description/>
  <dc:language>en-US</dc:language>
  <cp:lastModifiedBy>Администратор</cp:lastModifiedBy>
  <dcterms:modified xsi:type="dcterms:W3CDTF">2013-03-29T18:43:08Z</dcterms:modified>
  <cp:revision>47</cp:revision>
  <dc:subject/>
  <dc:title>Слайд 1</dc:title>
</cp:coreProperties>
</file>