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829-A0EB-4D3B-A27E-6266804D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977-9F33-438E-AD16-9939B071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A33A3-6125-463F-BF8F-8DC8691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898690-5C35-453C-98D1-9EBEAB40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424B17-3F1B-45D4-BD74-1BD0D132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E371FD-57F7-406C-BE5F-559950C9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FDC4C-77C1-400F-B20D-64A204D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645D17-A8A9-420C-A76D-34460A7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599E30-8521-488B-A8B9-6557ADA3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D371B-23C2-4452-9E68-CF374B07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339BB-3D42-49CE-8F65-A4A43512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F7A-004A-4984-B8BE-70EB594F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EA4-B0A2-47E6-BFB0-F0806AFB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6CE47-E8EB-4B56-93BA-AED92558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5CC86-961B-4D15-80EE-AF1962D3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1D241-B4E9-47BF-A9B9-693741B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B1CDD-DA51-4325-A005-145DC5A3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C97C7-6B69-462F-BB09-D21BE21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CE646-E203-4FD7-9EC5-44B0327E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F2790-2BD1-4528-96E1-E30E9FE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A4A-CA39-456A-9139-4332E64C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0237D-4376-4781-8AEF-4DB1741D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D7F66-9DA0-4D7E-B55F-9983572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F4503-3784-44EB-8432-0B287034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BB9A2-E31F-4640-A285-2F06CA29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A95B9-0615-4D9F-93B0-69BB05B7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8A49-FE65-4BDE-AA1B-0D99FD89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9D09-FDE9-4593-945F-EB42A30A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0A8B-C2F6-492C-84BF-AC9C28F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E8D2-0B77-433E-81AA-8B8394C6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E695-B5FF-4B3F-A217-0F0E326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353-56B8-4206-855A-979EAAB6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B6C9-7E73-4F36-9E48-BD1A3BE2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7C97-30E6-4AAA-B963-CE80328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38CE-EFDE-413B-A0D1-CC81CE8E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5180-9D2D-41BB-BAFE-AE2242CD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BF697-0D85-4C38-822C-104EF2FE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0948-0907-4D86-9AA9-189ADBA0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5876B-4882-4329-A26F-CEE5C857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0EA29-68CD-4743-87B8-2A6166BD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7873C-C9D8-4273-972C-BC940B8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8CE31-E19F-4555-9AF9-6AA822FD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B3F-7FFE-42F6-B4ED-1F0C1375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F86DD-026A-443F-87C1-A1B10F21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ECEA5-2021-4FF7-A910-D04B73AA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E5398-9F10-47F1-9BDA-7DE0AA6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9CC45-01DB-4134-8EFF-1CE1A76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886DE-5B2A-4078-A244-8C6F508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9AE7F6-DAA6-47E3-A96F-F65851D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10C24-D9A6-41C3-ACEE-DB23DB5B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CC871-3F57-4AE7-A90D-AC1AB557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185CC-B083-4A29-B005-F1BEB291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7B67-E02A-445B-9B8A-C61AF649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7A9-7E0A-4072-9EBF-8182AB2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3CA5-9C2C-4841-A298-0A5D58A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FB80-0E1E-4A33-9555-10BE0F7A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7F562-D97D-4B89-8268-45E71F2F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564E-5044-4FD5-B4FF-5CCC735E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B9F5-52D1-4773-985D-CE525A93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6721B-4AE1-4333-A761-CFC86FF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280D-C239-4F2A-A00A-C7C2AB55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73478-2834-4D38-9622-F1432F4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0EB8-B1D3-4081-BDCE-3C5C6F8A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8794-28DA-424A-8550-05339B5F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EEB-AE0D-4491-941F-C96DB633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F00C-A8F4-4CFC-A70C-9C916802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D791-1163-4644-9913-C826E524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8EDD1-5DFE-47AA-B906-39CF0AF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901E3-1EE4-4DC9-9CE3-A21F7A4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72C49-0ED2-4F3A-8ADA-8509158A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5B20-729C-4E79-8D0F-F536BE98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9DC9E-A221-4531-A15E-AD86A05C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DAECF-D06A-4EED-A7EB-21A2A40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ED9A-1DAD-4468-B376-E4ED9F55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203B3-9B7E-4B30-8A83-2DEA32C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856-3BAF-4CEF-9F53-A948A2A8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E619-E91D-451B-9C11-C18103B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158E-4D71-4484-B42C-C6165525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EE51D-8E42-4029-B3A2-14A6F85C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ED021-BA44-425F-A838-0D68A851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05D5-5BB3-423E-91E0-3D318488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F5A04-BFA7-4BA9-B142-0CB1B019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76AB-66EE-42CE-8A33-E1ED2067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6DB1-0DE7-421A-8B5B-84E41201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8C49D-C839-4841-AAF0-4B9AD3A9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FE44-0FC1-4D9E-A273-38D0C641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A14-34B1-43B2-BCEC-BE178E1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0E80F-BFE1-4CBF-BCCB-9152055E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0FD2-E038-4AB1-B4C7-747E373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14C8-DBD3-4755-8C2C-AA8C7A7A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7C293-22DD-49D9-9E9B-EF9A83FC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7C9A5-067F-430F-9308-CBFDB968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3F713-B27B-4BDF-98D3-24EFF190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FA2DD-B3CD-458A-B62E-DC6C3CD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2500E7-6D60-46FC-B3EB-5062D77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CE2650-7005-455D-8828-1EE085CD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40030-5391-4CA1-A4D2-BD3DC3B1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2C6-664C-401D-A8D8-0B58870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D7B44-77D3-45BE-9D81-6E979051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B3F16-B9D3-4276-AD83-11368680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F2697-A17E-45B2-8ECD-D2291BF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A4D19-D2C4-4763-82C3-B027584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D3DCF-0DB9-4677-BC73-A4EBAC51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24787-CE28-4771-BF97-47F1B671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29E51-66B7-4E5D-8404-D106CE96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47D17-201E-4BF2-9A7A-6FB5E52B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DBC84-737B-4EED-8B46-CDFD2952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2796A-22FD-4022-A2CE-C8FE851D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C4EA-6EB5-44BC-9A05-A56F3D82A57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261C-F5C8-4494-82BA-4A6E162F2D3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9B30-ED0F-4FE0-B300-53843504D60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11B3-1F3D-4086-80A6-8FBE7C64B41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E11-1165-4CB4-B998-0A78D8AF3D3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0C7B-7DDB-4895-A9DC-28B98E72E88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02B-50FF-41F0-B406-314CB86AB48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B6FE-0893-424D-96C0-0109325BDA2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A988-C12D-4B09-8DBB-C121F46A2F2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428760" y="35712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Articl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езентация – тренаже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2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кругленный прямоугольник 6"/>
          <p:cNvSpPr/>
          <p:nvPr/>
        </p:nvSpPr>
        <p:spPr>
          <a:xfrm>
            <a:off x="285840" y="3000240"/>
            <a:ext cx="3429000" cy="15717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I live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кругленный прямоугольник 7"/>
          <p:cNvSpPr/>
          <p:nvPr/>
        </p:nvSpPr>
        <p:spPr>
          <a:xfrm>
            <a:off x="5286240" y="2928960"/>
            <a:ext cx="3429000" cy="16430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Mosc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215120" y="5429160"/>
            <a:ext cx="1357560" cy="1000080"/>
          </a:xfrm>
          <a:custGeom>
            <a:avLst/>
            <a:gdLst>
              <a:gd name="textAreaLeft" fmla="*/ 64800 w 1357560"/>
              <a:gd name="textAreaRight" fmla="*/ 1292760 w 135756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9318" h="21600">
                <a:moveTo>
                  <a:pt x="0" y="0"/>
                </a:moveTo>
                <a:lnTo>
                  <a:pt x="29318" y="0"/>
                </a:lnTo>
                <a:lnTo>
                  <a:pt x="29318" y="21600"/>
                </a:lnTo>
                <a:lnTo>
                  <a:pt x="0" y="21600"/>
                </a:lnTo>
                <a:close/>
              </a:path>
              <a:path fill="lightenLess" w="29318" h="21600">
                <a:moveTo>
                  <a:pt x="0" y="0"/>
                </a:moveTo>
                <a:lnTo>
                  <a:pt x="29318" y="0"/>
                </a:lnTo>
                <a:lnTo>
                  <a:pt x="27918" y="1400"/>
                </a:lnTo>
                <a:lnTo>
                  <a:pt x="1400" y="1400"/>
                </a:lnTo>
                <a:close/>
              </a:path>
              <a:path fill="darken" w="29318" h="21600">
                <a:moveTo>
                  <a:pt x="29318" y="0"/>
                </a:moveTo>
                <a:lnTo>
                  <a:pt x="29318" y="21600"/>
                </a:lnTo>
                <a:lnTo>
                  <a:pt x="27918" y="20200"/>
                </a:lnTo>
                <a:lnTo>
                  <a:pt x="27918" y="1400"/>
                </a:lnTo>
                <a:close/>
              </a:path>
              <a:path fill="darkenLess" w="29318" h="21600">
                <a:moveTo>
                  <a:pt x="29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8" y="20200"/>
                </a:lnTo>
                <a:close/>
              </a:path>
              <a:path fill="lighten" w="29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8" h="21600">
                <a:moveTo>
                  <a:pt x="7653" y="3794"/>
                </a:moveTo>
                <a:lnTo>
                  <a:pt x="21666" y="10800"/>
                </a:lnTo>
                <a:lnTo>
                  <a:pt x="7653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72 -0.00023 C 0.04028 0.00925 0.01702 0.01896 0.01598 0.00601 C 0.01494 -0.00694 0.02101 -0.06661 0.05764 -0.07817 C 0.09428 -0.08973 0.20452 -0.08511 0.23612 -0.06383 C 0.26771 -0.04255 0.28282 0.01943 0.24688 0.04903 C 0.21094 0.07863 0.07761 0.1117 0.02066 0.11448 C -0.03628 0.11725 -0.07152 0.03839 -0.09479 0.06545 C -0.11805 0.09251 -0.11875 0.18409 -0.11927 0.27636 E">
                                      <p:cBhvr>
                                        <p:cTn id="36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1"/>
          <p:cNvSpPr/>
          <p:nvPr/>
        </p:nvSpPr>
        <p:spPr>
          <a:xfrm>
            <a:off x="357120" y="35712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14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15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оугольник 16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18"/>
          <p:cNvSpPr/>
          <p:nvPr/>
        </p:nvSpPr>
        <p:spPr>
          <a:xfrm>
            <a:off x="357120" y="2928960"/>
            <a:ext cx="385776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My father 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20"/>
          <p:cNvSpPr/>
          <p:nvPr/>
        </p:nvSpPr>
        <p:spPr>
          <a:xfrm>
            <a:off x="5429160" y="2857680"/>
            <a:ext cx="335772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manag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215120" y="5286240"/>
            <a:ext cx="1428840" cy="1143000"/>
          </a:xfrm>
          <a:custGeom>
            <a:avLst/>
            <a:gdLst>
              <a:gd name="textAreaLeft" fmla="*/ 73800 w 1428840"/>
              <a:gd name="textAreaRight" fmla="*/ 1355040 w 14288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5468 -0.00439 C -0.10503 -0.01665 -0.15521 -0.02868 -0.17465 -0.01873 C -0.19409 -0.00879 -0.2 0.03215 -0.17153 0.05504 C -0.14305 0.07794 -0.05486 0.11517 -0.00382 0.11864 C 0.04722 0.12211 0.104 0.05273 0.13455 0.07562 C 0.16511 0.09852 0.1717 0.22595 0.17917 0.25601 E">
                                      <p:cBhvr>
                                        <p:cTn id="53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5"/>
          <p:cNvSpPr/>
          <p:nvPr/>
        </p:nvSpPr>
        <p:spPr>
          <a:xfrm>
            <a:off x="357120" y="35712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7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8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9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11"/>
          <p:cNvSpPr/>
          <p:nvPr/>
        </p:nvSpPr>
        <p:spPr>
          <a:xfrm>
            <a:off x="285840" y="2786040"/>
            <a:ext cx="3429000" cy="14288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We visit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кругленный прямоугольник 12"/>
          <p:cNvSpPr/>
          <p:nvPr/>
        </p:nvSpPr>
        <p:spPr>
          <a:xfrm>
            <a:off x="4786200" y="2714760"/>
            <a:ext cx="4071960" cy="14284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Bolshoi Theat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215120" y="5429160"/>
            <a:ext cx="1357560" cy="1000080"/>
          </a:xfrm>
          <a:custGeom>
            <a:avLst/>
            <a:gdLst>
              <a:gd name="textAreaLeft" fmla="*/ 64800 w 1357560"/>
              <a:gd name="textAreaRight" fmla="*/ 1292760 w 135756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9318" h="21600">
                <a:moveTo>
                  <a:pt x="0" y="0"/>
                </a:moveTo>
                <a:lnTo>
                  <a:pt x="29318" y="0"/>
                </a:lnTo>
                <a:lnTo>
                  <a:pt x="29318" y="21600"/>
                </a:lnTo>
                <a:lnTo>
                  <a:pt x="0" y="21600"/>
                </a:lnTo>
                <a:close/>
              </a:path>
              <a:path fill="lightenLess" w="29318" h="21600">
                <a:moveTo>
                  <a:pt x="0" y="0"/>
                </a:moveTo>
                <a:lnTo>
                  <a:pt x="29318" y="0"/>
                </a:lnTo>
                <a:lnTo>
                  <a:pt x="27918" y="1400"/>
                </a:lnTo>
                <a:lnTo>
                  <a:pt x="1400" y="1400"/>
                </a:lnTo>
                <a:close/>
              </a:path>
              <a:path fill="darken" w="29318" h="21600">
                <a:moveTo>
                  <a:pt x="29318" y="0"/>
                </a:moveTo>
                <a:lnTo>
                  <a:pt x="29318" y="21600"/>
                </a:lnTo>
                <a:lnTo>
                  <a:pt x="27918" y="20200"/>
                </a:lnTo>
                <a:lnTo>
                  <a:pt x="27918" y="1400"/>
                </a:lnTo>
                <a:close/>
              </a:path>
              <a:path fill="darkenLess" w="29318" h="21600">
                <a:moveTo>
                  <a:pt x="29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8" y="20200"/>
                </a:lnTo>
                <a:close/>
              </a:path>
              <a:path fill="lighten" w="29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8" h="21600">
                <a:moveTo>
                  <a:pt x="7653" y="3794"/>
                </a:moveTo>
                <a:lnTo>
                  <a:pt x="21666" y="10800"/>
                </a:lnTo>
                <a:lnTo>
                  <a:pt x="7653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4949 C -0.03577 -0.09551 -0.05261 -0.14154 -0.08195 -0.15587 C -0.11129 -0.17021 -0.13577 -0.14084 -0.19427 -0.13552 C -0.25278 -0.1302 -0.39566 -0.15772 -0.43264 -0.12327 C -0.46962 -0.08881 -0.4658 0.0414 -0.4158 0.07146 C -0.3658 0.10153 -0.19011 0.0599 -0.13264 0.05712 C -0.07518 0.05435 -0.08368 0.02983 -0.07118 0.05504 C -0.05868 0.08025 -0.05903 0.18316 -0.05729 0.20883 E">
                                      <p:cBhvr>
                                        <p:cTn id="106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285840" y="42876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кругленный прямоугольник 6"/>
          <p:cNvSpPr/>
          <p:nvPr/>
        </p:nvSpPr>
        <p:spPr>
          <a:xfrm>
            <a:off x="357120" y="271476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There are many clouds 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7"/>
          <p:cNvSpPr/>
          <p:nvPr/>
        </p:nvSpPr>
        <p:spPr>
          <a:xfrm>
            <a:off x="7143840" y="2714760"/>
            <a:ext cx="1785960" cy="15714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sk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143840" y="5500800"/>
            <a:ext cx="1428840" cy="857160"/>
          </a:xfrm>
          <a:custGeom>
            <a:avLst/>
            <a:gdLst>
              <a:gd name="textAreaLeft" fmla="*/ 55440 w 1428840"/>
              <a:gd name="textAreaRight" fmla="*/ 1373400 w 142884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1 -0.04741 C 0.01857 -0.06799 0.02691 -0.08834 0.05816 -0.08834 C 0.08941 -0.08834 0.14948 -0.04163 0.19809 -0.04741 C 0.2467 -0.05319 0.31719 -0.13969 0.35034 -0.12327 C 0.3835 -0.10685 0.41788 0.01804 0.39653 0.05111 C 0.37517 0.08418 0.25555 0.04833 0.22274 0.07562 C 0.18993 0.10291 0.19479 0.15865 0.19965 0.21485 E">
                                      <p:cBhvr>
                                        <p:cTn id="130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6"/>
          <p:cNvSpPr/>
          <p:nvPr/>
        </p:nvSpPr>
        <p:spPr>
          <a:xfrm>
            <a:off x="428760" y="1785960"/>
            <a:ext cx="4286160" cy="12142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Gagarin wa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кругленный прямоугольник 7"/>
          <p:cNvSpPr/>
          <p:nvPr/>
        </p:nvSpPr>
        <p:spPr>
          <a:xfrm>
            <a:off x="1357200" y="3857760"/>
            <a:ext cx="735804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first cosmonau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429680" y="5786280"/>
            <a:ext cx="1214280" cy="785880"/>
          </a:xfrm>
          <a:custGeom>
            <a:avLst/>
            <a:gdLst>
              <a:gd name="textAreaLeft" fmla="*/ 50760 w 1214280"/>
              <a:gd name="textAreaRight" fmla="*/ 1163520 w 12142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33369" h="21600">
                <a:moveTo>
                  <a:pt x="0" y="0"/>
                </a:moveTo>
                <a:lnTo>
                  <a:pt x="33369" y="0"/>
                </a:lnTo>
                <a:lnTo>
                  <a:pt x="33369" y="21600"/>
                </a:lnTo>
                <a:lnTo>
                  <a:pt x="0" y="21600"/>
                </a:lnTo>
                <a:close/>
              </a:path>
              <a:path fill="lightenLess" w="33369" h="21600">
                <a:moveTo>
                  <a:pt x="0" y="0"/>
                </a:moveTo>
                <a:lnTo>
                  <a:pt x="33369" y="0"/>
                </a:lnTo>
                <a:lnTo>
                  <a:pt x="31969" y="1400"/>
                </a:lnTo>
                <a:lnTo>
                  <a:pt x="1400" y="1400"/>
                </a:lnTo>
                <a:close/>
              </a:path>
              <a:path fill="darken" w="33369" h="21600">
                <a:moveTo>
                  <a:pt x="33369" y="0"/>
                </a:moveTo>
                <a:lnTo>
                  <a:pt x="33369" y="21600"/>
                </a:lnTo>
                <a:lnTo>
                  <a:pt x="31969" y="20200"/>
                </a:lnTo>
                <a:lnTo>
                  <a:pt x="31969" y="1400"/>
                </a:lnTo>
                <a:close/>
              </a:path>
              <a:path fill="darkenLess" w="33369" h="21600">
                <a:moveTo>
                  <a:pt x="33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9" y="20200"/>
                </a:lnTo>
                <a:close/>
              </a:path>
              <a:path fill="lighten" w="33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9" h="21600">
                <a:moveTo>
                  <a:pt x="9678" y="3794"/>
                </a:moveTo>
                <a:lnTo>
                  <a:pt x="23691" y="10800"/>
                </a:lnTo>
                <a:lnTo>
                  <a:pt x="9678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53284E-006 C 0.00781 -0.04024 0.0158 -0.08025 0.07535 -0.07794 C 0.1349 -0.07562 0.34201 -0.03353 0.35694 0.01434 C 0.37187 0.06221 0.1967 0.17669 0.16458 0.20907 E">
                                      <p:cBhvr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6"/>
          <p:cNvSpPr/>
          <p:nvPr/>
        </p:nvSpPr>
        <p:spPr>
          <a:xfrm>
            <a:off x="285840" y="2143080"/>
            <a:ext cx="3071880" cy="12146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He is fro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7"/>
          <p:cNvSpPr/>
          <p:nvPr/>
        </p:nvSpPr>
        <p:spPr>
          <a:xfrm>
            <a:off x="4786200" y="2071800"/>
            <a:ext cx="328608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Ukra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358040" y="5572080"/>
            <a:ext cx="1285920" cy="785880"/>
          </a:xfrm>
          <a:custGeom>
            <a:avLst/>
            <a:gdLst>
              <a:gd name="textAreaLeft" fmla="*/ 50760 w 1285920"/>
              <a:gd name="textAreaRight" fmla="*/ 1235160 w 12859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35337" h="21600">
                <a:moveTo>
                  <a:pt x="0" y="0"/>
                </a:moveTo>
                <a:lnTo>
                  <a:pt x="35337" y="0"/>
                </a:lnTo>
                <a:lnTo>
                  <a:pt x="35337" y="21600"/>
                </a:lnTo>
                <a:lnTo>
                  <a:pt x="0" y="21600"/>
                </a:lnTo>
                <a:close/>
              </a:path>
              <a:path fill="lightenLess" w="35337" h="21600">
                <a:moveTo>
                  <a:pt x="0" y="0"/>
                </a:moveTo>
                <a:lnTo>
                  <a:pt x="35337" y="0"/>
                </a:lnTo>
                <a:lnTo>
                  <a:pt x="33937" y="1400"/>
                </a:lnTo>
                <a:lnTo>
                  <a:pt x="1400" y="1400"/>
                </a:lnTo>
                <a:close/>
              </a:path>
              <a:path fill="darken" w="35337" h="21600">
                <a:moveTo>
                  <a:pt x="35337" y="0"/>
                </a:moveTo>
                <a:lnTo>
                  <a:pt x="35337" y="21600"/>
                </a:lnTo>
                <a:lnTo>
                  <a:pt x="33937" y="20200"/>
                </a:lnTo>
                <a:lnTo>
                  <a:pt x="33937" y="1400"/>
                </a:lnTo>
                <a:close/>
              </a:path>
              <a:path fill="darkenLess" w="35337" h="21600">
                <a:moveTo>
                  <a:pt x="35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7" y="20200"/>
                </a:lnTo>
                <a:close/>
              </a:path>
              <a:path fill="lighten" w="35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37" h="21600">
                <a:moveTo>
                  <a:pt x="10662" y="3794"/>
                </a:moveTo>
                <a:lnTo>
                  <a:pt x="24675" y="10800"/>
                </a:lnTo>
                <a:lnTo>
                  <a:pt x="10662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0.04167 C -0.14323 0.03611 -0.29635 0.03056 -0.35781 0.04167 C -0.41927 0.05278 -0.41232 0.1037 -0.35937 0.10833 C -0.30642 0.11296 -0.09028 0.04653 -0.0401 0.06944 C 0.0099 0.09236 -0.02396 0.16898 -0.05798 0.24583 E">
                                      <p:cBhvr>
                                        <p:cTn id="202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1"/>
          <p:cNvSpPr/>
          <p:nvPr/>
        </p:nvSpPr>
        <p:spPr>
          <a:xfrm>
            <a:off x="357120" y="4287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2"/>
          <p:cNvSpPr/>
          <p:nvPr/>
        </p:nvSpPr>
        <p:spPr>
          <a:xfrm>
            <a:off x="2714760" y="114300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342900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4"/>
          <p:cNvSpPr/>
          <p:nvPr/>
        </p:nvSpPr>
        <p:spPr>
          <a:xfrm>
            <a:off x="4214880" y="114300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507204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6"/>
          <p:cNvSpPr/>
          <p:nvPr/>
        </p:nvSpPr>
        <p:spPr>
          <a:xfrm>
            <a:off x="500040" y="2071800"/>
            <a:ext cx="400068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Tom i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7"/>
          <p:cNvSpPr/>
          <p:nvPr/>
        </p:nvSpPr>
        <p:spPr>
          <a:xfrm>
            <a:off x="2214720" y="3786120"/>
            <a:ext cx="6572160" cy="12146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Great Brita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643880" y="585792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01 -0.00232 C 0.15295 -0.07801 0.2599 -0.15348 0.30885 -0.14422 C 0.35781 -0.13496 0.40174 0.00463 0.33958 0.0537 C 0.27743 0.10277 -0.02309 0.12477 -0.06372 0.15046 C -0.10434 0.17615 -0.00416999999999999 0.19236 0.09601 0.20856 E">
                                      <p:cBhvr>
                                        <p:cTn id="244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642960" y="4287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2"/>
          <p:cNvSpPr/>
          <p:nvPr/>
        </p:nvSpPr>
        <p:spPr>
          <a:xfrm>
            <a:off x="2714760" y="114300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3"/>
          <p:cNvSpPr/>
          <p:nvPr/>
        </p:nvSpPr>
        <p:spPr>
          <a:xfrm>
            <a:off x="342900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4214880" y="114300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507204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6"/>
          <p:cNvSpPr/>
          <p:nvPr/>
        </p:nvSpPr>
        <p:spPr>
          <a:xfrm>
            <a:off x="857160" y="2428920"/>
            <a:ext cx="407196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In this hou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7"/>
          <p:cNvSpPr/>
          <p:nvPr/>
        </p:nvSpPr>
        <p:spPr>
          <a:xfrm>
            <a:off x="3429000" y="4143240"/>
            <a:ext cx="5214960" cy="15004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Pushkins liv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286760" y="5857920"/>
            <a:ext cx="1143000" cy="57132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46 0.03865 C 0.16424 -0.01852 0.31702 -0.07547 0.37934 -0.0625 C 0.44167 -0.04954 0.41806 0.06828 0.38577 0.11597 C 0.35347 0.16365 0.21163 0.19861 0.18577 0.22361 C 0.1599 0.24861 0.19532 0.25764 0.23091 0.26666 E">
                                      <p:cBhvr>
                                        <p:cTn id="274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6"/>
          <p:cNvSpPr/>
          <p:nvPr/>
        </p:nvSpPr>
        <p:spPr>
          <a:xfrm>
            <a:off x="428760" y="1714680"/>
            <a:ext cx="3786120" cy="12855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There w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7"/>
          <p:cNvSpPr/>
          <p:nvPr/>
        </p:nvSpPr>
        <p:spPr>
          <a:xfrm>
            <a:off x="357120" y="3500280"/>
            <a:ext cx="8429760" cy="15717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Rockwell"/>
              </a:rPr>
              <a:t>pictures on the wall in his fla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143840" y="5857920"/>
            <a:ext cx="1071360" cy="642960"/>
          </a:xfrm>
          <a:custGeom>
            <a:avLst/>
            <a:gdLst>
              <a:gd name="textAreaLeft" fmla="*/ 41400 w 1071360"/>
              <a:gd name="textAreaRight" fmla="*/ 1029960 w 10713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984" h="21600">
                <a:moveTo>
                  <a:pt x="0" y="0"/>
                </a:moveTo>
                <a:lnTo>
                  <a:pt x="35984" y="0"/>
                </a:lnTo>
                <a:lnTo>
                  <a:pt x="35984" y="21600"/>
                </a:lnTo>
                <a:lnTo>
                  <a:pt x="0" y="21600"/>
                </a:lnTo>
                <a:close/>
              </a:path>
              <a:path fill="lightenLess" w="35984" h="21600">
                <a:moveTo>
                  <a:pt x="0" y="0"/>
                </a:moveTo>
                <a:lnTo>
                  <a:pt x="35984" y="0"/>
                </a:lnTo>
                <a:lnTo>
                  <a:pt x="34584" y="1400"/>
                </a:lnTo>
                <a:lnTo>
                  <a:pt x="1400" y="1400"/>
                </a:lnTo>
                <a:close/>
              </a:path>
              <a:path fill="darken" w="35984" h="21600">
                <a:moveTo>
                  <a:pt x="35984" y="0"/>
                </a:moveTo>
                <a:lnTo>
                  <a:pt x="35984" y="21600"/>
                </a:lnTo>
                <a:lnTo>
                  <a:pt x="34584" y="20200"/>
                </a:lnTo>
                <a:lnTo>
                  <a:pt x="34584" y="1400"/>
                </a:lnTo>
                <a:close/>
              </a:path>
              <a:path fill="darkenLess" w="35984" h="21600">
                <a:moveTo>
                  <a:pt x="3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4" y="20200"/>
                </a:lnTo>
                <a:close/>
              </a:path>
              <a:path fill="lighten" w="3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4" h="21600">
                <a:moveTo>
                  <a:pt x="10985" y="3794"/>
                </a:moveTo>
                <a:lnTo>
                  <a:pt x="24998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34505E-006 C 0.04531 -0.03169 0.0908 -0.06337 0.14618 -0.05135 C 0.20156 -0.03932 0.32135 0.03792 0.33229 0.07169 C 0.34323 0.10545 0.24444 0.15818 0.21232 0.15147 C 0.1802 0.14477 0.17257 0.02081 0.13993 0.03075 C 0.10729 0.0407 0.06198 0.1258 0.01684 0.21091 E">
                                      <p:cBhvr>
                                        <p:cTn id="31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кругленный прямоугольник 6"/>
          <p:cNvSpPr/>
          <p:nvPr/>
        </p:nvSpPr>
        <p:spPr>
          <a:xfrm>
            <a:off x="357120" y="2143080"/>
            <a:ext cx="1500120" cy="14288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It’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7"/>
          <p:cNvSpPr/>
          <p:nvPr/>
        </p:nvSpPr>
        <p:spPr>
          <a:xfrm>
            <a:off x="2857680" y="2071800"/>
            <a:ext cx="6000480" cy="15001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lovely day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429680" y="5286240"/>
            <a:ext cx="1285560" cy="928800"/>
          </a:xfrm>
          <a:custGeom>
            <a:avLst/>
            <a:gdLst>
              <a:gd name="textAreaLeft" fmla="*/ 60120 w 1285560"/>
              <a:gd name="textAreaRight" fmla="*/ 1225440 w 128556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9894" h="21600">
                <a:moveTo>
                  <a:pt x="0" y="0"/>
                </a:moveTo>
                <a:lnTo>
                  <a:pt x="29894" y="0"/>
                </a:lnTo>
                <a:lnTo>
                  <a:pt x="29894" y="21600"/>
                </a:lnTo>
                <a:lnTo>
                  <a:pt x="0" y="21600"/>
                </a:lnTo>
                <a:close/>
              </a:path>
              <a:path fill="lightenLess" w="29894" h="21600">
                <a:moveTo>
                  <a:pt x="0" y="0"/>
                </a:moveTo>
                <a:lnTo>
                  <a:pt x="29894" y="0"/>
                </a:lnTo>
                <a:lnTo>
                  <a:pt x="28494" y="1400"/>
                </a:lnTo>
                <a:lnTo>
                  <a:pt x="1400" y="1400"/>
                </a:lnTo>
                <a:close/>
              </a:path>
              <a:path fill="darken" w="29894" h="21600">
                <a:moveTo>
                  <a:pt x="29894" y="0"/>
                </a:moveTo>
                <a:lnTo>
                  <a:pt x="29894" y="21600"/>
                </a:lnTo>
                <a:lnTo>
                  <a:pt x="28494" y="20200"/>
                </a:lnTo>
                <a:lnTo>
                  <a:pt x="28494" y="1400"/>
                </a:lnTo>
                <a:close/>
              </a:path>
              <a:path fill="darkenLess" w="29894" h="21600">
                <a:moveTo>
                  <a:pt x="29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4" y="20200"/>
                </a:lnTo>
                <a:close/>
              </a:path>
              <a:path fill="lighten" w="29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4" h="21600">
                <a:moveTo>
                  <a:pt x="7940" y="3794"/>
                </a:moveTo>
                <a:lnTo>
                  <a:pt x="21953" y="10800"/>
                </a:lnTo>
                <a:lnTo>
                  <a:pt x="7940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0.00069 C -0.05521 -0.02729 -0.09879 -0.05528 -0.13906 -0.04834 C -0.17934 -0.0414 -0.28472 0.01827 -0.25295 0.04185 C -0.22118 0.06544 0.02153 0.05573 0.05156 0.09296 C 0.08159 0.1302 -0.05226 0.23635 -0.07292 0.26503 E">
                                      <p:cBhvr>
                                        <p:cTn id="334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428760" y="285840"/>
            <a:ext cx="83581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definite article (a / a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ред исчисляемым существительным в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динственном числ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, когда оно называется в речи впервые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I se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black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og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2. Перед названием профессии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(My father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octor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. He isn’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engineer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3. В восклицательных предложениях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(Wha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nice girl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 –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ред глас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–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ред соглас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7"/>
          <p:cNvSpPr/>
          <p:nvPr/>
        </p:nvSpPr>
        <p:spPr>
          <a:xfrm>
            <a:off x="1143000" y="1928880"/>
            <a:ext cx="7715160" cy="27860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lake Baikal is the deepest lake in the worl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429680" y="5572080"/>
            <a:ext cx="1214280" cy="714600"/>
          </a:xfrm>
          <a:custGeom>
            <a:avLst/>
            <a:gdLst>
              <a:gd name="textAreaLeft" fmla="*/ 46080 w 1214280"/>
              <a:gd name="textAreaRight" fmla="*/ 1168200 w 12142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36696" h="21600">
                <a:moveTo>
                  <a:pt x="0" y="0"/>
                </a:moveTo>
                <a:lnTo>
                  <a:pt x="36696" y="0"/>
                </a:lnTo>
                <a:lnTo>
                  <a:pt x="36696" y="21600"/>
                </a:lnTo>
                <a:lnTo>
                  <a:pt x="0" y="21600"/>
                </a:lnTo>
                <a:close/>
              </a:path>
              <a:path fill="lightenLess" w="36696" h="21600">
                <a:moveTo>
                  <a:pt x="0" y="0"/>
                </a:moveTo>
                <a:lnTo>
                  <a:pt x="36696" y="0"/>
                </a:lnTo>
                <a:lnTo>
                  <a:pt x="35296" y="1400"/>
                </a:lnTo>
                <a:lnTo>
                  <a:pt x="1400" y="1400"/>
                </a:lnTo>
                <a:close/>
              </a:path>
              <a:path fill="darken" w="36696" h="21600">
                <a:moveTo>
                  <a:pt x="36696" y="0"/>
                </a:moveTo>
                <a:lnTo>
                  <a:pt x="36696" y="21600"/>
                </a:lnTo>
                <a:lnTo>
                  <a:pt x="35296" y="20200"/>
                </a:lnTo>
                <a:lnTo>
                  <a:pt x="35296" y="1400"/>
                </a:lnTo>
                <a:close/>
              </a:path>
              <a:path fill="darkenLess" w="36696" h="21600">
                <a:moveTo>
                  <a:pt x="3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96" y="20200"/>
                </a:lnTo>
                <a:close/>
              </a:path>
              <a:path fill="lighten" w="3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96" h="21600">
                <a:moveTo>
                  <a:pt x="11342" y="3794"/>
                </a:moveTo>
                <a:lnTo>
                  <a:pt x="25355" y="10800"/>
                </a:lnTo>
                <a:lnTo>
                  <a:pt x="11342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53 -0.04256 C 0.0967 -0.05944 0.14722 -0.07609 0.18663 -0.0673 C 0.22604 -0.05852 0.30608 -0.01573 0.28351 0.01063 C 0.26094 0.037 0.13767 0.08765 0.05121 0.09065 C -0.03524 0.09366 -0.1526 0.04209 -0.2349 0.02914 C -0.31719 0.01618 -0.39583 -0.02036 -0.44254 0.01272 C -0.48924 0.04556 -0.50382 0.19333 -0.51493 0.22779 E">
                                      <p:cBhvr>
                                        <p:cTn id="383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Скругленный прямоугольник 6"/>
          <p:cNvSpPr/>
          <p:nvPr/>
        </p:nvSpPr>
        <p:spPr>
          <a:xfrm>
            <a:off x="428760" y="2071800"/>
            <a:ext cx="2000160" cy="10713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He</a:t>
            </a: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 i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Скругленный прямоугольник 7"/>
          <p:cNvSpPr/>
          <p:nvPr/>
        </p:nvSpPr>
        <p:spPr>
          <a:xfrm>
            <a:off x="3714840" y="2000160"/>
            <a:ext cx="5072040" cy="11430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tallest pupil in his clas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286760" y="5643720"/>
            <a:ext cx="1214280" cy="714240"/>
          </a:xfrm>
          <a:custGeom>
            <a:avLst/>
            <a:gdLst>
              <a:gd name="textAreaLeft" fmla="*/ 46080 w 1214280"/>
              <a:gd name="textAreaRight" fmla="*/ 1168200 w 12142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6715" h="21600">
                <a:moveTo>
                  <a:pt x="0" y="0"/>
                </a:moveTo>
                <a:lnTo>
                  <a:pt x="36715" y="0"/>
                </a:lnTo>
                <a:lnTo>
                  <a:pt x="36715" y="21600"/>
                </a:lnTo>
                <a:lnTo>
                  <a:pt x="0" y="21600"/>
                </a:lnTo>
                <a:close/>
              </a:path>
              <a:path fill="lightenLess" w="36715" h="21600">
                <a:moveTo>
                  <a:pt x="0" y="0"/>
                </a:moveTo>
                <a:lnTo>
                  <a:pt x="36715" y="0"/>
                </a:lnTo>
                <a:lnTo>
                  <a:pt x="35315" y="1400"/>
                </a:lnTo>
                <a:lnTo>
                  <a:pt x="1400" y="1400"/>
                </a:lnTo>
                <a:close/>
              </a:path>
              <a:path fill="darken" w="36715" h="21600">
                <a:moveTo>
                  <a:pt x="36715" y="0"/>
                </a:moveTo>
                <a:lnTo>
                  <a:pt x="36715" y="21600"/>
                </a:lnTo>
                <a:lnTo>
                  <a:pt x="35315" y="20200"/>
                </a:lnTo>
                <a:lnTo>
                  <a:pt x="35315" y="1400"/>
                </a:lnTo>
                <a:close/>
              </a:path>
              <a:path fill="darkenLess" w="36715" h="21600">
                <a:moveTo>
                  <a:pt x="36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5" y="20200"/>
                </a:lnTo>
                <a:close/>
              </a:path>
              <a:path fill="lighten" w="36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5" h="21600">
                <a:moveTo>
                  <a:pt x="11351" y="3794"/>
                </a:moveTo>
                <a:lnTo>
                  <a:pt x="25364" y="10800"/>
                </a:lnTo>
                <a:lnTo>
                  <a:pt x="11351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06 0.03727 C 0.10729 0.03773 0.19653 0.03819 0.23889 0.04815 C 0.28125 0.0581 0.31615 0.08241 0.27292 0.09745 C 0.22969 0.1125 0.04809 0.14699 -0.02066 0.13843 C -0.08941 0.12986 -0.11371 0.03194 -0.1401 0.04583 C -0.16649 0.05972 -0.17274 0.14097 -0.17882 0.22222 E">
                                      <p:cBhvr>
                                        <p:cTn id="413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2"/>
          <p:cNvSpPr/>
          <p:nvPr/>
        </p:nvSpPr>
        <p:spPr>
          <a:xfrm>
            <a:off x="2714760" y="785880"/>
            <a:ext cx="71424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3"/>
          <p:cNvSpPr/>
          <p:nvPr/>
        </p:nvSpPr>
        <p:spPr>
          <a:xfrm>
            <a:off x="342900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4"/>
          <p:cNvSpPr/>
          <p:nvPr/>
        </p:nvSpPr>
        <p:spPr>
          <a:xfrm>
            <a:off x="4214880" y="785880"/>
            <a:ext cx="85716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507204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Скругленный прямоугольник 6"/>
          <p:cNvSpPr/>
          <p:nvPr/>
        </p:nvSpPr>
        <p:spPr>
          <a:xfrm>
            <a:off x="214200" y="214308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I hav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Скругленный прямоугольник 7"/>
          <p:cNvSpPr/>
          <p:nvPr/>
        </p:nvSpPr>
        <p:spPr>
          <a:xfrm>
            <a:off x="3571920" y="2000160"/>
            <a:ext cx="542916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orange pencil-bo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286760" y="5500800"/>
            <a:ext cx="1285920" cy="857160"/>
          </a:xfrm>
          <a:custGeom>
            <a:avLst/>
            <a:gdLst>
              <a:gd name="textAreaLeft" fmla="*/ 55440 w 1285920"/>
              <a:gd name="textAreaRight" fmla="*/ 1230480 w 12859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0.04467 C -0.07569 0.06412 -0.16719 0.08379 -0.22118 0.07268 C -0.27517 0.06157 -0.29288 -0.04375 -0.30816 -0.02199 C -0.32344 -0.000240000000000001 -0.35816 0.18379 -0.31302 0.20393 C -0.26788 0.22407 -0.07604 0.09189 -0.03715 0.09861 C 0.00174 0.10532 -0.03871 0.175 -0.07916 0.24467 E">
                                      <p:cBhvr>
                                        <p:cTn id="44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2"/>
          <p:cNvSpPr/>
          <p:nvPr/>
        </p:nvSpPr>
        <p:spPr>
          <a:xfrm>
            <a:off x="2714760" y="785880"/>
            <a:ext cx="71424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3"/>
          <p:cNvSpPr/>
          <p:nvPr/>
        </p:nvSpPr>
        <p:spPr>
          <a:xfrm>
            <a:off x="342900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214880" y="785880"/>
            <a:ext cx="85716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5"/>
          <p:cNvSpPr/>
          <p:nvPr/>
        </p:nvSpPr>
        <p:spPr>
          <a:xfrm>
            <a:off x="507204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Скругленный прямоугольник 6"/>
          <p:cNvSpPr/>
          <p:nvPr/>
        </p:nvSpPr>
        <p:spPr>
          <a:xfrm>
            <a:off x="642960" y="2214720"/>
            <a:ext cx="7429320" cy="12855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Would you like to dri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Скругленный прямоугольник 7"/>
          <p:cNvSpPr/>
          <p:nvPr/>
        </p:nvSpPr>
        <p:spPr>
          <a:xfrm>
            <a:off x="857160" y="4214880"/>
            <a:ext cx="714384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orange jui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572240" y="5857920"/>
            <a:ext cx="1000440" cy="571320"/>
          </a:xfrm>
          <a:custGeom>
            <a:avLst/>
            <a:gdLst>
              <a:gd name="textAreaLeft" fmla="*/ 36720 w 1000440"/>
              <a:gd name="textAreaRight" fmla="*/ 963720 w 10004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7814" h="21600">
                <a:moveTo>
                  <a:pt x="0" y="0"/>
                </a:moveTo>
                <a:lnTo>
                  <a:pt x="37814" y="0"/>
                </a:lnTo>
                <a:lnTo>
                  <a:pt x="37814" y="21600"/>
                </a:lnTo>
                <a:lnTo>
                  <a:pt x="0" y="21600"/>
                </a:lnTo>
                <a:close/>
              </a:path>
              <a:path fill="lightenLess" w="37814" h="21600">
                <a:moveTo>
                  <a:pt x="0" y="0"/>
                </a:moveTo>
                <a:lnTo>
                  <a:pt x="37814" y="0"/>
                </a:lnTo>
                <a:lnTo>
                  <a:pt x="36414" y="1400"/>
                </a:lnTo>
                <a:lnTo>
                  <a:pt x="1400" y="1400"/>
                </a:lnTo>
                <a:close/>
              </a:path>
              <a:path fill="darken" w="37814" h="21600">
                <a:moveTo>
                  <a:pt x="37814" y="0"/>
                </a:moveTo>
                <a:lnTo>
                  <a:pt x="37814" y="21600"/>
                </a:lnTo>
                <a:lnTo>
                  <a:pt x="36414" y="20200"/>
                </a:lnTo>
                <a:lnTo>
                  <a:pt x="36414" y="1400"/>
                </a:lnTo>
                <a:close/>
              </a:path>
              <a:path fill="darkenLess" w="37814" h="21600">
                <a:moveTo>
                  <a:pt x="37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4" y="20200"/>
                </a:lnTo>
                <a:close/>
              </a:path>
              <a:path fill="lighten" w="37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4" h="21600">
                <a:moveTo>
                  <a:pt x="11900" y="3794"/>
                </a:moveTo>
                <a:lnTo>
                  <a:pt x="25913" y="10800"/>
                </a:lnTo>
                <a:lnTo>
                  <a:pt x="11900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 -0.02732 C 0.15538 -0.04399 0.27656 -0.06042 0.27448 -0.04028 C 0.2724 -0.02014 0.00903 0.04398 0.02135 0.09305 C 0.03368 0.14213 0.31302 0.20138 0.34878 0.25393 C 0.38455 0.3074 0.31806 0.38495 0.23576 0.41134 C 0.15347 0.43773 0.00434000000000001 0.42546 -0.14479 0.41342 E">
                                      <p:cBhvr>
                                        <p:cTn id="491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285840" y="100008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ные ресур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болетова М.З., Добрынина Н.В. «Английский язык: Английский с удовольствием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 English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для 8 класса общеобраз. учрежд. – Обнинск: Титул,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глийский язык: Весь школьный курс в таблицах / авт. – сост. Т. Е. Лабода. – Минск: Современная школа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214200" y="285840"/>
            <a:ext cx="8715600" cy="59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Rockwell"/>
              </a:rPr>
              <a:t>Definite article (the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еред существительными как в единственном, так и во множественном числе, когда оно уже знакомо или упоминалось в речи ранее </a:t>
            </a:r>
            <a:r>
              <a:rPr b="1" lang="ru-RU" sz="3200" spc="-1" strike="noStrike">
                <a:solidFill>
                  <a:srgbClr val="00b050"/>
                </a:solidFill>
                <a:latin typeface="Cambria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I see </a:t>
            </a: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 dog. </a:t>
            </a: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The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 dog is black.</a:t>
            </a: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 The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 apples on the plate are red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еред существительными, являющимися единственными в своем роде (</a:t>
            </a: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Solar Syst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еред названиями сторон св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ou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357120" y="214200"/>
            <a:ext cx="85726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4.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еред названиями океанов, морей, рек, озер, каналов (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Baltic Sea</a:t>
            </a: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;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English Channel</a:t>
            </a:r>
            <a:r>
              <a:rPr b="1" lang="ru-RU" sz="3600" spc="-1" strike="noStrike">
                <a:solidFill>
                  <a:srgbClr val="00b050"/>
                </a:solidFill>
                <a:latin typeface="Rockwell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Volga,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Ontario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5. Перед названиями горных цепей, пустынь (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Pamirs;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Sahara Desert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6. Перед названиями некоторых исторических учреждений (музеев, театро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7. Перед названиями газет (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Times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214200" y="428760"/>
            <a:ext cx="8715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еред названиями стран, содержащих слова: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Republic, kingdom, states, fed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 некоторых исключения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Netherlands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Ukraine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Philippines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Argentine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Vatican City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Cong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еред названиями национальностей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Russ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Перед порядковыми числительны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first student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7</a:t>
            </a:r>
            <a:r>
              <a:rPr b="1" lang="en-US" sz="3600" spc="-1" strike="noStrike" baseline="30000">
                <a:solidFill>
                  <a:srgbClr val="00b05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2"/>
          <p:cNvSpPr/>
          <p:nvPr/>
        </p:nvSpPr>
        <p:spPr>
          <a:xfrm>
            <a:off x="357120" y="428760"/>
            <a:ext cx="85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Перед существительными с прилагательными в превосходной степ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best sportsman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nicest da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2. Перед фамилиями во множественном числе, обозначающими членов одной семьи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Sidorov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Перед словами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atre/ cinema/ radio/ sky/ sea/ countr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итулами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Que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214200" y="214200"/>
            <a:ext cx="8643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ero Article (No Artic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именами и фамилиями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Ivan Petro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названиями стран, городов, улиц, площаде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(Russia, Gorokhovets, Lenin street, Red Squa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названиями островов, горных вершин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(Jamaica, Elbr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названиями континен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(Africa, As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857160" y="785880"/>
            <a:ext cx="7715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 Перед названиями видов спорта , игр, дней, месяцев, праздников, цветов, напитков, блюд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la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otball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turday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is my favourite colour;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д названиями ресторанов, магазинов, банков и отелей, которые названы в честь своих основателей и оканчивающихся н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s/ ‘s (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Barcl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Bank, Harr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s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Ban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8388360" cy="52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9:01:34Z</dcterms:created>
  <dc:creator>Учитель</dc:creator>
  <dc:description/>
  <dc:language>en-US</dc:language>
  <cp:lastModifiedBy>Администратор</cp:lastModifiedBy>
  <dcterms:modified xsi:type="dcterms:W3CDTF">2013-03-29T18:43:08Z</dcterms:modified>
  <cp:revision>47</cp:revision>
  <dc:subject/>
  <dc:title>Слайд 1</dc:title>
</cp:coreProperties>
</file>