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5D2-8939-430F-A33F-A42291FD0C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7DF-DBCF-410D-967F-AD296146E9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794-5A8C-46B9-B605-20ABDD01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DD3-03E4-4180-9A59-E8E7FB7F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97D-8370-4EAC-8F5A-368DE7D6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351-6302-4FA1-86BC-6AEFA92E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AC8E-07F5-47C5-ACEB-1583B7B4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CA69-75FE-4644-A895-CE1448E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5ED3-3BD6-4935-BF66-371BA7D4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BEF-96CE-418A-878D-D422EE2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A51-4EA2-4CA9-9600-B3A8DE7D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4AC0-3008-47C3-A158-E323BA56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7936-AEA0-40D0-A425-72968B6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7FC-CFF8-4A9B-824E-998BFC1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6CA6-560B-4B66-99A5-3F2A9E5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D42F-FE60-4DAD-B9D7-3B37AAA4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BB50-D234-479A-83F1-EEC5D8A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CD4-8FD7-4A35-9FD1-097FD177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1684-ACB2-4848-9736-57B40E3F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C39F-8666-4198-ADD8-91029286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A186-9EFD-44DE-AE46-A5DFF78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DA14-039A-431E-91B7-B9BE6EF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2305-288D-4EDD-BA42-4BBF78A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9E08-DE23-4061-8630-04671F1A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EEA-D161-4174-B31E-0182F5CA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A356-4210-4496-BC7C-DFAF0EF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C076-F52D-4C9D-818C-E092B32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B7A7-6AB8-4DD5-8C85-C4EE563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603B-D898-4285-8BED-032057D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0F18-E470-402D-BD39-DCD99D0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5DB7-C72A-4143-B434-6D9EE467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C1BC-98F8-4CCE-82F7-9DE1CE54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C4E-3130-44E9-AEC4-146E92A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ABE-0128-4566-882C-3526AF53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980-FB60-493B-96B4-7016A1D2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CD9-E99D-4647-9164-BDDCDDD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9C9-7F63-4EC5-A201-65E60DD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5CA-1DC4-4ABE-AFCC-2E43C27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5ec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A685-931D-4D83-90A4-DF9CF2F4B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c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3BFA-460C-403E-964B-34D058B8C9C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5ec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0E10-72DC-444F-9337-8E100A6E0F0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585720" y="1450800"/>
            <a:ext cx="8309160" cy="2352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4044600"/>
            <a:ext cx="6400800" cy="16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Лапенко Анастасия Димитри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10 «1» класс, МОУ «Средняя общеобразовательная школа № 17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Arial"/>
              </a:rPr>
              <a:t>Руководитель –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Пастухова Наталья Николаевн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учитель техноло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ff"/>
                </a:solidFill>
                <a:latin typeface="Arial"/>
              </a:rPr>
              <a:t>МОУ «Средняя общеобразовательная школа №17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066920" y="2060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16-17 вв. искусство золотого шитья в России достигли наивысшего рас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ом золотого шитья в России – город Тор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17-18 вв. шитьем занимались в Испании, Италии, Франции и Герм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18-19 вв. шитье золотом широко применялось для украшения народ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Содержимое 4" descr="Ковёр с, вышитый золотом, сделан мастерами Торжка"/>
          <p:cNvPicPr/>
          <p:nvPr/>
        </p:nvPicPr>
        <p:blipFill>
          <a:blip r:embed="rId1"/>
          <a:stretch/>
        </p:blipFill>
        <p:spPr>
          <a:xfrm>
            <a:off x="0" y="0"/>
            <a:ext cx="3924360" cy="580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91960" y="244440"/>
            <a:ext cx="4206960" cy="7732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5480" y="1412640"/>
            <a:ext cx="4646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ыкройк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Для этого нужно согнуть лист бумаги А2 . Все пальцы должны быть на нем в естественном положении кроме большого, он должен быть за гранью листа.  Отмечаете на сгибе точку  «А»- верхнее основание пальца и точку «В» - нижние основание пальца. После этого вырежете выкройку по контуру и  овал на стороне выкройки. Отдельно выкраивается большой палец. Линия «CFD» по длине должна совпадать с полной длиной овала, вырезанной детали выкро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одержимое 4" descr="glove4"/>
          <p:cNvPicPr/>
          <p:nvPr/>
        </p:nvPicPr>
        <p:blipFill>
          <a:blip r:embed="rId2"/>
          <a:stretch/>
        </p:blipFill>
        <p:spPr>
          <a:xfrm>
            <a:off x="5092560" y="1413000"/>
            <a:ext cx="4051440" cy="1704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glove6"/>
          <p:cNvPicPr/>
          <p:nvPr/>
        </p:nvPicPr>
        <p:blipFill>
          <a:blip r:embed="rId3"/>
          <a:stretch/>
        </p:blipFill>
        <p:spPr>
          <a:xfrm>
            <a:off x="4859280" y="4280040"/>
            <a:ext cx="4284720" cy="1479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ышивк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Для начала в полную пасму ниток мулине сметочными стежками  проложить строчку по контуру изображения . Заполните изображение сметочными строчками в противоположном направлении от наложения золотой нити. Двусторонней гладью золотыми нитями в 3 - 4 нити вышиваем уз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304920" y="-6480"/>
            <a:ext cx="4698720" cy="987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529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Шить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ереведите выкройку на ткань. Припуски на шов примерно по 0,5 см. Из этой же ткани вырежьте ленты шириной примерно по 0,8 -1,0. Сшить перчатку можно в ручную, а можно и  машинке. Начинать шить удобно с мизинца.  Можно пришивать единую ленту, а можно делать отдельные ленточки. Пришиваем большой палиц. Сначала необходимо сложить деталь вдвое изнаночной стороной наружу, совместив точки «С» и «D» сшить деталь по линии «CE». Пришиваем деталь к изде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39272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glove8"/>
          <p:cNvPicPr/>
          <p:nvPr/>
        </p:nvPicPr>
        <p:blipFill>
          <a:blip r:embed="rId2"/>
          <a:stretch/>
        </p:blipFill>
        <p:spPr>
          <a:xfrm>
            <a:off x="5364000" y="333360"/>
            <a:ext cx="3780000" cy="14176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7" descr="glove7"/>
          <p:cNvPicPr/>
          <p:nvPr/>
        </p:nvPicPr>
        <p:blipFill>
          <a:blip r:embed="rId3"/>
          <a:stretch/>
        </p:blipFill>
        <p:spPr>
          <a:xfrm>
            <a:off x="6372360" y="1889280"/>
            <a:ext cx="19224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1844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ПЕРЧАТКА ГОТОВА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glove13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81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D:\НОУ\Бальные перчатки\DSC0357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D:\НОУ\Бальные перчатки\DSC03574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rcRect l="0" t="30912" r="24826" b="-319"/>
          <a:stretch/>
        </p:blipFill>
        <p:spPr>
          <a:xfrm>
            <a:off x="611280" y="333360"/>
            <a:ext cx="4465440" cy="1295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489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современном мире люди устали от всего, им хочется чего–то нового и возвыш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ейчас одежду и аксессуары выпускают массово и трудно почувствовать свою индивидуальность в выбранном образе. Сделанные своими руками перчатки подойдут к вашему платью, подчеркнут элегантность, и выделят вас из толп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4" descr="perchatki-krugevo"/>
          <p:cNvPicPr/>
          <p:nvPr/>
        </p:nvPicPr>
        <p:blipFill>
          <a:blip r:embed="rId2"/>
          <a:stretch/>
        </p:blipFill>
        <p:spPr>
          <a:xfrm rot="10250400">
            <a:off x="5570280" y="441360"/>
            <a:ext cx="1457280" cy="32162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perchatki-krugevo"/>
          <p:cNvPicPr/>
          <p:nvPr/>
        </p:nvPicPr>
        <p:blipFill>
          <a:blip r:embed="rId3"/>
          <a:stretch/>
        </p:blipFill>
        <p:spPr>
          <a:xfrm>
            <a:off x="7315200" y="185760"/>
            <a:ext cx="1257480" cy="3417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i"/>
          <p:cNvPicPr/>
          <p:nvPr/>
        </p:nvPicPr>
        <p:blipFill>
          <a:blip r:embed="rId4"/>
          <a:stretch/>
        </p:blipFill>
        <p:spPr>
          <a:xfrm>
            <a:off x="6000840" y="397980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396720" y="285840"/>
            <a:ext cx="8240760" cy="79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24000" y="3645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Интерес к истории различных женских платьев и декоративно-прикладному искусству побудили меня к разработке эт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Я наблюдала за тем как в современный гардероб вливается, казалось бы, старинные вещи, но выглядят вполне современно, мне захотелось проследить историю бальных перч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8979-0-DSCF0290"/>
          <p:cNvPicPr/>
          <p:nvPr/>
        </p:nvPicPr>
        <p:blipFill>
          <a:blip r:embed="rId2"/>
          <a:srcRect l="0" t="-809" r="0" b="0"/>
          <a:stretch/>
        </p:blipFill>
        <p:spPr>
          <a:xfrm>
            <a:off x="1763640" y="549360"/>
            <a:ext cx="540072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68360" y="2276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учить историю этого предмета женского туалета с акцентом на развития технологии изготовления перч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йти приемлемые конструктивные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добрать подходящие материалы для из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учить и подобрать варианты украшения вышив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94920" y="1268280"/>
            <a:ext cx="482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Впервые перчатки появились в древнем Египте и выглядели они довольно экзотично: маленькие мешочки для рук, которые завязывали на запясть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В Древней Греции не носили перчатки, считая что это признак неженок, а вот в Древнем Риме носили их все и всег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"/>
              </a:rPr>
              <a:t>Перчатки стали пользоваться популярностью в Средние ве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svadebnye-perchatki-29"/>
          <p:cNvPicPr/>
          <p:nvPr/>
        </p:nvPicPr>
        <p:blipFill>
          <a:blip r:embed="rId2"/>
          <a:stretch/>
        </p:blipFill>
        <p:spPr>
          <a:xfrm>
            <a:off x="6043680" y="1125360"/>
            <a:ext cx="254484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075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первые длинные перчатки надела королева Елизавета</a:t>
            </a: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 I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на официальную церемонию в Оксфор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perchatki-1"/>
          <p:cNvPicPr/>
          <p:nvPr/>
        </p:nvPicPr>
        <p:blipFill>
          <a:blip r:embed="rId1"/>
          <a:stretch/>
        </p:blipFill>
        <p:spPr>
          <a:xfrm rot="4560600">
            <a:off x="3070800" y="-543240"/>
            <a:ext cx="16002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ем временем мужские перчатки пережили не лучшие времена. Перчатки носили только на одной руке, которая держала шп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нтерес мужчин к перчаткам возродил Наполеон Бонапарт. К 1806 году в его коллекции находилось более 240 пар перча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19 в. С мужских перчаток исчезли все украшения, внимание уделялось покрою и матери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Золотой век длинных перчаток – 50-е годы 20 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perthatki_jeltye-1"/>
          <p:cNvPicPr/>
          <p:nvPr/>
        </p:nvPicPr>
        <p:blipFill>
          <a:blip r:embed="rId1"/>
          <a:stretch/>
        </p:blipFill>
        <p:spPr>
          <a:xfrm rot="534000">
            <a:off x="6156360" y="2421000"/>
            <a:ext cx="1771560" cy="414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" descr="perchatki-13"/>
          <p:cNvPicPr/>
          <p:nvPr/>
        </p:nvPicPr>
        <p:blipFill>
          <a:blip r:embed="rId2"/>
          <a:stretch/>
        </p:blipFill>
        <p:spPr>
          <a:xfrm>
            <a:off x="1692360" y="2205000"/>
            <a:ext cx="16002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356840"/>
            <a:ext cx="8075520" cy="15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Сначала золотыми нитями вышивали предметы обихода в женских монасты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5" descr="Ковёр с изображением дворца, вышитый золотыми нитями"/>
          <p:cNvPicPr/>
          <p:nvPr/>
        </p:nvPicPr>
        <p:blipFill>
          <a:blip r:embed="rId2"/>
          <a:stretch/>
        </p:blipFill>
        <p:spPr>
          <a:xfrm>
            <a:off x="2411280" y="2276640"/>
            <a:ext cx="3286080" cy="430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3213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протяжении нескольких столетий золотом украшали царские, барские и княжеские одея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золотой вышивке 10-12 вв. использовались геометрические и растительные моти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шивали в основном на бархате, атласе и шел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Вышитые золотом сапоги"/>
          <p:cNvPicPr/>
          <p:nvPr/>
        </p:nvPicPr>
        <p:blipFill>
          <a:blip r:embed="rId1"/>
          <a:stretch/>
        </p:blipFill>
        <p:spPr>
          <a:xfrm>
            <a:off x="407880" y="328680"/>
            <a:ext cx="774864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4:12:36Z</dcterms:created>
  <dc:creator>Крайний Север</dc:creator>
  <dc:description/>
  <dc:language>en-US</dc:language>
  <cp:lastModifiedBy>Наталья</cp:lastModifiedBy>
  <dcterms:modified xsi:type="dcterms:W3CDTF">2013-03-29T10:55:22Z</dcterms:modified>
  <cp:revision>29</cp:revision>
  <dc:subject/>
  <dc:title>Бальные перчатки, как элемент современной моды.</dc:title>
</cp:coreProperties>
</file>