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E01-00D3-47B0-AD4F-4CA695BD35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9E6-6DCE-4093-9A83-2C0F800B94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412-D8DE-407E-8D08-8251F609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917-05AD-4D2C-BD40-B1B1133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705-36A6-4D9A-A653-EF55ADF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A11-4583-4851-AAD6-B538FA59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9D0-0421-4230-BB88-CF2C9A1F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D6F2-7D98-483B-85BE-6627645B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EA1C-D1AE-4BD7-99B1-B7EDF87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5892-A089-4BAC-B9D3-1BFAA162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65EE-236B-474E-8AEE-E7EB925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114D-8AE0-4FB9-88DC-6DB65CCC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9654-2CDE-4FE0-AD65-823514F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FAB-09C5-441D-A754-77953FE7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74E-7354-4F53-8660-BA5A430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3FEA-7F28-4CF0-8572-481E061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D6BC-6156-4264-858A-5D91FAE5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BDED-3429-4458-BA77-EEF1997F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AF09-9DFD-42CE-B6EF-1BBEBDC2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A4E9-C47A-41DF-A6F7-05ED9988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FB40-89F9-49A7-B4D6-54985C30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F375-557D-48C7-9137-319EF90A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00FF-DD65-4F4A-AB9F-5687F0B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B228-1469-40E1-8410-8892816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826B-6E6C-4C06-9FF1-D04AE21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CEDE-98D3-4D41-BBB5-F105CE23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745E-F332-4B7F-9496-881C055A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9E06-8629-47A3-8760-83EF043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5D4D-AB69-4360-B9BF-03ACB9B6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1E00-FACA-4667-85A7-4A20576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D9CA-35EE-434F-AF8D-6E41AFEC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7B0A-C8E7-48D8-9757-6B680649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31A-C20C-411F-8636-2B5F805B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A80-4B8C-4F35-8DB1-9F8205DD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966-B111-4AA2-8987-500ECB7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247-8C39-42DA-BD58-A10130FE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A0D-2672-4D10-81F4-2636CEC1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4AF-1311-4FAD-9CAC-473A19B6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290-33AD-4B12-882F-866E86D39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66C4-A3BB-428C-A624-2298D9412EF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7BF-67B5-4960-9FE5-7D36359003B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585720" y="1450800"/>
            <a:ext cx="8309160" cy="2352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4044600"/>
            <a:ext cx="640080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Лапенко Анастасия Димитри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10 «1» класс, МОУ «Средняя общеобразовательная школа № 17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Руководитель –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Пастухова Наталья Николаевн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учитель техноло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МОУ «Средняя общеобразовательная школа №17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066920" y="2060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6-17 вв. искусство золотого шитья в России достигли наивысшего рас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ом золотого шитья в России – город Тор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7-18 вв. шитьем занимались в Испании, Италии, Франции и Герм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8-19 вв. шитье золотом широко применялось для украшения народ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Ковёр с, вышитый золотом, сделан мастерами Торжка"/>
          <p:cNvPicPr/>
          <p:nvPr/>
        </p:nvPicPr>
        <p:blipFill>
          <a:blip r:embed="rId1"/>
          <a:stretch/>
        </p:blipFill>
        <p:spPr>
          <a:xfrm>
            <a:off x="0" y="0"/>
            <a:ext cx="392436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91960" y="244440"/>
            <a:ext cx="4206960" cy="773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5480" y="1412640"/>
            <a:ext cx="464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ыкройк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Для этого нужно согнуть лист бумаги А2 . Все пальцы должны быть на нем в естественном положении кроме большого, он должен быть за гранью листа.  Отмечаете на сгибе точку  «А»- верхнее основание пальца и точку «В» - нижние основание пальца. После этого вырежете выкройку по контуру и  овал на стороне выкройки. Отдельно выкраивается большой палец. Линия «CFD» по длине должна совпадать с полной длиной овала, вырезанной детали выкро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одержимое 4" descr="glove4"/>
          <p:cNvPicPr/>
          <p:nvPr/>
        </p:nvPicPr>
        <p:blipFill>
          <a:blip r:embed="rId2"/>
          <a:stretch/>
        </p:blipFill>
        <p:spPr>
          <a:xfrm>
            <a:off x="5092560" y="1413000"/>
            <a:ext cx="4051440" cy="1704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glove6"/>
          <p:cNvPicPr/>
          <p:nvPr/>
        </p:nvPicPr>
        <p:blipFill>
          <a:blip r:embed="rId3"/>
          <a:stretch/>
        </p:blipFill>
        <p:spPr>
          <a:xfrm>
            <a:off x="4859280" y="4280040"/>
            <a:ext cx="4284720" cy="147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ышив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Для начала в полную пасму ниток мулине сметочными стежками  проложить строчку по контуру изображения . Заполните изображение сметочными строчками в противоположном направлении от наложения золотой нити. Двусторонней гладью золотыми нитями в 3 - 4 нити вышиваем уз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304920" y="-6480"/>
            <a:ext cx="4698720" cy="987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529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Шить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ереведите выкройку на ткань. Припуски на шов примерно по 0,5 см. Из этой же ткани вырежьте ленты шириной примерно по 0,8 -1,0. Сшить перчатку можно в ручную, а можно и  машинке. Начинать шить удобно с мизинца.  Можно пришивать единую ленту, а можно делать отдельные ленточки. Пришиваем большой палиц. Сначала необходимо сложить деталь вдвое изнаночной стороной наружу, совместив точки «С» и «D» сшить деталь по линии «CE». Пришиваем деталь к изде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glove8"/>
          <p:cNvPicPr/>
          <p:nvPr/>
        </p:nvPicPr>
        <p:blipFill>
          <a:blip r:embed="rId2"/>
          <a:stretch/>
        </p:blipFill>
        <p:spPr>
          <a:xfrm>
            <a:off x="5364000" y="333360"/>
            <a:ext cx="3780000" cy="14176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glove7"/>
          <p:cNvPicPr/>
          <p:nvPr/>
        </p:nvPicPr>
        <p:blipFill>
          <a:blip r:embed="rId3"/>
          <a:stretch/>
        </p:blipFill>
        <p:spPr>
          <a:xfrm>
            <a:off x="6372360" y="1889280"/>
            <a:ext cx="19224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1844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ПЕРЧАТКА ГОТОВА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glove13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:\НОУ\Бальные перчатки\DSC0357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D:\НОУ\Бальные перчатки\DSC03574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rcRect l="0" t="30912" r="24826" b="-319"/>
          <a:stretch/>
        </p:blipFill>
        <p:spPr>
          <a:xfrm>
            <a:off x="611280" y="333360"/>
            <a:ext cx="4465440" cy="1295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489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современном мире люди устали от всего, им хочется чего–то нового и возвыш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ейчас одежду и аксессуары выпускают массово и трудно почувствовать свою индивидуальность в выбранном образе. Сделанные своими руками перчатки подойдут к вашему платью, подчеркнут элегантность, и выделят вас из тол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4" descr="perchatki-krugevo"/>
          <p:cNvPicPr/>
          <p:nvPr/>
        </p:nvPicPr>
        <p:blipFill>
          <a:blip r:embed="rId2"/>
          <a:stretch/>
        </p:blipFill>
        <p:spPr>
          <a:xfrm rot="10250400">
            <a:off x="5570280" y="441360"/>
            <a:ext cx="1457280" cy="3216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perchatki-krugevo"/>
          <p:cNvPicPr/>
          <p:nvPr/>
        </p:nvPicPr>
        <p:blipFill>
          <a:blip r:embed="rId3"/>
          <a:stretch/>
        </p:blipFill>
        <p:spPr>
          <a:xfrm>
            <a:off x="7315200" y="185760"/>
            <a:ext cx="1257480" cy="3417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i"/>
          <p:cNvPicPr/>
          <p:nvPr/>
        </p:nvPicPr>
        <p:blipFill>
          <a:blip r:embed="rId4"/>
          <a:stretch/>
        </p:blipFill>
        <p:spPr>
          <a:xfrm>
            <a:off x="6000840" y="397980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396720" y="285840"/>
            <a:ext cx="8240760" cy="79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24000" y="3645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Интерес к истории различных женских платьев и декоративно-прикладному искусству побудили меня к разработке эт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Я наблюдала за тем как в современный гардероб вливается, казалось бы, старинные вещи, но выглядят вполне современно, мне захотелось проследить историю бальных перч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8979-0-DSCF0290"/>
          <p:cNvPicPr/>
          <p:nvPr/>
        </p:nvPicPr>
        <p:blipFill>
          <a:blip r:embed="rId2"/>
          <a:srcRect l="0" t="-809" r="0" b="0"/>
          <a:stretch/>
        </p:blipFill>
        <p:spPr>
          <a:xfrm>
            <a:off x="1763640" y="549360"/>
            <a:ext cx="540072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2276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учить историю этого предмета женского туалета с акцентом на развития технологии изготовления перч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ти приемлемые конструктивные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добрать подходящие материалы для из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учить и подобрать варианты украшения выши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94920" y="1268280"/>
            <a:ext cx="48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Впервые перчатки появились в древнем Египте и выглядели они довольно экзотично: маленькие мешочки для рук, которые завязывали на запяст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В Древней Греции не носили перчатки, считая что это признак неженок, а вот в Древнем Риме носили их все и всег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Перчатки стали пользоваться популярностью в Средние 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svadebnye-perchatki-29"/>
          <p:cNvPicPr/>
          <p:nvPr/>
        </p:nvPicPr>
        <p:blipFill>
          <a:blip r:embed="rId2"/>
          <a:stretch/>
        </p:blipFill>
        <p:spPr>
          <a:xfrm>
            <a:off x="6043680" y="1125360"/>
            <a:ext cx="25448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075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первые длинные перчатки надела королева Елизавета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 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на официальную церемонию в Оксфо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perchatki-1"/>
          <p:cNvPicPr/>
          <p:nvPr/>
        </p:nvPicPr>
        <p:blipFill>
          <a:blip r:embed="rId1"/>
          <a:stretch/>
        </p:blipFill>
        <p:spPr>
          <a:xfrm rot="4560600">
            <a:off x="3070800" y="-543240"/>
            <a:ext cx="16002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м временем мужские перчатки пережили не лучшие времена. Перчатки носили только на одной руке, которая держала шп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нтерес мужчин к перчаткам возродил Наполеон Бонапарт. К 1806 году в его коллекции находилось более 240 пар перча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19 в. С мужских перчаток исчезли все украшения, внимание уделялось покрою и матери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Золотой век длинных перчаток – 50-е годы 20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perthatki_jeltye-1"/>
          <p:cNvPicPr/>
          <p:nvPr/>
        </p:nvPicPr>
        <p:blipFill>
          <a:blip r:embed="rId1"/>
          <a:stretch/>
        </p:blipFill>
        <p:spPr>
          <a:xfrm rot="534000">
            <a:off x="6156360" y="2421000"/>
            <a:ext cx="1771560" cy="414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perchatki-13"/>
          <p:cNvPicPr/>
          <p:nvPr/>
        </p:nvPicPr>
        <p:blipFill>
          <a:blip r:embed="rId2"/>
          <a:stretch/>
        </p:blipFill>
        <p:spPr>
          <a:xfrm>
            <a:off x="1692360" y="2205000"/>
            <a:ext cx="16002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356840"/>
            <a:ext cx="807552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Сначала золотыми нитями вышивали предметы обихода в женских монасты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5" descr="Ковёр с изображением дворца, вышитый золотыми нитями"/>
          <p:cNvPicPr/>
          <p:nvPr/>
        </p:nvPicPr>
        <p:blipFill>
          <a:blip r:embed="rId2"/>
          <a:stretch/>
        </p:blipFill>
        <p:spPr>
          <a:xfrm>
            <a:off x="2411280" y="2276640"/>
            <a:ext cx="3286080" cy="430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3213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ротяжении нескольких столетий золотом украшали царские, барские и княжеские оде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золотой вышивке 10-12 вв. использовались геометрические и растительные мо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шивали в основном на бархате, атласе и ш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Вышитые золотом сапоги"/>
          <p:cNvPicPr/>
          <p:nvPr/>
        </p:nvPicPr>
        <p:blipFill>
          <a:blip r:embed="rId1"/>
          <a:stretch/>
        </p:blipFill>
        <p:spPr>
          <a:xfrm>
            <a:off x="407880" y="328680"/>
            <a:ext cx="774864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12:36Z</dcterms:created>
  <dc:creator>Крайний Север</dc:creator>
  <dc:description/>
  <dc:language>en-US</dc:language>
  <cp:lastModifiedBy>Наталья</cp:lastModifiedBy>
  <dcterms:modified xsi:type="dcterms:W3CDTF">2013-03-29T10:55:22Z</dcterms:modified>
  <cp:revision>29</cp:revision>
  <dc:subject/>
  <dc:title>Бальные перчатки, как элемент современной моды.</dc:title>
</cp:coreProperties>
</file>