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A8E-E855-4DD2-A7B2-014396EB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4AE-1637-4E7F-8F6B-386C345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FEA-4825-4CCB-B484-20917CE0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542-CC8B-4996-839D-897C89B4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EB6F-9570-44F5-9260-03C66C57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450D-E4E8-4609-A40A-137F975D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C905-E6B7-4856-B349-67CF46B3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DC16-AE41-4C3A-B796-EFE583FF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18AC-D24C-45F8-A766-D70EFA11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729B-27B4-48C9-A194-2214114F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FF6C-C03D-4930-9CE0-9A0EF69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680-EC6D-41FC-86BE-2F98256E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26B8-DB18-426F-B4E9-C4A9F7F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8B15-BDA3-4F90-B8B0-A231852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71E2-384C-4F97-99AC-8B60EAF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FCE7-E43B-4AA2-B362-7E0D2591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4EE9-B8EF-4C1F-B16F-7B8B752C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FD3-FD36-42DD-8468-D0721008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748-0DCC-4D72-A3DE-E580DEA2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9FE-4E2A-4650-A2EA-49A795AF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906-ACCE-4DB6-B406-CD1C51A0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53C-99C4-4B63-A699-3467F03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386-6179-43C6-9879-0C644DC5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206-7F44-4032-9AE3-81BC681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9D3D-F2D4-413C-8B74-A328207B773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372F-5023-49F7-A5CC-0E06E9E299A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68360" y="189000"/>
            <a:ext cx="4965840" cy="868320"/>
          </a:xfrm>
          <a:prstGeom prst="rect">
            <a:avLst/>
          </a:prstGeom>
          <a:solidFill>
            <a:srgbClr val="d5b781"/>
          </a:solidFill>
          <a:ln w="9360">
            <a:solidFill>
              <a:srgbClr val="d5b78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Архитектур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920" y="4220640"/>
            <a:ext cx="6400800" cy="1752840"/>
          </a:xfrm>
          <a:prstGeom prst="rect">
            <a:avLst/>
          </a:prstGeom>
          <a:solidFill>
            <a:srgbClr val="d5b781"/>
          </a:solidFill>
          <a:ln w="9360">
            <a:solidFill>
              <a:srgbClr val="79af7d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6059"/>
                </a:solidFill>
                <a:latin typeface="Arial"/>
              </a:rPr>
              <a:t>гор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84160" cy="1822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258920" y="5157720"/>
            <a:ext cx="384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анкт-Петербур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-900000" y="0"/>
            <a:ext cx="5205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276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05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9af7d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79af7d"/>
                </a:solidFill>
                <a:latin typeface="Arial"/>
              </a:rPr>
              <a:t>Исаакиевский собор (архитекторы А.                  Ринальди, В. Ф. Бренна), ныне существующий собор был    построен в 1818-58 (архитектор А. А. Монферран).</a:t>
            </a:r>
            <a:br>
              <a:rPr sz="3600"/>
            </a:b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7918560" cy="4687920"/>
          </a:xfrm>
          <a:prstGeom prst="rect">
            <a:avLst/>
          </a:prstGeom>
          <a:solidFill>
            <a:srgbClr val="dc893e"/>
          </a:solidFill>
          <a:ln w="9360">
            <a:solidFill>
              <a:srgbClr val="f0b854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аакиевская площадь была задумана архитектором Чевакинским еще в 1762, однако окончательно она оформилась в начале 20 столетия. Во второй половине 19 в. в городе появляется большое количество доходных домов различного вида, особняки купцов и промышленников. Возникают совершенно новые типы сооружений: банки, торговые пассажи, железнодорожные вокзалы, большие заводы. В архитектуре шел активный процесс стилизаторства и эклектичного использования различных стилей. Все больше используются новые технические достижения: железобетон, металлические конструкции, большеформатное стекло. Произведения архитекторов А. И. Штакеншнейдера, Н. Ефимова, Ф. Брюллова, К. А. Тона оказали большое влияние на облик гор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-1405080" y="0"/>
            <a:ext cx="15922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6015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24000" y="430200"/>
            <a:ext cx="5572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рхитектура этого период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70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рхитектура этого периода отличается регулярностью и представительностью при относительной сдержанности декоративного убранства. Это объясняется специфическими условиями строительства: поспешностью, утилитарным характером строительства, недостатком строительных материалов, природными особенностями местности. На рубеже первых десятилетий 18 в. активизируется каменное строительство: в 1710-1714 возводится дворец Меншикова на Васильевском острове, с 1713 начинается строительство Александро-Невской лавры с деревянной церковью, начинает строиться Петропавловский собор и летний дворец Петра в Летнем саду, заложенном в 1704. В архитектуре начала 18 столетия отразилась художественная направленность русского зодчества 17 в., характерная ярко выраженной декоративностью (Кунсткамера и здание Двенадцати коллегий). Архитектуру Петербурга той поры условно называют «барокко первой трети 18 в.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077240" y="531504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66760" cy="1542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50920" y="1557360"/>
            <a:ext cx="276228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ьшиковский дворец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-1044720" y="0"/>
            <a:ext cx="8002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6089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4681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имний дворец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2520" y="1625760"/>
            <a:ext cx="5688360" cy="4008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ИМНИЙ ДВОРЕЦ в Санкт-Петербурге, памятник архитектуры русского барокко (18 в.), до 1905 главная резиденция российских император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ервый «Зимний дом» для Петра I был построен в 1711 на берегу Зимней канавки, второй — на месте современного Эрмитажного театра (1716-19, архитектор Г. И. Маттарнови, перестроен в 1720-х гг. архитектор Д. Трезини). В 1732 В. В. Растрелли начал постройку третьего Зимнего дворца с фасадами на Неву и Дворцовую площадь (неоднократно перестраивался). Четвертый, временный, деревянный Зимний дворец был построен в 1755 Растрелли на углу Невского проспекта и набережной р. Мойки (уничтожен в 1762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077240" y="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7372440" y="2060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7372440" y="4886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-684360" y="1268280"/>
            <a:ext cx="30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898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977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6707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РМИТАЖ в Санкт-Петербурге (от франц. ermitagе — место уединения), один из крупнейших в мире художественных и культурно-исторических музеев. Возник в 1764 как частное собрание Екатерины II, открыт для публики в 1852. Богатейшие коллекции памятников первобытной, древневосточной, древнеегипетской, античной и средневековой культур, искусства Западной и Восточной Европы, археологические и художественные памятники Азии, памятники русской культуры 8-19 веков. Реставрационный отде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7372440" y="48862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усский музе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узей учрежден в 1895 Николаем II. В 1895 под руководством архитектора В.Ф. Свиньина начата перестройка помещений Михайловского дворца, в котором решено разместить музейные коллекции. 7(19) марта 1898 состоялось официальное открытие музея. В основу его коллекций легли произведения, ранее хранившиеся в Эрмитаже, Академии художеств, Зимнем, Гатчинском и Александровском (Царское село) дворцах, а также некоторые частные коллекции. После Октябрьской революции музей был национализирован. В 1920-е гг. коллекции музея значительно пополнились за счет распределения национализированных фондов других музее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077240" y="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4886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2268360" y="6381720"/>
            <a:ext cx="1229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дин из залов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763640" y="6524640"/>
            <a:ext cx="432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-1116000" y="836640"/>
            <a:ext cx="8082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8946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82560" y="692280"/>
            <a:ext cx="7561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АЛЕКСАНДРО-НЕВСКАЯ ЛАВРА, русский православный монастырь в Петербурге; основана Петром I Великим в 1710 году в память победы Александра Невского над шведами; статус лавры — с 1797 года. В архитектурный ансамбль лавры входят: Благовещенская церковь (1717-1722, архитектор Д. Трезини, Т. Швертфегер), Федоровская церковь (1742-1750, архитектор П. Трезини), монументальный в стиле классицизма Троицкий собор (1778-1790, архитектор И.Е. Старов). В 1918 году монастырь был закрыт, Александро-Невская лавра получила статус государственного заповедника, где размещен Музей городской скульптуры с некрополем 18 века — Лазаревское кладбище с надгробиями работы И.П. Мартоса, М.И. Козловского и некрополем мастеров искусств (Тихвинское кладбище). В Александро-Невской лавре были похоронены М.В. Ломоносов, А.В. Суворов, Д.И. Фонвизин, Н.М.Карамзин, И.А. Крылов, М.И. Глинка, М.П. Мусоргский, П.И. Чайковский, Ф.М. Достоевский, В.В. Стасов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0" y="4886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077240" y="5315040"/>
            <a:ext cx="20667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2:55:58Z</dcterms:created>
  <dc:creator>Admin</dc:creator>
  <dc:description/>
  <dc:language>en-US</dc:language>
  <cp:lastModifiedBy>Admin</cp:lastModifiedBy>
  <dcterms:modified xsi:type="dcterms:W3CDTF">2012-02-24T14:13:36Z</dcterms:modified>
  <cp:revision>5</cp:revision>
  <dc:subject/>
  <dc:title>Архитектура</dc:title>
</cp:coreProperties>
</file>