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892-F5EF-4D67-8D95-C6621F2B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6FC-6082-4A87-938E-80B401E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FA0-DF37-4B25-8560-45049A9F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463-B4A3-4D7F-B126-441DE45D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C80-8701-4A6B-B05D-0B3656C9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7D4F-417D-4992-9F76-1439C286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1413-B07B-46FD-A935-AF41F5C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1AF7-42FD-46AB-99B8-888EBAEE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104E-513F-4B29-92B1-021CA97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EC5-2C7E-4F33-9D46-A41D7E61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25FC-075C-4F9C-B213-C3BF5DDF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F1A-B27C-44F1-82AF-EA21CC8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0DC-B17E-48F1-BED6-19B67EC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F174-C375-4B7B-8E40-778F8F8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F1C-568C-4477-80B6-8DBB0AA7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545-41C9-4D99-8406-3144118E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1232-2435-4E83-BF24-FAE3F0BB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9DA-D799-479D-82F8-EE3727C8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808-7E1B-46E1-97B7-6C61F15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7BE-2DD6-4E53-9686-8EDE8FB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94C-B623-47B2-895F-4856E52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8A1-5276-4539-B648-7326956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B4B-A2F5-4FC0-8CEC-D491477E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D90-B9E4-4B1F-94CA-F7F6CA1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3DA-6414-4E77-98DA-2B27A8C5D7F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226B-7D4B-4924-B7EE-B0332EA3F9E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68360" y="189000"/>
            <a:ext cx="4965840" cy="868320"/>
          </a:xfrm>
          <a:prstGeom prst="rect">
            <a:avLst/>
          </a:prstGeom>
          <a:solidFill>
            <a:srgbClr val="d5b781"/>
          </a:solidFill>
          <a:ln w="9360">
            <a:solidFill>
              <a:srgbClr val="d5b7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Архитек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920" y="4220640"/>
            <a:ext cx="6400800" cy="1752840"/>
          </a:xfrm>
          <a:prstGeom prst="rect">
            <a:avLst/>
          </a:prstGeom>
          <a:solidFill>
            <a:srgbClr val="d5b781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гор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84160" cy="182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258920" y="5157720"/>
            <a:ext cx="384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нкт-Петербур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-900000" y="0"/>
            <a:ext cx="520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76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Исаакиевский собор (архитекторы А.                  Ринальди, В. Ф. Бренна), ныне существующий собор был    построен в 1818-58 (архитектор А. А. Монферран).</a:t>
            </a:r>
            <a:br>
              <a:rPr sz="3600"/>
            </a:b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918560" cy="4687920"/>
          </a:xfrm>
          <a:prstGeom prst="rect">
            <a:avLst/>
          </a:prstGeom>
          <a:solidFill>
            <a:srgbClr val="dc893e"/>
          </a:solidFill>
          <a:ln w="9360">
            <a:solidFill>
              <a:srgbClr val="f0b854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аакиевская площадь была задумана архитектором Чевакинским еще в 1762, однако окончательно она оформилась в начале 20 столетия. Во второй половине 19 в. в городе появляется большое количество доходных домов различного вида, особняки купцов и промышленников. Возникают совершенно новые типы сооружений: банки, торговые пассажи, железнодорожные вокзалы, большие заводы. В архитектуре шел активный процесс стилизаторства и эклектичного использования различных стилей. Все больше используются новые технические достижения: железобетон, металлические конструкции, большеформатное стекло. Произведения архитекторов А. И. Штакеншнейдера, Н. Ефимова, Ф. Брюллова, К. А. Тона оказали большое влияние на облик гор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-1405080" y="0"/>
            <a:ext cx="1592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601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24000" y="430200"/>
            <a:ext cx="5572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рхитектура этого период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70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хитектура этого периода отличается регулярностью и представительностью при относительной сдержанности декоративного убранства. Это объясняется специфическими условиями строительства: поспешностью, утилитарным характером строительства, недостатком строительных материалов, природными особенностями местности. На рубеже первых десятилетий 18 в. активизируется каменное строительство: в 1710-1714 возводится дворец Меншикова на Васильевском острове, с 1713 начинается строительство Александро-Невской лавры с деревянной церковью, начинает строиться Петропавловский собор и летний дворец Петра в Летнем саду, заложенном в 1704. В архитектуре начала 18 столетия отразилась художественная направленность русского зодчества 17 в., характерная ярко выраженной декоративностью (Кунсткамера и здание Двенадцати коллегий). Архитектуру Петербурга той поры условно называют «барокко первой трети 18 в.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77240" y="531504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50920" y="1557360"/>
            <a:ext cx="27622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ьшиковский дворе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-1044720" y="0"/>
            <a:ext cx="800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6089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4681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мний дворе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2520" y="1625760"/>
            <a:ext cx="5688360" cy="4008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ИМНИЙ ДВОРЕЦ в Санкт-Петербурге, памятник архитектуры русского барокко (18 в.), до 1905 главная резиденция российских императо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рвый «Зимний дом» для Петра I был построен в 1711 на берегу Зимней канавки, второй — на месте современного Эрмитажного театра (1716-19, архитектор Г. И. Маттарнови, перестроен в 1720-х гг. архитектор Д. Трезини). В 1732 В. В. Растрелли начал постройку третьего Зимнего дворца с фасадами на Неву и Дворцовую площадь (неоднократно перестраивался). Четвертый, временный, деревянный Зимний дворец был построен в 1755 Растрелли на углу Невского проспекта и набережной р. Мойки (уничтожен в 1762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7724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372440" y="20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-684360" y="1268280"/>
            <a:ext cx="30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898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977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РМИТАЖ в Санкт-Петербурге (от франц. ermitagе — место уединения), один из крупнейших в мире художественных и культурно-исторических музеев. Возник в 1764 как частное собрание Екатерины II, открыт для публики в 1852. Богатейшие коллекции памятников первобытной, древневосточной, древнеегипетской, античной и средневековой культур, искусства Западной и Восточной Европы, археологические и художественные памятники Азии, памятники русской культуры 8-19 веков. Реставрационный отд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усский муз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узей учрежден в 1895 Николаем II. В 1895 под руководством архитектора В.Ф. Свиньина начата перестройка помещений Михайловского дворца, в котором решено разместить музейные коллекции. 7(19) марта 1898 состоялось официальное открытие музея. В основу его коллекций легли произведения, ранее хранившиеся в Эрмитаже, Академии художеств, Зимнем, Гатчинском и Александровском (Царское село) дворцах, а также некоторые частные коллекции. После Октябрьской революции музей был национализирован. В 1920-е гг. коллекции музея значительно пополнились за счет распределения национализированных фондов других музее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07724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268360" y="6381720"/>
            <a:ext cx="1229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дин из залов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763640" y="652464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-1116000" y="836640"/>
            <a:ext cx="8082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8946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82560" y="692280"/>
            <a:ext cx="7561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ЕКСАНДРО-НЕВСКАЯ ЛАВРА, русский православный монастырь в Петербурге; основана Петром I Великим в 1710 году в память победы Александра Невского над шведами; статус лавры — с 1797 года. В архитектурный ансамбль лавры входят: Благовещенская церковь (1717-1722, архитектор Д. Трезини, Т. Швертфегер), Федоровская церковь (1742-1750, архитектор П. Трезини), монументальный в стиле классицизма Троицкий собор (1778-1790, архитектор И.Е. Старов). В 1918 году монастырь был закрыт, Александро-Невская лавра получила статус государственного заповедника, где размещен Музей городской скульптуры с некрополем 18 века — Лазаревское кладбище с надгробиями работы И.П. Мартоса, М.И. Козловского и некрополем мастеров искусств (Тихвинское кладбище). В Александро-Невской лавре были похоронены М.В. Ломоносов, А.В. Суворов, Д.И. Фонвизин, Н.М.Карамзин, И.А. Крылов, М.И. Глинка, М.П. Мусоргский, П.И. Чайковский, Ф.М. Достоевский, В.В. Стас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077240" y="531504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2:55:58Z</dcterms:created>
  <dc:creator>Admin</dc:creator>
  <dc:description/>
  <dc:language>en-US</dc:language>
  <cp:lastModifiedBy>Admin</cp:lastModifiedBy>
  <dcterms:modified xsi:type="dcterms:W3CDTF">2012-02-24T14:13:36Z</dcterms:modified>
  <cp:revision>5</cp:revision>
  <dc:subject/>
  <dc:title>Архитектура</dc:title>
</cp:coreProperties>
</file>