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E64-77DC-488A-96F7-A0D766CA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940-1A3D-4C4A-B115-C29AE178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01B-A78C-4E17-8752-4504F39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823-09B4-4865-BAF5-E72CAE29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91C-7AC4-47CC-A04C-0F1FDB3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1F7-62C9-4B63-9DE0-91FE214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97A-9A41-48C1-A9D6-A90CC78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88E-B2BB-4C0A-A4DA-2B39BEB6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2F0-1E97-4C75-9C38-BD16857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CDD-81D3-4E27-9803-8928017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0FC-5ADA-429B-8D79-13AA5AF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5AE-7DD1-43F2-88B9-62834F2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5D0A-45A2-4FCF-8A28-FC26D6AD3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Ins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240"/>
            <a:ext cx="85327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Schne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6913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Schl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095480"/>
            <a:ext cx="78483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082520"/>
            <a:ext cx="691344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Li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1318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Mu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076400"/>
            <a:ext cx="78483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Grashup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170000"/>
            <a:ext cx="770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Mo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131840"/>
            <a:ext cx="7129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883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9:39:40Z</dcterms:created>
  <dc:creator>Пингвин</dc:creator>
  <dc:description/>
  <dc:language>en-US</dc:language>
  <cp:lastModifiedBy>Макина</cp:lastModifiedBy>
  <dcterms:modified xsi:type="dcterms:W3CDTF">2009-03-06T05:39:23Z</dcterms:modified>
  <cp:revision>3</cp:revision>
  <dc:subject/>
  <dc:title>Das Insekt</dc:title>
</cp:coreProperties>
</file>