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374B-124F-4C34-975A-C5F216FF8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92C7-899C-48A8-BD7F-18652D9F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BCCD-BD09-4122-9141-913FFDBB2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3545-FF54-4BD2-93B9-AA79A03F1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9066-A816-4002-A508-4A867910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DFAB-CC58-4E28-A965-0DAE93E9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CBCC-094A-43BF-ACF0-26F784CF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7331-77A4-489D-A911-840860E3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D547-6769-4B22-B1D6-43586B28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98B4-898E-4EF0-84D8-ACF312B5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72EB-8008-47D0-A4B6-4610AD19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90DC-88C3-41EF-A708-9041C72D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0EA2-464F-4D7C-893D-71549B04E4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Insek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20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7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4000" y="3240"/>
            <a:ext cx="853272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Schnec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16000" y="1214280"/>
            <a:ext cx="691344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Schl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4360" y="1095480"/>
            <a:ext cx="784836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Bi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16000" y="1082520"/>
            <a:ext cx="6913440" cy="57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Libe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26920" y="1131840"/>
            <a:ext cx="763272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Muc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4360" y="1076400"/>
            <a:ext cx="784836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Grashup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4360" y="1170000"/>
            <a:ext cx="7704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Mo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42920" y="1131840"/>
            <a:ext cx="712944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83883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5T19:39:40Z</dcterms:created>
  <dc:creator>Пингвин</dc:creator>
  <dc:description/>
  <dc:language>en-US</dc:language>
  <cp:lastModifiedBy>Макина</cp:lastModifiedBy>
  <dcterms:modified xsi:type="dcterms:W3CDTF">2009-03-06T05:39:23Z</dcterms:modified>
  <cp:revision>3</cp:revision>
  <dc:subject/>
  <dc:title>Das Insekt</dc:title>
</cp:coreProperties>
</file>