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CAMERA.WAV" ContentType="audio/x-wav"/>
  <Override PartName="/ppt/media/LASER.WAV" ContentType="audio/x-wav"/>
  <Override PartName="/ppt/media/image14.wmf" ContentType="image/x-wmf"/>
  <Override PartName="/ppt/media/image4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2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3BC-CBB7-40CA-8D4B-0FC816F1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438-D8C6-405F-B73B-C6DB2F6E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429-9276-4556-BC3E-18E5CF7A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985-A01A-4B8C-BB29-92FE8A70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FD86-66FB-4432-AB4D-397DBFD5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EE5F-A3F7-4889-87AE-D7A8F34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72D5-C022-45D7-83E1-991C436A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B47D-62F9-4639-9754-646A7D8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CFA9-5159-4B50-89D8-2EBF6AD1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54D8-A744-419D-B464-4BBA289C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B5EC-F699-4191-B94E-8DAC4DB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F94-927B-4087-A8ED-38031CD5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3C21-711F-4402-B6A5-C960B55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B730-A902-4DA6-B962-3768C009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3E73-778E-4DA4-9495-20EA3953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8754-1D45-4274-B8F4-6BF15800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B0D9-410A-4AB1-A043-E553195F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3AD-0558-4D37-8AFF-F392EEC5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386-2447-463F-B60A-7D69DB79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087-0B2D-4ACC-AD9E-DAFDB594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28A-7418-4FC5-B59B-CCF936FB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3E7-EDC4-4C93-B77A-267102B6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30B-2C38-44A1-A2EA-FBCBD6D6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9DB-CBD6-4D95-B0C1-7F5A23C0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A:\minispir.GIF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A:\minispir.GIF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45DD-B2FD-4EDB-93E5-0E0F50D2932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FD83-C080-418D-90F4-9BF2244E3940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221304"/>
                </a:solidFill>
                <a:latin typeface="Times New Roman"/>
              </a:rPr>
              <a:t>Обучающие игры на уроках французского язы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1285920" y="607212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ила Фурукина С. И. учитель МОУ сош № 12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ктябрь 200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3429000" cy="28270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4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267440" cy="223524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5" descr=""/>
          <p:cNvPicPr/>
          <p:nvPr/>
        </p:nvPicPr>
        <p:blipFill>
          <a:blip r:embed="rId3"/>
          <a:stretch/>
        </p:blipFill>
        <p:spPr>
          <a:xfrm>
            <a:off x="1295280" y="3505320"/>
            <a:ext cx="3048120" cy="162216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6" descr=""/>
          <p:cNvPicPr/>
          <p:nvPr/>
        </p:nvPicPr>
        <p:blipFill>
          <a:blip r:embed="rId4"/>
          <a:stretch/>
        </p:blipFill>
        <p:spPr>
          <a:xfrm>
            <a:off x="1447920" y="5105520"/>
            <a:ext cx="3276360" cy="149220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7" descr=""/>
          <p:cNvPicPr/>
          <p:nvPr/>
        </p:nvPicPr>
        <p:blipFill>
          <a:blip r:embed="rId5"/>
          <a:stretch/>
        </p:blipFill>
        <p:spPr>
          <a:xfrm>
            <a:off x="5715000" y="4464000"/>
            <a:ext cx="2685960" cy="213516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8" descr=""/>
          <p:cNvPicPr/>
          <p:nvPr/>
        </p:nvPicPr>
        <p:blipFill>
          <a:blip r:embed="rId6"/>
          <a:stretch/>
        </p:blipFill>
        <p:spPr>
          <a:xfrm>
            <a:off x="5029200" y="2819520"/>
            <a:ext cx="24051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’ai une go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 …(as une pom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 une t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le …(a une car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s avons des bon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…(avez des ball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s ont des sap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es…(ont des lap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1066680" y="914400"/>
            <a:ext cx="777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грамматические игры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WordArt 3"/>
          <p:cNvSpPr txBox="1"/>
          <p:nvPr/>
        </p:nvSpPr>
        <p:spPr>
          <a:xfrm>
            <a:off x="1143000" y="5335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удитивные игр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8" name="Object 4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733560" cy="9730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7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318456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8" descr=""/>
          <p:cNvPicPr/>
          <p:nvPr/>
        </p:nvPicPr>
        <p:blipFill>
          <a:blip r:embed="rId3"/>
          <a:stretch/>
        </p:blipFill>
        <p:spPr>
          <a:xfrm>
            <a:off x="6858000" y="1600200"/>
            <a:ext cx="188136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Object 9" descr=""/>
          <p:cNvPicPr/>
          <p:nvPr/>
        </p:nvPicPr>
        <p:blipFill>
          <a:blip r:embed="rId4"/>
          <a:stretch/>
        </p:blipFill>
        <p:spPr>
          <a:xfrm>
            <a:off x="3505320" y="4572000"/>
            <a:ext cx="1801800" cy="185256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1" descr=""/>
          <p:cNvPicPr/>
          <p:nvPr/>
        </p:nvPicPr>
        <p:blipFill>
          <a:blip r:embed="rId5"/>
          <a:stretch/>
        </p:blipFill>
        <p:spPr>
          <a:xfrm>
            <a:off x="1068480" y="3200400"/>
            <a:ext cx="2000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man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chap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ch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g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drap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b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ois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bou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cra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bonb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gar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bal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panta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ar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ou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champig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114300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нетические игры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809880" cy="4572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famil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on p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l parle a ma m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on fr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l repete la gramm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ta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le ch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soeu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le arrose les fl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49568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on cous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l achete du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cous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le pa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l’oncle J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l travaille aux ch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grand-m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le lave les ver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990720" y="53352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мешанные игр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 vas-tu, Marc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 … chez Mich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 vas-tu, Claud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 … chez Nad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 va ce garc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…a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 vont ces garc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s … a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u allez-vous, Rose et Jul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ous … chez Nata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u allez-vous, mes garc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ous …chez Si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99864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erroqu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i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ort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scarg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0" y="3589200"/>
            <a:ext cx="6240600" cy="32688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1066680" y="380880"/>
            <a:ext cx="7772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рфографические игры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  P               O              R   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ou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a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al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em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uc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avo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bject 6" descr=""/>
          <p:cNvPicPr/>
          <p:nvPr/>
        </p:nvPicPr>
        <p:blipFill>
          <a:blip r:embed="rId1"/>
          <a:stretch/>
        </p:blipFill>
        <p:spPr>
          <a:xfrm>
            <a:off x="4416480" y="304920"/>
            <a:ext cx="1346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  P               O              R   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o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is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o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ourqu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res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17179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  P               O              R   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n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i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r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Object 0" descr=""/>
          <p:cNvPicPr/>
          <p:nvPr/>
        </p:nvPicPr>
        <p:blipFill>
          <a:blip r:embed="rId1"/>
          <a:stretch/>
        </p:blipFill>
        <p:spPr>
          <a:xfrm>
            <a:off x="3429000" y="0"/>
            <a:ext cx="1228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  P               O              R   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o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n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u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ad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Object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1771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P          O            R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i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r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ul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rouss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9842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a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h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o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r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h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vi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tro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escen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a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e fe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304920"/>
            <a:ext cx="7391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лексические игры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solidFill>
            <a:srgbClr val="cc9864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ren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lion                  es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e so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eleph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lap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l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solidFill>
            <a:srgbClr val="cc9864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ch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o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anger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r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Object 5" descr=""/>
          <p:cNvPicPr/>
          <p:nvPr/>
        </p:nvPicPr>
        <p:blipFill>
          <a:blip r:embed="rId1"/>
          <a:stretch/>
        </p:blipFill>
        <p:spPr>
          <a:xfrm>
            <a:off x="3886200" y="0"/>
            <a:ext cx="19144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37:17Z</dcterms:created>
  <dc:creator>Angel</dc:creator>
  <dc:description/>
  <dc:language>en-US</dc:language>
  <cp:lastModifiedBy>Asus</cp:lastModifiedBy>
  <dcterms:modified xsi:type="dcterms:W3CDTF">2009-10-24T12:57:41Z</dcterms:modified>
  <cp:revision>22</cp:revision>
  <dc:subject/>
  <dc:title>Обучающие игры</dc:title>
</cp:coreProperties>
</file>