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09158-E40D-4B7F-966D-1209EDCB7C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117ED-FC7D-4842-A0B7-FB9B9BE14D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E2953-77E7-40DF-A07F-E383556CF8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39ACE-DECB-42AF-A991-C5FECE63A8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B17A-97A7-439D-B4EE-67FAE5B575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90AC-3220-4EBE-B7CF-54CE6648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440BD-9520-4A07-A7F1-4E3499F9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EA414-EAFE-4895-AE62-25D55D759B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064B8-3494-4736-8787-D37272A078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AE1DA-2B13-4908-ACFA-7F944621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42D0D-8792-4950-932C-342298CB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33F6E-C08D-409C-AD8B-BD696B8B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CABC1-3C59-46F4-8852-FE92A8DC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9D573-91B7-4921-A688-4EF8247B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5ACD1-9C24-4050-84BD-9EDDA079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81FE6-4CD5-402D-8721-6C93F51A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A426D-AC73-440B-BC74-13E3F0B9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895C0-EF99-47E8-B7BB-1F3108D2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D7C6C-A42A-42F1-B54E-BE844CA9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9E67B-E1B4-40F0-BB80-898580A7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CAE7D-B379-4075-803A-59EACA7354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0DF8C-A512-470F-842C-FCDECF0E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07502-FB82-43CB-91B6-357881A2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D033A-EFA4-4E9B-A971-A41A4D7E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643E-2545-4E65-8256-F956582B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ADE45-BC4F-4872-9E64-54A04EFE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81380-FA19-4701-90E2-B2EE49BE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52EFF-24EF-4D5B-BD1F-6FB8580F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29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76314B-91EE-4E6F-A284-6640E9B59064}" type="slidenum"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29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249FEF-5D63-4716-943A-C0266A041777}" type="slidenum"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0&amp;text=&#1088;&#1072;&#1084;&#1082;&#1080;%20&#1089;%20&#1087;&#1090;&#1080;&#1094;&#1072;&#1084;&#1080;&amp;pos=315&amp;uinfo=sw-1583-sh-805-fw-1358-fh-598-pd-1&amp;rpt=simage&amp;img_url=http%3A%2F%2Fi021.radikal.ru%2F0801%2F54%2Fe14fb14ce1cf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6" descr="http://www.deshow.net/d/file/cartoon/2008-10/painting-art-57-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5292720" y="2541600"/>
            <a:ext cx="3456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рт-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3 «А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4419720" y="4238640"/>
            <a:ext cx="47527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«Друзья птиц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(декорирование скворечник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208080" y="6524640"/>
            <a:ext cx="8964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Крадинова Екатерина Владимировна, учитель начальных классов, ГБОУ СОШ № 49, г. 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95280" y="361800"/>
            <a:ext cx="6769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Цель  арт-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"/>
          <p:cNvSpPr/>
          <p:nvPr/>
        </p:nvSpPr>
        <p:spPr>
          <a:xfrm>
            <a:off x="250920" y="878040"/>
            <a:ext cx="66974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ирода и искусство, материал и 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395280" y="2205000"/>
            <a:ext cx="612144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Этапы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Georgia"/>
              <a:buAutoNum type="romanU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астерим сквореч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Georgia"/>
              <a:buAutoNum type="romanU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Разработка эскиза птичьего дом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Georgia"/>
              <a:buAutoNum type="romanU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Роспись скворе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extBox 1" descr=""/>
          <p:cNvPicPr/>
          <p:nvPr/>
        </p:nvPicPr>
        <p:blipFill>
          <a:blip r:embed="rId2"/>
          <a:stretch/>
        </p:blipFill>
        <p:spPr>
          <a:xfrm>
            <a:off x="1042920" y="1652760"/>
            <a:ext cx="8350200" cy="25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"/>
          <p:cNvPicPr/>
          <p:nvPr/>
        </p:nvPicPr>
        <p:blipFill>
          <a:blip r:embed="rId2"/>
          <a:stretch/>
        </p:blipFill>
        <p:spPr>
          <a:xfrm>
            <a:off x="233280" y="158760"/>
            <a:ext cx="1163880" cy="172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8" name="TextBox 1"/>
          <p:cNvSpPr/>
          <p:nvPr/>
        </p:nvSpPr>
        <p:spPr>
          <a:xfrm>
            <a:off x="573120" y="93600"/>
            <a:ext cx="216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Кирилл Полес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eorgia"/>
              </a:rPr>
              <a:t>Дима Вас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5" descr=""/>
          <p:cNvPicPr/>
          <p:nvPr/>
        </p:nvPicPr>
        <p:blipFill>
          <a:blip r:embed="rId3"/>
          <a:srcRect l="10910" t="0" r="0" b="0"/>
          <a:stretch/>
        </p:blipFill>
        <p:spPr>
          <a:xfrm>
            <a:off x="7839000" y="260280"/>
            <a:ext cx="1089000" cy="180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2"/>
          <p:cNvSpPr/>
          <p:nvPr/>
        </p:nvSpPr>
        <p:spPr>
          <a:xfrm>
            <a:off x="6516720" y="351000"/>
            <a:ext cx="2487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b050"/>
                </a:solidFill>
                <a:latin typeface="Georgia"/>
              </a:rPr>
              <a:t>Софья Ковал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b050"/>
                </a:solidFill>
                <a:latin typeface="Georgia"/>
              </a:rPr>
              <a:t>Полина Бе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7" descr=""/>
          <p:cNvPicPr/>
          <p:nvPr/>
        </p:nvPicPr>
        <p:blipFill>
          <a:blip r:embed="rId4"/>
          <a:srcRect l="13851" t="13332" r="9735" b="0"/>
          <a:stretch/>
        </p:blipFill>
        <p:spPr>
          <a:xfrm>
            <a:off x="2503440" y="158760"/>
            <a:ext cx="1019160" cy="171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TextBox 4"/>
          <p:cNvSpPr/>
          <p:nvPr/>
        </p:nvSpPr>
        <p:spPr>
          <a:xfrm>
            <a:off x="3503520" y="380880"/>
            <a:ext cx="1584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2d2db9"/>
                </a:solidFill>
                <a:latin typeface="Georgia"/>
              </a:rPr>
              <a:t>Саш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2d2db9"/>
                </a:solidFill>
                <a:latin typeface="Georgia"/>
              </a:rPr>
              <a:t>Хюппен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9" descr=""/>
          <p:cNvPicPr/>
          <p:nvPr/>
        </p:nvPicPr>
        <p:blipFill>
          <a:blip r:embed="rId5"/>
          <a:srcRect l="0" t="22642" r="0" b="0"/>
          <a:stretch/>
        </p:blipFill>
        <p:spPr>
          <a:xfrm>
            <a:off x="4948200" y="311040"/>
            <a:ext cx="1160640" cy="1527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4" name="TextBox 6"/>
          <p:cNvSpPr/>
          <p:nvPr/>
        </p:nvSpPr>
        <p:spPr>
          <a:xfrm>
            <a:off x="5764320" y="1413000"/>
            <a:ext cx="19033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Костя Пуч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Артём Тихоми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1" descr=""/>
          <p:cNvPicPr/>
          <p:nvPr/>
        </p:nvPicPr>
        <p:blipFill>
          <a:blip r:embed="rId6"/>
          <a:stretch/>
        </p:blipFill>
        <p:spPr>
          <a:xfrm>
            <a:off x="7408800" y="4824360"/>
            <a:ext cx="1117800" cy="178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Рисунок 12" descr=""/>
          <p:cNvPicPr/>
          <p:nvPr/>
        </p:nvPicPr>
        <p:blipFill>
          <a:blip r:embed="rId7"/>
          <a:srcRect l="17386" t="4676" r="8565" b="0"/>
          <a:stretch/>
        </p:blipFill>
        <p:spPr>
          <a:xfrm>
            <a:off x="547560" y="4381560"/>
            <a:ext cx="1208160" cy="21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TextBox 8"/>
          <p:cNvSpPr/>
          <p:nvPr/>
        </p:nvSpPr>
        <p:spPr>
          <a:xfrm>
            <a:off x="115920" y="4286160"/>
            <a:ext cx="13968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Georgia"/>
              </a:rPr>
              <a:t>Фёд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Georgia"/>
              </a:rPr>
              <a:t>Жиля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8028000" y="6176880"/>
            <a:ext cx="16128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ерёжа Чер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5" descr=""/>
          <p:cNvPicPr/>
          <p:nvPr/>
        </p:nvPicPr>
        <p:blipFill>
          <a:blip r:embed="rId8"/>
          <a:srcRect l="9438" t="4651" r="8103" b="4758"/>
          <a:stretch/>
        </p:blipFill>
        <p:spPr>
          <a:xfrm>
            <a:off x="2733840" y="2208240"/>
            <a:ext cx="119520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Рисунок 16" descr=""/>
          <p:cNvPicPr/>
          <p:nvPr/>
        </p:nvPicPr>
        <p:blipFill>
          <a:blip r:embed="rId9"/>
          <a:srcRect l="9472" t="10303" r="17240" b="2833"/>
          <a:stretch/>
        </p:blipFill>
        <p:spPr>
          <a:xfrm>
            <a:off x="6227640" y="2378160"/>
            <a:ext cx="1008360" cy="1838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Рисунок 17" descr=""/>
          <p:cNvPicPr/>
          <p:nvPr/>
        </p:nvPicPr>
        <p:blipFill>
          <a:blip r:embed="rId10"/>
          <a:srcRect l="10129" t="8686" r="9485" b="0"/>
          <a:stretch/>
        </p:blipFill>
        <p:spPr>
          <a:xfrm>
            <a:off x="7842240" y="2341440"/>
            <a:ext cx="992160" cy="175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Рисунок 18" descr=""/>
          <p:cNvPicPr/>
          <p:nvPr/>
        </p:nvPicPr>
        <p:blipFill>
          <a:blip r:embed="rId11"/>
          <a:srcRect l="19611" t="3024" r="11149" b="3843"/>
          <a:stretch/>
        </p:blipFill>
        <p:spPr>
          <a:xfrm>
            <a:off x="2124000" y="4503600"/>
            <a:ext cx="1127160" cy="215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Рисунок 19" descr=""/>
          <p:cNvPicPr/>
          <p:nvPr/>
        </p:nvPicPr>
        <p:blipFill>
          <a:blip r:embed="rId12"/>
          <a:srcRect l="0" t="-324" r="20367" b="351"/>
          <a:stretch/>
        </p:blipFill>
        <p:spPr>
          <a:xfrm>
            <a:off x="814320" y="2197080"/>
            <a:ext cx="1166760" cy="184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4" name="Рисунок 20" descr=""/>
          <p:cNvPicPr/>
          <p:nvPr/>
        </p:nvPicPr>
        <p:blipFill>
          <a:blip r:embed="rId13"/>
          <a:srcRect l="0" t="25060" r="0" b="14950"/>
          <a:stretch/>
        </p:blipFill>
        <p:spPr>
          <a:xfrm>
            <a:off x="5346720" y="5407200"/>
            <a:ext cx="1251000" cy="135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5" name="Рисунок 21" descr=""/>
          <p:cNvPicPr/>
          <p:nvPr/>
        </p:nvPicPr>
        <p:blipFill>
          <a:blip r:embed="rId14"/>
          <a:srcRect l="0" t="18582" r="4060" b="13941"/>
          <a:stretch/>
        </p:blipFill>
        <p:spPr>
          <a:xfrm>
            <a:off x="4295880" y="3530520"/>
            <a:ext cx="1149120" cy="140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6" name="TextBox 13"/>
          <p:cNvSpPr/>
          <p:nvPr/>
        </p:nvSpPr>
        <p:spPr>
          <a:xfrm>
            <a:off x="5210280" y="2208240"/>
            <a:ext cx="1874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Даша Едам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7743960" y="4111560"/>
            <a:ext cx="15318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Georgia"/>
              </a:rPr>
              <a:t>Виктор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Georgia"/>
              </a:rPr>
              <a:t>Клюк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2"/>
          <p:cNvSpPr/>
          <p:nvPr/>
        </p:nvSpPr>
        <p:spPr>
          <a:xfrm>
            <a:off x="4175280" y="3236760"/>
            <a:ext cx="1623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Макар Хале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3"/>
          <p:cNvSpPr/>
          <p:nvPr/>
        </p:nvSpPr>
        <p:spPr>
          <a:xfrm>
            <a:off x="3898800" y="2192400"/>
            <a:ext cx="1189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Georgia"/>
              </a:rPr>
              <a:t>Эло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Georgia"/>
              </a:rPr>
              <a:t>Рыб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4"/>
          <p:cNvSpPr/>
          <p:nvPr/>
        </p:nvSpPr>
        <p:spPr>
          <a:xfrm>
            <a:off x="115920" y="2401920"/>
            <a:ext cx="1155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47ffd1"/>
                </a:solidFill>
                <a:latin typeface="Georgia"/>
              </a:rPr>
              <a:t>Яков Ташлиц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5"/>
          <p:cNvSpPr/>
          <p:nvPr/>
        </p:nvSpPr>
        <p:spPr>
          <a:xfrm>
            <a:off x="2860560" y="4503600"/>
            <a:ext cx="10684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Андрей Горбачё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6"/>
          <p:cNvSpPr/>
          <p:nvPr/>
        </p:nvSpPr>
        <p:spPr>
          <a:xfrm>
            <a:off x="4314960" y="5319720"/>
            <a:ext cx="148428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офья Гончар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Таисия Парамон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14:17:36Z</dcterms:created>
  <dc:creator/>
  <dc:description/>
  <dc:language>en-US</dc:language>
  <cp:lastModifiedBy>Катюша</cp:lastModifiedBy>
  <dcterms:modified xsi:type="dcterms:W3CDTF">2013-03-29T15:42:04Z</dcterms:modified>
  <cp:revision>9</cp:revision>
  <dc:subject/>
  <dc:title>Презентация PowerPoint</dc:title>
</cp:coreProperties>
</file>