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5A20A-0C44-4A0C-A92B-2D000AFE66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A23B-A44D-486B-8656-53F9EFA0C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CC7A7-B5DE-4FC8-96B3-5248F69F0E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1B3B4-3260-4D8C-8082-829F7CCC30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A39F-0FF3-436D-8B4F-FEDAB4960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BB09-27D5-4CF2-BAD8-C73D0D52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941C-BC2D-4A8C-9111-AF8009C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241B-A331-422B-83FD-F28E538C8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B9FE3-306B-44C8-BFE4-9DAB249E9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AEFF-0119-48F8-A17A-A8C893D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35870-21DC-44C2-B4EE-B9160FAA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529EE-7EFF-426C-B113-3CFEA9A9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65B6-DC41-43CD-9805-966DB85B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517AE-5D1F-40DE-96E5-6A66C64A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C00E-56CC-4AC1-A991-E66F8D90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B5BF-FC78-447F-B86A-8EDB3F1D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67CDC-EA1B-49A8-BEF6-C34F6B9A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0F29-1D27-495D-945A-83E0FC0C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E16ED-1B1D-4351-B69D-C9F7535F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B366-DF04-45A7-8BC7-AF293B9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96D5-E478-495F-90EC-A9364AD5B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C05F-7348-427F-99E6-A4CE4E8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5D11-9E35-4AF2-A12C-CDCBC36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B4F2-BAF4-4037-B189-6D3B569E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816A-3E31-4825-9230-02CDB3B3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218A-EA38-46CD-833C-94619D1F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F318-9546-4BAE-B440-F06D4F1D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B35D-E4B9-4939-8617-035644B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29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AD672F-DA23-4CC7-BDBE-0C183DD08B2B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29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D5D255-0CA1-4E31-94F9-630B743943F0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0&amp;text=&#1088;&#1072;&#1084;&#1082;&#1080;%20&#1089;%20&#1087;&#1090;&#1080;&#1094;&#1072;&#1084;&#1080;&amp;pos=315&amp;uinfo=sw-1583-sh-805-fw-1358-fh-598-pd-1&amp;rpt=simage&amp;img_url=http%3A%2F%2Fi021.radikal.ru%2F0801%2F54%2Fe14fb14ce1cf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6" descr="http://www.deshow.net/d/file/cartoon/2008-10/painting-art-57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292720" y="2541600"/>
            <a:ext cx="3456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т-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3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4419720" y="4238640"/>
            <a:ext cx="4752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«Друзья птиц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(декорирование скворечни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08080" y="6524640"/>
            <a:ext cx="8964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Крадинова Екатерина Владимировна, учитель начальных классов, ГБОУ СОШ № 49,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95280" y="361800"/>
            <a:ext cx="6769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Цель  арт-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250920" y="878040"/>
            <a:ext cx="6697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рода и искусство, материал и 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95280" y="2205000"/>
            <a:ext cx="6121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астерим сквореч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азработка эскиза птичьего до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оспись скворе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2"/>
          <a:stretch/>
        </p:blipFill>
        <p:spPr>
          <a:xfrm>
            <a:off x="1042920" y="1652760"/>
            <a:ext cx="8350200" cy="25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>
            <a:off x="233280" y="158760"/>
            <a:ext cx="1163880" cy="172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TextBox 1"/>
          <p:cNvSpPr/>
          <p:nvPr/>
        </p:nvSpPr>
        <p:spPr>
          <a:xfrm>
            <a:off x="573120" y="93600"/>
            <a:ext cx="21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Кирилл Поле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Дима Ва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3"/>
          <a:srcRect l="10910" t="0" r="0" b="0"/>
          <a:stretch/>
        </p:blipFill>
        <p:spPr>
          <a:xfrm>
            <a:off x="7839000" y="260280"/>
            <a:ext cx="1089000" cy="18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"/>
          <p:cNvSpPr/>
          <p:nvPr/>
        </p:nvSpPr>
        <p:spPr>
          <a:xfrm>
            <a:off x="6516720" y="351000"/>
            <a:ext cx="2487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b050"/>
                </a:solidFill>
                <a:latin typeface="Georgia"/>
              </a:rPr>
              <a:t>Софья Ковал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b050"/>
                </a:solidFill>
                <a:latin typeface="Georgia"/>
              </a:rPr>
              <a:t>Полина Бе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4"/>
          <a:srcRect l="13851" t="13332" r="9735" b="0"/>
          <a:stretch/>
        </p:blipFill>
        <p:spPr>
          <a:xfrm>
            <a:off x="2503440" y="158760"/>
            <a:ext cx="1019160" cy="17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4"/>
          <p:cNvSpPr/>
          <p:nvPr/>
        </p:nvSpPr>
        <p:spPr>
          <a:xfrm>
            <a:off x="3503520" y="380880"/>
            <a:ext cx="158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2d2db9"/>
                </a:solidFill>
                <a:latin typeface="Georgia"/>
              </a:rPr>
              <a:t>Саш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2d2db9"/>
                </a:solidFill>
                <a:latin typeface="Georgia"/>
              </a:rPr>
              <a:t>Хюппен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9" descr=""/>
          <p:cNvPicPr/>
          <p:nvPr/>
        </p:nvPicPr>
        <p:blipFill>
          <a:blip r:embed="rId5"/>
          <a:srcRect l="0" t="22642" r="0" b="0"/>
          <a:stretch/>
        </p:blipFill>
        <p:spPr>
          <a:xfrm>
            <a:off x="4948200" y="311040"/>
            <a:ext cx="1160640" cy="15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TextBox 6"/>
          <p:cNvSpPr/>
          <p:nvPr/>
        </p:nvSpPr>
        <p:spPr>
          <a:xfrm>
            <a:off x="5764320" y="1413000"/>
            <a:ext cx="1903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Костя Пу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Артём Тихоми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1" descr=""/>
          <p:cNvPicPr/>
          <p:nvPr/>
        </p:nvPicPr>
        <p:blipFill>
          <a:blip r:embed="rId6"/>
          <a:stretch/>
        </p:blipFill>
        <p:spPr>
          <a:xfrm>
            <a:off x="7408800" y="4824360"/>
            <a:ext cx="1117800" cy="178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12" descr=""/>
          <p:cNvPicPr/>
          <p:nvPr/>
        </p:nvPicPr>
        <p:blipFill>
          <a:blip r:embed="rId7"/>
          <a:srcRect l="17386" t="4676" r="8565" b="0"/>
          <a:stretch/>
        </p:blipFill>
        <p:spPr>
          <a:xfrm>
            <a:off x="547560" y="4381560"/>
            <a:ext cx="120816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8"/>
          <p:cNvSpPr/>
          <p:nvPr/>
        </p:nvSpPr>
        <p:spPr>
          <a:xfrm>
            <a:off x="115920" y="4286160"/>
            <a:ext cx="1396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Фёд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Жиля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8028000" y="6176880"/>
            <a:ext cx="1612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ерёжа Чер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5" descr=""/>
          <p:cNvPicPr/>
          <p:nvPr/>
        </p:nvPicPr>
        <p:blipFill>
          <a:blip r:embed="rId8"/>
          <a:srcRect l="9438" t="4651" r="8103" b="4758"/>
          <a:stretch/>
        </p:blipFill>
        <p:spPr>
          <a:xfrm>
            <a:off x="2733840" y="2208240"/>
            <a:ext cx="119520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16" descr=""/>
          <p:cNvPicPr/>
          <p:nvPr/>
        </p:nvPicPr>
        <p:blipFill>
          <a:blip r:embed="rId9"/>
          <a:srcRect l="9472" t="10303" r="17240" b="2833"/>
          <a:stretch/>
        </p:blipFill>
        <p:spPr>
          <a:xfrm>
            <a:off x="6227640" y="2378160"/>
            <a:ext cx="1008360" cy="18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17" descr=""/>
          <p:cNvPicPr/>
          <p:nvPr/>
        </p:nvPicPr>
        <p:blipFill>
          <a:blip r:embed="rId10"/>
          <a:srcRect l="10129" t="8686" r="9485" b="0"/>
          <a:stretch/>
        </p:blipFill>
        <p:spPr>
          <a:xfrm>
            <a:off x="7842240" y="2341440"/>
            <a:ext cx="99216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18" descr=""/>
          <p:cNvPicPr/>
          <p:nvPr/>
        </p:nvPicPr>
        <p:blipFill>
          <a:blip r:embed="rId11"/>
          <a:srcRect l="19611" t="3024" r="11149" b="3843"/>
          <a:stretch/>
        </p:blipFill>
        <p:spPr>
          <a:xfrm>
            <a:off x="2124000" y="4503600"/>
            <a:ext cx="112716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19" descr=""/>
          <p:cNvPicPr/>
          <p:nvPr/>
        </p:nvPicPr>
        <p:blipFill>
          <a:blip r:embed="rId12"/>
          <a:srcRect l="0" t="-324" r="20367" b="351"/>
          <a:stretch/>
        </p:blipFill>
        <p:spPr>
          <a:xfrm>
            <a:off x="814320" y="2197080"/>
            <a:ext cx="1166760" cy="184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Рисунок 20" descr=""/>
          <p:cNvPicPr/>
          <p:nvPr/>
        </p:nvPicPr>
        <p:blipFill>
          <a:blip r:embed="rId13"/>
          <a:srcRect l="0" t="25060" r="0" b="14950"/>
          <a:stretch/>
        </p:blipFill>
        <p:spPr>
          <a:xfrm>
            <a:off x="5346720" y="5407200"/>
            <a:ext cx="1251000" cy="135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Рисунок 21" descr=""/>
          <p:cNvPicPr/>
          <p:nvPr/>
        </p:nvPicPr>
        <p:blipFill>
          <a:blip r:embed="rId14"/>
          <a:srcRect l="0" t="18582" r="4060" b="13941"/>
          <a:stretch/>
        </p:blipFill>
        <p:spPr>
          <a:xfrm>
            <a:off x="4295880" y="3530520"/>
            <a:ext cx="1149120" cy="140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TextBox 13"/>
          <p:cNvSpPr/>
          <p:nvPr/>
        </p:nvSpPr>
        <p:spPr>
          <a:xfrm>
            <a:off x="5210280" y="2208240"/>
            <a:ext cx="1874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Даша Едам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7743960" y="4111560"/>
            <a:ext cx="153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Georgia"/>
              </a:rPr>
              <a:t>Викто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Georgia"/>
              </a:rPr>
              <a:t>Клюк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4175280" y="3236760"/>
            <a:ext cx="1623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Макар Хале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3898800" y="2192400"/>
            <a:ext cx="118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Georgia"/>
              </a:rPr>
              <a:t>Эло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Georgia"/>
              </a:rPr>
              <a:t>Рыб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115920" y="2401920"/>
            <a:ext cx="1155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7ffd1"/>
                </a:solidFill>
                <a:latin typeface="Georgia"/>
              </a:rPr>
              <a:t>Яков Ташлиц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2860560" y="4503600"/>
            <a:ext cx="1068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Андрей Горбачё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4314960" y="5319720"/>
            <a:ext cx="14842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офья Гонча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Таисия Парамон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17:36Z</dcterms:created>
  <dc:creator/>
  <dc:description/>
  <dc:language>en-US</dc:language>
  <cp:lastModifiedBy>Катюша</cp:lastModifiedBy>
  <dcterms:modified xsi:type="dcterms:W3CDTF">2013-03-29T15:42:04Z</dcterms:modified>
  <cp:revision>9</cp:revision>
  <dc:subject/>
  <dc:title>Презентация PowerPoint</dc:title>
</cp:coreProperties>
</file>