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79E-2004-4C5D-9DDC-1EC88F9F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5A3-5A65-4EFF-BA1C-2BB9E627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0C8-828E-40AE-A1EE-027B3F0E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5B1-0154-401C-9D72-34C38FCD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191-106D-4F7D-AE01-183C0165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0713-EF46-4C5E-A9CC-9C0891B0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1CF-3916-49F6-8EED-EAD582DE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DE2-E869-4517-9E56-CD917EE7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D04-EEEC-4C6C-8FB8-669D0888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D8E-C5DF-4790-AB87-38BFFB1F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3B0-5891-42D1-8F43-AFA6BDA9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D42-2CAA-4F40-84A4-69F19066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4AA7-A367-4CF8-B386-9493555C55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hkolazhizni.ru/archive/0/n-10132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29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икет прием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Основные пра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Манохина Т.А.  </a:t>
            </a: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ГБОУ СОШ № 38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jetiket.ru/wp-content/uploads/2011/04/delovoj_zavtrak.jpg"/>
          <p:cNvPicPr/>
          <p:nvPr/>
        </p:nvPicPr>
        <p:blipFill>
          <a:blip r:embed="rId1"/>
          <a:stretch/>
        </p:blipFill>
        <p:spPr>
          <a:xfrm>
            <a:off x="1187280" y="314280"/>
            <a:ext cx="57121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rusdiplomat.com/tiny/supper.jpg"/>
          <p:cNvPicPr/>
          <p:nvPr/>
        </p:nvPicPr>
        <p:blipFill>
          <a:blip r:embed="rId1"/>
          <a:stretch/>
        </p:blipFill>
        <p:spPr>
          <a:xfrm>
            <a:off x="182520" y="333360"/>
            <a:ext cx="87822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кал шампанск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781360"/>
            <a:ext cx="7991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ющий прием - это «Бокал шампанского». Прием «бокал шампанского» устраивают в час, в два или в три часа дня. Форма одежды - деловая. Прием - стоя. Могут быть одно кресло, несколько стульев. Столов никогда не бывает. В чем специфика этого приема? Официант разносит шампанское. Гость, участник приема, берет бокал шампанского. К шампанскому подают орешки, фрукты или маленькие тостики на шпажках - кусочек банана, кусочек груши или яблока, клубничка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delovoy-etiket.narod.ru/8l3grjh8cshpjunz2qts.jpg"/>
          <p:cNvPicPr/>
          <p:nvPr/>
        </p:nvPicPr>
        <p:blipFill>
          <a:blip r:embed="rId1"/>
          <a:stretch/>
        </p:blipFill>
        <p:spPr>
          <a:xfrm>
            <a:off x="5651640" y="260280"/>
            <a:ext cx="33336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кал в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9080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Бокал вина» - это тоже официальный вид приема, он проводится в час, в два или в три часа дня, стоя. Называется «прием в обнос». Официанты обносят собравшихся вином, на подносах стоят бокалы с белым и красным вином, и собравшиеся их разбирают. Существует правило - если подают красное вино, то нужно подавать красную рыбу, красное мясо. Белое вино - белую рыбу, белое мясо. А все остальное так же, как на приеме - «Бокал шампанского». Форма одежды - деловая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im7-tub-ru.yandex.net/i?id=432054754-22-72&amp;n=21"/>
          <p:cNvPicPr/>
          <p:nvPr/>
        </p:nvPicPr>
        <p:blipFill>
          <a:blip r:embed="rId1"/>
          <a:stretch/>
        </p:blipFill>
        <p:spPr>
          <a:xfrm>
            <a:off x="6227640" y="774720"/>
            <a:ext cx="2721240" cy="1644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pravila-etiketa.org.ua/50020_2.jpg"/>
          <p:cNvPicPr/>
          <p:nvPr/>
        </p:nvPicPr>
        <p:blipFill>
          <a:blip r:embed="rId2"/>
          <a:stretch/>
        </p:blipFill>
        <p:spPr>
          <a:xfrm>
            <a:off x="289080" y="652320"/>
            <a:ext cx="2808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урше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ем типа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«фуршет»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устраивается в промежуток време­ни от 17-00 до 20-00 и длится около двух часов. Накрываются столы с угощением - холодные закуски, кондитерские изде­лия, фрукты, спиртные напитки, соки, минеральные воды. На столах ставят стопкой тарелки и кладут рядом ножи, вилки, салфетки. Иногда подают и горячие закуски. К концу приема обычно подается мороженое, шампанское, коф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ем проходит стоя. Гости подходят к столам, кладут закуски на тарелки, которые берут из стойки, стоящей в нача­ле стола, и отходят от стола, чтобы дать возможность подойти к ним другим гостям. Форма одежды - повседневный костюм или платье.  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im4-tub-ru.yandex.net/i?id=318733542-50-72&amp;n=21"/>
          <p:cNvPicPr/>
          <p:nvPr/>
        </p:nvPicPr>
        <p:blipFill>
          <a:blip r:embed="rId1"/>
          <a:stretch/>
        </p:blipFill>
        <p:spPr>
          <a:xfrm>
            <a:off x="4859280" y="189000"/>
            <a:ext cx="4145040" cy="3106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im2-tub-ru.yandex.net/i?id=79204782-20-72&amp;n=21"/>
          <p:cNvPicPr/>
          <p:nvPr/>
        </p:nvPicPr>
        <p:blipFill>
          <a:blip r:embed="rId2"/>
          <a:stretch/>
        </p:blipFill>
        <p:spPr>
          <a:xfrm>
            <a:off x="108000" y="3211560"/>
            <a:ext cx="5327640" cy="3551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im3-tub-ru.yandex.net/i?id=9266309-38-72&amp;n=21"/>
          <p:cNvPicPr/>
          <p:nvPr/>
        </p:nvPicPr>
        <p:blipFill>
          <a:blip r:embed="rId3"/>
          <a:stretch/>
        </p:blipFill>
        <p:spPr>
          <a:xfrm>
            <a:off x="530280" y="314280"/>
            <a:ext cx="3808440" cy="253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im4-tub-ru.yandex.net/i?id=183931239-32-72&amp;n=21"/>
          <p:cNvPicPr/>
          <p:nvPr/>
        </p:nvPicPr>
        <p:blipFill>
          <a:blip r:embed="rId4"/>
          <a:stretch/>
        </p:blipFill>
        <p:spPr>
          <a:xfrm>
            <a:off x="5783400" y="4292640"/>
            <a:ext cx="3051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ww.afurshet.ru/pic/buffet2n.jpg"/>
          <p:cNvPicPr/>
          <p:nvPr/>
        </p:nvPicPr>
        <p:blipFill>
          <a:blip r:embed="rId1"/>
          <a:stretch/>
        </p:blipFill>
        <p:spPr>
          <a:xfrm>
            <a:off x="684360" y="404640"/>
            <a:ext cx="790704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prazdnik74.ru/wp-content/uploads/2010/03/stol_furshetniy-2.jpg"/>
          <p:cNvPicPr/>
          <p:nvPr/>
        </p:nvPicPr>
        <p:blipFill>
          <a:blip r:embed="rId1"/>
          <a:stretch/>
        </p:blipFill>
        <p:spPr>
          <a:xfrm>
            <a:off x="393840" y="260280"/>
            <a:ext cx="84135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ктей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уршет" очень похож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"коктейль"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тоже время проведение, те же условия и правила. Единственное отличие - меню. На "коктейлях" подают больше напитков, нежели закусок. И если на "фуршете" вас могут побаловать горячим, то на "коктейле" - нет. В отличие от фуршета, столы для коктейлей не накрываются. В зале расставляют несколько небольших столиков, на них раскладывают сигареты, спички, пепельницы, ставят бумажные салфетки в вазочках. Угощение и напитки подаются официантами на подносах. Вместо вилок гости пользуются специальными банкетными шпажками. Заканчивают прием подачей шампанского и коф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im0-tub-ru.yandex.net/i?id=286324104-37-72&amp;n=21"/>
          <p:cNvPicPr/>
          <p:nvPr/>
        </p:nvPicPr>
        <p:blipFill>
          <a:blip r:embed="rId1"/>
          <a:stretch/>
        </p:blipFill>
        <p:spPr>
          <a:xfrm>
            <a:off x="6732720" y="4797360"/>
            <a:ext cx="1876320" cy="142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im7-tub-ru.yandex.net/i?id=207855096-13-72&amp;n=21"/>
          <p:cNvPicPr/>
          <p:nvPr/>
        </p:nvPicPr>
        <p:blipFill>
          <a:blip r:embed="rId2"/>
          <a:stretch/>
        </p:blipFill>
        <p:spPr>
          <a:xfrm>
            <a:off x="4067280" y="4941720"/>
            <a:ext cx="2152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rusdiplomat.com/tiny/coctail.jpg"/>
          <p:cNvPicPr/>
          <p:nvPr/>
        </p:nvPicPr>
        <p:blipFill>
          <a:blip r:embed="rId1"/>
          <a:stretch/>
        </p:blipFill>
        <p:spPr>
          <a:xfrm>
            <a:off x="755640" y="1197000"/>
            <a:ext cx="78105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ур-фик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ем “журфикс”, что в переводе с французского означает точное время, обычно организуют в определенное время и день недели в течение зимнего или осеннего периода. Часто по типу “журфикс” организуют обслуживание в перерывах на симпозиумах, конференциях. Гостям подают закуски, соки, воду, и горячие напит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im7-tub-ru.yandex.net/i?id=310601094-68-72&amp;n=21"/>
          <p:cNvPicPr/>
          <p:nvPr/>
        </p:nvPicPr>
        <p:blipFill>
          <a:blip r:embed="rId1"/>
          <a:stretch/>
        </p:blipFill>
        <p:spPr>
          <a:xfrm>
            <a:off x="5435640" y="465300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964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ем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форм общения между людьми, государственными и общественными организациями. Приемом называют собрание приглашенных лиц у кого-нибудь (обычно у официальных лиц) в честь кого-нибудь, чего-нибуд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&amp;scy;&amp;kcy;&amp;lcy;&amp;acy;&amp;dcy;&amp;ycy;&amp;vcy;&amp;acy;&amp;ncy;&amp;icy;&amp;iecy; &amp;bcy;&amp;ucy;&amp;mcy;&amp;acy;&amp;zhcy;&amp;ncy;&amp;ycy;&amp;khcy; &amp;scy;&amp;acy;&amp;lcy;&amp;fcy;&amp;iecy;&amp;tcy;&amp;ocy;&amp;kcy;"/>
          <p:cNvPicPr/>
          <p:nvPr/>
        </p:nvPicPr>
        <p:blipFill>
          <a:blip r:embed="rId1"/>
          <a:stretch/>
        </p:blipFill>
        <p:spPr>
          <a:xfrm>
            <a:off x="1908000" y="3645000"/>
            <a:ext cx="6477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ранч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одним интересным мероприятием может ст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бранч"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лово "бранч"  обозначает "прием пищи между завтраком и обедом", который длится с 11.00 до 15.00, организуется в форме буфета, который у нас именуется "шведским столом". "Бранч" считается неформальным приемом, на него приглашают друзей с семьями, включая детишек. Бранч можно провести и в ресторане, и даже на даче. К столу подают яйца, бекон, сосиски, разнообразные салаты, тушеное мясо, рыбу, блинчики, томаты, приготовленные на гриле, а также булочки, масло, сыр. Предлагаются кофе, чай, соки, прохладительные напитки в большом количестве, иногда ви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ран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im5-tub-ru.yandex.net/i?id=357856555-58-72&amp;n=21"/>
          <p:cNvPicPr/>
          <p:nvPr/>
        </p:nvPicPr>
        <p:blipFill>
          <a:blip r:embed="rId1"/>
          <a:stretch/>
        </p:blipFill>
        <p:spPr>
          <a:xfrm>
            <a:off x="3187800" y="1052640"/>
            <a:ext cx="5761080" cy="345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im7-tub-ru.yandex.net/i?id=211214645-53-72&amp;n=21"/>
          <p:cNvPicPr/>
          <p:nvPr/>
        </p:nvPicPr>
        <p:blipFill>
          <a:blip r:embed="rId2"/>
          <a:stretch/>
        </p:blipFill>
        <p:spPr>
          <a:xfrm>
            <a:off x="324000" y="4497480"/>
            <a:ext cx="3456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арбекю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ем “барбекю” устраивают на открытом воздухе в летнее время (обычно по воскресеньям). Гостям подают жаренное на вертеле мясо, вина и прохладительные напитки. Эти приемы, как правило, устраивают в 12-13ч. Чаще всего дипломатические приемы организуют в виде приглашений на завтрак, обед или чай, а иногда и ужин (банкеты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m2-tub-ru.yandex.net/i?id=275544263-34-72&amp;n=21"/>
          <p:cNvPicPr/>
          <p:nvPr/>
        </p:nvPicPr>
        <p:blipFill>
          <a:blip r:embed="rId1"/>
          <a:stretch/>
        </p:blipFill>
        <p:spPr>
          <a:xfrm>
            <a:off x="5076720" y="4365720"/>
            <a:ext cx="3084480" cy="227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im4-tub-ru.yandex.net/i?id=338895943-64-72&amp;n=21"/>
          <p:cNvPicPr/>
          <p:nvPr/>
        </p:nvPicPr>
        <p:blipFill>
          <a:blip r:embed="rId2"/>
          <a:stretch/>
        </p:blipFill>
        <p:spPr>
          <a:xfrm>
            <a:off x="1035000" y="4365720"/>
            <a:ext cx="34275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ед фурш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ем «Обед-буфет». «Обед-буфет» проводится почти так же, как «шведский стол». Имеет место такое правило. В помещении накрыты столы или как на фуршетном столе, или как на «шведском столе», отдельный стол с закуской. Имеется буфет с напитками. Гости набирают закуски на свои тарелки и занимают место за столиками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http://www.arminancatering.com/wp-content/uploads/2011/12/Cucharitas-con-foie.jpg"/>
          <p:cNvPicPr/>
          <p:nvPr/>
        </p:nvPicPr>
        <p:blipFill>
          <a:blip r:embed="rId1"/>
          <a:stretch/>
        </p:blipFill>
        <p:spPr>
          <a:xfrm>
            <a:off x="4211640" y="3745080"/>
            <a:ext cx="44337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hkolazhizni.ru/archive/0/n-10132/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© Shkolazhizni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ловой завтр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1125360"/>
            <a:ext cx="8785440" cy="25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Завтрак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страивается между 12-00 и 15-00. Меню состоит из одного-двух блюд холодной закуски, одного горячего рыбного блюда, одного горячего мясного блю­да и десерта. После завтрака предлагается кофе, чай. Продолжительность завтрака - 1,5     часа.     Форма    одежды - повседневный    костюм     или плать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&amp;Zcy;&amp;acy;&amp;vcy;&amp;tcy;&amp;rcy;&amp;acy;&amp;kcy; &amp;ucy;&amp;scy;&amp;tcy;&amp;rcy;&amp;acy;&amp;icy;&amp;vcy;&amp;acy;&amp;iecy;&amp;tcy;&amp;scy;&amp;yacy; &amp;vcy; &amp;dcy;&amp;vcy;&amp;iecy;&amp;ncy;&amp;acy;&amp;dcy;&amp;tscy;&amp;acy;&amp;tcy;&amp;softcy; &amp;icy;&amp;lcy;&amp;icy; &amp;vcy; &amp;chcy;&amp;acy;&amp;scy; &amp;dcy;&amp;ncy;&amp;yacy;..."/>
          <p:cNvPicPr/>
          <p:nvPr/>
        </p:nvPicPr>
        <p:blipFill>
          <a:blip r:embed="rId1"/>
          <a:stretch/>
        </p:blipFill>
        <p:spPr>
          <a:xfrm>
            <a:off x="5154480" y="4005360"/>
            <a:ext cx="3678480" cy="252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rusdiplomat.com/tiny/breakfast.jpg"/>
          <p:cNvPicPr/>
          <p:nvPr/>
        </p:nvPicPr>
        <p:blipFill>
          <a:blip r:embed="rId2"/>
          <a:stretch/>
        </p:blipFill>
        <p:spPr>
          <a:xfrm>
            <a:off x="324000" y="4005360"/>
            <a:ext cx="411480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анч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12920" y="249228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анчем называют второй завтрак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Его устраивают в промежутке между 12 и 13 часами. Ланч является приемом с рассаживанием за столом. На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ланч приглашают по телефону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о особо торжественным случаям гостям рассылают приглаш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деловой ланч, проводимый в ресторане, приглашаются деловые партнеры без супругов. На него обязательно рассылаются приглашения, иногда допускается приглашение по телефону или по предварительной договоренности на предыдущей встреч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Форма одежды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– повседневная, в которой люди ходят на работу. Это, как правило, костюм с галстуком для мужчины и деловой костюм или платье для женщи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&amp;Lcy;&amp;acy;&amp;ncy;&amp;chcy;"/>
          <p:cNvPicPr/>
          <p:nvPr/>
        </p:nvPicPr>
        <p:blipFill>
          <a:blip r:embed="rId1"/>
          <a:stretch/>
        </p:blipFill>
        <p:spPr>
          <a:xfrm>
            <a:off x="5364000" y="260280"/>
            <a:ext cx="327852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ловой об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Обед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с рассадкой) - наиболее почетный вид приема. Он начинается в промежуток времени от 19-00 до 21-00. Меню обеда: холодные закуски, суп, одно горячее рыбное блюдо, одно горячее мясное блюдо, десерт. После обеда подается кофе или чай. Вина такие же, как и на завтраке. В период сбора гостей подается аперитив. Обед длится обычно 2-2,5 часа, при этом за столом примерно 50-60 ми­нут, остальное время - в гостиных. Форма одежды - темный костюм, смокинг или фрак в зависимости от указаний в при­глашении; для женщин - вечернее плать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http://yadelo.ru/wp-content/uploads/2012/04/DSC8580.jpg"/>
          <p:cNvPicPr/>
          <p:nvPr/>
        </p:nvPicPr>
        <p:blipFill>
          <a:blip r:embed="rId1"/>
          <a:stretch/>
        </p:blipFill>
        <p:spPr>
          <a:xfrm>
            <a:off x="177840" y="3422520"/>
            <a:ext cx="4898880" cy="324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think.stedwards.edu/careerservices/sites/think.stedwards.edu.careerservices/files/pictures/dining/Business%20lunch%202%20men%20restaurant-original.jpg"/>
          <p:cNvPicPr/>
          <p:nvPr/>
        </p:nvPicPr>
        <p:blipFill>
          <a:blip r:embed="rId2"/>
          <a:stretch/>
        </p:blipFill>
        <p:spPr>
          <a:xfrm>
            <a:off x="2781360" y="260280"/>
            <a:ext cx="6026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rusdiplomat.com/tiny/dinner.jpg"/>
          <p:cNvPicPr/>
          <p:nvPr/>
        </p:nvPicPr>
        <p:blipFill>
          <a:blip r:embed="rId1"/>
          <a:stretch/>
        </p:blipFill>
        <p:spPr>
          <a:xfrm>
            <a:off x="324000" y="500040"/>
            <a:ext cx="864072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ловой уж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жи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с рассадкой) начинается в 21-00 и позднее. Меню ужина и вина - такие же, как и на обеде. Ужин отличается от обеда только временем его проведения. Форма одежды указы­вается в приглашении - темный костюм, смокинг или фрак; для женщин - вечернее плат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ttp://www.etoday.ru/uploads/2007/11/07/sarkozy_bush05.jpg"/>
          <p:cNvPicPr/>
          <p:nvPr/>
        </p:nvPicPr>
        <p:blipFill>
          <a:blip r:embed="rId1"/>
          <a:stretch/>
        </p:blipFill>
        <p:spPr>
          <a:xfrm>
            <a:off x="182520" y="2416320"/>
            <a:ext cx="6189840" cy="4120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bk-club.ru/wp-content/uploads/2010/09/12-300x200.jpg"/>
          <p:cNvPicPr/>
          <p:nvPr/>
        </p:nvPicPr>
        <p:blipFill>
          <a:blip r:embed="rId2"/>
          <a:stretch/>
        </p:blipFill>
        <p:spPr>
          <a:xfrm>
            <a:off x="3473280" y="333360"/>
            <a:ext cx="5189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0:04:04Z</dcterms:created>
  <dc:creator>User</dc:creator>
  <dc:description/>
  <dc:language>en-US</dc:language>
  <cp:lastModifiedBy>User</cp:lastModifiedBy>
  <dcterms:modified xsi:type="dcterms:W3CDTF">2013-03-29T07:23:48Z</dcterms:modified>
  <cp:revision>17</cp:revision>
  <dc:subject/>
  <dc:title>Этикет приемов</dc:title>
</cp:coreProperties>
</file>