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42C-2063-4A84-81FB-75E382A3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224-12BA-4E77-B8AC-AA258BC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973-F5A4-46F1-BF0C-1F7E7548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30E-AE6A-40D5-90AD-FDFFDFA8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A84-9D41-48FE-A169-05A766CB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3BA-EA20-4407-BA17-64BAD0F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B16-D790-47ED-924D-1B19E4AE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247-629A-4277-991E-4AB9C61D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1C7-EC33-4E39-AF1F-BB28E4A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95B-AC8F-493E-AD68-AD22E15C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817-E0E5-4C60-9739-36261AB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057-E33B-4AAD-AC13-6687E30C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0D98-6A84-4CD7-B367-FDBB7C658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 этап «Подготовительный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оставление презентаций по теме: Население Европейского Севера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Цели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рганизовать самостоятельную деятельность учащихся при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оценке  народов, традиций и культуры Европейского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оздать условия для развития умений анализировать, систематизировать картографический , статистический и др. материал для создания электронного материала по данной теме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одействовать развитию умения общаться между 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омочь учащимся осознать ценность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Формировать познавательный интерес через использование И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дготовительный этап включа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Деление класса на 5 групп, распредел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 группа- пом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 группа- кар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 группа- ко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 группа- ненцы и са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 группа- природные и культурно-исторические         достопримеч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исл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какой части района прож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Традиции и куль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Народные промыс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бор и систематизация подобранного матери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оставление презент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ак сделать презентацию в PowerPoint или десять шагов на пути к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lavnoe okno powerpoint Как сделать презентацию на компьютере"/>
          <p:cNvPicPr/>
          <p:nvPr/>
        </p:nvPicPr>
        <p:blipFill>
          <a:blip r:embed="rId2"/>
          <a:stretch/>
        </p:blipFill>
        <p:spPr>
          <a:xfrm>
            <a:off x="539640" y="1557360"/>
            <a:ext cx="2303640" cy="2514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owerpoint sozdanie Как сделать презентацию на компьютере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owerpoint vibor temi Как сделать презентацию на компьютере"/>
          <p:cNvPicPr/>
          <p:nvPr/>
        </p:nvPicPr>
        <p:blipFill>
          <a:blip r:embed="rId4"/>
          <a:stretch/>
        </p:blipFill>
        <p:spPr>
          <a:xfrm>
            <a:off x="5364000" y="184464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powerpoint vstavka izibrazheniya Как сделать презентацию на компьютере"/>
          <p:cNvPicPr/>
          <p:nvPr/>
        </p:nvPicPr>
        <p:blipFill>
          <a:blip r:embed="rId5"/>
          <a:stretch/>
        </p:blipFill>
        <p:spPr>
          <a:xfrm>
            <a:off x="611280" y="3733920"/>
            <a:ext cx="2881080" cy="250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owerpoint sozdanie Как сделать презентацию на компьютере"/>
          <p:cNvPicPr/>
          <p:nvPr/>
        </p:nvPicPr>
        <p:blipFill>
          <a:blip r:embed="rId6"/>
          <a:stretch/>
        </p:blipFill>
        <p:spPr>
          <a:xfrm>
            <a:off x="3564000" y="3933720"/>
            <a:ext cx="280836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owerpoint vstavka zvuka Как сделать презентацию на компьютере"/>
          <p:cNvPicPr/>
          <p:nvPr/>
        </p:nvPicPr>
        <p:blipFill>
          <a:blip r:embed="rId7"/>
          <a:stretch/>
        </p:blipFill>
        <p:spPr>
          <a:xfrm>
            <a:off x="6084720" y="4124160"/>
            <a:ext cx="2590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одум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Каким образом каждая из групп представит свою презентацию на следующем уроке при изучении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07-02-08T01:11:3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