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F59-6818-4A4C-B99C-2AF6520E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EC8-C308-44C8-82EF-88F28ED0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60E-1D17-493A-BEEA-6AD6B972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3BC-6C65-4FA6-B1CB-4DF58874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655-EC41-47FA-B0FF-61F143C1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E67-FBE7-4E7B-81A5-2046440A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B3F-AAE1-4A7D-B12B-C71C615D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09A-D28C-404F-85BF-93A8C3EF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9D8-D44C-4DE9-BF5F-607BE46D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2F7-ADFF-4D51-9D83-1B63B39A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7F6-828A-4D5D-8017-E4C8AD73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912-B804-45D6-9973-E15E1707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6084-A13F-4014-AE75-2FD93E181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 этап «Подготовительный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оставление презентаций по теме: Население Европейского Севера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Цели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рганизовать самостоятельную деятельность учащихся при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ценке  народов, традиций и культуры Европейского Сев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Создать условия для развития умений анализировать, систематизировать картографический , статистический и др. материал для создания электронного материала по данной теме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Содействовать развитию умения общаться между с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Помочь учащимся осознать ценность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Формировать познавательный интерес через использование И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одготовительный этап включа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Деление класса на 5 групп, распредел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 группа- пом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 группа- кар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 группа- ко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 группа- ненцы и са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 группа- природные и культурно-исторические         достопримеча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Числ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 какой части района прож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Традиции и куль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ародные промыс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бор и систематизация подобранного матери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оставление презент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ак сделать презентацию в PowerPoint или десять шагов на пути к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glavnoe okno powerpoint Как сделать презентацию на компьютере"/>
          <p:cNvPicPr/>
          <p:nvPr/>
        </p:nvPicPr>
        <p:blipFill>
          <a:blip r:embed="rId2"/>
          <a:stretch/>
        </p:blipFill>
        <p:spPr>
          <a:xfrm>
            <a:off x="539640" y="1557360"/>
            <a:ext cx="230364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owerpoint sozdanie Как сделать презентацию на компьютере"/>
          <p:cNvPicPr/>
          <p:nvPr/>
        </p:nvPicPr>
        <p:blipFill>
          <a:blip r:embed="rId3"/>
          <a:stretch/>
        </p:blipFill>
        <p:spPr>
          <a:xfrm>
            <a:off x="2771640" y="1844640"/>
            <a:ext cx="2808360" cy="264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powerpoint vibor temi Как сделать презентацию на компьютере"/>
          <p:cNvPicPr/>
          <p:nvPr/>
        </p:nvPicPr>
        <p:blipFill>
          <a:blip r:embed="rId4"/>
          <a:stretch/>
        </p:blipFill>
        <p:spPr>
          <a:xfrm>
            <a:off x="5364000" y="184464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powerpoint vstavka izibrazheniya Как сделать презентацию на компьютере"/>
          <p:cNvPicPr/>
          <p:nvPr/>
        </p:nvPicPr>
        <p:blipFill>
          <a:blip r:embed="rId5"/>
          <a:stretch/>
        </p:blipFill>
        <p:spPr>
          <a:xfrm>
            <a:off x="611280" y="3733920"/>
            <a:ext cx="2881080" cy="250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owerpoint sozdanie Как сделать презентацию на компьютере"/>
          <p:cNvPicPr/>
          <p:nvPr/>
        </p:nvPicPr>
        <p:blipFill>
          <a:blip r:embed="rId6"/>
          <a:stretch/>
        </p:blipFill>
        <p:spPr>
          <a:xfrm>
            <a:off x="3564000" y="3933720"/>
            <a:ext cx="2808360" cy="237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owerpoint vstavka zvuka Как сделать презентацию на компьютере"/>
          <p:cNvPicPr/>
          <p:nvPr/>
        </p:nvPicPr>
        <p:blipFill>
          <a:blip r:embed="rId7"/>
          <a:stretch/>
        </p:blipFill>
        <p:spPr>
          <a:xfrm>
            <a:off x="6084720" y="4124160"/>
            <a:ext cx="25909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дум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аким образом каждая из групп представит свою презентацию на следующем уроке при изучении нов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07-02-08T01:11:3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