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CC6A-2C0B-4F44-964C-565A4B87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DA1D-A27E-4927-9CD6-5D0A4963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400-EE06-47A6-89C2-D547B2BC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3E27-F37F-4787-960F-0960310D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CA49-D020-4F2F-A72D-C2E98E95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3D7A-5EF9-4153-935F-3BBD3399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3839-CB67-4778-B56F-886C9DDC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52D2-8909-4CB9-BE67-2CF8E8DD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6781-800A-4582-BC3B-0AC0C429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46C3-A55D-44AD-B3A9-B6C40D49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314C-E290-4AA2-BCF9-409BD28B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A025-5AFF-4C3D-8AB6-208CD5BC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A57F-658B-40F7-B937-902FB6AE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2549-9EB9-4EFB-8BE5-F1D72CDA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D7A0-1890-4FF1-B0F9-5BA00CFD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B736-FA75-4ADC-913A-30897CD5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5CD7-E16F-44FC-9103-20E1A4DB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0424-BF3E-4368-8853-0FB59A58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1A84-4DE2-4550-A0C2-C1751B6A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EBB2-DBB2-4451-8C41-873706BB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BFEA-183A-4F09-80B6-5CE03725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6555-06CB-47A1-BB43-F8DF2B07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818F-6B5D-4E8A-960A-0E656F93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DEF6-1447-48CF-817C-D63DB58F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2729-C2A8-4BB9-97C0-DAE4187357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EF4D-2691-4548-A9D8-8CE1409CD4D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oudy Stout"/>
              </a:rPr>
              <a:t>Врожденные и приобретенные формы поведения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28600" y="388584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рожденные формы поведения отражают видовой опыт животных и человека. Приобретенные формы поведения формируются в процессе жизн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Выводы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Врожденные формы поведения так же устойчивы как и морфологические признаки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Приобретенные формы поведения человека определяются как природной средой, так и обществом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Обобщение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чтите текст на стр. 21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чтите текст на стр.21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Домашнее зада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раграфы 56, 57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актическая работа на стр. 2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4" descr="213[1]"/>
          <p:cNvPicPr/>
          <p:nvPr/>
        </p:nvPicPr>
        <p:blipFill>
          <a:blip r:embed="rId1"/>
          <a:stretch/>
        </p:blipFill>
        <p:spPr>
          <a:xfrm>
            <a:off x="0" y="2743200"/>
            <a:ext cx="4267080" cy="4114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i[7]"/>
          <p:cNvPicPr/>
          <p:nvPr/>
        </p:nvPicPr>
        <p:blipFill>
          <a:blip r:embed="rId2"/>
          <a:stretch/>
        </p:blipFill>
        <p:spPr>
          <a:xfrm>
            <a:off x="6400800" y="1066680"/>
            <a:ext cx="2743200" cy="1879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IMG_4634"/>
          <p:cNvPicPr/>
          <p:nvPr/>
        </p:nvPicPr>
        <p:blipFill>
          <a:blip r:embed="rId3"/>
          <a:stretch/>
        </p:blipFill>
        <p:spPr>
          <a:xfrm>
            <a:off x="4267080" y="2743200"/>
            <a:ext cx="4876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rganization Chart 7"/>
          <p:cNvGrpSpPr/>
          <p:nvPr/>
        </p:nvGrpSpPr>
        <p:grpSpPr>
          <a:xfrm>
            <a:off x="0" y="0"/>
            <a:ext cx="9143280" cy="6627600"/>
            <a:chOff x="0" y="0"/>
            <a:chExt cx="9143280" cy="6627600"/>
          </a:xfrm>
        </p:grpSpPr>
        <p:cxnSp>
          <p:nvCxnSpPr>
            <p:cNvPr id="117" name="_s1028"/>
            <p:cNvCxnSpPr>
              <a:stCxn id="118" idx="0"/>
              <a:endCxn id="119" idx="2"/>
            </p:cNvCxnSpPr>
            <p:nvPr/>
          </p:nvCxnSpPr>
          <p:spPr>
            <a:xfrm flipV="1" rot="16200000">
              <a:off x="5508360" y="1713240"/>
              <a:ext cx="1326240" cy="3200760"/>
            </a:xfrm>
            <a:prstGeom prst="bentConnector3">
              <a:avLst>
                <a:gd name="adj1" fmla="val 166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1029"/>
            <p:cNvCxnSpPr>
              <a:stCxn id="121" idx="0"/>
              <a:endCxn id="119" idx="2"/>
            </p:cNvCxnSpPr>
            <p:nvPr/>
          </p:nvCxnSpPr>
          <p:spPr>
            <a:xfrm flipV="1">
              <a:off x="4571280" y="2650680"/>
              <a:ext cx="3240" cy="1326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1030"/>
            <p:cNvCxnSpPr>
              <a:stCxn id="123" idx="0"/>
              <a:endCxn id="119" idx="2"/>
            </p:cNvCxnSpPr>
            <p:nvPr/>
          </p:nvCxnSpPr>
          <p:spPr>
            <a:xfrm flipH="1" flipV="1" rot="5400000">
              <a:off x="2307960" y="1713240"/>
              <a:ext cx="1326240" cy="3200760"/>
            </a:xfrm>
            <a:prstGeom prst="bentConnector3">
              <a:avLst>
                <a:gd name="adj1" fmla="val 166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9" name="_s1031"/>
            <p:cNvSpPr/>
            <p:nvPr/>
          </p:nvSpPr>
          <p:spPr>
            <a:xfrm>
              <a:off x="3200040" y="0"/>
              <a:ext cx="2742840" cy="26510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Garamond"/>
                </a:rPr>
                <a:t>Врожденные </a:t>
              </a:r>
              <a:endParaRPr b="0" lang="en-US" sz="35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Garamond"/>
                </a:rPr>
                <a:t>формы </a:t>
              </a:r>
              <a:endParaRPr b="0" lang="en-US" sz="35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Garamond"/>
                </a:rPr>
                <a:t>поведения</a:t>
              </a:r>
              <a:endParaRPr b="0" lang="en-US" sz="3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" name="_s1032"/>
            <p:cNvSpPr/>
            <p:nvPr/>
          </p:nvSpPr>
          <p:spPr>
            <a:xfrm>
              <a:off x="0" y="3976560"/>
              <a:ext cx="2742840" cy="26510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Garamond"/>
                </a:rPr>
                <a:t>Безусловные 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Garamond"/>
                </a:rPr>
                <a:t>рефлексы</a:t>
              </a:r>
              <a:r>
                <a:rPr b="0" lang="en-US" sz="4000" spc="-1" strike="noStrike">
                  <a:solidFill>
                    <a:srgbClr val="ffffff"/>
                  </a:solidFill>
                  <a:latin typeface="Garamond"/>
                </a:rPr>
                <a:t>: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" name="_s1033"/>
            <p:cNvSpPr/>
            <p:nvPr/>
          </p:nvSpPr>
          <p:spPr>
            <a:xfrm>
              <a:off x="3200040" y="3976560"/>
              <a:ext cx="2742840" cy="26510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Garamond"/>
                </a:rPr>
                <a:t>Инстинкты</a:t>
              </a:r>
              <a:r>
                <a:rPr b="0" lang="en-US" sz="4000" spc="-1" strike="noStrike">
                  <a:solidFill>
                    <a:srgbClr val="ffffff"/>
                  </a:solidFill>
                  <a:latin typeface="Garamond"/>
                </a:rPr>
                <a:t>: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" name="_s1034"/>
            <p:cNvSpPr/>
            <p:nvPr/>
          </p:nvSpPr>
          <p:spPr>
            <a:xfrm>
              <a:off x="6400440" y="3976560"/>
              <a:ext cx="2742840" cy="26510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Garamond"/>
                </a:rPr>
                <a:t>Запечатле-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Garamond"/>
                </a:rPr>
                <a:t>ния: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Безусловные рефлекс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1. Врожденны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2. Видоспеци-фичны, постоянны для каждого вид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3. С возрастом могут изменятьс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10" descr="i[19]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434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198[1]"/>
          <p:cNvPicPr/>
          <p:nvPr/>
        </p:nvPicPr>
        <p:blipFill>
          <a:blip r:embed="rId2"/>
          <a:stretch/>
        </p:blipFill>
        <p:spPr>
          <a:xfrm>
            <a:off x="4114800" y="1219320"/>
            <a:ext cx="5029200" cy="5333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262besuslovnyireflekst[1]"/>
          <p:cNvPicPr/>
          <p:nvPr/>
        </p:nvPicPr>
        <p:blipFill>
          <a:blip r:embed="rId3"/>
          <a:stretch/>
        </p:blipFill>
        <p:spPr>
          <a:xfrm>
            <a:off x="4114800" y="1219320"/>
            <a:ext cx="5029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стинкт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3760" y="1066320"/>
            <a:ext cx="3809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стинкт – это целая цепочка последовательно связанных друг с другом рефлекторных акт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странице 213 абзацы 3 и 2 снизу найдите примеры инстинкт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8" descr="f_18309109[1]"/>
          <p:cNvPicPr/>
          <p:nvPr/>
        </p:nvPicPr>
        <p:blipFill>
          <a:blip r:embed="rId1"/>
          <a:stretch/>
        </p:blipFill>
        <p:spPr>
          <a:xfrm>
            <a:off x="-190440" y="1195560"/>
            <a:ext cx="5791320" cy="5000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lastochka[1]"/>
          <p:cNvPicPr/>
          <p:nvPr/>
        </p:nvPicPr>
        <p:blipFill>
          <a:blip r:embed="rId2"/>
          <a:stretch/>
        </p:blipFill>
        <p:spPr>
          <a:xfrm>
            <a:off x="0" y="1143000"/>
            <a:ext cx="5410080" cy="5105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IMG_6266"/>
          <p:cNvPicPr/>
          <p:nvPr/>
        </p:nvPicPr>
        <p:blipFill>
          <a:blip r:embed="rId3"/>
          <a:stretch/>
        </p:blipFill>
        <p:spPr>
          <a:xfrm>
            <a:off x="0" y="1143000"/>
            <a:ext cx="5410080" cy="556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IMG_5779"/>
          <p:cNvPicPr/>
          <p:nvPr/>
        </p:nvPicPr>
        <p:blipFill>
          <a:blip r:embed="rId4"/>
          <a:stretch/>
        </p:blipFill>
        <p:spPr>
          <a:xfrm>
            <a:off x="0" y="1143000"/>
            <a:ext cx="5410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Запечатление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191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Запечатление- это врожденная способность к запоминанию в раннем возраст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(узнавание род-ных, овладение речью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1190143284_7[1]"/>
          <p:cNvPicPr/>
          <p:nvPr/>
        </p:nvPicPr>
        <p:blipFill>
          <a:blip r:embed="rId1"/>
          <a:stretch/>
        </p:blipFill>
        <p:spPr>
          <a:xfrm>
            <a:off x="3886200" y="1219320"/>
            <a:ext cx="5486400" cy="4876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AEGQHFC"/>
          <p:cNvPicPr/>
          <p:nvPr/>
        </p:nvPicPr>
        <p:blipFill>
          <a:blip r:embed="rId2"/>
          <a:stretch/>
        </p:blipFill>
        <p:spPr>
          <a:xfrm>
            <a:off x="3886200" y="838080"/>
            <a:ext cx="5257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40" name="Organization Chart 7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41" name="_s2052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127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2053"/>
            <p:cNvCxnSpPr>
              <a:stCxn id="145" idx="0"/>
              <a:endCxn id="143" idx="2"/>
            </p:cNvCxnSpPr>
            <p:nvPr/>
          </p:nvCxnSpPr>
          <p:spPr>
            <a:xfrm flipV="1">
              <a:off x="4571280" y="2741760"/>
              <a:ext cx="3240" cy="1371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2054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127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3" name="_s2055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Garamond"/>
                </a:rPr>
                <a:t>Приобретен-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Garamond"/>
                </a:rPr>
                <a:t>ные формы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Garamond"/>
                </a:rPr>
                <a:t>поведения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" name="_s2056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Garamond"/>
                </a:rPr>
                <a:t>Условные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Garamond"/>
                </a:rPr>
                <a:t>рефлексы</a:t>
              </a:r>
              <a:r>
                <a:rPr b="0" lang="en-US" sz="4000" spc="-1" strike="noStrike">
                  <a:solidFill>
                    <a:srgbClr val="ffffff"/>
                  </a:solidFill>
                  <a:latin typeface="Garamond"/>
                </a:rPr>
                <a:t>: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_s2057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Garamond"/>
                </a:rPr>
                <a:t>Динамичес-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Garamond"/>
                </a:rPr>
                <a:t>кий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Garamond"/>
                </a:rPr>
                <a:t>стереотип</a:t>
              </a:r>
              <a:r>
                <a:rPr b="0" lang="ru-RU" sz="4000" spc="-1" strike="noStrike">
                  <a:solidFill>
                    <a:srgbClr val="ffffff"/>
                  </a:solidFill>
                  <a:latin typeface="Garamond"/>
                </a:rPr>
                <a:t>: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_s2058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Garamond"/>
                </a:rPr>
                <a:t>Рассудочная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Garamond"/>
                </a:rPr>
                <a:t>деятельность</a:t>
              </a:r>
              <a:r>
                <a:rPr b="0" lang="en-US" sz="4000" spc="-1" strike="noStrike">
                  <a:solidFill>
                    <a:srgbClr val="ffffff"/>
                  </a:solidFill>
                  <a:latin typeface="Garamond"/>
                </a:rPr>
                <a:t>: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Условные рефлекс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038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●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обретен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дивидуальные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рмируются в течение жиз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разуются временные связи в высших отдел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стр. 215 во втором абзаце найдите понятие «условное торможение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i[23]"/>
          <p:cNvPicPr/>
          <p:nvPr/>
        </p:nvPicPr>
        <p:blipFill>
          <a:blip r:embed="rId1"/>
          <a:stretch/>
        </p:blipFill>
        <p:spPr>
          <a:xfrm>
            <a:off x="4114800" y="1143000"/>
            <a:ext cx="5029200" cy="5715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j12784_1238405572[1]"/>
          <p:cNvPicPr/>
          <p:nvPr/>
        </p:nvPicPr>
        <p:blipFill>
          <a:blip r:embed="rId2"/>
          <a:stretch/>
        </p:blipFill>
        <p:spPr>
          <a:xfrm>
            <a:off x="4114800" y="1143000"/>
            <a:ext cx="5181480" cy="5715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B1774p376-1[1]"/>
          <p:cNvPicPr/>
          <p:nvPr/>
        </p:nvPicPr>
        <p:blipFill>
          <a:blip r:embed="rId3"/>
          <a:stretch/>
        </p:blipFill>
        <p:spPr>
          <a:xfrm>
            <a:off x="4038480" y="1143000"/>
            <a:ext cx="5410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Динамический стереотип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истема условно-рефлекторных связей сложившихся в головном мозге путем многократного повторения одних и тех же действий в одной и той же последовательност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6" descr="i[95]"/>
          <p:cNvPicPr/>
          <p:nvPr/>
        </p:nvPicPr>
        <p:blipFill>
          <a:blip r:embed="rId1"/>
          <a:stretch/>
        </p:blipFill>
        <p:spPr>
          <a:xfrm>
            <a:off x="4648320" y="1676520"/>
            <a:ext cx="4495680" cy="4952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i[81]"/>
          <p:cNvPicPr/>
          <p:nvPr/>
        </p:nvPicPr>
        <p:blipFill>
          <a:blip r:embed="rId2"/>
          <a:stretch/>
        </p:blipFill>
        <p:spPr>
          <a:xfrm>
            <a:off x="4648320" y="1676520"/>
            <a:ext cx="4495680" cy="5029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i[10]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648320" y="1676520"/>
            <a:ext cx="4495680" cy="5029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leesgedrag[1]"/>
          <p:cNvPicPr/>
          <p:nvPr/>
        </p:nvPicPr>
        <p:blipFill>
          <a:blip r:embed="rId4"/>
          <a:stretch/>
        </p:blipFill>
        <p:spPr>
          <a:xfrm>
            <a:off x="4648320" y="1371600"/>
            <a:ext cx="4495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ассудочная деятельност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038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ысшая форма приспособлен-ности к условиям среды, в основе которой лежит прошлый опыт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На стр.217, второй абзац снизу, найдите пример рассудочной деятельност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Picture 6" descr="1259948778_06[1]"/>
          <p:cNvPicPr/>
          <p:nvPr/>
        </p:nvPicPr>
        <p:blipFill>
          <a:blip r:embed="rId1"/>
          <a:stretch/>
        </p:blipFill>
        <p:spPr>
          <a:xfrm>
            <a:off x="4114800" y="1600200"/>
            <a:ext cx="5029200" cy="4572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CA6LCTUJ"/>
          <p:cNvPicPr/>
          <p:nvPr/>
        </p:nvPicPr>
        <p:blipFill>
          <a:blip r:embed="rId2"/>
          <a:stretch/>
        </p:blipFill>
        <p:spPr>
          <a:xfrm>
            <a:off x="4114800" y="1676520"/>
            <a:ext cx="5029200" cy="4419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CAQNSDIZ"/>
          <p:cNvPicPr/>
          <p:nvPr/>
        </p:nvPicPr>
        <p:blipFill>
          <a:blip r:embed="rId3"/>
          <a:stretch/>
        </p:blipFill>
        <p:spPr>
          <a:xfrm>
            <a:off x="4038480" y="1600200"/>
            <a:ext cx="510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3-03-25T11:33:4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