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F1A-B28F-4393-8E6A-0041FE2D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25F-C828-4E3F-AD65-EFF5990D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302-6BD7-4FEF-B7AD-3D9AA084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B5D-EC46-4234-89AA-38D7BF17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943F-9ED4-4C48-8E62-E8DAAE60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12B-8CB6-4590-9AE9-6FE5F064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7655-B7A8-49E8-912A-476A89F0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D25A-A319-420B-AEDB-FE743B0E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D276-0739-4ADE-AB53-63420EB4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D56E-B7B2-45A2-8AC2-6A823020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8EEC-79B8-474C-A28B-05ED0E52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7FF-D875-480E-89E1-9F59B6E2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F27-FEDD-495C-80A5-C3905CE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DB26-43D9-4041-A2E9-16055BE7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177C-76D3-4790-92E0-ADE0224A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1C25-1DBB-4330-8E30-BCAB68A3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C3EC-0991-48F1-9B77-D7267B76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8B9-DA4F-4D61-9179-D89CE0D0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E67-B7AF-4E33-BFEC-C391DC88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9C9-25EF-4B2F-A6FD-624B5719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798-D405-456B-ABE2-C3538B2D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9CD-5EDD-4921-8CE9-A18C093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BFE-8955-421A-8E06-7A436353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4E6-32AF-47A2-825E-6F262F9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DC46-D8E5-4388-8E1D-230FDEAEA9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AB60-8DAC-4FB5-A74A-5E12E347EB4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oudy Stout"/>
              </a:rPr>
              <a:t>Врожденные и приобретенные формы поведения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600" y="388584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рожденные формы поведения отражают видовой опыт животных и человека. Приобретенные формы поведения формируются в процессе жизн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ы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рожденные формы поведения так же устойчивы как и морфологические признак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Приобретенные формы поведения человека определяются как природной средой, так и общество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бобщение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чтите текст на стр. 2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чтите текст на стр.21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аграфы 56, 5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актическая работа на стр. 2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4" descr="213[1]"/>
          <p:cNvPicPr/>
          <p:nvPr/>
        </p:nvPicPr>
        <p:blipFill>
          <a:blip r:embed="rId1"/>
          <a:stretch/>
        </p:blipFill>
        <p:spPr>
          <a:xfrm>
            <a:off x="0" y="2743200"/>
            <a:ext cx="4267080" cy="4114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[7]"/>
          <p:cNvPicPr/>
          <p:nvPr/>
        </p:nvPicPr>
        <p:blipFill>
          <a:blip r:embed="rId2"/>
          <a:stretch/>
        </p:blipFill>
        <p:spPr>
          <a:xfrm>
            <a:off x="6400800" y="1066680"/>
            <a:ext cx="2743200" cy="187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_4634"/>
          <p:cNvPicPr/>
          <p:nvPr/>
        </p:nvPicPr>
        <p:blipFill>
          <a:blip r:embed="rId3"/>
          <a:stretch/>
        </p:blipFill>
        <p:spPr>
          <a:xfrm>
            <a:off x="4267080" y="2743200"/>
            <a:ext cx="487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rganization Chart 7"/>
          <p:cNvGrpSpPr/>
          <p:nvPr/>
        </p:nvGrpSpPr>
        <p:grpSpPr>
          <a:xfrm>
            <a:off x="0" y="0"/>
            <a:ext cx="9143280" cy="6627600"/>
            <a:chOff x="0" y="0"/>
            <a:chExt cx="9143280" cy="6627600"/>
          </a:xfrm>
        </p:grpSpPr>
        <p:cxnSp>
          <p:nvCxnSpPr>
            <p:cNvPr id="117" name="_s1028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508360" y="1713240"/>
              <a:ext cx="1326240" cy="3200760"/>
            </a:xfrm>
            <a:prstGeom prst="bentConnector3">
              <a:avLst>
                <a:gd name="adj1" fmla="val 166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29"/>
            <p:cNvCxnSpPr>
              <a:stCxn id="121" idx="0"/>
              <a:endCxn id="119" idx="2"/>
            </p:cNvCxnSpPr>
            <p:nvPr/>
          </p:nvCxnSpPr>
          <p:spPr>
            <a:xfrm flipV="1">
              <a:off x="4571280" y="2650680"/>
              <a:ext cx="3240" cy="1326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0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2307960" y="1713240"/>
              <a:ext cx="1326240" cy="3200760"/>
            </a:xfrm>
            <a:prstGeom prst="bentConnector3">
              <a:avLst>
                <a:gd name="adj1" fmla="val 1664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9" name="_s1031"/>
            <p:cNvSpPr/>
            <p:nvPr/>
          </p:nvSpPr>
          <p:spPr>
            <a:xfrm>
              <a:off x="3200040" y="0"/>
              <a:ext cx="2742840" cy="2651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Garamond"/>
                </a:rPr>
                <a:t>Врожденные </a:t>
              </a:r>
              <a:endParaRPr b="0" lang="en-US" sz="3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Garamond"/>
                </a:rPr>
                <a:t>формы </a:t>
              </a:r>
              <a:endParaRPr b="0" lang="en-US" sz="35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Garamond"/>
                </a:rPr>
                <a:t>поведения</a:t>
              </a:r>
              <a:endParaRPr b="0" lang="en-US" sz="3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_s1032"/>
            <p:cNvSpPr/>
            <p:nvPr/>
          </p:nvSpPr>
          <p:spPr>
            <a:xfrm>
              <a:off x="0" y="3976560"/>
              <a:ext cx="2742840" cy="2651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Безусловные 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рефлексы</a:t>
              </a: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_s1033"/>
            <p:cNvSpPr/>
            <p:nvPr/>
          </p:nvSpPr>
          <p:spPr>
            <a:xfrm>
              <a:off x="3200040" y="3976560"/>
              <a:ext cx="2742840" cy="2651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Инстинкты</a:t>
              </a: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6400440" y="3976560"/>
              <a:ext cx="2742840" cy="2651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Запечатле-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ния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езусловные рефлекс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 Врожденны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Видоспеци-фичны, постоянны для каждого ви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 С возрастом могут изменятьс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0" descr="i[19]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198[1]"/>
          <p:cNvPicPr/>
          <p:nvPr/>
        </p:nvPicPr>
        <p:blipFill>
          <a:blip r:embed="rId2"/>
          <a:stretch/>
        </p:blipFill>
        <p:spPr>
          <a:xfrm>
            <a:off x="4114800" y="1219320"/>
            <a:ext cx="5029200" cy="5333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262besuslovnyireflekst[1]"/>
          <p:cNvPicPr/>
          <p:nvPr/>
        </p:nvPicPr>
        <p:blipFill>
          <a:blip r:embed="rId3"/>
          <a:stretch/>
        </p:blipFill>
        <p:spPr>
          <a:xfrm>
            <a:off x="4114800" y="1219320"/>
            <a:ext cx="5029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стинкт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3760" y="106632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стинкт – это целая цепочка последовательно связанных друг с другом рефлекторных ак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транице 213 абзацы 3 и 2 снизу найдите примеры инстинк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8" descr="f_18309109[1]"/>
          <p:cNvPicPr/>
          <p:nvPr/>
        </p:nvPicPr>
        <p:blipFill>
          <a:blip r:embed="rId1"/>
          <a:stretch/>
        </p:blipFill>
        <p:spPr>
          <a:xfrm>
            <a:off x="-190440" y="1195560"/>
            <a:ext cx="5791320" cy="50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lastochka[1]"/>
          <p:cNvPicPr/>
          <p:nvPr/>
        </p:nvPicPr>
        <p:blipFill>
          <a:blip r:embed="rId2"/>
          <a:stretch/>
        </p:blipFill>
        <p:spPr>
          <a:xfrm>
            <a:off x="0" y="1143000"/>
            <a:ext cx="5410080" cy="5105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G_6266"/>
          <p:cNvPicPr/>
          <p:nvPr/>
        </p:nvPicPr>
        <p:blipFill>
          <a:blip r:embed="rId3"/>
          <a:stretch/>
        </p:blipFill>
        <p:spPr>
          <a:xfrm>
            <a:off x="0" y="1143000"/>
            <a:ext cx="5410080" cy="556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IMG_5779"/>
          <p:cNvPicPr/>
          <p:nvPr/>
        </p:nvPicPr>
        <p:blipFill>
          <a:blip r:embed="rId4"/>
          <a:stretch/>
        </p:blipFill>
        <p:spPr>
          <a:xfrm>
            <a:off x="0" y="1143000"/>
            <a:ext cx="5410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Запечатле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191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апечатление- это врожденная способность к запоминанию в раннем возраст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(узнавание род-ных, овладение речью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1190143284_7[1]"/>
          <p:cNvPicPr/>
          <p:nvPr/>
        </p:nvPicPr>
        <p:blipFill>
          <a:blip r:embed="rId1"/>
          <a:stretch/>
        </p:blipFill>
        <p:spPr>
          <a:xfrm>
            <a:off x="3886200" y="1219320"/>
            <a:ext cx="5486400" cy="487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AEGQHFC"/>
          <p:cNvPicPr/>
          <p:nvPr/>
        </p:nvPicPr>
        <p:blipFill>
          <a:blip r:embed="rId2"/>
          <a:stretch/>
        </p:blipFill>
        <p:spPr>
          <a:xfrm>
            <a:off x="3886200" y="838080"/>
            <a:ext cx="52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40" name="Organization Chart 7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41" name="_s2052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27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053"/>
            <p:cNvCxnSpPr>
              <a:stCxn id="145" idx="0"/>
              <a:endCxn id="143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2054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27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2055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Приобретен-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ные формы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поведения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_s2056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Условные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рефлексы</a:t>
              </a: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_s2057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Динамичес-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кий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Garamond"/>
                </a:rPr>
                <a:t>стереотип</a:t>
              </a:r>
              <a:r>
                <a:rPr b="0" lang="ru-RU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_s2058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Рассудочная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Garamond"/>
                </a:rPr>
                <a:t>деятельность</a:t>
              </a:r>
              <a:r>
                <a:rPr b="0" lang="en-US" sz="4000" spc="-1" strike="noStrike">
                  <a:solidFill>
                    <a:srgbClr val="ffffff"/>
                  </a:solidFill>
                  <a:latin typeface="Garamond"/>
                </a:rPr>
                <a:t>: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словные рефлекс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обретен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дивидуальны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ируются в течение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уются временные связи в высших отдел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тр. 215 во втором абзаце найдите понятие «условное торможение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i[23]"/>
          <p:cNvPicPr/>
          <p:nvPr/>
        </p:nvPicPr>
        <p:blipFill>
          <a:blip r:embed="rId1"/>
          <a:stretch/>
        </p:blipFill>
        <p:spPr>
          <a:xfrm>
            <a:off x="4114800" y="1143000"/>
            <a:ext cx="502920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12784_1238405572[1]"/>
          <p:cNvPicPr/>
          <p:nvPr/>
        </p:nvPicPr>
        <p:blipFill>
          <a:blip r:embed="rId2"/>
          <a:stretch/>
        </p:blipFill>
        <p:spPr>
          <a:xfrm>
            <a:off x="4114800" y="1143000"/>
            <a:ext cx="5181480" cy="571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B1774p376-1[1]"/>
          <p:cNvPicPr/>
          <p:nvPr/>
        </p:nvPicPr>
        <p:blipFill>
          <a:blip r:embed="rId3"/>
          <a:stretch/>
        </p:blipFill>
        <p:spPr>
          <a:xfrm>
            <a:off x="4038480" y="1143000"/>
            <a:ext cx="5410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инамический стереотип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истема условно-рефлекторных связей сложившихся в головном мозге путем многократного повторения одних и тех же действий в одной и той же последовательн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6" descr="i[95]"/>
          <p:cNvPicPr/>
          <p:nvPr/>
        </p:nvPicPr>
        <p:blipFill>
          <a:blip r:embed="rId1"/>
          <a:stretch/>
        </p:blipFill>
        <p:spPr>
          <a:xfrm>
            <a:off x="4648320" y="1676520"/>
            <a:ext cx="4495680" cy="4952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[81]"/>
          <p:cNvPicPr/>
          <p:nvPr/>
        </p:nvPicPr>
        <p:blipFill>
          <a:blip r:embed="rId2"/>
          <a:stretch/>
        </p:blipFill>
        <p:spPr>
          <a:xfrm>
            <a:off x="4648320" y="1676520"/>
            <a:ext cx="449568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i[10]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676520"/>
            <a:ext cx="449568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leesgedrag[1]"/>
          <p:cNvPicPr/>
          <p:nvPr/>
        </p:nvPicPr>
        <p:blipFill>
          <a:blip r:embed="rId4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ассудочная деятельнос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ысшая форма приспособлен-ности к условиям среды, в основе которой лежит прошлый опыт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 стр.217, второй абзац снизу, найдите пример рассудочной деятельно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6" descr="1259948778_06[1]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57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CA6LCTUJ"/>
          <p:cNvPicPr/>
          <p:nvPr/>
        </p:nvPicPr>
        <p:blipFill>
          <a:blip r:embed="rId2"/>
          <a:stretch/>
        </p:blipFill>
        <p:spPr>
          <a:xfrm>
            <a:off x="4114800" y="1676520"/>
            <a:ext cx="5029200" cy="441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CAQNSDIZ"/>
          <p:cNvPicPr/>
          <p:nvPr/>
        </p:nvPicPr>
        <p:blipFill>
          <a:blip r:embed="rId3"/>
          <a:stretch/>
        </p:blipFill>
        <p:spPr>
          <a:xfrm>
            <a:off x="4038480" y="1600200"/>
            <a:ext cx="510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03-25T11:33:4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