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D62-4B17-4FE8-B861-15B4D924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DB6-1938-4A88-BDC4-92E7D137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075-7C34-4F5D-9737-CC55EC73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CC8-A2DF-4896-B937-2082E90C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7E04-1DA9-486D-901F-B611ED4B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19D1-A303-4E0A-9B11-67524A79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4008-E44B-406E-8622-4E33E42F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135-C73A-4A9C-821E-FEBD7239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2CA-6E93-4F6D-8DBD-83683F77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C1DC-634D-4198-A466-F8D4499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AC6-E3F6-4B71-BC89-6706267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408-0055-48AC-B9A6-7C7BE7F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6C1-667D-4366-88FC-348F53C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1A6E-371C-4488-B138-0BE8910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C95C-B107-4D2D-A353-923A6D1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69CD-9834-4BAF-9B7A-B0B3823F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C79-BF9F-4850-A734-0EDEB326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4D4-B1F7-4FEF-B55C-BFC0E090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4C7-7A03-41D6-9785-2131D06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D51-AE83-448B-9770-4B91939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DFC-2DDB-4D3E-AB12-7048F0D1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9E5-4FC0-4BA5-84A2-EF8A670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E5B-9041-44F5-B838-01E3300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47B-5894-4F83-BB1C-8D4DFBA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0753-0377-4A64-A9EA-F32851F16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071-4BDF-44A6-AB5D-14BBA04E76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4000" y="69228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 Великое чудо-хлеб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908000" y="2492280"/>
            <a:ext cx="518508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589720"/>
            <a:ext cx="25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зраст: 6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овмес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Дидактическая игра «Что сначала, что потом?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Игра с мячом «Съедобное- не съедобно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ОД из соленого теста «крендельки, бублик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амостоятельная деятель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9786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Рассматривание образцов зерен и колосков различных зерновых культу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х срав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475308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Сюжетно-ролевая игра «В булочной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дем гост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Рассматривание иллюстраций,фотографий о хл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Театр по украинской народной сказке «Колос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Строительная игра «Сельскохозяйственная техника», работа с конструкто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амостоятельная деятель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Взаимодействие с родителям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Составление вместе с родителями книги «Семейные рецепты. Выпечки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использованием детских рисунков, фотограф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Вечер-досуг « От зернышка до карава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Сделать страничку для общегруппового альбома «Печем вместе с детьм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Организовать в группе чаепитие с булочками и домашней выпеч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жидаемый результ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лучили знания о том, кто делает хлеб, где, из че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знакомились с различными видами хлеба и хлебобулочных изделий, какую форму имеют различные издел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Научились сравнивать зерна и колоски различных зерновых культ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57760" y="2957400"/>
            <a:ext cx="142848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 rot="10800000">
            <a:off x="539640" y="5646240"/>
            <a:ext cx="75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роки реализации : первая неделя октяб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04640"/>
            <a:ext cx="784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Тип проекта :познавательно-игровой</a:t>
            </a: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Цель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формировать у детей представление о хлебе, как одном из величайших богатств на земл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как хлеб пришел к нам  на ст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96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спитательны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оспитывать у детей бережное отношение и уважение к хлебу и людям, вырастившим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бразовательны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асширить знания у детей о значении хлеба в жизни человека;познакомить с процессом выращивания хлеба;обратить внимание на содержание труда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мить детей с картинами известных худож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ahoma"/>
              </a:rPr>
              <a:t>Задачи</a:t>
            </a: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Задачи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азвивающи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развивать способность детей, давать эстетические оценки и высказывать суждения;развивать познавательный интерес, внимание, память, связную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.Подготовительный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азработка тематического плана и предварительное наблю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.Основной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беседа о сборе урожая хлеба; рассматривание иллюстраций,колосьев ржи и пшениц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учивание пословиц, чтение литературных произведений по 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4221000"/>
            <a:ext cx="4745160" cy="227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79640" y="7632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Эта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готовление хлебобулочных изделий из соленого 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.Заключительный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ечер-досуг с родителями  «От зернышка до карава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4392360" cy="575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33336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Этапы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овмес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Беседа с детьми «Как хлеб на стол пришел 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Чтение рассказа К.Паустовского «Теплый хлеб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Рассматривание картины И.Шишкина « Рожь», беседа по карти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Слушание песни-загадки «Хлеб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64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1:53:48Z</dcterms:created>
  <dc:creator>User</dc:creator>
  <dc:description/>
  <dc:language>en-US</dc:language>
  <cp:lastModifiedBy>User</cp:lastModifiedBy>
  <dcterms:modified xsi:type="dcterms:W3CDTF">2012-12-17T14:12:16Z</dcterms:modified>
  <cp:revision>2</cp:revision>
  <dc:subject/>
  <dc:title>Слайд 1</dc:title>
</cp:coreProperties>
</file>