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0BB-7F1C-4587-A8A8-7474B89F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0D6-9C66-4CBA-8902-867B19EA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10F-D86E-48E3-8E24-164C9F30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5F3-59EA-4FE2-829E-E9233F81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B0CD-D14B-46E3-A6A0-FCA380D6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9BDC-3B3E-43E3-B8A7-8E9D50DB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BDA8-CFEB-4FB5-B587-F8ABADA8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BD73-EDD3-404C-9596-F29B52D8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C5F5-4269-4285-BC3C-9694BF47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8272-ED56-4C18-A74B-EBCF024B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42B2-0BB0-4C57-BD73-D6FBC765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68E-4E64-4563-BF06-D3062820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C5D6-62B6-4B45-9D8F-0022EB5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F5EB-C205-45D5-86DD-2BEF8675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72B6-B481-4211-ABF8-4F73236E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9428-7CBC-4A96-B3F2-1F074498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69CA-B7BF-40A9-A485-2257614B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3C2-80C9-41C0-8C31-5C6DFF7D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9C6-9760-43B4-87DF-7D75D797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3CE-5005-4ED1-8C98-8BD1FEED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777-0F50-49DE-8444-43363E54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3F0-C4F3-4F15-9010-F4C9D4E3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808-62E8-42C5-AEFE-1C10A702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455-1BCE-468D-AFF0-920D4FF3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8981-5D9C-4AE1-98B1-9BDD669F8B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2F2A-1A76-452F-BCD4-475AE8D2BD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24000" y="692280"/>
            <a:ext cx="806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 Великое чудо-хлеб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908000" y="2492280"/>
            <a:ext cx="5185080" cy="2737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5589720"/>
            <a:ext cx="25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озраст: 6 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Совместная деятельн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Дидактическая игра «Что сначала, что потом?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Игра с мячом «Съедобное- не съедобное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ОД из соленого теста «крендельки, бублик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Самостоятельная деятельнос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79786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Рассматривание образцов зерен и колосков различных зерновых культу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х сравн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635280" y="2852640"/>
            <a:ext cx="4753080" cy="38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Сюжетно-ролевая игра «В булочной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Ждем гостей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Рассматривание иллюстраций,фотографий о хлеб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Театр по украинской народной сказке «Колосок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Строительная игра «Сельскохозяйственная техника», работа с конструктор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Самостоятельная деятельнос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Взаимодействие с родителям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Составление вместе с родителями книги «Семейные рецепты. Выпечки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использованием детских рисунков, фотограф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Вечер-досуг « От зернышка до карава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Сделать страничку для общегруппового альбома «Печем вместе с детьм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Организовать в группе чаепитие с булочками и домашней выпеч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Ожидаемый результа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Получили знания о том, кто делает хлеб, где, из че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Познакомились с различными видами хлеба и хлебобулочных изделий, какую форму имеют различные издел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Научились сравнивать зерна и колоски различных зерновых культу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57760" y="2957400"/>
            <a:ext cx="1428480" cy="9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340000" y="148428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V="1" rot="10800000">
            <a:off x="539640" y="5646240"/>
            <a:ext cx="756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роки реализации : первая неделя октябр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404640"/>
            <a:ext cx="78483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Тип проекта :познавательно-игровой</a:t>
            </a:r>
            <a:br>
              <a:rPr sz="1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Цель: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формировать у детей представление о хлебе, как одном из величайших богатств на земле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как хлеб пришел к нам  на сто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396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оспитательные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оспитывать у детей бережное отношение и уважение к хлебу и людям, вырастившим е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Образовательные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расширить знания у детей о значении хлеба в жизни человека;познакомить с процессом выращивания хлеба;обратить внимание на содержание труда люд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комить детей с картинами известных худож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ahoma"/>
              </a:rPr>
              <a:t>Задачи</a:t>
            </a: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Задачи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Развивающие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развивать способность детей, давать эстетические оценки и высказывать суждения;развивать познавательный интерес, внимание, память, связную реч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1.Подготовительный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разработка тематического плана и предварительное наблюд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2.Основной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беседа о сборе урожая хлеба; рассматривание иллюстраций,колосьев ржи и пшениц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учивание пословиц, чтение литературных произведений по тем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11280" y="4221000"/>
            <a:ext cx="4745160" cy="2276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79640" y="7632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Этап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готовление хлебобулочных изделий из соленого те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.Заключительный 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вечер-досуг с родителями  «От зернышка до карава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27640" y="549360"/>
            <a:ext cx="4392360" cy="575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33336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Этапы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Совместная деятельн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Беседа с детьми «Как хлеб на стол пришел 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Чтение рассказа К.Паустовского «Теплый хлеб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8876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Рассматривание картины И.Шишкина « Рожь», беседа по карти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Слушание песни-загадки «Хлеб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76360" y="2492280"/>
            <a:ext cx="6480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1:53:48Z</dcterms:created>
  <dc:creator>User</dc:creator>
  <dc:description/>
  <dc:language>en-US</dc:language>
  <cp:lastModifiedBy>User</cp:lastModifiedBy>
  <dcterms:modified xsi:type="dcterms:W3CDTF">2012-12-17T14:12:16Z</dcterms:modified>
  <cp:revision>2</cp:revision>
  <dc:subject/>
  <dc:title>Слайд 1</dc:title>
</cp:coreProperties>
</file>