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3.png" ContentType="image/png"/>
  <Override PartName="/ppt/media/image26.png" ContentType="image/png"/>
  <Override PartName="/ppt/media/image29.wmf" ContentType="image/x-wmf"/>
  <Override PartName="/ppt/media/image11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5.png" ContentType="image/png"/>
  <Override PartName="/ppt/media/image28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5808-242E-478E-89CB-072799487F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F2A5-2E27-4693-A234-FBC23DBF5D2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164-0156-47AD-9618-21DA6B92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7AD-3157-4143-B4FB-F5AD225B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948-B30E-45DD-9C80-D6F7E7A3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C80-719A-4E9D-94C7-9EB75636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0A10-4B27-4A68-8410-C789D180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2B9F-CD2B-406A-AED9-812DEC81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5AB0-5387-41CF-9A75-86F47333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DE43-2C65-4D2B-9504-65F6CE49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51E2-42F6-4263-B2FC-2E9F901F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A201-F003-4458-8DBE-2657CA5A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7E29-0C44-4275-9CE6-7FF5B3F8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7135-D69D-48A7-8427-51CE0123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B394-DD6F-4B28-834B-7EFB46C2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02E8-5AFC-458D-97AF-0A449462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C6B3-3552-418F-99D6-8398DBA3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1462-40B4-4646-86F1-6C8060C7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1FF8-6D13-47AB-A781-73B0FBBA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DB3-0871-429E-A2C5-7769ABB5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BEB9-3020-4667-A2AD-B84836AA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F89-A797-4AE9-A94B-BD48FF77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66D0-6299-40F5-AD14-CA6A7D83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04C-9B7F-4C6D-A442-6184F665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E70F-0D0C-45E4-83F2-F0340961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BD81-A229-45A6-B7C5-1854242D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75FA-1673-4643-BC6B-0A994C5CB1A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BBD0-8D4C-4903-AA03-E92F3E9B31A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9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55440" y="1463760"/>
            <a:ext cx="6942240" cy="280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3560760" cy="2895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Program Files (x86)\Microsoft Office\MEDIA\OFFICE12\Lines\BD21313_.gif"/>
          <p:cNvPicPr/>
          <p:nvPr/>
        </p:nvPicPr>
        <p:blipFill>
          <a:blip r:embed="rId4"/>
          <a:stretch/>
        </p:blipFill>
        <p:spPr>
          <a:xfrm>
            <a:off x="139680" y="214200"/>
            <a:ext cx="250920" cy="6500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Program Files (x86)\Microsoft Office\MEDIA\OFFICE12\Lines\BD21313_.gif"/>
          <p:cNvPicPr/>
          <p:nvPr/>
        </p:nvPicPr>
        <p:blipFill>
          <a:blip r:embed="rId5"/>
          <a:stretch/>
        </p:blipFill>
        <p:spPr>
          <a:xfrm>
            <a:off x="357120" y="214200"/>
            <a:ext cx="8358120" cy="289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Program Files (x86)\Microsoft Office\MEDIA\OFFICE12\Lines\BD21313_.gif"/>
          <p:cNvPicPr/>
          <p:nvPr/>
        </p:nvPicPr>
        <p:blipFill>
          <a:blip r:embed="rId6"/>
          <a:stretch/>
        </p:blipFill>
        <p:spPr>
          <a:xfrm>
            <a:off x="8696160" y="214200"/>
            <a:ext cx="247680" cy="6429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:\Program Files (x86)\Microsoft Office\MEDIA\OFFICE12\Lines\BD21313_.gif"/>
          <p:cNvPicPr/>
          <p:nvPr/>
        </p:nvPicPr>
        <p:blipFill>
          <a:blip r:embed="rId7"/>
          <a:stretch/>
        </p:blipFill>
        <p:spPr>
          <a:xfrm>
            <a:off x="357120" y="6365880"/>
            <a:ext cx="8358120" cy="322200"/>
          </a:xfrm>
          <a:prstGeom prst="rect">
            <a:avLst/>
          </a:prstGeom>
          <a:ln w="0">
            <a:noFill/>
          </a:ln>
        </p:spPr>
      </p:pic>
      <p:sp>
        <p:nvSpPr>
          <p:cNvPr id="95" name="TextBox 9"/>
          <p:cNvSpPr/>
          <p:nvPr/>
        </p:nvSpPr>
        <p:spPr>
          <a:xfrm flipH="1">
            <a:off x="5857200" y="2428920"/>
            <a:ext cx="278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к 6 «а» класс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ерных Ил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ководитель: учитель географии Беляева.С.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3786120" y="571500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.Объяче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13 г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28760" y="428760"/>
            <a:ext cx="76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униципальное  общественное учреж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Объячевская средня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3777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3" descr="http://activtourism.ru/wp-content/uploads/2010/08/avtoturizm.jpg"/>
          <p:cNvPicPr/>
          <p:nvPr/>
        </p:nvPicPr>
        <p:blipFill>
          <a:blip r:embed="rId3"/>
          <a:stretch/>
        </p:blipFill>
        <p:spPr>
          <a:xfrm>
            <a:off x="324000" y="1484280"/>
            <a:ext cx="8640720" cy="5040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377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http://www.proza.ru/pics/2012/02/29/172.jpg"/>
          <p:cNvPicPr/>
          <p:nvPr/>
        </p:nvPicPr>
        <p:blipFill>
          <a:blip r:embed="rId3"/>
          <a:stretch/>
        </p:blipFill>
        <p:spPr>
          <a:xfrm>
            <a:off x="357120" y="1500120"/>
            <a:ext cx="8358120" cy="51436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" descr="http://www.proza.ru/pics/2012/02/29/172.jpg"/>
          <p:cNvPicPr/>
          <p:nvPr/>
        </p:nvPicPr>
        <p:blipFill>
          <a:blip r:embed="rId4"/>
          <a:stretch/>
        </p:blipFill>
        <p:spPr>
          <a:xfrm>
            <a:off x="324000" y="1484280"/>
            <a:ext cx="8358120" cy="5143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139680" y="171360"/>
            <a:ext cx="8974080" cy="12556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http://f.io.ua/img_aa/large/2041/87/20418700.jpg"/>
          <p:cNvPicPr/>
          <p:nvPr/>
        </p:nvPicPr>
        <p:blipFill>
          <a:blip r:embed="rId3"/>
          <a:stretch/>
        </p:blipFill>
        <p:spPr>
          <a:xfrm>
            <a:off x="357120" y="1643040"/>
            <a:ext cx="8501040" cy="5000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3777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http://tomskraft-2011.reiwor.com/upload/information_system_17/1/4/4/item_144/information_items_144.jpg"/>
          <p:cNvPicPr/>
          <p:nvPr/>
        </p:nvPicPr>
        <p:blipFill>
          <a:blip r:embed="rId3"/>
          <a:stretch/>
        </p:blipFill>
        <p:spPr>
          <a:xfrm>
            <a:off x="357120" y="1643040"/>
            <a:ext cx="8429760" cy="5000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3777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http://travelturne.ru/wp-content/uploads/%D1%82%D1%83%D1%80%D0%B8%D0%B7%D0%BC_%D0%BF%D1%83%D1%82%D0%B8%D1%88%D0%B5%D1%81%D1%82%D0%B2%D0%B8%D1%8F.jpg"/>
          <p:cNvPicPr/>
          <p:nvPr/>
        </p:nvPicPr>
        <p:blipFill>
          <a:blip r:embed="rId3"/>
          <a:stretch/>
        </p:blipFill>
        <p:spPr>
          <a:xfrm>
            <a:off x="357120" y="1571760"/>
            <a:ext cx="8429760" cy="5072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208080" y="2054160"/>
            <a:ext cx="8313480" cy="166392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7" descr=""/>
          <p:cNvPicPr/>
          <p:nvPr/>
        </p:nvPicPr>
        <p:blipFill>
          <a:blip r:embed="rId3"/>
          <a:stretch/>
        </p:blipFill>
        <p:spPr>
          <a:xfrm>
            <a:off x="500040" y="3763800"/>
            <a:ext cx="8229600" cy="30942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500040" y="28584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Результаты анкет учащихся 6 «а» класса по теме «Туризм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В классе-21 человек (100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57120" y="214200"/>
            <a:ext cx="84297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2.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акие виды туризма вы знает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Горный (пешеходный) – 6                - Спелеотуризм – 1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Велосипедный туризм – 8                - Катание на катамаране – 3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-     Стрельба – 2                                      - Автотуризм – 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Лыжный туризм – 1                          - Мотоциклетный туризм – 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Альпенизм – 2                                   - Кросс -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-     Путешествие – 1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Диаграмма 3" descr=""/>
          <p:cNvPicPr/>
          <p:nvPr/>
        </p:nvPicPr>
        <p:blipFill>
          <a:blip r:embed="rId2"/>
          <a:stretch/>
        </p:blipFill>
        <p:spPr>
          <a:xfrm>
            <a:off x="2500200" y="3143160"/>
            <a:ext cx="6500880" cy="357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2"/>
          <a:stretch/>
        </p:blipFill>
        <p:spPr>
          <a:xfrm>
            <a:off x="487440" y="1133640"/>
            <a:ext cx="8321760" cy="7729200"/>
          </a:xfrm>
          <a:prstGeom prst="rect">
            <a:avLst/>
          </a:prstGeom>
          <a:ln w="0">
            <a:noFill/>
          </a:ln>
        </p:spPr>
      </p:pic>
      <p:pic>
        <p:nvPicPr>
          <p:cNvPr id="130" name="Диаграмма 3" descr=""/>
          <p:cNvPicPr/>
          <p:nvPr/>
        </p:nvPicPr>
        <p:blipFill>
          <a:blip r:embed="rId3"/>
          <a:stretch/>
        </p:blipFill>
        <p:spPr>
          <a:xfrm>
            <a:off x="0" y="4857840"/>
            <a:ext cx="3714840" cy="2000160"/>
          </a:xfrm>
          <a:prstGeom prst="rect">
            <a:avLst/>
          </a:prstGeom>
          <a:ln w="0">
            <a:noFill/>
          </a:ln>
        </p:spPr>
      </p:pic>
      <p:pic>
        <p:nvPicPr>
          <p:cNvPr id="131" name="Диаграмма 7" descr=""/>
          <p:cNvPicPr/>
          <p:nvPr/>
        </p:nvPicPr>
        <p:blipFill>
          <a:blip r:embed="rId4"/>
          <a:stretch/>
        </p:blipFill>
        <p:spPr>
          <a:xfrm>
            <a:off x="4143240" y="4786200"/>
            <a:ext cx="4714920" cy="2071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Program Files (x86)\Microsoft Office\MEDIA\CAGCAT10\j0157763.wmf"/>
          <p:cNvPicPr/>
          <p:nvPr/>
        </p:nvPicPr>
        <p:blipFill>
          <a:blip r:embed="rId5"/>
          <a:stretch/>
        </p:blipFill>
        <p:spPr>
          <a:xfrm>
            <a:off x="7348680" y="2786040"/>
            <a:ext cx="1795320" cy="18115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6"/>
          <p:cNvSpPr/>
          <p:nvPr/>
        </p:nvSpPr>
        <p:spPr>
          <a:xfrm>
            <a:off x="571680" y="285840"/>
            <a:ext cx="778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. Куда вы выезжали из Объячева как турист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2"/>
          <a:stretch/>
        </p:blipFill>
        <p:spPr>
          <a:xfrm>
            <a:off x="311040" y="-23760"/>
            <a:ext cx="8352000" cy="853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Диаграмма 3"/>
          <p:cNvGraphicFramePr/>
          <p:nvPr/>
        </p:nvGraphicFramePr>
        <p:xfrm>
          <a:off x="4373640" y="4311720"/>
          <a:ext cx="4752720" cy="2448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Диаграмма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73640" y="4311720"/>
                    <a:ext cx="47527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Диаграмма 4"/>
          <p:cNvGraphicFramePr/>
          <p:nvPr/>
        </p:nvGraphicFramePr>
        <p:xfrm>
          <a:off x="15840" y="4351320"/>
          <a:ext cx="4514760" cy="24098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8" name="Диаграмма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840" y="4351320"/>
                    <a:ext cx="451476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Спасибо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за внимание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2"/>
          <a:stretch/>
        </p:blipFill>
        <p:spPr>
          <a:xfrm>
            <a:off x="450720" y="-225360"/>
            <a:ext cx="8242560" cy="196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Расскрысть сущность          туризма.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2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28760" y="1714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1. Выяснить определение туризма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2. Узнать какие бывают виды туризма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3. Исследовать, какие виды туризмов преобладают в нашем 6 «а» классе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4.Узнать, где еще хотят побывать учащиеся 6 «а» класса.  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-360" y="1714320"/>
            <a:ext cx="60721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Туризм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Вид спорта- групповые походы, имеющие целью физическую закалку организ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Вид путешествий, совершаемых для отдыха и с образовательными целя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http://im7-tub-ru.yandex.net/i?id=683818823-43-72&amp;n=21"/>
          <p:cNvPicPr/>
          <p:nvPr/>
        </p:nvPicPr>
        <p:blipFill>
          <a:blip r:embed="rId3"/>
          <a:stretch/>
        </p:blipFill>
        <p:spPr>
          <a:xfrm>
            <a:off x="5815080" y="1042920"/>
            <a:ext cx="3157560" cy="4119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64296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Туризм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 это временные выезды людей в другую страну или местность, отличающуюся от постоянного места жительства на срок от 24 часов до 6 месяцев в течении одного календарного года или с совершением не менее одной ночевк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28760" y="836640"/>
          <a:ext cx="8229600" cy="5942160"/>
        </p:xfrm>
        <a:graphic>
          <a:graphicData uri="http://schemas.openxmlformats.org/drawingml/2006/table">
            <a:tbl>
              <a:tblPr/>
              <a:tblGrid>
                <a:gridCol w="614160"/>
                <a:gridCol w="2028960"/>
                <a:gridCol w="2071800"/>
                <a:gridCol w="3514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лавн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ите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временным характеристика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шруты выходного д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2 сут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сроч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2 до 7 сут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госрочн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ыше 7 суто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739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территориальным характеристика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городный туриз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езды на природу, поездки на дачу, дома отдыха, культурно-исторические достопримечательности, пригородные предприятия отдыха и развлече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утререгиональ-ный туриз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утрегосударственный туриз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ый туриз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1332000" y="189000"/>
            <a:ext cx="70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0082"/>
                </a:solidFill>
                <a:latin typeface="Arial"/>
                <a:ea typeface="Arial"/>
              </a:rPr>
              <a:t>Классификация видов туризм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428760" y="285840"/>
          <a:ext cx="8300880" cy="6459480"/>
        </p:xfrm>
        <a:graphic>
          <a:graphicData uri="http://schemas.openxmlformats.org/drawingml/2006/table">
            <a:tbl>
              <a:tblPr/>
              <a:tblGrid>
                <a:gridCol w="618840"/>
                <a:gridCol w="1724040"/>
                <a:gridCol w="2384640"/>
                <a:gridCol w="3573360"/>
              </a:tblGrid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05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финансовым возможностя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р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тешествия, субсидируемые из средств, выделяемых государством на социальные нужд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ентив – туриз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ездки, предоставленные руководством фирмы своим сотрудникам бесплатно в качестве поощрения за хорошую работу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34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интенсивности и деятельности челове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ивн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юченческие путешествия, экстремальный туризм, сафари на природу, загадочный тур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ссивн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ры: для семей с детьми, на лечение, для старшего возраста; зеленый туриз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12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шанн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курсионный туризм, рекреационный туризм, деловой туризм, этнический туризм, спортивный туризм, туризм с социальными целями, религиозный туризм, караваннинг, деревенский туризм, фермерский и т.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p:transition>
    <p:blinds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333360"/>
          <a:ext cx="8642160" cy="6518160"/>
        </p:xfrm>
        <a:graphic>
          <a:graphicData uri="http://schemas.openxmlformats.org/drawingml/2006/table">
            <a:tbl>
              <a:tblPr/>
              <a:tblGrid>
                <a:gridCol w="647640"/>
                <a:gridCol w="1441440"/>
                <a:gridCol w="2685960"/>
                <a:gridCol w="3867120"/>
              </a:tblGrid>
              <a:tr h="459720"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целя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креационны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лечебно-оздоровительны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знавательны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делово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портивны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этнически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религиозны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транзитны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образовательный</a:t>
                      </a:r>
                      <a:r>
                        <a:rPr b="1" lang="en-US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36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интенсив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остоянн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Сезо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333360"/>
          <a:ext cx="7908840" cy="6162840"/>
        </p:xfrm>
        <a:graphic>
          <a:graphicData uri="http://schemas.openxmlformats.org/drawingml/2006/table">
            <a:tbl>
              <a:tblPr/>
              <a:tblGrid>
                <a:gridCol w="625320"/>
                <a:gridCol w="2049480"/>
                <a:gridCol w="317664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использованию транспортных сред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Железнодорожны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Авиационны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Теплоходный/водный (морской и речной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Автомоби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Автобусны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Велосипедны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возрастной категор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Детск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олодежны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Лиц среднего возраст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Лиц третьего возраст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14:16:35Z</dcterms:created>
  <dc:creator>пользователь</dc:creator>
  <dc:description/>
  <dc:language>en-US</dc:language>
  <cp:lastModifiedBy>эльф</cp:lastModifiedBy>
  <dcterms:modified xsi:type="dcterms:W3CDTF">2013-03-29T13:39:05Z</dcterms:modified>
  <cp:revision>131</cp:revision>
  <dc:subject/>
  <dc:title>Исследовательская работа  черных ильи 6 «а» класса «путь в страну туризма».</dc:title>
</cp:coreProperties>
</file>