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9.png" ContentType="image/pn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B7B-DC6E-4508-927B-171AA55A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72F-9DD6-4245-B2A8-44D54F1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17F-0402-4CE8-932D-E28D9854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4E3-22AB-4AE7-B767-BD0D8801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411-0434-4489-A8A9-D245E98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4FB-B86A-40CF-93A0-D178413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8CC-ED7C-4F1F-BCBA-8644EE9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524-0766-43E3-B958-77B871B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AA-BCBA-4333-AA01-A086A2CF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A7A-A730-4997-99E6-F963311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FCE-EF0B-4B5D-9D0C-1B50707B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2D7-917F-43B4-BD15-C62CA836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C36F-7E64-49AE-986A-CB2BF0CE07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4/81/387/81387537_lepim_snegovika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tt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җе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62120" y="1482120"/>
            <a:ext cx="76197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Сүзләрне күчереп яз,сузык авазларны билгелә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tt-RU" sz="6600" spc="-1" strike="noStrike">
                <a:solidFill>
                  <a:srgbClr val="ffff00"/>
                </a:solidFill>
                <a:latin typeface="Times New Roman"/>
                <a:ea typeface="Calibri"/>
              </a:rPr>
              <a:t>Тышта, җиргә, урамд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нопка"/>
          <p:cNvPicPr/>
          <p:nvPr/>
        </p:nvPicPr>
        <p:blipFill>
          <a:blip r:embed="rId1"/>
          <a:stretch/>
        </p:blipFill>
        <p:spPr>
          <a:xfrm>
            <a:off x="457200" y="2209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нопка"/>
          <p:cNvPicPr/>
          <p:nvPr/>
        </p:nvPicPr>
        <p:blipFill>
          <a:blip r:embed="rId2"/>
          <a:stretch/>
        </p:blipFill>
        <p:spPr>
          <a:xfrm>
            <a:off x="1828800" y="4191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опка"/>
          <p:cNvPicPr/>
          <p:nvPr/>
        </p:nvPicPr>
        <p:blipFill>
          <a:blip r:embed="rId3"/>
          <a:stretch/>
        </p:blipFill>
        <p:spPr>
          <a:xfrm>
            <a:off x="10666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кнопка2"/>
          <p:cNvPicPr/>
          <p:nvPr/>
        </p:nvPicPr>
        <p:blipFill>
          <a:blip r:embed="rId4"/>
          <a:stretch/>
        </p:blipFill>
        <p:spPr>
          <a:xfrm>
            <a:off x="1981080" y="5257800"/>
            <a:ext cx="91440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1536840" y="251460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Сузык авазлардан белеп бу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150640" y="350532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Иҗекне сузык аваз тө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918880" y="457200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Иҗек бер сузык аваздан да төзе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8954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Иҗек бер тартык аваздан төзел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326640" y="5334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Җавапны тикш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Рамка"/>
          <p:cNvPicPr/>
          <p:nvPr/>
        </p:nvPicPr>
        <p:blipFill>
          <a:blip r:embed="rId1"/>
          <a:stretch/>
        </p:blipFill>
        <p:spPr>
          <a:xfrm>
            <a:off x="838080" y="1676520"/>
            <a:ext cx="3546720" cy="480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амка"/>
          <p:cNvPicPr/>
          <p:nvPr/>
        </p:nvPicPr>
        <p:blipFill>
          <a:blip r:embed="rId2"/>
          <a:stretch/>
        </p:blipFill>
        <p:spPr>
          <a:xfrm>
            <a:off x="5029200" y="1676520"/>
            <a:ext cx="358128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лодцы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Documents and Settings\Администратор\Рабочий стол\анимашки\колокольчик.gif"/>
          <p:cNvPicPr/>
          <p:nvPr/>
        </p:nvPicPr>
        <p:blipFill>
          <a:blip r:embed="rId3"/>
          <a:stretch/>
        </p:blipFill>
        <p:spPr>
          <a:xfrm>
            <a:off x="1066680" y="1981080"/>
            <a:ext cx="304812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Администратор\Рабочий стол\анимашки\солнышко.jpg"/>
          <p:cNvPicPr/>
          <p:nvPr/>
        </p:nvPicPr>
        <p:blipFill>
          <a:blip r:embed="rId4"/>
          <a:stretch/>
        </p:blipFill>
        <p:spPr>
          <a:xfrm>
            <a:off x="5257800" y="1981080"/>
            <a:ext cx="3124080" cy="4267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бус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Администратор\Рабочий стол\картинки\хлеб.jpg"/>
          <p:cNvPicPr/>
          <p:nvPr/>
        </p:nvPicPr>
        <p:blipFill>
          <a:blip r:embed="rId1"/>
          <a:stretch/>
        </p:blipFill>
        <p:spPr>
          <a:xfrm>
            <a:off x="152280" y="3048120"/>
            <a:ext cx="2133720" cy="2819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04920" y="1520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Һәр предметның беренче хәрефләрен генә алып яңа сүз 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Администратор\Рабочий стол\цветы\цветы-2\ягоды земляника.jpg"/>
          <p:cNvPicPr/>
          <p:nvPr/>
        </p:nvPicPr>
        <p:blipFill>
          <a:blip r:embed="rId2"/>
          <a:stretch/>
        </p:blipFill>
        <p:spPr>
          <a:xfrm>
            <a:off x="2362320" y="304812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кртинки\күлмәк.jpeg"/>
          <p:cNvPicPr/>
          <p:nvPr/>
        </p:nvPicPr>
        <p:blipFill>
          <a:blip r:embed="rId3"/>
          <a:stretch/>
        </p:blipFill>
        <p:spPr>
          <a:xfrm>
            <a:off x="6934320" y="304812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Администратор\Рабочий стол\картинки\картинки 2\3-Osen-1.jpg"/>
          <p:cNvPicPr/>
          <p:nvPr/>
        </p:nvPicPr>
        <p:blipFill>
          <a:blip r:embed="rId4"/>
          <a:stretch/>
        </p:blipFill>
        <p:spPr>
          <a:xfrm>
            <a:off x="4724280" y="30481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480960"/>
            <a:ext cx="41148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Сүзлек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2359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гътибар 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т 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обрати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җек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с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иңрәк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ш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Өлеш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Һава агымы 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воздушная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стру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әсемдәге предмет исемнәрен әйт,иҗекләргә бүлеп яз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Картинка 18 из 67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8458200" cy="4724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80880" y="181548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Сүзләр  иҗекләргә  бүленә.Сузык аваз иҗек төз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Һәр иҗектә берәр сузык аваз була: </a:t>
            </a:r>
            <a:r>
              <a:rPr b="0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ба - ла,    ал - 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җек бер генә сузык аваздан да тора ала: </a:t>
            </a:r>
            <a:r>
              <a:rPr b="0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ә - ни, ә - 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057400" y="219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cc66"/>
                </a:solidFill>
                <a:latin typeface="Times New Roman"/>
                <a:ea typeface="Calibri"/>
              </a:rPr>
              <a:t>Кагыйд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219320" y="45720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00cc66"/>
                </a:solidFill>
                <a:latin typeface="Times New Roman"/>
                <a:ea typeface="Calibri"/>
              </a:rPr>
              <a:t>Кагыйд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7481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Сүзләр бер иҗекле, ике иҗекле һәм күп иҗекле дә була: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 ю, ә - би, кил- де - лә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790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3333ff"/>
                </a:solidFill>
                <a:latin typeface="Times New Roman"/>
                <a:ea typeface="Calibri"/>
              </a:rPr>
              <a:t>Бу сүзләр белән җөмләләр төз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5472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җекләрдән сүзләр төз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737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b050"/>
                </a:solidFill>
                <a:latin typeface="Times New Roman"/>
                <a:ea typeface="Calibri"/>
              </a:rPr>
              <a:t>Кур  бак  ба   мак  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    ча   шак   та   л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4331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Һәр сүздә ничә сузык аваз һәм иҗек ба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нди аваз иҗек төз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143000" y="91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ff00"/>
                </a:solidFill>
                <a:latin typeface="Times New Roman"/>
                <a:ea typeface="Calibri"/>
              </a:rPr>
              <a:t>Бирем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579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Ике иҗекле дүрт сүз уйлап яз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143000" y="45756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00"/>
                </a:solidFill>
                <a:latin typeface="Times New Roman"/>
                <a:ea typeface="Calibri"/>
              </a:rPr>
              <a:t>Сорауларга җавап би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" y="149616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1.Сүзне күрү белән, анда ничә иҗек булуын белеп була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2.Иҗекне нинди аваз төз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3.Иҗек бер сузык аваздан гына төзелә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4.Иҗек бер тартык аваздан төзелә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3-28T16:5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