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12.gif" ContentType="image/gif"/>
  <Override PartName="/ppt/media/image9.png" ContentType="image/png"/>
  <Override PartName="/ppt/media/image1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497-A2A9-4205-A4BB-DC24839E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33E-4036-4AEC-8DA5-905E0360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98D-BBE7-427F-8A0A-32B80D7B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B5C-4A63-4E55-BE3F-52ED0B61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E75-F467-47D4-A0C1-325277C1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721-E05A-4DC6-80F7-A60E5312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9DE-8F71-49CD-9C98-4D08E91D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447-0740-4262-8049-A6B699E1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713-6211-4E5A-95DE-46ACCF97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F70-8BA1-4224-BF08-B47AC8B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B36-42DE-43B2-99AC-145886E4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4C2-A0D8-4D6A-93AC-2686CC9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A4A3-9DAA-4E8A-A681-362C7FFB0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4/81/387/81387537_lepim_snegovika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tt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җе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62120" y="1482120"/>
            <a:ext cx="76197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2060"/>
                </a:solidFill>
                <a:latin typeface="Times New Roman"/>
                <a:ea typeface="Calibri"/>
              </a:rPr>
              <a:t>Сүзләрне күчереп яз,сузык авазларны билгелә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tt-RU" sz="6600" spc="-1" strike="noStrike">
                <a:solidFill>
                  <a:srgbClr val="ffff00"/>
                </a:solidFill>
                <a:latin typeface="Times New Roman"/>
                <a:ea typeface="Calibri"/>
              </a:rPr>
              <a:t>Тышта, җиргә, урамд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нопка"/>
          <p:cNvPicPr/>
          <p:nvPr/>
        </p:nvPicPr>
        <p:blipFill>
          <a:blip r:embed="rId1"/>
          <a:stretch/>
        </p:blipFill>
        <p:spPr>
          <a:xfrm>
            <a:off x="457200" y="2209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нопка"/>
          <p:cNvPicPr/>
          <p:nvPr/>
        </p:nvPicPr>
        <p:blipFill>
          <a:blip r:embed="rId2"/>
          <a:stretch/>
        </p:blipFill>
        <p:spPr>
          <a:xfrm>
            <a:off x="1828800" y="41911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нопка"/>
          <p:cNvPicPr/>
          <p:nvPr/>
        </p:nvPicPr>
        <p:blipFill>
          <a:blip r:embed="rId3"/>
          <a:stretch/>
        </p:blipFill>
        <p:spPr>
          <a:xfrm>
            <a:off x="1066680" y="3200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кнопка2"/>
          <p:cNvPicPr/>
          <p:nvPr/>
        </p:nvPicPr>
        <p:blipFill>
          <a:blip r:embed="rId4"/>
          <a:stretch/>
        </p:blipFill>
        <p:spPr>
          <a:xfrm>
            <a:off x="1981080" y="5257800"/>
            <a:ext cx="914400" cy="500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1536840" y="251460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Сузык авазлардан белеп бу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150640" y="350532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.Иҗекне сузык аваз тө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918880" y="457200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Иҗек бер сузык аваздан да төзел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8954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Иҗек бер тартык аваздан төзел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326640" y="53341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Җавапны тикш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Рамка"/>
          <p:cNvPicPr/>
          <p:nvPr/>
        </p:nvPicPr>
        <p:blipFill>
          <a:blip r:embed="rId1"/>
          <a:stretch/>
        </p:blipFill>
        <p:spPr>
          <a:xfrm>
            <a:off x="838080" y="1676520"/>
            <a:ext cx="3546720" cy="480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Рамка"/>
          <p:cNvPicPr/>
          <p:nvPr/>
        </p:nvPicPr>
        <p:blipFill>
          <a:blip r:embed="rId2"/>
          <a:stretch/>
        </p:blipFill>
        <p:spPr>
          <a:xfrm>
            <a:off x="5029200" y="1676520"/>
            <a:ext cx="3581280" cy="4800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лодцы 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C:\Documents and Settings\Администратор\Рабочий стол\анимашки\колокольчик.gif"/>
          <p:cNvPicPr/>
          <p:nvPr/>
        </p:nvPicPr>
        <p:blipFill>
          <a:blip r:embed="rId3"/>
          <a:stretch/>
        </p:blipFill>
        <p:spPr>
          <a:xfrm>
            <a:off x="1066680" y="1981080"/>
            <a:ext cx="3048120" cy="4191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Documents and Settings\Администратор\Рабочий стол\анимашки\солнышко.jpg"/>
          <p:cNvPicPr/>
          <p:nvPr/>
        </p:nvPicPr>
        <p:blipFill>
          <a:blip r:embed="rId4"/>
          <a:stretch/>
        </p:blipFill>
        <p:spPr>
          <a:xfrm>
            <a:off x="5257800" y="1981080"/>
            <a:ext cx="3124080" cy="42674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бус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Администратор\Рабочий стол\картинки\хлеб.jpg"/>
          <p:cNvPicPr/>
          <p:nvPr/>
        </p:nvPicPr>
        <p:blipFill>
          <a:blip r:embed="rId1"/>
          <a:stretch/>
        </p:blipFill>
        <p:spPr>
          <a:xfrm>
            <a:off x="152280" y="3048120"/>
            <a:ext cx="2133720" cy="2819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04920" y="1520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Һәр предметның беренче хәрефләрен генә алып яңа сүз я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Documents and Settings\Администратор\Рабочий стол\цветы\цветы-2\ягоды земляника.jpg"/>
          <p:cNvPicPr/>
          <p:nvPr/>
        </p:nvPicPr>
        <p:blipFill>
          <a:blip r:embed="rId2"/>
          <a:stretch/>
        </p:blipFill>
        <p:spPr>
          <a:xfrm>
            <a:off x="2362320" y="3048120"/>
            <a:ext cx="236196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F:\кртинки\күлмәк.jpeg"/>
          <p:cNvPicPr/>
          <p:nvPr/>
        </p:nvPicPr>
        <p:blipFill>
          <a:blip r:embed="rId3"/>
          <a:stretch/>
        </p:blipFill>
        <p:spPr>
          <a:xfrm>
            <a:off x="6934320" y="3048120"/>
            <a:ext cx="190476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Администратор\Рабочий стол\картинки\картинки 2\3-Osen-1.jpg"/>
          <p:cNvPicPr/>
          <p:nvPr/>
        </p:nvPicPr>
        <p:blipFill>
          <a:blip r:embed="rId4"/>
          <a:stretch/>
        </p:blipFill>
        <p:spPr>
          <a:xfrm>
            <a:off x="4724280" y="304812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480960"/>
            <a:ext cx="41148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Сүзлек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223596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Игътибар 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ит </a:t>
            </a: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Calibri"/>
              </a:rPr>
              <a:t>–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обрати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Иҗек </a:t>
            </a:r>
            <a:r>
              <a:rPr b="0" lang="tt-RU" sz="4800" spc="-1" strike="noStrike">
                <a:solidFill>
                  <a:srgbClr val="7030a0"/>
                </a:solidFill>
                <a:latin typeface="Arial"/>
                <a:ea typeface="Calibri"/>
              </a:rPr>
              <a:t>–</a:t>
            </a: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tt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сло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Киңрәк </a:t>
            </a:r>
            <a:r>
              <a:rPr b="0" lang="tt-RU" sz="4800" spc="-1" strike="noStrike">
                <a:solidFill>
                  <a:srgbClr val="7030a0"/>
                </a:solidFill>
                <a:latin typeface="Arial"/>
                <a:ea typeface="Calibri"/>
              </a:rPr>
              <a:t>–</a:t>
            </a: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tt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ши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Өлеш </a:t>
            </a:r>
            <a:r>
              <a:rPr b="0" lang="tt-RU" sz="4800" spc="-1" strike="noStrike">
                <a:solidFill>
                  <a:srgbClr val="7030a0"/>
                </a:solidFill>
                <a:latin typeface="Arial"/>
                <a:ea typeface="Calibri"/>
              </a:rPr>
              <a:t>–</a:t>
            </a: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tt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ч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Һава агымы </a:t>
            </a:r>
            <a:r>
              <a:rPr b="0" lang="ru-RU" sz="4800" spc="-1" strike="noStrike">
                <a:solidFill>
                  <a:srgbClr val="7030a0"/>
                </a:solidFill>
                <a:latin typeface="Arial"/>
                <a:ea typeface="Calibri"/>
              </a:rPr>
              <a:t>–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воздушная </a:t>
            </a:r>
            <a:r>
              <a:rPr b="0" lang="tt-RU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стру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әсемдәге предмет исемнәрен әйт,иҗекләргә бүлеп яз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Картинка 18 из 67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905120"/>
            <a:ext cx="8458200" cy="4724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80880" y="181548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70c0"/>
                </a:solidFill>
                <a:latin typeface="Times New Roman"/>
                <a:ea typeface="Calibri"/>
              </a:rPr>
              <a:t>Сүзләр  иҗекләргә  бүленә.Сузык аваз иҗек төз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Һәр иҗектә берәр сузык аваз була: </a:t>
            </a:r>
            <a:r>
              <a:rPr b="0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ба - ла,    ал - 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Иҗек бер генә сузык аваздан да тора ала: </a:t>
            </a:r>
            <a:r>
              <a:rPr b="0" lang="tt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ә - ни, ә - 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057400" y="2196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cc66"/>
                </a:solidFill>
                <a:latin typeface="Times New Roman"/>
                <a:ea typeface="Calibri"/>
              </a:rPr>
              <a:t>Кагыйд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1219320" y="45720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600" spc="-1" strike="noStrike">
                <a:solidFill>
                  <a:srgbClr val="00cc66"/>
                </a:solidFill>
                <a:latin typeface="Times New Roman"/>
                <a:ea typeface="Calibri"/>
              </a:rPr>
              <a:t>Кагыйд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7481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2060"/>
                </a:solidFill>
                <a:latin typeface="Times New Roman"/>
                <a:ea typeface="Calibri"/>
              </a:rPr>
              <a:t>Сүзләр бер иҗекле, ике иҗекле һәм күп иҗекле дә була:</a:t>
            </a:r>
            <a:r>
              <a:rPr b="0" lang="tt-RU" sz="5400" spc="-1" strike="noStrike">
                <a:solidFill>
                  <a:srgbClr val="ff0000"/>
                </a:solidFill>
                <a:latin typeface="Times New Roman"/>
                <a:ea typeface="Calibri"/>
              </a:rPr>
              <a:t> ю, ә - би, кил- де - лә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4790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3333ff"/>
                </a:solidFill>
                <a:latin typeface="Times New Roman"/>
                <a:ea typeface="Calibri"/>
              </a:rPr>
              <a:t>Бу сүзләр белән җөмләләр төз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447920" y="5472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Иҗекләрдән сүзләр төз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737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00b050"/>
                </a:solidFill>
                <a:latin typeface="Times New Roman"/>
                <a:ea typeface="Calibri"/>
              </a:rPr>
              <a:t>Кур  бак  ба   мак  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    ча   шак   та   лы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" y="43315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Һәр сүздә ничә сузык аваз һәм иҗек бар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инди аваз иҗек төз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1143000" y="91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ff00"/>
                </a:solidFill>
                <a:latin typeface="Times New Roman"/>
                <a:ea typeface="Calibri"/>
              </a:rPr>
              <a:t>Бирем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25797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Ике иҗекле дүрт сүз уйлап яз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1143000" y="45756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ff00"/>
                </a:solidFill>
                <a:latin typeface="Times New Roman"/>
                <a:ea typeface="Calibri"/>
              </a:rPr>
              <a:t>Сорауларга җавап бир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28600" y="149616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1.Сүзне күрү белән, анда ничә иҗек булуын белеп булам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2.Иҗекне нинди аваз төз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3.Иҗек бер сузык аваздан гына төзелә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2060"/>
                </a:solidFill>
                <a:latin typeface="Times New Roman"/>
                <a:ea typeface="Calibri"/>
              </a:rPr>
              <a:t>4.Иҗек бер тартык аваздан төзелә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3-03-28T16:50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