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applause.wav" ContentType="audio/x-wav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E8D-5E41-4123-AA3E-1FFA8EC3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8E1-8371-40C8-9E6F-8814DDA5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1A80-41F2-4BF7-90F9-BC9BFF07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FAB6-BD93-4C6D-8CFF-A7B938BC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E549-B847-44A0-8554-2CE7371F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73B-4C92-4226-929C-C91FF89C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8FE9-24DC-40B0-ACCD-0B0958D2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9810-7443-4487-AD10-ACCBF12F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597-487C-48CE-A85F-AAF32256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CD2-2C26-4DB1-903A-D8CEFD05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8774-B39A-4705-84BF-56FBE7E9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CC3-DF0E-414C-966D-A898BA95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BF20-7751-4D76-BB53-25A37872E3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DSC_2360 копи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396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2971800" y="5638680"/>
            <a:ext cx="380988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ea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ОУ-СОШ № 6</a:t>
            </a:r>
            <a:endParaRPr b="1" lang="en-US" sz="4000" spc="1" strike="noStrike">
              <a:ln w="19080">
                <a:solidFill>
                  <a:srgbClr val="0000ea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уховное воспи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E:\5 КЛАСС\КАЗАКИ\церковь\IMG_0564.jpg"/>
          <p:cNvPicPr/>
          <p:nvPr/>
        </p:nvPicPr>
        <p:blipFill>
          <a:blip r:embed="rId1"/>
          <a:stretch/>
        </p:blipFill>
        <p:spPr>
          <a:xfrm>
            <a:off x="304920" y="1295280"/>
            <a:ext cx="4024080" cy="301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E:\5 КЛАСС\КАЗАКИ\церковь\IMG_0563.jpg"/>
          <p:cNvPicPr/>
          <p:nvPr/>
        </p:nvPicPr>
        <p:blipFill>
          <a:blip r:embed="rId2"/>
          <a:stretch/>
        </p:blipFill>
        <p:spPr>
          <a:xfrm>
            <a:off x="3581280" y="32004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E:\5 КЛАСС\КАЗАКИ\церковь\IMG_0565.jpg"/>
          <p:cNvPicPr/>
          <p:nvPr/>
        </p:nvPicPr>
        <p:blipFill>
          <a:blip r:embed="rId3"/>
          <a:stretch/>
        </p:blipFill>
        <p:spPr>
          <a:xfrm>
            <a:off x="5921280" y="1143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762120" y="72396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греем сердца ветера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657600" y="3352680"/>
            <a:ext cx="4287960" cy="314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Documents and Settings\мы\Рабочий стол\Новая папка\IMG_2509.jpg"/>
          <p:cNvPicPr/>
          <p:nvPr/>
        </p:nvPicPr>
        <p:blipFill>
          <a:blip r:embed="rId3"/>
          <a:stretch/>
        </p:blipFill>
        <p:spPr>
          <a:xfrm>
            <a:off x="6400800" y="99072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4" name="applaus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хта памя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5562720" y="37339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2286000" y="3086280"/>
            <a:ext cx="5029200" cy="377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им традиции отцов и де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E:\5 КЛАСС\КАЗАКИ\ДЕНЬ ГОРОДА 2008\IMG_0359.jpg"/>
          <p:cNvPicPr/>
          <p:nvPr/>
        </p:nvPicPr>
        <p:blipFill>
          <a:blip r:embed="rId3"/>
          <a:stretch/>
        </p:blipFill>
        <p:spPr>
          <a:xfrm>
            <a:off x="380880" y="9144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C:\Documents and Settings\мы\Рабочий стол\Новая папка\IMG_0802.jpg"/>
          <p:cNvPicPr/>
          <p:nvPr/>
        </p:nvPicPr>
        <p:blipFill>
          <a:blip r:embed="rId1"/>
          <a:stretch/>
        </p:blipFill>
        <p:spPr>
          <a:xfrm>
            <a:off x="380880" y="3808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Documents and Settings\мы\Рабочий стол\Новая папка\IMG_0803.jpg"/>
          <p:cNvPicPr/>
          <p:nvPr/>
        </p:nvPicPr>
        <p:blipFill>
          <a:blip r:embed="rId2"/>
          <a:stretch/>
        </p:blipFill>
        <p:spPr>
          <a:xfrm>
            <a:off x="5486400" y="3808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C:\Documents and Settings\мы\Рабочий стол\Новая папка\IMG_0806.jpg"/>
          <p:cNvPicPr/>
          <p:nvPr/>
        </p:nvPicPr>
        <p:blipFill>
          <a:blip r:embed="rId3"/>
          <a:stretch/>
        </p:blipFill>
        <p:spPr>
          <a:xfrm>
            <a:off x="380880" y="3886200"/>
            <a:ext cx="3454560" cy="2590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C:\Documents and Settings\мы\Рабочий стол\Новая папка\IMG_0805.jpg"/>
          <p:cNvPicPr/>
          <p:nvPr/>
        </p:nvPicPr>
        <p:blipFill>
          <a:blip r:embed="rId4"/>
          <a:stretch/>
        </p:blipFill>
        <p:spPr>
          <a:xfrm>
            <a:off x="5410080" y="3962520"/>
            <a:ext cx="3378240" cy="2533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Documents and Settings\мы\Рабочий стол\Новая папка\IMG_0795.jpg"/>
          <p:cNvPicPr/>
          <p:nvPr/>
        </p:nvPicPr>
        <p:blipFill>
          <a:blip r:embed="rId5"/>
          <a:stretch/>
        </p:blipFill>
        <p:spPr>
          <a:xfrm rot="20203800">
            <a:off x="2558520" y="1881360"/>
            <a:ext cx="3964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E:\5 КЛАСС\КАЗАКИ\день здоровья\IMG_0447.jpg"/>
          <p:cNvPicPr/>
          <p:nvPr/>
        </p:nvPicPr>
        <p:blipFill>
          <a:blip r:embed="rId1"/>
          <a:stretch/>
        </p:blipFill>
        <p:spPr>
          <a:xfrm>
            <a:off x="380880" y="533520"/>
            <a:ext cx="5229360" cy="3921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льзя бездейств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E:\5 КЛАСС\агитбригада 2008 декабрь\IMG_0543.jpg"/>
          <p:cNvPicPr/>
          <p:nvPr/>
        </p:nvPicPr>
        <p:blipFill>
          <a:blip r:embed="rId2"/>
          <a:stretch/>
        </p:blipFill>
        <p:spPr>
          <a:xfrm>
            <a:off x="4114800" y="30481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Итоги наше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о в «Народных Казачьих Играх» проводимых в рамках дня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о в Ежегодных Казачьих Играх, проводимых в честь празднования «Дня образования Кубанского казаче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о в конкурсе Агитбригад в рамках реализации краевой программы Антинар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амота классному руководителю «За активную работу в делах Кубанского Казаче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DSC_2360 копи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5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Цель деятель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интересов учащихся в познании культурно-исторических и духовных ценностей Отеч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знакомление учащихся с особенностями традиций линейных казаков Куба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творческих способностей учащихся посредством освоения различных видов фольклора линейных казаков Куба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стематизировать представления учащихся о духовно-нравственных ценностях традиционной казачье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спитывать уважение к старш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рмировать осознанное отношение к Родине, истории Кубани, казачеству и людям другой национа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спитывать добросовестное отношение к тр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лнительные дисцип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ративно-прикладное творчество (круж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кубанского казачества (ур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православной культуры (ур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е казачьи игры (круж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мотрим в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фская работа в первом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яд юных моряков «Морская душ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о-патриотический клуб «Патрио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исследовательский клуб «Родин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67400" y="3227400"/>
            <a:ext cx="422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 rot="20458200">
            <a:off x="4667040" y="3395160"/>
            <a:ext cx="403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 flipV="1" rot="20168400">
            <a:off x="4755960" y="3940920"/>
            <a:ext cx="2424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5486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Documents and Settings\мы\Рабочий стол\Новая папка\IMG_0786.jpg"/>
          <p:cNvPicPr/>
          <p:nvPr/>
        </p:nvPicPr>
        <p:blipFill>
          <a:blip r:embed="rId1"/>
          <a:stretch/>
        </p:blipFill>
        <p:spPr>
          <a:xfrm>
            <a:off x="5334120" y="2286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Documents and Settings\мы\Рабочий стол\Новая папка\IMG_0784.jpg"/>
          <p:cNvPicPr/>
          <p:nvPr/>
        </p:nvPicPr>
        <p:blipFill>
          <a:blip r:embed="rId2"/>
          <a:stretch/>
        </p:blipFill>
        <p:spPr>
          <a:xfrm>
            <a:off x="0" y="45720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мы\Рабочий стол\Новая папка\IMG_0785.jpg"/>
          <p:cNvPicPr/>
          <p:nvPr/>
        </p:nvPicPr>
        <p:blipFill>
          <a:blip r:embed="rId3"/>
          <a:stretch/>
        </p:blipFill>
        <p:spPr>
          <a:xfrm>
            <a:off x="4191120" y="3276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Documents and Settings\мы\Рабочий стол\Новая папка\IMG_0788.jpg"/>
          <p:cNvPicPr/>
          <p:nvPr/>
        </p:nvPicPr>
        <p:blipFill>
          <a:blip r:embed="rId4"/>
          <a:stretch/>
        </p:blipFill>
        <p:spPr>
          <a:xfrm>
            <a:off x="685800" y="396252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4"/>
          <p:cNvSpPr/>
          <p:nvPr/>
        </p:nvSpPr>
        <p:spPr>
          <a:xfrm>
            <a:off x="1905120" y="2286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Растим себе  достойную сме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IMG_2631"/>
          <p:cNvPicPr/>
          <p:nvPr/>
        </p:nvPicPr>
        <p:blipFill>
          <a:blip r:embed="rId1"/>
          <a:stretch/>
        </p:blipFill>
        <p:spPr>
          <a:xfrm>
            <a:off x="5105520" y="533520"/>
            <a:ext cx="3429000" cy="2928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IMG_2628"/>
          <p:cNvPicPr/>
          <p:nvPr/>
        </p:nvPicPr>
        <p:blipFill>
          <a:blip r:embed="rId2"/>
          <a:stretch/>
        </p:blipFill>
        <p:spPr>
          <a:xfrm>
            <a:off x="1752480" y="2790720"/>
            <a:ext cx="5639040" cy="406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IMG_2614"/>
          <p:cNvPicPr/>
          <p:nvPr/>
        </p:nvPicPr>
        <p:blipFill>
          <a:blip r:embed="rId3"/>
          <a:stretch/>
        </p:blipFill>
        <p:spPr>
          <a:xfrm>
            <a:off x="6095880" y="3962520"/>
            <a:ext cx="2756160" cy="2390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IMG_2630"/>
          <p:cNvPicPr/>
          <p:nvPr/>
        </p:nvPicPr>
        <p:blipFill>
          <a:blip r:embed="rId4"/>
          <a:stretch/>
        </p:blipFill>
        <p:spPr>
          <a:xfrm>
            <a:off x="304920" y="609480"/>
            <a:ext cx="3195360" cy="2819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347760" y="95400"/>
            <a:ext cx="81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Отряд юных моряков «Морская душ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IMG_2619"/>
          <p:cNvPicPr/>
          <p:nvPr/>
        </p:nvPicPr>
        <p:blipFill>
          <a:blip r:embed="rId1"/>
          <a:stretch/>
        </p:blipFill>
        <p:spPr>
          <a:xfrm>
            <a:off x="533520" y="3200400"/>
            <a:ext cx="3686040" cy="34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IMG_2620"/>
          <p:cNvPicPr/>
          <p:nvPr/>
        </p:nvPicPr>
        <p:blipFill>
          <a:blip r:embed="rId2"/>
          <a:stretch/>
        </p:blipFill>
        <p:spPr>
          <a:xfrm>
            <a:off x="4952880" y="3411360"/>
            <a:ext cx="3100680" cy="3446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IMG_2623"/>
          <p:cNvPicPr/>
          <p:nvPr/>
        </p:nvPicPr>
        <p:blipFill>
          <a:blip r:embed="rId3"/>
          <a:stretch/>
        </p:blipFill>
        <p:spPr>
          <a:xfrm>
            <a:off x="304920" y="0"/>
            <a:ext cx="3771720" cy="2930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IMG_2617"/>
          <p:cNvPicPr/>
          <p:nvPr/>
        </p:nvPicPr>
        <p:blipFill>
          <a:blip r:embed="rId4"/>
          <a:stretch/>
        </p:blipFill>
        <p:spPr>
          <a:xfrm>
            <a:off x="4267080" y="304920"/>
            <a:ext cx="4380120" cy="34480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539640" y="5859360"/>
            <a:ext cx="81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оенно-патриотический клуб «Патрио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500120" y="203040"/>
            <a:ext cx="6721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Изображение 024"/>
          <p:cNvPicPr/>
          <p:nvPr/>
        </p:nvPicPr>
        <p:blipFill>
          <a:blip r:embed="rId1"/>
          <a:stretch/>
        </p:blipFill>
        <p:spPr>
          <a:xfrm>
            <a:off x="3505320" y="3581280"/>
            <a:ext cx="5638680" cy="3065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Изображение 114"/>
          <p:cNvPicPr/>
          <p:nvPr/>
        </p:nvPicPr>
        <p:blipFill>
          <a:blip r:embed="rId2"/>
          <a:stretch/>
        </p:blipFill>
        <p:spPr>
          <a:xfrm>
            <a:off x="609480" y="609480"/>
            <a:ext cx="5105520" cy="3522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Изображение 121"/>
          <p:cNvPicPr/>
          <p:nvPr/>
        </p:nvPicPr>
        <p:blipFill>
          <a:blip r:embed="rId3"/>
          <a:stretch/>
        </p:blipFill>
        <p:spPr>
          <a:xfrm>
            <a:off x="228600" y="3048120"/>
            <a:ext cx="4392720" cy="3381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Захваченный кадр 20"/>
          <p:cNvPicPr/>
          <p:nvPr/>
        </p:nvPicPr>
        <p:blipFill>
          <a:blip r:embed="rId4"/>
          <a:stretch/>
        </p:blipFill>
        <p:spPr>
          <a:xfrm>
            <a:off x="5105520" y="152280"/>
            <a:ext cx="3744720" cy="2293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4667400" y="3227400"/>
            <a:ext cx="422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 rot="20458200">
            <a:off x="4667040" y="3395160"/>
            <a:ext cx="403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 rot="20167800">
            <a:off x="4569840" y="2926080"/>
            <a:ext cx="40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66"/>
                </a:solidFill>
                <a:uFillTx/>
                <a:latin typeface="Arial"/>
              </a:rPr>
              <a:t>Научно-исследовательский клуб «Роди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лия</cp:lastModifiedBy>
  <dcterms:modified xsi:type="dcterms:W3CDTF">2013-03-28T20:50:14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