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png" ContentType="image/png"/>
  <Override PartName="/ppt/media/image12.png" ContentType="image/png"/>
  <Override PartName="/ppt/media/image11.wmf" ContentType="image/x-wmf"/>
  <Override PartName="/ppt/media/image18.wmf" ContentType="image/x-wmf"/>
  <Override PartName="/ppt/media/image15.gif" ContentType="image/gif"/>
  <Override PartName="/ppt/media/image17.png" ContentType="image/png"/>
  <Override PartName="/ppt/media/image16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wmf" ContentType="image/x-wmf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87F-A32F-444E-A65D-D04670AF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A9AE-4078-48F8-8A5D-AD959C67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75A3-B882-4F12-BECB-67F053AE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032-ACDC-478D-84FF-8199551B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D963-699F-4B4B-B16B-90FF58E1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CBBE-3209-48CF-971E-E3382DB2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485-6FF0-48FB-87AC-B709F2A0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A20-71A7-4128-811D-9D7DC804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91C6-B3E4-4136-AFC7-47D86174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7874-D4B9-4AA0-B416-035BE17B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5C83-FB57-4A7D-AE36-682275B9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6F78-2370-4298-95F9-D3E36D0D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D80D-4A94-496E-8717-928460DDDF8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МОБУСОШ №4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г. Новокубанск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2997000"/>
            <a:ext cx="835344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гда учёба в рад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124000" y="59500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1 – 2012 уч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F2.MP3" descr=""/>
          <p:cNvPicPr/>
          <p:nvPr/>
        </p:nvPicPr>
        <p:blipFill>
          <a:blip r:embed="rId1"/>
          <a:stretch/>
        </p:blipFill>
        <p:spPr>
          <a:xfrm>
            <a:off x="88995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BD00146_"/>
          <p:cNvPicPr/>
          <p:nvPr/>
        </p:nvPicPr>
        <p:blipFill>
          <a:blip r:embed="rId1"/>
          <a:stretch/>
        </p:blipFill>
        <p:spPr>
          <a:xfrm>
            <a:off x="0" y="0"/>
            <a:ext cx="2195640" cy="2168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2340000" y="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ая компьютерная проверка работ по мере выполнения заданий каждым учащимся, оценивание учите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8329320" cy="36878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2556000" y="98100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ность в решении учитывается при выставлении оценки за ур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684360" y="11592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лаксация на одном из этапов уро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5" descr="502"/>
          <p:cNvPicPr/>
          <p:nvPr/>
        </p:nvPicPr>
        <p:blipFill>
          <a:blip r:embed="rId1"/>
          <a:stretch/>
        </p:blipFill>
        <p:spPr>
          <a:xfrm>
            <a:off x="468360" y="692280"/>
            <a:ext cx="8064360" cy="5976720"/>
          </a:xfrm>
          <a:prstGeom prst="rect">
            <a:avLst/>
          </a:prstGeom>
          <a:ln w="0">
            <a:noFill/>
          </a:ln>
        </p:spPr>
      </p:pic>
      <p:pic>
        <p:nvPicPr>
          <p:cNvPr id="97" name="307.MP3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98" name="311.MP3" descr=""/>
          <p:cNvPicPr/>
          <p:nvPr/>
        </p:nvPicPr>
        <p:blipFill>
          <a:blip r:embed="rId3"/>
          <a:stretch/>
        </p:blipFill>
        <p:spPr>
          <a:xfrm>
            <a:off x="8675640" y="5734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95280" y="26028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агмент самостоятельной работы по русскому язы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дел: «Части речи в русском языке». Тема: «Имя существительное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20280" cy="5516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468360" y="981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716360" y="1052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AG00154_"/>
          <p:cNvPicPr/>
          <p:nvPr/>
        </p:nvPicPr>
        <p:blipFill>
          <a:blip r:embed="rId2"/>
          <a:stretch/>
        </p:blipFill>
        <p:spPr>
          <a:xfrm>
            <a:off x="3564000" y="5019840"/>
            <a:ext cx="2087640" cy="1838160"/>
          </a:xfrm>
          <a:prstGeom prst="rect">
            <a:avLst/>
          </a:prstGeom>
          <a:ln w="0">
            <a:noFill/>
          </a:ln>
        </p:spPr>
      </p:pic>
      <p:sp>
        <p:nvSpPr>
          <p:cNvPr id="104" name="Line 9"/>
          <p:cNvSpPr/>
          <p:nvPr/>
        </p:nvSpPr>
        <p:spPr>
          <a:xfrm>
            <a:off x="3059280" y="400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3059280" y="486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7885080" y="4005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7885080" y="486900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3419640" y="2708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468360" y="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ая компьютерная проверка работ по мере выполнения заданий каждым учащимся, оценивание учите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176720" cy="381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4248000" cy="3816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вод верных ответов на интерактивную доску с целью провер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5280" y="5445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 баллов – «5»; 6 баллов – «4»; 5 баллов – «3»; менее 5 – «2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50920" y="90792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932360" y="90792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395280" y="6381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ечатка проверенных работ учащихся на принтере учите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684360" y="47628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5"/>
          <p:cNvSpPr txBox="1"/>
          <p:nvPr/>
        </p:nvSpPr>
        <p:spPr>
          <a:xfrm rot="21476400">
            <a:off x="1042560" y="1557000"/>
            <a:ext cx="6696000" cy="23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646000"/>
                </a:gradFill>
                <a:latin typeface="Impact"/>
              </a:rPr>
              <a:t>До свидани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646000"/>
              </a:gradFill>
              <a:latin typeface="Impact"/>
              <a:ea typeface="Impact"/>
            </a:endParaRPr>
          </a:p>
        </p:txBody>
      </p:sp>
      <p:pic>
        <p:nvPicPr>
          <p:cNvPr id="119" name="Picture 6" descr="BS00092_"/>
          <p:cNvPicPr/>
          <p:nvPr/>
        </p:nvPicPr>
        <p:blipFill>
          <a:blip r:embed="rId1"/>
          <a:stretch/>
        </p:blipFill>
        <p:spPr>
          <a:xfrm>
            <a:off x="5594400" y="3068640"/>
            <a:ext cx="3549600" cy="3468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Фрагменты уроков проверки знаний учащихся с помощью компьютера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877000"/>
            <a:ext cx="88423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высшей категории Вернюк Г.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«А»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4" descr="j0205582"/>
          <p:cNvPicPr/>
          <p:nvPr/>
        </p:nvPicPr>
        <p:blipFill>
          <a:blip r:embed="rId1"/>
          <a:stretch/>
        </p:blipFill>
        <p:spPr>
          <a:xfrm>
            <a:off x="3419640" y="1773360"/>
            <a:ext cx="2112840" cy="1939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250920" y="1844640"/>
            <a:ext cx="30258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бщеобразовательны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тика рассматривается как средство развития логического мышления, умений анализировать, выявлять сущности и отношения, описывать планы действий и делать логические выво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403280" y="11970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а аспекта изучения информатик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867280" y="1773360"/>
            <a:ext cx="309744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ологическ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тика рассматривается как средство формирования образовательного потенциала, позволяющего развивать наиболее передовые на сегодня технологии – информацион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95280" y="486900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 пояснительной записки к программе «Информатика в играх и задачах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 А.В. Горяч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200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  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Математи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2060280"/>
            <a:ext cx="85406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ния для самостоятельной работы учащихся по вариант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382" descr="j0195384"/>
          <p:cNvPicPr/>
          <p:nvPr/>
        </p:nvPicPr>
        <p:blipFill>
          <a:blip r:embed="rId1"/>
          <a:stretch/>
        </p:blipFill>
        <p:spPr>
          <a:xfrm>
            <a:off x="3132000" y="2924280"/>
            <a:ext cx="3240360" cy="2881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384"/>
          <p:cNvSpPr/>
          <p:nvPr/>
        </p:nvSpPr>
        <p:spPr>
          <a:xfrm>
            <a:off x="395280" y="587700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85"/>
          <p:cNvSpPr/>
          <p:nvPr/>
        </p:nvSpPr>
        <p:spPr>
          <a:xfrm>
            <a:off x="395280" y="60213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ы: «Умножение многозначного числа на однозначное», «Деление многозначного числа на однозначное», «Решение задач», «Уравнен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WordArt 1386"/>
          <p:cNvSpPr txBox="1"/>
          <p:nvPr/>
        </p:nvSpPr>
        <p:spPr>
          <a:xfrm>
            <a:off x="1403280" y="0"/>
            <a:ext cx="568800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дравствуйт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977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468360" y="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572000" y="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468360" y="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ая компьютерная проверка работ по мере выполнения заданий каждым учащимся, оценивание учите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4248000" cy="4535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4176720" cy="4535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39528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4859280" y="836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395280" y="6021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5 баллов – «5»; 14-12 баллов – «4»; 11-8 баллов – «3»; менее 8 – «2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95280" y="65246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ечатка проверенных работ учащихся на принтере учите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3059280" y="400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539640" y="189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вод верных ответов на интерактивную доску с целью провер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365040" y="620640"/>
            <a:ext cx="8413920" cy="6048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904.MP3" descr=""/>
          <p:cNvPicPr/>
          <p:nvPr/>
        </p:nvPicPr>
        <p:blipFill>
          <a:blip r:embed="rId1"/>
          <a:stretch/>
        </p:blipFill>
        <p:spPr>
          <a:xfrm>
            <a:off x="8899560" y="64533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108000" y="18900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Физминутка. Гимнастика для глаз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11280" y="1052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ащиеся расслабляются (можно лечь на парту), выполняют упражнения для осанки, гимнастику для гл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166760" y="229716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Легли на парту, закрыли глаза, представили себя на берегу моря, вспомнили приятные момен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1258920" y="3357720"/>
            <a:ext cx="59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ткрыли глаза, встали, потянулись, посмотрели вдаль, зажмурились, открыли глаза, часто поморга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332000" y="4869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роделали 3-4 круговых движения глазами вправо, столько же – вле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12" descr="BD19563_"/>
          <p:cNvPicPr/>
          <p:nvPr/>
        </p:nvPicPr>
        <p:blipFill>
          <a:blip r:embed="rId2"/>
          <a:stretch/>
        </p:blipFill>
        <p:spPr>
          <a:xfrm>
            <a:off x="7236000" y="2133720"/>
            <a:ext cx="1736640" cy="2590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5400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539640" y="2602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олжение самостоятельной работы по математике по вариант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3964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485928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F3.MP3" descr=""/>
          <p:cNvPicPr/>
          <p:nvPr/>
        </p:nvPicPr>
        <p:blipFill>
          <a:blip r:embed="rId2"/>
          <a:stretch/>
        </p:blipFill>
        <p:spPr>
          <a:xfrm>
            <a:off x="8748720" y="645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24000" y="1159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39640" y="189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вод верного решения задач на интерактивную доску с целью провер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68360" y="2276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*9+6*5=57 (к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148360" y="2276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*9+4*5=74 (че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50920" y="126828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572000" y="1413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5280" y="3933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*5=40 (кв.см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219640" y="3933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*7=42 (кв. см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15:15:33Z</dcterms:created>
  <dc:creator>Пользователь</dc:creator>
  <dc:description/>
  <dc:language>en-US</dc:language>
  <cp:lastModifiedBy>User</cp:lastModifiedBy>
  <dcterms:modified xsi:type="dcterms:W3CDTF">2013-03-28T07:31:11Z</dcterms:modified>
  <cp:revision>14</cp:revision>
  <dc:subject/>
  <dc:title>Слайд 1</dc:title>
</cp:coreProperties>
</file>