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7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E3E-EC55-40B4-A295-FF962418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B05-8CBF-4424-A1CA-37903E65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7D9-822B-4B01-90DA-D0D57266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036-54E9-40A2-B8E3-49B2D5E0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03A-DE53-4BEA-BC03-9AA16BDF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ACE-C77A-4D72-8B4C-BF4FF3C7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4E4-8586-4F80-B531-24E9A02D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44B-701B-4AB3-A68C-439AC735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C3F-1768-42DA-BAEC-48ABC4FF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AF9-8F0A-4328-8F41-D8174350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21A-BAA5-4E00-B2BD-E9FA3BB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92D-5AE1-4A4D-8DDE-CDC738A3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7A80-9BB6-4FEA-98C6-4B132B73C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987640" y="692280"/>
            <a:ext cx="374652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Конкур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042920" y="2133720"/>
            <a:ext cx="640080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“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utsch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st super! ”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842920" y="1916280"/>
            <a:ext cx="3816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cc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Engravers MT"/>
              </a:rPr>
              <a:t>1.Tanz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cc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Engravers MT"/>
              </a:rPr>
              <a:t>2.Lie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27280" y="765000"/>
            <a:ext cx="4176720" cy="654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Pause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ransition spd="slow"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716280"/>
            <a:ext cx="3743280" cy="25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берите правильный вариан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0" y="549360"/>
            <a:ext cx="4248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e Staatsflagge Deutschlands 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weiss- blau- r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chwarz- gold- r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ot- weiss- gol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chwarz- rot- g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500"/>
                            </p:stCondLst>
                            <p:childTnLst>
                              <p:par>
                                <p:cTn id="5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7000"/>
                            </p:stCondLst>
                            <p:childTnLst>
                              <p:par>
                                <p:cTn id="5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Leipzig ist die Stad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der deutsc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Literat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Goethe-und-Schiller-Stad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des Buches und der Musi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an der blaue Don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50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3"/>
          <p:cNvSpPr txBox="1"/>
          <p:nvPr/>
        </p:nvSpPr>
        <p:spPr>
          <a:xfrm>
            <a:off x="468360" y="189000"/>
            <a:ext cx="8229600" cy="14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ie heissen die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henswurdigkeit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6" name="Picture 14" descr="Brandenburgertor_SN"/>
          <p:cNvPicPr/>
          <p:nvPr/>
        </p:nvPicPr>
        <p:blipFill>
          <a:blip r:embed="rId2"/>
          <a:stretch/>
        </p:blipFill>
        <p:spPr>
          <a:xfrm>
            <a:off x="1116000" y="1916280"/>
            <a:ext cx="3311640" cy="296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Berlin_Rotes_Rathaus_2"/>
          <p:cNvPicPr/>
          <p:nvPr/>
        </p:nvPicPr>
        <p:blipFill>
          <a:blip r:embed="rId3"/>
          <a:stretch/>
        </p:blipFill>
        <p:spPr>
          <a:xfrm>
            <a:off x="4427640" y="1916280"/>
            <a:ext cx="309564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Berlin7"/>
          <p:cNvPicPr/>
          <p:nvPr/>
        </p:nvPicPr>
        <p:blipFill>
          <a:blip r:embed="rId2"/>
          <a:srcRect l="16232" t="0" r="16682" b="0"/>
          <a:stretch/>
        </p:blipFill>
        <p:spPr>
          <a:xfrm>
            <a:off x="684360" y="189000"/>
            <a:ext cx="3095640" cy="432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6b7cb66a1404"/>
          <p:cNvPicPr/>
          <p:nvPr/>
        </p:nvPicPr>
        <p:blipFill>
          <a:blip r:embed="rId3"/>
          <a:stretch/>
        </p:blipFill>
        <p:spPr>
          <a:xfrm>
            <a:off x="5435640" y="189000"/>
            <a:ext cx="313380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ie heissen diese Sehenswurdigkei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dostoprimechatelnosti_berlin_arhitektura_1_1_1"/>
          <p:cNvPicPr/>
          <p:nvPr/>
        </p:nvPicPr>
        <p:blipFill>
          <a:blip r:embed="rId2"/>
          <a:stretch/>
        </p:blipFill>
        <p:spPr>
          <a:xfrm>
            <a:off x="4500720" y="2349360"/>
            <a:ext cx="3024000" cy="2330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tena_BErlin"/>
          <p:cNvPicPr/>
          <p:nvPr/>
        </p:nvPicPr>
        <p:blipFill>
          <a:blip r:embed="rId3"/>
          <a:stretch/>
        </p:blipFill>
        <p:spPr>
          <a:xfrm>
            <a:off x="1332000" y="2349360"/>
            <a:ext cx="313056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1249234370"/>
          <p:cNvPicPr/>
          <p:nvPr/>
        </p:nvPicPr>
        <p:blipFill>
          <a:blip r:embed="rId2"/>
          <a:stretch/>
        </p:blipFill>
        <p:spPr>
          <a:xfrm>
            <a:off x="250920" y="333360"/>
            <a:ext cx="3960720" cy="3481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file"/>
          <p:cNvPicPr/>
          <p:nvPr/>
        </p:nvPicPr>
        <p:blipFill>
          <a:blip r:embed="rId3"/>
          <a:srcRect l="12382" t="0" r="12737" b="19475"/>
          <a:stretch/>
        </p:blipFill>
        <p:spPr>
          <a:xfrm>
            <a:off x="4788000" y="404640"/>
            <a:ext cx="4032000" cy="3515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                          </a:t>
            </a:r>
            <a:r>
              <a:rPr b="0" lang="ru-RU" sz="3600" spc="-1" strike="noStrike">
                <a:solidFill>
                  <a:srgbClr val="cc00cc"/>
                </a:solidFill>
                <a:latin typeface="comic"/>
              </a:rPr>
              <a:t>Расшифруйте тайнопи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1403280" y="620640"/>
            <a:ext cx="6264360" cy="79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2556000" y="2060640"/>
            <a:ext cx="1584360" cy="79200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356000" y="2060640"/>
            <a:ext cx="1295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3"/>
          <p:cNvSpPr txBox="1"/>
          <p:nvPr/>
        </p:nvSpPr>
        <p:spPr>
          <a:xfrm>
            <a:off x="7667640" y="1989000"/>
            <a:ext cx="72072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48" name="AutoShape 15"/>
          <p:cNvSpPr/>
          <p:nvPr/>
        </p:nvSpPr>
        <p:spPr>
          <a:xfrm>
            <a:off x="4500720" y="3213000"/>
            <a:ext cx="1584000" cy="79236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>
            <a:off x="6227640" y="3213000"/>
            <a:ext cx="1297080" cy="79236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7"/>
          <p:cNvSpPr txBox="1"/>
          <p:nvPr/>
        </p:nvSpPr>
        <p:spPr>
          <a:xfrm>
            <a:off x="7740720" y="3789360"/>
            <a:ext cx="172800" cy="1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20"/>
          <p:cNvSpPr txBox="1"/>
          <p:nvPr/>
        </p:nvSpPr>
        <p:spPr>
          <a:xfrm>
            <a:off x="1908000" y="5013360"/>
            <a:ext cx="935280" cy="90360"/>
          </a:xfrm>
          <a:prstGeom prst="rect">
            <a:avLst/>
          </a:prstGeom>
        </p:spPr>
        <p:txBody>
          <a:bodyPr wrap="none" lIns="90000" rIns="90000" tIns="43920" bIns="439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WordArt 21"/>
          <p:cNvSpPr txBox="1"/>
          <p:nvPr/>
        </p:nvSpPr>
        <p:spPr>
          <a:xfrm>
            <a:off x="2916360" y="5013360"/>
            <a:ext cx="7308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AutoShape 23"/>
          <p:cNvSpPr/>
          <p:nvPr/>
        </p:nvSpPr>
        <p:spPr>
          <a:xfrm>
            <a:off x="4427640" y="4365720"/>
            <a:ext cx="1368360" cy="79200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5867280" y="479736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5940360" y="2060640"/>
            <a:ext cx="1295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3059280" y="3213000"/>
            <a:ext cx="1295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3059280" y="4365720"/>
            <a:ext cx="1295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9"/>
          <p:cNvSpPr/>
          <p:nvPr/>
        </p:nvSpPr>
        <p:spPr>
          <a:xfrm>
            <a:off x="7236000" y="4365720"/>
            <a:ext cx="1295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30"/>
          <p:cNvSpPr txBox="1"/>
          <p:nvPr/>
        </p:nvSpPr>
        <p:spPr>
          <a:xfrm>
            <a:off x="8604360" y="5013360"/>
            <a:ext cx="172800" cy="1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755640" y="765000"/>
            <a:ext cx="1584360" cy="79236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411280" y="765000"/>
            <a:ext cx="1295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924360" y="836640"/>
            <a:ext cx="1297080" cy="79200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5508720" y="765000"/>
            <a:ext cx="72072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755640" y="1916280"/>
            <a:ext cx="1295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067280" y="1916280"/>
            <a:ext cx="1295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2268360" y="1916280"/>
            <a:ext cx="1584360" cy="79200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1"/>
          <p:cNvSpPr txBox="1"/>
          <p:nvPr/>
        </p:nvSpPr>
        <p:spPr>
          <a:xfrm>
            <a:off x="5579280" y="2565360"/>
            <a:ext cx="173160" cy="1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12"/>
          <p:cNvSpPr txBox="1"/>
          <p:nvPr/>
        </p:nvSpPr>
        <p:spPr>
          <a:xfrm>
            <a:off x="755640" y="3716280"/>
            <a:ext cx="792000" cy="90720"/>
          </a:xfrm>
          <a:prstGeom prst="rect">
            <a:avLst/>
          </a:prstGeom>
        </p:spPr>
        <p:txBody>
          <a:bodyPr wrap="none" lIns="90000" rIns="9000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13"/>
          <p:cNvSpPr txBox="1"/>
          <p:nvPr/>
        </p:nvSpPr>
        <p:spPr>
          <a:xfrm>
            <a:off x="1619280" y="3716280"/>
            <a:ext cx="7308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1763640" y="314172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3059280" y="3068640"/>
            <a:ext cx="1295280" cy="7207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4427640" y="342900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5364000" y="3068640"/>
            <a:ext cx="863640" cy="71928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8"/>
          <p:cNvSpPr txBox="1"/>
          <p:nvPr/>
        </p:nvSpPr>
        <p:spPr>
          <a:xfrm>
            <a:off x="6226920" y="3645000"/>
            <a:ext cx="173160" cy="13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писать одного чл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вое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м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манда противника долж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гадать,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 ком идёт 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900000" y="692280"/>
            <a:ext cx="5483160" cy="725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“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Wer ist das?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spd="slow">
    <p:newsflash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00000" y="2332080"/>
            <a:ext cx="6861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rgenstunde 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sser zweimal messen, a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ber Nacht komm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539640" y="105264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2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должите поговорк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eine Heimat, wunderbar, das Land, malerisch, meine Familie, der Mensch, die Sonne scheint, blau, die Vogel sin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чините стих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out" orient="horz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.Der Baum-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.Der Fluss-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3.Die Blumen-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4.Der Apfel-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5.Die Katze-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6.Der Herbst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7.Der Winte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1403280" y="692280"/>
            <a:ext cx="5977080" cy="725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те соответств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3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000"/>
                            </p:stCondLst>
                            <p:childTnLst>
                              <p:par>
                                <p:cTn id="4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000"/>
                            </p:stCondLst>
                            <p:childTnLst>
                              <p:par>
                                <p:cTn id="4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0_12498_987e4691_XL"/>
          <p:cNvPicPr/>
          <p:nvPr/>
        </p:nvPicPr>
        <p:blipFill>
          <a:blip r:embed="rId2"/>
          <a:srcRect l="8700" t="0" r="15863" b="0"/>
          <a:stretch/>
        </p:blipFill>
        <p:spPr>
          <a:xfrm>
            <a:off x="1332000" y="692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7adf392ae578"/>
          <p:cNvPicPr/>
          <p:nvPr/>
        </p:nvPicPr>
        <p:blipFill>
          <a:blip r:embed="rId3"/>
          <a:stretch/>
        </p:blipFill>
        <p:spPr>
          <a:xfrm>
            <a:off x="5076720" y="1125360"/>
            <a:ext cx="2185920" cy="218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013"/>
          <p:cNvPicPr/>
          <p:nvPr/>
        </p:nvPicPr>
        <p:blipFill>
          <a:blip r:embed="rId4"/>
          <a:stretch/>
        </p:blipFill>
        <p:spPr>
          <a:xfrm>
            <a:off x="2771640" y="3068640"/>
            <a:ext cx="1928880" cy="218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view"/>
          <p:cNvPicPr/>
          <p:nvPr/>
        </p:nvPicPr>
        <p:blipFill>
          <a:blip r:embed="rId5"/>
          <a:stretch/>
        </p:blipFill>
        <p:spPr>
          <a:xfrm>
            <a:off x="4788000" y="3933720"/>
            <a:ext cx="291600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reka"/>
          <p:cNvPicPr/>
          <p:nvPr/>
        </p:nvPicPr>
        <p:blipFill>
          <a:blip r:embed="rId2"/>
          <a:stretch/>
        </p:blipFill>
        <p:spPr>
          <a:xfrm>
            <a:off x="826920" y="1125360"/>
            <a:ext cx="3270240" cy="2186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17864229f513"/>
          <p:cNvPicPr/>
          <p:nvPr/>
        </p:nvPicPr>
        <p:blipFill>
          <a:blip r:embed="rId3"/>
          <a:stretch/>
        </p:blipFill>
        <p:spPr>
          <a:xfrm>
            <a:off x="5219640" y="112536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46622385_1248279702_autumn006"/>
          <p:cNvPicPr/>
          <p:nvPr/>
        </p:nvPicPr>
        <p:blipFill>
          <a:blip r:embed="rId4"/>
          <a:stretch/>
        </p:blipFill>
        <p:spPr>
          <a:xfrm>
            <a:off x="3132000" y="3716280"/>
            <a:ext cx="324648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8:50:17Z</dcterms:created>
  <dc:creator>user</dc:creator>
  <dc:description/>
  <dc:language>en-US</dc:language>
  <cp:lastModifiedBy>Samsung</cp:lastModifiedBy>
  <dcterms:modified xsi:type="dcterms:W3CDTF">2013-03-29T18:34:39Z</dcterms:modified>
  <cp:revision>7</cp:revision>
  <dc:subject/>
  <dc:title>конкурс</dc:title>
</cp:coreProperties>
</file>