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6670-7F8B-4D7F-A057-00BEA8BEBA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F78C-E839-470F-90F3-C4535E4D3F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29E0-EF28-4373-B234-DAC41DC60A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E6E-E52A-4C86-86F7-CC729C5A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0CE-57BB-49EF-B224-6FBF1D9B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A60-1135-4795-8E88-E6F1DB53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42A-9F76-4DE8-B91F-386BD407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00A-265E-447D-93D5-C2FE9348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0BB-819F-4526-9E24-D2F20133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877-B6C5-490B-8E0F-64E3809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DD8-0B5C-4445-A7D7-517A04E5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7C6-3E88-4ECF-BA33-BAA6651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20B-D857-477B-AB9E-0D02C0F5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871-A029-40B5-9607-E28C40A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9DD-F7AB-4F3D-ADC2-BB7671B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2448-1F90-4734-8137-22ED8D7EF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hyperlink" Target="http://blog.hobbyworld.kz/?attachment_id=618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hyperlink" Target="http://blog.hobbyworld.kz/?attachment_id=618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altado.ru/d/100361/d/23_32.jpg"/>
          <p:cNvPicPr/>
          <p:nvPr/>
        </p:nvPicPr>
        <p:blipFill>
          <a:blip r:embed="rId1"/>
          <a:stretch/>
        </p:blipFill>
        <p:spPr>
          <a:xfrm>
            <a:off x="250920" y="189000"/>
            <a:ext cx="8677080" cy="6480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1332000" y="981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Й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6588000" y="83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ЛД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2408400" y="5486400"/>
            <a:ext cx="5626080" cy="1238400"/>
          </a:xfrm>
          <a:prstGeom prst="rect">
            <a:avLst/>
          </a:prstGeom>
          <a:ln w="0">
            <a:noFill/>
          </a:ln>
        </p:spPr>
      </p:pic>
      <p:sp>
        <p:nvSpPr>
          <p:cNvPr id="52" name="Минус 7"/>
          <p:cNvSpPr/>
          <p:nvPr/>
        </p:nvSpPr>
        <p:spPr>
          <a:xfrm>
            <a:off x="4716360" y="1052640"/>
            <a:ext cx="576360" cy="431640"/>
          </a:xfrm>
          <a:custGeom>
            <a:avLst/>
            <a:gdLst>
              <a:gd name="textAreaLeft" fmla="*/ 76320 w 576360"/>
              <a:gd name="textAreaRight" fmla="*/ 500040 w 576360"/>
              <a:gd name="textAreaTop" fmla="*/ 164880 h 431640"/>
              <a:gd name="textAreaBottom" fmla="*/ 266760 h 431640"/>
            </a:gdLst>
            <a:ahLst/>
            <a:rect l="textAreaLeft" t="textAreaTop" r="textAreaRight" b="textAreaBottom"/>
            <a:pathLst>
              <a:path w="576262" h="431800">
                <a:moveTo>
                  <a:pt x="76384" y="165120"/>
                </a:moveTo>
                <a:lnTo>
                  <a:pt x="499878" y="165120"/>
                </a:lnTo>
                <a:lnTo>
                  <a:pt x="499878" y="266680"/>
                </a:lnTo>
                <a:lnTo>
                  <a:pt x="76384" y="2666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im7-tub-ru.yandex.net/i?id=12866583-28-72&amp;n=21"/>
          <p:cNvPicPr/>
          <p:nvPr/>
        </p:nvPicPr>
        <p:blipFill>
          <a:blip r:embed="rId3"/>
          <a:stretch/>
        </p:blipFill>
        <p:spPr>
          <a:xfrm rot="20791800">
            <a:off x="547200" y="1289160"/>
            <a:ext cx="2284560" cy="21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6-tub-ru.yandex.net/i?id=69924325-04-72&amp;n=21"/>
          <p:cNvPicPr/>
          <p:nvPr/>
        </p:nvPicPr>
        <p:blipFill>
          <a:blip r:embed="rId4"/>
          <a:stretch/>
        </p:blipFill>
        <p:spPr>
          <a:xfrm>
            <a:off x="2987640" y="126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im7-tub-ru.yandex.net/i?id=78302829-17-72&amp;n=21"/>
          <p:cNvPicPr/>
          <p:nvPr/>
        </p:nvPicPr>
        <p:blipFill>
          <a:blip r:embed="rId5"/>
          <a:stretch/>
        </p:blipFill>
        <p:spPr>
          <a:xfrm rot="2215200">
            <a:off x="5362200" y="1411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5-tub-ru.yandex.net/i?id=139365182-28-72&amp;n=21"/>
          <p:cNvPicPr/>
          <p:nvPr/>
        </p:nvPicPr>
        <p:blipFill>
          <a:blip r:embed="rId6"/>
          <a:stretch/>
        </p:blipFill>
        <p:spPr>
          <a:xfrm rot="436200">
            <a:off x="6948000" y="1525320"/>
            <a:ext cx="1873440" cy="14652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6" descr=""/>
          <p:cNvPicPr/>
          <p:nvPr/>
        </p:nvPicPr>
        <p:blipFill>
          <a:blip r:embed="rId7"/>
          <a:stretch/>
        </p:blipFill>
        <p:spPr>
          <a:xfrm>
            <a:off x="317520" y="-115920"/>
            <a:ext cx="865512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8"/>
          <a:stretch/>
        </p:blipFill>
        <p:spPr>
          <a:xfrm>
            <a:off x="2408400" y="2938320"/>
            <a:ext cx="4582800" cy="1090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zolotoyaliga.ucoz.ru/_fr/0/5441743.jpg"/>
          <p:cNvPicPr/>
          <p:nvPr/>
        </p:nvPicPr>
        <p:blipFill>
          <a:blip r:embed="rId9"/>
          <a:stretch/>
        </p:blipFill>
        <p:spPr>
          <a:xfrm>
            <a:off x="468360" y="436572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http://im0-tub-ru.yandex.net/i?id=178121092-64-72&amp;n=21"/>
          <p:cNvPicPr/>
          <p:nvPr/>
        </p:nvPicPr>
        <p:blipFill>
          <a:blip r:embed="rId10"/>
          <a:stretch/>
        </p:blipFill>
        <p:spPr>
          <a:xfrm>
            <a:off x="3564000" y="4005360"/>
            <a:ext cx="2160360" cy="18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http://im0-tub-ru.yandex.net/i?id=181940000-20-72&amp;n=21"/>
          <p:cNvPicPr/>
          <p:nvPr/>
        </p:nvPicPr>
        <p:blipFill>
          <a:blip r:embed="rId11"/>
          <a:stretch/>
        </p:blipFill>
        <p:spPr>
          <a:xfrm rot="20154600">
            <a:off x="6327720" y="4281120"/>
            <a:ext cx="2057400" cy="1635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3"/>
          <a:stretch/>
        </p:blipFill>
        <p:spPr>
          <a:xfrm>
            <a:off x="12600" y="165240"/>
            <a:ext cx="9045720" cy="14317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250920" y="-51228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1.На лист бумаги нанос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заранее придуманный рисун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который вырезается по конт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J:\DCIM\101MSDCF\DSC00201.JPG"/>
          <p:cNvPicPr/>
          <p:nvPr/>
        </p:nvPicPr>
        <p:blipFill>
          <a:blip r:embed="rId4"/>
          <a:stretch/>
        </p:blipFill>
        <p:spPr>
          <a:xfrm>
            <a:off x="2124000" y="2276640"/>
            <a:ext cx="479916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Солнце 9"/>
          <p:cNvSpPr/>
          <p:nvPr/>
        </p:nvSpPr>
        <p:spPr>
          <a:xfrm>
            <a:off x="468360" y="765000"/>
            <a:ext cx="1562040" cy="1778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есяц 10"/>
          <p:cNvSpPr/>
          <p:nvPr/>
        </p:nvSpPr>
        <p:spPr>
          <a:xfrm>
            <a:off x="7380360" y="549360"/>
            <a:ext cx="115236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ердце 11"/>
          <p:cNvSpPr/>
          <p:nvPr/>
        </p:nvSpPr>
        <p:spPr>
          <a:xfrm rot="20339400">
            <a:off x="468000" y="3933360"/>
            <a:ext cx="1366920" cy="1727280"/>
          </a:xfrm>
          <a:custGeom>
            <a:avLst/>
            <a:gdLst>
              <a:gd name="textAreaLeft" fmla="*/ 227520 w 1366920"/>
              <a:gd name="textAreaRight" fmla="*/ 1139400 w 1366920"/>
              <a:gd name="textAreaTop" fmla="*/ 431640 h 1727280"/>
              <a:gd name="textAreaBottom" fmla="*/ 1151640 h 1727280"/>
            </a:gdLst>
            <a:ahLst/>
            <a:rect l="textAreaLeft" t="textAreaTop" r="textAreaRight" b="textAreaBottom"/>
            <a:pathLst>
              <a:path w="1366837" h="1727200">
                <a:moveTo>
                  <a:pt x="683419" y="431800"/>
                </a:moveTo>
                <a:cubicBezTo>
                  <a:pt x="968176" y="-575733"/>
                  <a:pt x="2078731" y="431800"/>
                  <a:pt x="683419" y="1727200"/>
                </a:cubicBezTo>
                <a:cubicBezTo>
                  <a:pt x="-711894" y="431800"/>
                  <a:pt x="398661" y="-575733"/>
                  <a:pt x="683419" y="431800"/>
                </a:cubicBezTo>
                <a:close/>
              </a:path>
            </a:pathLst>
          </a:custGeom>
          <a:solidFill>
            <a:srgbClr val="ec20b2"/>
          </a:solidFill>
          <a:ln w="255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-конечная звезда 12"/>
          <p:cNvSpPr/>
          <p:nvPr/>
        </p:nvSpPr>
        <p:spPr>
          <a:xfrm rot="760200">
            <a:off x="7181640" y="3790800"/>
            <a:ext cx="1511280" cy="1635120"/>
          </a:xfrm>
          <a:custGeom>
            <a:avLst/>
            <a:gdLst>
              <a:gd name="textAreaLeft" fmla="*/ 466920 w 1511280"/>
              <a:gd name="textAreaRight" fmla="*/ 1044360 w 1511280"/>
              <a:gd name="textAreaTop" fmla="*/ 624600 h 1635120"/>
              <a:gd name="textAreaBottom" fmla="*/ 1249200 h 1635120"/>
            </a:gdLst>
            <a:ahLst/>
            <a:rect l="textAreaLeft" t="textAreaTop" r="textAreaRight" b="textAreaBottom"/>
            <a:pathLst>
              <a:path w="1511300" h="1635125">
                <a:moveTo>
                  <a:pt x="2" y="624560"/>
                </a:moveTo>
                <a:lnTo>
                  <a:pt x="577268" y="624565"/>
                </a:lnTo>
                <a:lnTo>
                  <a:pt x="755650" y="0"/>
                </a:lnTo>
                <a:lnTo>
                  <a:pt x="934032" y="624565"/>
                </a:lnTo>
                <a:lnTo>
                  <a:pt x="1511298" y="624560"/>
                </a:lnTo>
                <a:lnTo>
                  <a:pt x="1044278" y="1010558"/>
                </a:lnTo>
                <a:lnTo>
                  <a:pt x="1222668" y="1635120"/>
                </a:lnTo>
                <a:lnTo>
                  <a:pt x="755650" y="1249116"/>
                </a:lnTo>
                <a:lnTo>
                  <a:pt x="288632" y="1635120"/>
                </a:lnTo>
                <a:lnTo>
                  <a:pt x="467022" y="101055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08000" y="115920"/>
            <a:ext cx="8856720" cy="6480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72" name="Прямоугольник 2"/>
          <p:cNvSpPr/>
          <p:nvPr/>
        </p:nvSpPr>
        <p:spPr>
          <a:xfrm>
            <a:off x="250920" y="3068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3.Нарезаем и складываем вдоль  полоски цветной бума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J:\DCIM\101MSDCF\DSC00202.JPG"/>
          <p:cNvPicPr/>
          <p:nvPr/>
        </p:nvPicPr>
        <p:blipFill>
          <a:blip r:embed="rId3"/>
          <a:stretch/>
        </p:blipFill>
        <p:spPr>
          <a:xfrm>
            <a:off x="5292720" y="3933720"/>
            <a:ext cx="340848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 rot="18273600">
            <a:off x="362160" y="4744440"/>
            <a:ext cx="2054160" cy="8240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 rot="2454000">
            <a:off x="3739680" y="4068360"/>
            <a:ext cx="360360" cy="221148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Выгнутая вверх стрелка 8"/>
          <p:cNvSpPr/>
          <p:nvPr/>
        </p:nvSpPr>
        <p:spPr>
          <a:xfrm rot="1671600">
            <a:off x="1812960" y="3936600"/>
            <a:ext cx="728640" cy="393840"/>
          </a:xfrm>
          <a:custGeom>
            <a:avLst/>
            <a:gdLst>
              <a:gd name="textAreaLeft" fmla="*/ 145080 w 728640"/>
              <a:gd name="textAreaRight" fmla="*/ 534240 w 728640"/>
              <a:gd name="textAreaTop" fmla="*/ 52560 h 393840"/>
              <a:gd name="textAreaBottom" fmla="*/ 341280 h 393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12" hR="21600" stAng="10800000" swAng="5400000"/>
                <a:lnTo>
                  <a:pt x="11529" y="0"/>
                </a:lnTo>
                <a:arcTo wR="8612" hR="21600" stAng="-5400000" swAng="3424384"/>
                <a:lnTo>
                  <a:pt x="21327" y="16200"/>
                </a:lnTo>
                <a:lnTo>
                  <a:pt x="18683" y="21600"/>
                </a:lnTo>
                <a:lnTo>
                  <a:pt x="15492" y="16200"/>
                </a:lnTo>
                <a:lnTo>
                  <a:pt x="16951" y="16200"/>
                </a:lnTo>
                <a:arcTo wR="8612" hR="21600" stAng="-1975616" swAng="-3189222"/>
                <a:lnTo>
                  <a:pt x="10071" y="312"/>
                </a:lnTo>
                <a:arcTo wR="8612" hR="21600" stAng="-5635162" swAng="-5164838"/>
                <a:close/>
              </a:path>
              <a:path fill="darkenLess" w="21600" h="21600">
                <a:moveTo>
                  <a:pt x="0" y="21600"/>
                </a:moveTo>
                <a:arcTo wR="8612" hR="21600" stAng="10800000" swAng="5400000"/>
                <a:lnTo>
                  <a:pt x="8612" y="0"/>
                </a:lnTo>
                <a:arcTo wR="8612" hR="21600" stAng="-5400000" swAng="235162"/>
                <a:lnTo>
                  <a:pt x="10071" y="312"/>
                </a:lnTo>
                <a:arcTo wR="8612" hR="21600" stAng="-5635162" swAng="-5164838"/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право 9"/>
          <p:cNvSpPr/>
          <p:nvPr/>
        </p:nvSpPr>
        <p:spPr>
          <a:xfrm>
            <a:off x="2050920" y="508464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2340000" y="40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2.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Выбираем необходимый шабл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8" descr="http://blog.hobbyworld.kz/wp-content/uploads/iris_folding5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1197000"/>
            <a:ext cx="3600720" cy="19429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395280" y="476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4. Наносим клей на края цветных пол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J:\DCIM\101MSDCF\DSC00206.JPG"/>
          <p:cNvPicPr/>
          <p:nvPr/>
        </p:nvPicPr>
        <p:blipFill>
          <a:blip r:embed="rId3"/>
          <a:stretch/>
        </p:blipFill>
        <p:spPr>
          <a:xfrm>
            <a:off x="2124000" y="1413000"/>
            <a:ext cx="4799160" cy="36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324000" y="26028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5. 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Полоски прикле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с обратной стороны бумаги в последовательности указанной в шаблоне(по часовой стрелке). Полоски должны приклеиваться с наслоением(внахлест)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 каждая последующая полоска накрывает часть предыду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  <a:ea typeface="Times New Roman"/>
              </a:rPr>
              <a:t>Не забывайте сверять последовательность ваших действий с шаблоном. 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Сгиб бумаги смотрит в це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J:\DCIM\101MSDCF\DSC00211.JPG"/>
          <p:cNvPicPr/>
          <p:nvPr/>
        </p:nvPicPr>
        <p:blipFill>
          <a:blip r:embed="rId3"/>
          <a:stretch/>
        </p:blipFill>
        <p:spPr>
          <a:xfrm>
            <a:off x="4788000" y="2421000"/>
            <a:ext cx="3840120" cy="3672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http://blog.hobbyworld.kz/wp-content/uploads/iris_folding5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3645000"/>
            <a:ext cx="3166920" cy="2662200"/>
          </a:xfrm>
          <a:prstGeom prst="rect">
            <a:avLst/>
          </a:prstGeom>
          <a:ln w="0">
            <a:noFill/>
          </a:ln>
        </p:spPr>
      </p:pic>
      <p:sp>
        <p:nvSpPr>
          <p:cNvPr id="87" name="Равнобедренный треугольник 7"/>
          <p:cNvSpPr/>
          <p:nvPr/>
        </p:nvSpPr>
        <p:spPr>
          <a:xfrm>
            <a:off x="3132000" y="5805360"/>
            <a:ext cx="287640" cy="287640"/>
          </a:xfrm>
          <a:prstGeom prst="triangle">
            <a:avLst>
              <a:gd name="adj" fmla="val 50000"/>
            </a:avLst>
          </a:prstGeom>
          <a:solidFill>
            <a:srgbClr val="00682f"/>
          </a:solidFill>
          <a:ln w="25560">
            <a:solidFill>
              <a:srgbClr val="006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Равнобедренный треугольник 8"/>
          <p:cNvSpPr/>
          <p:nvPr/>
        </p:nvSpPr>
        <p:spPr>
          <a:xfrm>
            <a:off x="1116000" y="5805360"/>
            <a:ext cx="360360" cy="287640"/>
          </a:xfrm>
          <a:prstGeom prst="triangle">
            <a:avLst>
              <a:gd name="adj" fmla="val 50000"/>
            </a:avLst>
          </a:prstGeom>
          <a:solidFill>
            <a:srgbClr val="69d994"/>
          </a:solidFill>
          <a:ln w="25560">
            <a:solidFill>
              <a:srgbClr val="69d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9"/>
          <p:cNvSpPr/>
          <p:nvPr/>
        </p:nvSpPr>
        <p:spPr>
          <a:xfrm>
            <a:off x="539640" y="4653000"/>
            <a:ext cx="936720" cy="720720"/>
          </a:xfrm>
          <a:prstGeom prst="triangle">
            <a:avLst>
              <a:gd name="adj" fmla="val 50000"/>
            </a:avLst>
          </a:prstGeom>
          <a:solidFill>
            <a:srgbClr val="69d994"/>
          </a:solidFill>
          <a:ln w="25560">
            <a:solidFill>
              <a:srgbClr val="69d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0"/>
          <p:cNvSpPr/>
          <p:nvPr/>
        </p:nvSpPr>
        <p:spPr>
          <a:xfrm>
            <a:off x="1835280" y="2781360"/>
            <a:ext cx="865080" cy="792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Равнобедренный треугольник 11"/>
          <p:cNvSpPr/>
          <p:nvPr/>
        </p:nvSpPr>
        <p:spPr>
          <a:xfrm>
            <a:off x="2124000" y="378936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Равнобедренный треугольник 12"/>
          <p:cNvSpPr/>
          <p:nvPr/>
        </p:nvSpPr>
        <p:spPr>
          <a:xfrm>
            <a:off x="3564000" y="5373720"/>
            <a:ext cx="1008000" cy="719280"/>
          </a:xfrm>
          <a:prstGeom prst="triangle">
            <a:avLst>
              <a:gd name="adj" fmla="val 50000"/>
            </a:avLst>
          </a:prstGeom>
          <a:solidFill>
            <a:srgbClr val="00682f"/>
          </a:solidFill>
          <a:ln w="25560">
            <a:solidFill>
              <a:srgbClr val="006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3"/>
          <p:cNvSpPr/>
          <p:nvPr/>
        </p:nvSpPr>
        <p:spPr>
          <a:xfrm>
            <a:off x="826920" y="2492280"/>
            <a:ext cx="289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2124000" y="2924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J:\DCIM\101MSDCF\DSC00213.JPG"/>
          <p:cNvPicPr/>
          <p:nvPr/>
        </p:nvPicPr>
        <p:blipFill>
          <a:blip r:embed="rId3"/>
          <a:stretch/>
        </p:blipFill>
        <p:spPr>
          <a:xfrm>
            <a:off x="468360" y="26028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J:\DCIM\101MSDCF\DSC00214.JPG"/>
          <p:cNvPicPr/>
          <p:nvPr/>
        </p:nvPicPr>
        <p:blipFill>
          <a:blip r:embed="rId4"/>
          <a:stretch/>
        </p:blipFill>
        <p:spPr>
          <a:xfrm>
            <a:off x="4716360" y="26028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J:\DCIM\101MSDCF\DSC00215.JPG"/>
          <p:cNvPicPr/>
          <p:nvPr/>
        </p:nvPicPr>
        <p:blipFill>
          <a:blip r:embed="rId5"/>
          <a:stretch/>
        </p:blipFill>
        <p:spPr>
          <a:xfrm>
            <a:off x="2771640" y="342900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J:\DCIM\101MSDCF\DSC00230.JPG"/>
          <p:cNvPicPr/>
          <p:nvPr/>
        </p:nvPicPr>
        <p:blipFill>
          <a:blip r:embed="rId3"/>
          <a:stretch/>
        </p:blipFill>
        <p:spPr>
          <a:xfrm>
            <a:off x="395280" y="26028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J:\DCIM\101MSDCF\DSC00231.JPG"/>
          <p:cNvPicPr/>
          <p:nvPr/>
        </p:nvPicPr>
        <p:blipFill>
          <a:blip r:embed="rId4"/>
          <a:stretch/>
        </p:blipFill>
        <p:spPr>
          <a:xfrm>
            <a:off x="4716360" y="26028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:\DCIM\101MSDCF\DSC00232.JPG"/>
          <p:cNvPicPr/>
          <p:nvPr/>
        </p:nvPicPr>
        <p:blipFill>
          <a:blip r:embed="rId5"/>
          <a:stretch/>
        </p:blipFill>
        <p:spPr>
          <a:xfrm>
            <a:off x="468360" y="3429000"/>
            <a:ext cx="383868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:\DCIM\101MSDCF\DSC00233.JPG"/>
          <p:cNvPicPr/>
          <p:nvPr/>
        </p:nvPicPr>
        <p:blipFill>
          <a:blip r:embed="rId6"/>
          <a:stretch/>
        </p:blipFill>
        <p:spPr>
          <a:xfrm>
            <a:off x="4716360" y="3429000"/>
            <a:ext cx="3838680" cy="287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Documents and Settings\User\Мои документы\Мои рисунки\Рисунок6.jpg"/>
          <p:cNvPicPr/>
          <p:nvPr/>
        </p:nvPicPr>
        <p:blipFill>
          <a:blip r:embed="rId1"/>
          <a:stretch/>
        </p:blipFill>
        <p:spPr>
          <a:xfrm>
            <a:off x="179280" y="115920"/>
            <a:ext cx="8656920" cy="649296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5" descr=""/>
          <p:cNvPicPr/>
          <p:nvPr/>
        </p:nvPicPr>
        <p:blipFill>
          <a:blip r:embed="rId2"/>
          <a:stretch/>
        </p:blipFill>
        <p:spPr>
          <a:xfrm>
            <a:off x="1500120" y="182520"/>
            <a:ext cx="6143760" cy="16826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6" descr=""/>
          <p:cNvPicPr/>
          <p:nvPr/>
        </p:nvPicPr>
        <p:blipFill>
          <a:blip r:embed="rId3"/>
          <a:stretch/>
        </p:blipFill>
        <p:spPr>
          <a:xfrm>
            <a:off x="317520" y="1189080"/>
            <a:ext cx="822312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7" descr=""/>
          <p:cNvPicPr/>
          <p:nvPr/>
        </p:nvPicPr>
        <p:blipFill>
          <a:blip r:embed="rId4"/>
          <a:stretch/>
        </p:blipFill>
        <p:spPr>
          <a:xfrm>
            <a:off x="225360" y="4919760"/>
            <a:ext cx="8540640" cy="1652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2:48:59Z</dcterms:created>
  <dc:creator>User</dc:creator>
  <dc:description/>
  <dc:language>en-US</dc:language>
  <cp:lastModifiedBy>User</cp:lastModifiedBy>
  <dcterms:modified xsi:type="dcterms:W3CDTF">2013-03-29T16:27:39Z</dcterms:modified>
  <cp:revision>46</cp:revision>
  <dc:subject/>
  <dc:title>Слайд 1</dc:title>
</cp:coreProperties>
</file>