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13E-DEAE-4AB0-A5D7-6BACA6EA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ED8-7366-463A-89D2-33F1A633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FF3-6E16-485D-8535-478CAC07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4AD-18C9-4F48-9FFA-A4E5AE4A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855-D241-4DDD-9078-E3C58C9D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4FE-7F49-4D64-BBC2-7D562909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E0A-C95B-4B66-A96F-84039634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FA8-D352-422C-AFD3-CA2EA272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74E-D072-4CB9-BCFD-A489557C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552-BB29-4CD1-83E4-014D3E4F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8B4-EEE0-45A6-9566-161CD1A5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C79-6DDE-4385-B1E5-CD8BDCA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B687-F569-466E-BDC6-0C152C035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:\Копия загруженное (1).jpg"/>
          <p:cNvPicPr/>
          <p:nvPr/>
        </p:nvPicPr>
        <p:blipFill>
          <a:blip r:embed="rId1"/>
          <a:stretch/>
        </p:blipFill>
        <p:spPr>
          <a:xfrm>
            <a:off x="0" y="12600"/>
            <a:ext cx="1981080" cy="148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160" y="2438280"/>
            <a:ext cx="5181480" cy="28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сновы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чебно-исследовательской  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5334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: Красильни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о. Тольятти, 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щиты итогового индивидуального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роект, выполняемый обучающимся в рамках одного или нескольких учебных предметов с целью продемонстрировать свои достижения в самостоятельном освоении содержания и методов избранных областей знаний и/или видов деятельности и способность проектировать и осуществлять целесообразную и результативную деятельность (учебно-познавательную, конструкторскую, социальную, художественно-творческую, ину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сами выбирают как тему проекта, так и руководителя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зультат (продукт)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ая рабо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творческая рабо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й объект, макет, иное конструкторское издел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ётные материалы по социальному проекту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тоги проектной и учебно-исследов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80880"/>
            <a:ext cx="8382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метные результа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ллектуальное, личностное развитие школьн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ст их компетентности в выбранной для исследования или проекта сфе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умения сотрудничать в коллективе и самостоятельно рабо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яснение сущности творческой исследовательской и проектной работы, которая рассматривается как показатель успешности (неуспешности) исследовательской деятельност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ыпускник научится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планировать и выполнять учебное исследование 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учебный проект, используя оборудование, модели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методы и приёмы, адекватные исследуемой проблем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бирать и использовать методы, релевантные рассматриваемой проблем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распознавать и ставить вопросы, ответы на которые могут быть получены путём научного исследования, отбирать адекватные методы исследования, формулировать вытекающие из исследования выводы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использовать такие математические методы: абстракция и идеализация, доказательство, доказательство от противного, доказательство по аналогии, опровержени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использовать такие естественно-научные методы и приёмы, как наблюдение, постановка проблемы, эксперимент, моделирование, использование математических моделей, теоретическое обоснование, установление границ применимости модели/теор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1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спользовать некоторые методы получения знаний, характерные для социальных и исторических наук: постановка проблемы, опросы, описание, сравнительное историческое описание, объяснение, использование статистических данных, интерпретация факт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ясно, логично и точно излагать свою точку зрения, использовать языковые средства, адекватные обсуждаемой проблем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тличать факты от суждений, мнений и оценок, критически относиться к суждениям, мнениям, оценкам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еконструировать их основа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видеть и комментировать связь научного знания и ценностных установок, моральных суждений пр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лучении, распространении и применении научного знан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ыпускник научится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ыпускник получит возможность научить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о задумывать, планировать и выполнять учебное исследование, учебный и социальный про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ть догадку, озарение, интуи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ть такие математические методы и приёмы, как перебор логических возможностей, математ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дел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ть такие естественно-научные методы и приёмы, как абстраг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 привходящих факторов, проверка на совместимость с другими извест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а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спользовать некоторые методы получения знаний, характерные для социальных и исторических наук: анкетирование, моделирование, поиск исторических образц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спользовать некоторые приемы художественного познание мира: целостное отображение мира, образность, художественные вымысел, органическое единство общего, особенного (типичного) и единичного, оригинальность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целенаправленно и осознанно развивать свои коммуникативные способности, осваиват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новые языковые средств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сознавать свою ответственность з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достоверность полученных знаний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за качество выполненного проек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ыпускник получит возможность научить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ышения мотивации и эффективности учебной деятельности в основ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особенности учебно-исследовательской и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ятельность должна быть направлена и на создание продукта, имеющего значимость для друг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бно-исследовательская и проектная деятельность должна быть организована таким образом, чтобы обучающиеся смогли строить различного рода отношения в ходе целенаправленной, поисковой, творческой и продуктивной деятельности, овладевать нормами взаимоотношений с разными людьми, умениями переходить от одного вида общения к другому, приобретать навыки индивидуальной самостоятельной работы и сотрудничества в коллекти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ация учебно-исследовательских и проектных работ школьников обеспечивает сочетание различных видов познавательной деятельности. В этих видах деятельности могут быть востребованы практически любые способности подростков, реализованы личные пристрастия к тому или иному виду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загруженное (3)"/>
          <p:cNvPicPr/>
          <p:nvPr/>
        </p:nvPicPr>
        <p:blipFill>
          <a:blip r:embed="rId1"/>
          <a:stretch/>
        </p:blipFill>
        <p:spPr>
          <a:xfrm>
            <a:off x="6705720" y="3124080"/>
            <a:ext cx="2438280" cy="1825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обенности построения учебно-исследовательск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5105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ма исследования должна быть на самом деле интересна для ученика и совпадать с кругом интереса уч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, чтобы обучающийся хорошо осознавал суть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ация хода работы над раскрытием проблемы исследования должна строиться на взаимоответственности учителя и ученика друг перед другом и взаимопом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крытие проблемы в первую очередь должно приносить что-то новое ученику, а уже потом нау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ие характеристик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о-исследовательской и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значимые цели и задачи учебно-исследовательской и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а проектной и учебно-исследовательской деятельности, которая включает общие компоненты: анализ актуальности проводимого исследования; целеполагание, формулировку задач, которые следует решить; выбор средств и методов, адекватных поставленным целям; планирование, определение последовательности и сроков работ; проведение проектных работ или исследования; оформление и представление результатов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тентность в выбранной сфере исследования, творческую активность, собранность, аккуратность, целеустремлённость, высокую мотив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ецифические черты (различия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ектной и учебно-исследов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600200"/>
          <a:ext cx="8686800" cy="5167440"/>
        </p:xfrm>
        <a:graphic>
          <a:graphicData uri="http://schemas.openxmlformats.org/drawingml/2006/table">
            <a:tbl>
              <a:tblPr/>
              <a:tblGrid>
                <a:gridCol w="4305240"/>
                <a:gridCol w="438156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я 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исследовательск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правлен на получение конкретного запланированного результата – продукта, обладающего определёнными свойствами и необходимого для конкретного использования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исследования организуется поиск в какой-то области, формулируются отдельные характеристики итогов работ. Отрицательный результат есть тоже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а проекта должен быть точно соотнесён со всеми характеристиками, сформулированными в его замыс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 модельную проверку выдвинутых предположе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влечение обучающихся в проектную деятельность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:\1337170943_dsc00130.jpg"/>
          <p:cNvPicPr/>
          <p:nvPr/>
        </p:nvPicPr>
        <p:blipFill>
          <a:blip r:embed="rId1"/>
          <a:stretch/>
        </p:blipFill>
        <p:spPr>
          <a:xfrm>
            <a:off x="4876920" y="993600"/>
            <a:ext cx="4267080" cy="568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26744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ект — это форма организации совместной деятельности учителя и обучающихся, совокупность приёмов и действий в их определённой последовательности, направленной на достижение поставленной цели — решение конкретной проблемы, значимой для обучающихся и оформленной в виде некоего конечного проду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ектная деятельность способствует развитию адекватной самооценки, формированию позитивной Я-концепции (опыт интересной работы и публичной демонстрации её результатов), развитию информационной компетен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 правильной организации именно групповые формы учебной деятельности помогают формированию у обучающихся уважительного отношения к мнению одноклассников, воспитывают в них терпимость, открытость, тактичность, готовность прийти на помощь и другие ценные личностные кач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существление учебно-исследовательской деятельно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Для успешного осуществления 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учебно-исследовательской деятельности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 обучающиеся должны овладеть следующими действи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тановка проблемы и аргументирование её актуа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улировка гипотезы исследования и раскрытие замысла — сущности будуще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нирование исследовательских работ и выбор необходимого инструментар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ведение исследования с обязательным поэтапным контролем и коррекцией результатов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формление результатов учебно-исследовательской деятельности как конечного проду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 широкому кругу заинтересованных лиц для обсуждения и возможного дальнейшего практического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ы организации учебно-исследовательской деятельност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</a:rPr>
              <a:t>Формы организации учебно-исследовательской деятельности на урочных занят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ок-исследование, урок-лаборатория, урок — творческий отчёт, урок изобретательства, урок «Удивительное рядом», урок — рассказ об учёных, урок — защита исследовательских проектов, урок-экспертиза, урок «Патент на открыти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бный эксперимент, который позво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овать освоение таки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,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нирование и проведение эксперимен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работка и анализ его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машнее задание исследователь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арактера может сочетать в с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нообразные виды, причём позволяет провести учебное исследование, достаточно протяжённое в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Формы организации учебно-исследовательской деятельности на внеурочных занят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следовательская практика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разовательные экспедиции — походы, экскурсии с чётко обозначенными образовательными целями, программой деятельности, продуманными формами 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культативные занятия, предполагающие углублённое изучение предмета, дают возможности для реализации на них учебно-исследовательск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ническое научно-исследовательское общество — форма внеурочной деятельности, которая сочетает в себе работу над учебными исследованиями, коллективное обсуждение результатов этой работы, организацию дискуссий, дебатов, интеллектуальных игр, публичных защит, конференц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астие обучающихся в олимпиадах, конкурсах, конференциях, в том числе дистанционных, предметных неделях, интеллектуальных марафонах предполагает выполнение ими учебных исследований или их элементов в рамках данны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ы организации учебно-исследовательской деятельност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3-03-29T13:06:1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