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2AD-1781-488E-8DEF-99D891F6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C0C-C36E-47B5-88E3-602C5A3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BEE-C5D4-4B27-BCC4-A018B079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50F-7D21-4C9B-BC53-1AA526F2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22C-F05B-431F-8E80-2BC19FF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DF1-9A9D-4B57-BC02-8A76847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0C1-42B0-4010-BDA4-D420AF81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103-ACA5-4472-99E0-D62FC8A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D22-0568-49E2-A971-825BB189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272-380D-4544-99E6-B4651DD6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AA3-E926-4787-8730-DE6AE94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E37-BA68-4EA3-AA16-62F3045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05E2-D2F2-465E-87B4-D09E2560B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2"/>
          <p:cNvPicPr/>
          <p:nvPr/>
        </p:nvPicPr>
        <p:blipFill>
          <a:blip r:embed="rId1"/>
          <a:stretch/>
        </p:blipFill>
        <p:spPr>
          <a:xfrm>
            <a:off x="212760" y="1139760"/>
            <a:ext cx="5396040" cy="5291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30960"/>
            <a:ext cx="914400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ская средняя школа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Мастериц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и способностей и да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– на кончиках их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Сухомлин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ина Зоя Валенти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о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2"/>
          <p:cNvPicPr/>
          <p:nvPr/>
        </p:nvPicPr>
        <p:blipFill>
          <a:blip r:embed="rId1"/>
          <a:stretch/>
        </p:blipFill>
        <p:spPr>
          <a:xfrm>
            <a:off x="426960" y="0"/>
            <a:ext cx="5711760" cy="452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5840" y="10717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 поднимает личность со ступени потребителя духовных и материальных ценностей до степени их созд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Чувак\Desktop\вязание Куклина\SAM_0005.JPG"/>
          <p:cNvPicPr/>
          <p:nvPr/>
        </p:nvPicPr>
        <p:blipFill>
          <a:blip r:embed="rId2"/>
          <a:stretch/>
        </p:blipFill>
        <p:spPr>
          <a:xfrm>
            <a:off x="214200" y="3071880"/>
            <a:ext cx="505008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Чувак\Desktop\вязание Куклина\SAM_0013.JPG"/>
          <p:cNvPicPr/>
          <p:nvPr/>
        </p:nvPicPr>
        <p:blipFill>
          <a:blip r:embed="rId3"/>
          <a:stretch/>
        </p:blipFill>
        <p:spPr>
          <a:xfrm>
            <a:off x="5465880" y="214200"/>
            <a:ext cx="3481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5145120" cy="407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400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 – прикладное творчество является традиционн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любой стране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428840" y="1500120"/>
            <a:ext cx="38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 – прикладное творчество вносит свою лепту в духовное развитие человека – через созидательную, эстетически значимую  твор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4" descr="зайка"/>
          <p:cNvPicPr/>
          <p:nvPr/>
        </p:nvPicPr>
        <p:blipFill>
          <a:blip r:embed="rId2"/>
          <a:stretch/>
        </p:blipFill>
        <p:spPr>
          <a:xfrm>
            <a:off x="6215040" y="500040"/>
            <a:ext cx="264312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3643200" y="3143160"/>
            <a:ext cx="257652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357120" y="3143160"/>
            <a:ext cx="31431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/>
          <a:stretch/>
        </p:blipFill>
        <p:spPr>
          <a:xfrm>
            <a:off x="4998960" y="0"/>
            <a:ext cx="414504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358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ие является одним из традиционных видов прикладного творчества. Это древний и в то же время современный вид рукоделия. Разнообразие вязанных вещей огромно: от мелких сувениров и игрушек до изделий, которые можно носить в любую погоду и в любое время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Users\Чувак\Desktop\вязание Куклина\SAM_0012.JPG"/>
          <p:cNvPicPr/>
          <p:nvPr/>
        </p:nvPicPr>
        <p:blipFill>
          <a:blip r:embed="rId2"/>
          <a:stretch/>
        </p:blipFill>
        <p:spPr>
          <a:xfrm>
            <a:off x="4572000" y="321480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Чувак\Desktop\вязание Куклина\SAM_0010.JPG"/>
          <p:cNvPicPr/>
          <p:nvPr/>
        </p:nvPicPr>
        <p:blipFill>
          <a:blip r:embed="rId3"/>
          <a:stretch/>
        </p:blipFill>
        <p:spPr>
          <a:xfrm>
            <a:off x="214200" y="185724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2"/>
          <p:cNvPicPr/>
          <p:nvPr/>
        </p:nvPicPr>
        <p:blipFill>
          <a:blip r:embed="rId1"/>
          <a:stretch/>
        </p:blipFill>
        <p:spPr>
          <a:xfrm>
            <a:off x="1646280" y="914400"/>
            <a:ext cx="74977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00280" y="0"/>
            <a:ext cx="53294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, как талантливый актёр, может выступать в разных ролях. Ею прежде всего играют, она служит забавой. Недаром у нас на Руси в древности называли её «потех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3143160" y="1571760"/>
            <a:ext cx="2754360" cy="245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245916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5357880" y="4071960"/>
            <a:ext cx="335736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5"/>
          <a:stretch/>
        </p:blipFill>
        <p:spPr>
          <a:xfrm>
            <a:off x="1071720" y="4143240"/>
            <a:ext cx="3357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исунок2"/>
          <p:cNvPicPr/>
          <p:nvPr/>
        </p:nvPicPr>
        <p:blipFill>
          <a:blip r:embed="rId1"/>
          <a:stretch/>
        </p:blipFill>
        <p:spPr>
          <a:xfrm>
            <a:off x="0" y="2840040"/>
            <a:ext cx="5072040" cy="401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C:\Users\Чувак\Desktop\вязание Куклина\SAM_0014.JPG"/>
          <p:cNvPicPr/>
          <p:nvPr/>
        </p:nvPicPr>
        <p:blipFill>
          <a:blip r:embed="rId2"/>
          <a:stretch/>
        </p:blipFill>
        <p:spPr>
          <a:xfrm>
            <a:off x="3786120" y="285840"/>
            <a:ext cx="506088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Чувак\Desktop\вязание Куклина\SAM_0007.JPG"/>
          <p:cNvPicPr/>
          <p:nvPr/>
        </p:nvPicPr>
        <p:blipFill>
          <a:blip r:embed="rId3"/>
          <a:stretch/>
        </p:blipFill>
        <p:spPr>
          <a:xfrm>
            <a:off x="357120" y="214200"/>
            <a:ext cx="292248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3857400"/>
            <a:ext cx="43718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тьё изделий женской и детской одежды собственными силами всегда было и видимо ещё длительное время будет оставаться из распространенных и любимых  занятий как для взрослых женщин так и для девушек 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Рисунок2"/>
          <p:cNvPicPr/>
          <p:nvPr/>
        </p:nvPicPr>
        <p:blipFill>
          <a:blip r:embed="rId1"/>
          <a:stretch/>
        </p:blipFill>
        <p:spPr>
          <a:xfrm>
            <a:off x="2298600" y="1000080"/>
            <a:ext cx="612612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14880" y="714240"/>
            <a:ext cx="4929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условиях очень важно подготовить подрастающее поколение к самостоятельной жизни, связанной в дальнейшем с трудовой деятельностью, наполненной творчеством, инициативой, самодеятельностью, созданием надёжного и эффективного механизма ускорения социально – экономического развития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C:\Users\Чувак\Desktop\вязание Куклина\SAM_0009.JPG"/>
          <p:cNvPicPr/>
          <p:nvPr/>
        </p:nvPicPr>
        <p:blipFill>
          <a:blip r:embed="rId2"/>
          <a:stretch/>
        </p:blipFill>
        <p:spPr>
          <a:xfrm>
            <a:off x="4143240" y="3286080"/>
            <a:ext cx="476892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DCIM\100PHOTO\SAM_0001.JPG"/>
          <p:cNvPicPr/>
          <p:nvPr/>
        </p:nvPicPr>
        <p:blipFill>
          <a:blip r:embed="rId3"/>
          <a:stretch/>
        </p:blipFill>
        <p:spPr>
          <a:xfrm>
            <a:off x="285840" y="285840"/>
            <a:ext cx="3805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6:09:39Z</dcterms:created>
  <dc:creator>Чувак</dc:creator>
  <dc:description/>
  <dc:language>en-US</dc:language>
  <cp:lastModifiedBy>Admin</cp:lastModifiedBy>
  <dcterms:modified xsi:type="dcterms:W3CDTF">2013-03-29T03:00:54Z</dcterms:modified>
  <cp:revision>3</cp:revision>
  <dc:subject/>
  <dc:title>Слайд 1</dc:title>
</cp:coreProperties>
</file>