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204-860B-4C9A-BFC7-0A4BD261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F98-B10C-48BE-A69D-86EED8E6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1AC-9393-4E38-B26C-7DAC9CCA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5AA-F64B-476A-B08C-CBB6D5DA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1E39-E401-4D1D-951E-7801E645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0933-D828-426B-B0BE-1EA081C4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CD6F-C536-498B-AABE-1DD7EEB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7DB3-D2BD-4965-AFDE-A8FCD8A7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1F43-D9BF-456C-9F58-BC500A0E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7DE6-97D4-49D3-8ACD-F26EE0EB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36A4-D51A-4A95-819B-31C8C25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E67-71F1-4182-B281-4FB1B936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1258-ACC2-4A5E-9214-D8960598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E3CC-95B5-4836-9A4E-198070DE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4845-728B-458E-B345-B88084E6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EB75-BE68-49E7-A3C0-85016966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1421-9D86-472C-9ED7-DDABADA0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B55-5CE1-410B-919F-4EFEC6DC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51D-C667-4175-8F8C-BF840D61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358-AD43-42FF-8ADF-53C73DB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182-2C5A-402C-816C-4F840E13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44B-7B40-46F5-BD17-9102AF6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859-8F7B-490B-8956-910F9174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F35-C5E3-4045-8975-5CC4E7E7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B1A-EE04-495D-9D17-3965687D2F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6093-7216-4642-930E-AF5EE81F93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Презентация по элективному курсу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«Экологическое природопользование »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08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лов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012 го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-102996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32000" y="764640"/>
            <a:ext cx="3887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са – восстановимые природные ресурсы. Их рациональное использование основано на экологических законах сохранения, восстановления и изменения растительных сообществ. Лес используется в различных отраслях народного хозяйства, он служит источником химических веществ, получаемых при переработке древесины, коры, хвои. Лес поставляет сырье для получения свыше 20 тыс. изделий и продуктов. Почти половина производимой в мире древесины расходуется на топливо, а треть идет на производство строительных материалов. Дефицит древесины остро ощущается во всех промышленно развитых странах. В последнее время большое значение уделяется санитарно-гигиенической, бальнеологической и рекреационной роли лес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1" descr="680046"/>
          <p:cNvPicPr/>
          <p:nvPr/>
        </p:nvPicPr>
        <p:blipFill>
          <a:blip r:embed="rId1"/>
          <a:stretch/>
        </p:blipFill>
        <p:spPr>
          <a:xfrm>
            <a:off x="179280" y="1052640"/>
            <a:ext cx="47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собо охраняемые природные территории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Diagram 25"/>
          <p:cNvGrpSpPr/>
          <p:nvPr/>
        </p:nvGrpSpPr>
        <p:grpSpPr>
          <a:xfrm>
            <a:off x="1169640" y="1411920"/>
            <a:ext cx="6660360" cy="4744080"/>
            <a:chOff x="1169640" y="1411920"/>
            <a:chExt cx="6660360" cy="4744080"/>
          </a:xfrm>
        </p:grpSpPr>
        <p:sp>
          <p:nvSpPr>
            <p:cNvPr id="146" name="_s1028"/>
            <p:cNvSpPr/>
            <p:nvPr/>
          </p:nvSpPr>
          <p:spPr>
            <a:xfrm flipH="1" flipV="1">
              <a:off x="3323160" y="2946240"/>
              <a:ext cx="5893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29"/>
            <p:cNvSpPr/>
            <p:nvPr/>
          </p:nvSpPr>
          <p:spPr>
            <a:xfrm>
              <a:off x="1901160" y="193248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здоровитель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мест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курорты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030"/>
            <p:cNvSpPr/>
            <p:nvPr/>
          </p:nvSpPr>
          <p:spPr>
            <a:xfrm flipH="1">
              <a:off x="2835720" y="3784320"/>
              <a:ext cx="83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31"/>
            <p:cNvSpPr/>
            <p:nvPr/>
          </p:nvSpPr>
          <p:spPr>
            <a:xfrm>
              <a:off x="1169640" y="3190680"/>
              <a:ext cx="1666440" cy="118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отаническ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са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032"/>
            <p:cNvSpPr/>
            <p:nvPr/>
          </p:nvSpPr>
          <p:spPr>
            <a:xfrm flipH="1">
              <a:off x="3323160" y="4202280"/>
              <a:ext cx="5893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1033"/>
            <p:cNvSpPr/>
            <p:nvPr/>
          </p:nvSpPr>
          <p:spPr>
            <a:xfrm>
              <a:off x="1901160" y="4448520"/>
              <a:ext cx="1665720" cy="118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ендрологическ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ар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4500000" y="4375800"/>
              <a:ext cx="0" cy="59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35"/>
            <p:cNvSpPr/>
            <p:nvPr/>
          </p:nvSpPr>
          <p:spPr>
            <a:xfrm>
              <a:off x="3666960" y="496908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амятни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ро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6"/>
            <p:cNvSpPr/>
            <p:nvPr/>
          </p:nvSpPr>
          <p:spPr>
            <a:xfrm>
              <a:off x="5086800" y="4202280"/>
              <a:ext cx="5893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7"/>
            <p:cNvSpPr/>
            <p:nvPr/>
          </p:nvSpPr>
          <p:spPr>
            <a:xfrm>
              <a:off x="5432760" y="4448520"/>
              <a:ext cx="1665720" cy="118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Государстве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род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заказни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38"/>
            <p:cNvSpPr/>
            <p:nvPr/>
          </p:nvSpPr>
          <p:spPr>
            <a:xfrm>
              <a:off x="5330520" y="3784320"/>
              <a:ext cx="83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1039"/>
            <p:cNvSpPr/>
            <p:nvPr/>
          </p:nvSpPr>
          <p:spPr>
            <a:xfrm>
              <a:off x="6163560" y="3190680"/>
              <a:ext cx="1666440" cy="118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род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ар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40"/>
            <p:cNvSpPr/>
            <p:nvPr/>
          </p:nvSpPr>
          <p:spPr>
            <a:xfrm flipV="1">
              <a:off x="5086800" y="2946240"/>
              <a:ext cx="5893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1041"/>
            <p:cNvSpPr/>
            <p:nvPr/>
          </p:nvSpPr>
          <p:spPr>
            <a:xfrm>
              <a:off x="5432760" y="193248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ациона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ар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1042"/>
            <p:cNvSpPr/>
            <p:nvPr/>
          </p:nvSpPr>
          <p:spPr>
            <a:xfrm flipV="1">
              <a:off x="4500000" y="2599200"/>
              <a:ext cx="0" cy="59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1043"/>
            <p:cNvSpPr/>
            <p:nvPr/>
          </p:nvSpPr>
          <p:spPr>
            <a:xfrm>
              <a:off x="3666960" y="141192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государствен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род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заповедни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1044"/>
            <p:cNvSpPr/>
            <p:nvPr/>
          </p:nvSpPr>
          <p:spPr>
            <a:xfrm>
              <a:off x="3666960" y="319248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ff"/>
                  </a:solidFill>
                  <a:latin typeface="Arial"/>
                </a:rPr>
                <a:t>ООП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tab2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4" descr="tab2_1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общества и виды хвойных лесов охраняются в ООПТ "Алексин Бор" (№ 1), "Сосновый бор на р. Восьма" (№ 54), "Музей-заповедник В. Д. Поленова" (№ 17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ексин Бор в конце XIX-начале XX вв. был уникальным природным уголком, местом произрастания редчайших для области растений: толокнянки, башмачка крапчатого, плаунов булавовидного и годичного, линнеи северной. Еще совсем недавно в нем собирали бруснику и чернику. Сейчас, в результате использования его в качестве места отдыха, большинство редких видов растений исчезли. В самых потаенных местах еще можно встретить такие охраняемые растения, как волчье лыко, плаун булавовидный, любка двулистная, ветреница лесная. Сосновый бор на р. Восьма - единственное в области место, где обнаружено редкое растение хвойных лесов - одноцветка крупноцветковая; нередки здесь охраняемые виды растений - плаун годичный, любка двулист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а памятника природы - зеленые зоны турбазы и Дома отдыха "Велегож" (№ 18, 19) - содержат участки приокских широколиственных и смешанных лесов, обогащенных редкими лесостепными видами: черноголовкой крупноцветковой, льном желтым, бубенчиком лилиелистным, живокостью клиновидной и др.; на их территории находится часть самой крупной в области популяции венерина башмач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общества и виды широколиственных лесов широко представлены в ОПТ "Крапивенский заказник" и "Прудковский участок лунника оживающего". Крапивенский заказник (№ 45) и Прудковский участок Лунника оживающего (№ 33) - наиболее сохранившиеся участки тульских засечных лесов. Особенно ценен Крапивенский заказник. Он расположен на правобережье Упы, на территории бывшего заповедника "Тульские засеки", где разнообразие форм рельефа обусловливает и разнообразие растительных группировок, и богатство флоры и фауны. Из редких лесных видов растений на территории заказника отмечены многорядник Брауна, самая крупная в области популяция ветреницы дубравной. В переходных болотах на карстовых провалах встречаются подбел болотный, клюква, а по их краям - плаун годичны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8 ООПТ (№ № 8, 9, 10, 12, 13, 14, 16, 22, 23, 25, 26, 27, 28, 29, 30, 34, 37, 53) представляют разнообразные лесостепные сообщества - остепненные дубравы и степные участки преимущественно в восточной части области, за исключением Захарьинского лесостепного комплекса (№ 53), расположенного в северной ее половине на р. Беспуте. Все они связаны с крутыми склонами оврагов, балками и речными долинами, выходами известняка. Большинство из них имеют незначительную площадь (5-35 га) (большие площади имеют только лесные урочища - до 663 га). Расположены эти ООПТ изолированно друг от друга среди антропогенных ландшафтов. В таких условиях экосистемы становятся неустойчивыми и деградируют тем быстрее, чем меньше их площад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ЗАКОН ТУЛЬСКОЙ ОБЛАСТИ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О ЛЕСАХ ТУЛЬСКОЙ ОБЛАСТИ</a:t>
            </a:r>
            <a:br>
              <a:rPr sz="2400"/>
            </a:b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Принят Тульской областной Думой  22 ноября 2007 года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азрушение природы оборачивается для общества не только экономическим уроном, но и нравственным ущербом... 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В. И. Вернадский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теря лес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ra23a3"/>
          <p:cNvPicPr/>
          <p:nvPr/>
        </p:nvPicPr>
        <p:blipFill>
          <a:blip r:embed="rId1"/>
          <a:stretch/>
        </p:blipFill>
        <p:spPr>
          <a:xfrm>
            <a:off x="0" y="1557360"/>
            <a:ext cx="84596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Лес – важнейший    растительный ресурс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ыполни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еницы 9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Чиркова 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наньева 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елоглазова 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орьба с лесными пожарами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3280" y="14130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сные пожары, как отмечалось выше, наносят огромный ущерб лесным ресурсам. Помимо гибели большого количества древесины, лесных животных и полезных растений, пожары вызывают ущерб и тем, что возобновляющиеся после них леса приобретают иной характер и являются обычно менее ценными. Чаще всего горят хвойные леса, имеющие наибольшую ценность. Увеличение числа лесных пожаров связано с освоением ранее безлюдных таежных пространств Урала, Сибири и Дальнего Востока, а так же с резким ростом числа людей, выезжающих в лес для отдыха, на охоту, за грибами, ягодами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7" descr="0_16b94_8d4f2d8f_XL[1]"/>
          <p:cNvPicPr/>
          <p:nvPr/>
        </p:nvPicPr>
        <p:blipFill>
          <a:blip r:embed="rId1"/>
          <a:stretch/>
        </p:blipFill>
        <p:spPr>
          <a:xfrm>
            <a:off x="179280" y="1773360"/>
            <a:ext cx="4316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-1965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88000" y="907920"/>
            <a:ext cx="403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рьбе с лесными пожарами в нашей стране придается важное государственное значение. Разработана целая система мер, которые подразделяются на три группы: предупредительные, дозорная сторожевая служба и борьба с огнем. Особенное значение имеют предупредительные меры. К ним относятся противопожарная техническая пропаганда среди населения, чистка лесосек и борьба с захламленностью леса, противопожарное устройство лесов. Дозорная сторожевая служба имеет задачу своевременного обнаружения очагов пожара. Эта служба слагается из регулярных обходов леса, наблюдения за последними с противопожарных вышек, авиапатрулировани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7" descr="pal1[1]"/>
          <p:cNvPicPr/>
          <p:nvPr/>
        </p:nvPicPr>
        <p:blipFill>
          <a:blip r:embed="rId1"/>
          <a:stretch/>
        </p:blipFill>
        <p:spPr>
          <a:xfrm>
            <a:off x="179280" y="836640"/>
            <a:ext cx="4464000" cy="468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356705"/>
          <p:cNvPicPr/>
          <p:nvPr/>
        </p:nvPicPr>
        <p:blipFill>
          <a:blip r:embed="rId2"/>
          <a:stretch/>
        </p:blipFill>
        <p:spPr>
          <a:xfrm>
            <a:off x="7885080" y="522936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Защита лесов от химических загрязнений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32360" y="1844280"/>
            <a:ext cx="396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оследние годы приобретает большую остроту очень важная проблема защиты лесов и всей дикой растительности от разных химических веществ, попадающих в сферу жизни растений в результате деятельности человека. Загрязнение среды этими веществами, сопровождающееся повреждениями и гибелью растений, стало явлением настолько распространенным, что вызывает законную тревогу. Работа по охране лесов и иной растительности от химических и радиоактивных загрязнений проводится пока в недостаточных масштабах и главным образом в отношении зеленых зон крупных промышленных цент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9" descr="680034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0208"/>
                </a:solidFill>
                <a:latin typeface="Times New Roman"/>
              </a:rPr>
              <a:t>Вы хотите видеть такие леса?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3" descr="истребление лесов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4710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7885080" y="623736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Берегите эти земли, эти воды,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Даже малую былиночку любя.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Берегите всех зверей внутри природы,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Убивайте лишь зверей внутри себ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Е. Евтушенк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Шуми, шу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еленый лес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наком мне шу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вой величав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 твой пок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 блеск небе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д голо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воей кудряв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С. Никит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i?id=74719912&amp;tov=8"/>
          <p:cNvPicPr/>
          <p:nvPr/>
        </p:nvPicPr>
        <p:blipFill>
          <a:blip r:embed="rId1"/>
          <a:stretch/>
        </p:blipFill>
        <p:spPr>
          <a:xfrm>
            <a:off x="539640" y="1557360"/>
            <a:ext cx="41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с – это территория земли, занятая деревьями, кустарниками и животными, живущими в нем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о значение леса в приро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защитник воздуха. “Лёгкие нашей планеты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источник ягод, грибов, лекарственных раст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место отдыха дл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источник древеси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дом для животных, растений, гриб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са - основной тип растительности России, они занимают 45% ее территории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5" descr="ra23a1"/>
          <p:cNvPicPr/>
          <p:nvPr/>
        </p:nvPicPr>
        <p:blipFill>
          <a:blip r:embed="rId1"/>
          <a:stretch/>
        </p:blipFill>
        <p:spPr>
          <a:xfrm>
            <a:off x="395280" y="1557360"/>
            <a:ext cx="80899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ссия обладает самыми большими в мире запасами леса. На 1993 г. площадь лесной части лесного фонда составляла 886.5 млн.га, а общий запас древесины - 80.7 млрд. м3, что составляет соответственно 21.7 и 25.9% мировых запасов. Превышение второй цифры над первой говорит о том, что Россия располагает более зрелыми и более продуктивными лесами, чем остальная планета в цел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пас древесин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4" descr="ra23a2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ТУЛЬСКАЯ ОБЛАСТЬ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щая площадь земель лесного фонда области - 375 тыс. га, в том числе лесных земель - 359 тыс. га, из них покрытых лесной растительностью - 354 тыс га. Лесистость - 13,8%; общий запас древесины на корню - 65 млн. м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обладающие породы: дуб высокоствольный и низкоствольный (39% площади земель, покрытых лесной растительностью), берёза (23), осина (15), липа (9), сосна (5), ель (7%). Остальные породы занимают значительно меньшую площадь. В целом преобладают древостои мелколиственных пород - 4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растная структура лесов неравномерная. Преобладают средневозрастные древостои - 47%, спелые и перестойные занимают 19% площади. Большая часть территория области относится к зоне лиственных лесов, юго-восточная - к лесостепной зоне (Богородицкий, Венёвский, Ефремовский, Кимовский, Плавский районы). Лесистость в зоне лиственных лесов составляет 20-30%, в лесостепной зоне снижается до 2-7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Лес- важнейший растительный ресурс планеты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24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с - богатство природы, значение которого трудно переоценить. Помимо огромного и разнообразного экономического значения, лес выступает как крайне важный географический фактор, оказывающий большое влияние на другие типы ландшафтов и на биосферу в целом. Исключительно высока экологическая роль леса. Он является одним из важнейших регуляторов круговорота влаги на Земле, предотвращает водную и ветровую эрозию. Лесной покров взаимосвязан с климатом: он уменьшает силу ветра, смягчает высокие и низкие температуры, аккумулирует влагу. Не менее важна водоохранная роль леса. Он способствует переводу атмосферных осадков в почву и грунтовые воды, регулируя тем самым гидрологический режим рек. 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0" descr="52-1-f[1]"/>
          <p:cNvPicPr/>
          <p:nvPr/>
        </p:nvPicPr>
        <p:blipFill>
          <a:blip r:embed="rId1"/>
          <a:stretch/>
        </p:blipFill>
        <p:spPr>
          <a:xfrm>
            <a:off x="179280" y="1628640"/>
            <a:ext cx="4327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4:28:00Z</dcterms:created>
  <dc:creator>МОУСОШ 31</dc:creator>
  <dc:description>МОУ СОШ № 31
г. Новочеркасска
Учитель биологии Баштанник Наталья Евгеньевна
скачано с сайта www.school31novochek.narod.ru</dc:description>
  <dc:language>en-US</dc:language>
  <cp:lastModifiedBy>user</cp:lastModifiedBy>
  <dcterms:modified xsi:type="dcterms:W3CDTF">2007-02-07T22:04:14Z</dcterms:modified>
  <cp:revision>14</cp:revision>
  <dc:subject/>
  <dc:title>Состояние и охрана растительности</dc:title>
</cp:coreProperties>
</file>