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12.gif" ContentType="image/gif"/>
  <Override PartName="/ppt/media/image10.gif" ContentType="image/gif"/>
  <Override PartName="/ppt/media/image9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16.jpeg" ContentType="image/jpeg"/>
  <Override PartName="/ppt/media/image15.gif" ContentType="image/gif"/>
  <Override PartName="/ppt/media/image17.png" ContentType="image/png"/>
  <Override PartName="/ppt/media/image14.gif" ContentType="image/gif"/>
  <Override PartName="/ppt/media/image1.png" ContentType="image/png"/>
  <Override PartName="/ppt/media/image19.gif" ContentType="image/gif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B18-266B-4EB9-932C-DCE22F02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F5F-D7CE-4E0B-A658-C6EF7370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AA8-FE50-434F-A58E-03CAE5A2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872-B162-4EE4-826D-CA4A8C7D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ADA4-3F24-4079-873C-0698687D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DACC-BB39-41ED-8BFF-B6593C4D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2803-E09D-49D1-9B16-4E3496F6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8F84-343A-42A7-AB2F-F3CF3AA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FF37-4359-4AF9-A35F-89421E5C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0B7C-3587-45DE-8CE8-41EE7FF6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01A8-AFB9-46BC-BB5D-035D5CB0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517-3785-40B8-9D22-1195D683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0E2E-61F5-4372-B22A-1DD5F9A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B6B6-6953-4B3F-9A38-E5D03DE8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94DA-E54B-4D21-82CC-C51F9D3D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D3C-45A2-41D3-BBE2-80E31584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F6AD-F42D-4D03-A229-E6C7DB47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BDDB-201B-4B05-B5B7-EA2F9235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DFBA-EBF8-4360-BF7A-5A103C7E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9D6E-6EDB-403A-984E-9BD5714C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36D9-CDAB-4042-A548-F0EEF80E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E261-C556-4642-AADF-79574F38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C51-1E18-4D5B-A758-583D705E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875F-C1EA-4AFF-ACD3-74DCBEA9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8871-EE3D-41EA-9EF6-8C7A4E58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26D1-77B7-4893-9597-BC7CC96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8769-7DF0-408E-8FA6-5C65CDDD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0CFF-5633-4E56-9395-6735474A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3015-077A-41A1-9A3A-E206CF07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52116-A65E-4320-B6AF-4D045D1D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8EB8-5064-48EF-8968-5E33C283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56B74-B36E-4CFD-A53C-5A80750A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1EF7-4C6E-4D4E-BC0D-06BF5297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D36-7EF5-4A3E-96C6-A7A1D9E9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11E17-2D02-48FC-915B-6BC0206A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3FCD2-2DE6-4251-8171-C4F964C1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D5B37-2806-4C84-9EC8-9543ED84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54F1E-5B83-40FD-BCFF-0B2CC8DC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7BA4F-26A8-46CE-9117-FA1DAC6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BA473-45F9-4C3D-8887-851BF723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012F-6D23-42AC-B4D1-3D6D6AD3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38234-B79C-445F-80A9-9265C0B8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353D-582C-4268-B75A-CDB704D5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B75-FB72-4951-BC3D-7680E9C6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D56-F099-4650-895D-398A831C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D30-B2B7-45C2-BCA3-651EF7A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0A6-D385-403E-86C1-E750941B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B6B-3369-4142-96D3-4E2DC7E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68CB-1A1E-4C66-A44A-332AB155E0CB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1A09-4DD9-486A-B4B2-63A4DEF51E4F}" type="slidenum"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A40B-2134-49D6-A7A3-480FB96B3A84}" type="slidenum"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0CA4-514C-47CD-A164-4C4A17861CD3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2060"/>
                </a:solidFill>
                <a:latin typeface="Calibri"/>
              </a:rPr>
              <a:t>Wunderland von Diddl</a:t>
            </a:r>
            <a:endParaRPr b="0" lang="en-US" sz="6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55520" y="-96696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155520" y="-96696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55520" y="-96696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155520" y="-966960"/>
            <a:ext cx="224784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http://t2.gstatic.com/images?q=tbn:ANd9GcSBlFRoukYnnRerh5WRPl-Nz6KW3sNSJbRbNu2OE_pUlUxfYG7SBg"/>
          <p:cNvPicPr/>
          <p:nvPr/>
        </p:nvPicPr>
        <p:blipFill>
          <a:blip r:embed="rId1"/>
          <a:stretch/>
        </p:blipFill>
        <p:spPr>
          <a:xfrm>
            <a:off x="685800" y="2362320"/>
            <a:ext cx="4113360" cy="3933720"/>
          </a:xfrm>
          <a:prstGeom prst="rect">
            <a:avLst/>
          </a:prstGeom>
          <a:ln w="0">
            <a:noFill/>
          </a:ln>
        </p:spPr>
      </p:pic>
      <p:sp>
        <p:nvSpPr>
          <p:cNvPr id="210" name="Овальная выноска 10"/>
          <p:cNvSpPr/>
          <p:nvPr/>
        </p:nvSpPr>
        <p:spPr>
          <a:xfrm>
            <a:off x="4800600" y="1752480"/>
            <a:ext cx="4114800" cy="1981440"/>
          </a:xfrm>
          <a:prstGeom prst="wedgeEllipseCallout">
            <a:avLst>
              <a:gd name="adj1" fmla="val -52972"/>
              <a:gd name="adj2" fmla="val 7599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ffff"/>
                </a:solidFill>
                <a:latin typeface="Constantia"/>
              </a:rPr>
              <a:t>Hallo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838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.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s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du heute Zeit?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b. Er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Hunger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c. Wir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n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ein Buch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d.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Sabine ha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auch ein Buch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e. Das Kind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Durst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f. Ihr _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t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__viel Arbeit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g. Jörg und Jutta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n 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auch viel Arbeit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h. Herr Klein,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n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Sie Feuer?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i. Die Schüler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n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eine Lehrerin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j. Ich </a:t>
            </a:r>
            <a:r>
              <a:rPr b="1" lang="de-DE" sz="2600" spc="-1" strike="noStrike">
                <a:solidFill>
                  <a:srgbClr val="ff0000"/>
                </a:solidFill>
                <a:latin typeface="Constantia"/>
              </a:rPr>
              <a:t>habe</a:t>
            </a: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 eine Uh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Diddl : 4"/>
          <p:cNvPicPr/>
          <p:nvPr/>
        </p:nvPicPr>
        <p:blipFill>
          <a:blip r:embed="rId1"/>
          <a:stretch/>
        </p:blipFill>
        <p:spPr>
          <a:xfrm>
            <a:off x="5867280" y="990720"/>
            <a:ext cx="2600280" cy="4101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t0.gstatic.com/images?q=tbn:ANd9GcTwFr2kFH6TtNCqE7J7cSeL9UPgHGeYANZS6LhVHkK2obDmTt-B7g"/>
          <p:cNvPicPr/>
          <p:nvPr/>
        </p:nvPicPr>
        <p:blipFill>
          <a:blip r:embed="rId1"/>
          <a:stretch/>
        </p:blipFill>
        <p:spPr>
          <a:xfrm>
            <a:off x="609480" y="1600200"/>
            <a:ext cx="5791320" cy="4826160"/>
          </a:xfrm>
          <a:prstGeom prst="rect">
            <a:avLst/>
          </a:prstGeom>
          <a:ln w="0">
            <a:noFill/>
          </a:ln>
        </p:spPr>
      </p:pic>
      <p:sp>
        <p:nvSpPr>
          <p:cNvPr id="245" name="Овальная выноска 6"/>
          <p:cNvSpPr/>
          <p:nvPr/>
        </p:nvSpPr>
        <p:spPr>
          <a:xfrm>
            <a:off x="5410080" y="380880"/>
            <a:ext cx="3200400" cy="1447920"/>
          </a:xfrm>
          <a:prstGeom prst="wedgeEllipseCallout">
            <a:avLst>
              <a:gd name="adj1" fmla="val -75717"/>
              <a:gd name="adj2" fmla="val 13634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Danke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814920" cy="3797280"/>
          </a:xfrm>
          <a:prstGeom prst="rect">
            <a:avLst/>
          </a:prstGeom>
          <a:ln w="0">
            <a:noFill/>
          </a:ln>
        </p:spPr>
      </p:pic>
      <p:sp>
        <p:nvSpPr>
          <p:cNvPr id="247" name="Выноска-облако 4"/>
          <p:cNvSpPr/>
          <p:nvPr/>
        </p:nvSpPr>
        <p:spPr>
          <a:xfrm>
            <a:off x="4419720" y="380880"/>
            <a:ext cx="4343400" cy="2514600"/>
          </a:xfrm>
          <a:prstGeom prst="cloudCallout">
            <a:avLst>
              <a:gd name="adj1" fmla="val -51277"/>
              <a:gd name="adj2" fmla="val 120680"/>
            </a:avLst>
          </a:prstGeom>
          <a:solidFill>
            <a:srgbClr val="777c84"/>
          </a:solidFill>
          <a:ln w="25560">
            <a:solidFill>
              <a:srgbClr val="5659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Artikeln zeigen  dir den Weg zurüc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1. Ich verstehe _____ Text nicht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2. Er liest _____ Buch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3. Sie geht in _____ Schule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4. Wir kochen _____ Suppe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5. Ihr esst _____ Apfel und _____ Banane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6. Ich fahre nach Deutschland in _____ Sommer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7. Ich fahre mit _____ Bus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8. Ich gehe _____ Strasse entlang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4" descr="Diddl : 4"/>
          <p:cNvPicPr/>
          <p:nvPr/>
        </p:nvPicPr>
        <p:blipFill>
          <a:blip r:embed="rId1"/>
          <a:stretch/>
        </p:blipFill>
        <p:spPr>
          <a:xfrm>
            <a:off x="6019920" y="0"/>
            <a:ext cx="2787480" cy="3962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9. Das Buch steht auf _____ Regal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0. Ich gehe durch _____ Wald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1. Ihr rufet _____ Freundin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2. Wir schreiben _____ Satz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3. Ich trinke _____ Kaffee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4. Ich packe _____ Koffer.</a:t>
            </a:r>
            <a:br>
              <a:rPr sz="2600"/>
            </a:b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Constantia"/>
              </a:rPr>
              <a:t>15. Das ist _____ Hu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2" descr="Diddl : 1"/>
          <p:cNvPicPr/>
          <p:nvPr/>
        </p:nvPicPr>
        <p:blipFill>
          <a:blip r:embed="rId1"/>
          <a:stretch/>
        </p:blipFill>
        <p:spPr>
          <a:xfrm>
            <a:off x="4491000" y="1523880"/>
            <a:ext cx="4348080" cy="508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4" descr="9572250_7374640_mouse000.gif"/>
          <p:cNvPicPr/>
          <p:nvPr/>
        </p:nvPicPr>
        <p:blipFill>
          <a:blip r:embed="rId1"/>
          <a:stretch/>
        </p:blipFill>
        <p:spPr>
          <a:xfrm>
            <a:off x="609480" y="669960"/>
            <a:ext cx="5105520" cy="6188040"/>
          </a:xfrm>
          <a:prstGeom prst="rect">
            <a:avLst/>
          </a:prstGeom>
          <a:ln w="0">
            <a:noFill/>
          </a:ln>
        </p:spPr>
      </p:pic>
      <p:grpSp>
        <p:nvGrpSpPr>
          <p:cNvPr id="253" name="Выноска-облако 5"/>
          <p:cNvGrpSpPr/>
          <p:nvPr/>
        </p:nvGrpSpPr>
        <p:grpSpPr>
          <a:xfrm>
            <a:off x="4194000" y="201600"/>
            <a:ext cx="4035600" cy="2870280"/>
            <a:chOff x="4194000" y="201600"/>
            <a:chExt cx="4035600" cy="2870280"/>
          </a:xfrm>
        </p:grpSpPr>
        <p:pic>
          <p:nvPicPr>
            <p:cNvPr id="254" name="Выноска-облако 5" descr=""/>
            <p:cNvPicPr/>
            <p:nvPr/>
          </p:nvPicPr>
          <p:blipFill>
            <a:blip r:embed="rId2"/>
            <a:stretch/>
          </p:blipFill>
          <p:spPr>
            <a:xfrm>
              <a:off x="4194000" y="201600"/>
              <a:ext cx="4035600" cy="28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869000" y="573120"/>
              <a:ext cx="248904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Constantia"/>
                </a:rPr>
                <a:t>Liebe ist da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2060"/>
                </a:solidFill>
                <a:latin typeface="Constantia"/>
              </a:rPr>
              <a:t>ALLES IST VERMISCH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Овальная выноска 3"/>
          <p:cNvSpPr/>
          <p:nvPr/>
        </p:nvSpPr>
        <p:spPr>
          <a:xfrm>
            <a:off x="5486400" y="1676520"/>
            <a:ext cx="3657600" cy="1523880"/>
          </a:xfrm>
          <a:prstGeom prst="wedgeEllipseCallout">
            <a:avLst>
              <a:gd name="adj1" fmla="val -33138"/>
              <a:gd name="adj2" fmla="val 83731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Constantia"/>
              </a:rPr>
              <a:t>Wo ist Didlin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322800" cy="3484800"/>
          </a:xfrm>
          <a:prstGeom prst="rect">
            <a:avLst/>
          </a:prstGeom>
          <a:ln w="0">
            <a:noFill/>
          </a:ln>
        </p:spPr>
      </p:pic>
      <p:sp>
        <p:nvSpPr>
          <p:cNvPr id="214" name="Выноска-облако 5"/>
          <p:cNvSpPr/>
          <p:nvPr/>
        </p:nvSpPr>
        <p:spPr>
          <a:xfrm>
            <a:off x="0" y="1143000"/>
            <a:ext cx="3352680" cy="1828800"/>
          </a:xfrm>
          <a:prstGeom prst="cloudCallout">
            <a:avLst>
              <a:gd name="adj1" fmla="val 53013"/>
              <a:gd name="adj2" fmla="val 123421"/>
            </a:avLst>
          </a:prstGeom>
          <a:solidFill>
            <a:srgbClr val="b32c16"/>
          </a:solidFill>
          <a:ln w="25560">
            <a:solidFill>
              <a:srgbClr val="831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1817640" cy="1595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7620120" y="2971800"/>
            <a:ext cx="1144440" cy="857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0" spc="-1" strike="noStrike">
                <a:solidFill>
                  <a:srgbClr val="002060"/>
                </a:solidFill>
                <a:latin typeface="Calibri"/>
              </a:rPr>
              <a:t>Wir müssen Didlina helfen!!!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4495680" cy="3497040"/>
          </a:xfrm>
          <a:prstGeom prst="rect">
            <a:avLst/>
          </a:prstGeom>
          <a:ln w="0">
            <a:noFill/>
          </a:ln>
        </p:spPr>
      </p:pic>
      <p:sp>
        <p:nvSpPr>
          <p:cNvPr id="219" name="Овальная выноска 4"/>
          <p:cNvSpPr/>
          <p:nvPr/>
        </p:nvSpPr>
        <p:spPr>
          <a:xfrm>
            <a:off x="3581280" y="1600200"/>
            <a:ext cx="4953240" cy="1828800"/>
          </a:xfrm>
          <a:prstGeom prst="wedgeEllipseCallout">
            <a:avLst>
              <a:gd name="adj1" fmla="val -36314"/>
              <a:gd name="adj2" fmla="val 10762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onstantia"/>
              </a:rPr>
              <a:t>Mach alles richtig und sie wird frei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Wie heißt das richtige Form: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. Alex ________ (machen) die Hausaufgab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2. Ich ________ (haben) Hunger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3. Er ________ (wohnen) in Deutschland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4. Wir ________ (sein) heute in der Schul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5. Sie(1) ________ (nehmen) den Apfel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6. Ihr _________ (lernen) Deutsch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7. Du _________ (gehen) in die Schul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0. Ihr ____________ (antworten) auf die Frag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1. Sie _____________ (arbeiten) oft zusammen.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155520" y="-1081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155520" y="-1081080"/>
            <a:ext cx="201924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. Alex </a:t>
            </a:r>
            <a:r>
              <a:rPr b="0" lang="de-DE" sz="2400" spc="-1" strike="noStrike">
                <a:solidFill>
                  <a:srgbClr val="002060"/>
                </a:solidFill>
                <a:latin typeface="Constantia"/>
              </a:rPr>
              <a:t>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macht______ 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(machen) die Hausaufgab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2. Ich 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habe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_ (haben) Hunger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3. Er _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wohnt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wohnen) in Deutschland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4. Wir 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sind_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sein) heute in der Schul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5. Sie(1) 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____nimmt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nehmen) den Apfel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6. Ihr _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lernt_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lernen) Deutsch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7. Du __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gehst_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____ (gehen) in die Schul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0. Ihr _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antwortet_______ 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(antworten) auf die Frage.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11. Sie _</a:t>
            </a:r>
            <a:r>
              <a:rPr b="1" lang="de-DE" sz="2400" spc="-1" strike="noStrike">
                <a:solidFill>
                  <a:srgbClr val="ff0000"/>
                </a:solidFill>
                <a:latin typeface="Constantia"/>
              </a:rPr>
              <a:t>arbeiten_______ </a:t>
            </a: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(arbeiten) oft zusammen.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Diddl : 5"/>
          <p:cNvPicPr/>
          <p:nvPr/>
        </p:nvPicPr>
        <p:blipFill>
          <a:blip r:embed="rId1"/>
          <a:stretch/>
        </p:blipFill>
        <p:spPr>
          <a:xfrm>
            <a:off x="6858000" y="2666880"/>
            <a:ext cx="1905120" cy="1629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http://t0.gstatic.com/images?q=tbn:ANd9GcSdHNRniHjR8UwJ-7AFwhoUab-6M1iNQ-lAU_R3BGTNjE6yCYFaAVvxxShQ"/>
          <p:cNvPicPr/>
          <p:nvPr/>
        </p:nvPicPr>
        <p:blipFill>
          <a:blip r:embed="rId1"/>
          <a:stretch/>
        </p:blipFill>
        <p:spPr>
          <a:xfrm>
            <a:off x="1752480" y="1371600"/>
            <a:ext cx="6148440" cy="4605480"/>
          </a:xfrm>
          <a:prstGeom prst="rect">
            <a:avLst/>
          </a:prstGeom>
          <a:ln w="0">
            <a:noFill/>
          </a:ln>
        </p:spPr>
      </p:pic>
      <p:sp>
        <p:nvSpPr>
          <p:cNvPr id="230" name="Овальная выноска 3"/>
          <p:cNvSpPr/>
          <p:nvPr/>
        </p:nvSpPr>
        <p:spPr>
          <a:xfrm>
            <a:off x="4267080" y="304920"/>
            <a:ext cx="3505320" cy="1600200"/>
          </a:xfrm>
          <a:prstGeom prst="wedgeEllipseCallout">
            <a:avLst>
              <a:gd name="adj1" fmla="val -50129"/>
              <a:gd name="adj2" fmla="val 6953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nstantia"/>
              </a:rPr>
              <a:t>Aber wo ist das Verb „sein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6840" y="60912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. Du _______________________ ein M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. Petra ____________________ eine Frau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c. Das Kind ___________________ klei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. Ihr _____________________groß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. Die Schüler _____________________ fleißi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f. Frau Meier, __________ Sie aus Bonn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. Das ____________der Schül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. Wir ___________ oft zusa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i. Ulla und Klaus _______auch hi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j. Die Übung _________richti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Diddl : 1"/>
          <p:cNvPicPr/>
          <p:nvPr/>
        </p:nvPicPr>
        <p:blipFill>
          <a:blip r:embed="rId1"/>
          <a:stretch/>
        </p:blipFill>
        <p:spPr>
          <a:xfrm>
            <a:off x="5451480" y="3657600"/>
            <a:ext cx="3692520" cy="3048120"/>
          </a:xfrm>
          <a:prstGeom prst="rect">
            <a:avLst/>
          </a:prstGeom>
          <a:ln w="0">
            <a:noFill/>
          </a:ln>
        </p:spPr>
      </p:pic>
      <p:sp>
        <p:nvSpPr>
          <p:cNvPr id="233" name="Выноска-облако 3"/>
          <p:cNvSpPr/>
          <p:nvPr/>
        </p:nvSpPr>
        <p:spPr>
          <a:xfrm>
            <a:off x="1295280" y="4876920"/>
            <a:ext cx="4114800" cy="1447560"/>
          </a:xfrm>
          <a:prstGeom prst="cloudCallout">
            <a:avLst>
              <a:gd name="adj1" fmla="val 86175"/>
              <a:gd name="adj2" fmla="val -2494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Hallo „sein“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6840" y="838080"/>
            <a:ext cx="57913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a. Du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b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ein Man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b. Petra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eine Frau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c. Das Kind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t klei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d. Ihr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seid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groß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e. Die Schüler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sind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fleißig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f. Frau Meier,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Sie aus Bonn?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g. Das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der Schüler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h. Wir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sind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oft zusammen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i. Ulla und Klaus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sind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auch hier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j. Die Übung </a:t>
            </a:r>
            <a:r>
              <a:rPr b="1" lang="de-DE" sz="3200" spc="-1" strike="noStrike">
                <a:solidFill>
                  <a:srgbClr val="ff0000"/>
                </a:solidFill>
                <a:latin typeface="Constantia"/>
              </a:rPr>
              <a:t>ist</a:t>
            </a:r>
            <a:r>
              <a:rPr b="0" lang="de-DE" sz="2800" spc="-1" strike="noStrike">
                <a:solidFill>
                  <a:srgbClr val="000000"/>
                </a:solidFill>
                <a:latin typeface="Constantia"/>
              </a:rPr>
              <a:t> richti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155520" y="-76212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55520" y="-76212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t0.gstatic.com/images?q=tbn:ANd9GcRybMp9dOjaqjjAcwJtYKCSoyrqjGOJmFV4g9lfpbpmAoIPH_3V1A"/>
          <p:cNvPicPr/>
          <p:nvPr/>
        </p:nvPicPr>
        <p:blipFill>
          <a:blip r:embed="rId1"/>
          <a:stretch/>
        </p:blipFill>
        <p:spPr>
          <a:xfrm rot="652200">
            <a:off x="5644800" y="706320"/>
            <a:ext cx="2909880" cy="2770200"/>
          </a:xfrm>
          <a:prstGeom prst="rect">
            <a:avLst/>
          </a:prstGeom>
          <a:ln w="0">
            <a:noFill/>
          </a:ln>
        </p:spPr>
      </p:pic>
      <p:sp>
        <p:nvSpPr>
          <p:cNvPr id="238" name="Выноска-облако 5"/>
          <p:cNvSpPr/>
          <p:nvPr/>
        </p:nvSpPr>
        <p:spPr>
          <a:xfrm>
            <a:off x="6019920" y="4038480"/>
            <a:ext cx="3276360" cy="2286000"/>
          </a:xfrm>
          <a:prstGeom prst="cloudCallout">
            <a:avLst>
              <a:gd name="adj1" fmla="val -44449"/>
              <a:gd name="adj2" fmla="val -1375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Ich bin doch klug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a. _________________________________ du heute Zeit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b. Er ______________________________________ Hung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c. Wir ___________________________________ ein B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d. Sabine ___________________________ auch ein B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e. Das Kind _________________________________ Durs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f. Ihr _________________________________viel Arb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g. Jörg und Jutta ________________ auch viel Arb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h. Herr Klein, _________________________ Sie Feuer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i. Die Schüler ______________________ eine Lehreri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nstantia"/>
              </a:rPr>
              <a:t>j. Ich ____________________________________eine Uh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http://www.animaatjes.de/glitzer-bilder/d/diddl/9180025.gif"/>
          <p:cNvPicPr/>
          <p:nvPr/>
        </p:nvPicPr>
        <p:blipFill>
          <a:blip r:embed="rId1"/>
          <a:stretch/>
        </p:blipFill>
        <p:spPr>
          <a:xfrm>
            <a:off x="2819520" y="1981080"/>
            <a:ext cx="3190680" cy="4419720"/>
          </a:xfrm>
          <a:prstGeom prst="rect">
            <a:avLst/>
          </a:prstGeom>
          <a:ln w="0">
            <a:noFill/>
          </a:ln>
        </p:spPr>
      </p:pic>
      <p:sp>
        <p:nvSpPr>
          <p:cNvPr id="241" name="Выноска-облако 5"/>
          <p:cNvSpPr/>
          <p:nvPr/>
        </p:nvSpPr>
        <p:spPr>
          <a:xfrm>
            <a:off x="2362320" y="0"/>
            <a:ext cx="5181480" cy="1828800"/>
          </a:xfrm>
          <a:prstGeom prst="cloudCallout">
            <a:avLst>
              <a:gd name="adj1" fmla="val -36310"/>
              <a:gd name="adj2" fmla="val 10788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Constantia"/>
              </a:rPr>
              <a:t>Haben“ ? Das schaffe ich auch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8:57:50Z</dcterms:created>
  <dc:creator>Лилия Алексеевна</dc:creator>
  <dc:description/>
  <dc:language>en-US</dc:language>
  <cp:lastModifiedBy>Лилия Алексеевна</cp:lastModifiedBy>
  <dcterms:modified xsi:type="dcterms:W3CDTF">2013-03-29T18:51:48Z</dcterms:modified>
  <cp:revision>15</cp:revision>
  <dc:subject/>
  <dc:title>Слайд 1</dc:title>
</cp:coreProperties>
</file>