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20.gif" ContentType="image/gif"/>
  <Override PartName="/ppt/media/image12.gif" ContentType="image/gif"/>
  <Override PartName="/ppt/media/image10.gif" ContentType="image/gif"/>
  <Override PartName="/ppt/media/image9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16.jpeg" ContentType="image/jpeg"/>
  <Override PartName="/ppt/media/image15.gif" ContentType="image/gif"/>
  <Override PartName="/ppt/media/image17.png" ContentType="image/png"/>
  <Override PartName="/ppt/media/image14.gif" ContentType="image/gif"/>
  <Override PartName="/ppt/media/image1.png" ContentType="image/png"/>
  <Override PartName="/ppt/media/image19.gif" ContentType="image/gif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88F-2649-4DF1-9607-9815F8AD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9D2-009A-471F-A3EE-251C5C90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27F-3126-4A90-9D30-239F3FC4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3F3-DE6F-4F94-94DF-4FBC69BF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DB30-AE6C-4141-A244-DA6D74F4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837D-AC02-4925-BC80-7272CEA8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EA6C-8A06-4572-A0AA-8F61DD55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D36F-EFB3-42C8-9371-327D5AE4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7FE3-A4ED-4CF9-9D37-4F446993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B2B0-92E2-4CB0-B0CD-856C70FC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F0EC-9A5E-4CD5-B415-0ED63339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E2E-775C-48B8-BB72-BDA30A70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7BD0-B2BC-4FC6-B1B3-A80AEECE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0948-FD15-4671-AA19-A8D28418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C172-168F-41A6-8F98-FC7F4419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C467-E2C8-48DD-A90B-67A80317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DBD1-4797-49B8-B304-A1601BD7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05869-8AA2-40EF-8706-652B67E3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A6E03-D6DC-42BB-8250-038E8B9C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3BE16-07D8-4502-AAA5-A6E38264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7FB0A-9183-4743-A185-100F1356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480A-F0EB-429E-AAA7-79EAD1CA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786-88C1-43D7-ADF2-2A10F2DB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1BA2A-7030-462D-88FC-DEFDE6FE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94AD7-6DA1-42E9-88F6-205A362F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5C6DB-EF59-4EA0-95FC-C11188B8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9354-5013-4D86-A166-A808D54E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E8F02-F680-4C57-A9EC-FF611B0B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3FB25-72A8-4648-A41A-1C1911D4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371B-30F5-498D-AE79-4662A71A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70304-07F7-4F6D-B6BF-5C03AC64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6D4ED-9E09-4B37-8C83-CF14FF26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02B1E-FDE6-4536-9135-386E96E5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034-6E2D-4B5F-B7D7-FB907804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BE9B2-B8B5-4BEC-9ED7-A0CE005D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BE83A-A570-4C86-8913-F2606BB5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4AFA-A75D-44B7-B215-203497C6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0D5DA-8D8F-4183-8A81-CF83EB9C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5CF7D-3C28-4E2F-93DF-3AAE6A3F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68956-936E-4F01-AE50-9343D15B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9C18-E53B-46A7-A597-7A918119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1B26C-221C-48C6-9454-7FE55C5D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C220F-2013-49B7-81EB-6B03B947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669-9201-4AA9-8561-179D1257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55F-5052-4A85-95E1-988A64D2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FAA9-9A22-4120-A00F-208B9D72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9ECD-3669-4004-ACF7-3835B869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972-D9C8-479E-AA3B-E5AC3797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BE52-3DE8-4EB7-A530-EA6F99C6E286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DB34-3075-4F33-8C04-D602DD0EE191}" type="slidenum"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77CE-5EB3-4FFF-AB86-EC9B6BEB7472}" type="slidenum"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A991-4E74-49A4-9D02-AD1100FCE8D9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2060"/>
                </a:solidFill>
                <a:latin typeface="Calibri"/>
              </a:rPr>
              <a:t>Wunderland von Diddl</a:t>
            </a:r>
            <a:endParaRPr b="0" lang="en-US" sz="6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155520" y="-966960"/>
            <a:ext cx="22478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155520" y="-966960"/>
            <a:ext cx="22478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155520" y="-966960"/>
            <a:ext cx="22478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155520" y="-966960"/>
            <a:ext cx="22478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4" descr="http://t2.gstatic.com/images?q=tbn:ANd9GcSBlFRoukYnnRerh5WRPl-Nz6KW3sNSJbRbNu2OE_pUlUxfYG7SBg"/>
          <p:cNvPicPr/>
          <p:nvPr/>
        </p:nvPicPr>
        <p:blipFill>
          <a:blip r:embed="rId1"/>
          <a:stretch/>
        </p:blipFill>
        <p:spPr>
          <a:xfrm>
            <a:off x="685800" y="2362320"/>
            <a:ext cx="4113360" cy="3933720"/>
          </a:xfrm>
          <a:prstGeom prst="rect">
            <a:avLst/>
          </a:prstGeom>
          <a:ln w="0">
            <a:noFill/>
          </a:ln>
        </p:spPr>
      </p:pic>
      <p:sp>
        <p:nvSpPr>
          <p:cNvPr id="210" name="Овальная выноска 10"/>
          <p:cNvSpPr/>
          <p:nvPr/>
        </p:nvSpPr>
        <p:spPr>
          <a:xfrm>
            <a:off x="4800600" y="1752480"/>
            <a:ext cx="4114800" cy="1981440"/>
          </a:xfrm>
          <a:prstGeom prst="wedgeEllipseCallout">
            <a:avLst>
              <a:gd name="adj1" fmla="val -52972"/>
              <a:gd name="adj2" fmla="val 7599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ffff"/>
                </a:solidFill>
                <a:latin typeface="Constantia"/>
              </a:rPr>
              <a:t>Hallo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838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.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st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du heute Zeit?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b. Er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t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Hunger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c. Wir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ben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ein Buch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d.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Sabine hat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auch ein Buch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e. Das Kind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t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Durst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f. Ihr _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bt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__viel Arbeit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g. Jörg und Jutta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ben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uch viel Arbeit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h. Herr Klein,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ben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Sie Feuer?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i. Die Schüler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ben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eine Lehrerin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j. Ich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be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eine Uh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Diddl : 4"/>
          <p:cNvPicPr/>
          <p:nvPr/>
        </p:nvPicPr>
        <p:blipFill>
          <a:blip r:embed="rId1"/>
          <a:stretch/>
        </p:blipFill>
        <p:spPr>
          <a:xfrm>
            <a:off x="5867280" y="990720"/>
            <a:ext cx="2600280" cy="4101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http://t0.gstatic.com/images?q=tbn:ANd9GcTwFr2kFH6TtNCqE7J7cSeL9UPgHGeYANZS6LhVHkK2obDmTt-B7g"/>
          <p:cNvPicPr/>
          <p:nvPr/>
        </p:nvPicPr>
        <p:blipFill>
          <a:blip r:embed="rId1"/>
          <a:stretch/>
        </p:blipFill>
        <p:spPr>
          <a:xfrm>
            <a:off x="609480" y="1600200"/>
            <a:ext cx="5791320" cy="4826160"/>
          </a:xfrm>
          <a:prstGeom prst="rect">
            <a:avLst/>
          </a:prstGeom>
          <a:ln w="0">
            <a:noFill/>
          </a:ln>
        </p:spPr>
      </p:pic>
      <p:sp>
        <p:nvSpPr>
          <p:cNvPr id="245" name="Овальная выноска 6"/>
          <p:cNvSpPr/>
          <p:nvPr/>
        </p:nvSpPr>
        <p:spPr>
          <a:xfrm>
            <a:off x="5410080" y="380880"/>
            <a:ext cx="3200400" cy="1447920"/>
          </a:xfrm>
          <a:prstGeom prst="wedgeEllipseCallout">
            <a:avLst>
              <a:gd name="adj1" fmla="val -75717"/>
              <a:gd name="adj2" fmla="val 13634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Danke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3814920" cy="3797280"/>
          </a:xfrm>
          <a:prstGeom prst="rect">
            <a:avLst/>
          </a:prstGeom>
          <a:ln w="0">
            <a:noFill/>
          </a:ln>
        </p:spPr>
      </p:pic>
      <p:sp>
        <p:nvSpPr>
          <p:cNvPr id="247" name="Выноска-облако 4"/>
          <p:cNvSpPr/>
          <p:nvPr/>
        </p:nvSpPr>
        <p:spPr>
          <a:xfrm>
            <a:off x="4419720" y="380880"/>
            <a:ext cx="4343400" cy="2514600"/>
          </a:xfrm>
          <a:prstGeom prst="cloudCallout">
            <a:avLst>
              <a:gd name="adj1" fmla="val -51277"/>
              <a:gd name="adj2" fmla="val 120680"/>
            </a:avLst>
          </a:prstGeom>
          <a:solidFill>
            <a:srgbClr val="777c84"/>
          </a:solidFill>
          <a:ln w="25560">
            <a:solidFill>
              <a:srgbClr val="5659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nstantia"/>
              </a:rPr>
              <a:t>Artikeln zeigen  dir den Weg zurück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1. Ich verstehe _____ Text nicht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2. Er liest _____ Buch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3. Sie geht in _____ Schule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4. Wir kochen _____ Suppe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5. Ihr esst _____ Apfel und _____ Banane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6. Ich fahre nach Deutschland in _____ Sommer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7. Ich fahre mit _____ Bus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8. Ich gehe _____ Strasse entlang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4" descr="Diddl : 4"/>
          <p:cNvPicPr/>
          <p:nvPr/>
        </p:nvPicPr>
        <p:blipFill>
          <a:blip r:embed="rId1"/>
          <a:stretch/>
        </p:blipFill>
        <p:spPr>
          <a:xfrm>
            <a:off x="6019920" y="0"/>
            <a:ext cx="2787480" cy="3962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9. Das Buch steht auf _____ Regal.</a:t>
            </a:r>
            <a:br>
              <a:rPr sz="2600"/>
            </a:b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0. Ich gehe durch _____ Wald.</a:t>
            </a:r>
            <a:br>
              <a:rPr sz="2600"/>
            </a:b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1. Ihr rufet _____ Freundin.</a:t>
            </a:r>
            <a:br>
              <a:rPr sz="2600"/>
            </a:b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2. Wir schreiben _____ Satz.</a:t>
            </a:r>
            <a:br>
              <a:rPr sz="2600"/>
            </a:b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3. Ich trinke _____ Kaffee.</a:t>
            </a:r>
            <a:br>
              <a:rPr sz="2600"/>
            </a:b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4. Ich packe _____ Koffer.</a:t>
            </a:r>
            <a:br>
              <a:rPr sz="2600"/>
            </a:b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5. Das ist _____ Hu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2" descr="Diddl : 1"/>
          <p:cNvPicPr/>
          <p:nvPr/>
        </p:nvPicPr>
        <p:blipFill>
          <a:blip r:embed="rId1"/>
          <a:stretch/>
        </p:blipFill>
        <p:spPr>
          <a:xfrm>
            <a:off x="4491000" y="1523880"/>
            <a:ext cx="4348080" cy="5085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4" descr="9572250_7374640_mouse000.gif"/>
          <p:cNvPicPr/>
          <p:nvPr/>
        </p:nvPicPr>
        <p:blipFill>
          <a:blip r:embed="rId1"/>
          <a:stretch/>
        </p:blipFill>
        <p:spPr>
          <a:xfrm>
            <a:off x="609480" y="669960"/>
            <a:ext cx="5105520" cy="6188040"/>
          </a:xfrm>
          <a:prstGeom prst="rect">
            <a:avLst/>
          </a:prstGeom>
          <a:ln w="0">
            <a:noFill/>
          </a:ln>
        </p:spPr>
      </p:pic>
      <p:grpSp>
        <p:nvGrpSpPr>
          <p:cNvPr id="253" name="Выноска-облако 5"/>
          <p:cNvGrpSpPr/>
          <p:nvPr/>
        </p:nvGrpSpPr>
        <p:grpSpPr>
          <a:xfrm>
            <a:off x="4194000" y="201600"/>
            <a:ext cx="4035600" cy="2870280"/>
            <a:chOff x="4194000" y="201600"/>
            <a:chExt cx="4035600" cy="2870280"/>
          </a:xfrm>
        </p:grpSpPr>
        <p:pic>
          <p:nvPicPr>
            <p:cNvPr id="254" name="Выноска-облако 5" descr=""/>
            <p:cNvPicPr/>
            <p:nvPr/>
          </p:nvPicPr>
          <p:blipFill>
            <a:blip r:embed="rId2"/>
            <a:stretch/>
          </p:blipFill>
          <p:spPr>
            <a:xfrm>
              <a:off x="4194000" y="201600"/>
              <a:ext cx="403560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869000" y="573120"/>
              <a:ext cx="248904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Constantia"/>
                </a:rPr>
                <a:t>Liebe ist da!!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060"/>
                </a:solidFill>
                <a:latin typeface="Constantia"/>
              </a:rPr>
              <a:t>ALLES IST VERMISCH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Овальная выноска 3"/>
          <p:cNvSpPr/>
          <p:nvPr/>
        </p:nvSpPr>
        <p:spPr>
          <a:xfrm>
            <a:off x="5486400" y="1676520"/>
            <a:ext cx="3657600" cy="1523880"/>
          </a:xfrm>
          <a:prstGeom prst="wedgeEllipseCallout">
            <a:avLst>
              <a:gd name="adj1" fmla="val -33138"/>
              <a:gd name="adj2" fmla="val 83731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onstantia"/>
              </a:rPr>
              <a:t>Wo ist Didlin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3322800" cy="3484800"/>
          </a:xfrm>
          <a:prstGeom prst="rect">
            <a:avLst/>
          </a:prstGeom>
          <a:ln w="0">
            <a:noFill/>
          </a:ln>
        </p:spPr>
      </p:pic>
      <p:sp>
        <p:nvSpPr>
          <p:cNvPr id="214" name="Выноска-облако 5"/>
          <p:cNvSpPr/>
          <p:nvPr/>
        </p:nvSpPr>
        <p:spPr>
          <a:xfrm>
            <a:off x="0" y="1143000"/>
            <a:ext cx="3352680" cy="1828800"/>
          </a:xfrm>
          <a:prstGeom prst="cloudCallout">
            <a:avLst>
              <a:gd name="adj1" fmla="val 53013"/>
              <a:gd name="adj2" fmla="val 123421"/>
            </a:avLst>
          </a:prstGeom>
          <a:solidFill>
            <a:srgbClr val="b32c16"/>
          </a:solidFill>
          <a:ln w="25560">
            <a:solidFill>
              <a:srgbClr val="831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1817640" cy="1595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3"/>
          <a:stretch/>
        </p:blipFill>
        <p:spPr>
          <a:xfrm>
            <a:off x="7620120" y="2971800"/>
            <a:ext cx="1144440" cy="857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000" spc="-1" strike="noStrike">
                <a:solidFill>
                  <a:srgbClr val="002060"/>
                </a:solidFill>
                <a:latin typeface="Calibri"/>
              </a:rPr>
              <a:t>Wir müssen Didlina helfen!!!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4495680" cy="3497040"/>
          </a:xfrm>
          <a:prstGeom prst="rect">
            <a:avLst/>
          </a:prstGeom>
          <a:ln w="0">
            <a:noFill/>
          </a:ln>
        </p:spPr>
      </p:pic>
      <p:sp>
        <p:nvSpPr>
          <p:cNvPr id="219" name="Овальная выноска 4"/>
          <p:cNvSpPr/>
          <p:nvPr/>
        </p:nvSpPr>
        <p:spPr>
          <a:xfrm>
            <a:off x="3581280" y="1600200"/>
            <a:ext cx="4953240" cy="1828800"/>
          </a:xfrm>
          <a:prstGeom prst="wedgeEllipseCallout">
            <a:avLst>
              <a:gd name="adj1" fmla="val -36314"/>
              <a:gd name="adj2" fmla="val 10762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onstantia"/>
              </a:rPr>
              <a:t>Mach alles richtig und sie wird frei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2336760" cy="1752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Wie heißt das richtige Form: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1. Alex ________ (machen) die Hausaufgabe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2. Ich ________ (haben) Hunger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3. Er ________ (wohnen) in Deutschland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4. Wir ________ (sein) heute in der Schule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5. Sie(1) ________ (nehmen) den Apfel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6. Ihr _________ (lernen) Deutsch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7. Du _________ (gehen) in die Schule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10. Ihr ____________ (antworten) auf die Frage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11. Sie _____________ (arbeiten) oft zusammen.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AutoShape 2"/>
          <p:cNvSpPr/>
          <p:nvPr/>
        </p:nvSpPr>
        <p:spPr>
          <a:xfrm>
            <a:off x="155520" y="-1081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155520" y="-1081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1. Alex </a:t>
            </a:r>
            <a:r>
              <a:rPr b="0" lang="de-DE" sz="2400" spc="-1" strike="noStrike">
                <a:solidFill>
                  <a:srgbClr val="002060"/>
                </a:solidFill>
                <a:latin typeface="Constantia"/>
              </a:rPr>
              <a:t>__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macht______ 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(machen) die Hausaufgabe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2. Ich ___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habe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_____ (haben) Hunger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3. Er ____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wohnt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____ (wohnen) in Deutschland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4. Wir ___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sind_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____ (sein) heute in der Schule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5. Sie(1) 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____nimmt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____ (nehmen) den Apfel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6. Ihr ____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lernt_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____ (lernen) Deutsch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7. Du ____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gehst_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____ (gehen) in die Schule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10. Ihr __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antwortet_______ 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(antworten) auf die Frage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11. Sie _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arbeiten_______ 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(arbeiten) oft zusammen.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2" descr="Diddl : 5"/>
          <p:cNvPicPr/>
          <p:nvPr/>
        </p:nvPicPr>
        <p:blipFill>
          <a:blip r:embed="rId1"/>
          <a:stretch/>
        </p:blipFill>
        <p:spPr>
          <a:xfrm>
            <a:off x="6858000" y="2666880"/>
            <a:ext cx="1905120" cy="1629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15552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http://t0.gstatic.com/images?q=tbn:ANd9GcSdHNRniHjR8UwJ-7AFwhoUab-6M1iNQ-lAU_R3BGTNjE6yCYFaAVvxxShQ"/>
          <p:cNvPicPr/>
          <p:nvPr/>
        </p:nvPicPr>
        <p:blipFill>
          <a:blip r:embed="rId1"/>
          <a:stretch/>
        </p:blipFill>
        <p:spPr>
          <a:xfrm>
            <a:off x="1752480" y="1371600"/>
            <a:ext cx="6148440" cy="4605480"/>
          </a:xfrm>
          <a:prstGeom prst="rect">
            <a:avLst/>
          </a:prstGeom>
          <a:ln w="0">
            <a:noFill/>
          </a:ln>
        </p:spPr>
      </p:pic>
      <p:sp>
        <p:nvSpPr>
          <p:cNvPr id="230" name="Овальная выноска 3"/>
          <p:cNvSpPr/>
          <p:nvPr/>
        </p:nvSpPr>
        <p:spPr>
          <a:xfrm>
            <a:off x="4267080" y="304920"/>
            <a:ext cx="3505320" cy="1600200"/>
          </a:xfrm>
          <a:prstGeom prst="wedgeEllipseCallout">
            <a:avLst>
              <a:gd name="adj1" fmla="val -50129"/>
              <a:gd name="adj2" fmla="val 6953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nstantia"/>
              </a:rPr>
              <a:t>Aber wo ist das Verb „sein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6840" y="609120"/>
            <a:ext cx="655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. Du _______________________ ein M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b. Petra ____________________ eine Frau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c. Das Kind ___________________ klei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d. Ihr _____________________groß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. Die Schüler _____________________ fleißig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f. Frau Meier, __________ Sie aus Bonn?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g. Das ____________der Schül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h. Wir ___________ oft zusa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i. Ulla und Klaus _______auch hi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j. Die Übung _________richti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Diddl : 1"/>
          <p:cNvPicPr/>
          <p:nvPr/>
        </p:nvPicPr>
        <p:blipFill>
          <a:blip r:embed="rId1"/>
          <a:stretch/>
        </p:blipFill>
        <p:spPr>
          <a:xfrm>
            <a:off x="5451480" y="3657600"/>
            <a:ext cx="3692520" cy="3048120"/>
          </a:xfrm>
          <a:prstGeom prst="rect">
            <a:avLst/>
          </a:prstGeom>
          <a:ln w="0">
            <a:noFill/>
          </a:ln>
        </p:spPr>
      </p:pic>
      <p:sp>
        <p:nvSpPr>
          <p:cNvPr id="233" name="Выноска-облако 3"/>
          <p:cNvSpPr/>
          <p:nvPr/>
        </p:nvSpPr>
        <p:spPr>
          <a:xfrm>
            <a:off x="1295280" y="4876920"/>
            <a:ext cx="4114800" cy="1447560"/>
          </a:xfrm>
          <a:prstGeom prst="cloudCallout">
            <a:avLst>
              <a:gd name="adj1" fmla="val 86175"/>
              <a:gd name="adj2" fmla="val -2494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nstantia"/>
              </a:rPr>
              <a:t>Hallo „sein“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6840" y="838080"/>
            <a:ext cx="57913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a. Du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bist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ein Man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b. Petra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ist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eine Frau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c. Das Kind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is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t klei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d. Ihr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seid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groß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e. Die Schüler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sind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fleißig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f. Frau Meier,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ist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Sie aus Bonn?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g. Das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ist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der Schüler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h. Wir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sind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oft zusamm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i. Ulla und Klaus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sind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auch hier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j. Die Übung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ist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richti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AutoShape 2"/>
          <p:cNvSpPr/>
          <p:nvPr/>
        </p:nvSpPr>
        <p:spPr>
          <a:xfrm>
            <a:off x="155520" y="-762120"/>
            <a:ext cx="2857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155520" y="-762120"/>
            <a:ext cx="2857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http://t0.gstatic.com/images?q=tbn:ANd9GcRybMp9dOjaqjjAcwJtYKCSoyrqjGOJmFV4g9lfpbpmAoIPH_3V1A"/>
          <p:cNvPicPr/>
          <p:nvPr/>
        </p:nvPicPr>
        <p:blipFill>
          <a:blip r:embed="rId1"/>
          <a:stretch/>
        </p:blipFill>
        <p:spPr>
          <a:xfrm rot="652200">
            <a:off x="5644800" y="706320"/>
            <a:ext cx="2909880" cy="2770200"/>
          </a:xfrm>
          <a:prstGeom prst="rect">
            <a:avLst/>
          </a:prstGeom>
          <a:ln w="0">
            <a:noFill/>
          </a:ln>
        </p:spPr>
      </p:pic>
      <p:sp>
        <p:nvSpPr>
          <p:cNvPr id="238" name="Выноска-облако 5"/>
          <p:cNvSpPr/>
          <p:nvPr/>
        </p:nvSpPr>
        <p:spPr>
          <a:xfrm>
            <a:off x="6019920" y="4038480"/>
            <a:ext cx="3276360" cy="2286000"/>
          </a:xfrm>
          <a:prstGeom prst="cloudCallout">
            <a:avLst>
              <a:gd name="adj1" fmla="val -44449"/>
              <a:gd name="adj2" fmla="val -1375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nstantia"/>
              </a:rPr>
              <a:t>Ich bin doch klug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. _________________________________ du heute Zeit?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b. Er ______________________________________ Hung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c. Wir ___________________________________ ein B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d. Sabine ___________________________ auch ein B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. Das Kind _________________________________ Durs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f. Ihr _________________________________viel Arb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g. Jörg und Jutta ________________ auch viel Arb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h. Herr Klein, _________________________ Sie Feuer?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i. Die Schüler ______________________ eine Lehreri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j. Ich ____________________________________eine Uh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2" descr="http://www.animaatjes.de/glitzer-bilder/d/diddl/9180025.gif"/>
          <p:cNvPicPr/>
          <p:nvPr/>
        </p:nvPicPr>
        <p:blipFill>
          <a:blip r:embed="rId1"/>
          <a:stretch/>
        </p:blipFill>
        <p:spPr>
          <a:xfrm>
            <a:off x="2819520" y="1981080"/>
            <a:ext cx="3190680" cy="4419720"/>
          </a:xfrm>
          <a:prstGeom prst="rect">
            <a:avLst/>
          </a:prstGeom>
          <a:ln w="0">
            <a:noFill/>
          </a:ln>
        </p:spPr>
      </p:pic>
      <p:sp>
        <p:nvSpPr>
          <p:cNvPr id="241" name="Выноска-облако 5"/>
          <p:cNvSpPr/>
          <p:nvPr/>
        </p:nvSpPr>
        <p:spPr>
          <a:xfrm>
            <a:off x="2362320" y="0"/>
            <a:ext cx="5181480" cy="1828800"/>
          </a:xfrm>
          <a:prstGeom prst="cloudCallout">
            <a:avLst>
              <a:gd name="adj1" fmla="val -36310"/>
              <a:gd name="adj2" fmla="val 107884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nstantia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Constantia"/>
              </a:rPr>
              <a:t>Haben“ ? Das schaffe ich auch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8:57:50Z</dcterms:created>
  <dc:creator>Лилия Алексеевна</dc:creator>
  <dc:description/>
  <dc:language>en-US</dc:language>
  <cp:lastModifiedBy>Лилия Алексеевна</cp:lastModifiedBy>
  <dcterms:modified xsi:type="dcterms:W3CDTF">2013-03-29T18:51:48Z</dcterms:modified>
  <cp:revision>15</cp:revision>
  <dc:subject/>
  <dc:title>Слайд 1</dc:title>
</cp:coreProperties>
</file>