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A80-9C48-4DF8-AAE1-7FC20287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619-AB24-4194-8D57-98807FB6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1AE-2F8A-4F2F-90CA-136EBF1C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19A-2971-4EAF-9C70-CEA0412E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0BE-98F4-4885-A8C8-8F766D6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935-3864-4F83-8EC4-6B4A719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C22-F404-4D56-948C-4F903EC3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F30-D8E8-4221-8C19-393847F3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329-2957-41EA-84C7-BCE6A30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3F0-0934-4C5A-A5A3-36B09A6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700-0D93-4B81-A65A-74296AA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6F0-B497-467C-A421-D52D9F1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5BD1-35FF-42EC-8C14-B1DD9EAEC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riumphchepassione.com/immagini/union-jack-flag-bandie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rebloger.ru/data/original2/a6d6f333ceZBOKVEX_10217_8d299c94d9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geopolicraticus.files.wordpress.com/2009/09/1066.gif?w=368&amp;h=414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tonnel.ru/calendar/kniga/1182168703_tonnel.gif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en.wikipedia.org/wiki/File:William_the_Conqueror_invades_England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lidaym.ru/english/london/map_london_m_circle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ssets1.lookatme.ru/1279887282/assets/article_image-image/1c/5d/1005171/article_image-image-article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02.fsimg.ru/4/tlog_box/1496/149642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8454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95280" y="6524640"/>
            <a:ext cx="47847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zgoniai S.V.  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974800">
            <a:off x="5508720" y="404640"/>
            <a:ext cx="3228840" cy="235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337800">
            <a:off x="747720" y="4505040"/>
            <a:ext cx="2943360" cy="216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58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052640"/>
            <a:ext cx="5077080" cy="332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6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3141720"/>
            <a:ext cx="507672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 rot="20730000">
            <a:off x="324000" y="259920"/>
            <a:ext cx="30193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n who guard the Tower are the Warders or the Beefea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Картинка 63 из 18393"/>
          <p:cNvPicPr/>
          <p:nvPr/>
        </p:nvPicPr>
        <p:blipFill>
          <a:blip r:embed="rId1"/>
          <a:stretch/>
        </p:blipFill>
        <p:spPr>
          <a:xfrm>
            <a:off x="1403280" y="2637000"/>
            <a:ext cx="246708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Картинка 5 из 3734"/>
          <p:cNvPicPr/>
          <p:nvPr/>
        </p:nvPicPr>
        <p:blipFill>
          <a:blip r:embed="rId2"/>
          <a:stretch/>
        </p:blipFill>
        <p:spPr>
          <a:xfrm>
            <a:off x="4572000" y="263700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ers believe that the city will be rich while black ravens live in the Tower of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49561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24300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e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rid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er Bridge is a tall structure. It was built across the Thames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42780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the Conqu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the Conqueror invaded Britain in 1066 and became King of Eng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15 из 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852640"/>
            <a:ext cx="3109680" cy="349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6 из 8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708280"/>
            <a:ext cx="280008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3429000"/>
            <a:ext cx="22669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9152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is the capital of Great Brit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the South East of England on the river Th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5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3068640"/>
            <a:ext cx="5076720" cy="35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0765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18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ingham palace is the London home of the kings and queens of this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72240" cy="44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9912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Buckingham palace  there is the Queen Victoria Memor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state rooms of Buckingham Palace are open to visitors during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5 из 9133"/>
          <p:cNvPicPr/>
          <p:nvPr/>
        </p:nvPicPr>
        <p:blipFill>
          <a:blip r:embed="rId1"/>
          <a:stretch/>
        </p:blipFill>
        <p:spPr>
          <a:xfrm>
            <a:off x="179280" y="3573360"/>
            <a:ext cx="3965760" cy="308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38 из 9133"/>
          <p:cNvPicPr/>
          <p:nvPr/>
        </p:nvPicPr>
        <p:blipFill>
          <a:blip r:embed="rId2"/>
          <a:stretch/>
        </p:blipFill>
        <p:spPr>
          <a:xfrm>
            <a:off x="3780000" y="2492280"/>
            <a:ext cx="2752560" cy="390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16 из 9133"/>
          <p:cNvPicPr/>
          <p:nvPr/>
        </p:nvPicPr>
        <p:blipFill>
          <a:blip r:embed="rId3"/>
          <a:stretch/>
        </p:blipFill>
        <p:spPr>
          <a:xfrm>
            <a:off x="6300720" y="2276640"/>
            <a:ext cx="2712960" cy="335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he Changing of the Gua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front of Buckingham palac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 a new guard of 30 guardsmen marches to the palace and takes the place of the old guard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10 из 9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924280"/>
            <a:ext cx="4592880" cy="30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84056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cient Tower of London has a long and cruel hi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17076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building in the Tower of London is the White tower which is the old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771640" y="2421000"/>
            <a:ext cx="3519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er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hite tow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Jewel House, which contains the famous Crown Jewel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9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637000"/>
            <a:ext cx="5077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4:17:35Z</dcterms:created>
  <dc:creator>User</dc:creator>
  <dc:description/>
  <dc:language>en-US</dc:language>
  <cp:lastModifiedBy>User</cp:lastModifiedBy>
  <dcterms:modified xsi:type="dcterms:W3CDTF">2013-03-29T12:37:26Z</dcterms:modified>
  <cp:revision>29</cp:revision>
  <dc:subject/>
  <dc:title>London </dc:title>
</cp:coreProperties>
</file>