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879B-42C1-4224-8250-91A9A3FB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7F5-724E-4977-8E10-2E454077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4317-2BD2-4DBE-AEF3-E90A2854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ED6-F367-4500-8A3C-95763DCC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99A-8CF5-4D60-8FE8-9B378700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10F-C952-45C9-AD79-197DE26D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B5A-9306-4CE4-A732-C478CD7A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DDB-6084-4F37-AB48-39524DFE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7B1-4DBB-4D61-A8C6-B9C76D38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425-28A5-414F-A1FD-6DB6B653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592-DAD5-43BD-B926-C519DB3C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C5D-D87A-4B54-A723-FFB98164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A7F7-3CFF-48BB-9B34-3A472CBBC0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triumphchepassione.com/immagini/union-jack-flag-bandiera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rebloger.ru/data/original2/a6d6f333ceZBOKVEX_10217_8d299c94d9.jpg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eopolicraticus.files.wordpress.com/2009/09/1066.gif?w=368&amp;h=414" TargetMode="External"/><Relationship Id="rId2" Type="http://schemas.openxmlformats.org/officeDocument/2006/relationships/image" Target="../media/image22.png"/><Relationship Id="rId3" Type="http://schemas.openxmlformats.org/officeDocument/2006/relationships/hyperlink" Target="http://www.tonnel.ru/calendar/kniga/1182168703_tonnel.gif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en.wikipedia.org/wiki/File:William_the_Conqueror_invades_England.jpg" TargetMode="Externa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olidaym.ru/english/london/map_london_m_circle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ssets1.lookatme.ru/1279887282/assets/article_image-image/1c/5d/1005171/article_image-image-article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02.fsimg.ru/4/tlog_box/1496/1496422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845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d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95280" y="6524640"/>
            <a:ext cx="47847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zgoniai S.V.  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974800">
            <a:off x="5508720" y="404640"/>
            <a:ext cx="3228840" cy="2352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1337800">
            <a:off x="747720" y="4505040"/>
            <a:ext cx="2943360" cy="2163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Картинка 58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052640"/>
            <a:ext cx="5077080" cy="3324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Картинка 68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4360" y="3141720"/>
            <a:ext cx="5076720" cy="337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rot="20730000">
            <a:off x="324000" y="259920"/>
            <a:ext cx="3019320" cy="23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184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n who guard the Tower are the Warders or the Beefea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Картинка 63 из 18393"/>
          <p:cNvPicPr/>
          <p:nvPr/>
        </p:nvPicPr>
        <p:blipFill>
          <a:blip r:embed="rId1"/>
          <a:stretch/>
        </p:blipFill>
        <p:spPr>
          <a:xfrm>
            <a:off x="1403280" y="2637000"/>
            <a:ext cx="2467080" cy="3809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Картинка 5 из 3734"/>
          <p:cNvPicPr/>
          <p:nvPr/>
        </p:nvPicPr>
        <p:blipFill>
          <a:blip r:embed="rId2"/>
          <a:stretch/>
        </p:blipFill>
        <p:spPr>
          <a:xfrm>
            <a:off x="4572000" y="2637000"/>
            <a:ext cx="30862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doners believe that the city will be rich while black ravens live in the Tower of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49561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24300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er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Brid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wer Bridge is a tall structure. It was built across the Thames in 189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427800" cy="44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iam the Conque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the Conqueror invaded Britain in 1066 and became King of Eng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Картинка 15 из 8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852640"/>
            <a:ext cx="3109680" cy="3494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Картинка 6 из 85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708280"/>
            <a:ext cx="2800080" cy="3809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88000" y="3429000"/>
            <a:ext cx="226692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9152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don is the capital of Great Brit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n the South East of England on the river Th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15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3068640"/>
            <a:ext cx="5076720" cy="3571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95280" y="4221000"/>
            <a:ext cx="3076560" cy="23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62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2184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ckingham palace is the London home of the kings and queens of this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72240" cy="44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99128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ront of Buckingham palace  there is the Queen Victoria Memor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73152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 state rooms of Buckingham Palace are open to visitors during August and Sept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Картинка 15 из 9133"/>
          <p:cNvPicPr/>
          <p:nvPr/>
        </p:nvPicPr>
        <p:blipFill>
          <a:blip r:embed="rId1"/>
          <a:stretch/>
        </p:blipFill>
        <p:spPr>
          <a:xfrm>
            <a:off x="179280" y="3573360"/>
            <a:ext cx="3965760" cy="308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Картинка 38 из 9133"/>
          <p:cNvPicPr/>
          <p:nvPr/>
        </p:nvPicPr>
        <p:blipFill>
          <a:blip r:embed="rId2"/>
          <a:stretch/>
        </p:blipFill>
        <p:spPr>
          <a:xfrm>
            <a:off x="3780000" y="2492280"/>
            <a:ext cx="2752560" cy="3903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Картинка 16 из 9133"/>
          <p:cNvPicPr/>
          <p:nvPr/>
        </p:nvPicPr>
        <p:blipFill>
          <a:blip r:embed="rId3"/>
          <a:stretch/>
        </p:blipFill>
        <p:spPr>
          <a:xfrm>
            <a:off x="6300720" y="2276640"/>
            <a:ext cx="2712960" cy="33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The Changing of the Guar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front of Buckingham palac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day a new guard of 30 guardsmen marches to the palace and takes the place of the old guard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Картинка 10 из 91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924280"/>
            <a:ext cx="4592880" cy="3058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4840560" cy="30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91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cient Tower of London has a long and cruel his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6170760" cy="39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building in the Tower of London is the White tower which is the old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771640" y="2421000"/>
            <a:ext cx="35197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3588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White tow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Jewel House, which contains the famous Crown Jewels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Картинка 98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2637000"/>
            <a:ext cx="50770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4:17:35Z</dcterms:created>
  <dc:creator>User</dc:creator>
  <dc:description/>
  <dc:language>en-US</dc:language>
  <cp:lastModifiedBy>User</cp:lastModifiedBy>
  <dcterms:modified xsi:type="dcterms:W3CDTF">2013-03-29T12:37:26Z</dcterms:modified>
  <cp:revision>29</cp:revision>
  <dc:subject/>
  <dc:title>London </dc:title>
</cp:coreProperties>
</file>