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5.gif" ContentType="image/gif"/>
  <Override PartName="/ppt/media/image42.jpeg" ContentType="image/jpeg"/>
  <Override PartName="/ppt/media/image83.png" ContentType="image/png"/>
  <Override PartName="/ppt/media/image58.jpeg" ContentType="image/jpeg"/>
  <Override PartName="/ppt/media/image57.jpeg" ContentType="image/jpeg"/>
  <Override PartName="/ppt/media/image55.jpeg" ContentType="image/jpeg"/>
  <Override PartName="/ppt/media/image53.jpeg" ContentType="image/jpeg"/>
  <Override PartName="/ppt/media/image49.gif" ContentType="image/gif"/>
  <Override PartName="/ppt/media/image48.jpeg" ContentType="image/jpeg"/>
  <Override PartName="/ppt/media/image47.jpeg" ContentType="image/jpeg"/>
  <Override PartName="/ppt/media/image65.gif" ContentType="image/gif"/>
  <Override PartName="/ppt/media/image46.jpeg" ContentType="image/jpeg"/>
  <Override PartName="/ppt/media/image52.gif" ContentType="image/gif"/>
  <Override PartName="/ppt/media/image20.jpeg" ContentType="image/jpeg"/>
  <Override PartName="/ppt/media/image45.png" ContentType="image/png"/>
  <Override PartName="/ppt/media/image44.jpeg" ContentType="image/jpeg"/>
  <Override PartName="/ppt/media/image43.jpeg" ContentType="image/jpeg"/>
  <Override PartName="/ppt/media/image41.jpeg" ContentType="image/jpeg"/>
  <Override PartName="/ppt/media/image36.jpeg" ContentType="image/jpeg"/>
  <Override PartName="/ppt/media/image54.gif" ContentType="image/gif"/>
  <Override PartName="/ppt/media/image35.jpeg" ContentType="image/jpeg"/>
  <Override PartName="/ppt/media/image34.jpeg" ContentType="image/jpeg"/>
  <Override PartName="/ppt/media/image56.jpeg" ContentType="image/jpeg"/>
  <Override PartName="/ppt/media/image33.png" ContentType="image/pn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39.gif" ContentType="image/gif"/>
  <Override PartName="/ppt/media/image9.gif" ContentType="image/gif"/>
  <Override PartName="/ppt/media/image89.png" ContentType="image/png"/>
  <Override PartName="/ppt/media/image22.png" ContentType="image/png"/>
  <Override PartName="/ppt/media/image24.jpeg" ContentType="image/jpeg"/>
  <Override PartName="/ppt/media/image92.gif" ContentType="image/gif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23.gif" ContentType="image/gif"/>
  <Override PartName="/ppt/media/image61.jpeg" ContentType="image/jpeg"/>
  <Override PartName="/ppt/media/image78.jpeg" ContentType="image/jpeg"/>
  <Override PartName="/ppt/media/image63.jpeg" ContentType="image/jpeg"/>
  <Override PartName="/ppt/media/image90.jpeg" ContentType="image/jpeg"/>
  <Override PartName="/ppt/media/image6.gif" ContentType="image/gif"/>
  <Override PartName="/ppt/media/image66.gif" ContentType="image/gif"/>
  <Override PartName="/ppt/media/image67.jpeg" ContentType="image/jpeg"/>
  <Override PartName="/ppt/media/image94.gif" ContentType="image/gif"/>
  <Override PartName="/ppt/media/image71.jpeg" ContentType="image/jpeg"/>
  <Override PartName="/ppt/media/image64.gif" ContentType="image/gif"/>
  <Override PartName="/ppt/media/image91.jpeg" ContentType="image/jpeg"/>
  <Override PartName="/ppt/media/image38.jpeg" ContentType="image/jpeg"/>
  <Override PartName="/ppt/media/image25.jpeg" ContentType="image/jpeg"/>
  <Override PartName="/ppt/media/image50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81.jpeg" ContentType="image/jpeg"/>
  <Override PartName="/ppt/media/image75.png" ContentType="image/png"/>
  <Override PartName="/ppt/media/image5.gif" ContentType="image/gif"/>
  <Override PartName="/ppt/media/image82.gif" ContentType="image/gif"/>
  <Override PartName="/ppt/media/image70.jpeg" ContentType="image/jpeg"/>
  <Override PartName="/ppt/media/image73.jpeg" ContentType="image/jpeg"/>
  <Override PartName="/ppt/media/image93.gif" ContentType="image/gif"/>
  <Override PartName="/ppt/media/image76.gif" ContentType="image/gif"/>
  <Override PartName="/ppt/media/image68.jpeg" ContentType="image/jpeg"/>
  <Override PartName="/ppt/media/image1.png" ContentType="image/png"/>
  <Override PartName="/ppt/media/image69.gif" ContentType="image/gif"/>
  <Override PartName="/ppt/media/image19.jpeg" ContentType="image/jpeg"/>
  <Override PartName="/ppt/media/image17.png" ContentType="image/png"/>
  <Override PartName="/ppt/media/image32.jpeg" ContentType="image/jpeg"/>
  <Override PartName="/ppt/media/image51.jpeg" ContentType="image/jpeg"/>
  <Override PartName="/ppt/media/image8.gif" ContentType="image/gif"/>
  <Override PartName="/ppt/media/image27.jpeg" ContentType="image/jpeg"/>
  <Override PartName="/ppt/media/image86.jpeg" ContentType="image/jpeg"/>
  <Override PartName="/ppt/media/image10.jpeg" ContentType="image/jpeg"/>
  <Override PartName="/ppt/media/image2.png" ContentType="image/png"/>
  <Override PartName="/ppt/media/image14.png" ContentType="image/png"/>
  <Override PartName="/ppt/media/image72.jpeg" ContentType="image/jpeg"/>
  <Override PartName="/ppt/media/image62.jpeg" ContentType="image/jpeg"/>
  <Override PartName="/ppt/media/image79.jpeg" ContentType="image/jpeg"/>
  <Override PartName="/ppt/media/image16.gif" ContentType="image/gif"/>
  <Override PartName="/ppt/media/image4.gif" ContentType="image/gif"/>
  <Override PartName="/ppt/media/image28.jpeg" ContentType="image/jpeg"/>
  <Override PartName="/ppt/media/image87.jpeg" ContentType="image/jpeg"/>
  <Override PartName="/ppt/media/image11.jpeg" ContentType="image/jpeg"/>
  <Override PartName="/ppt/media/image84.gif" ContentType="image/gif"/>
  <Override PartName="/ppt/media/image7.gif" ContentType="image/gif"/>
  <Override PartName="/ppt/media/image85.jpeg" ContentType="image/jpeg"/>
  <Override PartName="/ppt/media/image2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150-E8ED-4562-8E64-7A586C3F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5EE-561F-4FB5-97B4-7CCAF75C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17F-0D23-418C-BAC0-B50E3EDF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1FAF-4A00-47BD-B0A5-046D22BE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8AAB-7028-4530-82A2-48189494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5A9C-BD27-4768-BDEE-22A58348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EF70-95A6-4F78-A092-DC0887EF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3F52-D244-4CF2-A191-33CDA3CC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8FC-7B76-46A1-8CA0-741FC081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2742-B266-45CE-A92B-549974C2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E836-6A8B-4E47-ACD3-CC4DC436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5593-8B8B-40A7-AC95-769B9E9B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188E-F200-4C57-AB97-14C9FC5033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2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hyperlink" Target="http://www.floranimal.ru/gallery/big/2485.jpg" TargetMode="External"/><Relationship Id="rId6" Type="http://schemas.openxmlformats.org/officeDocument/2006/relationships/image" Target="../media/image48.jpeg"/><Relationship Id="rId7" Type="http://schemas.openxmlformats.org/officeDocument/2006/relationships/image" Target="../media/image4.gif"/><Relationship Id="rId8" Type="http://schemas.openxmlformats.org/officeDocument/2006/relationships/image" Target="../media/image49.gif"/><Relationship Id="rId9" Type="http://schemas.openxmlformats.org/officeDocument/2006/relationships/image" Target="../media/image39.gif"/><Relationship Id="rId10" Type="http://schemas.openxmlformats.org/officeDocument/2006/relationships/image" Target="../media/image50.jpeg"/><Relationship Id="rId11" Type="http://schemas.openxmlformats.org/officeDocument/2006/relationships/image" Target="../media/image51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gif"/><Relationship Id="rId3" Type="http://schemas.openxmlformats.org/officeDocument/2006/relationships/image" Target="../media/image8.gif"/><Relationship Id="rId4" Type="http://schemas.openxmlformats.org/officeDocument/2006/relationships/image" Target="../media/image53.jpeg"/><Relationship Id="rId5" Type="http://schemas.openxmlformats.org/officeDocument/2006/relationships/image" Target="../media/image54.gif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image" Target="../media/image57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3.jpeg"/><Relationship Id="rId3" Type="http://schemas.openxmlformats.org/officeDocument/2006/relationships/image" Target="../media/image7.gif"/><Relationship Id="rId4" Type="http://schemas.openxmlformats.org/officeDocument/2006/relationships/image" Target="../media/image64.gif"/><Relationship Id="rId5" Type="http://schemas.openxmlformats.org/officeDocument/2006/relationships/image" Target="../media/image65.gif"/><Relationship Id="rId6" Type="http://schemas.openxmlformats.org/officeDocument/2006/relationships/image" Target="../media/image66.gif"/><Relationship Id="rId7" Type="http://schemas.openxmlformats.org/officeDocument/2006/relationships/image" Target="../media/image67.jpeg"/><Relationship Id="rId8" Type="http://schemas.openxmlformats.org/officeDocument/2006/relationships/image" Target="../media/image68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9.gif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png"/><Relationship Id="rId3" Type="http://schemas.openxmlformats.org/officeDocument/2006/relationships/image" Target="../media/image76.gif"/><Relationship Id="rId4" Type="http://schemas.openxmlformats.org/officeDocument/2006/relationships/slide" Target="slide22.xml"/><Relationship Id="rId5" Type="http://schemas.openxmlformats.org/officeDocument/2006/relationships/image" Target="../media/image77.jpeg"/><Relationship Id="rId6" Type="http://schemas.openxmlformats.org/officeDocument/2006/relationships/image" Target="../media/image78.jpeg"/><Relationship Id="rId7" Type="http://schemas.openxmlformats.org/officeDocument/2006/relationships/image" Target="../media/image79.jpeg"/><Relationship Id="rId8" Type="http://schemas.openxmlformats.org/officeDocument/2006/relationships/image" Target="../media/image80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1.jpeg"/><Relationship Id="rId3" Type="http://schemas.openxmlformats.org/officeDocument/2006/relationships/image" Target="../media/image8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3.png"/><Relationship Id="rId3" Type="http://schemas.openxmlformats.org/officeDocument/2006/relationships/image" Target="../media/image84.gif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image" Target="../media/image87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9.png"/><Relationship Id="rId3" Type="http://schemas.openxmlformats.org/officeDocument/2006/relationships/image" Target="../media/image89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gif"/><Relationship Id="rId3" Type="http://schemas.openxmlformats.org/officeDocument/2006/relationships/image" Target="../media/image92.gif"/><Relationship Id="rId4" Type="http://schemas.openxmlformats.org/officeDocument/2006/relationships/image" Target="../media/image92.gif"/><Relationship Id="rId5" Type="http://schemas.openxmlformats.org/officeDocument/2006/relationships/image" Target="../media/image9.gif"/><Relationship Id="rId6" Type="http://schemas.openxmlformats.org/officeDocument/2006/relationships/image" Target="../media/image16.gif"/><Relationship Id="rId7" Type="http://schemas.openxmlformats.org/officeDocument/2006/relationships/image" Target="../media/image93.gif"/><Relationship Id="rId8" Type="http://schemas.openxmlformats.org/officeDocument/2006/relationships/image" Target="../media/image15.gif"/><Relationship Id="rId9" Type="http://schemas.openxmlformats.org/officeDocument/2006/relationships/image" Target="../media/image92.gif"/><Relationship Id="rId10" Type="http://schemas.openxmlformats.org/officeDocument/2006/relationships/image" Target="../media/image94.gif"/><Relationship Id="rId11" Type="http://schemas.openxmlformats.org/officeDocument/2006/relationships/image" Target="../media/image15.gif"/><Relationship Id="rId12" Type="http://schemas.openxmlformats.org/officeDocument/2006/relationships/image" Target="../media/image76.gi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4.jpeg"/><Relationship Id="rId5" Type="http://schemas.openxmlformats.org/officeDocument/2006/relationships/image" Target="../media/image4.gif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5.gif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38.jpeg"/><Relationship Id="rId5" Type="http://schemas.openxmlformats.org/officeDocument/2006/relationships/image" Target="../media/image39.gif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5600" y="404280"/>
            <a:ext cx="71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Государствен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лицей № 419 Петродворцов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58560" y="2923560"/>
            <a:ext cx="65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Презентация на тему "Луг - природное сообщество"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98160" y="6092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32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67280" y="4221000"/>
            <a:ext cx="241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аботу выполн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Ученик 3 «Б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Качмар Евг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2520720" cy="251964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222480" y="544500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вех ядови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987640" y="2876400"/>
            <a:ext cx="2808360" cy="256860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132000" y="544500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болиголов обыкно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012000" y="2852640"/>
            <a:ext cx="2879640" cy="2592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7041600" y="545292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лю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1197000"/>
            <a:ext cx="748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3300"/>
                </a:solidFill>
                <a:latin typeface="Arial"/>
              </a:rPr>
              <a:t>Ядовитые растени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1258920" y="765000"/>
            <a:ext cx="6408720" cy="1440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Arial"/>
              </a:rPr>
              <a:t>Животный мир лу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468360" y="3068640"/>
            <a:ext cx="2305080" cy="129528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  <a:ea typeface="Arial"/>
                <a:hlinkClick r:id="rId2" action="ppaction://hlinksldjump"/>
              </a:rPr>
              <a:t>Насеко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1547640" y="4869000"/>
            <a:ext cx="2449800" cy="129528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  <a:ea typeface="Arial"/>
                <a:hlinkClick r:id="rId3" action="ppaction://hlinksldjump"/>
              </a:rPr>
              <a:t>Земнов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5292720" y="4724280"/>
            <a:ext cx="2519280" cy="13687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  <a:ea typeface="Arial"/>
                <a:hlinkClick r:id="rId4" action="ppaction://hlinksldjump"/>
              </a:rPr>
              <a:t>Пресмыкающие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6588000" y="3213000"/>
            <a:ext cx="2340000" cy="12240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  <a:ea typeface="Arial"/>
                <a:hlinkClick r:id="rId5" action="ppaction://hlinksldjump"/>
              </a:rPr>
              <a:t>Пт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"/>
          <p:cNvSpPr/>
          <p:nvPr/>
        </p:nvSpPr>
        <p:spPr>
          <a:xfrm flipH="1">
            <a:off x="1619280" y="2205000"/>
            <a:ext cx="288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9"/>
          <p:cNvSpPr/>
          <p:nvPr/>
        </p:nvSpPr>
        <p:spPr>
          <a:xfrm flipH="1">
            <a:off x="2700360" y="2205000"/>
            <a:ext cx="720720" cy="26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0"/>
          <p:cNvSpPr/>
          <p:nvPr/>
        </p:nvSpPr>
        <p:spPr>
          <a:xfrm>
            <a:off x="6012000" y="2205000"/>
            <a:ext cx="360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1"/>
          <p:cNvSpPr/>
          <p:nvPr/>
        </p:nvSpPr>
        <p:spPr>
          <a:xfrm>
            <a:off x="6948360" y="220500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2"/>
          <p:cNvSpPr/>
          <p:nvPr/>
        </p:nvSpPr>
        <p:spPr>
          <a:xfrm>
            <a:off x="3348000" y="3141720"/>
            <a:ext cx="2448000" cy="143964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  <a:ea typeface="Arial"/>
                <a:hlinkClick r:id="rId6" action="ppaction://hlinksldjump"/>
              </a:rPr>
              <a:t>Зв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4500720" y="2205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Прямоугольник 1" descr=""/>
          <p:cNvPicPr/>
          <p:nvPr/>
        </p:nvPicPr>
        <p:blipFill>
          <a:blip r:embed="rId2"/>
          <a:stretch/>
        </p:blipFill>
        <p:spPr>
          <a:xfrm>
            <a:off x="3132000" y="-531720"/>
            <a:ext cx="6372360" cy="22320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2"/>
          <p:cNvSpPr/>
          <p:nvPr/>
        </p:nvSpPr>
        <p:spPr>
          <a:xfrm>
            <a:off x="2843280" y="6093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маха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5"/>
          <p:cNvSpPr/>
          <p:nvPr/>
        </p:nvSpPr>
        <p:spPr>
          <a:xfrm>
            <a:off x="2987640" y="4581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голубя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227640" y="1341360"/>
            <a:ext cx="2592360" cy="1800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79280" y="87480"/>
            <a:ext cx="3421080" cy="2403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Эффект бабочк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35640" y="3716280"/>
            <a:ext cx="3384360" cy="2549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 rot="2739000">
            <a:off x="655200" y="3105360"/>
            <a:ext cx="1343160" cy="1238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3132000" y="4941720"/>
            <a:ext cx="1211400" cy="1224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 rot="20511000">
            <a:off x="4427280" y="1341360"/>
            <a:ext cx="1438200" cy="1181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084720" y="30686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павлиний гл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24360" y="6338880"/>
            <a:ext cx="31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перламутр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4922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крапив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http://img-fotki.yandex.ru/get/4300/zub-marina2010.f/0_4458f_7e1fe365_-5-L"/>
          <p:cNvPicPr/>
          <p:nvPr/>
        </p:nvPicPr>
        <p:blipFill>
          <a:blip r:embed="rId10"/>
          <a:stretch/>
        </p:blipFill>
        <p:spPr>
          <a:xfrm>
            <a:off x="2700360" y="2852640"/>
            <a:ext cx="2521080" cy="1656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http://img-fotki.yandex.ru/get/5811/27516506.181/0_7ff40_1852efd7_L"/>
          <p:cNvPicPr/>
          <p:nvPr/>
        </p:nvPicPr>
        <p:blipFill>
          <a:blip r:embed="rId11"/>
          <a:stretch/>
        </p:blipFill>
        <p:spPr>
          <a:xfrm>
            <a:off x="250920" y="4581360"/>
            <a:ext cx="2525760" cy="180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48360" y="328464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Black"/>
              </a:rPr>
              <a:t>пч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635280" y="260280"/>
            <a:ext cx="1514520" cy="1371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84360" y="3860640"/>
            <a:ext cx="887400" cy="11509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1"/>
          <p:cNvSpPr/>
          <p:nvPr/>
        </p:nvSpPr>
        <p:spPr>
          <a:xfrm>
            <a:off x="6516720" y="3141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шм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292720" y="3789360"/>
            <a:ext cx="3605040" cy="27115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9"/>
          <p:cNvSpPr/>
          <p:nvPr/>
        </p:nvSpPr>
        <p:spPr>
          <a:xfrm>
            <a:off x="2916360" y="5373720"/>
            <a:ext cx="221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цветочная м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0" y="5041800"/>
            <a:ext cx="2340000" cy="1816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http://x-files.org.ua/images/news/2010/659993_3.jpg"/>
          <p:cNvPicPr/>
          <p:nvPr/>
        </p:nvPicPr>
        <p:blipFill>
          <a:blip r:embed="rId6"/>
          <a:stretch/>
        </p:blipFill>
        <p:spPr>
          <a:xfrm>
            <a:off x="179280" y="1890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http://www.ellf.ru/uploads/posts/2009-01/thumbs/1232465964_4.jpg"/>
          <p:cNvPicPr/>
          <p:nvPr/>
        </p:nvPicPr>
        <p:blipFill>
          <a:blip r:embed="rId7"/>
          <a:stretch/>
        </p:blipFill>
        <p:spPr>
          <a:xfrm>
            <a:off x="2195640" y="3141720"/>
            <a:ext cx="2928960" cy="2287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5435640" y="260280"/>
            <a:ext cx="338436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2106360" cy="2808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724360" y="333360"/>
            <a:ext cx="3168720" cy="19573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5" descr="кузнец.jpg"/>
          <p:cNvPicPr/>
          <p:nvPr/>
        </p:nvPicPr>
        <p:blipFill>
          <a:blip r:embed="rId4"/>
          <a:stretch/>
        </p:blipFill>
        <p:spPr>
          <a:xfrm>
            <a:off x="2700360" y="1486080"/>
            <a:ext cx="2878200" cy="19285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16"/>
          <p:cNvSpPr/>
          <p:nvPr/>
        </p:nvSpPr>
        <p:spPr>
          <a:xfrm>
            <a:off x="2987640" y="620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кузнеч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img-fotki.yandex.ru/get/3707/gribnickspb.2/0_3d521_77bd6392_L.jpg"/>
          <p:cNvPicPr/>
          <p:nvPr/>
        </p:nvPicPr>
        <p:blipFill>
          <a:blip r:embed="rId5"/>
          <a:stretch/>
        </p:blipFill>
        <p:spPr>
          <a:xfrm>
            <a:off x="755640" y="3860640"/>
            <a:ext cx="3384720" cy="2592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http://www.yerkirmedia.am/userfiles/20.05.11-4383%D5%84%D5%B8%D6%80%D5%A5%D5%AD.jpg"/>
          <p:cNvPicPr/>
          <p:nvPr/>
        </p:nvPicPr>
        <p:blipFill>
          <a:blip r:embed="rId6"/>
          <a:stretch/>
        </p:blipFill>
        <p:spPr>
          <a:xfrm>
            <a:off x="5219640" y="3860640"/>
            <a:ext cx="3168720" cy="25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35240" cy="2743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55640" y="1844640"/>
            <a:ext cx="1609560" cy="1476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6567480" y="5013360"/>
            <a:ext cx="2576520" cy="1603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2843280" y="260280"/>
            <a:ext cx="2411280" cy="1989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413400" y="189000"/>
            <a:ext cx="10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Black"/>
              </a:rPr>
              <a:t>кл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4"/>
          <p:cNvSpPr/>
          <p:nvPr/>
        </p:nvSpPr>
        <p:spPr>
          <a:xfrm>
            <a:off x="3348000" y="602136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жук- навоз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250920" y="4149720"/>
            <a:ext cx="2238120" cy="1306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Лучшие фото природы и животных, прикольные фото - Фото насекомых - fotolov.ru: Фото с насекомыми_foto_insects_15 Лучшие фото животных, бесплатные фото природы"/>
          <p:cNvPicPr/>
          <p:nvPr/>
        </p:nvPicPr>
        <p:blipFill>
          <a:blip r:embed="rId7"/>
          <a:stretch/>
        </p:blipFill>
        <p:spPr>
          <a:xfrm>
            <a:off x="5435640" y="836640"/>
            <a:ext cx="3419280" cy="2284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306864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божьи ко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5373720"/>
            <a:ext cx="25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уховер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3132000" y="3213000"/>
            <a:ext cx="3311640" cy="283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7000"/>
                            </p:stCondLst>
                            <p:childTnLst>
                              <p:par>
                                <p:cTn id="3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92920" cy="8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cc"/>
                </a:solidFill>
                <a:latin typeface="Calibri"/>
              </a:rPr>
              <a:t>Земноводны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11640" y="4365360"/>
            <a:ext cx="1811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Лягуш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6520" y="414972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Жа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435640" y="5157720"/>
            <a:ext cx="2376360" cy="1266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http://chemistry-chemists.com/N5_2011/L1/zhaba.jpg"/>
          <p:cNvPicPr/>
          <p:nvPr/>
        </p:nvPicPr>
        <p:blipFill>
          <a:blip r:embed="rId3"/>
          <a:stretch/>
        </p:blipFill>
        <p:spPr>
          <a:xfrm>
            <a:off x="250920" y="981000"/>
            <a:ext cx="4356000" cy="2913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http://macroclub.com.ua/photos/0000/0481/%D0%A0%D0%B8%D1%81%D1%83%D0%BD%D0%BE%D0%BA21_show.jpg"/>
          <p:cNvPicPr/>
          <p:nvPr/>
        </p:nvPicPr>
        <p:blipFill>
          <a:blip r:embed="rId4"/>
          <a:stretch/>
        </p:blipFill>
        <p:spPr>
          <a:xfrm>
            <a:off x="1547640" y="4437000"/>
            <a:ext cx="3821400" cy="2287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http://www.stihi.ru/pics/2009/08/16/4286.jpg"/>
          <p:cNvPicPr/>
          <p:nvPr/>
        </p:nvPicPr>
        <p:blipFill>
          <a:blip r:embed="rId5"/>
          <a:stretch/>
        </p:blipFill>
        <p:spPr>
          <a:xfrm>
            <a:off x="5076720" y="1341360"/>
            <a:ext cx="3702240" cy="28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4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93280" cy="74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cc"/>
                </a:solidFill>
                <a:latin typeface="Calibri"/>
              </a:rPr>
              <a:t>Пресмыкающие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780000" y="1341360"/>
            <a:ext cx="5105160" cy="2624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070160" y="443700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Ящер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http://img2.hebus.com/hebus_2008/05/25/preview/080525151531_51.jpg"/>
          <p:cNvPicPr/>
          <p:nvPr/>
        </p:nvPicPr>
        <p:blipFill>
          <a:blip r:embed="rId3"/>
          <a:stretch/>
        </p:blipFill>
        <p:spPr>
          <a:xfrm>
            <a:off x="539640" y="2492280"/>
            <a:ext cx="3095640" cy="377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Прямоугольник 4" descr=""/>
          <p:cNvPicPr/>
          <p:nvPr/>
        </p:nvPicPr>
        <p:blipFill>
          <a:blip r:embed="rId2"/>
          <a:stretch/>
        </p:blipFill>
        <p:spPr>
          <a:xfrm>
            <a:off x="3059280" y="-316080"/>
            <a:ext cx="5560920" cy="16290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1"/>
          <p:cNvSpPr/>
          <p:nvPr/>
        </p:nvSpPr>
        <p:spPr>
          <a:xfrm>
            <a:off x="539640" y="30686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переп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5796000" y="6093000"/>
            <a:ext cx="21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жаворо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12" descr="ani-bird_blue.gif"/>
          <p:cNvPicPr/>
          <p:nvPr/>
        </p:nvPicPr>
        <p:blipFill>
          <a:blip r:embed="rId3"/>
          <a:stretch/>
        </p:blipFill>
        <p:spPr>
          <a:xfrm>
            <a:off x="7524720" y="189000"/>
            <a:ext cx="1238400" cy="99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фото | Gintautas Steiblys (Gintas ) | трясогузк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19640" y="1197000"/>
            <a:ext cx="3168360" cy="2658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612120" y="314172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Black"/>
              </a:rPr>
              <a:t>трясогу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179280" y="3716280"/>
            <a:ext cx="2846520" cy="2879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097440" y="609300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Black"/>
              </a:rPr>
              <a:t>корос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http://animaldiscoveryonline.com/animal-pictures/lark-2.jpg"/>
          <p:cNvPicPr/>
          <p:nvPr/>
        </p:nvPicPr>
        <p:blipFill>
          <a:blip r:embed="rId7"/>
          <a:stretch/>
        </p:blipFill>
        <p:spPr>
          <a:xfrm>
            <a:off x="5292720" y="3933720"/>
            <a:ext cx="2928960" cy="2287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http://www.perepel.kh.ua/uploads/images/Gallery/m_02-07-2009_0839_dsc6323.jpg"/>
          <p:cNvPicPr/>
          <p:nvPr/>
        </p:nvPicPr>
        <p:blipFill>
          <a:blip r:embed="rId8"/>
          <a:stretch/>
        </p:blipFill>
        <p:spPr>
          <a:xfrm>
            <a:off x="179280" y="260280"/>
            <a:ext cx="309744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4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195640" y="1844640"/>
            <a:ext cx="4680000" cy="2952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997800" y="508464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0" y="2708280"/>
            <a:ext cx="1440000" cy="1079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437080" y="0"/>
            <a:ext cx="325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6600"/>
                </a:solidFill>
                <a:latin typeface="Arial"/>
              </a:rPr>
              <a:t>Звер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400"/>
                            </p:stCondLst>
                            <p:childTnLst>
                              <p:par>
                                <p:cTn id="5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4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Calibri"/>
              </a:rPr>
              <a:t>Луг - природное сооб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Текст 2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207280" cy="4497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 rot="2739000">
            <a:off x="870840" y="4970880"/>
            <a:ext cx="747720" cy="689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619280" y="4941720"/>
            <a:ext cx="942840" cy="1190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 rot="19680000">
            <a:off x="6480000" y="3003120"/>
            <a:ext cx="792360" cy="878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843280" y="4292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4140360" y="5013360"/>
            <a:ext cx="718920" cy="79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7020000" y="4149720"/>
            <a:ext cx="1611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6"/>
          <p:cNvSpPr/>
          <p:nvPr/>
        </p:nvSpPr>
        <p:spPr>
          <a:xfrm>
            <a:off x="6372360" y="3500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олё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250920" y="494172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мышь-малю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Прямоугольник 10" descr=""/>
          <p:cNvPicPr/>
          <p:nvPr/>
        </p:nvPicPr>
        <p:blipFill>
          <a:blip r:embed="rId2"/>
          <a:stretch/>
        </p:blipFill>
        <p:spPr>
          <a:xfrm>
            <a:off x="2916360" y="-531720"/>
            <a:ext cx="6227640" cy="1942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659640" y="1498680"/>
            <a:ext cx="2160360" cy="17859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http://img.news.open.by/news/2010/10/2-mish13.jpg"/>
          <p:cNvPicPr/>
          <p:nvPr/>
        </p:nvPicPr>
        <p:blipFill>
          <a:blip r:embed="rId4"/>
          <a:stretch/>
        </p:blipFill>
        <p:spPr>
          <a:xfrm>
            <a:off x="250920" y="404640"/>
            <a:ext cx="2484360" cy="4437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http://win7osnet.ru/images/542850035477543.jpg"/>
          <p:cNvPicPr/>
          <p:nvPr/>
        </p:nvPicPr>
        <p:blipFill>
          <a:blip r:embed="rId5"/>
          <a:stretch/>
        </p:blipFill>
        <p:spPr>
          <a:xfrm>
            <a:off x="2843280" y="1197000"/>
            <a:ext cx="3676680" cy="2376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http://www.sad-portal.ru/wp-content/uploads/2012/07/mice-300x200.jpg"/>
          <p:cNvPicPr/>
          <p:nvPr/>
        </p:nvPicPr>
        <p:blipFill>
          <a:blip r:embed="rId6"/>
          <a:stretch/>
        </p:blipFill>
        <p:spPr>
          <a:xfrm>
            <a:off x="5148360" y="422100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4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227640" y="537120"/>
            <a:ext cx="291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 Black"/>
              </a:rPr>
              <a:t>Неред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 Black"/>
              </a:rPr>
              <a:t>на лугах можно замет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 Black"/>
              </a:rPr>
              <a:t>небольшие кучки рыхлой зем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 Black"/>
              </a:rPr>
              <a:t>Это работа кро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609624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179280" y="10526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Луг – природное сообщество, так как живые существа здесь обитают совместно, связаны между собой и зависят друг от дру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465300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4023"/>
                </a:solidFill>
                <a:latin typeface="Arial"/>
              </a:rPr>
              <a:t>Зеленые       Растительноядные       Хищники          Бак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4023"/>
                </a:solidFill>
                <a:latin typeface="Arial"/>
              </a:rPr>
              <a:t>Растения       животные</a:t>
            </a:r>
            <a:r>
              <a:rPr b="0" lang="en-US" sz="2000" spc="-1" strike="noStrike">
                <a:solidFill>
                  <a:srgbClr val="eb4023"/>
                </a:solidFill>
                <a:latin typeface="Arial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http://www.30astr-sh29.edusite.ru/images/p376_znak35.png"/>
          <p:cNvPicPr/>
          <p:nvPr/>
        </p:nvPicPr>
        <p:blipFill>
          <a:blip r:embed="rId2"/>
          <a:stretch/>
        </p:blipFill>
        <p:spPr>
          <a:xfrm>
            <a:off x="1258920" y="4797360"/>
            <a:ext cx="952560" cy="457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http://www.30astr-sh29.edusite.ru/images/p376_znak35.png"/>
          <p:cNvPicPr/>
          <p:nvPr/>
        </p:nvPicPr>
        <p:blipFill>
          <a:blip r:embed="rId3"/>
          <a:stretch/>
        </p:blipFill>
        <p:spPr>
          <a:xfrm>
            <a:off x="4211640" y="4797360"/>
            <a:ext cx="952560" cy="457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http://www.30astr-sh29.edusite.ru/images/p376_znak35.png"/>
          <p:cNvPicPr/>
          <p:nvPr/>
        </p:nvPicPr>
        <p:blipFill>
          <a:blip r:embed="rId4"/>
          <a:stretch/>
        </p:blipFill>
        <p:spPr>
          <a:xfrm>
            <a:off x="6084720" y="4797360"/>
            <a:ext cx="9525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916360" y="2349360"/>
            <a:ext cx="3600360" cy="1727280"/>
          </a:xfrm>
          <a:prstGeom prst="cloudCallout">
            <a:avLst>
              <a:gd name="adj1" fmla="val -35361"/>
              <a:gd name="adj2" fmla="val 40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6600"/>
                </a:solidFill>
                <a:latin typeface="Arial"/>
              </a:rPr>
              <a:t>ЛУ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84360" y="189000"/>
            <a:ext cx="360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Место об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0360" y="119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Пища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773360"/>
            <a:ext cx="2916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Пастби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для домаш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32720" y="3789360"/>
            <a:ext cx="2411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Защи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и укрытие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хищ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32000" y="5013360"/>
            <a:ext cx="338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Лекар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трав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084720" y="1628280"/>
            <a:ext cx="1008360" cy="86364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67280" y="3789360"/>
            <a:ext cx="1008360" cy="72072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2268360" y="3068280"/>
            <a:ext cx="648000" cy="7308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3131640" y="1197000"/>
            <a:ext cx="1295640" cy="122400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427280" y="4005360"/>
            <a:ext cx="215640" cy="107928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0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500"/>
                            </p:stCondLst>
                            <p:childTnLst>
                              <p:par>
                                <p:cTn id="5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4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500"/>
                            </p:stCondLst>
                            <p:childTnLst>
                              <p:par>
                                <p:cTn id="5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500"/>
                            </p:stCondLst>
                            <p:childTnLst>
                              <p:par>
                                <p:cTn id="5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340000" y="2492280"/>
            <a:ext cx="4608360" cy="237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2781360"/>
            <a:ext cx="46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Зна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луга дл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1413000"/>
            <a:ext cx="194436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64000" y="404640"/>
            <a:ext cx="194472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77080" y="1268280"/>
            <a:ext cx="1944720" cy="935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5084640"/>
            <a:ext cx="1944720" cy="935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48000" y="5632560"/>
            <a:ext cx="2592360" cy="1225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20000" y="5157720"/>
            <a:ext cx="1944720" cy="935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64000" y="549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сенок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8360" y="148428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я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5300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мё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3200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Лекарственные                  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64360" y="53006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гри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572000" y="1268280"/>
            <a:ext cx="0" cy="1224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1476000" y="2349360"/>
            <a:ext cx="1150920" cy="7192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732720" y="2205000"/>
            <a:ext cx="1295280" cy="936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763640" y="4508640"/>
            <a:ext cx="1224000" cy="57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4869000"/>
            <a:ext cx="0" cy="79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43640" y="4437000"/>
            <a:ext cx="1440000" cy="72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7800" y="155736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пастб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600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70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750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8500"/>
                            </p:stCondLst>
                            <p:childTnLst>
                              <p:par>
                                <p:cTn id="6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90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8360" y="4388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 Black"/>
              </a:rPr>
              <a:t>Не собирай много луговых цветов!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11617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Не жги сухую траву на лугах весной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Не оставляй на лугу мусор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Не разоряй птичьи гнёз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256392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Не разоряй гнезд шмел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Не рви цветы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4640" y="3715200"/>
            <a:ext cx="7933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        </a:t>
            </a: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Бабочка – махаон, многие виды шмел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растения купальница, колокольчик уже с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редкими и занесены в Красную книгу</a:t>
            </a:r>
            <a:r>
              <a:rPr b="0" lang="en-US" sz="1800" spc="-1" strike="noStrike">
                <a:solidFill>
                  <a:srgbClr val="006600"/>
                </a:solidFill>
                <a:latin typeface="Garamond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9000" y="5175000"/>
            <a:ext cx="81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Те участки лугов, где особенно много красив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редких растений и насекомых, люди берут п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охрану.</a:t>
            </a:r>
            <a:r>
              <a:rPr b="0" lang="en-US" sz="1800" spc="-1" strike="noStrike">
                <a:solidFill>
                  <a:srgbClr val="0066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5867280" y="1557360"/>
            <a:ext cx="288144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788000" y="501336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3995640" y="2997360"/>
            <a:ext cx="1074960" cy="1087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1476360" y="5707080"/>
            <a:ext cx="1136520" cy="1150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6273720" y="3257640"/>
            <a:ext cx="2870280" cy="3600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395280" y="5019840"/>
            <a:ext cx="952560" cy="18381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0" y="2205000"/>
            <a:ext cx="1523880" cy="14842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8"/>
          <a:stretch/>
        </p:blipFill>
        <p:spPr>
          <a:xfrm>
            <a:off x="2987640" y="4869000"/>
            <a:ext cx="1511280" cy="1989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2268360" y="1197000"/>
            <a:ext cx="53992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регите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уга!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9"/>
          <a:stretch/>
        </p:blipFill>
        <p:spPr>
          <a:xfrm>
            <a:off x="468360" y="3789360"/>
            <a:ext cx="1279440" cy="12952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2160720" cy="1974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1"/>
          <a:stretch/>
        </p:blipFill>
        <p:spPr>
          <a:xfrm>
            <a:off x="1763640" y="2637000"/>
            <a:ext cx="1368360" cy="18000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12" descr="ani-bird_blue.gif"/>
          <p:cNvPicPr/>
          <p:nvPr/>
        </p:nvPicPr>
        <p:blipFill>
          <a:blip r:embed="rId12"/>
          <a:stretch/>
        </p:blipFill>
        <p:spPr>
          <a:xfrm>
            <a:off x="4500720" y="620640"/>
            <a:ext cx="123804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03280" y="76500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112536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260280"/>
            <a:ext cx="8496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Луг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–это безлесные пространства, покрытые травянистой раститель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1628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4023"/>
                </a:solidFill>
                <a:latin typeface="Arial"/>
              </a:rPr>
              <a:t>зал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6165720"/>
            <a:ext cx="26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4023"/>
                </a:solidFill>
                <a:latin typeface="Arial"/>
              </a:rPr>
              <a:t>суход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360" y="1628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4023"/>
                </a:solidFill>
                <a:latin typeface="Arial"/>
              </a:rPr>
              <a:t>го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4464000" cy="216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987640" y="4221000"/>
            <a:ext cx="3960720" cy="2121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788000" y="2060640"/>
            <a:ext cx="4186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" descr=""/>
          <p:cNvPicPr/>
          <p:nvPr/>
        </p:nvPicPr>
        <p:blipFill>
          <a:blip r:embed="rId3"/>
          <a:stretch/>
        </p:blipFill>
        <p:spPr>
          <a:xfrm>
            <a:off x="755640" y="-603360"/>
            <a:ext cx="7497720" cy="3357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00320" y="2276640"/>
            <a:ext cx="36702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Зла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Боб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Лекарственные тр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Ядовитые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012000" y="4508640"/>
            <a:ext cx="1135080" cy="1493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0" y="5019840"/>
            <a:ext cx="952560" cy="183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8008920" y="5364000"/>
            <a:ext cx="1135080" cy="1494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132000" y="5084640"/>
            <a:ext cx="11350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5"/>
          <p:cNvSpPr/>
          <p:nvPr/>
        </p:nvSpPr>
        <p:spPr>
          <a:xfrm>
            <a:off x="0" y="371628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тимофеевка луг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276720" y="3429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ежа сбо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0" y="6021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мятл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луг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5120" y="5805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лисох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156360" y="260280"/>
            <a:ext cx="273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лаковые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" descr="http://www.irishwildflowers.ie/images/grasses/g-3a2.jpg"/>
          <p:cNvPicPr/>
          <p:nvPr/>
        </p:nvPicPr>
        <p:blipFill>
          <a:blip r:embed="rId4"/>
          <a:stretch/>
        </p:blipFill>
        <p:spPr>
          <a:xfrm>
            <a:off x="2268360" y="4149720"/>
            <a:ext cx="3600720" cy="2473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http://www.deti.religiousbook.org.ua/img/etza.jpg"/>
          <p:cNvPicPr/>
          <p:nvPr/>
        </p:nvPicPr>
        <p:blipFill>
          <a:blip r:embed="rId5"/>
          <a:stretch/>
        </p:blipFill>
        <p:spPr>
          <a:xfrm>
            <a:off x="3059280" y="260280"/>
            <a:ext cx="2647800" cy="3240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http://www.nrk.cross-ipk.ru/body/galleries/arctica_flowers/gavrilo/alopecurus_vulgaris.jpg"/>
          <p:cNvPicPr/>
          <p:nvPr/>
        </p:nvPicPr>
        <p:blipFill>
          <a:blip r:embed="rId6"/>
          <a:stretch/>
        </p:blipFill>
        <p:spPr>
          <a:xfrm>
            <a:off x="6012000" y="2133720"/>
            <a:ext cx="3001680" cy="3160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http://nature.baikal.ru/phs/norm/57/57538.jpg"/>
          <p:cNvPicPr/>
          <p:nvPr/>
        </p:nvPicPr>
        <p:blipFill>
          <a:blip r:embed="rId7"/>
          <a:stretch/>
        </p:blipFill>
        <p:spPr>
          <a:xfrm>
            <a:off x="250920" y="189000"/>
            <a:ext cx="2484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Прямоугольник 1" descr=""/>
          <p:cNvPicPr/>
          <p:nvPr/>
        </p:nvPicPr>
        <p:blipFill>
          <a:blip r:embed="rId2"/>
          <a:stretch/>
        </p:blipFill>
        <p:spPr>
          <a:xfrm>
            <a:off x="2987640" y="-387360"/>
            <a:ext cx="5830920" cy="2011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3851280" y="508464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клевер ползу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6588000" y="2205000"/>
            <a:ext cx="23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вика мыши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/мышиный горошек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684360" y="342900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клевер луг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 rot="15274800">
            <a:off x="4543560" y="1369800"/>
            <a:ext cx="885600" cy="971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678720" y="3203640"/>
            <a:ext cx="2465280" cy="3654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 rot="2739000">
            <a:off x="7998840" y="3745440"/>
            <a:ext cx="747720" cy="689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http://likrosluna.files.wordpress.com/2012/03/d0bad0bed0bdd18ed188d0b8d0bdd0b0-d187d0b5d180d0b2d0bed0bdd0b0_.jpg?w=300&amp;h=225"/>
          <p:cNvPicPr/>
          <p:nvPr/>
        </p:nvPicPr>
        <p:blipFill>
          <a:blip r:embed="rId6"/>
          <a:stretch/>
        </p:blipFill>
        <p:spPr>
          <a:xfrm>
            <a:off x="539640" y="836640"/>
            <a:ext cx="2592360" cy="2378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http://www.uzhniy.ru/thumbs/upload/catalog/soputstvuyushie/Gazon-Rivendell.jpg-thumb(240,240,noscale).jpg"/>
          <p:cNvPicPr/>
          <p:nvPr/>
        </p:nvPicPr>
        <p:blipFill>
          <a:blip r:embed="rId7"/>
          <a:stretch/>
        </p:blipFill>
        <p:spPr>
          <a:xfrm>
            <a:off x="3635280" y="2924280"/>
            <a:ext cx="2481480" cy="2089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http://www.plantarium.ru/dat/plants/6/614/69614_4d8028f0.jpg"/>
          <p:cNvPicPr/>
          <p:nvPr/>
        </p:nvPicPr>
        <p:blipFill>
          <a:blip r:embed="rId8"/>
          <a:stretch/>
        </p:blipFill>
        <p:spPr>
          <a:xfrm>
            <a:off x="395280" y="3860640"/>
            <a:ext cx="2881440" cy="2664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351960" y="6093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клевер швед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985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cc"/>
                </a:solidFill>
                <a:latin typeface="Calibri"/>
              </a:rPr>
              <a:t>Лекарственные</a:t>
            </a:r>
            <a:br>
              <a:rPr sz="4400"/>
            </a:br>
            <a:r>
              <a:rPr b="1" i="1" lang="en-US" sz="4400" spc="-1" strike="noStrike">
                <a:solidFill>
                  <a:srgbClr val="6600cc"/>
                </a:solidFill>
                <a:latin typeface="Calibri"/>
              </a:rPr>
              <a:t> тра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843280" y="1773360"/>
            <a:ext cx="2952720" cy="237636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192720" y="0"/>
            <a:ext cx="2951280" cy="393372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6288840" y="3933720"/>
            <a:ext cx="26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тысячелис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250920" y="393372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одуван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4221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зверо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6237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одорож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60357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Ромашка непахуч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http://club.foto.ru/gallery/images/photo/2009/05/31/1353595.jpg"/>
          <p:cNvPicPr/>
          <p:nvPr/>
        </p:nvPicPr>
        <p:blipFill>
          <a:blip r:embed="rId4"/>
          <a:stretch/>
        </p:blipFill>
        <p:spPr>
          <a:xfrm>
            <a:off x="250920" y="907920"/>
            <a:ext cx="2016000" cy="3097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http://medprep.info/img/herb/280_312_1.jpg"/>
          <p:cNvPicPr/>
          <p:nvPr/>
        </p:nvPicPr>
        <p:blipFill>
          <a:blip r:embed="rId5"/>
          <a:stretch/>
        </p:blipFill>
        <p:spPr>
          <a:xfrm>
            <a:off x="539640" y="4365720"/>
            <a:ext cx="2718000" cy="2022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http://molbiol.ru/forums/uploads/a001/b010/post-12150-1171826978.jpg"/>
          <p:cNvPicPr/>
          <p:nvPr/>
        </p:nvPicPr>
        <p:blipFill>
          <a:blip r:embed="rId6"/>
          <a:stretch/>
        </p:blipFill>
        <p:spPr>
          <a:xfrm>
            <a:off x="4427640" y="4797360"/>
            <a:ext cx="252072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35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350"/>
                            </p:stCondLst>
                            <p:childTnLst>
                              <p:par>
                                <p:cTn id="1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950"/>
                            </p:stCondLst>
                            <p:childTnLst>
                              <p:par>
                                <p:cTn id="1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400"/>
                            </p:stCondLst>
                            <p:childTnLst>
                              <p:par>
                                <p:cTn id="1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80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9"/>
          <p:cNvSpPr/>
          <p:nvPr/>
        </p:nvSpPr>
        <p:spPr>
          <a:xfrm>
            <a:off x="7236000" y="31417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олы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1" descr=""/>
          <p:cNvPicPr/>
          <p:nvPr/>
        </p:nvPicPr>
        <p:blipFill>
          <a:blip r:embed="rId2"/>
          <a:stretch/>
        </p:blipFill>
        <p:spPr>
          <a:xfrm>
            <a:off x="826920" y="-387360"/>
            <a:ext cx="6473880" cy="1528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335640" y="4005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нивя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75240" y="414972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колокольч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83280" y="4562640"/>
            <a:ext cx="3060720" cy="2295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24000" y="4292640"/>
            <a:ext cx="3313080" cy="256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93160" y="5805360"/>
            <a:ext cx="149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васил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с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042920" y="1916280"/>
            <a:ext cx="943200" cy="1190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http://fless.ru/files/images/Image/e46d57fd131b8519054b0c9b39dc7964.jpg"/>
          <p:cNvPicPr/>
          <p:nvPr/>
        </p:nvPicPr>
        <p:blipFill>
          <a:blip r:embed="rId6"/>
          <a:stretch/>
        </p:blipFill>
        <p:spPr>
          <a:xfrm>
            <a:off x="6877080" y="115920"/>
            <a:ext cx="2089080" cy="3141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http://www.supersadovnik.ru/site_images/00000014/00045233.jpg"/>
          <p:cNvPicPr/>
          <p:nvPr/>
        </p:nvPicPr>
        <p:blipFill>
          <a:blip r:embed="rId7"/>
          <a:stretch/>
        </p:blipFill>
        <p:spPr>
          <a:xfrm>
            <a:off x="2916360" y="836640"/>
            <a:ext cx="3821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7400" y="34290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гвозд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19680000">
            <a:off x="3924360" y="836280"/>
            <a:ext cx="1284120" cy="1152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68360" y="5300640"/>
            <a:ext cx="1104840" cy="1012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551640" y="38606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Конский щав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132000" y="3068640"/>
            <a:ext cx="3140280" cy="3357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804000" y="4508640"/>
            <a:ext cx="1944720" cy="1596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843280" y="64008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Василёк луг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280836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6335640" y="189000"/>
            <a:ext cx="2629080" cy="338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5:37:14Z</dcterms:created>
  <dc:creator>Admin</dc:creator>
  <dc:description/>
  <dc:language>en-US</dc:language>
  <cp:lastModifiedBy>SSS</cp:lastModifiedBy>
  <dcterms:modified xsi:type="dcterms:W3CDTF">2013-03-29T18:14:17Z</dcterms:modified>
  <cp:revision>1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2b0000000000010243100207f6000400038000</vt:lpwstr>
  </property>
</Properties>
</file>