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2C7-23A0-4A71-B7B2-153E53AC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EE3-12DF-4E47-BC24-CB6675EF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13A-685B-4517-BE13-E1C75F1F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981-91DA-44DD-87ED-46AE5D07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2D6-98B2-47B0-B800-AE99AD96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345C-039E-44C7-97A3-36381512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EF2B-9230-4985-9109-AE62CFEC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61DE-6A77-45F5-867B-79F0F607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57A-EDA9-45CA-9281-3E09A5DB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86E-328A-4E1C-9187-073D23FC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96F-730D-4E5E-B2F0-9293BF1F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1E80-2485-4B90-AC87-21019A65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B12B-3475-4D86-BDB7-AB48B8AC6D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777528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изнь парижских улиц в творчестве художников импрессионистов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0" y="565956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Презентация Маркиной Анастаси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юстав Кайбо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(1848—189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Картинка 4 из 1911"/>
          <p:cNvPicPr/>
          <p:nvPr/>
        </p:nvPicPr>
        <p:blipFill>
          <a:blip r:embed="rId1"/>
          <a:stretch/>
        </p:blipFill>
        <p:spPr>
          <a:xfrm>
            <a:off x="235080" y="1285920"/>
            <a:ext cx="3979800" cy="50720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4284720" y="234936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йбот нарисовал приблизительно 500 работ в стиле зачастую еще более реалистическом, чем работы его друзей импрессионистов. Художник представляет особенно часто виды Парижских улиц, сделанных с высоких балконов, сцены из рабочей жизни, естественные пейзажи садов и парков и навигационные сцены (на Сен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го большое внимание к реалистической живописи, его цветные ноты и его обработка света делает его хорошим импрессионистским художником, работы которого оригинальны и разнообраз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4356000" y="1341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ранцузский коллекционер и живописец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итель импресси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76327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Парижская улица, дождливый день». 18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Парижская улица, ненастье"/>
          <p:cNvPicPr/>
          <p:nvPr/>
        </p:nvPicPr>
        <p:blipFill>
          <a:blip r:embed="rId1"/>
          <a:stretch/>
        </p:blipFill>
        <p:spPr>
          <a:xfrm>
            <a:off x="1332000" y="620640"/>
            <a:ext cx="6095880" cy="46958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611280" y="538020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- самая известная картина художника, она демонстрировалась на третьей импрессионистской выставке на улице Лё Пелетье, её не очень хорошо приняли критики. «Событие» писал об этой картине: «рисунок хорошего качества, но Кайботт забыл нарисовать дождь». В любом случае, это одно из лучших описаний Парижа девятнадцатого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 (346x505, 32Kb)"/>
          <p:cNvPicPr/>
          <p:nvPr/>
        </p:nvPicPr>
        <p:blipFill>
          <a:blip r:embed="rId1"/>
          <a:stretch/>
        </p:blipFill>
        <p:spPr>
          <a:xfrm>
            <a:off x="0" y="836640"/>
            <a:ext cx="3564000" cy="4809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 (385x513, 46Kb)"/>
          <p:cNvPicPr/>
          <p:nvPr/>
        </p:nvPicPr>
        <p:blipFill>
          <a:blip r:embed="rId2"/>
          <a:stretch/>
        </p:blipFill>
        <p:spPr>
          <a:xfrm>
            <a:off x="4643280" y="836640"/>
            <a:ext cx="3667320" cy="48862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204120" y="26028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лодой человек у окна 187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4650120" y="260280"/>
            <a:ext cx="32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пельсиновые деревья 187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0" y="56577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ногие картины Кайботта изображают членов его семьи и повседневную жизнь. На полотне «Молодой человек у окна» (1875 г.) запечатлен брат Рене в доме на улице де Миромениль, а на «Апельсиновых деревьях» (1878 г.) изображён младший брат Марсьяль с двоюродной сестрой Зое в их саду в Йер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 (543x371, 46Kb)"/>
          <p:cNvPicPr/>
          <p:nvPr/>
        </p:nvPicPr>
        <p:blipFill>
          <a:blip r:embed="rId1"/>
          <a:stretch/>
        </p:blipFill>
        <p:spPr>
          <a:xfrm>
            <a:off x="0" y="1628640"/>
            <a:ext cx="4110120" cy="2880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826920" y="333360"/>
            <a:ext cx="74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иболее ярко его индивидуальность проявилась в изображении сцен из жизни рабочих и в видах Парижа , например, "Мост Европы" (1877, Художественный институт, Чикаг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 (484x383, 45Kb)"/>
          <p:cNvPicPr/>
          <p:nvPr/>
        </p:nvPicPr>
        <p:blipFill>
          <a:blip r:embed="rId2"/>
          <a:stretch/>
        </p:blipFill>
        <p:spPr>
          <a:xfrm>
            <a:off x="4076640" y="2970360"/>
            <a:ext cx="5067360" cy="38876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8"/>
          <p:cNvSpPr/>
          <p:nvPr/>
        </p:nvSpPr>
        <p:spPr>
          <a:xfrm>
            <a:off x="5660280" y="220500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Мост Европы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7384320" y="220500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8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755640" y="479988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"Площадь Европы ". 187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over68"/>
          <p:cNvPicPr/>
          <p:nvPr/>
        </p:nvPicPr>
        <p:blipFill>
          <a:blip r:embed="rId1"/>
          <a:stretch/>
        </p:blipFill>
        <p:spPr>
          <a:xfrm>
            <a:off x="179280" y="981000"/>
            <a:ext cx="3841920" cy="50403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179280" y="189000"/>
            <a:ext cx="64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 многих работах Кайботт использует очень высокий угол зрения, как, например, изображение балк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 (378x494, 43Kb)"/>
          <p:cNvPicPr/>
          <p:nvPr/>
        </p:nvPicPr>
        <p:blipFill>
          <a:blip r:embed="rId2"/>
          <a:stretch/>
        </p:blipFill>
        <p:spPr>
          <a:xfrm>
            <a:off x="5003640" y="1052640"/>
            <a:ext cx="3924360" cy="50608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493236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ужчина на балконе 1880 г. частная колл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ужчина на балконе, бульвар Осман 1880 г. частная колл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 (440x487, 52Kb)"/>
          <p:cNvPicPr/>
          <p:nvPr/>
        </p:nvPicPr>
        <p:blipFill>
          <a:blip r:embed="rId1"/>
          <a:stretch/>
        </p:blipFill>
        <p:spPr>
          <a:xfrm>
            <a:off x="0" y="1268280"/>
            <a:ext cx="4191120" cy="463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 (429x510, 53Kb)"/>
          <p:cNvPicPr/>
          <p:nvPr/>
        </p:nvPicPr>
        <p:blipFill>
          <a:blip r:embed="rId2"/>
          <a:stretch/>
        </p:blipFill>
        <p:spPr>
          <a:xfrm>
            <a:off x="4572000" y="1125360"/>
            <a:ext cx="4086360" cy="48578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5"/>
          <p:cNvSpPr/>
          <p:nvPr/>
        </p:nvSpPr>
        <p:spPr>
          <a:xfrm>
            <a:off x="0" y="189000"/>
            <a:ext cx="60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 многих работах Кайботт использует очень высокий угол зрения, как, например, изображение балк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186840" y="609300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алкон 1880 г. частная колл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4365000" y="6093000"/>
            <a:ext cx="45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зорная решетка 1880 г. частная колл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3"/>
          <p:cNvSpPr/>
          <p:nvPr/>
        </p:nvSpPr>
        <p:spPr>
          <a:xfrm>
            <a:off x="0" y="5103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881 г. Кайботт приобрёл поместье в Пети-Женвилье на берегах Сены близ Аржантея и переехал туда существовать в 1888 г. Он посвятил себя садоводству и строительству гоночных яхт. Как говорят многие источники, незадолго до смерти у него была любовная связь с женщиной значительно моложе его, Эмили Шлаух, при всем при том этому нет официальных свидетельств. Кайботт скончался 21 февраля 1894 г. во время работы в своём саду в Пети-Женвилье. Он похоронен на кладбище Пер-Лашез в Пари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106"/>
          <p:cNvPicPr/>
          <p:nvPr/>
        </p:nvPicPr>
        <p:blipFill>
          <a:blip r:embed="rId1"/>
          <a:stretch/>
        </p:blipFill>
        <p:spPr>
          <a:xfrm>
            <a:off x="1403280" y="0"/>
            <a:ext cx="63975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4:03:28Z</dcterms:created>
  <dc:creator>Настя</dc:creator>
  <dc:description/>
  <dc:language>en-US</dc:language>
  <cp:lastModifiedBy>Долгих</cp:lastModifiedBy>
  <dcterms:modified xsi:type="dcterms:W3CDTF">2011-10-12T04:55:01Z</dcterms:modified>
  <cp:revision>11</cp:revision>
  <dc:subject/>
  <dc:title>Жизнь парижских улиц в творчестве художников импрессионистов.</dc:title>
</cp:coreProperties>
</file>