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A0D-41CA-43D4-B919-42248FC2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A45-C20E-4251-BC80-CBF2E8F4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0FE-2FBD-4455-8613-AD3B3D98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4D16-3FDA-42D3-821B-AF7EB3AC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1C3-3B1E-4B0D-B01B-6CEDB2D0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C8A-1658-4937-8C65-DD4F534F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439-B91C-4AF8-869C-8489CD93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4F6-56E8-44D6-A44A-6FDB161F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9BA-1796-4B5E-B707-E278DB73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F45-BD04-4487-80D9-6467812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409-2432-4271-B488-653B93D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621-2A42-4E76-97FC-D197ABCA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0700-EF64-4DFE-AB29-5CE962CED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528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изнь парижских улиц в творчестве художников импрессионистов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0" y="565956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Презентация Маркиной Анастаси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юстав Кайбо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(1848—189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Картинка 4 из 1911"/>
          <p:cNvPicPr/>
          <p:nvPr/>
        </p:nvPicPr>
        <p:blipFill>
          <a:blip r:embed="rId1"/>
          <a:stretch/>
        </p:blipFill>
        <p:spPr>
          <a:xfrm>
            <a:off x="235080" y="1285920"/>
            <a:ext cx="3979800" cy="50720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4284720" y="2349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йбот нарисовал приблизительно 500 работ в стиле зачастую еще более реалистическом, чем работы его друзей импрессионистов. Художник представляет особенно часто виды Парижских улиц, сделанных с высоких балконов, сцены из рабочей жизни, естественные пейзажи садов и парков и навигационные сцены (на Сен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большое внимание к реалистической живописи, его цветные ноты и его обработка света делает его хорошим импрессионистским художником, работы которого оригинальны и разнообраз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4356000" y="134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анцузский коллекционер и живописе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итель импресси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76327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арижская улица, дождливый день». 18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Парижская улица, ненастье"/>
          <p:cNvPicPr/>
          <p:nvPr/>
        </p:nvPicPr>
        <p:blipFill>
          <a:blip r:embed="rId1"/>
          <a:stretch/>
        </p:blipFill>
        <p:spPr>
          <a:xfrm>
            <a:off x="1332000" y="620640"/>
            <a:ext cx="6095880" cy="4695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611280" y="538020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- самая известная картина художника, она демонстрировалась на третьей импрессионистской выставке на улице Лё Пелетье, её не очень хорошо приняли критики. «Событие» писал об этой картине: «рисунок хорошего качества, но Кайботт забыл нарисовать дождь». В любом случае, это одно из лучших описаний Парижа девятнадцатого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 (346x505, 32Kb)"/>
          <p:cNvPicPr/>
          <p:nvPr/>
        </p:nvPicPr>
        <p:blipFill>
          <a:blip r:embed="rId1"/>
          <a:stretch/>
        </p:blipFill>
        <p:spPr>
          <a:xfrm>
            <a:off x="0" y="836640"/>
            <a:ext cx="3564000" cy="4809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 (385x513, 46Kb)"/>
          <p:cNvPicPr/>
          <p:nvPr/>
        </p:nvPicPr>
        <p:blipFill>
          <a:blip r:embed="rId2"/>
          <a:stretch/>
        </p:blipFill>
        <p:spPr>
          <a:xfrm>
            <a:off x="4643280" y="836640"/>
            <a:ext cx="3667320" cy="48862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04120" y="26028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лодой человек у окна 187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4650120" y="26028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пельсиновые деревья 187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0" y="56577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ногие картины Кайботта изображают членов его семьи и повседневную жизнь. На полотне «Молодой человек у окна» (1875 г.) запечатлен брат Рене в доме на улице де Миромениль, а на «Апельсиновых деревьях» (1878 г.) изображён младший брат Марсьяль с двоюродной сестрой Зое в их саду в Йер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 (543x371, 46Kb)"/>
          <p:cNvPicPr/>
          <p:nvPr/>
        </p:nvPicPr>
        <p:blipFill>
          <a:blip r:embed="rId1"/>
          <a:stretch/>
        </p:blipFill>
        <p:spPr>
          <a:xfrm>
            <a:off x="0" y="1628640"/>
            <a:ext cx="4110120" cy="2880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826920" y="333360"/>
            <a:ext cx="74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иболее ярко его индивидуальность проявилась в изображении сцен из жизни рабочих и в видах Парижа , например, "Мост Европы" (1877, Художественный институт, Чикаг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 (484x383, 45Kb)"/>
          <p:cNvPicPr/>
          <p:nvPr/>
        </p:nvPicPr>
        <p:blipFill>
          <a:blip r:embed="rId2"/>
          <a:stretch/>
        </p:blipFill>
        <p:spPr>
          <a:xfrm>
            <a:off x="4076640" y="2970360"/>
            <a:ext cx="5067360" cy="388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8"/>
          <p:cNvSpPr/>
          <p:nvPr/>
        </p:nvSpPr>
        <p:spPr>
          <a:xfrm>
            <a:off x="5660280" y="22050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Мост Европы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384320" y="22050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8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755640" y="47998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"Площадь Европы ". 187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over68"/>
          <p:cNvPicPr/>
          <p:nvPr/>
        </p:nvPicPr>
        <p:blipFill>
          <a:blip r:embed="rId1"/>
          <a:stretch/>
        </p:blipFill>
        <p:spPr>
          <a:xfrm>
            <a:off x="179280" y="981000"/>
            <a:ext cx="3841920" cy="50403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179280" y="18900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многих работах Кайботт использует очень высокий угол зрения, как, например, изображение балк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 (378x494, 43Kb)"/>
          <p:cNvPicPr/>
          <p:nvPr/>
        </p:nvPicPr>
        <p:blipFill>
          <a:blip r:embed="rId2"/>
          <a:stretch/>
        </p:blipFill>
        <p:spPr>
          <a:xfrm>
            <a:off x="5003640" y="1052640"/>
            <a:ext cx="3924360" cy="50608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493236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жчина на балконе 1880 г. частная кол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жчина на балконе, бульвар Осман 1880 г. частная кол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 (440x487, 52Kb)"/>
          <p:cNvPicPr/>
          <p:nvPr/>
        </p:nvPicPr>
        <p:blipFill>
          <a:blip r:embed="rId1"/>
          <a:stretch/>
        </p:blipFill>
        <p:spPr>
          <a:xfrm>
            <a:off x="0" y="1268280"/>
            <a:ext cx="4191120" cy="463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 (429x510, 53Kb)"/>
          <p:cNvPicPr/>
          <p:nvPr/>
        </p:nvPicPr>
        <p:blipFill>
          <a:blip r:embed="rId2"/>
          <a:stretch/>
        </p:blipFill>
        <p:spPr>
          <a:xfrm>
            <a:off x="4572000" y="1125360"/>
            <a:ext cx="4086360" cy="48578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0" y="189000"/>
            <a:ext cx="60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 многих работах Кайботт использует очень высокий угол зрения, как, например, изображение балк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186840" y="60930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алкон 1880 г. частная кол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4365000" y="609300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зорная решетка 1880 г. частная кол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0" y="5103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881 г. Кайботт приобрёл поместье в Пети-Женвилье на берегах Сены близ Аржантея и переехал туда существовать в 1888 г. Он посвятил себя садоводству и строительству гоночных яхт. Как говорят многие источники, незадолго до смерти у него была любовная связь с женщиной значительно моложе его, Эмили Шлаух, при всем при том этому нет официальных свидетельств. Кайботт скончался 21 февраля 1894 г. во время работы в своём саду в Пети-Женвилье. Он похоронен на кладбище Пер-Лашез в Пар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106"/>
          <p:cNvPicPr/>
          <p:nvPr/>
        </p:nvPicPr>
        <p:blipFill>
          <a:blip r:embed="rId1"/>
          <a:stretch/>
        </p:blipFill>
        <p:spPr>
          <a:xfrm>
            <a:off x="1403280" y="0"/>
            <a:ext cx="6397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4:03:28Z</dcterms:created>
  <dc:creator>Настя</dc:creator>
  <dc:description/>
  <dc:language>en-US</dc:language>
  <cp:lastModifiedBy>Долгих</cp:lastModifiedBy>
  <dcterms:modified xsi:type="dcterms:W3CDTF">2011-10-12T04:55:01Z</dcterms:modified>
  <cp:revision>11</cp:revision>
  <dc:subject/>
  <dc:title>Жизнь парижских улиц в творчестве художников импрессионистов.</dc:title>
</cp:coreProperties>
</file>