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C8F0-4E1B-4E33-B814-4794734F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7D11-B571-49D2-8629-2D3316E36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AA54-DDFD-43C1-97DD-5AD453D51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D47D-A73E-42F6-B2EE-3F19743868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8295-5B1C-45CC-8B82-632B79E19B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B13D-2922-4200-BC76-324F4668B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527D-E616-4500-B579-13F615BA1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E9B2-9749-4EF0-B7BF-6DA4454D1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160"/>
            <a:ext cx="82105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7291-E9D0-4228-955B-A41394DE1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ED72-8E91-4C82-B923-549E77B97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B462-D8A9-4645-AE74-474DD2817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7574-283C-48E4-B4C7-5C0ABB2AB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0520" cy="14302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17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F9ACD-A939-4A50-BEA2-2CB28BFBD42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4348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DejaVu Sans"/>
              </a:rPr>
              <a:t>Основы религиозных культур и светской э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7640" y="900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DejaVu Sans"/>
              </a:rPr>
              <a:t>Основы православн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844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Наш дом — Росс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279600"/>
            <a:ext cx="4319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Л.А. Ядрышн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ОБУ ООШ №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г. Корен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Краснода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0360" y="3600360"/>
            <a:ext cx="39592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360360"/>
            <a:ext cx="8143920" cy="79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DejaVu Sans"/>
              </a:rPr>
              <a:t>«Наше Отечество – наша Родина – матушка Россия. Отечеством мы называем Россию потому, что в ней жили испокон веков отцы и деды наши. Родиной мы зовем ее потому, что в ней родились. Матерью – потому, что она вскормила нас своим хлебом, вспоила своими водами. Много есть на свете хороших государств, но одна у человека родная мать – одна у него и Родин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DejaVu Sans"/>
              </a:rPr>
              <a:t>К.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6245280"/>
            <a:ext cx="774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Владимир Красное солнышко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1079640"/>
            <a:ext cx="37796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В 988 году Владимир крестился и получил имя Василий. После этого он сделал христианство государственной рели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Принятие христианства поставило Русь в ряд крупнейших европейских госуд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1079640"/>
            <a:ext cx="4592520" cy="33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6245280"/>
            <a:ext cx="7740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Александр Невский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0000" y="1079640"/>
            <a:ext cx="414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Александр Невский одерживал победы над немецкими и шведскими рыцарями, когда они вторгались в пределы Ру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Князь Александр - великий миротворец: он несколько десятилетий удерживал Русь и орду от столкнов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Он причислен к лику свят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770040"/>
            <a:ext cx="2768760" cy="5475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6119640"/>
            <a:ext cx="468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Михаил Кутуз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0360" y="1616040"/>
            <a:ext cx="431964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Генерал-фельдмаршал , главнокомандующий русской армией во время Отечественной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1812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DejaVu Sans"/>
              </a:rPr>
              <a:t>Первый полный кавалер ордена Святого Гео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307512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63720" y="0"/>
            <a:ext cx="6531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Великие люд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9280" y="6245280"/>
            <a:ext cx="46800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34880"/>
                <a:tab algn="l" pos="8841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74080"/>
                <a:tab algn="l" pos="9423360"/>
                <a:tab algn="l" pos="98712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	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   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DejaVu Sans"/>
              </a:rPr>
              <a:t>Георгий Жу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333440"/>
            <a:ext cx="450072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Георгий Жуков выдающийся русский полководец, герой Великой Отечественной вой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Именно маршал Жуков подписы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DejaVu Sans"/>
              </a:rPr>
              <a:t>Акт о безоговорочной капитуляции фашистской Германии и принимал в Москве Парад Побе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64040" y="800280"/>
            <a:ext cx="3435480" cy="541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22480" y="-243000"/>
            <a:ext cx="7156440" cy="351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645000"/>
            <a:ext cx="4751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Наш дом —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	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	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	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73160"/>
            <a:ext cx="3387960" cy="2539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64000" y="2127240"/>
            <a:ext cx="3202200" cy="403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9280" y="179280"/>
            <a:ext cx="5091120" cy="64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Проект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Широко ты, Русь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По лицу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В красе царствен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Развернулася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59040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5759280"/>
            <a:ext cx="7431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Наш дом — Рос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2480" y="360360"/>
            <a:ext cx="7902720" cy="54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19040" y="314280"/>
            <a:ext cx="6780240" cy="508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7800" y="5580000"/>
            <a:ext cx="74311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Герб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89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DejaVu Sans"/>
              </a:rPr>
              <a:t>Собор Василия Блаженного. Москва. Красная площ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759280"/>
            <a:ext cx="774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Флаг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1480" y="620640"/>
            <a:ext cx="7589880" cy="474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720" y="5940360"/>
            <a:ext cx="774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Гимн Российской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360360"/>
            <a:ext cx="558000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DejaVu Sans"/>
              </a:rPr>
              <a:t>Россия —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DejaVu Sans"/>
              </a:rPr>
              <a:t>священная наша держава,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Россия — любимая наша стран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Могучая воля, великая слава —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Твое достоянье на все вре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Славься, Отечество наше свободное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Братских народов союз вековой,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Предками данная мудрость народная!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	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Славься, страна! Мы гордимся тобо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От южных морей до полярного кра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Раскинулись наши леса и поля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Одна ты на свете! Одна ты такая —</a:t>
            </a:r>
            <a:br>
              <a:rPr sz="18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DejaVu Sans"/>
              </a:rPr>
              <a:t>Хранимая Богом родная земля!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Широкий простор для мечты и для жизн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Грядущие нам открывают года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Нам силу дает наша верность Отчизне.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DejaVu Sans"/>
              </a:rPr>
              <a:t>Так было, так есть и так будет всегд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181080" y="1339920"/>
            <a:ext cx="3600720" cy="269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7760" y="5400720"/>
            <a:ext cx="93852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Президент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Путин Владимир Владими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51080" y="260280"/>
            <a:ext cx="4065840" cy="514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79640" y="179280"/>
            <a:ext cx="774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900000"/>
            <a:ext cx="395928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Жура-жура-журавел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блетал он сто земе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блетал, обходи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Крылья, ноги натруд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Мы спросили журавл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Где же лучшая земл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твечал он, пролета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Лучше нет родного кра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541440" y="1101600"/>
            <a:ext cx="5112000" cy="408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8760" y="179280"/>
            <a:ext cx="8210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Моя Родина — Рос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1332000"/>
            <a:ext cx="3780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Живут в России раз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Народы с давних п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Одним тайга по нрав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Другим степной просто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У каждого на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Язык свой и на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А Родина Рос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DejaVu Sans"/>
              </a:rPr>
              <a:t>У нас у всех од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0" y="1128600"/>
            <a:ext cx="4705200" cy="447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708280"/>
            <a:ext cx="4122720" cy="3103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33336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12720" y="5716440"/>
            <a:ext cx="658656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DejaVu Sans"/>
              </a:rPr>
              <a:t>Малая Родина - Ку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71640" y="3432240"/>
            <a:ext cx="2066760" cy="2284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148360" y="260280"/>
            <a:ext cx="3749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