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987E-8D6F-46BB-A758-EFF66D5D0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0834-190D-4225-BAC9-03E6C92C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4E67-645F-4F40-8747-2758606CB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3B28-E40D-4D97-A1E8-0E93CCC73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1538-4F04-45D9-BCEB-7A744DDB4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B6F8-FE5D-4B8E-8036-8CC9291A9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1AE9-04CF-4A9E-AA5D-0CDD389D5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863A-1147-49C3-8DC8-D81C83D8F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05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2F99-4617-4FE4-AC6C-423A2E426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F745-F952-408B-8F99-F400790C7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26D1-C82E-43DB-9E5F-63D6F6C44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4679-D2DD-4C47-9294-F7B5DD846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17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C961E-AEA4-4BFE-BBEF-D5EF53D4E9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4348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DejaVu Sans"/>
              </a:rPr>
              <a:t>Основы религиозных культур и светской э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7640" y="900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DejaVu Sans"/>
              </a:rPr>
              <a:t>Основы православн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844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Наш дом — Росс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279600"/>
            <a:ext cx="4319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Л.А. Ядрышн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ОБУ ООШ №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г. Корен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Краснода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0360" y="360036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60360"/>
            <a:ext cx="8143920" cy="79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DejaVu Sans"/>
              </a:rPr>
              <a:t>«Наше Отечество – наша Родина – матушка Россия. Отечеством мы называем Россию потому, что в ней жили испокон веков отцы и деды наши. Родиной мы зовем ее потому, что в ней родились. Матерью – потому, что она вскормила нас своим хлебом, вспоила своими водами. Много есть на свете хороших государств, но одна у человека родная мать – одна у него и Роди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DejaVu Sans"/>
              </a:rPr>
              <a:t>К.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6245280"/>
            <a:ext cx="774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Владимир Красное солнышко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1079640"/>
            <a:ext cx="3779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В 988 году Владимир крестился и получил имя Василий. После этого он сделал христианство государственной рели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Принятие христианства поставило Русь в ряд крупнейших европейских госуд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1079640"/>
            <a:ext cx="45925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245280"/>
            <a:ext cx="774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Александр Невский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0000" y="1079640"/>
            <a:ext cx="414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Александр Невский одерживал победы над немецкими и шведскими рыцарями, когда они вторгались в пределы Ру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Князь Александр - великий миротворец: он несколько десятилетий удерживал Русь и орду от столкнов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Он причислен к лику свят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770040"/>
            <a:ext cx="2768760" cy="547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6119640"/>
            <a:ext cx="468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Михаил Кутуз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360" y="1616040"/>
            <a:ext cx="431964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Генерал-фельдмаршал , главнокомандующий русской армией во время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1812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Первый полный кавалер ордена Святого Гео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307512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9280" y="6245280"/>
            <a:ext cx="4680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Георгий Жу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333440"/>
            <a:ext cx="450072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Георгий Жуков выдающийся русский полководец, герой Великой Отечественной вой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Именно маршал Жуков подписы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Акт о безоговорочной капитуляции фашистской Германии и принимал в Москве Парад Поб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64040" y="800280"/>
            <a:ext cx="3435480" cy="541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22480" y="-243000"/>
            <a:ext cx="7156440" cy="351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645000"/>
            <a:ext cx="4751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Наш дом —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73160"/>
            <a:ext cx="3387960" cy="2539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64000" y="2127240"/>
            <a:ext cx="320220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9280" y="179280"/>
            <a:ext cx="5091120" cy="64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роект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Широко ты, Ру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По лицу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В красе царствен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Развернулас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59040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5759280"/>
            <a:ext cx="7431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Наш дом — Рос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2480" y="360360"/>
            <a:ext cx="790272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19040" y="314280"/>
            <a:ext cx="6780240" cy="508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7800" y="5580000"/>
            <a:ext cx="74311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89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Собор Василия Блаженного. Москва. Красная 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759280"/>
            <a:ext cx="77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1480" y="620640"/>
            <a:ext cx="7589880" cy="474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720" y="594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Гимн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360360"/>
            <a:ext cx="558000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DejaVu Sans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DejaVu Sans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DejaVu Sans"/>
              </a:rPr>
              <a:t>Хранимая Богом родная земля!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1339920"/>
            <a:ext cx="360072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7760" y="5400720"/>
            <a:ext cx="9385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резидент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утин Владимир Владими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51080" y="260280"/>
            <a:ext cx="4065840" cy="514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79640" y="179280"/>
            <a:ext cx="774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900000"/>
            <a:ext cx="395928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Жура-жура-жураве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блетал он сто земе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блетал, обходи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Крылья, ноги натруд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Мы спросили журав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Где же лучшая земл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твечал он, пролет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Лучше нет родного кра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41440" y="1101600"/>
            <a:ext cx="51120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8760" y="179280"/>
            <a:ext cx="8210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Моя Родина — Рос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1332000"/>
            <a:ext cx="378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Живут в России раз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Народы с давних п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дним тайга по нра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Другим степной прост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У каждого на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Язык свой и на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А Родина Рос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У нас у всех о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0" y="1128600"/>
            <a:ext cx="4705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708280"/>
            <a:ext cx="4122720" cy="3103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33336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12720" y="5716440"/>
            <a:ext cx="65865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Малая Родина - Ку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3432240"/>
            <a:ext cx="2066760" cy="228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148360" y="260280"/>
            <a:ext cx="3749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