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5D20-97B0-457E-A55C-71F027AE04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5C9C-36C1-454D-BEDE-5BC1D96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3E8E-9D2A-459B-B90A-0CFAD35D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0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788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712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0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788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1466-989B-4C45-8660-CBA8B2B2C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6009-11F0-4E45-A3F0-C9DD8F58C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99377-D874-40D8-B323-D7707DC4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713F1-303F-4392-8F5C-6D814DA7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6853D-3464-4C91-9D1D-7FD4AFB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53C17-F212-449F-93A7-96737980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37680"/>
            <a:ext cx="822636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6EAE5-367E-4404-A823-17993BF8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4E4F-0668-44BD-A0F2-B8D6AF4F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76A2-385D-47A5-8F0E-721994B0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C9106-3B42-4C3C-9B87-EC260296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BF1FE-012B-49EC-A79E-806E83D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7D786-D8BC-423C-845D-BC8E3A0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668B-A463-414B-9901-96E92DA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50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8800" y="267444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712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50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8800" y="4529520"/>
            <a:ext cx="23842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2F28E-6686-4FBE-AD46-317B59CA9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010D-72E4-476D-AD31-9C76430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3E78-519C-4983-ADAB-55B2EED8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F3D6-32A4-4619-A404-F38212ED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37680"/>
            <a:ext cx="8226360" cy="57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3DA7-69A7-48E9-AC3B-B84D2635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52BB-70C7-4243-A405-F7D6003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452952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CB66-F16F-44C0-A9C8-265FFCF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7120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2674440"/>
            <a:ext cx="361368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71200" y="4529520"/>
            <a:ext cx="7405560" cy="1693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213D-C024-4FE1-98F9-1334CAFC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472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694720" cy="603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1231560"/>
            <a:ext cx="7769160" cy="2144520"/>
          </a:xfrm>
          <a:prstGeom prst="rect">
            <a:avLst/>
          </a:prstGeom>
          <a:noFill/>
          <a:ln w="0">
            <a:noFill/>
          </a:ln>
        </p:spPr>
        <p:txBody>
          <a:bodyPr tIns="9144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164200" y="6249600"/>
            <a:ext cx="3782880" cy="390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3990600" y="6249600"/>
            <a:ext cx="1158840" cy="390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0383-78E7-4802-8584-986D4933977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9472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871200" y="2674440"/>
            <a:ext cx="7405560" cy="3551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2000"/>
          </a:bodyPr>
          <a:p>
            <a:pPr marL="3153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15360" indent="-315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164200" y="6249960"/>
            <a:ext cx="3782880" cy="409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29.3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3990600" y="6249600"/>
            <a:ext cx="1158840" cy="414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6947004-48B4-4208-918D-A8F0B03B81F3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6840" y="337680"/>
            <a:ext cx="8226360" cy="1249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Наш дом – РОССИЯ</a:t>
            </a:r>
            <a:br>
              <a:rPr sz="6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ы религиозных культур и светской этик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ы православной культуры.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"/>
          <p:cNvSpPr/>
          <p:nvPr/>
        </p:nvSpPr>
        <p:spPr>
          <a:xfrm>
            <a:off x="403200" y="3240000"/>
            <a:ext cx="8416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Л.А. Ядрышн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МОБУ ООШ №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г. Корен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Краснодарский кр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1560" y="2879640"/>
            <a:ext cx="74088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Это вводный урок в рамках курса «Основы религиозных культур и светской этики», общий для всех моду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чащиеся  должны осознать, что мы все разные, но мы все вместе живем,  учимся, трудимся и гордимся своей Родиной — нашим общим домом - Росс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1560" y="2674800"/>
            <a:ext cx="74088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Россию, без нее нам 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ее, чтобы вечно ей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Нашей правдой 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Всею нашей суд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</a:rPr>
              <a:t>Берегите Россию - нет России дру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удожественно-педагогическая идея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1560" y="2879640"/>
            <a:ext cx="7408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формирование радости жизни,  нравственных ценностей: любви к Родине, своему краю, своему народу, чувства личной ответственности за Отеч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</a:rPr>
              <a:t>воспитание патриотизма у обучающихся и готовности сохранять, распространять и преумножать ценности рус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2700360"/>
            <a:ext cx="89647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формировать представление у обучающихся о России как о многонациональной стране с многовековыми культурными традиция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способствовать формированию у обучающихся мотивации к осознанному нравственному поведению, основанному на знании и уважении культурных и религиозных традиций народов Росс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систематизировать знания о государственной символике РФ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формировать представление у обучающихся о месте и роли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Times New Roman"/>
              </a:rPr>
              <a:t>культурного наследия  в жизни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дачи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079640"/>
            <a:ext cx="867708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Место проведения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учебный кабинет</a:t>
            </a: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Основные термины и понятия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Россия, Родина, Отечество, столица, патриот, президент, государство, символы, полковод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Оборудование: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мультимедийная установка, карты Краснодарского края и Российской Федерации, изображение герба, флага России, гимн России, портреты великих полководцев, писателей и художник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</a:rPr>
              <a:t>Музыкальное оформ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С чего начинается Родина»  сл.  М. Матусовского, муз. В.Басн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«Марш Прощание славянки» (</a:t>
            </a:r>
            <a:r>
              <a:rPr b="0" i="1" lang="ru-RU" sz="1800" spc="-1" strike="noStrike">
                <a:solidFill>
                  <a:srgbClr val="073e87"/>
                </a:solidFill>
                <a:latin typeface="Times New Roman"/>
              </a:rPr>
              <a:t>В. И. Агапкин, А. Мингалёв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) в исполнении Кубанского казачьего х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Марш славянки» в исполнении Жанны Бичев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Россия» (</a:t>
            </a:r>
            <a:r>
              <a:rPr b="0" i="1" lang="ru-RU" sz="1800" spc="-1" strike="noStrike">
                <a:solidFill>
                  <a:srgbClr val="073e87"/>
                </a:solidFill>
                <a:latin typeface="Times New Roman"/>
              </a:rPr>
              <a:t>К.Дерр, Т.Казачкова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) в исполнении Ольги Иван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- Песня «Русь называют святой» в исполнении Архидиакона Романа Тамбе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есто проведения, оборудование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519280"/>
            <a:ext cx="81360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Кураев А.В. «Основы религиозных культур и светской этики.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Основы православной культуры», 4-5кл., учебное пособие для УО, М:Просвещение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Никитин И.С. «Стихи «Времена года», М:Детская литература,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Никитин Э.М. «ОРКСЭ. Диалог о религиозной культуре», Вестник образования России, № 7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Ушинский К.Д. «Избранное», М:Просвещение,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40000"/>
            <a:ext cx="849600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 страница   «Люблю всё то, что называют одним широким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словом Р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I страниц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 Моя Родина - Россия — у нас у всех о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II страница   «Все мы — дети Великой Держав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IV страница   Проект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Создание художественного образ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016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1560" y="2674800"/>
            <a:ext cx="7408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Презентация дл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buClr>
                <a:srgbClr val="31b6fd"/>
              </a:buClr>
              <a:buFont typeface="Symbol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Дидактический материал для создания проектной работы (детали для выполнения апплик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