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6FC3-E3AB-49DE-B35C-F1492CAAD7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FC83-3009-474B-8CDE-FF53239B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343C-3FC6-49AE-AF1C-7EBF16B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0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788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712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0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788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491F-90BE-4194-952C-76084ED24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CF99-199B-42AC-ACE7-53E37E15D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644EA-B0C0-4DDC-BE65-BEFA8C3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5BF9D-168D-4C79-A3C5-EFA7AAE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D6241-D5F5-406E-A0D6-957B0F1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ED31A-1F3C-45E1-A7BA-0BB9B9C4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37680"/>
            <a:ext cx="822636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5C6E1-011D-46C3-BF04-235F87DF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CA484-1185-4B1A-A1CA-52DD164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8D33-653E-4974-9E54-11A0334F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476AA-150A-4397-BE6F-4157B836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6A559-FC32-45E6-9A1B-6080BE3D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9BEC2-BBDD-4FC7-B8C1-FCDBEC92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BEE80-C6B7-4D9C-A254-109AB297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50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88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712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50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88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04E11-231C-4121-9247-F785EF48C1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F072-B8D6-4296-BB09-88D5E87C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C9A1-2648-41CD-A2F6-DECBD75E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FF7C-AFC5-451A-961A-C890A596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37680"/>
            <a:ext cx="822636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E18B-4AD0-4293-9C3A-4F4FC4DA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F551-5E4A-4AFC-838D-E575060B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0BA8-4689-43D8-8D32-D674F5B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AFA0-D220-4BFF-AF7E-D001C15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472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694720" cy="603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31560"/>
            <a:ext cx="7769160" cy="214452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2880" cy="390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8840" cy="390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65D44-8086-415A-8567-48DFC6C8967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9472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2000"/>
          </a:bodyPr>
          <a:p>
            <a:pPr marL="3153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164200" y="6249960"/>
            <a:ext cx="3782880" cy="409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29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3990600" y="6249600"/>
            <a:ext cx="1158840" cy="414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7192C0-3B3A-4350-B434-B63CD0CA7BC0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Наш дом – РОССИЯ</a:t>
            </a:r>
            <a:br>
              <a:rPr sz="6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ы религиозных культур и светской этик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ы православной культур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"/>
          <p:cNvSpPr/>
          <p:nvPr/>
        </p:nvSpPr>
        <p:spPr>
          <a:xfrm>
            <a:off x="403200" y="3240000"/>
            <a:ext cx="8416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Л.А. Ядрышн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МОБУ ООШ №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г. Коре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Краснодарский кр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1560" y="2879640"/>
            <a:ext cx="74088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Это вводный урок в рамках курса «Основы религиозных культур и светской этики», общий для всех моду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чащиеся  должны осознать, что мы все разные, но мы все вместе живем,  учимся, трудимся и гордимся своей Родиной — нашим общим домом - Росс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1560" y="2674800"/>
            <a:ext cx="74088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Россию, без нее нам 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ее, чтобы вечно ей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Нашей правдой 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Всею нашей суд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Россию - нет России дру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удожественно-педагогическая идея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1560" y="2879640"/>
            <a:ext cx="7408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формирование радости жизни,  нравственных ценностей: любви к Родине, своему краю, своему народу, чувства личной ответственности за Оте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воспитание патриотизма у обучающихся и готовности сохранять, распространять и преумножать ценности рус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2700360"/>
            <a:ext cx="89647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формировать представление у обучающихся о России как о многонациональной стране с многовековыми культурными традици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способствовать формированию у обучающихся мотивации к осознанному нравственному поведению, основанному на знании и уважении культурных и религиозных традиций народов Ро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систематизировать знания о государственной символике РФ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формировать представление у обучающихся о месте и роли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культурного наследия  в жизни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079640"/>
            <a:ext cx="867708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Место проведения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учебный кабинет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Основные термины и понятия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Россия, Родина, Отечество, столица, патриот, президент, государство, символы, полково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Оборудование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мультимедийная установка, карты Краснодарского края и Российской Федерации, изображение герба, флага России, гимн России, портреты великих полководцев, писателей и художник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Музыкальное оформ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С чего начинается Родина»  сл.  М. Матусовского, муз. В.Басн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«Марш Прощание славянки» (</a:t>
            </a:r>
            <a:r>
              <a:rPr b="0" i="1" lang="ru-RU" sz="1800" spc="-1" strike="noStrike">
                <a:solidFill>
                  <a:srgbClr val="073e87"/>
                </a:solidFill>
                <a:latin typeface="Times New Roman"/>
              </a:rPr>
              <a:t>В. И. Агапкин, А. Мингалёв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) в исполнении Кубанского казачьего х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Марш славянки» в исполнении Жанны Бичев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Россия» (</a:t>
            </a:r>
            <a:r>
              <a:rPr b="0" i="1" lang="ru-RU" sz="1800" spc="-1" strike="noStrike">
                <a:solidFill>
                  <a:srgbClr val="073e87"/>
                </a:solidFill>
                <a:latin typeface="Times New Roman"/>
              </a:rPr>
              <a:t>К.Дерр, Т.Казачкова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) в исполнении Ольги Иван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Русь называют святой» в исполнении Архидиакона Романа Тамбе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есто проведения, оборудование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519280"/>
            <a:ext cx="81360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Кураев А.В. «Основы религиозных культур и светской этики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Основы православной культуры», 4-5кл., учебное пособие для УО, М:Просвещение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Никитин И.С. «Стихи «Времена года», М:Детская литература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Никитин Э.М. «ОРКСЭ. Диалог о религиозной культуре», Вестник образования России, № 7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шинский К.Д. «Избранное», М:Просвещение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40000"/>
            <a:ext cx="849600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 страница   «Люблю всё то, что называют одним широким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словом Р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I страниц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 Моя Родина - Россия — у нас у всех о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II страница   «Все мы — дети Великой Держа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V страница   Проек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Создание художественного образ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1560" y="2674800"/>
            <a:ext cx="7408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Презентация дл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Дидактический материал для создания проектной работы (детали для выполнения аппл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