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%D0%A3%D1%81%20%D0%BD%D1%8F%D0%BD%D1%8C.wav" ContentType="audio/x-wav"/>
  <Override PartName="/ppt/media/image18.png" ContentType="image/png"/>
  <Override PartName="/ppt/media/image9.png" ContentType="image/png"/>
  <Override PartName="/ppt/media/%D0%A3%D1%81%D0%B0%D1%82.wav" ContentType="audio/x-wav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3648-08DA-4559-A907-FA497774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0530-D52B-4F6E-BD1C-69792195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B04-9F55-4874-AF5C-B799972D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F0C-1559-42A9-BCFE-8B628E14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3B3-2C52-4C5A-9375-4E36D9CB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EB75-E030-4E5B-8524-2B311E49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DB0-AC25-4558-8EB5-88A45873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28DD-E648-4E6F-8A5A-9A40B3CD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805-6B41-4737-8DB9-FD8DFB35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795-0DAE-41EB-A450-A54AF485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F0C-E638-45B4-AD78-BEF1ED68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B1E-3D08-4C60-BCBF-0DEFAE10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7943-33C8-4E30-953C-F23088D8D5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3.png"/><Relationship Id="rId10" Type="http://schemas.openxmlformats.org/officeDocument/2006/relationships/audio" Target="../media/&#1059;&#1089;&#1072;&#1090;.wav"/><Relationship Id="rId11" Type="http://schemas.openxmlformats.org/officeDocument/2006/relationships/audio" Target="../media/&#1059;&#1089;%20&#1085;&#1103;&#1085;&#1100;.wav"/><Relationship Id="rId12" Type="http://schemas.openxmlformats.org/officeDocument/2006/relationships/audio" Target="../media/&#1059;&#1089;&#1072;&#1090;.wav"/><Relationship Id="rId13" Type="http://schemas.openxmlformats.org/officeDocument/2006/relationships/audio" Target="../media/&#1059;&#1089;%20&#1085;&#1103;&#1085;&#1100;.wav"/><Relationship Id="rId14" Type="http://schemas.openxmlformats.org/officeDocument/2006/relationships/audio" Target="../media/&#1059;&#1089;%20&#1085;&#1103;&#1085;&#1100;.wav"/><Relationship Id="rId15" Type="http://schemas.openxmlformats.org/officeDocument/2006/relationships/audio" Target="../media/&#1059;&#1089;&#1072;&#1090;.wav"/><Relationship Id="rId16" Type="http://schemas.openxmlformats.org/officeDocument/2006/relationships/audio" Target="../media/&#1059;&#1089;&#1072;&#1090;.wav"/><Relationship Id="rId17" Type="http://schemas.openxmlformats.org/officeDocument/2006/relationships/audio" Target="../media/&#1059;&#1089;%20&#1085;&#1103;&#1085;&#1100;.wav"/><Relationship Id="rId18" Type="http://schemas.openxmlformats.org/officeDocument/2006/relationships/audio" Target="../media/&#1059;&#1089;%20&#1085;&#1103;&#1085;&#1100;.wav"/><Relationship Id="rId19" Type="http://schemas.openxmlformats.org/officeDocument/2006/relationships/audio" Target="../media/&#1059;&#1089;%20&#1085;&#1103;&#1085;&#1100;.wav"/><Relationship Id="rId20" Type="http://schemas.openxmlformats.org/officeDocument/2006/relationships/audio" Target="../media/&#1059;&#1089;&#1072;&#1090;.wav"/><Relationship Id="rId21" Type="http://schemas.openxmlformats.org/officeDocument/2006/relationships/audio" Target="../media/&#1059;&#1089;&#1072;&#1090;.wav"/><Relationship Id="rId22" Type="http://schemas.openxmlformats.org/officeDocument/2006/relationships/audio" Target="../media/&#1059;&#1089;%20&#1085;&#1103;&#1085;&#1100;.wav"/><Relationship Id="rId23" Type="http://schemas.openxmlformats.org/officeDocument/2006/relationships/audio" Target="../media/&#1059;&#1089;&#1072;&#1090;.wav"/><Relationship Id="rId24" Type="http://schemas.openxmlformats.org/officeDocument/2006/relationships/audio" Target="../media/&#1059;&#1089;&#1072;&#1090;.wav"/><Relationship Id="rId25" Type="http://schemas.openxmlformats.org/officeDocument/2006/relationships/audio" Target="../media/&#1059;&#1089;%20&#1085;&#1103;&#1085;&#1100;.wav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6.wm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Урок 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 русского языка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             4 класс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Провела: Яночкина Л.Ю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Владимировская средняя школ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38356918_1232305634_cl43 (копия)"/>
          <p:cNvPicPr/>
          <p:nvPr/>
        </p:nvPicPr>
        <p:blipFill>
          <a:blip r:embed="rId1"/>
          <a:stretch/>
        </p:blipFill>
        <p:spPr>
          <a:xfrm>
            <a:off x="1143000" y="838080"/>
            <a:ext cx="2004840" cy="2775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2800" spc="-1" strike="noStrike">
                <a:solidFill>
                  <a:srgbClr val="990099"/>
                </a:solidFill>
                <a:latin typeface="Times New Roman"/>
              </a:rPr>
              <a:t>Прочитайте пословицы. </a:t>
            </a:r>
            <a:br>
              <a:rPr sz="4800"/>
            </a:b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Здоровье за деньги купишь.</a:t>
            </a:r>
            <a:br>
              <a:rPr sz="4800"/>
            </a:b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Кашу маслом испортишь.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Здоровье за деньги 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не</a:t>
            </a: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купишь.</a:t>
            </a:r>
            <a:br>
              <a:rPr sz="4800"/>
            </a:b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Кашу маслом 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не</a:t>
            </a: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 испортишь.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cs5958.userapi.com/u118411655/-5/x_02f742a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ANIM13.WAV" descr=""/>
          <p:cNvPicPr/>
          <p:nvPr/>
        </p:nvPicPr>
        <p:blipFill>
          <a:blip r:embed="rId2"/>
          <a:stretch/>
        </p:blipFill>
        <p:spPr>
          <a:xfrm>
            <a:off x="822960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488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71240" y="5335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Экспресс - 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 такое глаго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гол – это самостоятельная часть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 обозначает глаго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гол обозначает действие предм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 какие вопросы отвечает глаго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гол отвечает на вопросы что делать? что сделать?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2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1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2163600" y="324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р…кра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2163600" y="110016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р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т…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2163600" y="187632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кал…нд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163600" y="265284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ог…р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2163600" y="34290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маг…з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2163600" y="418608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орг…ни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2163600" y="4962600"/>
            <a:ext cx="4815000" cy="7761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…мидо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2163600" y="5738760"/>
            <a:ext cx="4815000" cy="776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шок…л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а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3"/>
          <p:cNvSpPr txBox="1"/>
          <p:nvPr/>
        </p:nvSpPr>
        <p:spPr>
          <a:xfrm>
            <a:off x="23256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6" name="WordArt 14"/>
          <p:cNvSpPr txBox="1"/>
          <p:nvPr/>
        </p:nvSpPr>
        <p:spPr>
          <a:xfrm>
            <a:off x="6548400" y="63972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7" name="WordArt 15"/>
          <p:cNvSpPr txBox="1"/>
          <p:nvPr/>
        </p:nvSpPr>
        <p:spPr>
          <a:xfrm>
            <a:off x="6548400" y="13953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8" name="WordArt 16"/>
          <p:cNvSpPr txBox="1"/>
          <p:nvPr/>
        </p:nvSpPr>
        <p:spPr>
          <a:xfrm>
            <a:off x="6548400" y="217008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9" name="WordArt 17"/>
          <p:cNvSpPr txBox="1"/>
          <p:nvPr/>
        </p:nvSpPr>
        <p:spPr>
          <a:xfrm>
            <a:off x="2324160" y="294336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0" name="WordArt 18"/>
          <p:cNvSpPr txBox="1"/>
          <p:nvPr/>
        </p:nvSpPr>
        <p:spPr>
          <a:xfrm>
            <a:off x="23256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1" name="WordArt 19"/>
          <p:cNvSpPr txBox="1"/>
          <p:nvPr/>
        </p:nvSpPr>
        <p:spPr>
          <a:xfrm>
            <a:off x="6548400" y="60390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2" name="WordArt 20"/>
          <p:cNvSpPr txBox="1"/>
          <p:nvPr/>
        </p:nvSpPr>
        <p:spPr>
          <a:xfrm>
            <a:off x="6548400" y="447840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3" name="WordArt 21"/>
          <p:cNvSpPr txBox="1"/>
          <p:nvPr/>
        </p:nvSpPr>
        <p:spPr>
          <a:xfrm>
            <a:off x="2324160" y="52671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4" name="WordArt 22"/>
          <p:cNvSpPr txBox="1"/>
          <p:nvPr/>
        </p:nvSpPr>
        <p:spPr>
          <a:xfrm>
            <a:off x="2324160" y="139536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5" name="WordArt 23"/>
          <p:cNvSpPr txBox="1"/>
          <p:nvPr/>
        </p:nvSpPr>
        <p:spPr>
          <a:xfrm>
            <a:off x="2324160" y="217008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6" name="WordArt 24"/>
          <p:cNvSpPr txBox="1"/>
          <p:nvPr/>
        </p:nvSpPr>
        <p:spPr>
          <a:xfrm>
            <a:off x="6548400" y="2921040"/>
            <a:ext cx="29700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7" name="WordArt 25"/>
          <p:cNvSpPr txBox="1"/>
          <p:nvPr/>
        </p:nvSpPr>
        <p:spPr>
          <a:xfrm>
            <a:off x="6548400" y="372744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8" name="WordArt 26"/>
          <p:cNvSpPr txBox="1"/>
          <p:nvPr/>
        </p:nvSpPr>
        <p:spPr>
          <a:xfrm>
            <a:off x="2324160" y="4479840"/>
            <a:ext cx="29664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9" name="WordArt 27"/>
          <p:cNvSpPr txBox="1"/>
          <p:nvPr/>
        </p:nvSpPr>
        <p:spPr>
          <a:xfrm>
            <a:off x="6548400" y="5267160"/>
            <a:ext cx="2970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0" name="WordArt 28"/>
          <p:cNvSpPr txBox="1"/>
          <p:nvPr/>
        </p:nvSpPr>
        <p:spPr>
          <a:xfrm>
            <a:off x="2324160" y="6039000"/>
            <a:ext cx="29664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71" name="Овал 35"/>
          <p:cNvGrpSpPr/>
          <p:nvPr/>
        </p:nvGrpSpPr>
        <p:grpSpPr>
          <a:xfrm>
            <a:off x="950760" y="500040"/>
            <a:ext cx="444600" cy="480960"/>
            <a:chOff x="950760" y="500040"/>
            <a:chExt cx="444600" cy="480960"/>
          </a:xfrm>
        </p:grpSpPr>
        <p:pic>
          <p:nvPicPr>
            <p:cNvPr id="72" name="Овал 35" descr=""/>
            <p:cNvPicPr/>
            <p:nvPr/>
          </p:nvPicPr>
          <p:blipFill>
            <a:blip r:embed="rId1"/>
            <a:stretch/>
          </p:blipFill>
          <p:spPr>
            <a:xfrm>
              <a:off x="950760" y="500040"/>
              <a:ext cx="444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025640" y="5983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Овал 35"/>
          <p:cNvGrpSpPr/>
          <p:nvPr/>
        </p:nvGrpSpPr>
        <p:grpSpPr>
          <a:xfrm>
            <a:off x="920880" y="2030400"/>
            <a:ext cx="463320" cy="480960"/>
            <a:chOff x="920880" y="2030400"/>
            <a:chExt cx="463320" cy="480960"/>
          </a:xfrm>
        </p:grpSpPr>
        <p:pic>
          <p:nvPicPr>
            <p:cNvPr id="75" name="Овал 35" descr=""/>
            <p:cNvPicPr/>
            <p:nvPr/>
          </p:nvPicPr>
          <p:blipFill>
            <a:blip r:embed="rId2"/>
            <a:stretch/>
          </p:blipFill>
          <p:spPr>
            <a:xfrm>
              <a:off x="920880" y="2030400"/>
              <a:ext cx="463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017720" y="212868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Овал 35"/>
          <p:cNvGrpSpPr/>
          <p:nvPr/>
        </p:nvGrpSpPr>
        <p:grpSpPr>
          <a:xfrm>
            <a:off x="920880" y="2779560"/>
            <a:ext cx="463320" cy="481320"/>
            <a:chOff x="920880" y="2779560"/>
            <a:chExt cx="463320" cy="481320"/>
          </a:xfrm>
        </p:grpSpPr>
        <p:pic>
          <p:nvPicPr>
            <p:cNvPr id="78" name="Овал 35" descr=""/>
            <p:cNvPicPr/>
            <p:nvPr/>
          </p:nvPicPr>
          <p:blipFill>
            <a:blip r:embed="rId3"/>
            <a:stretch/>
          </p:blipFill>
          <p:spPr>
            <a:xfrm>
              <a:off x="920880" y="2779560"/>
              <a:ext cx="46332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017720" y="28796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Овал 35"/>
          <p:cNvGrpSpPr/>
          <p:nvPr/>
        </p:nvGrpSpPr>
        <p:grpSpPr>
          <a:xfrm>
            <a:off x="920880" y="4340160"/>
            <a:ext cx="463320" cy="476280"/>
            <a:chOff x="920880" y="4340160"/>
            <a:chExt cx="463320" cy="476280"/>
          </a:xfrm>
        </p:grpSpPr>
        <p:pic>
          <p:nvPicPr>
            <p:cNvPr id="81" name="Овал 35" descr=""/>
            <p:cNvPicPr/>
            <p:nvPr/>
          </p:nvPicPr>
          <p:blipFill>
            <a:blip r:embed="rId4"/>
            <a:stretch/>
          </p:blipFill>
          <p:spPr>
            <a:xfrm>
              <a:off x="920880" y="4340160"/>
              <a:ext cx="463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017720" y="44370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Овал 35"/>
          <p:cNvGrpSpPr/>
          <p:nvPr/>
        </p:nvGrpSpPr>
        <p:grpSpPr>
          <a:xfrm>
            <a:off x="950760" y="5224320"/>
            <a:ext cx="444600" cy="474840"/>
            <a:chOff x="950760" y="5224320"/>
            <a:chExt cx="444600" cy="474840"/>
          </a:xfrm>
        </p:grpSpPr>
        <p:pic>
          <p:nvPicPr>
            <p:cNvPr id="84" name="Овал 35" descr=""/>
            <p:cNvPicPr/>
            <p:nvPr/>
          </p:nvPicPr>
          <p:blipFill>
            <a:blip r:embed="rId5"/>
            <a:stretch/>
          </p:blipFill>
          <p:spPr>
            <a:xfrm>
              <a:off x="950760" y="5224320"/>
              <a:ext cx="44460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25640" y="531972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Овал 35"/>
          <p:cNvGrpSpPr/>
          <p:nvPr/>
        </p:nvGrpSpPr>
        <p:grpSpPr>
          <a:xfrm>
            <a:off x="950760" y="1262160"/>
            <a:ext cx="444600" cy="474480"/>
            <a:chOff x="950760" y="1262160"/>
            <a:chExt cx="444600" cy="474480"/>
          </a:xfrm>
        </p:grpSpPr>
        <p:pic>
          <p:nvPicPr>
            <p:cNvPr id="87" name="Овал 35" descr=""/>
            <p:cNvPicPr/>
            <p:nvPr/>
          </p:nvPicPr>
          <p:blipFill>
            <a:blip r:embed="rId6"/>
            <a:stretch/>
          </p:blipFill>
          <p:spPr>
            <a:xfrm>
              <a:off x="950760" y="1262160"/>
              <a:ext cx="4446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025640" y="13572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Овал 35"/>
          <p:cNvGrpSpPr/>
          <p:nvPr/>
        </p:nvGrpSpPr>
        <p:grpSpPr>
          <a:xfrm>
            <a:off x="950760" y="3591000"/>
            <a:ext cx="444600" cy="474480"/>
            <a:chOff x="950760" y="3591000"/>
            <a:chExt cx="444600" cy="474480"/>
          </a:xfrm>
        </p:grpSpPr>
        <p:pic>
          <p:nvPicPr>
            <p:cNvPr id="90" name="Овал 35" descr=""/>
            <p:cNvPicPr/>
            <p:nvPr/>
          </p:nvPicPr>
          <p:blipFill>
            <a:blip r:embed="rId7"/>
            <a:stretch/>
          </p:blipFill>
          <p:spPr>
            <a:xfrm>
              <a:off x="950760" y="3591000"/>
              <a:ext cx="4446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25640" y="368604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Овал 35"/>
          <p:cNvGrpSpPr/>
          <p:nvPr/>
        </p:nvGrpSpPr>
        <p:grpSpPr>
          <a:xfrm>
            <a:off x="920880" y="5967360"/>
            <a:ext cx="463320" cy="476280"/>
            <a:chOff x="920880" y="5967360"/>
            <a:chExt cx="463320" cy="476280"/>
          </a:xfrm>
        </p:grpSpPr>
        <p:pic>
          <p:nvPicPr>
            <p:cNvPr id="93" name="Овал 35" descr=""/>
            <p:cNvPicPr/>
            <p:nvPr/>
          </p:nvPicPr>
          <p:blipFill>
            <a:blip r:embed="rId8"/>
            <a:stretch/>
          </p:blipFill>
          <p:spPr>
            <a:xfrm>
              <a:off x="920880" y="5967360"/>
              <a:ext cx="4633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017720" y="6064200"/>
              <a:ext cx="2793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От улыбки.mp3" descr=""/>
          <p:cNvPicPr/>
          <p:nvPr/>
        </p:nvPicPr>
        <p:blipFill>
          <a:blip r:embed="rId9"/>
          <a:stretch/>
        </p:blipFill>
        <p:spPr>
          <a:xfrm>
            <a:off x="77724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9336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0%A3%D1%81%D0%B0%D1%82.wav"/>
                                        </p:tgtEl>
                                      </p:cMediaNode>
                                    </p:audio>
                                    <p:animMotion origin="layout" path="M 3.88889E-006 3.79278E-006 L 0.13628 3.79278E-006 E">
                                      <p:cBhvr>
                                        <p:cTn id="7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2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5.3654E-007 L -0.15416 5.3654E-007 E">
                                      <p:cBhvr>
                                        <p:cTn id="9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5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6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0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1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2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A3%D1%81%D0%B0%D1%82.wav"/>
                                        </p:tgtEl>
                                      </p:cMediaNode>
                                    </p:audio>
                                    <p:animMotion origin="layout" path="M 3.88889E-006 -1.19334E-006 L 0.23368 -1.19334E-006 E">
                                      <p:cBhvr>
                                        <p:cTn id="13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3.55227E-006 L -0.22812 3.55227E-006 E">
                                      <p:cBhvr>
                                        <p:cTn id="14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6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67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8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3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3%D1%81%D0%B0%D1%82.wav"/>
                                        </p:tgtEl>
                                      </p:cMediaNode>
                                    </p:audio>
                                    <p:animMotion origin="layout" path="M -2.5E-006 2.07216E-006 L 0.204 2.07216E-006 E">
                                      <p:cBhvr>
                                        <p:cTn id="19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2.61795E-006 L -0.27482 2.61795E-006 E">
                                      <p:cBhvr>
                                        <p:cTn id="204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2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3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4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3%D1%81%D0%B0%D1%82.wav"/>
                                        </p:tgtEl>
                                      </p:cMediaNode>
                                    </p:audio>
                                    <p:animMotion origin="layout" path="M -2.5E-006 -1.91489E-006 L 0.204 -1.91489E-006 E">
                                      <p:cBhvr>
                                        <p:cTn id="22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D0%A3%D1%81%D0%B0%D1%82.wav"/>
                                        </p:tgtEl>
                                      </p:cMediaNode>
                                    </p:audio>
                                    <p:animMotion origin="layout" path="M -1.66667E-006 -5.18039E-007 L -0.30208 -5.18039E-007 E">
                                      <p:cBhvr>
                                        <p:cTn id="235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D0%A3%D1%81%20%D0%BD%D1%8F%D0%BD%D1%8C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3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4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5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7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7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8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8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9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30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принцессы копия"/>
          <p:cNvPicPr/>
          <p:nvPr/>
        </p:nvPicPr>
        <p:blipFill>
          <a:blip r:embed="rId1"/>
          <a:stretch/>
        </p:blipFill>
        <p:spPr>
          <a:xfrm>
            <a:off x="1371600" y="1143000"/>
            <a:ext cx="6324480" cy="4700520"/>
          </a:xfrm>
          <a:prstGeom prst="rect">
            <a:avLst/>
          </a:prstGeom>
          <a:ln w="0">
            <a:noFill/>
          </a:ln>
        </p:spPr>
      </p:pic>
      <p:grpSp>
        <p:nvGrpSpPr>
          <p:cNvPr id="97" name="Облако 5"/>
          <p:cNvGrpSpPr/>
          <p:nvPr/>
        </p:nvGrpSpPr>
        <p:grpSpPr>
          <a:xfrm>
            <a:off x="6199200" y="871560"/>
            <a:ext cx="2243160" cy="1401840"/>
            <a:chOff x="6199200" y="871560"/>
            <a:chExt cx="2243160" cy="1401840"/>
          </a:xfrm>
        </p:grpSpPr>
        <p:pic>
          <p:nvPicPr>
            <p:cNvPr id="98" name="Облако 5" descr=""/>
            <p:cNvPicPr/>
            <p:nvPr/>
          </p:nvPicPr>
          <p:blipFill>
            <a:blip r:embed="rId2"/>
            <a:stretch/>
          </p:blipFill>
          <p:spPr>
            <a:xfrm>
              <a:off x="6199200" y="871560"/>
              <a:ext cx="2243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500880" y="1063800"/>
              <a:ext cx="119376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Облако 6"/>
          <p:cNvGrpSpPr/>
          <p:nvPr/>
        </p:nvGrpSpPr>
        <p:grpSpPr>
          <a:xfrm>
            <a:off x="487440" y="1023840"/>
            <a:ext cx="2243160" cy="1401840"/>
            <a:chOff x="487440" y="1023840"/>
            <a:chExt cx="2243160" cy="1401840"/>
          </a:xfrm>
        </p:grpSpPr>
        <p:pic>
          <p:nvPicPr>
            <p:cNvPr id="101" name="Облако 6" descr=""/>
            <p:cNvPicPr/>
            <p:nvPr/>
          </p:nvPicPr>
          <p:blipFill>
            <a:blip r:embed="rId3"/>
            <a:stretch/>
          </p:blipFill>
          <p:spPr>
            <a:xfrm>
              <a:off x="487440" y="1023840"/>
              <a:ext cx="2243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85880" y="1216080"/>
              <a:ext cx="11937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il_fi" descr="http://www.tochkagif.ru/_ph/22/2/656535990.gif"/>
          <p:cNvPicPr/>
          <p:nvPr/>
        </p:nvPicPr>
        <p:blipFill>
          <a:blip r:embed="rId4"/>
          <a:stretch/>
        </p:blipFill>
        <p:spPr>
          <a:xfrm>
            <a:off x="2514600" y="228600"/>
            <a:ext cx="1224000" cy="13413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0" descr="C:\Users\12\Desktop\MSClipart\Коллекция картинок (Microsoft)\j0088106.wmf"/>
          <p:cNvPicPr/>
          <p:nvPr/>
        </p:nvPicPr>
        <p:blipFill>
          <a:blip r:embed="rId5"/>
          <a:stretch/>
        </p:blipFill>
        <p:spPr>
          <a:xfrm>
            <a:off x="5486400" y="5486400"/>
            <a:ext cx="914400" cy="1098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1" descr="C:\Users\12\Desktop\MSClipart\Коллекция картинок (Microsoft)\j0088106.wmf"/>
          <p:cNvPicPr/>
          <p:nvPr/>
        </p:nvPicPr>
        <p:blipFill>
          <a:blip r:embed="rId6"/>
          <a:stretch/>
        </p:blipFill>
        <p:spPr>
          <a:xfrm>
            <a:off x="380880" y="5562720"/>
            <a:ext cx="914400" cy="1098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5" descr="C:\Users\12\Desktop\MSClipart\Коллекция картинок (Microsoft)\j0088106.wmf"/>
          <p:cNvPicPr/>
          <p:nvPr/>
        </p:nvPicPr>
        <p:blipFill>
          <a:blip r:embed="rId7"/>
          <a:stretch/>
        </p:blipFill>
        <p:spPr>
          <a:xfrm>
            <a:off x="1447920" y="5410080"/>
            <a:ext cx="914400" cy="10987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6" descr="C:\Users\12\Desktop\MSClipart\Коллекция картинок (Microsoft)\j0088106.wmf"/>
          <p:cNvPicPr/>
          <p:nvPr/>
        </p:nvPicPr>
        <p:blipFill>
          <a:blip r:embed="rId8"/>
          <a:stretch/>
        </p:blipFill>
        <p:spPr>
          <a:xfrm>
            <a:off x="2819520" y="5562720"/>
            <a:ext cx="914400" cy="10983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7" descr="C:\Users\12\Desktop\MSClipart\Коллекция картинок (Microsoft)\j0088106.wmf"/>
          <p:cNvPicPr/>
          <p:nvPr/>
        </p:nvPicPr>
        <p:blipFill>
          <a:blip r:embed="rId9"/>
          <a:stretch/>
        </p:blipFill>
        <p:spPr>
          <a:xfrm>
            <a:off x="7924680" y="4419720"/>
            <a:ext cx="914400" cy="10983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9" descr="C:\Users\12\Desktop\MSClipart\Коллекция картинок (Microsoft)\j0088106.wmf"/>
          <p:cNvPicPr/>
          <p:nvPr/>
        </p:nvPicPr>
        <p:blipFill>
          <a:blip r:embed="rId10"/>
          <a:stretch/>
        </p:blipFill>
        <p:spPr>
          <a:xfrm>
            <a:off x="7315200" y="5334120"/>
            <a:ext cx="914400" cy="1098360"/>
          </a:xfrm>
          <a:prstGeom prst="rect">
            <a:avLst/>
          </a:prstGeom>
          <a:ln w="0">
            <a:noFill/>
          </a:ln>
        </p:spPr>
      </p:pic>
      <p:pic>
        <p:nvPicPr>
          <p:cNvPr id="110" name="Песня царевны Забавы.mp3" descr=""/>
          <p:cNvPicPr/>
          <p:nvPr/>
        </p:nvPicPr>
        <p:blipFill>
          <a:blip r:embed="rId11"/>
          <a:stretch/>
        </p:blipFill>
        <p:spPr>
          <a:xfrm>
            <a:off x="79246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5 0.00277 0.00191 0.01689 0.00313 0.02083 C 0.00486 0.02592 0.00764 0.03032 0.00938 0.03541 C 0.01233 0.04467 0.01233 0.05648 0.01719 0.06458 C 0.01841 0.06643 0.02049 0.06689 0.02188 0.06875 C 0.02691 0.07546 0.03091 0.08287 0.03594 0.08958 C 0.03802 0.09236 0.03872 0.09676 0.04063 0.1 C 0.04236 0.10301 0.04514 0.10509 0.04688 0.10833 C 0.05434 0.12152 0.04514 0.11227 0.05469 0.125 C 0.06111 0.13356 0.0691 0.14074 0.07657 0.14791 C 0.08802 0.15879 0.09705 0.17291 0.11094 0.17916 C 0.11945 0.18819 0.12709 0.1912 0.13594 0.2 C 0.14601 0.21018 0.1467 0.2118 0.15625 0.21875 C 0.16372 0.2243 0.18125 0.22708 0.18125 0.22708 C 0.18663 0.23078 0.19323 0.23102 0.19827 0.23541 C 0.19983 0.23657 0.19896 0.23981 0.2 0.24166 C 0.20174 0.24537 0.20434 0.24838 0.20625 0.25208 C 0.20747 0.25463 0.20782 0.25833 0.20938 0.26041 C 0.21094 0.2625 0.21372 0.26273 0.21563 0.26458 C 0.21736 0.2662 0.21858 0.26921 0.22032 0.27083 C 0.23733 0.28703 0.28646 0.28449 0.29688 0.28541 C 0.33073 0.29444 0.31597 0.28981 0.38282 0.29166 C 0.3941 0.29676 0.38907 0.29467 0.39844 0.29791 C 0.40417 0.29652 0.41007 0.29583 0.41563 0.29375 C 0.42136 0.29166 0.42518 0.2824 0.43125 0.28125 C 0.44653 0.27847 0.4625 0.27986 0.47813 0.27916 C 0.48368 0.27754 0.48976 0.27801 0.49532 0.275 C 0.50573 0.26921 0.51511 0.25532 0.52483 0.24791 C 0.54341 0.23379 0.56233 0.22268 0.58282 0.21458 C 0.58577 0.21064 0.59045 0.20902 0.59219 0.20416 C 0.59688 0.19004 0.59028 0.19166 0.59688 0.18125 C 0.62431 0.13727 0.59566 0.19213 0.61875 0.14583 C 0.62518 0.11435 0.62622 0.08402 0.62969 0.05208 C 0.63125 0.0375 0.63125 0.02291 0.64063 0.01458 C 0.64427 0.00717 0.64375 0.01088 0.64375 0.00416 E">
                                      <p:cBhvr>
                                        <p:cTn id="32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5 0.00277 0.00191 0.01689 0.00313 0.02083 C 0.00486 0.02592 0.00764 0.03032 0.00938 0.03541 C 0.01233 0.04467 0.01233 0.05648 0.01719 0.06458 C 0.01841 0.06643 0.02049 0.06689 0.02188 0.06875 C 0.02691 0.07546 0.03091 0.08287 0.03594 0.08958 C 0.03802 0.09236 0.03872 0.09676 0.04063 0.1 C 0.04236 0.10301 0.04514 0.10509 0.04688 0.10833 C 0.05434 0.12152 0.04514 0.11227 0.05469 0.125 C 0.06111 0.13356 0.0691 0.14074 0.07657 0.14791 C 0.08802 0.15879 0.09705 0.17291 0.11094 0.17916 C 0.11945 0.18819 0.12709 0.1912 0.13594 0.2 C 0.14601 0.21018 0.1467 0.2118 0.15625 0.21875 C 0.16372 0.2243 0.18125 0.22708 0.18125 0.22708 C 0.18663 0.23078 0.19323 0.23102 0.19827 0.23541 C 0.19983 0.23657 0.19896 0.23981 0.2 0.24166 C 0.20174 0.24537 0.20434 0.24838 0.20625 0.25208 C 0.20747 0.25463 0.20782 0.25833 0.20938 0.26041 C 0.21094 0.2625 0.21372 0.26273 0.21563 0.26458 C 0.21736 0.2662 0.21858 0.26921 0.22032 0.27083 C 0.23733 0.28703 0.28646 0.28449 0.29688 0.28541 C 0.33073 0.29444 0.31597 0.28981 0.38282 0.29166 C 0.3941 0.29676 0.38907 0.29467 0.39844 0.29791 C 0.40417 0.29652 0.41007 0.29583 0.41563 0.29375 C 0.42136 0.29166 0.42518 0.2824 0.43125 0.28125 C 0.44653 0.27847 0.4625 0.27986 0.47813 0.27916 C 0.48368 0.27754 0.48976 0.27801 0.49532 0.275 C 0.50573 0.26921 0.51511 0.25532 0.52483 0.24791 C 0.54341 0.23379 0.56233 0.22268 0.58282 0.21458 C 0.58577 0.21064 0.59045 0.20902 0.59219 0.20416 C 0.59688 0.19004 0.59028 0.19166 0.59688 0.18125 C 0.62431 0.13727 0.59566 0.19213 0.61875 0.14583 C 0.62518 0.11435 0.62622 0.08402 0.62969 0.05208 C 0.63125 0.0375 0.63125 0.02291 0.64063 0.01458 C 0.64427 0.00717 0.64375 0.01088 0.64375 0.00416 E">
                                      <p:cBhvr>
                                        <p:cTn id="33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9789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800100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Работа в паре.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дчеркни глаголы. Вставь перед глаголами НЕ .Как изменился смысл высказывания. Прочитай правила пользования книгой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Береги книгу!  … бери её грязными руками и … клади на грязный стол.  … перегибай книгу и … загибай её листы. …. рисуй и …пиши на книге. Если ты взял книгу в библиотеке, то …забудь вернуть её в ср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#1_17_Richards Clayderman_Unchained melody.mp3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8691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ила поведения в лесу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://im5-tub-kz.yandex.net/i?id=484453226-60-72"/>
          <p:cNvPicPr/>
          <p:nvPr/>
        </p:nvPicPr>
        <p:blipFill>
          <a:blip r:embed="rId1"/>
          <a:stretch/>
        </p:blipFill>
        <p:spPr>
          <a:xfrm>
            <a:off x="4834080" y="3822840"/>
            <a:ext cx="3749400" cy="2846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Бесплатные картинки животных для сотовых"/>
          <p:cNvPicPr/>
          <p:nvPr/>
        </p:nvPicPr>
        <p:blipFill>
          <a:blip r:embed="rId2"/>
          <a:stretch/>
        </p:blipFill>
        <p:spPr>
          <a:xfrm>
            <a:off x="4834080" y="774720"/>
            <a:ext cx="3687480" cy="2998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http://ia126.odnoklassniki.ru/getImage?photoId=425073771476&amp;photoType=0"/>
          <p:cNvPicPr/>
          <p:nvPr/>
        </p:nvPicPr>
        <p:blipFill>
          <a:blip r:embed="rId3"/>
          <a:stretch/>
        </p:blipFill>
        <p:spPr>
          <a:xfrm>
            <a:off x="719280" y="1994040"/>
            <a:ext cx="3840120" cy="3108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 загрязняйте воздух, воду, л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 ломайте ветки дерев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 рвите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 топчите насекомых, грибы и яг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 разоряйте гнёзда п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 разводите костры в л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609480" y="30492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Правила поведения в лесу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</cp:lastModifiedBy>
  <dcterms:modified xsi:type="dcterms:W3CDTF">2013-03-29T14:27:54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