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7F62-4272-47B7-B7BB-C53839D4F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C7B0-6DB4-4DD0-B367-A7BCD92A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74BA-91AB-4D36-AE56-A16A2CB0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0EEA-EA61-49BA-8784-DF668205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8624-2968-485F-886D-F3CF629F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E410-F358-4118-9F33-20B2E7B0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E9A6-AFB7-4958-A039-0990EFFB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FE44-2CF0-467C-9CE5-B1FE06BC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CA39-D18B-413A-8C30-1A9385D3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BCF1-2DD2-4B98-8EA9-4D6EF205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7C42-DF59-4ABE-86A8-8DFC6DD3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118E-A85C-45BC-AE7A-62A9E73A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D905-3F2A-4C16-951A-8C0EDE9F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6A90-328C-4814-93AB-E8EBE2EC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1D34-1279-4053-B594-A5B08DB0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EF8B-9D55-466E-93AB-CBD2F95F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B413-A5C6-4CFF-AC38-B902B0FAE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B618-46CE-487D-9BD0-5C5FA0CB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BFD1-4230-4144-9F56-ADAD7FBA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3A78-7FFB-42B7-B426-AD85BA85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E4D4-F9E9-4D4A-ABB8-AFFB940A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E46A-5721-4366-A46F-7829AD32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9E27-CC3A-49CB-AF5C-C83418FC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36A2-9731-440F-9ECB-7D0A8C6C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6A6C-7431-4D3C-9BB8-A918976E155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B729-11EF-41B4-A941-3B0B5BD42C1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8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767960"/>
            <a:ext cx="561492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Определение пола и наследование признаков, сцепленных с полом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Garamond"/>
              </a:rPr>
              <a:t>Самые заметные различия между особями одного вида это различия по половому признаку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27640" y="620640"/>
            <a:ext cx="2665440" cy="3384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0" y="3645000"/>
            <a:ext cx="4248000" cy="3017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5003640" y="4076640"/>
            <a:ext cx="3959280" cy="2627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3059280" y="260280"/>
            <a:ext cx="2593800" cy="3097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8900"/>
                            </p:stCondLst>
                            <p:childTnLst>
                              <p:par>
                                <p:cTn id="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32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62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92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22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75742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гемофил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77058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Свертываемость кров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96000" y="1600200"/>
            <a:ext cx="3168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Эритроциты –красные кровяные клет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Лейкоциты – белые кровяные клет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Тромбоциты – пластинки, обеспечивающие свертываемость кров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0" y="1341360"/>
            <a:ext cx="57610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дальтониз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611280" y="1628640"/>
            <a:ext cx="7993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29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Когда Грегор Мендель сажал горох в монастырском саду в Брюнне в середине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XIX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века, он даже предположить не мог, что его урожай мы продолжим убирать в начале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XXI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ве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68360" y="0"/>
            <a:ext cx="6516720" cy="6858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428472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7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1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588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Домашнее задание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Параграф  23, найти в учебнике объяснения терминам – </a:t>
            </a: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«мутация» и «мутагены»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Опыты Т.Моргана с дрозофилам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Большинство доказательств в пользу хромосомной теории наследственности получено на основе опытов с дрозофило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4176720" cy="2503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3924360"/>
            <a:ext cx="4176720" cy="2744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Хромосомный набор (кариотип) дрозофилы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клетках дрозофилы 4 пары хромосом. Три пары одинаковые у самца и самки (</a:t>
            </a:r>
            <a:r>
              <a:rPr b="0" lang="ru-RU" sz="3200" spc="-1" strike="noStrike">
                <a:solidFill>
                  <a:srgbClr val="0000ff"/>
                </a:solidFill>
                <a:latin typeface="Garamond"/>
              </a:rPr>
              <a:t>аутосом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, а четвер-тую пару составляют различающиеся между собой – </a:t>
            </a:r>
            <a:r>
              <a:rPr b="0" lang="ru-RU" sz="3200" spc="-1" strike="noStrike">
                <a:solidFill>
                  <a:srgbClr val="0000ff"/>
                </a:solidFill>
                <a:latin typeface="Garamond"/>
              </a:rPr>
              <a:t>половые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хромосом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1484280"/>
            <a:ext cx="4859280" cy="5040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Механизм определения пол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родител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843280" y="1773360"/>
            <a:ext cx="1657440" cy="934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867280" y="1700280"/>
            <a:ext cx="1800360" cy="936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411280" y="1628280"/>
            <a:ext cx="41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1625040"/>
            <a:ext cx="5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♂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97920" y="132624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Х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18640" y="1253160"/>
            <a:ext cx="5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Х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7640" y="306756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ГАМ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-744480" y="2772000"/>
            <a:ext cx="110160" cy="456840"/>
            <a:chOff x="-744480" y="2772000"/>
            <a:chExt cx="110160" cy="456840"/>
          </a:xfrm>
        </p:grpSpPr>
        <p:sp>
          <p:nvSpPr>
            <p:cNvPr id="140" name=""/>
            <p:cNvSpPr/>
            <p:nvPr/>
          </p:nvSpPr>
          <p:spPr>
            <a:xfrm flipH="1">
              <a:off x="-744480" y="2772000"/>
              <a:ext cx="110160" cy="45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-1027800" y="2772000"/>
            <a:ext cx="50760" cy="456840"/>
            <a:chOff x="-1027800" y="2772000"/>
            <a:chExt cx="50760" cy="456840"/>
          </a:xfrm>
        </p:grpSpPr>
        <p:sp>
          <p:nvSpPr>
            <p:cNvPr id="142" name=""/>
            <p:cNvSpPr/>
            <p:nvPr/>
          </p:nvSpPr>
          <p:spPr>
            <a:xfrm flipH="1">
              <a:off x="-1028160" y="2772000"/>
              <a:ext cx="50760" cy="45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9432720" y="2772000"/>
            <a:ext cx="47880" cy="456840"/>
            <a:chOff x="9432720" y="2772000"/>
            <a:chExt cx="47880" cy="456840"/>
          </a:xfrm>
        </p:grpSpPr>
        <p:sp>
          <p:nvSpPr>
            <p:cNvPr id="144" name=""/>
            <p:cNvSpPr/>
            <p:nvPr/>
          </p:nvSpPr>
          <p:spPr>
            <a:xfrm flipH="1">
              <a:off x="9432360" y="2772000"/>
              <a:ext cx="47880" cy="45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581400" y="2743560"/>
            <a:ext cx="75960" cy="445320"/>
            <a:chOff x="9581400" y="2743560"/>
            <a:chExt cx="75960" cy="445320"/>
          </a:xfrm>
        </p:grpSpPr>
        <p:sp>
          <p:nvSpPr>
            <p:cNvPr id="146" name=""/>
            <p:cNvSpPr/>
            <p:nvPr/>
          </p:nvSpPr>
          <p:spPr>
            <a:xfrm>
              <a:off x="9581400" y="2743560"/>
              <a:ext cx="75960" cy="445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85160" y="388836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ОКО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91400" y="4365000"/>
            <a:ext cx="6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ХХ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639400" y="443628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ХХ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23360" y="4365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ХУ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55720" y="4436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ХУ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95280" y="4869000"/>
            <a:ext cx="1655640" cy="865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5148360" y="4941720"/>
            <a:ext cx="1511280" cy="863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2484360" y="4869000"/>
            <a:ext cx="1295640" cy="720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7020000" y="4941720"/>
            <a:ext cx="1152360" cy="64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627280" y="2884680"/>
            <a:ext cx="47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Х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82680" y="30675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Х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43320" y="303768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02240" y="3067560"/>
            <a:ext cx="4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6160" y="5873040"/>
            <a:ext cx="5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4880" y="5944320"/>
            <a:ext cx="5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7000" y="5799960"/>
            <a:ext cx="6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♂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24280" y="5873040"/>
            <a:ext cx="6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♂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Образование половых клеток – 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гаметогенез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50920" y="1413000"/>
            <a:ext cx="85690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Кариотип челове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82803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Трисомия – синдром Даун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8000" y="1484280"/>
            <a:ext cx="4824360" cy="5040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932360" y="1484280"/>
            <a:ext cx="4211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Условие задач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ены черной окраски кошек (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0" lang="ru-RU" sz="2400" spc="-1" strike="noStrike" baseline="30000">
                <a:solidFill>
                  <a:srgbClr val="ffffff"/>
                </a:solidFill>
                <a:latin typeface="Garamond"/>
              </a:rPr>
              <a:t>В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и ген рыжей окраски кошек (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расположены в Х-хромосоме. В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-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хромосоме эти гены отсутствуют. Сочетание  генов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разует трехцветную черепаховую окраску. Какое потомство получится при скрещивании черной коши и рыжего кота? Возможны ли коты черепаховой окраск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кошк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547640" y="549360"/>
            <a:ext cx="2016360" cy="2592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940360" y="549360"/>
            <a:ext cx="1944720" cy="2520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95280" y="18439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38800" y="169956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♂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9880" y="227556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B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Х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70720" y="24199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b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У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05040" y="342792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1880" y="3357000"/>
            <a:ext cx="4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49160" y="342792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84440" y="342792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У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7640" y="422028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1547640" y="3933720"/>
            <a:ext cx="2016360" cy="28148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6227640" y="4005360"/>
            <a:ext cx="2017800" cy="2736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830520" y="5012280"/>
            <a:ext cx="5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♀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79560" y="4867920"/>
            <a:ext cx="60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♂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440" y="55886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b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42960" y="55155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Х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4745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3:34:42Z</dcterms:created>
  <dc:creator>МОУ СОШ №35</dc:creator>
  <dc:description/>
  <dc:language>en-US</dc:language>
  <cp:lastModifiedBy>МОУ СОШ №35</cp:lastModifiedBy>
  <dcterms:modified xsi:type="dcterms:W3CDTF">2009-12-04T13:07:07Z</dcterms:modified>
  <cp:revision>18</cp:revision>
  <dc:subject/>
  <dc:title>Определение пола и наследование признаков, сцепленных с полом</dc:title>
</cp:coreProperties>
</file>