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A90-3C1C-4758-87FC-F6DFA970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C25-079F-40DA-B049-5BA565B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68A-B901-44BD-9064-ED970B93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DA6-B25D-4A57-9359-D10ECE54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92DA-EE79-4F37-8FB2-37391494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0D2B-8A0B-40D0-99A9-42E692A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71A6-E35A-4A73-A5EC-ED4D37B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1D93-7DA8-4472-AD23-9A73D12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7194-93B1-4692-91E2-5F7C511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724D-0385-4062-BCD5-D6A9BB02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84F6-597E-4327-A8B5-E61E131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BC6-7F39-441F-A4FB-FEDCA41F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F2F6-C425-4B86-86DC-FCAE76A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FBB-1039-4AB4-8707-2DB5E1E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92A5-6B36-478D-8DE9-9B0E7861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27E-CDB4-45FB-BB39-15AD9E2D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658-40FF-41B7-9B28-F5068874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44B-56EF-4EFA-9F00-798DFCB0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73A-2C58-4482-B608-4E596425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7C6-D3D7-4BC5-A850-88BC012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F86-5E30-4957-899D-C4C304AD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4F2-9A84-4B15-8DCA-7CC35B6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DD3-B0A3-439F-888E-5A76019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6B9-0069-4170-BBB0-E8CDD0A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B4C-DEEC-4928-8E6D-BE33E9693F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855-2139-4A14-ADEB-F812F3AF29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767960"/>
            <a:ext cx="56149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пределение пола и наследование признаков, сцепленных с полом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aramond"/>
              </a:rPr>
              <a:t>Самые заметные различия между особями одного вида это различия по половому признак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665440" cy="338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248000" cy="3017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003640" y="4076640"/>
            <a:ext cx="3959280" cy="2627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2593800" cy="3097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32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62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92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22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74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гемофил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705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вертываемость кров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3168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Эритроциты –красные кровяные кле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ейкоциты – белые кровяные кле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омбоциты – пластинки, обеспечивающие свертываемость кров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761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альтон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611280" y="162864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Когда Грегор Мендель сажал горох в монастырском саду в Брюнне в середине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XIX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века, он даже предположить не мог, что его урожай мы продолжим убирать в начале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XXI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ве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836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28472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588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Домашнее зад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Параграф  23, найти в учебнике объяснения терминам – 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«мутация» и «мутагены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пыты Т.Моргана с дрозофилам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ольшинство доказательств в пользу хромосомной теории наследственности получено на основе опытов с дрозофил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176720" cy="250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924360"/>
            <a:ext cx="4176720" cy="274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Хромосомный набор (кариотип) дрозофил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летках дрозофилы 4 пары хромосом. Три пары одинаковые у самца и самки (</a:t>
            </a:r>
            <a:r>
              <a:rPr b="0" lang="ru-RU" sz="3200" spc="-1" strike="noStrike">
                <a:solidFill>
                  <a:srgbClr val="0000ff"/>
                </a:solidFill>
                <a:latin typeface="Garamond"/>
              </a:rPr>
              <a:t>аутосом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а четвер-тую пару составляют различающиеся между собой – </a:t>
            </a:r>
            <a:r>
              <a:rPr b="0" lang="ru-RU" sz="3200" spc="-1" strike="noStrike">
                <a:solidFill>
                  <a:srgbClr val="0000ff"/>
                </a:solidFill>
                <a:latin typeface="Garamond"/>
              </a:rPr>
              <a:t>половые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ромосо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Механизм определения пол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родите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165744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867280" y="1700280"/>
            <a:ext cx="1800360" cy="93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11280" y="1628280"/>
            <a:ext cx="41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2504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7920" y="132624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Х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18640" y="12531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7640" y="3067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А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744480" y="2772000"/>
            <a:ext cx="110160" cy="456840"/>
            <a:chOff x="-744480" y="2772000"/>
            <a:chExt cx="110160" cy="456840"/>
          </a:xfrm>
        </p:grpSpPr>
        <p:sp>
          <p:nvSpPr>
            <p:cNvPr id="140" name=""/>
            <p:cNvSpPr/>
            <p:nvPr/>
          </p:nvSpPr>
          <p:spPr>
            <a:xfrm flipH="1">
              <a:off x="-744480" y="2772000"/>
              <a:ext cx="11016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-1027800" y="2772000"/>
            <a:ext cx="50760" cy="456840"/>
            <a:chOff x="-1027800" y="2772000"/>
            <a:chExt cx="50760" cy="456840"/>
          </a:xfrm>
        </p:grpSpPr>
        <p:sp>
          <p:nvSpPr>
            <p:cNvPr id="142" name=""/>
            <p:cNvSpPr/>
            <p:nvPr/>
          </p:nvSpPr>
          <p:spPr>
            <a:xfrm flipH="1">
              <a:off x="-1028160" y="2772000"/>
              <a:ext cx="5076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9432720" y="2772000"/>
            <a:ext cx="47880" cy="456840"/>
            <a:chOff x="9432720" y="2772000"/>
            <a:chExt cx="47880" cy="456840"/>
          </a:xfrm>
        </p:grpSpPr>
        <p:sp>
          <p:nvSpPr>
            <p:cNvPr id="144" name=""/>
            <p:cNvSpPr/>
            <p:nvPr/>
          </p:nvSpPr>
          <p:spPr>
            <a:xfrm flipH="1">
              <a:off x="9432360" y="2772000"/>
              <a:ext cx="4788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581400" y="2743560"/>
            <a:ext cx="75960" cy="445320"/>
            <a:chOff x="9581400" y="2743560"/>
            <a:chExt cx="75960" cy="445320"/>
          </a:xfrm>
        </p:grpSpPr>
        <p:sp>
          <p:nvSpPr>
            <p:cNvPr id="146" name=""/>
            <p:cNvSpPr/>
            <p:nvPr/>
          </p:nvSpPr>
          <p:spPr>
            <a:xfrm>
              <a:off x="9581400" y="2743560"/>
              <a:ext cx="75960" cy="44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85160" y="3888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КО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91400" y="4365000"/>
            <a:ext cx="6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Х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9400" y="443628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Х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3360" y="4365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У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55720" y="4436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У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5280" y="4869000"/>
            <a:ext cx="1655640" cy="86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148360" y="4941720"/>
            <a:ext cx="1511280" cy="86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484360" y="4869000"/>
            <a:ext cx="129564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7020000" y="4941720"/>
            <a:ext cx="1152360" cy="6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27280" y="2884680"/>
            <a:ext cx="4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82680" y="3067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3320" y="30376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2240" y="306756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6160" y="5873040"/>
            <a:ext cx="5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4880" y="5944320"/>
            <a:ext cx="5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7000" y="579996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24280" y="587304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♂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бразование половых клеток –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гаметогенез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1413000"/>
            <a:ext cx="8569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ариотип челове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80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рисомия – синдром Дау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824360" cy="504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421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словие задач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ны черной окраски кошек (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и ген рыжей окраски кошек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расположены в Х-хромосоме. 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ромосоме эти гены отсутствуют. Сочетание  генов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ует трехцветную черепаховую окраску. Какое потомство получится при скрещивании черной коши и рыжего кота? Возможны ли коты черепаховой окрас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ош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2016360" cy="259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0360" y="549360"/>
            <a:ext cx="1944720" cy="252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5280" y="1843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8800" y="169956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9880" y="22755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0720" y="2419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У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5040" y="34279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1880" y="335700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49160" y="34279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84440" y="342792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7640" y="4220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547640" y="393372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227640" y="4005360"/>
            <a:ext cx="2017800" cy="2736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30520" y="501228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9560" y="4867920"/>
            <a:ext cx="6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440" y="5588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2960" y="55155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74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3:34:42Z</dcterms:created>
  <dc:creator>МОУ СОШ №35</dc:creator>
  <dc:description/>
  <dc:language>en-US</dc:language>
  <cp:lastModifiedBy>МОУ СОШ №35</cp:lastModifiedBy>
  <dcterms:modified xsi:type="dcterms:W3CDTF">2009-12-04T13:07:07Z</dcterms:modified>
  <cp:revision>18</cp:revision>
  <dc:subject/>
  <dc:title>Определение пола и наследование признаков, сцепленных с полом</dc:title>
</cp:coreProperties>
</file>