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AE8E-02CC-4937-A1BA-3DA8E0D1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4E3-2359-45EE-A73F-B7816E98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ED4-129F-422F-8C58-23C22568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7F4-4829-4C63-AE1B-9621641F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4DC0-A1DE-4977-A367-999EDA10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7E17-D60E-45E9-B929-2A14E2EB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4296-0D8E-486F-B7D3-FEA0172F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683E-FDB7-4395-B575-525E27D6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CEAB-92FD-450A-B1FF-0BDF7694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5707-15D8-4025-9F84-9B5136B9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AD15-48D1-4CAC-B05C-0EDF9A83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0E6-CA26-4E8F-B87E-D32DE17C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16A3-6160-43A4-AA72-95D0650E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9961-B745-4450-96B6-42FD6DC7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C2D2-30C0-4B73-B633-4CFF1FEF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165C-270B-4CBB-8BF4-AF34E39D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2532-89E7-43BD-B605-0BA9B302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8E5-F121-487C-B1E5-50B098F7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D5C-9CF8-4EBA-8255-98616092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BFA-4B89-4432-8290-4720A47D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19F-A785-49AB-BE19-221A98D8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4762-03FF-46C4-8746-96897DA3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F92-A465-4638-9434-E3BE8E7C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AB34-633A-4C61-BE8F-11A8E7F8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5A79-C7CC-478D-97AA-EF5F06E51CD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91D5-045B-428C-8672-CFFD8AD26C4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404640"/>
            <a:ext cx="7086600" cy="23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ahoma"/>
              </a:rPr>
              <a:t>PASSIVE VOICE</a:t>
            </a:r>
            <a:endParaRPr b="1" lang="en-US" sz="7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99640" y="-1110240"/>
            <a:ext cx="71640" cy="22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j0301252"/>
          <p:cNvPicPr/>
          <p:nvPr/>
        </p:nvPicPr>
        <p:blipFill>
          <a:blip r:embed="rId1"/>
          <a:stretch/>
        </p:blipFill>
        <p:spPr>
          <a:xfrm>
            <a:off x="6012000" y="472428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12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40672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42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assive voice with the verbs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hat have two object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8317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verbs can have two object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We gave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the police  the information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                    </a:t>
            </a:r>
            <a:r>
              <a:rPr b="0" i="1" lang="en-US" sz="2400" spc="-1" strike="noStrike">
                <a:solidFill>
                  <a:srgbClr val="ffc000"/>
                </a:solidFill>
                <a:latin typeface="Tahoma"/>
              </a:rPr>
              <a:t>object 1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     </a:t>
            </a:r>
            <a:r>
              <a:rPr b="0" i="1" lang="en-US" sz="2400" spc="-1" strike="noStrike">
                <a:solidFill>
                  <a:srgbClr val="ffc000"/>
                </a:solidFill>
                <a:latin typeface="Tahoma"/>
              </a:rPr>
              <a:t>object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 it is possible to make two passive sentences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Tahoma"/>
              </a:rPr>
              <a:t>The police </a:t>
            </a:r>
            <a:r>
              <a:rPr b="0" i="1" lang="en-US" sz="2400" spc="-1" strike="noStrike">
                <a:solidFill>
                  <a:srgbClr val="ffc000"/>
                </a:solidFill>
                <a:latin typeface="Tahoma"/>
              </a:rPr>
              <a:t>were given the information.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Tahoma"/>
              </a:rPr>
              <a:t>The information </a:t>
            </a:r>
            <a:r>
              <a:rPr b="0" i="1" lang="en-US" sz="2400" spc="-1" strike="noStrike">
                <a:solidFill>
                  <a:srgbClr val="ffc000"/>
                </a:solidFill>
                <a:latin typeface="Tahoma"/>
              </a:rPr>
              <a:t>was given to the pol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ther verbs which can have two objects are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sk         offer         pay           refuse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send        show       teach         t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Правая фигурная скобка 5"/>
          <p:cNvSpPr/>
          <p:nvPr/>
        </p:nvSpPr>
        <p:spPr>
          <a:xfrm flipH="1" rot="16200000">
            <a:off x="3943440" y="1355760"/>
            <a:ext cx="318960" cy="2087280"/>
          </a:xfrm>
          <a:custGeom>
            <a:avLst/>
            <a:gdLst>
              <a:gd name="textAreaLeft" fmla="*/ 0 w 318960"/>
              <a:gd name="textAreaRight" fmla="*/ 115200 w 318960"/>
              <a:gd name="textAreaTop" fmla="*/ 8280 h 2087280"/>
              <a:gd name="textAreaBottom" fmla="*/ 2079000 h 20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8"/>
                  <a:pt x="10800" y="275"/>
                </a:cubicBezTo>
                <a:lnTo>
                  <a:pt x="10800" y="10525"/>
                </a:lnTo>
                <a:cubicBezTo>
                  <a:pt x="10800" y="10663"/>
                  <a:pt x="16200" y="10800"/>
                  <a:pt x="21600" y="10800"/>
                </a:cubicBezTo>
                <a:cubicBezTo>
                  <a:pt x="16200" y="10800"/>
                  <a:pt x="10800" y="10938"/>
                  <a:pt x="10800" y="11075"/>
                </a:cubicBezTo>
                <a:lnTo>
                  <a:pt x="10800" y="21325"/>
                </a:lnTo>
                <a:cubicBezTo>
                  <a:pt x="10800" y="2146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0c9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5146560" y="2144880"/>
            <a:ext cx="3384720" cy="509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Express the same in English using passive forms of the verb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Мои часы украли вчер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Посмотри! Новый кинотеатр построили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Когда Павел вошел в комнату, обсуждали его проект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Все упражнения сделаны. Мы можем идти в кино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Когда с ним поговорят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Текст нужно будет перевест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Когда папа приехал, вещи были упакован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Где статья? Ее переводят. Ее переведут через час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Джона Леннона знают не только в Англи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Мне разрешили пойти в кино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9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eaeaea"/>
                </a:solidFill>
                <a:latin typeface="Tahoma"/>
              </a:rPr>
              <a:t>Match the two parts of these sentences</a:t>
            </a:r>
            <a:r>
              <a:rPr b="0" lang="ru-RU" sz="38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3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9280" y="691920"/>
            <a:ext cx="8604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1. Marriages are ma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a) cannot be undo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2. Easily earned money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b) than badly tau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3. The devil is not so black      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c) is quickly sp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4. Things done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d) as he is pain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5. Better untaught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e) in heave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3284640"/>
            <a:ext cx="914400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nd their Russian equivalents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Tahoma"/>
              </a:rPr>
              <a:t>a)</a:t>
            </a:r>
            <a:r>
              <a:rPr b="0" i="1" lang="ru-RU" sz="2800" spc="-1" strike="noStrike">
                <a:solidFill>
                  <a:srgbClr val="ff0066"/>
                </a:solidFill>
                <a:latin typeface="Tahoma"/>
              </a:rPr>
              <a:t> Браки совершаются на небес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Tahoma"/>
              </a:rPr>
              <a:t>b)</a:t>
            </a:r>
            <a:r>
              <a:rPr b="0" i="1" lang="ru-RU" sz="2800" spc="-1" strike="noStrike">
                <a:solidFill>
                  <a:srgbClr val="ff0066"/>
                </a:solidFill>
                <a:latin typeface="Tahoma"/>
              </a:rPr>
              <a:t> Недоученный хуже неучено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Tahoma"/>
              </a:rPr>
              <a:t>c)</a:t>
            </a:r>
            <a:r>
              <a:rPr b="0" i="1" lang="ru-RU" sz="2800" spc="-1" strike="noStrike">
                <a:solidFill>
                  <a:srgbClr val="ff0066"/>
                </a:solidFill>
                <a:latin typeface="Tahoma"/>
              </a:rPr>
              <a:t> Не так страшен черт, как его малюю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Tahoma"/>
              </a:rPr>
              <a:t>d)</a:t>
            </a:r>
            <a:r>
              <a:rPr b="0" i="1" lang="ru-RU" sz="2800" spc="-1" strike="noStrike">
                <a:solidFill>
                  <a:srgbClr val="ff0066"/>
                </a:solidFill>
                <a:latin typeface="Tahoma"/>
              </a:rPr>
              <a:t> После драки кулаками не машу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Tahoma"/>
              </a:rPr>
              <a:t>e)</a:t>
            </a:r>
            <a:r>
              <a:rPr b="0" i="1" lang="ru-RU" sz="2800" spc="-1" strike="noStrike">
                <a:solidFill>
                  <a:srgbClr val="ff0066"/>
                </a:solidFill>
                <a:latin typeface="Tahoma"/>
              </a:rPr>
              <a:t> Что легко наживается, легко и прожив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18692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1692360" y="2133720"/>
            <a:ext cx="65516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ELL DONE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j021273.wav" descr=""/>
          <p:cNvPicPr/>
          <p:nvPr/>
        </p:nvPicPr>
        <p:blipFill>
          <a:blip r:embed="rId1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7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838836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5742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Passive Vo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26920" y="1197000"/>
            <a:ext cx="806616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e use passive forms when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) we don`t know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O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did it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window was broken an hour a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) we are interested in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appens, not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O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it is done by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is watch was stolen in the stre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)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he situation is rather form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moking is not allow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8209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         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ssive Voice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6600" spc="-1" strike="noStrike">
                <a:solidFill>
                  <a:srgbClr val="ff0066"/>
                </a:solidFill>
                <a:latin typeface="Tahoma"/>
              </a:rPr>
              <a:t>be</a:t>
            </a:r>
            <a:r>
              <a:rPr b="1" lang="en-US" sz="7200" spc="-1" strike="noStrike">
                <a:solidFill>
                  <a:srgbClr val="ff0066"/>
                </a:solidFill>
                <a:latin typeface="Tahoma"/>
              </a:rPr>
              <a:t>+V</a:t>
            </a: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3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omebod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ean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day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activ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u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s clean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da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passiv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object  of the active verb becomes the subject in the  new sentenc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774072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8" name="Стрелка вниз 10"/>
          <p:cNvSpPr/>
          <p:nvPr/>
        </p:nvSpPr>
        <p:spPr>
          <a:xfrm rot="3381600">
            <a:off x="2586240" y="1918080"/>
            <a:ext cx="874800" cy="15814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Прямоугольник 11"/>
          <p:cNvSpPr/>
          <p:nvPr/>
        </p:nvSpPr>
        <p:spPr>
          <a:xfrm>
            <a:off x="3571920" y="1484280"/>
            <a:ext cx="2152440" cy="1112760"/>
          </a:xfrm>
          <a:prstGeom prst="rect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this room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Tahoma"/>
              </a:rPr>
              <a:t>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Прямоугольник 12"/>
          <p:cNvSpPr/>
          <p:nvPr/>
        </p:nvSpPr>
        <p:spPr>
          <a:xfrm>
            <a:off x="108000" y="2708280"/>
            <a:ext cx="2232000" cy="1081080"/>
          </a:xfrm>
          <a:prstGeom prst="rect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This roo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Tahoma"/>
              </a:rPr>
              <a:t>su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75742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re are 8 forms of the verbs in the Passive voice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1268280"/>
          <a:ext cx="9036000" cy="5435640"/>
        </p:xfrm>
        <a:graphic>
          <a:graphicData uri="http://schemas.openxmlformats.org/drawingml/2006/table">
            <a:tbl>
              <a:tblPr/>
              <a:tblGrid>
                <a:gridCol w="3198960"/>
                <a:gridCol w="2743200"/>
                <a:gridCol w="3093840"/>
              </a:tblGrid>
              <a:tr h="171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esent Sim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ast Sim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uture Sim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am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is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are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+ V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was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were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+ V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will be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shall be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+V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The work </a:t>
                      </a:r>
                      <a:r>
                        <a:rPr b="1" lang="en-US" sz="2000" spc="-1" strike="noStrike">
                          <a:solidFill>
                            <a:srgbClr val="ffc000"/>
                          </a:solidFill>
                          <a:latin typeface="Tahoma"/>
                          <a:ea typeface="Arial"/>
                        </a:rPr>
                        <a:t>is don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The work </a:t>
                      </a:r>
                      <a:r>
                        <a:rPr b="1" lang="en-US" sz="2000" spc="-1" strike="noStrike">
                          <a:solidFill>
                            <a:srgbClr val="ffc000"/>
                          </a:solidFill>
                          <a:latin typeface="Tahoma"/>
                          <a:ea typeface="Arial"/>
                        </a:rPr>
                        <a:t>was don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The wor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000"/>
                          </a:solidFill>
                          <a:latin typeface="Tahoma"/>
                          <a:ea typeface="Arial"/>
                        </a:rPr>
                        <a:t>will be done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esent Progres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ast Progres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is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are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being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+ V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was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were being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+V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The work </a:t>
                      </a:r>
                      <a:r>
                        <a:rPr b="1" lang="en-US" sz="2000" spc="-1" strike="noStrike">
                          <a:solidFill>
                            <a:srgbClr val="ffc000"/>
                          </a:solidFill>
                          <a:latin typeface="Tahoma"/>
                          <a:ea typeface="Arial"/>
                        </a:rPr>
                        <a:t>is being don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The wor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000"/>
                          </a:solidFill>
                          <a:latin typeface="Tahoma"/>
                          <a:ea typeface="Arial"/>
                        </a:rPr>
                        <a:t>was being don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esent Perf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ast Perf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uture Perf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have been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+ V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had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+ V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will have been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+V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The wor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000"/>
                          </a:solidFill>
                          <a:latin typeface="Tahoma"/>
                          <a:ea typeface="Arial"/>
                        </a:rPr>
                        <a:t>has been don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The wor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000"/>
                          </a:solidFill>
                          <a:latin typeface="Tahoma"/>
                          <a:ea typeface="Arial"/>
                        </a:rPr>
                        <a:t>had been don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The wor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000"/>
                          </a:solidFill>
                          <a:latin typeface="Tahoma"/>
                          <a:ea typeface="Arial"/>
                        </a:rPr>
                        <a:t>will have been done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845964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75742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5" name="Picture 2" descr="C:\Users\Мадина\Desktop\passive_voice5рпа.jpg"/>
          <p:cNvPicPr/>
          <p:nvPr/>
        </p:nvPicPr>
        <p:blipFill>
          <a:blip r:embed="rId1"/>
          <a:stretch/>
        </p:blipFill>
        <p:spPr>
          <a:xfrm>
            <a:off x="395280" y="0"/>
            <a:ext cx="842472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2" descr="C:\Users\Мадина\Desktop\passivesправ.jpg"/>
          <p:cNvPicPr/>
          <p:nvPr/>
        </p:nvPicPr>
        <p:blipFill>
          <a:blip r:embed="rId1"/>
          <a:stretch/>
        </p:blipFill>
        <p:spPr>
          <a:xfrm>
            <a:off x="468360" y="0"/>
            <a:ext cx="835164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83883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write these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entences using Passive voice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9280" y="1341000"/>
            <a:ext cx="8604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People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don`t use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this road very oft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Somebody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is using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the comp at the mo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They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have built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a new hospital near the airpo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They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cancelled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 all flights because of fo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Somebody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was cleaning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the room when I arriv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The car was 3 years old but no one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had used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it very mu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Somebody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will translate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this article tomorro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By the end of the week Nick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will have finished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his repo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7543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        </a:t>
            </a: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Rememb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we want to say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ho does the a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use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by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house was buil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y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 my grandfa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wo hundred people are employe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y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 the compa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omebody does the a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ith the help of instrume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we use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with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at should be cu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ith 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 a kni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od in Japan is eat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i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chopstic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817236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75742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807084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Choose the right preposition</a:t>
            </a: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8962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sh is cut … a special kn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These novels are written … A. J. Cron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. The big tree was cut down … Ji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The bridge was built … five work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. Who is the portrait painted …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12:56:11Z</dcterms:created>
  <dc:creator>AEA</dc:creator>
  <dc:description/>
  <dc:language>en-US</dc:language>
  <cp:lastModifiedBy>Администратор</cp:lastModifiedBy>
  <dcterms:modified xsi:type="dcterms:W3CDTF">2013-03-29T18:59:06Z</dcterms:modified>
  <cp:revision>43</cp:revision>
  <dc:subject/>
  <dc:title>The Gerund</dc:title>
</cp:coreProperties>
</file>