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5BE2-FD5B-4B8F-A378-C9F7202E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44DF-D606-4E9D-99DE-D981BFC8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F524-6857-4F5A-9073-0D63A855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EDE5-2723-46C7-9779-1B8C5854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0B66-B008-4611-9DDE-CAAF353E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4358-5FAF-4E6C-A388-C2EF6D8F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59CB-B165-4462-9FAB-260FEE60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03AE-91D8-4B68-BDDC-82ACDB32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4C66-3A01-41A2-8A3D-54460F13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15A2-2802-4DA8-86F2-0C88AFF2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569F-1557-452C-B9A0-DFED1857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5202-1B01-441B-83F0-83B8D850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2AFD-13E2-4E34-87CE-4A5733BD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4505-3E27-4820-AE7F-FEA0BC72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C4D6-7F25-49AB-AC93-CEF96525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D617-D6A6-4C59-9298-A1207DBC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F6D5-11AC-4027-A9C8-6F62EF07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21CC-CF96-447E-B3C8-BDB8C992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ABEE-DB3F-46E5-B56B-B258A63E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B47F-91B0-4110-A090-8DFDFD76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89D9-843A-4B0A-A846-61F51AE1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9059-CE93-48D9-A9F8-44191A5D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6D74-AA6E-44DD-A2E2-A2EEBC50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C8A9-CFEA-4AE0-9E94-5AD824B5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6E2D-A3A3-42C5-9BAF-BBDE779EC3D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F905-BC46-4DDB-8D65-9DB6F5ED875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404640"/>
            <a:ext cx="7086600" cy="23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eaea"/>
                </a:solidFill>
                <a:latin typeface="Tahoma"/>
              </a:rPr>
              <a:t>PASSIVE VOICE</a:t>
            </a:r>
            <a:endParaRPr b="1" lang="en-US" sz="7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99640" y="-1110240"/>
            <a:ext cx="71640" cy="22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j0301252"/>
          <p:cNvPicPr/>
          <p:nvPr/>
        </p:nvPicPr>
        <p:blipFill>
          <a:blip r:embed="rId1"/>
          <a:stretch/>
        </p:blipFill>
        <p:spPr>
          <a:xfrm>
            <a:off x="6012000" y="472428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12" name="Beethoven's Symphony No. 9 (Scherzo).wma" descr=""/>
          <p:cNvPicPr/>
          <p:nvPr/>
        </p:nvPicPr>
        <p:blipFill>
          <a:blip r:embed="rId2"/>
          <a:stretch/>
        </p:blipFill>
        <p:spPr>
          <a:xfrm>
            <a:off x="40672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742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assive voice with the verbs 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hat have two object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8317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verbs can have two object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We gave 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the police  the information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                     </a:t>
            </a:r>
            <a:r>
              <a:rPr b="0" i="1" lang="en-US" sz="2400" spc="-1" strike="noStrike">
                <a:solidFill>
                  <a:srgbClr val="ffc000"/>
                </a:solidFill>
                <a:latin typeface="Tahoma"/>
              </a:rPr>
              <a:t>object 1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      </a:t>
            </a:r>
            <a:r>
              <a:rPr b="0" i="1" lang="en-US" sz="2400" spc="-1" strike="noStrike">
                <a:solidFill>
                  <a:srgbClr val="ffc000"/>
                </a:solidFill>
                <a:latin typeface="Tahoma"/>
              </a:rPr>
              <a:t>object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o it is possible to make two passive sentences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Tahoma"/>
              </a:rPr>
              <a:t>The police </a:t>
            </a:r>
            <a:r>
              <a:rPr b="0" i="1" lang="en-US" sz="2400" spc="-1" strike="noStrike">
                <a:solidFill>
                  <a:srgbClr val="ffc000"/>
                </a:solidFill>
                <a:latin typeface="Tahoma"/>
              </a:rPr>
              <a:t>were given the information.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Tahoma"/>
              </a:rPr>
              <a:t>The information </a:t>
            </a:r>
            <a:r>
              <a:rPr b="0" i="1" lang="en-US" sz="2400" spc="-1" strike="noStrike">
                <a:solidFill>
                  <a:srgbClr val="ffc000"/>
                </a:solidFill>
                <a:latin typeface="Tahoma"/>
              </a:rPr>
              <a:t>was given to the poli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ther verbs which can have two objects are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ask         offer         pay           refuse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send        show       teach         te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Правая фигурная скобка 5"/>
          <p:cNvSpPr/>
          <p:nvPr/>
        </p:nvSpPr>
        <p:spPr>
          <a:xfrm flipH="1" rot="16200000">
            <a:off x="3943440" y="1355760"/>
            <a:ext cx="318960" cy="2087280"/>
          </a:xfrm>
          <a:custGeom>
            <a:avLst/>
            <a:gdLst>
              <a:gd name="textAreaLeft" fmla="*/ 0 w 318960"/>
              <a:gd name="textAreaRight" fmla="*/ 115200 w 318960"/>
              <a:gd name="textAreaTop" fmla="*/ 8280 h 2087280"/>
              <a:gd name="textAreaBottom" fmla="*/ 2079000 h 20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8"/>
                  <a:pt x="10800" y="275"/>
                </a:cubicBezTo>
                <a:lnTo>
                  <a:pt x="10800" y="10525"/>
                </a:lnTo>
                <a:cubicBezTo>
                  <a:pt x="10800" y="10663"/>
                  <a:pt x="16200" y="10800"/>
                  <a:pt x="21600" y="10800"/>
                </a:cubicBezTo>
                <a:cubicBezTo>
                  <a:pt x="16200" y="10800"/>
                  <a:pt x="10800" y="10938"/>
                  <a:pt x="10800" y="11075"/>
                </a:cubicBezTo>
                <a:lnTo>
                  <a:pt x="10800" y="21325"/>
                </a:lnTo>
                <a:cubicBezTo>
                  <a:pt x="10800" y="2146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0c9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5146560" y="2144880"/>
            <a:ext cx="3384720" cy="509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Express the same in English using passive forms of the verb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64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Мои часы украли вчер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64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Посмотри! Новый кинотеатр построили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64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Когда Павел вошел в комнату, обсуждали его проект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64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Все упражнения сделаны. Мы можем идти в кино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64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Когда с ним поговорят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64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Текст нужно будет перевест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64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Когда папа приехал, вещи были упакован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64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Где статья? Ее переводят. Ее переведут через час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64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Джона Леннона знают не только в Англи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64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Мне разрешили пойти в кино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98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3800" spc="-1" strike="noStrike">
                <a:solidFill>
                  <a:srgbClr val="eaeaea"/>
                </a:solidFill>
                <a:latin typeface="Tahoma"/>
              </a:rPr>
              <a:t>Match the two parts of these sentences</a:t>
            </a:r>
            <a:r>
              <a:rPr b="0" lang="ru-RU" sz="38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3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9280" y="691920"/>
            <a:ext cx="8604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1. Marriages are ma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00b050"/>
                </a:solidFill>
                <a:latin typeface="Tahoma"/>
              </a:rPr>
              <a:t>a) cannot be undo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2. Easily earned money</a:t>
            </a: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b050"/>
                </a:solidFill>
                <a:latin typeface="Tahoma"/>
              </a:rPr>
              <a:t>b) than badly tau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3. The devil is not so black      </a:t>
            </a:r>
            <a:r>
              <a:rPr b="0" lang="en-US" sz="2800" spc="-1" strike="noStrike">
                <a:solidFill>
                  <a:srgbClr val="00b050"/>
                </a:solidFill>
                <a:latin typeface="Tahoma"/>
              </a:rPr>
              <a:t>c) is quickly sp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4. Things done     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Tahoma"/>
              </a:rPr>
              <a:t>d) as he is pain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5. Better untaught                  </a:t>
            </a:r>
            <a:r>
              <a:rPr b="0" lang="en-US" sz="2800" spc="-1" strike="noStrike">
                <a:solidFill>
                  <a:srgbClr val="00b050"/>
                </a:solidFill>
                <a:latin typeface="Tahoma"/>
              </a:rPr>
              <a:t>e) in heave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3284640"/>
            <a:ext cx="914400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ind their Russian equivalents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Tahoma"/>
              </a:rPr>
              <a:t>a)</a:t>
            </a:r>
            <a:r>
              <a:rPr b="0" i="1" lang="ru-RU" sz="2800" spc="-1" strike="noStrike">
                <a:solidFill>
                  <a:srgbClr val="ff0066"/>
                </a:solidFill>
                <a:latin typeface="Tahoma"/>
              </a:rPr>
              <a:t> Браки совершаются на небес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Tahoma"/>
              </a:rPr>
              <a:t>b)</a:t>
            </a:r>
            <a:r>
              <a:rPr b="0" i="1" lang="ru-RU" sz="2800" spc="-1" strike="noStrike">
                <a:solidFill>
                  <a:srgbClr val="ff0066"/>
                </a:solidFill>
                <a:latin typeface="Tahoma"/>
              </a:rPr>
              <a:t> Недоученный хуже неучено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Tahoma"/>
              </a:rPr>
              <a:t>c)</a:t>
            </a:r>
            <a:r>
              <a:rPr b="0" i="1" lang="ru-RU" sz="2800" spc="-1" strike="noStrike">
                <a:solidFill>
                  <a:srgbClr val="ff0066"/>
                </a:solidFill>
                <a:latin typeface="Tahoma"/>
              </a:rPr>
              <a:t> Не так страшен черт, как его малюю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Tahoma"/>
              </a:rPr>
              <a:t>d)</a:t>
            </a:r>
            <a:r>
              <a:rPr b="0" i="1" lang="ru-RU" sz="2800" spc="-1" strike="noStrike">
                <a:solidFill>
                  <a:srgbClr val="ff0066"/>
                </a:solidFill>
                <a:latin typeface="Tahoma"/>
              </a:rPr>
              <a:t> После драки кулаками не машу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Tahoma"/>
              </a:rPr>
              <a:t>e)</a:t>
            </a:r>
            <a:r>
              <a:rPr b="0" i="1" lang="ru-RU" sz="2800" spc="-1" strike="noStrike">
                <a:solidFill>
                  <a:srgbClr val="ff0066"/>
                </a:solidFill>
                <a:latin typeface="Tahoma"/>
              </a:rPr>
              <a:t> Что легко наживается, легко и прожива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18692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1692360" y="2133720"/>
            <a:ext cx="655164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ELL DONE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j021273.wav" descr=""/>
          <p:cNvPicPr/>
          <p:nvPr/>
        </p:nvPicPr>
        <p:blipFill>
          <a:blip r:embed="rId1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7" name="Beethoven's Symphony No. 9 (Scherzo).wma" descr=""/>
          <p:cNvPicPr/>
          <p:nvPr/>
        </p:nvPicPr>
        <p:blipFill>
          <a:blip r:embed="rId2"/>
          <a:stretch/>
        </p:blipFill>
        <p:spPr>
          <a:xfrm>
            <a:off x="838836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75742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Passive Voi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26920" y="1197000"/>
            <a:ext cx="806616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We use passive forms when</a:t>
            </a: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) we don`t know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HO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did it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window was broken an hour ag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) we are interested in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appens, not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HO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it is done by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is watch was stolen in the stre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)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he situation is rather form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moking is not allow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8209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         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ssive Voice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6600" spc="-1" strike="noStrike">
                <a:solidFill>
                  <a:srgbClr val="ff0066"/>
                </a:solidFill>
                <a:latin typeface="Tahoma"/>
              </a:rPr>
              <a:t>be</a:t>
            </a:r>
            <a:r>
              <a:rPr b="1" lang="en-US" sz="7200" spc="-1" strike="noStrike">
                <a:solidFill>
                  <a:srgbClr val="ff0066"/>
                </a:solidFill>
                <a:latin typeface="Tahoma"/>
              </a:rPr>
              <a:t>+V</a:t>
            </a: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3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omebod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ean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day.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activ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u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s clean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da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passiv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 object  of the active verb becomes the subject in the  new sentenc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774072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8" name="Стрелка вниз 10"/>
          <p:cNvSpPr/>
          <p:nvPr/>
        </p:nvSpPr>
        <p:spPr>
          <a:xfrm rot="3381600">
            <a:off x="2586240" y="1918080"/>
            <a:ext cx="874800" cy="15814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Прямоугольник 11"/>
          <p:cNvSpPr/>
          <p:nvPr/>
        </p:nvSpPr>
        <p:spPr>
          <a:xfrm>
            <a:off x="3571920" y="1484280"/>
            <a:ext cx="2152440" cy="1112760"/>
          </a:xfrm>
          <a:prstGeom prst="rect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ahoma"/>
              </a:rPr>
              <a:t>this room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Tahoma"/>
              </a:rPr>
              <a:t>o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Прямоугольник 12"/>
          <p:cNvSpPr/>
          <p:nvPr/>
        </p:nvSpPr>
        <p:spPr>
          <a:xfrm>
            <a:off x="108000" y="2708280"/>
            <a:ext cx="2232000" cy="1081080"/>
          </a:xfrm>
          <a:prstGeom prst="rect">
            <a:avLst/>
          </a:prstGeom>
          <a:solidFill>
            <a:srgbClr val="66ccff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ahoma"/>
              </a:rPr>
              <a:t>This roo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Tahoma"/>
              </a:rPr>
              <a:t>su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75742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re are 8 forms of the verbs in the Passive voice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1268280"/>
          <a:ext cx="9036000" cy="5435640"/>
        </p:xfrm>
        <a:graphic>
          <a:graphicData uri="http://schemas.openxmlformats.org/drawingml/2006/table">
            <a:tbl>
              <a:tblPr/>
              <a:tblGrid>
                <a:gridCol w="3198960"/>
                <a:gridCol w="2743200"/>
                <a:gridCol w="3093840"/>
              </a:tblGrid>
              <a:tr h="1715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resent Simp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ast Simp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uture Simp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am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/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is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/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are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+ V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was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/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were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+ V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will be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/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shall be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+V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The work </a:t>
                      </a:r>
                      <a:r>
                        <a:rPr b="1" lang="en-US" sz="2000" spc="-1" strike="noStrike">
                          <a:solidFill>
                            <a:srgbClr val="ffc000"/>
                          </a:solidFill>
                          <a:latin typeface="Tahoma"/>
                          <a:ea typeface="Arial"/>
                        </a:rPr>
                        <a:t>is don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The work </a:t>
                      </a:r>
                      <a:r>
                        <a:rPr b="1" lang="en-US" sz="2000" spc="-1" strike="noStrike">
                          <a:solidFill>
                            <a:srgbClr val="ffc000"/>
                          </a:solidFill>
                          <a:latin typeface="Tahoma"/>
                          <a:ea typeface="Arial"/>
                        </a:rPr>
                        <a:t>was don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The wor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000"/>
                          </a:solidFill>
                          <a:latin typeface="Tahoma"/>
                          <a:ea typeface="Arial"/>
                        </a:rPr>
                        <a:t>will be done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resent Progress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ast Progress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is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/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are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being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+ V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was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/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were being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+V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The work </a:t>
                      </a:r>
                      <a:r>
                        <a:rPr b="1" lang="en-US" sz="2000" spc="-1" strike="noStrike">
                          <a:solidFill>
                            <a:srgbClr val="ffc000"/>
                          </a:solidFill>
                          <a:latin typeface="Tahoma"/>
                          <a:ea typeface="Arial"/>
                        </a:rPr>
                        <a:t>is being don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The wor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000"/>
                          </a:solidFill>
                          <a:latin typeface="Tahoma"/>
                          <a:ea typeface="Arial"/>
                        </a:rPr>
                        <a:t>was being don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resent Perf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ast Perf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uture Perf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have been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+ V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had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+ V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will have been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+V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The wor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000"/>
                          </a:solidFill>
                          <a:latin typeface="Tahoma"/>
                          <a:ea typeface="Arial"/>
                        </a:rPr>
                        <a:t>has been don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The wor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000"/>
                          </a:solidFill>
                          <a:latin typeface="Tahoma"/>
                          <a:ea typeface="Arial"/>
                        </a:rPr>
                        <a:t>had been don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The wor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000"/>
                          </a:solidFill>
                          <a:latin typeface="Tahoma"/>
                          <a:ea typeface="Arial"/>
                        </a:rPr>
                        <a:t>will have been done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3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845964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75742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5" name="Picture 2" descr="C:\Users\Мадина\Desktop\passive_voice5рпа.jpg"/>
          <p:cNvPicPr/>
          <p:nvPr/>
        </p:nvPicPr>
        <p:blipFill>
          <a:blip r:embed="rId1"/>
          <a:stretch/>
        </p:blipFill>
        <p:spPr>
          <a:xfrm>
            <a:off x="395280" y="0"/>
            <a:ext cx="842472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Picture 2" descr="C:\Users\Мадина\Desktop\passivesправ.jpg"/>
          <p:cNvPicPr/>
          <p:nvPr/>
        </p:nvPicPr>
        <p:blipFill>
          <a:blip r:embed="rId1"/>
          <a:stretch/>
        </p:blipFill>
        <p:spPr>
          <a:xfrm>
            <a:off x="468360" y="0"/>
            <a:ext cx="835164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83883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write these 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entences using Passive voice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9280" y="1341000"/>
            <a:ext cx="8604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People </a:t>
            </a:r>
            <a:r>
              <a:rPr b="1" i="1" lang="en-US" sz="2800" spc="-1" strike="noStrike">
                <a:solidFill>
                  <a:srgbClr val="ffc000"/>
                </a:solidFill>
                <a:latin typeface="Tahoma"/>
              </a:rPr>
              <a:t>don`t use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this road very oft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8520" indent="-488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Somebody </a:t>
            </a:r>
            <a:r>
              <a:rPr b="1" i="1" lang="en-US" sz="2800" spc="-1" strike="noStrike">
                <a:solidFill>
                  <a:srgbClr val="ffc000"/>
                </a:solidFill>
                <a:latin typeface="Tahoma"/>
              </a:rPr>
              <a:t>is using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the comp at the mo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8520" indent="-488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They </a:t>
            </a:r>
            <a:r>
              <a:rPr b="1" i="1" lang="en-US" sz="2800" spc="-1" strike="noStrike">
                <a:solidFill>
                  <a:srgbClr val="ffc000"/>
                </a:solidFill>
                <a:latin typeface="Tahoma"/>
              </a:rPr>
              <a:t>have built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a new hospital near the airpo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8520" indent="-488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They </a:t>
            </a:r>
            <a:r>
              <a:rPr b="1" i="1" lang="en-US" sz="2800" spc="-1" strike="noStrike">
                <a:solidFill>
                  <a:srgbClr val="ffc000"/>
                </a:solidFill>
                <a:latin typeface="Tahoma"/>
              </a:rPr>
              <a:t>cancelled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 all flights because of fo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8520" indent="-488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Somebody </a:t>
            </a:r>
            <a:r>
              <a:rPr b="1" i="1" lang="en-US" sz="2800" spc="-1" strike="noStrike">
                <a:solidFill>
                  <a:srgbClr val="ffc000"/>
                </a:solidFill>
                <a:latin typeface="Tahoma"/>
              </a:rPr>
              <a:t>was cleaning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the room when I arriv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8520" indent="-488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The car was 3 years old but no one </a:t>
            </a:r>
            <a:r>
              <a:rPr b="1" i="1" lang="en-US" sz="2800" spc="-1" strike="noStrike">
                <a:solidFill>
                  <a:srgbClr val="ffc000"/>
                </a:solidFill>
                <a:latin typeface="Tahoma"/>
              </a:rPr>
              <a:t>had used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it very mu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8520" indent="-488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Somebody </a:t>
            </a:r>
            <a:r>
              <a:rPr b="1" i="1" lang="en-US" sz="2800" spc="-1" strike="noStrike">
                <a:solidFill>
                  <a:srgbClr val="ffc000"/>
                </a:solidFill>
                <a:latin typeface="Tahoma"/>
              </a:rPr>
              <a:t>will translate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this article tomorro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8520" indent="-488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By the end of the week Nick </a:t>
            </a:r>
            <a:r>
              <a:rPr b="1" i="1" lang="en-US" sz="2800" spc="-1" strike="noStrike">
                <a:solidFill>
                  <a:srgbClr val="ffc000"/>
                </a:solidFill>
                <a:latin typeface="Tahoma"/>
              </a:rPr>
              <a:t>will have finished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his repo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8520" indent="-488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8520" indent="-488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8520" indent="-488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88520" indent="-4885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7543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        </a:t>
            </a: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Rememb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we want to say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ho does the a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use </a:t>
            </a: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by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house was built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by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 my grandfa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wo hundred people are employe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by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 the compan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somebody does the acti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ith the help of instrumen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we use </a:t>
            </a: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with</a:t>
            </a: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eat should be cut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ith 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 a knif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od in Japan is eaten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it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chopstick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817236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75742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9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304920"/>
            <a:ext cx="807084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Choose the right preposition</a:t>
            </a: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8962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sh is cut … a special kni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These novels are written … A. J. Cron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. The big tree was cut down … Ji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The bridge was built … five work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5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. Who is the portrait painted …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2T12:56:11Z</dcterms:created>
  <dc:creator>AEA</dc:creator>
  <dc:description/>
  <dc:language>en-US</dc:language>
  <cp:lastModifiedBy>Администратор</cp:lastModifiedBy>
  <dcterms:modified xsi:type="dcterms:W3CDTF">2013-03-29T18:59:06Z</dcterms:modified>
  <cp:revision>43</cp:revision>
  <dc:subject/>
  <dc:title>The Gerund</dc:title>
</cp:coreProperties>
</file>