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588-A3A8-4353-B244-5AA31197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FEF-59AB-4D47-89EB-DCE44E37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964-C820-4F1C-8823-B1ABA474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C25-72F5-4BCF-A828-6469051E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C29D-EF36-4C29-83BB-04E86592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E186-C261-4604-B1BF-40A08B4E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C07B-2187-487D-80D2-AB17FCF2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1D07-73F6-46B9-ACAD-EF6A918D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5F9A-9E83-411A-8857-FD0DD488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2437-B725-4D18-B0F1-84EB7FBF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35EF-3D68-4D94-85F5-9E51B30B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261-DEDA-4EA0-B0AE-1A194E82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459B-16BC-4420-B312-88A8DEEC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C66B-2757-4E8B-B6EB-8890A236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D214-0962-4EE0-8CD5-42786C1F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88AF-A4B1-499E-9C75-6C47730B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8251-8760-4B6C-9528-64F33C26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9362-8A4B-432C-BCBF-8AC9042F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DEB-1718-4BD3-9922-A9D0268D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0B0-3F8B-4CEF-A32D-A39D26E3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DE7-3A4A-4C1C-99D8-82A22BCE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E67-20C6-400A-A6FC-AF696C5F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BFE-D6B9-4BB7-B9E6-DA434F3D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D11-84A7-4D1C-B62D-DC2F1BD3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881E-3BB6-4E2A-8BE8-EE9EE9AB85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A8B8-4339-4CF7-90CC-5E1B1FFB197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Методический совет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4" descr="0002-004-Sroki-konkursa"/>
          <p:cNvPicPr/>
          <p:nvPr/>
        </p:nvPicPr>
        <p:blipFill>
          <a:blip r:embed="rId1"/>
          <a:srcRect l="5558" t="2982" r="4454" b="13731"/>
          <a:stretch/>
        </p:blipFill>
        <p:spPr>
          <a:xfrm>
            <a:off x="179280" y="4768920"/>
            <a:ext cx="2403720" cy="19666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94920" y="3213000"/>
            <a:ext cx="8497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Педагог дополнительного образования – профессионал. Какой он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856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Этапы формирования профессиональной компетентности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амоанализ и осознание необходимост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ланирование саморазвития (цели, задачи, пути решения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амопроявление, анализ, самокорректиров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офессионально значимые качества педагога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дагогическая направленность - важнейшее качество, которое представляет доминирующую систему мотивов, определяющую поведение педагога и его отношение к професс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дагогическое целеполагание - умение определить важность педагогических задач в зависимости от конкретных услов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дагогическое мышление - овладение системой средств решения педагогических задач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дагогическая рефлексия - способность педагога к самоанализ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дагогический такт - отношение к ребёнку как главной цен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омпетентность учителя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это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нте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фессионализм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специальная, методическая, психолого-педагогическая подготовка),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ворче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творчество отношений, самого процесса обучения, оптимальное использование средств, приёмов, методов обучения) и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актёрство и ораторство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0014-006-Resursy"/>
          <p:cNvPicPr/>
          <p:nvPr/>
        </p:nvPicPr>
        <p:blipFill>
          <a:blip r:embed="rId1"/>
          <a:stretch/>
        </p:blipFill>
        <p:spPr>
          <a:xfrm rot="20731200">
            <a:off x="539640" y="404280"/>
            <a:ext cx="1381320" cy="1828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overwhelmedOnly"/>
          <p:cNvPicPr/>
          <p:nvPr/>
        </p:nvPicPr>
        <p:blipFill>
          <a:blip r:embed="rId2"/>
          <a:stretch/>
        </p:blipFill>
        <p:spPr>
          <a:xfrm rot="310800">
            <a:off x="2626920" y="620280"/>
            <a:ext cx="1447920" cy="2104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teacher"/>
          <p:cNvPicPr/>
          <p:nvPr/>
        </p:nvPicPr>
        <p:blipFill>
          <a:blip r:embed="rId3"/>
          <a:stretch/>
        </p:blipFill>
        <p:spPr>
          <a:xfrm rot="20601600">
            <a:off x="4716000" y="549000"/>
            <a:ext cx="1886040" cy="2171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school_teacher-guy"/>
          <p:cNvPicPr/>
          <p:nvPr/>
        </p:nvPicPr>
        <p:blipFill>
          <a:blip r:embed="rId4"/>
          <a:stretch/>
        </p:blipFill>
        <p:spPr>
          <a:xfrm rot="20989200">
            <a:off x="250560" y="3212640"/>
            <a:ext cx="3038400" cy="1381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angryteach"/>
          <p:cNvPicPr/>
          <p:nvPr/>
        </p:nvPicPr>
        <p:blipFill>
          <a:blip r:embed="rId5"/>
          <a:stretch/>
        </p:blipFill>
        <p:spPr>
          <a:xfrm rot="21045600">
            <a:off x="5141520" y="3212640"/>
            <a:ext cx="1866960" cy="2095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teacher-with-stick"/>
          <p:cNvPicPr/>
          <p:nvPr/>
        </p:nvPicPr>
        <p:blipFill>
          <a:blip r:embed="rId6"/>
          <a:stretch/>
        </p:blipFill>
        <p:spPr>
          <a:xfrm rot="337200">
            <a:off x="7308720" y="260280"/>
            <a:ext cx="1581120" cy="2104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education262"/>
          <p:cNvPicPr/>
          <p:nvPr/>
        </p:nvPicPr>
        <p:blipFill>
          <a:blip r:embed="rId7"/>
          <a:stretch/>
        </p:blipFill>
        <p:spPr>
          <a:xfrm rot="20954400">
            <a:off x="7380000" y="3644640"/>
            <a:ext cx="1390680" cy="2448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d0bad0bed0bbd0bbd0b0d0b6_d183d187d0b8d182d0b5d0bbd18c"/>
          <p:cNvPicPr/>
          <p:nvPr/>
        </p:nvPicPr>
        <p:blipFill>
          <a:blip r:embed="rId8"/>
          <a:stretch/>
        </p:blipFill>
        <p:spPr>
          <a:xfrm rot="1168200">
            <a:off x="2905200" y="3332160"/>
            <a:ext cx="1901880" cy="19890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" descr=""/>
          <p:cNvPicPr/>
          <p:nvPr/>
        </p:nvPicPr>
        <p:blipFill>
          <a:blip r:embed="rId9"/>
          <a:stretch/>
        </p:blipFill>
        <p:spPr>
          <a:xfrm>
            <a:off x="347760" y="5662440"/>
            <a:ext cx="63342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2"/>
          <p:cNvSpPr/>
          <p:nvPr/>
        </p:nvSpPr>
        <p:spPr>
          <a:xfrm>
            <a:off x="324000" y="476280"/>
            <a:ext cx="8496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ерату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готский Л.С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едагогическая психология. - М., 199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даков И. 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Внутренняя мотивация профессионального развития // Проблемы профессиональной социализации личности. - Кемерово, 199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 В.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Основные направления изучения активности личности // Психология и педагогика активности личности. - Новосибирск, 199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тина Л. М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чностное и профессиональное развитие человека в новых социально-экономических условиях//Вопросы психологии, 1987, № 4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68360" y="80028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Спасибо за внима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ир стареет в былых надеждах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о сегодня, как и вчера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 плечах эту землю держат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 несут на себе МАСТЕРА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е, кто в жизни постичь смогли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Щедрость камня, душу металла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вежесть формулы,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оль земли…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. Рождественск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44078" b="17060"/>
          <a:stretch/>
        </p:blipFill>
        <p:spPr>
          <a:xfrm>
            <a:off x="324000" y="4365720"/>
            <a:ext cx="22269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Цели методического совета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вить представление педагогов “Дома детского творчества №1” о понятии “педагог-профессионал” и согласовать их в коллектив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основе выявленных представлений педагогов составить обобщенный качественный “портрет” современного педагога-профессионала и сравнить его с “портретом”, который сформулирован в нормативных документ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8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Педагог дополнительного образования должен обладать следующими личностными качествами: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ть чутким и доброжелательн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имать потребности и интересы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еть высокий уровень интеллектуального разви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ладать широким кругом интересов и ум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ть готовым к выполнению самых разных обязанностей, связанных с обучением и воспитанием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ть активн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ладать чувством юмо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олагать творческим потенциал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являть гибкость, быть готовым к пересмотру своих взглядов и постоянному самосовершенствова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Особенности личности, необходимые для профессиональной деятельности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собности и предрасположенность к работе определенного типа, причем это могут быть как чисто физические, так и психические, психологические каче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я и навыки, необходимые для определенной работы; это то, чему человек может научиться, приобретенное специальное образование и практический опы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и желание работать, иначе — воля и мотивация. Следует различать мотивацию внутреннего плана (интерес, чувство ответственности, стремление к мастерству) и внешнего (деньги, поощрения, статусные и престижные аспекты). Наиболее положительное воздействие как на познавательные процессы, так и на личность в целом оказывает внутренняя мотива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ермин «профессиональная компетентность»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д профессиональной компетентностью педагога дополнительного образования понимается совокупность профессиональных и личностных качеств, необходимых для успешной педагогическ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фессионально компетентны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можно назвать педагога дополнительного образования, который на достаточно высоком уровне осуществляет педагогическую деятельность, педагогическое общение, достигает стабильно высоких результатов в воспитании учащих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Развитие профессиональной компетентност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то развитие творческой индивидуальности, формирование восприимчивости к педагогическим инновациям, способностей адаптироваться в меняющейся педагогической сред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Основные пути развития профессиональной компетентности педагога: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бота в методических объединениях, творческих группа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следовательская деятельность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своение новых педагогических технолог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личные формы педагогической поддержк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ктивное участие в педагогических конкурсах, мастер-классах, форумах и фестиваля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бобщение собственного педагогического опыт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пользование ИК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3:30:10Z</dcterms:created>
  <dc:creator>lexx</dc:creator>
  <dc:description/>
  <dc:language>en-US</dc:language>
  <cp:lastModifiedBy>lexx</cp:lastModifiedBy>
  <dcterms:modified xsi:type="dcterms:W3CDTF">2013-03-04T09:29:00Z</dcterms:modified>
  <cp:revision>4</cp:revision>
  <dc:subject/>
  <dc:title>Методический совет</dc:title>
</cp:coreProperties>
</file>