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4C01-4E96-4CB8-BAD6-1CFA19EFE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CC52-AF8E-465E-A00E-52BDEEF6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4026-8564-4E6E-8402-6F790FF5B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D1ED-FCC3-4CC3-B1AB-8AC2A43BA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F30E-5DBB-42F0-B41A-6CEB2B59A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311B-4928-452A-8D8F-9C11E9DB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A705-333E-4CDF-998F-E4C5246C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24B0-E797-46E6-BB01-E921CAE7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E9A5-1BCD-4F80-9759-A69F8D6D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12AD-D79B-4196-B018-BD015FDE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2722-E6B1-4EF8-9607-A908AD6D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424D-4504-4329-8734-66E8B675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A99C-C8F3-479C-9E58-E3B7D844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F6BF-8E79-41D3-AB00-DFA2EB54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2A4F-63C6-4870-B0D5-44A9053C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488C-D20B-4B92-9ED7-D211B5CC7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5C9D-AD79-41AA-86AC-E60401414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B17C-39F3-4C91-B426-62D3CCD8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C866-886A-498D-B9CD-A45D5B22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428F-EEAD-4C56-88D1-C71EFA3B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080C-7DAD-4705-86E9-C786E810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7602-BAFD-4477-AD41-9EC5A7E9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A12D-58E3-4055-84E1-26E8D047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A156-4043-41B8-B24D-B20D8856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4605-3766-4C9E-A0F2-191F5273D5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3835-2570-4FF7-A52A-D0AD17BB29B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Методический совет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Picture 4" descr="0002-004-Sroki-konkursa"/>
          <p:cNvPicPr/>
          <p:nvPr/>
        </p:nvPicPr>
        <p:blipFill>
          <a:blip r:embed="rId1"/>
          <a:srcRect l="5558" t="2982" r="4454" b="13731"/>
          <a:stretch/>
        </p:blipFill>
        <p:spPr>
          <a:xfrm>
            <a:off x="179280" y="4768920"/>
            <a:ext cx="2403720" cy="196668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394920" y="3213000"/>
            <a:ext cx="8497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«Педагог дополнительного образования – профессионал. Какой он?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8567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Этапы формирования профессиональной компетентности: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амоанализ и осознание необходимости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ланирование саморазвития (цели, задачи, пути решения)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амопроявление, анализ, самокорректиров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Профессионально значимые качества педагога: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едагогическая направленность - важнейшее качество, которое представляет доминирующую систему мотивов, определяющую поведение педагога и его отношение к професс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едагогическое целеполагание - умение определить важность педагогических задач в зависимости от конкретных услов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едагогическое мышление - овладение системой средств решения педагогических задач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едагогическая рефлексия - способность педагога к самоанализ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едагогический такт - отношение к ребёнку как главной ценнос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Компетентность учителя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это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интез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офессионализм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специальная, методическая, психолого-педагогическая подготовка),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творчеств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творчество отношений, самого процесса обучения, оптимальное использование средств, приёмов, методов обучения) и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искусств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актёрство и ораторство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0014-006-Resursy"/>
          <p:cNvPicPr/>
          <p:nvPr/>
        </p:nvPicPr>
        <p:blipFill>
          <a:blip r:embed="rId1"/>
          <a:stretch/>
        </p:blipFill>
        <p:spPr>
          <a:xfrm rot="20731200">
            <a:off x="539640" y="404280"/>
            <a:ext cx="1381320" cy="18288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overwhelmedOnly"/>
          <p:cNvPicPr/>
          <p:nvPr/>
        </p:nvPicPr>
        <p:blipFill>
          <a:blip r:embed="rId2"/>
          <a:stretch/>
        </p:blipFill>
        <p:spPr>
          <a:xfrm rot="310800">
            <a:off x="2626920" y="620280"/>
            <a:ext cx="1447920" cy="2104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teacher"/>
          <p:cNvPicPr/>
          <p:nvPr/>
        </p:nvPicPr>
        <p:blipFill>
          <a:blip r:embed="rId3"/>
          <a:stretch/>
        </p:blipFill>
        <p:spPr>
          <a:xfrm rot="20601600">
            <a:off x="4716000" y="549000"/>
            <a:ext cx="1886040" cy="2171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school_teacher-guy"/>
          <p:cNvPicPr/>
          <p:nvPr/>
        </p:nvPicPr>
        <p:blipFill>
          <a:blip r:embed="rId4"/>
          <a:stretch/>
        </p:blipFill>
        <p:spPr>
          <a:xfrm rot="20989200">
            <a:off x="250560" y="3212640"/>
            <a:ext cx="3038400" cy="1381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angryteach"/>
          <p:cNvPicPr/>
          <p:nvPr/>
        </p:nvPicPr>
        <p:blipFill>
          <a:blip r:embed="rId5"/>
          <a:stretch/>
        </p:blipFill>
        <p:spPr>
          <a:xfrm rot="21045600">
            <a:off x="5141520" y="3212640"/>
            <a:ext cx="1866960" cy="20955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9" descr="teacher-with-stick"/>
          <p:cNvPicPr/>
          <p:nvPr/>
        </p:nvPicPr>
        <p:blipFill>
          <a:blip r:embed="rId6"/>
          <a:stretch/>
        </p:blipFill>
        <p:spPr>
          <a:xfrm rot="337200">
            <a:off x="7308720" y="260280"/>
            <a:ext cx="1581120" cy="2104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0" descr="education262"/>
          <p:cNvPicPr/>
          <p:nvPr/>
        </p:nvPicPr>
        <p:blipFill>
          <a:blip r:embed="rId7"/>
          <a:stretch/>
        </p:blipFill>
        <p:spPr>
          <a:xfrm rot="20954400">
            <a:off x="7380000" y="3644640"/>
            <a:ext cx="1390680" cy="2448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1" descr="d0bad0bed0bbd0bbd0b0d0b6_d183d187d0b8d182d0b5d0bbd18c"/>
          <p:cNvPicPr/>
          <p:nvPr/>
        </p:nvPicPr>
        <p:blipFill>
          <a:blip r:embed="rId8"/>
          <a:stretch/>
        </p:blipFill>
        <p:spPr>
          <a:xfrm rot="1168200">
            <a:off x="2905200" y="3332160"/>
            <a:ext cx="1901880" cy="1989000"/>
          </a:xfrm>
          <a:prstGeom prst="rect">
            <a:avLst/>
          </a:prstGeom>
          <a:ln w="0">
            <a:noFill/>
          </a:ln>
        </p:spPr>
      </p:pic>
      <p:pic>
        <p:nvPicPr>
          <p:cNvPr id="243" name="Прямоугольник 1" descr=""/>
          <p:cNvPicPr/>
          <p:nvPr/>
        </p:nvPicPr>
        <p:blipFill>
          <a:blip r:embed="rId9"/>
          <a:stretch/>
        </p:blipFill>
        <p:spPr>
          <a:xfrm>
            <a:off x="347760" y="5662440"/>
            <a:ext cx="63342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оугольник 2"/>
          <p:cNvSpPr/>
          <p:nvPr/>
        </p:nvSpPr>
        <p:spPr>
          <a:xfrm>
            <a:off x="324000" y="476280"/>
            <a:ext cx="84960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итератур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готский Л.С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едагогическая психология. - М., 1996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даков И. 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Внутренняя мотивация профессионального развития // Проблемы профессиональной социализации личности. - Кемерово, 1996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еонтьев В.Г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Основные направления изучения активности личности // Психология и педагогика активности личности. - Новосибирск, 1992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тина Л. М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ичностное и профессиональное развитие человека в новых социально-экономических условиях//Вопросы психологии, 1987, № 4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468360" y="80028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ecff"/>
                </a:solidFill>
                <a:latin typeface="Arial"/>
              </a:rPr>
              <a:t>Спасибо за внимани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Мир стареет в былых надеждах. 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о сегодня, как и вчера,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а плечах эту землю держат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И несут на себе МАСТЕРА. 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Те, кто в жизни постичь смогли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Щедрость камня, душу металла,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вежесть формулы,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оль земли…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. Рождественски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rcRect l="0" t="0" r="44078" b="17060"/>
          <a:stretch/>
        </p:blipFill>
        <p:spPr>
          <a:xfrm>
            <a:off x="324000" y="4365720"/>
            <a:ext cx="222696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ecff"/>
                </a:solidFill>
                <a:latin typeface="Arial"/>
              </a:rPr>
              <a:t>Цели методического совета: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явить представление педагогов “Дома детского творчества №1” о понятии “педагог-профессионал” и согласовать их в коллектив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основе выявленных представлений педагогов составить обобщенный качественный “портрет” современного педагога-профессионала и сравнить его с “портретом”, который сформулирован в нормативных документа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284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ecff"/>
                </a:solidFill>
                <a:latin typeface="Arial"/>
              </a:rPr>
              <a:t>Педагог дополнительного образования должен обладать следующими личностными качествами: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ыть чутким и доброжелательны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нимать потребности и интересы дет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меть высокий уровень интеллектуального развит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ладать широким кругом интересов и уме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ыть готовым к выполнению самых разных обязанностей, связанных с обучением и воспитанием дет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ыть активны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ладать чувством юмо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сполагать творческим потенциало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являть гибкость, быть готовым к пересмотру своих взглядов и постоянному самосовершенствован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Особенности личности, необходимые для профессиональной деятельности: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пособности и предрасположенность к работе определенного типа, причем это могут быть как чисто физические, так и психические, психологические качеств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нания и навыки, необходимые для определенной работы; это то, чему человек может научиться, приобретенное специальное образование и практический опы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клонность и желание работать, иначе — воля и мотивация. Следует различать мотивацию внутреннего плана (интерес, чувство ответственности, стремление к мастерству) и внешнего (деньги, поощрения, статусные и престижные аспекты). Наиболее положительное воздействие как на познавательные процессы, так и на личность в целом оказывает внутренняя мотивац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Термин «профессиональная компетентность»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од профессиональной компетентностью педагога дополнительного образования понимается совокупность профессиональных и личностных качеств, необходимых для успешной педагогической деятель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офессионально компетентным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можно назвать педагога дополнительного образования, который на достаточно высоком уровне осуществляет педагогическую деятельность, педагогическое общение, достигает стабильно высоких результатов в воспитании учащих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Развитие профессиональной компетентности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–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это развитие творческой индивидуальности, формирование восприимчивости к педагогическим инновациям, способностей адаптироваться в меняющейся педагогической сред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Основные пути развития профессиональной компетентности педагога: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абота в методических объединениях, творческих группах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сследовательская деятельность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своение новых педагогических технологий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азличные формы педагогической поддержки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активное участие в педагогических конкурсах, мастер-классах, форумах и фестивалях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бобщение собственного педагогического опыта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спользование ИК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3T03:30:10Z</dcterms:created>
  <dc:creator>lexx</dc:creator>
  <dc:description/>
  <dc:language>en-US</dc:language>
  <cp:lastModifiedBy>lexx</cp:lastModifiedBy>
  <dcterms:modified xsi:type="dcterms:W3CDTF">2013-03-04T09:29:00Z</dcterms:modified>
  <cp:revision>4</cp:revision>
  <dc:subject/>
  <dc:title>Методический совет</dc:title>
</cp:coreProperties>
</file>