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3.gif" ContentType="image/gif"/>
  <Override PartName="/ppt/media/image13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5828-7355-4E92-9792-D87EB751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E01E-A82D-4885-BF12-180ADDCB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E68C-2135-424D-A733-7643317B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2FE3-B37C-4FD4-802E-C91CDE3A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8B90-4FD1-41A7-BB88-FDDAD97F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04A5-0975-4481-A54D-CC7182E8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1314-2371-44B7-99E6-79C6E5C3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47B9-F45B-492C-B2C3-981DF477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9723-FE16-4ACF-A5FD-39D9FE5D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0462-10F8-45F4-9D46-78D31BA0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619B-DB65-4D48-9C54-DF643286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5B57-A59B-4E79-A4AF-F2461FD7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E85A-BAAE-4669-B8C8-8CF6A12A14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0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1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2" descr="serdze-1"/>
          <p:cNvPicPr/>
          <p:nvPr/>
        </p:nvPicPr>
        <p:blipFill>
          <a:blip r:embed="rId3"/>
          <a:stretch/>
        </p:blipFill>
        <p:spPr>
          <a:xfrm>
            <a:off x="4581360" y="3429000"/>
            <a:ext cx="63828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Объект WordArt 43"/>
          <p:cNvSpPr txBox="1"/>
          <p:nvPr/>
        </p:nvSpPr>
        <p:spPr>
          <a:xfrm>
            <a:off x="2195640" y="692280"/>
            <a:ext cx="5832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51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вая помощь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Объект WordArt 44"/>
          <p:cNvSpPr txBox="1"/>
          <p:nvPr/>
        </p:nvSpPr>
        <p:spPr>
          <a:xfrm>
            <a:off x="2266920" y="4653000"/>
            <a:ext cx="5400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 остановке сердца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88" name="Объект WordArt 5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7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Прямоуг. 6"/>
          <p:cNvSpPr/>
          <p:nvPr/>
        </p:nvSpPr>
        <p:spPr>
          <a:xfrm>
            <a:off x="971640" y="2277000"/>
            <a:ext cx="54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тив, что грудная клетка приподнимается во время искусственного дыхания, прикоснитесь двумя пальцами к адамову ябло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стите пальцы в углубление между адамовым яблоком и мышцей на боковой стороне ше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ечение 5—10 секунд пытайтесь нащупать пуль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7" descr="49-7"/>
          <p:cNvPicPr/>
          <p:nvPr/>
        </p:nvPicPr>
        <p:blipFill>
          <a:blip r:embed="rId3"/>
          <a:stretch/>
        </p:blipFill>
        <p:spPr>
          <a:xfrm>
            <a:off x="6588000" y="2349360"/>
            <a:ext cx="2238480" cy="222912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93" name="Объект WordArt 5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8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Прямоуг. 6"/>
          <p:cNvSpPr/>
          <p:nvPr/>
        </p:nvSpPr>
        <p:spPr>
          <a:xfrm>
            <a:off x="1042920" y="2134080"/>
            <a:ext cx="54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ульс есть, продолжайте искусственное дыхание, производя по 1 вдуванию воздуха каждые 4 секу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каждые 15 вдуваний проверяйте пуль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1 минуту вызовите неотложную помо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 продолжайте искусственное дыхание с проверкой пуль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7" descr="49-8"/>
          <p:cNvPicPr/>
          <p:nvPr/>
        </p:nvPicPr>
        <p:blipFill>
          <a:blip r:embed="rId3"/>
          <a:stretch/>
        </p:blipFill>
        <p:spPr>
          <a:xfrm>
            <a:off x="6588000" y="2205000"/>
            <a:ext cx="2238480" cy="232416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98" name="Объект WordArt 5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9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Прямоуг. 6"/>
          <p:cNvSpPr/>
          <p:nvPr/>
        </p:nvSpPr>
        <p:spPr>
          <a:xfrm>
            <a:off x="900000" y="1989720"/>
            <a:ext cx="54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ульса нет, начинайте непрямой массаж серд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меняя положения головы ребенка, положите выступ своей ладони ему на грудину 5 раз так, чтобы грудина каждый раз опускалась на 2,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жимайте на грудину плавно и ритмично, не отрывая от нее выступа ладо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7" descr="49-9"/>
          <p:cNvPicPr/>
          <p:nvPr/>
        </p:nvPicPr>
        <p:blipFill>
          <a:blip r:embed="rId3"/>
          <a:stretch/>
        </p:blipFill>
        <p:spPr>
          <a:xfrm>
            <a:off x="6443640" y="2060640"/>
            <a:ext cx="2238480" cy="202860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03" name="Объект WordArt 4"/>
          <p:cNvSpPr txBox="1"/>
          <p:nvPr/>
        </p:nvSpPr>
        <p:spPr>
          <a:xfrm>
            <a:off x="4356000" y="404640"/>
            <a:ext cx="79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10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Прямоуг. 5"/>
          <p:cNvSpPr/>
          <p:nvPr/>
        </p:nvSpPr>
        <p:spPr>
          <a:xfrm>
            <a:off x="900000" y="193176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дуйте 1 вдувание воздуха с 5 нажатиями на груд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ите эти приемы 10 ра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6" descr="50-10"/>
          <p:cNvPicPr/>
          <p:nvPr/>
        </p:nvPicPr>
        <p:blipFill>
          <a:blip r:embed="rId3"/>
          <a:stretch/>
        </p:blipFill>
        <p:spPr>
          <a:xfrm>
            <a:off x="6659640" y="1052640"/>
            <a:ext cx="2238120" cy="454320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08" name="Объект WordArt 4"/>
          <p:cNvSpPr txBox="1"/>
          <p:nvPr/>
        </p:nvSpPr>
        <p:spPr>
          <a:xfrm>
            <a:off x="4356000" y="404640"/>
            <a:ext cx="79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11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Прямоуг. 5"/>
          <p:cNvSpPr/>
          <p:nvPr/>
        </p:nvSpPr>
        <p:spPr>
          <a:xfrm>
            <a:off x="900000" y="220464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ова в течение 5—10 секунд пытайтесь нащупать пуль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6" descr="50-11"/>
          <p:cNvPicPr/>
          <p:nvPr/>
        </p:nvPicPr>
        <p:blipFill>
          <a:blip r:embed="rId3"/>
          <a:stretch/>
        </p:blipFill>
        <p:spPr>
          <a:xfrm>
            <a:off x="6659640" y="2060640"/>
            <a:ext cx="2238120" cy="222876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  <p:sp>
        <p:nvSpPr>
          <p:cNvPr id="111" name="Прямоуг. 7"/>
          <p:cNvSpPr/>
          <p:nvPr/>
        </p:nvSpPr>
        <p:spPr>
          <a:xfrm>
            <a:off x="1187280" y="514944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яйте приемы, описанные в пунктах 10 и 11, до появления пульса или прибытия врача. Если пульс восстановился, повторяйте прием, описанный в пункте 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14" name="Объект WordArt 4"/>
          <p:cNvSpPr txBox="1"/>
          <p:nvPr/>
        </p:nvSpPr>
        <p:spPr>
          <a:xfrm>
            <a:off x="2340000" y="1700280"/>
            <a:ext cx="511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51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асть II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Прямоуг. 5"/>
          <p:cNvSpPr/>
          <p:nvPr/>
        </p:nvSpPr>
        <p:spPr>
          <a:xfrm>
            <a:off x="971640" y="5588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новка сердца и дыхания у ребенка старше 8 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. 4"/>
          <p:cNvSpPr/>
          <p:nvPr/>
        </p:nvSpPr>
        <p:spPr>
          <a:xfrm>
            <a:off x="1187280" y="765720"/>
            <a:ext cx="777744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санные ниже приемы восстановления сердечной деятельности и дыхания никогда не заменят навыков, приобретенных в ходе специального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ьная подготовка позволяет проводить реанимацию гораздо успешне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. 5"/>
          <p:cNvSpPr/>
          <p:nvPr/>
        </p:nvSpPr>
        <p:spPr>
          <a:xfrm>
            <a:off x="1620360" y="40464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то нужно зн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. 6"/>
          <p:cNvSpPr/>
          <p:nvPr/>
        </p:nvSpPr>
        <p:spPr>
          <a:xfrm>
            <a:off x="1258920" y="3717000"/>
            <a:ext cx="741672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сердце у ребенка бьется, надавливаний на грудную клетку делать не нужно: это может привести к остановке серд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подозреваете у ребенка травму позвоночника, не двигайте его голову и шею, когда определяете, дышит ли о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. 7"/>
          <p:cNvSpPr/>
          <p:nvPr/>
        </p:nvSpPr>
        <p:spPr>
          <a:xfrm>
            <a:off x="1551960" y="321300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го не следует дел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24" name="Объект WordArt 5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1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Прямоуг. 6"/>
          <p:cNvSpPr/>
          <p:nvPr/>
        </p:nvSpPr>
        <p:spPr>
          <a:xfrm>
            <a:off x="900000" y="220464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выяснить, в сознании ли ребенок, осторожно потеребите его и позовите по и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7" descr="51-1"/>
          <p:cNvPicPr/>
          <p:nvPr/>
        </p:nvPicPr>
        <p:blipFill>
          <a:blip r:embed="rId3"/>
          <a:stretch/>
        </p:blipFill>
        <p:spPr>
          <a:xfrm>
            <a:off x="6588000" y="2276640"/>
            <a:ext cx="223848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29" name="Объект WordArt 4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2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Прямоуг. 5"/>
          <p:cNvSpPr/>
          <p:nvPr/>
        </p:nvSpPr>
        <p:spPr>
          <a:xfrm>
            <a:off x="900000" y="242064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ебенок не реагирует, то, крепко поддерживая рукой голову и шею и не сгибая ему спину, положите ребенка на твердую поверхность лицом вверх и обнажите ему груд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7" descr="51-2"/>
          <p:cNvPicPr/>
          <p:nvPr/>
        </p:nvPicPr>
        <p:blipFill>
          <a:blip r:embed="rId3"/>
          <a:stretch/>
        </p:blipFill>
        <p:spPr>
          <a:xfrm>
            <a:off x="6516720" y="2349360"/>
            <a:ext cx="223848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34" name="Объект WordArt 4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3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Прямоуг. 5"/>
          <p:cNvSpPr/>
          <p:nvPr/>
        </p:nvSpPr>
        <p:spPr>
          <a:xfrm>
            <a:off x="971640" y="1916280"/>
            <a:ext cx="64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освободить дыхательные пути от запавшего языка, приподнимите ребенку подбородок и отведите голову наз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подозреваете у ребенка травму позвоночника, выдвиньте его нижнюю челюсть вперед, стараясь при этом не двигать голову и шею. Рот ребенка должен оставаться открыт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7" descr="52-3"/>
          <p:cNvPicPr/>
          <p:nvPr/>
        </p:nvPicPr>
        <p:blipFill>
          <a:blip r:embed="rId3"/>
          <a:stretch/>
        </p:blipFill>
        <p:spPr>
          <a:xfrm>
            <a:off x="6516720" y="4653000"/>
            <a:ext cx="2238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48" name="Объект WordArt 5"/>
          <p:cNvSpPr txBox="1"/>
          <p:nvPr/>
        </p:nvSpPr>
        <p:spPr>
          <a:xfrm>
            <a:off x="2340000" y="1700280"/>
            <a:ext cx="511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51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асть I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Прямоуг. 7"/>
          <p:cNvSpPr/>
          <p:nvPr/>
        </p:nvSpPr>
        <p:spPr>
          <a:xfrm>
            <a:off x="1187280" y="5588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новка сердца и дыхания у ребенка 1—8 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39" name="Объект WordArt 4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4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Прямоуг. 5"/>
          <p:cNvSpPr/>
          <p:nvPr/>
        </p:nvSpPr>
        <p:spPr>
          <a:xfrm>
            <a:off x="971640" y="2349360"/>
            <a:ext cx="54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лонитесь ухом ко рту ребенка, чтобы услышать его дыхание, и посмотрите, движется ли его грудная кле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матривайтесь и прислушивайтесь не более 5 секун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7" descr="52-4"/>
          <p:cNvPicPr/>
          <p:nvPr/>
        </p:nvPicPr>
        <p:blipFill>
          <a:blip r:embed="rId3"/>
          <a:stretch/>
        </p:blipFill>
        <p:spPr>
          <a:xfrm>
            <a:off x="6588000" y="2349360"/>
            <a:ext cx="22384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44" name="Объект WordArt 4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5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Прямоуг. 5"/>
          <p:cNvSpPr/>
          <p:nvPr/>
        </p:nvSpPr>
        <p:spPr>
          <a:xfrm>
            <a:off x="900000" y="2305440"/>
            <a:ext cx="547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ебенок не дышит, приступайте к искусственному дыха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меняя положения головы ребенка, большим и указательным пальцами зажмите ему нос и плотно прижмите свой рот к его р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делайте 2 медленных полных вдувания воздуха, с паузой между ни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7" descr="52-5"/>
          <p:cNvPicPr/>
          <p:nvPr/>
        </p:nvPicPr>
        <p:blipFill>
          <a:blip r:embed="rId3"/>
          <a:stretch/>
        </p:blipFill>
        <p:spPr>
          <a:xfrm>
            <a:off x="6588000" y="2349360"/>
            <a:ext cx="223848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49" name="Объект WordArt 4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6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Прямоуг. 5"/>
          <p:cNvSpPr/>
          <p:nvPr/>
        </p:nvSpPr>
        <p:spPr>
          <a:xfrm>
            <a:off x="971640" y="234936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грудная клетка во время искусственного дыхания не приходит в движение, измените положение головы ребенка и сделайте еще 2 вдувания воздух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7" descr="52-6"/>
          <p:cNvPicPr/>
          <p:nvPr/>
        </p:nvPicPr>
        <p:blipFill>
          <a:blip r:embed="rId3"/>
          <a:stretch/>
        </p:blipFill>
        <p:spPr>
          <a:xfrm>
            <a:off x="6588000" y="2421000"/>
            <a:ext cx="22384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54" name="Объект WordArt 4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7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Прямоуг. 5"/>
          <p:cNvSpPr/>
          <p:nvPr/>
        </p:nvSpPr>
        <p:spPr>
          <a:xfrm>
            <a:off x="971640" y="2277000"/>
            <a:ext cx="54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тив, что грудная клетка приподнимается во время искусственного дыхания, прикоснитесь двумя пальцами к адамову ябло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стите пальцы в углубление между адамовым яблоком и мышцей на боковой стороне ше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ечение 5—10 секунд пытайтесь нащупать пуль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7" descr="53-7"/>
          <p:cNvPicPr/>
          <p:nvPr/>
        </p:nvPicPr>
        <p:blipFill>
          <a:blip r:embed="rId3"/>
          <a:stretch/>
        </p:blipFill>
        <p:spPr>
          <a:xfrm>
            <a:off x="6588000" y="2492280"/>
            <a:ext cx="223848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59" name="Объект WordArt 4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8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Прямоуг. 5"/>
          <p:cNvSpPr/>
          <p:nvPr/>
        </p:nvSpPr>
        <p:spPr>
          <a:xfrm>
            <a:off x="1042920" y="2134080"/>
            <a:ext cx="54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ульс есть, продолжайте искусственное дыхание, производя по 1 вдуванию воздуха кажд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ку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каждые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дуваний проверяйте пуль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1 минуту вызовите неотложную помо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 продолжайте искусственное дыхание с проверкой пуль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7" descr="53-8"/>
          <p:cNvPicPr/>
          <p:nvPr/>
        </p:nvPicPr>
        <p:blipFill>
          <a:blip r:embed="rId3"/>
          <a:stretch/>
        </p:blipFill>
        <p:spPr>
          <a:xfrm>
            <a:off x="6659640" y="2349360"/>
            <a:ext cx="223812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64" name="Объект WordArt 4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9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Прямоуг. 5"/>
          <p:cNvSpPr/>
          <p:nvPr/>
        </p:nvSpPr>
        <p:spPr>
          <a:xfrm>
            <a:off x="1116000" y="1486080"/>
            <a:ext cx="54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ульса нет, начинайте непрямой массаж серд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меняя положения головы ребенка, положите выступ своей ладони ему на грудину на 2 пальца выше ее нижнего к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ю другую руку положите сверху. Пальцы рук сомкните замком, при этом они не должны касаться груди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айтесь чуть вперед и в течение 10 секунд резко нажмите на грудину 15 раз так, чтобы грудина каждый раз опускалась на 4—5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жимайте на грудину плавно и ритмично, не отрывая от нее выступа ладо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7" descr="53-9"/>
          <p:cNvPicPr/>
          <p:nvPr/>
        </p:nvPicPr>
        <p:blipFill>
          <a:blip r:embed="rId3"/>
          <a:stretch/>
        </p:blipFill>
        <p:spPr>
          <a:xfrm>
            <a:off x="6877080" y="2421000"/>
            <a:ext cx="1969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69" name="Объект WordArt 4"/>
          <p:cNvSpPr txBox="1"/>
          <p:nvPr/>
        </p:nvSpPr>
        <p:spPr>
          <a:xfrm>
            <a:off x="4356000" y="404640"/>
            <a:ext cx="79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10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Прямоуг. 5"/>
          <p:cNvSpPr/>
          <p:nvPr/>
        </p:nvSpPr>
        <p:spPr>
          <a:xfrm>
            <a:off x="900000" y="193176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дуйте 2 вдувания воздуха с 15 нажатиями на груд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ите эти приемы 4 ра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7" descr="54-10"/>
          <p:cNvPicPr/>
          <p:nvPr/>
        </p:nvPicPr>
        <p:blipFill>
          <a:blip r:embed="rId3"/>
          <a:stretch/>
        </p:blipFill>
        <p:spPr>
          <a:xfrm>
            <a:off x="6516720" y="907920"/>
            <a:ext cx="223848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174" name="Объект WordArt 4"/>
          <p:cNvSpPr txBox="1"/>
          <p:nvPr/>
        </p:nvSpPr>
        <p:spPr>
          <a:xfrm>
            <a:off x="4356000" y="404640"/>
            <a:ext cx="79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11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Прямоуг. 5"/>
          <p:cNvSpPr/>
          <p:nvPr/>
        </p:nvSpPr>
        <p:spPr>
          <a:xfrm>
            <a:off x="900000" y="220464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ова в течение 5—10 секунд пытайтесь нащупать пуль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. 7"/>
          <p:cNvSpPr/>
          <p:nvPr/>
        </p:nvSpPr>
        <p:spPr>
          <a:xfrm>
            <a:off x="1187280" y="514944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яйте приемы, описанные в пунктах 10 и 11, до появления пульса или прибытия врача. Если пульс восстановился, повторяйте прием, описанный в пункте 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Рисунок 8" descr="54-11"/>
          <p:cNvPicPr/>
          <p:nvPr/>
        </p:nvPicPr>
        <p:blipFill>
          <a:blip r:embed="rId3"/>
          <a:stretch/>
        </p:blipFill>
        <p:spPr>
          <a:xfrm>
            <a:off x="6372360" y="2060640"/>
            <a:ext cx="22381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. 4"/>
          <p:cNvSpPr/>
          <p:nvPr/>
        </p:nvSpPr>
        <p:spPr>
          <a:xfrm>
            <a:off x="1187280" y="765720"/>
            <a:ext cx="777744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санные ниже приемы восстановления сердечной деятельности и дыхания никогда не заменят навыков, приобретенных в ходе специального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ьная подготовка позволяет проводить реанимацию гораздо успешне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. 5"/>
          <p:cNvSpPr/>
          <p:nvPr/>
        </p:nvSpPr>
        <p:spPr>
          <a:xfrm>
            <a:off x="1620360" y="40464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то нужно зн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. 6"/>
          <p:cNvSpPr/>
          <p:nvPr/>
        </p:nvSpPr>
        <p:spPr>
          <a:xfrm>
            <a:off x="1258920" y="3717000"/>
            <a:ext cx="741672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сердце у ребенка бьется, надавливаний на грудную клетку делать не нужно: это может привести к остановке серд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подозреваете у ребенка травму позвоночника, не двигайте его голову и шею, когда определяете, дышит ли о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. 7"/>
          <p:cNvSpPr/>
          <p:nvPr/>
        </p:nvSpPr>
        <p:spPr>
          <a:xfrm>
            <a:off x="1551960" y="321300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го не следует дел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9" descr="47-1"/>
          <p:cNvPicPr/>
          <p:nvPr/>
        </p:nvPicPr>
        <p:blipFill>
          <a:blip r:embed="rId3"/>
          <a:stretch/>
        </p:blipFill>
        <p:spPr>
          <a:xfrm>
            <a:off x="6581880" y="2270160"/>
            <a:ext cx="2238120" cy="223848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  <p:sp>
        <p:nvSpPr>
          <p:cNvPr id="59" name="Объект WordArt 10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1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Прямоуг. 11"/>
          <p:cNvSpPr/>
          <p:nvPr/>
        </p:nvSpPr>
        <p:spPr>
          <a:xfrm>
            <a:off x="900000" y="220464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выяснить, в сознании ли ребенок, осторожно потеребите его и позовите по и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63" name="Объект WordArt 5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2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Прямоуг. 6"/>
          <p:cNvSpPr/>
          <p:nvPr/>
        </p:nvSpPr>
        <p:spPr>
          <a:xfrm>
            <a:off x="900000" y="242064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ебенок не реагирует, то, крепко поддерживая рукой голову и шею и не сгибая ему спину, положите ребенка на твердую поверхность лицом вверх и обнажите ему груд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7" descr="47-2"/>
          <p:cNvPicPr/>
          <p:nvPr/>
        </p:nvPicPr>
        <p:blipFill>
          <a:blip r:embed="rId3"/>
          <a:stretch/>
        </p:blipFill>
        <p:spPr>
          <a:xfrm>
            <a:off x="6659640" y="2349360"/>
            <a:ext cx="2238120" cy="216216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68" name="Объект WordArt 5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3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Прямоуг. 6"/>
          <p:cNvSpPr/>
          <p:nvPr/>
        </p:nvSpPr>
        <p:spPr>
          <a:xfrm>
            <a:off x="971640" y="1916280"/>
            <a:ext cx="64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освободить дыхательные пути от запавшего языка, приподнимите ребенку подбородок и отведите голову наз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подозреваете у ребенка травму позвоночника, выдвиньте его нижнюю челюсть вперед, стараясь при этом не двигать голову и шею. Рот ребенка должен оставаться открыт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7" descr="48-3"/>
          <p:cNvPicPr/>
          <p:nvPr/>
        </p:nvPicPr>
        <p:blipFill>
          <a:blip r:embed="rId3"/>
          <a:stretch/>
        </p:blipFill>
        <p:spPr>
          <a:xfrm>
            <a:off x="6581880" y="4365720"/>
            <a:ext cx="2238120" cy="221940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73" name="Объект WordArt 5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4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Прямоуг. 6"/>
          <p:cNvSpPr/>
          <p:nvPr/>
        </p:nvSpPr>
        <p:spPr>
          <a:xfrm>
            <a:off x="971640" y="2349360"/>
            <a:ext cx="54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лонитесь ухом ко рту ребенка, чтобы услышать его дыхание, и посмотрите, движется ли его грудная кле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матривайтесь и прислушивайтесь не более 5 секун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7" descr="48-4"/>
          <p:cNvPicPr/>
          <p:nvPr/>
        </p:nvPicPr>
        <p:blipFill>
          <a:blip r:embed="rId3"/>
          <a:stretch/>
        </p:blipFill>
        <p:spPr>
          <a:xfrm>
            <a:off x="6588000" y="2276640"/>
            <a:ext cx="2238480" cy="208584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78" name="Объект WordArt 5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5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Прямоуг. 6"/>
          <p:cNvSpPr/>
          <p:nvPr/>
        </p:nvSpPr>
        <p:spPr>
          <a:xfrm>
            <a:off x="900000" y="2305440"/>
            <a:ext cx="547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ебенок не дышит, приступайте к искусственному дыха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меняя положения головы ребенка, большим и указательным пальцами зажмите ему нос и плотно прижмите свой рот к его р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делайте 2 медленных полных вдувания воздуха, с паузой между ни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7" descr="48-5"/>
          <p:cNvPicPr/>
          <p:nvPr/>
        </p:nvPicPr>
        <p:blipFill>
          <a:blip r:embed="rId3"/>
          <a:stretch/>
        </p:blipFill>
        <p:spPr>
          <a:xfrm>
            <a:off x="6588000" y="2205000"/>
            <a:ext cx="2238480" cy="234324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2" descr="Фон"/>
          <p:cNvPicPr/>
          <p:nvPr/>
        </p:nvPicPr>
        <p:blipFill>
          <a:blip r:embed="rId1"/>
          <a:stretch/>
        </p:blipFill>
        <p:spPr>
          <a:xfrm>
            <a:off x="250920" y="200160"/>
            <a:ext cx="571320" cy="66578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3" descr="zmeya1"/>
          <p:cNvPicPr/>
          <p:nvPr/>
        </p:nvPicPr>
        <p:blipFill>
          <a:blip r:embed="rId2"/>
          <a:stretch/>
        </p:blipFill>
        <p:spPr>
          <a:xfrm>
            <a:off x="-3240" y="0"/>
            <a:ext cx="1119240" cy="1125360"/>
          </a:xfrm>
          <a:prstGeom prst="rect">
            <a:avLst/>
          </a:prstGeom>
          <a:ln w="0">
            <a:noFill/>
          </a:ln>
        </p:spPr>
      </p:pic>
      <p:sp>
        <p:nvSpPr>
          <p:cNvPr id="83" name="Объект WordArt 5"/>
          <p:cNvSpPr txBox="1"/>
          <p:nvPr/>
        </p:nvSpPr>
        <p:spPr>
          <a:xfrm>
            <a:off x="4356000" y="404640"/>
            <a:ext cx="38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6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Прямоуг. 6"/>
          <p:cNvSpPr/>
          <p:nvPr/>
        </p:nvSpPr>
        <p:spPr>
          <a:xfrm>
            <a:off x="971640" y="234936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грудная клетка во время искусственного дыхания не приходит в движение, измените положение головы ребенка и сделайте еще 2 вдувания воздух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7" descr="48-6"/>
          <p:cNvPicPr/>
          <p:nvPr/>
        </p:nvPicPr>
        <p:blipFill>
          <a:blip r:embed="rId3"/>
          <a:stretch/>
        </p:blipFill>
        <p:spPr>
          <a:xfrm>
            <a:off x="6588000" y="2205000"/>
            <a:ext cx="2238480" cy="242892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8:05:39Z</dcterms:created>
  <dc:creator>Афанасьев И.В.</dc:creator>
  <dc:description/>
  <dc:language>en-US</dc:language>
  <cp:lastModifiedBy>Admin</cp:lastModifiedBy>
  <dcterms:modified xsi:type="dcterms:W3CDTF">2010-10-18T17:59:33Z</dcterms:modified>
  <cp:revision>8</cp:revision>
  <dc:subject/>
  <dc:title>Первая помощь при остановке сердца</dc:title>
</cp:coreProperties>
</file>