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460-92B2-4803-9CF6-AC21B0A9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2C7-997F-4D17-A1DD-6FD48218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2D2-FEF9-49D8-8322-40626FA5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D15-50DD-4C7D-972D-B3BF435A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B8AB-E1E1-4AA9-87F2-0BB4CE94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1858-A551-4D22-90B7-F2CB3DA9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7801-3F27-469A-AFB2-CBD8183E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60C2-8E91-4D2B-A0A8-A194640A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3F1A-6295-4FA3-89AA-C69117AF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0375-FBB1-4608-BABB-F9613150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29DD-8D03-41CF-939F-6064D396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FD3-A511-4FFD-8641-EB26D498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0F98-6A4D-4990-A70C-FD7F5D69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C45C-6178-4F0F-80E8-6059DE37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E00E-935F-4F5F-A978-81DCEFF1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C1C5-7381-4B1B-B006-24193324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30BD-3401-48D3-9837-8C596247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90586-6DCF-4DF1-A171-7B388D4C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3B90-7422-4069-9CF3-71960D1A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5138-2B17-4107-97E7-9F7DCE66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09B6-E901-4807-AC72-9C82F9DA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56A7-305F-49E2-8F39-ABDA7954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DA4-ED8A-425E-BC32-5BE13450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A078-C637-4961-9E13-2E03F59F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1299-BC64-49A5-B71A-F6F8E454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4F797-0EE4-4B2B-95D4-2E64B8C4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7D5B-04E0-4C3F-BFAF-8D8F07E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3158-E97C-4CC9-9FED-5F5589E9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8401-3F39-4AC6-AF18-0991555F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38F2B-111C-4A30-A450-7A30B3F5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4045C-17B1-4220-9B6C-34AA99B8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F67E8-2C3F-4F7A-862C-C000882D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4C5F-302A-49C5-87DB-5FC5A632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5F8-2580-4A5D-BCA2-270DAA19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9AB6D-0F10-439E-BA65-2FB12F23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2B3B2-2C30-4B7F-9DF9-5A4F0F25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0A83C-D452-4FD8-AF59-929719D3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C8FBF-FB3D-43F1-AC21-0BD9E8E7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EF4C9-024E-4D9F-8A9B-FF504C7C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D1AC2-4A23-45BC-8749-B4C67BAE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A975-F578-4D0E-9C13-DCA6BFE4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BF00-0928-416D-87F8-036CC436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C2E68-F55E-4E0B-9EED-E1EB880A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DA4-43C8-4332-AEA7-1E45D731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9FC-AE9D-4C54-977B-1E5BB693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030-84EF-4223-AE52-80E9AE28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F81-35E0-4EAE-B582-081FBCB8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749-9B9A-44A7-ABAB-27876589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5B48-E54E-494A-8F0A-7F8E3ED91A4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A56B-4EA1-422F-857F-377C7E19D5B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5D82-8DAC-44F0-9994-67E85C4D147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F461-D3FB-497E-9FFF-7EB0BA0E60A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78000" y="414360"/>
            <a:ext cx="8521560" cy="2805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униципальное общеобразовательное учреждение Измайловская СОШ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: Шанкеева С.Г.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0" y="694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реугольни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биссектрисы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внутренних углов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 и 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ересекаются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Вычислите длину стороны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если 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3 : 2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6:7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999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7 В треугольни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оведена медиан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йдите площадь треугольника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есл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207" descr="`+`(`*`(3, `*`(sqrt(2))))"/>
          <p:cNvPicPr/>
          <p:nvPr/>
        </p:nvPicPr>
        <p:blipFill>
          <a:blip r:embed="rId1"/>
          <a:stretch/>
        </p:blipFill>
        <p:spPr>
          <a:xfrm>
            <a:off x="1692360" y="1341360"/>
            <a:ext cx="457200" cy="30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2124000" y="132912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0,    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45º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1722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8 Площадь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208" descr="`+`(`*`(20, `*`(sqrt(3))))"/>
          <p:cNvPicPr/>
          <p:nvPr/>
        </p:nvPicPr>
        <p:blipFill>
          <a:blip r:embed="rId2"/>
          <a:stretch/>
        </p:blipFill>
        <p:spPr>
          <a:xfrm>
            <a:off x="4284720" y="1700280"/>
            <a:ext cx="503280" cy="360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7"/>
          <p:cNvSpPr/>
          <p:nvPr/>
        </p:nvSpPr>
        <p:spPr>
          <a:xfrm>
            <a:off x="0" y="20365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дит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если сторон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а 8 и она больше половины стороны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а медиан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а 5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8"/>
          <p:cNvSpPr/>
          <p:nvPr/>
        </p:nvSpPr>
        <p:spPr>
          <a:xfrm>
            <a:off x="0" y="2637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29. Биссектриса, проведенная из вершины прямоугольника, делит его диагональ на отрезки 15 см и 20 см. Определите площадь прямо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36705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0.  В равнобедренной трапеции диагональ является биссектрисой острого угла и делит среднюю линию трапеции на отрезки длиною  6 см и 12 см. Вычислите периметр трапец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0" y="467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1 Средняя линия трапеции равна 7, а высота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210" descr="`*`(`+`(`*`(15, `*`(sqrt(3)))), `/`(1, 7))"/>
          <p:cNvPicPr/>
          <p:nvPr/>
        </p:nvPicPr>
        <p:blipFill>
          <a:blip r:embed="rId3"/>
          <a:stretch/>
        </p:blipFill>
        <p:spPr>
          <a:xfrm>
            <a:off x="5364000" y="4581360"/>
            <a:ext cx="735120" cy="4701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1"/>
          <p:cNvSpPr/>
          <p:nvPr/>
        </p:nvSpPr>
        <p:spPr>
          <a:xfrm>
            <a:off x="0" y="521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гол между диагоналями трапеции равен 120 °. Найдите произведение длин диагоналей трапец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212" descr="`/`(5, 9)"/>
          <p:cNvPicPr/>
          <p:nvPr/>
        </p:nvPicPr>
        <p:blipFill>
          <a:blip r:embed="rId1"/>
          <a:stretch/>
        </p:blipFill>
        <p:spPr>
          <a:xfrm>
            <a:off x="2556000" y="836640"/>
            <a:ext cx="353880" cy="4507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0" y="2466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2. Трапец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вписана в окружность. Найдите среднюю линию     трапеции, если ее больш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о 15, синус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 рав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7160" y="752760"/>
            <a:ext cx="26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нус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3960" y="1495440"/>
            <a:ext cx="253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Рисунок 7" descr="`/`(1, 3)"/>
          <p:cNvPicPr/>
          <p:nvPr/>
        </p:nvPicPr>
        <p:blipFill>
          <a:blip r:embed="rId2"/>
          <a:stretch/>
        </p:blipFill>
        <p:spPr>
          <a:xfrm>
            <a:off x="8317080" y="620640"/>
            <a:ext cx="431640" cy="26676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8"/>
          <p:cNvSpPr/>
          <p:nvPr/>
        </p:nvSpPr>
        <p:spPr>
          <a:xfrm>
            <a:off x="0" y="126828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33. Центр окружности, вписанной в равнобедренный треугольник, делит высоту, проведенную к основанию треугольника, на отрезки длиною  4 с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5 см, если считать от основания. Найдите периметр треугольник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2568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4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сторон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оторого равна 4 см, а уго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ен 60°, вписан в окружность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Рисунок 213" descr="`+`(`*`(2, `*`(sqrt(3))))"/>
          <p:cNvPicPr/>
          <p:nvPr/>
        </p:nvPicPr>
        <p:blipFill>
          <a:blip r:embed="rId3"/>
          <a:stretch/>
        </p:blipFill>
        <p:spPr>
          <a:xfrm>
            <a:off x="3635280" y="2997360"/>
            <a:ext cx="459000" cy="23652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8"/>
          <p:cNvSpPr/>
          <p:nvPr/>
        </p:nvSpPr>
        <p:spPr>
          <a:xfrm>
            <a:off x="0" y="33102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дите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)  длину стороны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)  длину средней линии треугольника, параллельной 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)  расстояние между точками окружности, в которых прямая, содержащая среднюю линию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параллельную сторон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пересекает окружность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0" y="5451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5.  В равнобедренной трапеции основания равны 9 и 15, диагональ перпендикулярна боковой стороне. Найдите площадь трапец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0" y="95472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6.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длины последовательных сторон выпуклого четырехугольника,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его площадь. Сравните 4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(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+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*(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+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ные материа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Л.С. Атанасян, В.Ф. Бутузов и др. Геометрия 7-9, Просвещение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hue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8080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test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urok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содержит  набор задач по планиметрии, который можно использовать  как тренировочные  в классе, используя  мультимедиа  проекто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задачи  можно использовать  для устной работы,  они сопровождаются  рисунками,  часть задач  можно использовать  для самостоятельной работы.  Всё на усмотрение учителя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 полезна   для  работы  с  учащихся 9 класса и 11 класса при подготовке  к  ГИА и  ЕГЭ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682560" y="341280"/>
            <a:ext cx="7888320" cy="30970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Рисунок 3" descr="Image"/>
          <p:cNvPicPr/>
          <p:nvPr/>
        </p:nvPicPr>
        <p:blipFill>
          <a:blip r:embed="rId2"/>
          <a:stretch/>
        </p:blipFill>
        <p:spPr>
          <a:xfrm>
            <a:off x="1332000" y="1125360"/>
            <a:ext cx="2808360" cy="172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2195640" y="2924280"/>
          <a:ext cx="4724280" cy="360360"/>
        </p:xfrm>
        <a:graphic>
          <a:graphicData uri="http://schemas.openxmlformats.org/drawingml/2006/table">
            <a:tbl>
              <a:tblPr/>
              <a:tblGrid>
                <a:gridCol w="944280"/>
                <a:gridCol w="944640"/>
                <a:gridCol w="946080"/>
                <a:gridCol w="944640"/>
                <a:gridCol w="944640"/>
              </a:tblGrid>
              <a:tr h="360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3" name="Рисунок 114" descr="http://shpargalkaege.ru/2/1001_5.gif"/>
          <p:cNvPicPr/>
          <p:nvPr/>
        </p:nvPicPr>
        <p:blipFill>
          <a:blip r:embed="rId3"/>
          <a:stretch/>
        </p:blipFill>
        <p:spPr>
          <a:xfrm>
            <a:off x="0" y="0"/>
            <a:ext cx="237960" cy="1238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15" descr="http://shpargalkaege.ru/2/1001_6.gif"/>
          <p:cNvPicPr/>
          <p:nvPr/>
        </p:nvPicPr>
        <p:blipFill>
          <a:blip r:embed="rId4"/>
          <a:stretch/>
        </p:blipFill>
        <p:spPr>
          <a:xfrm>
            <a:off x="0" y="0"/>
            <a:ext cx="295200" cy="1238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16" descr="http://shpargalkaege.ru/2/1001_7.gif"/>
          <p:cNvPicPr/>
          <p:nvPr/>
        </p:nvPicPr>
        <p:blipFill>
          <a:blip r:embed="rId5"/>
          <a:stretch/>
        </p:blipFill>
        <p:spPr>
          <a:xfrm>
            <a:off x="0" y="0"/>
            <a:ext cx="295200" cy="1238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17" descr="http://shpargalkaege.ru/2/1001_8.gif"/>
          <p:cNvPicPr/>
          <p:nvPr/>
        </p:nvPicPr>
        <p:blipFill>
          <a:blip r:embed="rId6"/>
          <a:stretch/>
        </p:blipFill>
        <p:spPr>
          <a:xfrm>
            <a:off x="0" y="0"/>
            <a:ext cx="295200" cy="1238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8" descr="http://shpargalkaege.ru/2/1001_9.gif"/>
          <p:cNvPicPr/>
          <p:nvPr/>
        </p:nvPicPr>
        <p:blipFill>
          <a:blip r:embed="rId7"/>
          <a:stretch/>
        </p:blipFill>
        <p:spPr>
          <a:xfrm>
            <a:off x="0" y="0"/>
            <a:ext cx="295200" cy="123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3240" y="82440"/>
            <a:ext cx="217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01. Найдите градусную меру угла, отмеченного на рису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12" descr="Image"/>
          <p:cNvPicPr/>
          <p:nvPr/>
        </p:nvPicPr>
        <p:blipFill>
          <a:blip r:embed="rId8"/>
          <a:stretch/>
        </p:blipFill>
        <p:spPr>
          <a:xfrm>
            <a:off x="5435640" y="2349360"/>
            <a:ext cx="3476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250920" y="26028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03. Прямые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параллельны. Вычислите величину угла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,     изображенного на рисунке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Рисунок 2" descr="Image"/>
          <p:cNvPicPr/>
          <p:nvPr/>
        </p:nvPicPr>
        <p:blipFill>
          <a:blip r:embed="rId1"/>
          <a:stretch/>
        </p:blipFill>
        <p:spPr>
          <a:xfrm>
            <a:off x="2484360" y="907920"/>
            <a:ext cx="3527640" cy="1584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0" y="2289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4. Стороны треугольника, одна из которых вдвое больше другой, образуют     угол 120°, а длина третьей стороны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2796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дите наименьшую сторону треугольник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6" descr="`+`(`*`(3, `*`(sqrt(7))))"/>
          <p:cNvPicPr/>
          <p:nvPr/>
        </p:nvPicPr>
        <p:blipFill>
          <a:blip r:embed="rId2"/>
          <a:stretch/>
        </p:blipFill>
        <p:spPr>
          <a:xfrm>
            <a:off x="5003640" y="2637000"/>
            <a:ext cx="432000" cy="287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4"/>
          <p:cNvSpPr/>
          <p:nvPr/>
        </p:nvSpPr>
        <p:spPr>
          <a:xfrm>
            <a:off x="0" y="318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5.  Градусная мера внешнего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обедренного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 составляет 125°. Найдите градусную меру внутреннего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8" descr="Image"/>
          <p:cNvPicPr/>
          <p:nvPr/>
        </p:nvPicPr>
        <p:blipFill>
          <a:blip r:embed="rId3"/>
          <a:stretch/>
        </p:blipFill>
        <p:spPr>
          <a:xfrm>
            <a:off x="2987640" y="4221000"/>
            <a:ext cx="3097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0" y="4226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6. Стороны треугольника, одна из которых на 8 см больше другой, образуют угол 120°, а длина третьей стороны равна 28 см. Найдите периметр треугольника (в см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1333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7. В треугольни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8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 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38" descr="http://shpargalkaege.ru/2/1001_29.gif"/>
          <p:cNvPicPr/>
          <p:nvPr/>
        </p:nvPicPr>
        <p:blipFill>
          <a:blip r:embed="rId1"/>
          <a:stretch/>
        </p:blipFill>
        <p:spPr>
          <a:xfrm>
            <a:off x="5508720" y="1484280"/>
            <a:ext cx="431640" cy="1792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0" y="16610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дите радиус окружности, описанной около этого треугольника (в см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2115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8. Найдите площадь прямоугольного треугольника, если радиус окружности, описанного около него, равен 5 см, а один из катетов – 6 с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0" y="28814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0" y="27543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09. Измерить расстояние между точкам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епосредственно препятствует озерцо. Для нахождения расстоя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змерили расстояния от точек 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о некоторой точк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измерили уго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Вычислите расстоя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, если получили такие результаты измерений: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30 м,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50 м, 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20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11" descr="Image"/>
          <p:cNvPicPr/>
          <p:nvPr/>
        </p:nvPicPr>
        <p:blipFill>
          <a:blip r:embed="rId2"/>
          <a:stretch/>
        </p:blipFill>
        <p:spPr>
          <a:xfrm>
            <a:off x="3191040" y="4365720"/>
            <a:ext cx="2761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0" y="122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Угол при вершин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обедренного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 равен 40°.   Найдите угол между высотами, проведенными из вершин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0" y="1068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1. Найдите длину медианы прямоугольного треугольника, проведенной к гипотенузе, равняющейся  12 см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168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В треугольни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углы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ы и каждый из них в два раза больше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см. рисунок). Найдите градусную меру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6" descr="Image"/>
          <p:cNvPicPr/>
          <p:nvPr/>
        </p:nvPicPr>
        <p:blipFill>
          <a:blip r:embed="rId1"/>
          <a:stretch/>
        </p:blipFill>
        <p:spPr>
          <a:xfrm>
            <a:off x="2627280" y="2565360"/>
            <a:ext cx="2563920" cy="244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0" y="5536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3. Площадь равностороннего треугольника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0" y="58359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йдите высоту этого треугольник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12" descr="`+`(`*`(16, `*`(sqrt(3), `*`(`^`(A&lt;, 2)))))"/>
          <p:cNvPicPr/>
          <p:nvPr/>
        </p:nvPicPr>
        <p:blipFill>
          <a:blip r:embed="rId2"/>
          <a:stretch/>
        </p:blipFill>
        <p:spPr>
          <a:xfrm>
            <a:off x="6372360" y="5445000"/>
            <a:ext cx="1008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-158760" y="-609480"/>
            <a:ext cx="9309240" cy="13777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"/>
          <p:cNvSpPr/>
          <p:nvPr/>
        </p:nvSpPr>
        <p:spPr>
          <a:xfrm>
            <a:off x="0" y="633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6 Найдите отношение площадей правильного четырёхугольника и правильного шестиугольника, если их стороны равн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14925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7  В прямоугольни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ямы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оходят через точку пересечения диагоналей. Площадь фигуры, составленной из трёх закрашенных треугольников, равна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2459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числите площадь прямо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10" descr="Image"/>
          <p:cNvPicPr/>
          <p:nvPr/>
        </p:nvPicPr>
        <p:blipFill>
          <a:blip r:embed="rId2"/>
          <a:stretch/>
        </p:blipFill>
        <p:spPr>
          <a:xfrm>
            <a:off x="1619280" y="2924280"/>
            <a:ext cx="3976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18. В прямоугольнике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АВСD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 из вершины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проведена биссектриса, пересекающая диагональ 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ВD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, а сторону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ВС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-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, причём   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ВМ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: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МС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= 5:2. Найдите  отношение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ВК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: </a:t>
            </a: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КD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0" y="1060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9. Как изменится площадь прямоугольника, если его длину уменьшить на 50 %, а ширину увеличить в 2 раз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1691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0.  Площадь параллелограмм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а 12. Точ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ежит на прямой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Найдите площадь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BK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4" descr="Image"/>
          <p:cNvPicPr/>
          <p:nvPr/>
        </p:nvPicPr>
        <p:blipFill>
          <a:blip r:embed="rId1"/>
          <a:stretch/>
        </p:blipFill>
        <p:spPr>
          <a:xfrm>
            <a:off x="2411280" y="2492280"/>
            <a:ext cx="3313080" cy="20163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4"/>
          <p:cNvSpPr/>
          <p:nvPr/>
        </p:nvSpPr>
        <p:spPr>
          <a:xfrm>
            <a:off x="0" y="452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1. Найдите площадь    параллелограмма,     если его стороны относя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4931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 8:19 , а диагонали равны 30 см и 50 см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52599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2 В ромб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сумма углов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вна 180°. Найдите градусную меру угл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0" y="990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3.  Трапеция с боковой стороной 8 см  вписана в окружность. Диагональ трапеции образует с большим основанием угол α, для которого cos α = 3/5. Вычислите радиус описанной вокруг трапеции окружности (в см)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199" descr="sqrt(12)"/>
          <p:cNvPicPr/>
          <p:nvPr/>
        </p:nvPicPr>
        <p:blipFill>
          <a:blip r:embed="rId1"/>
          <a:stretch/>
        </p:blipFill>
        <p:spPr>
          <a:xfrm>
            <a:off x="5435640" y="1484280"/>
            <a:ext cx="453960" cy="2350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00" descr="http://shpargalkaege.ru/2/1001_91.gif"/>
          <p:cNvPicPr/>
          <p:nvPr/>
        </p:nvPicPr>
        <p:blipFill>
          <a:blip r:embed="rId2"/>
          <a:stretch/>
        </p:blipFill>
        <p:spPr>
          <a:xfrm>
            <a:off x="7093080" y="1712880"/>
            <a:ext cx="838080" cy="347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0" y="1395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4.  В окружность, диаметр которой раве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1716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исан четырёх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 Найдите диагональ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если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144612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0" y="2016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5.  Две окружности с центрами в точке 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асаются внутренне окружности с центром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асаются  друг друга внешне. Радиус наибольшей из окружностей равен 12. Найдите периметр треугольника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С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8" descr="Image"/>
          <p:cNvPicPr/>
          <p:nvPr/>
        </p:nvPicPr>
        <p:blipFill>
          <a:blip r:embed="rId3"/>
          <a:stretch/>
        </p:blipFill>
        <p:spPr>
          <a:xfrm>
            <a:off x="2411280" y="3141720"/>
            <a:ext cx="3529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1:22:32Z</dcterms:created>
  <dc:creator>user</dc:creator>
  <dc:description/>
  <dc:language>en-US</dc:language>
  <cp:lastModifiedBy>user</cp:lastModifiedBy>
  <dcterms:modified xsi:type="dcterms:W3CDTF">2013-03-29T07:17:08Z</dcterms:modified>
  <cp:revision>17</cp:revision>
  <dc:subject/>
  <dc:title>02 Определите внешний угол многоугольника</dc:title>
</cp:coreProperties>
</file>