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66C-6AA4-4A69-9272-0CFEC3CA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EBC-9013-4B6A-A0ED-093F2646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447-417E-4C37-9BF4-49239D62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79E-D64E-4B2F-8377-DA49B2D1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C446-86AF-46CC-939D-0C14CD6A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3A19-4600-4650-88D6-1F429046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82EE-D5D8-49D3-BB0D-1607F687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E6AE-FB84-4901-A2D0-EC35D1AD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C321-82DA-4AAE-A215-E95565F2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47FF-8E94-4986-9E93-D752D45F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DD4D-D2AF-4F93-B092-BF4BA8D7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002-190F-4FEB-81D8-91838C62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68F5-52D9-45A3-9A69-AC4EE5C6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45D7-521F-45A2-B395-1E0D1AE3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E912-52A9-444C-A4FF-81860B98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AAD5-22FC-47B9-BB48-FEF86991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5956-148A-4D78-A9AB-A5A4BCA2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657B1-944C-4784-8144-CE95FFFA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405A3-77F5-47E1-A494-8C1D460C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9E9E0-ECEF-4E88-BEE1-AB390699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705B9-50C8-4399-A349-29B2396A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97DB1-22B0-4E10-BEEB-A02401BC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D9A-3081-4256-960B-D99BC3E8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1039A-9CDF-4344-9DCD-4B7C6C71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C4726-AC0B-465A-B1C8-F37E2A28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2A8A5-1A04-4D8F-9619-58E76313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ED546-0EBF-4F23-80DC-18567DF0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325E-6CC1-49DC-9AA8-6FCE65A2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C284C-1C15-44FE-B58E-FCFB7C45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C212-273D-48B4-BEFA-075D10CC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2E26E-826A-43BB-A5BC-34821F22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69BB0-C53B-4219-8860-592563FA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43348-1D46-4B8E-A166-5B5C5BEA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9733-F9E2-4D37-B852-6B221F75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B96C8-3EE5-4D7C-97D5-BF4FFFB3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A0BA7-18BA-45B7-A392-5EE6C8D9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9063-8A46-4586-8410-EE5AF228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796B7-83C9-4999-9D98-5B2118D3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351A2-5D8D-4F7E-A331-64E84EE2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FC71C-DE52-455F-8E2F-BF0C42FD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793F5-805F-4835-B905-B4DBF824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9BD2-C445-4AAA-8048-2D1566BF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4C33D-AAD0-4926-B94A-976E429F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FCC6-095E-4615-9543-0F2C93DD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338-4F94-4789-88C8-E724F828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33B5-A4F9-4632-85E2-CA7F565F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29E-7113-4EDC-8938-CCF24144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6C6-6257-4E10-B6B5-394E1F18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0A2A-4433-4B62-8897-74A4B2AA120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C7C5-B5EE-4272-9A55-652DFF409CE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6016-DCE1-48F3-9E6F-598CA9CB9A3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9491-4D7B-4D3A-9F81-A153D4CFB2A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78000" y="414360"/>
            <a:ext cx="8521560" cy="2805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униципальное общеобразовательное учреждение Измайловская СОШ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: Шанкеева С.Г.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0" y="694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треугольни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биссектрисы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внутренних углов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 и 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ересекаются в точ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Вычислите длину стороны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если 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1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3 : 2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6:7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999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7 В треугольни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проведена медиан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Найдите площадь треугольника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есл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207" descr="`+`(`*`(3, `*`(sqrt(2))))"/>
          <p:cNvPicPr/>
          <p:nvPr/>
        </p:nvPicPr>
        <p:blipFill>
          <a:blip r:embed="rId1"/>
          <a:stretch/>
        </p:blipFill>
        <p:spPr>
          <a:xfrm>
            <a:off x="1692360" y="1341360"/>
            <a:ext cx="457200" cy="30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2124000" y="1329120"/>
            <a:ext cx="70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10,    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45º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17229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8 Площадь треугольник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208" descr="`+`(`*`(20, `*`(sqrt(3))))"/>
          <p:cNvPicPr/>
          <p:nvPr/>
        </p:nvPicPr>
        <p:blipFill>
          <a:blip r:embed="rId2"/>
          <a:stretch/>
        </p:blipFill>
        <p:spPr>
          <a:xfrm>
            <a:off x="4284720" y="1700280"/>
            <a:ext cx="503280" cy="360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7"/>
          <p:cNvSpPr/>
          <p:nvPr/>
        </p:nvSpPr>
        <p:spPr>
          <a:xfrm>
            <a:off x="0" y="2036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йдит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если сторон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а 8 и она больше половины стороны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а медиан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а 5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8"/>
          <p:cNvSpPr/>
          <p:nvPr/>
        </p:nvSpPr>
        <p:spPr>
          <a:xfrm>
            <a:off x="0" y="2637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29. Биссектриса, проведенная из вершины прямоугольника, делит его диагональ на отрезки 15 см и 20 см. Определите площадь прямо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0" y="36705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0.  В равнобедренной трапеции диагональ является биссектрисой острого угла и делит среднюю линию трапеции на отрезки длиною  6 см и 12 см. Вычислите периметр трапец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0" y="4671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1 Средняя линия трапеции равна 7, а высота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210" descr="`*`(`+`(`*`(15, `*`(sqrt(3)))), `/`(1, 7))"/>
          <p:cNvPicPr/>
          <p:nvPr/>
        </p:nvPicPr>
        <p:blipFill>
          <a:blip r:embed="rId3"/>
          <a:stretch/>
        </p:blipFill>
        <p:spPr>
          <a:xfrm>
            <a:off x="5364000" y="4581360"/>
            <a:ext cx="735120" cy="4701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1"/>
          <p:cNvSpPr/>
          <p:nvPr/>
        </p:nvSpPr>
        <p:spPr>
          <a:xfrm>
            <a:off x="0" y="521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гол между диагоналями трапеции равен 120 °. Найдите произведение длин диагоналей трапец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212" descr="`/`(5, 9)"/>
          <p:cNvPicPr/>
          <p:nvPr/>
        </p:nvPicPr>
        <p:blipFill>
          <a:blip r:embed="rId1"/>
          <a:stretch/>
        </p:blipFill>
        <p:spPr>
          <a:xfrm>
            <a:off x="2556000" y="836640"/>
            <a:ext cx="353880" cy="4507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"/>
          <p:cNvSpPr/>
          <p:nvPr/>
        </p:nvSpPr>
        <p:spPr>
          <a:xfrm>
            <a:off x="0" y="2466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2. Трапец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вписана в окружность. Найдите среднюю линию     трапеции, если ее больш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о 15, синус угл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 рав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7160" y="752760"/>
            <a:ext cx="26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нус угл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3960" y="1495440"/>
            <a:ext cx="253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Рисунок 7" descr="`/`(1, 3)"/>
          <p:cNvPicPr/>
          <p:nvPr/>
        </p:nvPicPr>
        <p:blipFill>
          <a:blip r:embed="rId2"/>
          <a:stretch/>
        </p:blipFill>
        <p:spPr>
          <a:xfrm>
            <a:off x="8317080" y="620640"/>
            <a:ext cx="431640" cy="26676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8"/>
          <p:cNvSpPr/>
          <p:nvPr/>
        </p:nvSpPr>
        <p:spPr>
          <a:xfrm>
            <a:off x="0" y="1268280"/>
            <a:ext cx="89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33. Центр окружности, вписанной в равнобедренный треугольник, делит высоту, проведенную к основанию треугольника, на отрезки длиною  4 с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5 см, если считать от основания. Найдите периметр треугольник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25689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4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сторон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которого равна 4 см, а угол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ен 60°, вписан в окружность ради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Рисунок 213" descr="`+`(`*`(2, `*`(sqrt(3))))"/>
          <p:cNvPicPr/>
          <p:nvPr/>
        </p:nvPicPr>
        <p:blipFill>
          <a:blip r:embed="rId3"/>
          <a:stretch/>
        </p:blipFill>
        <p:spPr>
          <a:xfrm>
            <a:off x="3635280" y="2997360"/>
            <a:ext cx="459000" cy="23652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8"/>
          <p:cNvSpPr/>
          <p:nvPr/>
        </p:nvSpPr>
        <p:spPr>
          <a:xfrm>
            <a:off x="0" y="331020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йдите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)  длину стороны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)  длину средней линии треугольника, параллельной 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)  расстояние между точками окружности, в которых прямая, содержащая среднюю линию треугольник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параллельную сторон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пересекает окружность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0" y="54518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5.  В равнобедренной трапеции основания равны 9 и 15, диагональ перпендикулярна боковой стороне. Найдите площадь трапец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0" y="95472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6.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длины последовательных сторон выпуклого четырехугольника,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его площадь. Сравните 4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(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+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*(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+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нные материа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Л.С. Атанасян, В.Ф. Бутузов и др. Геометрия 7-9, Просвещение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hue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8080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test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urok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содержит  набор задач по планиметрии, который можно использовать  как тренировочные  в классе, используя  мультимедиа  проекто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задачи  можно использовать  для устной работы,  они сопровождаются  рисунками,  часть задач  можно использовать  для самостоятельной работы.  Всё на усмотрение учителя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 полезна   для  работы  с  учащихся 9 класса и 11 класса при подготовке  к  ГИА и  ЕГЭ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682560" y="341280"/>
            <a:ext cx="7888320" cy="30970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Рисунок 3" descr="Image"/>
          <p:cNvPicPr/>
          <p:nvPr/>
        </p:nvPicPr>
        <p:blipFill>
          <a:blip r:embed="rId2"/>
          <a:stretch/>
        </p:blipFill>
        <p:spPr>
          <a:xfrm>
            <a:off x="1332000" y="1125360"/>
            <a:ext cx="2808360" cy="172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2195640" y="2924280"/>
          <a:ext cx="4724280" cy="360360"/>
        </p:xfrm>
        <a:graphic>
          <a:graphicData uri="http://schemas.openxmlformats.org/drawingml/2006/table">
            <a:tbl>
              <a:tblPr/>
              <a:tblGrid>
                <a:gridCol w="944280"/>
                <a:gridCol w="944640"/>
                <a:gridCol w="946080"/>
                <a:gridCol w="944640"/>
                <a:gridCol w="944640"/>
              </a:tblGrid>
              <a:tr h="360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3" name="Рисунок 114" descr="http://shpargalkaege.ru/2/1001_5.gif"/>
          <p:cNvPicPr/>
          <p:nvPr/>
        </p:nvPicPr>
        <p:blipFill>
          <a:blip r:embed="rId3"/>
          <a:stretch/>
        </p:blipFill>
        <p:spPr>
          <a:xfrm>
            <a:off x="0" y="0"/>
            <a:ext cx="237960" cy="1238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15" descr="http://shpargalkaege.ru/2/1001_6.gif"/>
          <p:cNvPicPr/>
          <p:nvPr/>
        </p:nvPicPr>
        <p:blipFill>
          <a:blip r:embed="rId4"/>
          <a:stretch/>
        </p:blipFill>
        <p:spPr>
          <a:xfrm>
            <a:off x="0" y="0"/>
            <a:ext cx="295200" cy="12384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16" descr="http://shpargalkaege.ru/2/1001_7.gif"/>
          <p:cNvPicPr/>
          <p:nvPr/>
        </p:nvPicPr>
        <p:blipFill>
          <a:blip r:embed="rId5"/>
          <a:stretch/>
        </p:blipFill>
        <p:spPr>
          <a:xfrm>
            <a:off x="0" y="0"/>
            <a:ext cx="295200" cy="1238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17" descr="http://shpargalkaege.ru/2/1001_8.gif"/>
          <p:cNvPicPr/>
          <p:nvPr/>
        </p:nvPicPr>
        <p:blipFill>
          <a:blip r:embed="rId6"/>
          <a:stretch/>
        </p:blipFill>
        <p:spPr>
          <a:xfrm>
            <a:off x="0" y="0"/>
            <a:ext cx="295200" cy="1238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18" descr="http://shpargalkaege.ru/2/1001_9.gif"/>
          <p:cNvPicPr/>
          <p:nvPr/>
        </p:nvPicPr>
        <p:blipFill>
          <a:blip r:embed="rId7"/>
          <a:stretch/>
        </p:blipFill>
        <p:spPr>
          <a:xfrm>
            <a:off x="0" y="0"/>
            <a:ext cx="295200" cy="123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3240" y="82440"/>
            <a:ext cx="217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01. Найдите градусную меру угла, отмеченного на рисун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12" descr="Image"/>
          <p:cNvPicPr/>
          <p:nvPr/>
        </p:nvPicPr>
        <p:blipFill>
          <a:blip r:embed="rId8"/>
          <a:stretch/>
        </p:blipFill>
        <p:spPr>
          <a:xfrm>
            <a:off x="5435640" y="2349360"/>
            <a:ext cx="34765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03. Прямые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параллельны. Вычислите величину угла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,     изображенного на рисунке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2" descr="Image"/>
          <p:cNvPicPr/>
          <p:nvPr/>
        </p:nvPicPr>
        <p:blipFill>
          <a:blip r:embed="rId1"/>
          <a:stretch/>
        </p:blipFill>
        <p:spPr>
          <a:xfrm>
            <a:off x="2484360" y="907920"/>
            <a:ext cx="3527640" cy="1584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0" y="2289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04. Стороны треугольника, одна из которых вдвое больше другой, образуют     угол 120°, а длина третьей стороны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2796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йдите наименьшую сторону треугольник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6" descr="`+`(`*`(3, `*`(sqrt(7))))"/>
          <p:cNvPicPr/>
          <p:nvPr/>
        </p:nvPicPr>
        <p:blipFill>
          <a:blip r:embed="rId2"/>
          <a:stretch/>
        </p:blipFill>
        <p:spPr>
          <a:xfrm>
            <a:off x="5003640" y="2637000"/>
            <a:ext cx="432000" cy="287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4"/>
          <p:cNvSpPr/>
          <p:nvPr/>
        </p:nvSpPr>
        <p:spPr>
          <a:xfrm>
            <a:off x="0" y="318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05.  Градусная мера внешнего угл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обедренного треугольник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 составляет 125°. Найдите градусную меру внутреннего угл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8" descr="Image"/>
          <p:cNvPicPr/>
          <p:nvPr/>
        </p:nvPicPr>
        <p:blipFill>
          <a:blip r:embed="rId3"/>
          <a:stretch/>
        </p:blipFill>
        <p:spPr>
          <a:xfrm>
            <a:off x="2987640" y="4221000"/>
            <a:ext cx="3097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0" y="4226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06. Стороны треугольника, одна из которых на 8 см больше другой, образуют угол 120°, а длина третьей стороны равна 28 см. Найдите периметр треугольника (в см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1333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07. В треугольни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8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 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138" descr="http://shpargalkaege.ru/2/1001_29.gif"/>
          <p:cNvPicPr/>
          <p:nvPr/>
        </p:nvPicPr>
        <p:blipFill>
          <a:blip r:embed="rId1"/>
          <a:stretch/>
        </p:blipFill>
        <p:spPr>
          <a:xfrm>
            <a:off x="5508720" y="1484280"/>
            <a:ext cx="431640" cy="1792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0" y="16610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йдите радиус окружности, описанной около этого треугольника (в см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2115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08. Найдите площадь прямоугольного треугольника, если радиус окружности, описанного около него, равен 5 см, а один из катетов – 6 с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0" y="28814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0" y="27543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09. Измерить расстояние между точкам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епосредственно препятствует озерцо. Для нахождения расстоя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змерили расстояния от точек 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до некоторой точк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измерили угол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Вычислите расстояни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, если получили такие результаты измерений: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30 м,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50 м, 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120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11" descr="Image"/>
          <p:cNvPicPr/>
          <p:nvPr/>
        </p:nvPicPr>
        <p:blipFill>
          <a:blip r:embed="rId2"/>
          <a:stretch/>
        </p:blipFill>
        <p:spPr>
          <a:xfrm>
            <a:off x="3191040" y="4365720"/>
            <a:ext cx="2761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0" y="122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0. Угол при вершин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обедренного треугольник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 равен 40°.   Найдите угол между высотами, проведенными из вершин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0" y="10688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1. Найдите длину медианы прямоугольного треугольника, проведенной к гипотенузе, равняющейся  12 см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1683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2. В треугольни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углы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ы и каждый из них в два раза больше угл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см. рисунок). Найдите градусную меру угл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6" descr="Image"/>
          <p:cNvPicPr/>
          <p:nvPr/>
        </p:nvPicPr>
        <p:blipFill>
          <a:blip r:embed="rId1"/>
          <a:stretch/>
        </p:blipFill>
        <p:spPr>
          <a:xfrm>
            <a:off x="2627280" y="2565360"/>
            <a:ext cx="2563920" cy="244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0" y="5536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3. Площадь равностороннего треугольника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0" y="58359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йдите высоту этого треугольник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12" descr="`+`(`*`(16, `*`(sqrt(3), `*`(`^`(A&lt;, 2)))))"/>
          <p:cNvPicPr/>
          <p:nvPr/>
        </p:nvPicPr>
        <p:blipFill>
          <a:blip r:embed="rId2"/>
          <a:stretch/>
        </p:blipFill>
        <p:spPr>
          <a:xfrm>
            <a:off x="6372360" y="5445000"/>
            <a:ext cx="1008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-158760" y="-609480"/>
            <a:ext cx="9309240" cy="13777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"/>
          <p:cNvSpPr/>
          <p:nvPr/>
        </p:nvSpPr>
        <p:spPr>
          <a:xfrm>
            <a:off x="0" y="6339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6 Найдите отношение площадей правильного четырёхугольника и правильного шестиугольника, если их стороны равны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14925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7  В прямоугольни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прямы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проходят через точку пересечения диагоналей. Площадь фигуры, составленной из трёх закрашенных треугольников, равна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2459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числите площадь прямоугольник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10" descr="Image"/>
          <p:cNvPicPr/>
          <p:nvPr/>
        </p:nvPicPr>
        <p:blipFill>
          <a:blip r:embed="rId2"/>
          <a:stretch/>
        </p:blipFill>
        <p:spPr>
          <a:xfrm>
            <a:off x="1619280" y="2924280"/>
            <a:ext cx="39765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18. В прямоугольнике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АВСD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 из вершины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проведена биссектриса, пересекающая диагональ 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ВD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в точке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, а сторону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ВС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- в точке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, причём   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ВМ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: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МС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= 5:2. Найдите  отношение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ВК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: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КD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"/>
          <p:cNvSpPr/>
          <p:nvPr/>
        </p:nvSpPr>
        <p:spPr>
          <a:xfrm>
            <a:off x="0" y="1060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9. Как изменится площадь прямоугольника, если его длину уменьшить на 50 %, а ширину увеличить в 2 раз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1691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0.  Площадь параллелограмм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а 12. Точк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ежит на прямой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Найдите площадь треугольник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BK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4" descr="Image"/>
          <p:cNvPicPr/>
          <p:nvPr/>
        </p:nvPicPr>
        <p:blipFill>
          <a:blip r:embed="rId1"/>
          <a:stretch/>
        </p:blipFill>
        <p:spPr>
          <a:xfrm>
            <a:off x="2411280" y="2492280"/>
            <a:ext cx="3313080" cy="20163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4"/>
          <p:cNvSpPr/>
          <p:nvPr/>
        </p:nvSpPr>
        <p:spPr>
          <a:xfrm>
            <a:off x="0" y="452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1. Найдите площадь    параллелограмма,     если его стороны относя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4931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 8:19 , а диагонали равны 30 см и 50 см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52599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2 В ромб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сумма углов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а 180°. Найдите градусную меру угл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0" y="99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3.  Трапеция с боковой стороной 8 см  вписана в окружность. Диагональ трапеции образует с большим основанием угол α, для которого cos α = 3/5. Вычислите радиус описанной вокруг трапеции окружности (в см)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199" descr="sqrt(12)"/>
          <p:cNvPicPr/>
          <p:nvPr/>
        </p:nvPicPr>
        <p:blipFill>
          <a:blip r:embed="rId1"/>
          <a:stretch/>
        </p:blipFill>
        <p:spPr>
          <a:xfrm>
            <a:off x="5435640" y="1484280"/>
            <a:ext cx="453960" cy="2350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00" descr="http://shpargalkaege.ru/2/1001_91.gif"/>
          <p:cNvPicPr/>
          <p:nvPr/>
        </p:nvPicPr>
        <p:blipFill>
          <a:blip r:embed="rId2"/>
          <a:stretch/>
        </p:blipFill>
        <p:spPr>
          <a:xfrm>
            <a:off x="7093080" y="1712880"/>
            <a:ext cx="838080" cy="3477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0" y="1395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4.  В окружность, диаметр которой равен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1716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писан четырёх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 Найдите диагональ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если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144612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0" y="2016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5.  Две окружности с центрами в точке 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точ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касаются внутренне окружности с центром в точ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асаются  друг друга внешне. Радиус наибольшей из окружностей равен 12. Найдите периметр треугольник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8" descr="Image"/>
          <p:cNvPicPr/>
          <p:nvPr/>
        </p:nvPicPr>
        <p:blipFill>
          <a:blip r:embed="rId3"/>
          <a:stretch/>
        </p:blipFill>
        <p:spPr>
          <a:xfrm>
            <a:off x="2411280" y="3141720"/>
            <a:ext cx="3529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1:22:32Z</dcterms:created>
  <dc:creator>user</dc:creator>
  <dc:description/>
  <dc:language>en-US</dc:language>
  <cp:lastModifiedBy>user</cp:lastModifiedBy>
  <dcterms:modified xsi:type="dcterms:W3CDTF">2013-03-29T07:17:08Z</dcterms:modified>
  <cp:revision>17</cp:revision>
  <dc:subject/>
  <dc:title>02 Определите внешний угол многоугольника</dc:title>
</cp:coreProperties>
</file>