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313-DC8A-4E40-8038-1A40B8AB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2CD-4BCC-40C1-AA0F-136F1E60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6FF-764C-486C-B7C0-371825E3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7E9-23E6-48EF-B74D-9C1026A7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1BCA-1E80-4E5D-9650-599125FB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B4E4-51C8-42FA-9119-6B68A0B9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9E68-8E4E-49F9-866D-F737D4DA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7811-7B28-41D0-B26E-C0F62F06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4077-AB89-4DD3-A318-AF4C4108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0A7C-FE9D-4EB1-B486-171ADFC6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FFC8-1DA5-4AE7-8378-7EBACD05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4A8-8616-4654-8286-C183FF4B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6854-09ED-430B-BE55-7A257443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071A-EF6C-4F01-BA9B-2354687D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FF5F-C093-481E-8944-5602E799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3F8D-4E43-418D-8D7A-A624DAD0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8345-484F-4845-BCFB-3BCE041C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C56C2-A575-47A0-83A6-55A2909A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CD8B-4363-4A87-B26C-452FE96C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A2773-1058-4664-861C-BB37E513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B79A7-3F39-485E-940B-236D1A96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72125-C096-4129-9618-53FD62D6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B8D-FFDA-4B9A-BDDB-CC3C4436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168AB-1C42-48FB-A3DE-4F41D7F2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E8D60-FD33-4234-AAA6-54E266BC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A34E4-CC81-41B2-A84B-28F611D4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EDBDE-5243-40BD-815E-FFF8A7DB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A9CF-99CC-4F21-9333-D3C78054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59D47-6532-4E0F-B82E-62ED590D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D55A6-8C89-4B1C-8EDB-072AD73E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3B313-E05C-47CF-B2DF-F9514AF5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B2B4E-5B27-4840-A4C0-0B6F3FE5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3A647-0539-4EA4-8025-3E1B7101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AE0-852D-49F5-93E0-9120BC54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D0660-FEB1-426C-B5CA-00456338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70915-786B-409C-91E8-ADE3CA6B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E1D20-A508-47AA-B794-D58A4DAB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C3E98-DBAD-427F-8172-12E2BCF3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D924C-3E58-47BC-B2E9-59B1E017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69F56-44D1-4736-A9AF-A474282C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A90C4-36B8-4B2F-91E7-A9595C7C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A282B-BDA8-497B-99E6-C354EC4E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3C9BB-BD0D-4F79-AE39-F93F6622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C55AA-F60C-407B-A04D-A7741ADF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583-F140-4058-9FB9-3473DBDE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07BB6-8CEC-4CD5-8E0C-A65A84B5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E5FF1-C0AC-498D-A0E4-3D05FBC4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A78F9-2E90-417B-9AAE-7B9DECE9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F7147-5695-42E0-9E48-78B65B44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888BD-0390-49D3-89A2-96191A4A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9772C-B759-4F61-9E5E-7FDC494E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6A238-6FDA-4F5C-8549-1E49642E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C856F-FC3D-4A36-830E-12F36E5B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0CE4A-930C-410E-A19C-975766D7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37BCD-1675-443A-AD11-251FD0F1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48B-76E2-468A-A85D-62B9DD04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CA440-4C7A-4D5A-9180-FBB59759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AE06-A9D0-4984-A722-D3ABBBB3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2F5-8304-4E98-BF76-8D484024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6D6-06E5-4C2E-B3A2-1A5D9AC6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521E-1A8F-465C-A8D2-6525EA20794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5B18-F67B-4379-BA65-0CD3158A70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250920" y="6237000"/>
            <a:ext cx="1990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2411280" y="6244920"/>
            <a:ext cx="554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8100720" y="6237000"/>
            <a:ext cx="801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A94D-AF26-4C60-AE7E-3B282B4C231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684360" y="1341360"/>
            <a:ext cx="7991280" cy="4680000"/>
          </a:xfrm>
          <a:prstGeom prst="cloudCallout">
            <a:avLst>
              <a:gd name="adj1" fmla="val -54250"/>
              <a:gd name="adj2" fmla="val 5149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28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AB23-CF77-4317-B27E-6550036B448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6"/>
          <p:cNvSpPr/>
          <p:nvPr/>
        </p:nvSpPr>
        <p:spPr>
          <a:xfrm>
            <a:off x="684360" y="1341360"/>
            <a:ext cx="7991280" cy="4680000"/>
          </a:xfrm>
          <a:prstGeom prst="cloudCallout">
            <a:avLst>
              <a:gd name="adj1" fmla="val -54250"/>
              <a:gd name="adj2" fmla="val 5149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233"/>
          <p:cNvPicPr/>
          <p:nvPr/>
        </p:nvPicPr>
        <p:blipFill>
          <a:blip r:embed="rId2"/>
          <a:stretch/>
        </p:blipFill>
        <p:spPr>
          <a:xfrm rot="8529600">
            <a:off x="323640" y="33300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E755-E117-48A4-820F-EAF698F8504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42920" y="2491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Портфолио как новая форма оценки личностных достижений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kuchina-elena.ucoz.ru/portfolio1/p4.gif"/>
          <p:cNvPicPr/>
          <p:nvPr/>
        </p:nvPicPr>
        <p:blipFill>
          <a:blip r:embed="rId2"/>
          <a:stretch/>
        </p:blipFill>
        <p:spPr>
          <a:xfrm>
            <a:off x="1258920" y="0"/>
            <a:ext cx="64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аздел содержит перечень представленных в портфолио официальных сертифицированных документов или их копий, подтверждающих индивидуальные достижения в различных сферах деятельно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пломы об участии в предметных олимпиадах различного уровн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моты за участие в конкурс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тификаты о прохождении курсов по предме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тестирования,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раз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нкета ученика (автобиограф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пии аттес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ыписки из дневников с оценками по годам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втоби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ты по составлению автоби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биография начинается со слов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, [фамилия, имя, отчество]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дальше вся информация излагается в свободной форме, но при этом следует учесть несколько рекомендаций: 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Автобиография должна быть краткой, но вместе с тем достаточно развернутой, чтобы можно было представить основные события вашей жизн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Информация, указанная в автобиографии, должна помочь вам представить свою жизнь в максимально выгодном свете, не искажая реальных фактов и событи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ямо указывайте на конкретные события вашей жизни, описывая не только суть самого события, но и ваше отношение к нему и, что более важно, ваши выводы, которые вы сделали после этого событ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раз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ектные работы (тема проекта, описание работы, текст работы в печатном вид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следовательские работы и рефера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хническое творчество: модели, макеты (краткое описание конкретной работ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бота по искусству (дается перечень работ, фиксируется участие в выставках, в театре, хоре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зличные практики: языковая, социальная, трудовая (фиксируется вид практики, место ее прохождения, продолжитель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нятия в учреждениях дополнительного образования, на различных учебных курс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астие в научных конференциях, учебных семинарах, профильных сменах лаге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Картинка 52 из 5358"/>
          <p:cNvPicPr/>
          <p:nvPr/>
        </p:nvPicPr>
        <p:blipFill>
          <a:blip r:embed="rId2"/>
          <a:stretch/>
        </p:blipFill>
        <p:spPr>
          <a:xfrm>
            <a:off x="1835280" y="0"/>
            <a:ext cx="56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раз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ет в себя характеристики отношения школьника к людям, событиям, различным видам деятельности. Они могут быть представлены в виде рекомендаций, заключений о качестве выполненной работы (например, в научном обществе школьников), рецензий на статью, опубликованную ребенком в СМИ; благодарственных писем,  рекомендательных писем от учителей, родителей, друзей и т.д. Приводится перечень представленных отзывов и оригиналы доку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427040" y="1484280"/>
          <a:ext cx="6289920" cy="4300560"/>
        </p:xfrm>
        <a:graphic>
          <a:graphicData uri="http://schemas.openxmlformats.org/drawingml/2006/table">
            <a:tbl>
              <a:tblPr/>
              <a:tblGrid>
                <a:gridCol w="525600"/>
                <a:gridCol w="3643200"/>
                <a:gridCol w="2121120"/>
              </a:tblGrid>
              <a:tr h="477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одержание отзыва и рекоменд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Кем написан отзы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Rectangle 1"/>
          <p:cNvSpPr/>
          <p:nvPr/>
        </p:nvSpPr>
        <p:spPr>
          <a:xfrm flipV="1" rot="10800000">
            <a:off x="331560" y="253080"/>
            <a:ext cx="85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3086280"/>
                <a:tab algn="l" pos="5524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Перечень представленных отзывов и рекоменд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86280"/>
                <a:tab algn="l" pos="5524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95280" y="1700280"/>
          <a:ext cx="8497800" cy="3774960"/>
        </p:xfrm>
        <a:graphic>
          <a:graphicData uri="http://schemas.openxmlformats.org/drawingml/2006/table">
            <a:tbl>
              <a:tblPr/>
              <a:tblGrid>
                <a:gridCol w="706320"/>
                <a:gridCol w="3221280"/>
                <a:gridCol w="920520"/>
                <a:gridCol w="3649680"/>
              </a:tblGrid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Чего я хочу достич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ро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Что я для этого должен сдела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7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ctr" pos="3086280"/>
                          <a:tab algn="l" pos="5524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1"/>
          <p:cNvSpPr/>
          <p:nvPr/>
        </p:nvSpPr>
        <p:spPr>
          <a:xfrm>
            <a:off x="1963080" y="63072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086280"/>
                <a:tab algn="l" pos="5524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Мои жизненные п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оветы по составлению документа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"Мои жизненные планы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119700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анный документ представляет собой итог серьезных размышлений и требует определенного времени, поэтому не следует торопиться с его составление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 Ваши планы должны быть достаточно конкретными. Не стоит писать фразы типа: "Стать более общительным!" Что это значит? Как вы сможете измерить свою общительность? Количеством людей, с которыми вы здороваетесь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учше написать: "Пройти курс коммуникативного тренинга длительностью 5 дней". Здесь результат тоже не гарантирован, но это можно проконтролировать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В ваших планах должны быть указаны точные сроки. Не стоит писать: "В течение 2005 года". Лучше напишите: "март 2005 года". Тогда вы сможете себя проконтролировать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Главное - не забывайте давать ответ на вопрос: "Что я собираюсь для этого сделать?", анализируя очередной пункт своих жизненных пл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774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Портфоли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(от фран. 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porter </a:t>
            </a: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– излагать, формулировать, нести и 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folio </a:t>
            </a: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– лист, страница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Портфолио – живая оцен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Текст автобиографии и ее внешнее оформление должны быть максимально комфортными для чтения, все пишется (печатается) на хорошей бумаге, крупным шрифтом или разборчивым почерком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В конце текста вы должны поставить дату написания автобиографи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Автобиография должна быть подписана. Если она написана на нескольких листах, то подписывается каждый ли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чень моих достижений в 9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57200" y="1600200"/>
          <a:ext cx="8229600" cy="267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участия(школьный, городской, областно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ФЕРЕ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ЕВ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СТИВ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ртфолио в начальной школе. «Копилка успехов»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313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Verdana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1.    Мой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Verdana"/>
                <a:hlinkClick r:id="rId1" action="ppaction://hlinksldjump"/>
              </a:rPr>
              <a:t>портрет</a:t>
            </a: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моя ромаш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я в школ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2.    Мои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цели</a:t>
            </a: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мои цели в учебном году и в каждой четвер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таблица продвижения к це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«лестница успеха», «Я на лестнице успеха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3.    Мои достижени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мои лучшие рабо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мои наград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4.    Копилк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рабочие материал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важная или интересная информ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250920" y="333360"/>
            <a:ext cx="410508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859280" y="333360"/>
            <a:ext cx="410544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SO01862_"/>
          <p:cNvPicPr/>
          <p:nvPr/>
        </p:nvPicPr>
        <p:blipFill>
          <a:blip r:embed="rId1"/>
          <a:stretch/>
        </p:blipFill>
        <p:spPr>
          <a:xfrm>
            <a:off x="395280" y="692280"/>
            <a:ext cx="3824280" cy="5400720"/>
          </a:xfrm>
          <a:prstGeom prst="rect">
            <a:avLst/>
          </a:prstGeom>
          <a:ln w="0">
            <a:noFill/>
          </a:ln>
        </p:spPr>
      </p:pic>
      <p:sp>
        <p:nvSpPr>
          <p:cNvPr id="222" name="WordArt 8"/>
          <p:cNvSpPr txBox="1"/>
          <p:nvPr/>
        </p:nvSpPr>
        <p:spPr>
          <a:xfrm>
            <a:off x="1187280" y="2492280"/>
            <a:ext cx="22798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ртре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9"/>
          <p:cNvSpPr txBox="1"/>
          <p:nvPr/>
        </p:nvSpPr>
        <p:spPr>
          <a:xfrm>
            <a:off x="5148360" y="836640"/>
            <a:ext cx="36194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МОЯ РОМА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6516720" y="2565360"/>
            <a:ext cx="9144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фот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 rot="20880000">
            <a:off x="6227640" y="1267920"/>
            <a:ext cx="698760" cy="136872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61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2"/>
          <p:cNvSpPr/>
          <p:nvPr/>
        </p:nvSpPr>
        <p:spPr>
          <a:xfrm rot="2100000">
            <a:off x="5940000" y="3284280"/>
            <a:ext cx="698400" cy="136836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33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3"/>
          <p:cNvSpPr/>
          <p:nvPr/>
        </p:nvSpPr>
        <p:spPr>
          <a:xfrm rot="19860000">
            <a:off x="7380000" y="3284280"/>
            <a:ext cx="698400" cy="136836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71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 rot="5400000">
            <a:off x="5482800" y="2589120"/>
            <a:ext cx="698400" cy="136836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5"/>
          <p:cNvSpPr/>
          <p:nvPr/>
        </p:nvSpPr>
        <p:spPr>
          <a:xfrm rot="5400000">
            <a:off x="7786080" y="2517840"/>
            <a:ext cx="698760" cy="136836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6"/>
          <p:cNvSpPr/>
          <p:nvPr/>
        </p:nvSpPr>
        <p:spPr>
          <a:xfrm>
            <a:off x="6659640" y="3500280"/>
            <a:ext cx="698400" cy="13687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7"/>
          <p:cNvSpPr/>
          <p:nvPr/>
        </p:nvSpPr>
        <p:spPr>
          <a:xfrm rot="3600000">
            <a:off x="7643520" y="1725120"/>
            <a:ext cx="698400" cy="13687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1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8"/>
          <p:cNvSpPr/>
          <p:nvPr/>
        </p:nvSpPr>
        <p:spPr>
          <a:xfrm rot="900000">
            <a:off x="6948360" y="1197000"/>
            <a:ext cx="698760" cy="136836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9"/>
          <p:cNvSpPr/>
          <p:nvPr/>
        </p:nvSpPr>
        <p:spPr>
          <a:xfrm rot="17880000">
            <a:off x="5554440" y="1798560"/>
            <a:ext cx="698400" cy="136836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91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20"/>
          <p:cNvSpPr/>
          <p:nvPr/>
        </p:nvSpPr>
        <p:spPr>
          <a:xfrm rot="5400000">
            <a:off x="5220000" y="5014080"/>
            <a:ext cx="360360" cy="64764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22"/>
          <p:cNvSpPr/>
          <p:nvPr/>
        </p:nvSpPr>
        <p:spPr>
          <a:xfrm rot="5400000">
            <a:off x="6660000" y="5014080"/>
            <a:ext cx="360360" cy="64764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3"/>
          <p:cNvSpPr/>
          <p:nvPr/>
        </p:nvSpPr>
        <p:spPr>
          <a:xfrm rot="5400000">
            <a:off x="8100000" y="5014080"/>
            <a:ext cx="360360" cy="64764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250920" y="333360"/>
            <a:ext cx="410508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4788000" y="333360"/>
            <a:ext cx="410508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я школа 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и любимые учителя 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и друзья 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бимый предмет 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юбимое дело (в школе и вне школы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 в школе 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539640" y="1197000"/>
            <a:ext cx="3382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 в школ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0" name="Picture 7" descr=""/>
          <p:cNvPicPr/>
          <p:nvPr/>
        </p:nvPicPr>
        <p:blipFill>
          <a:blip r:embed="rId1"/>
          <a:stretch/>
        </p:blipFill>
        <p:spPr>
          <a:xfrm>
            <a:off x="1300320" y="2997360"/>
            <a:ext cx="20667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250920" y="333360"/>
            <a:ext cx="410508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4788000" y="333360"/>
            <a:ext cx="410508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и 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и цели в ____ учебном году: 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и цели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четверти ___________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и цели в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четверти _______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и цели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четверти _______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и цели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четверти _______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7"/>
          <p:cNvSpPr txBox="1"/>
          <p:nvPr/>
        </p:nvSpPr>
        <p:spPr>
          <a:xfrm>
            <a:off x="539640" y="1413000"/>
            <a:ext cx="3382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и ц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4" name="Picture 8" descr="j0293844"/>
          <p:cNvPicPr/>
          <p:nvPr/>
        </p:nvPicPr>
        <p:blipFill>
          <a:blip r:embed="rId1"/>
          <a:stretch/>
        </p:blipFill>
        <p:spPr>
          <a:xfrm>
            <a:off x="1332000" y="2997360"/>
            <a:ext cx="17380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250920" y="333360"/>
            <a:ext cx="410508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788000" y="333360"/>
            <a:ext cx="410508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цени по 5-балльной шка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траченные усилия на выполн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дельного вида раб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                                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) полученные знания, умения, навы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                                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) какую оценку в школе я получи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                                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9"/>
          <p:cNvSpPr txBox="1"/>
          <p:nvPr/>
        </p:nvSpPr>
        <p:spPr>
          <a:xfrm>
            <a:off x="4932360" y="333360"/>
            <a:ext cx="361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Я на лестнице успех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248" name="Line 10"/>
          <p:cNvSpPr/>
          <p:nvPr/>
        </p:nvSpPr>
        <p:spPr>
          <a:xfrm flipV="1">
            <a:off x="6156360" y="292392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"/>
          <p:cNvSpPr/>
          <p:nvPr/>
        </p:nvSpPr>
        <p:spPr>
          <a:xfrm flipV="1">
            <a:off x="6659640" y="2421000"/>
            <a:ext cx="0" cy="503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2"/>
          <p:cNvSpPr/>
          <p:nvPr/>
        </p:nvSpPr>
        <p:spPr>
          <a:xfrm flipV="1">
            <a:off x="7164360" y="1916280"/>
            <a:ext cx="0" cy="504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 flipV="1">
            <a:off x="7667640" y="1413000"/>
            <a:ext cx="0" cy="503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6156360" y="2924280"/>
            <a:ext cx="5032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6659640" y="2421000"/>
            <a:ext cx="5032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7"/>
          <p:cNvSpPr/>
          <p:nvPr/>
        </p:nvSpPr>
        <p:spPr>
          <a:xfrm>
            <a:off x="7164360" y="1916280"/>
            <a:ext cx="5032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7667640" y="1413000"/>
            <a:ext cx="936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19"/>
          <p:cNvSpPr txBox="1"/>
          <p:nvPr/>
        </p:nvSpPr>
        <p:spPr>
          <a:xfrm>
            <a:off x="5292720" y="3573360"/>
            <a:ext cx="347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"Линейка достижений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257" name="Line 22"/>
          <p:cNvSpPr/>
          <p:nvPr/>
        </p:nvSpPr>
        <p:spPr>
          <a:xfrm>
            <a:off x="5292720" y="4869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3"/>
          <p:cNvSpPr/>
          <p:nvPr/>
        </p:nvSpPr>
        <p:spPr>
          <a:xfrm>
            <a:off x="5292720" y="5516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5292720" y="61657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79280" y="333360"/>
          <a:ext cx="4248360" cy="5737320"/>
        </p:xfrm>
        <a:graphic>
          <a:graphicData uri="http://schemas.openxmlformats.org/drawingml/2006/table">
            <a:tbl>
              <a:tblPr/>
              <a:tblGrid>
                <a:gridCol w="647640"/>
                <a:gridCol w="649440"/>
                <a:gridCol w="738360"/>
                <a:gridCol w="736560"/>
                <a:gridCol w="576000"/>
                <a:gridCol w="90036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, те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хочу научить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стоящее время 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могу (об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ться за по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ью…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и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 достижени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    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    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    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    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Line 96"/>
          <p:cNvSpPr/>
          <p:nvPr/>
        </p:nvSpPr>
        <p:spPr>
          <a:xfrm>
            <a:off x="3708360" y="198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9"/>
          <p:cNvSpPr/>
          <p:nvPr/>
        </p:nvSpPr>
        <p:spPr>
          <a:xfrm>
            <a:off x="370836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0"/>
          <p:cNvSpPr/>
          <p:nvPr/>
        </p:nvSpPr>
        <p:spPr>
          <a:xfrm>
            <a:off x="370836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1"/>
          <p:cNvSpPr/>
          <p:nvPr/>
        </p:nvSpPr>
        <p:spPr>
          <a:xfrm>
            <a:off x="370836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14" descr="j0423171"/>
          <p:cNvPicPr/>
          <p:nvPr/>
        </p:nvPicPr>
        <p:blipFill>
          <a:blip r:embed="rId1"/>
          <a:stretch/>
        </p:blipFill>
        <p:spPr>
          <a:xfrm>
            <a:off x="8172360" y="907920"/>
            <a:ext cx="432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250920" y="333360"/>
            <a:ext cx="410508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4716360" y="333360"/>
            <a:ext cx="410544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7"/>
          <p:cNvSpPr txBox="1"/>
          <p:nvPr/>
        </p:nvSpPr>
        <p:spPr>
          <a:xfrm>
            <a:off x="395280" y="765000"/>
            <a:ext cx="367200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стиж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9" name="Picture 8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2160720" cy="2116080"/>
          </a:xfrm>
          <a:prstGeom prst="rect">
            <a:avLst/>
          </a:prstGeom>
          <a:ln w="0">
            <a:noFill/>
          </a:ln>
        </p:spPr>
      </p:pic>
      <p:sp>
        <p:nvSpPr>
          <p:cNvPr id="270" name="WordArt 13"/>
          <p:cNvSpPr txBox="1"/>
          <p:nvPr/>
        </p:nvSpPr>
        <p:spPr>
          <a:xfrm>
            <a:off x="5364000" y="1557360"/>
            <a:ext cx="2806920" cy="2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пи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1" name="Picture 14" descr="j0299125"/>
          <p:cNvPicPr/>
          <p:nvPr/>
        </p:nvPicPr>
        <p:blipFill>
          <a:blip r:embed="rId2"/>
          <a:stretch/>
        </p:blipFill>
        <p:spPr>
          <a:xfrm>
            <a:off x="6084720" y="2637000"/>
            <a:ext cx="1360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ФОЛИО  (структур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981000"/>
            <a:ext cx="8642160" cy="568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раздел «Официальная информа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раздел «Портфолио докумен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раздел «Портфолио рабо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раздел «Портфолио отзыв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раздел «Копилка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амятки, инструкции, полезная информац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6:41:44Z</dcterms:created>
  <dc:creator>Ира</dc:creator>
  <dc:description/>
  <dc:language>en-US</dc:language>
  <cp:lastModifiedBy>Анна</cp:lastModifiedBy>
  <dcterms:modified xsi:type="dcterms:W3CDTF">2011-12-01T03:59:04Z</dcterms:modified>
  <cp:revision>27</cp:revision>
  <dc:subject/>
  <dc:title>Научно-методический совет</dc:title>
</cp:coreProperties>
</file>