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A07-113B-4134-9FB4-2B2376B9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819-03F9-4D77-ABC6-68261310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0D1-9249-409F-BED5-18A1B019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2CB-3652-4D0C-A36A-8C76636B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E8FB-9DD4-42B7-A0E5-D5452DE5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7BE2-3926-4880-A0B2-76FF84E2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5051-4903-459C-B258-FEE72C60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22B5-DE38-4E80-9657-A0C6BD1F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4179-BE61-403B-A4E6-78845AA0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595C-C9FD-4D77-8CA6-CE5ED013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13C1-7852-44E8-AF3F-864C574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7B9-BEC2-43C1-8FB4-C4BAE61A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DA8-2296-4832-BCE3-78A6023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FFC3-D2C4-42D8-A134-3AB2EF77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693B-34F1-41F4-8F77-F67A745B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20EA-F950-49EF-9A87-19F7491F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98C8-8335-496E-AA20-334C2CA7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8894-EC2C-4224-98EA-9BDC80D5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53C4-1EC6-4F68-9368-6FE816C8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A9DA-5AD5-480B-93D9-D97BA56B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87E1-9B09-4050-BDFC-AE71C205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26CE-4A2D-4932-AEE5-62BC9C86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FE9-3DD3-4486-94D4-E6F9CB69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F2DA-7A09-4DE2-B754-748994FB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7470-EB20-4689-BE64-30C4148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C643A-368C-4BD8-848F-A3892505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CBD2-3B5E-44A0-A128-D15140B7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AEE7-5320-44A2-A8A8-4A8BCC1D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5560-581B-4D37-A7EE-43B72001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9E4A-FEF5-406D-A0BE-55F4D060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8C6B1-CF8B-4599-9487-A41B51C4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2B4D-CCCA-4D6E-938C-040B1E8D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404E-9BEB-4FBB-B436-3B7B9F99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2B4-333A-423E-838E-A5A7164B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814F6-9D51-453C-BC76-2A4BE6BB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09CD-C181-4168-93DE-1DD401F4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337C-075C-46EB-915B-F4FF4E95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92D9-7A11-4C5E-92D1-EFD973C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13429-22EE-4B1F-849E-FCF1AC8E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7DF19-F6A7-42F7-9C16-35E413F7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688B-5B92-4CAA-BC10-93789066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63A2-9E63-4CAD-ABDD-D5B01B22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DF0E-C329-45F4-AF3E-BB6C330E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BE69-6C0F-40B1-B256-809CEC2B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F04-8695-48A9-8D8F-E93BE94B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77498-D2C1-4027-A2FE-DEA493A8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41984-2A96-4A64-A82C-C79E1564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6282A-B320-4F50-B5F7-137520BA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FC5FE-3719-4373-BEBB-0FF40FB3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450B2-34C8-4335-8C70-63258BD8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7796-4A01-4A05-A905-05764F5B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12AA5-8ACA-4BF5-BC06-24A6F86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44D5-5066-4C76-82A8-B37D8C4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CA8C5-3A62-4E3A-A199-09F6AD2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48C85-4995-460D-B6AD-1EF5A26C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17C-C8EE-40F6-9ABC-CEA072E0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297F-A920-4FF2-854A-1AE2D139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9CB-6B22-4306-AF84-D5B12ADE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C8A-109F-4CC0-8B5D-8D27AD8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46A-88C4-4944-8A99-A38BE02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FD76-D935-4BC2-9B57-03DD8BE556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35B7-8C69-4E27-A432-45DE29FA62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250920" y="6237000"/>
            <a:ext cx="1990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2411280" y="6244920"/>
            <a:ext cx="554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8100720" y="623700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9B3B-2333-49E6-B821-0FEC3F61E3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684360" y="1341360"/>
            <a:ext cx="7991280" cy="4680000"/>
          </a:xfrm>
          <a:prstGeom prst="cloudCallout">
            <a:avLst>
              <a:gd name="adj1" fmla="val -54250"/>
              <a:gd name="adj2" fmla="val 5149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2654-B688-4AA6-B8C0-B7F9C2BA6B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6"/>
          <p:cNvSpPr/>
          <p:nvPr/>
        </p:nvSpPr>
        <p:spPr>
          <a:xfrm>
            <a:off x="684360" y="1341360"/>
            <a:ext cx="7991280" cy="4680000"/>
          </a:xfrm>
          <a:prstGeom prst="cloudCallout">
            <a:avLst>
              <a:gd name="adj1" fmla="val -54250"/>
              <a:gd name="adj2" fmla="val 5149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233"/>
          <p:cNvPicPr/>
          <p:nvPr/>
        </p:nvPicPr>
        <p:blipFill>
          <a:blip r:embed="rId2"/>
          <a:stretch/>
        </p:blipFill>
        <p:spPr>
          <a:xfrm rot="8529600">
            <a:off x="323640" y="33300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77A4-E71E-4775-BB1C-D720C48DFC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42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ортфолио как новая форма оценки личностных достижений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kuchina-elena.ucoz.ru/portfolio1/p4.gif"/>
          <p:cNvPicPr/>
          <p:nvPr/>
        </p:nvPicPr>
        <p:blipFill>
          <a:blip r:embed="rId2"/>
          <a:stretch/>
        </p:blipFill>
        <p:spPr>
          <a:xfrm>
            <a:off x="1258920" y="0"/>
            <a:ext cx="64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здел содержит перечень представленных в портфолио официальных сертифицированных документов или их копий, подтверждающих индивидуальные достижения в различных сферах дея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ы об участии в предметных олимпиадах различного уровн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оты за участие в конкурс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тификаты о прохождении курсов по предме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тестирования,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кета ученика (автобиограф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пии аттес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ыписки из дневников с оценками по годам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тоби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ы по составлению автоби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биография начинается со слов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, [фамилия, имя, отчество]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дальше вся информация излагается в свободной форме, но при этом следует учесть несколько рекомендаций: 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Автобиография должна быть краткой, но вместе с тем достаточно развернутой, чтобы можно было представить основные события вашей жизн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нформация, указанная в автобиографии, должна помочь вам представить свою жизнь в максимально выгодном свете, не искажая реальных фактов и событ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ямо указывайте на конкретные события вашей жизни, описывая не только суть самого события, но и ваше отношение к нему и, что более важно, ваши выводы, которые вы сделали после этого событ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ектные работы (тема проекта, описание работы, текст работы в печатном вид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следовательские работы и рефер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хническое творчество: модели, макеты (краткое описание конкретной работ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а по искусству (дается перечень работ, фиксируется участие в выставках, в театре, хоре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личные практики: языковая, социальная, трудовая (фиксируется вид практики, место ее прохождения, продолжи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ятия в учреждениях дополнительного образования, на различных учебных кур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астие в научных конференциях, учебных семинарах, профильных сменах лаге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Картинка 52 из 5358"/>
          <p:cNvPicPr/>
          <p:nvPr/>
        </p:nvPicPr>
        <p:blipFill>
          <a:blip r:embed="rId2"/>
          <a:stretch/>
        </p:blipFill>
        <p:spPr>
          <a:xfrm>
            <a:off x="183528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в себя характеристики отношения школьника к людям, событиям, различным видам деятельности. Они могут быть представлены в виде рекомендаций, заключений о качестве выполненной работы (например, в научном обществе школьников), рецензий на статью, опубликованную ребенком в СМИ; благодарственных писем,  рекомендательных писем от учителей, родителей, друзей и т.д. Приводится перечень представленных отзывов и оригиналы доку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7040" y="1484280"/>
          <a:ext cx="6289920" cy="4300560"/>
        </p:xfrm>
        <a:graphic>
          <a:graphicData uri="http://schemas.openxmlformats.org/drawingml/2006/table">
            <a:tbl>
              <a:tblPr/>
              <a:tblGrid>
                <a:gridCol w="525600"/>
                <a:gridCol w="3643200"/>
                <a:gridCol w="2121120"/>
              </a:tblGrid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одержание отзыва и рекоменд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Кем написан отзы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1"/>
          <p:cNvSpPr/>
          <p:nvPr/>
        </p:nvSpPr>
        <p:spPr>
          <a:xfrm flipV="1" rot="10800000">
            <a:off x="331560" y="25308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3086280"/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еречень представленных отзывов и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86280"/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95280" y="1700280"/>
          <a:ext cx="8497800" cy="3774960"/>
        </p:xfrm>
        <a:graphic>
          <a:graphicData uri="http://schemas.openxmlformats.org/drawingml/2006/table">
            <a:tbl>
              <a:tblPr/>
              <a:tblGrid>
                <a:gridCol w="706320"/>
                <a:gridCol w="3221280"/>
                <a:gridCol w="920520"/>
                <a:gridCol w="3649680"/>
              </a:tblGrid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Чего я хочу достич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Что я для этого должен с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7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"/>
          <p:cNvSpPr/>
          <p:nvPr/>
        </p:nvSpPr>
        <p:spPr>
          <a:xfrm>
            <a:off x="1963080" y="63072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086280"/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ои жизнен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веты по составлению документ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"Мои жизненные планы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119700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нный документ представляет собой итог серьезных размышлений и требует определенного времени, поэтому не следует торопиться с его составл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Ваши планы должны быть достаточно конкретными. Не стоит писать фразы типа: "Стать более общительным!" Что это значит? Как вы сможете измерить свою общительность? Количеством людей, с которыми вы здороваетес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учше написать: "Пройти курс коммуникативного тренинга длительностью 5 дней". Здесь результат тоже не гарантирован, но это можно проконтролирова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В ваших планах должны быть указаны точные сроки. Не стоит писать: "В течение 2005 года". Лучше напишите: "март 2005 года". Тогда вы сможете себя проконтролирова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Главное - не забывайте давать ответ на вопрос: "Что я собираюсь для этого сделать?", анализируя очередной пункт своих жизненных пл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774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Портфоли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(от фран. 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porter 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– излагать, формулировать, нести и 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folio 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– лист, страниц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Портфолио – живая оцен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Текст автобиографии и ее внешнее оформление должны быть максимально комфортными для чтения, все пишется (печатается) на хорошей бумаге, крупным шрифтом или разборчивым почерк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 конце текста вы должны поставить дату написания автобиографи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Автобиография должна быть подписана. Если она написана на нескольких листах, то подписывается каждый л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чень моих достижений в 9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1600200"/>
          <a:ext cx="8229600" cy="267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участия(школьный, городской, областно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Е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ЕВ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СТИ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ртфолио в начальной школе. «Копилка успехов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313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1.    Мой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портрет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оя ромаш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я в школ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2.    Мо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цели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ои цели в учебном году и в каждой четвер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таблица продвижения к це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«лестница успеха», «Я на лестнице успех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3.    Мои достиже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ои лучшие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ои наград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4.    Копилк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рабочие материал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важная или интересная информ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859280" y="333360"/>
            <a:ext cx="410544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SO01862_"/>
          <p:cNvPicPr/>
          <p:nvPr/>
        </p:nvPicPr>
        <p:blipFill>
          <a:blip r:embed="rId1"/>
          <a:stretch/>
        </p:blipFill>
        <p:spPr>
          <a:xfrm>
            <a:off x="395280" y="692280"/>
            <a:ext cx="3824280" cy="5400720"/>
          </a:xfrm>
          <a:prstGeom prst="rect">
            <a:avLst/>
          </a:prstGeom>
          <a:ln w="0">
            <a:noFill/>
          </a:ln>
        </p:spPr>
      </p:pic>
      <p:sp>
        <p:nvSpPr>
          <p:cNvPr id="222" name="WordArt 8"/>
          <p:cNvSpPr txBox="1"/>
          <p:nvPr/>
        </p:nvSpPr>
        <p:spPr>
          <a:xfrm>
            <a:off x="1187280" y="2492280"/>
            <a:ext cx="2279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тр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5148360" y="836640"/>
            <a:ext cx="36194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ОЯ РОМА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6516720" y="2565360"/>
            <a:ext cx="9144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фот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 rot="20880000">
            <a:off x="6227640" y="1267920"/>
            <a:ext cx="698760" cy="136872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61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 rot="2100000">
            <a:off x="5940000" y="3284280"/>
            <a:ext cx="698400" cy="136836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33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 rot="19860000">
            <a:off x="7380000" y="3284280"/>
            <a:ext cx="698400" cy="136836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71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 rot="5400000">
            <a:off x="5482800" y="2589120"/>
            <a:ext cx="698400" cy="1368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5"/>
          <p:cNvSpPr/>
          <p:nvPr/>
        </p:nvSpPr>
        <p:spPr>
          <a:xfrm rot="5400000">
            <a:off x="7786080" y="2517840"/>
            <a:ext cx="698760" cy="1368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6659640" y="3500280"/>
            <a:ext cx="698400" cy="13687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7"/>
          <p:cNvSpPr/>
          <p:nvPr/>
        </p:nvSpPr>
        <p:spPr>
          <a:xfrm rot="3600000">
            <a:off x="7643520" y="1725120"/>
            <a:ext cx="698400" cy="13687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1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8"/>
          <p:cNvSpPr/>
          <p:nvPr/>
        </p:nvSpPr>
        <p:spPr>
          <a:xfrm rot="900000">
            <a:off x="6948360" y="1197000"/>
            <a:ext cx="698760" cy="1368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9"/>
          <p:cNvSpPr/>
          <p:nvPr/>
        </p:nvSpPr>
        <p:spPr>
          <a:xfrm rot="17880000">
            <a:off x="5554440" y="1798560"/>
            <a:ext cx="698400" cy="136836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91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0"/>
          <p:cNvSpPr/>
          <p:nvPr/>
        </p:nvSpPr>
        <p:spPr>
          <a:xfrm rot="5400000">
            <a:off x="5220000" y="5014080"/>
            <a:ext cx="360360" cy="647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2"/>
          <p:cNvSpPr/>
          <p:nvPr/>
        </p:nvSpPr>
        <p:spPr>
          <a:xfrm rot="5400000">
            <a:off x="6660000" y="5014080"/>
            <a:ext cx="360360" cy="647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3"/>
          <p:cNvSpPr/>
          <p:nvPr/>
        </p:nvSpPr>
        <p:spPr>
          <a:xfrm rot="5400000">
            <a:off x="8100000" y="5014080"/>
            <a:ext cx="360360" cy="64764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78800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школа 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любимые учителя 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друзья 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имый предмет 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юбимое дело (в школе и вне школы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в школе 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539640" y="1197000"/>
            <a:ext cx="3382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в шко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1300320" y="2997360"/>
            <a:ext cx="20667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478800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и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 ____ учебном году: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етверти 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етверти 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етверти 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етверти 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7"/>
          <p:cNvSpPr txBox="1"/>
          <p:nvPr/>
        </p:nvSpPr>
        <p:spPr>
          <a:xfrm>
            <a:off x="539640" y="1413000"/>
            <a:ext cx="3382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и ц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4" name="Picture 8" descr="j0293844"/>
          <p:cNvPicPr/>
          <p:nvPr/>
        </p:nvPicPr>
        <p:blipFill>
          <a:blip r:embed="rId1"/>
          <a:stretch/>
        </p:blipFill>
        <p:spPr>
          <a:xfrm>
            <a:off x="1332000" y="2997360"/>
            <a:ext cx="17380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78800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цени по 5-балльной шка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траченные усилия на выполн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дельного вида ра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  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полученные знания, умения, нав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  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 какую оценку в школе я получи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  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4932360" y="333360"/>
            <a:ext cx="361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Я на лестнице успех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48" name="Line 10"/>
          <p:cNvSpPr/>
          <p:nvPr/>
        </p:nvSpPr>
        <p:spPr>
          <a:xfrm flipV="1">
            <a:off x="6156360" y="292392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6659640" y="242100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2"/>
          <p:cNvSpPr/>
          <p:nvPr/>
        </p:nvSpPr>
        <p:spPr>
          <a:xfrm flipV="1">
            <a:off x="7164360" y="1916280"/>
            <a:ext cx="0" cy="50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7667640" y="141300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6156360" y="2924280"/>
            <a:ext cx="503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6659640" y="2421000"/>
            <a:ext cx="503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7164360" y="1916280"/>
            <a:ext cx="503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7667640" y="1413000"/>
            <a:ext cx="936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19"/>
          <p:cNvSpPr txBox="1"/>
          <p:nvPr/>
        </p:nvSpPr>
        <p:spPr>
          <a:xfrm>
            <a:off x="5292720" y="3573360"/>
            <a:ext cx="347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"Линейка достижений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5292720" y="5516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5292720" y="6165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9280" y="333360"/>
          <a:ext cx="4248360" cy="5737320"/>
        </p:xfrm>
        <a:graphic>
          <a:graphicData uri="http://schemas.openxmlformats.org/drawingml/2006/table">
            <a:tbl>
              <a:tblPr/>
              <a:tblGrid>
                <a:gridCol w="647640"/>
                <a:gridCol w="649440"/>
                <a:gridCol w="738360"/>
                <a:gridCol w="736560"/>
                <a:gridCol w="576000"/>
                <a:gridCol w="90036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, 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хочу научи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стоящее время 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могу (об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ться за по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ью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 достижен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  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  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  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  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Line 96"/>
          <p:cNvSpPr/>
          <p:nvPr/>
        </p:nvSpPr>
        <p:spPr>
          <a:xfrm>
            <a:off x="370836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9"/>
          <p:cNvSpPr/>
          <p:nvPr/>
        </p:nvSpPr>
        <p:spPr>
          <a:xfrm>
            <a:off x="3708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0"/>
          <p:cNvSpPr/>
          <p:nvPr/>
        </p:nvSpPr>
        <p:spPr>
          <a:xfrm>
            <a:off x="370836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1"/>
          <p:cNvSpPr/>
          <p:nvPr/>
        </p:nvSpPr>
        <p:spPr>
          <a:xfrm>
            <a:off x="370836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4" descr="j0423171"/>
          <p:cNvPicPr/>
          <p:nvPr/>
        </p:nvPicPr>
        <p:blipFill>
          <a:blip r:embed="rId1"/>
          <a:stretch/>
        </p:blipFill>
        <p:spPr>
          <a:xfrm>
            <a:off x="8172360" y="90792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716360" y="333360"/>
            <a:ext cx="410544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7"/>
          <p:cNvSpPr txBox="1"/>
          <p:nvPr/>
        </p:nvSpPr>
        <p:spPr>
          <a:xfrm>
            <a:off x="395280" y="765000"/>
            <a:ext cx="367200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стиж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160720" cy="2116080"/>
          </a:xfrm>
          <a:prstGeom prst="rect">
            <a:avLst/>
          </a:prstGeom>
          <a:ln w="0">
            <a:noFill/>
          </a:ln>
        </p:spPr>
      </p:pic>
      <p:sp>
        <p:nvSpPr>
          <p:cNvPr id="270" name="WordArt 13"/>
          <p:cNvSpPr txBox="1"/>
          <p:nvPr/>
        </p:nvSpPr>
        <p:spPr>
          <a:xfrm>
            <a:off x="5364000" y="1557360"/>
            <a:ext cx="2806920" cy="2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пи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1" name="Picture 14" descr="j0299125"/>
          <p:cNvPicPr/>
          <p:nvPr/>
        </p:nvPicPr>
        <p:blipFill>
          <a:blip r:embed="rId2"/>
          <a:stretch/>
        </p:blipFill>
        <p:spPr>
          <a:xfrm>
            <a:off x="6084720" y="2637000"/>
            <a:ext cx="1360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ФОЛИО  (структур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раздел «Официальная информа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раздел «Портфолио докум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раздел «Портфолио рабо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раздел «Портфолио отзыв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раздел «Копилк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амятки, инструкции, полезная информ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6:41:44Z</dcterms:created>
  <dc:creator>Ира</dc:creator>
  <dc:description/>
  <dc:language>en-US</dc:language>
  <cp:lastModifiedBy>Анна</cp:lastModifiedBy>
  <dcterms:modified xsi:type="dcterms:W3CDTF">2011-12-01T03:59:04Z</dcterms:modified>
  <cp:revision>27</cp:revision>
  <dc:subject/>
  <dc:title>Научно-методический совет</dc:title>
</cp:coreProperties>
</file>